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38_98.WAV" ContentType="audio/x-wav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57360"/>
            <a:ext cx="9144000" cy="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55640" cy="148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ff66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ccff66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ff00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ff00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88640"/>
            <a:ext cx="1299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5 - </a:t>
            </a:r>
            <a:fld id="{23D811EA-C8F3-4D80-99F6-DE8A8B070BA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0920" y="6616800"/>
            <a:ext cx="8137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Times New Roman"/>
              </a:rPr>
              <a:t>Horngren </a:t>
            </a:r>
            <a:r>
              <a:rPr b="0" lang="en-A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♦</a:t>
            </a:r>
            <a:r>
              <a:rPr b="0" lang="en-AU" sz="1000" spc="-1" strike="noStrike">
                <a:solidFill>
                  <a:srgbClr val="ffffff"/>
                </a:solidFill>
                <a:latin typeface="Times New Roman"/>
              </a:rPr>
              <a:t> Harrison </a:t>
            </a:r>
            <a:r>
              <a:rPr b="0" lang="en-A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♦</a:t>
            </a:r>
            <a:r>
              <a:rPr b="0" lang="en-AU" sz="1000" spc="-1" strike="noStrike">
                <a:solidFill>
                  <a:srgbClr val="ffffff"/>
                </a:solidFill>
                <a:latin typeface="Times New Roman"/>
              </a:rPr>
              <a:t> Bamber </a:t>
            </a:r>
            <a:r>
              <a:rPr b="0" lang="en-A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♦</a:t>
            </a:r>
            <a:r>
              <a:rPr b="0" lang="en-AU" sz="1000" spc="-1" strike="noStrike">
                <a:solidFill>
                  <a:srgbClr val="ffffff"/>
                </a:solidFill>
                <a:latin typeface="Times New Roman"/>
              </a:rPr>
              <a:t> Best </a:t>
            </a:r>
            <a:r>
              <a:rPr b="0" lang="en-A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♦</a:t>
            </a:r>
            <a:r>
              <a:rPr b="0" lang="en-AU" sz="1000" spc="-1" strike="noStrike">
                <a:solidFill>
                  <a:srgbClr val="ffffff"/>
                </a:solidFill>
                <a:latin typeface="Times New Roman"/>
              </a:rPr>
              <a:t> Fraser </a:t>
            </a:r>
            <a:r>
              <a:rPr b="0" lang="en-A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♦</a:t>
            </a:r>
            <a:r>
              <a:rPr b="0" lang="en-AU" sz="1000" spc="-1" strike="noStrike">
                <a:solidFill>
                  <a:srgbClr val="ffffff"/>
                </a:solidFill>
                <a:latin typeface="Times New Roman"/>
              </a:rPr>
              <a:t> Willett, Accounting 4e Copyright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 2004 Pearson Education Australi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413000"/>
            <a:ext cx="9131400" cy="74520"/>
          </a:xfrm>
          <a:prstGeom prst="rect">
            <a:avLst/>
          </a:prstGeom>
          <a:gradFill rotWithShape="0">
            <a:gsLst>
              <a:gs pos="0">
                <a:srgbClr val="004332"/>
              </a:gs>
              <a:gs pos="50000">
                <a:srgbClr val="00cc99"/>
              </a:gs>
              <a:gs pos="100000">
                <a:srgbClr val="0043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38_98.WAV"/><Relationship Id="rId2" Type="http://schemas.openxmlformats.org/officeDocument/2006/relationships/audio" Target="../media/38_98.WAV"/><Relationship Id="rId3" Type="http://schemas.openxmlformats.org/officeDocument/2006/relationships/audio" Target="../media/38_98.WAV"/><Relationship Id="rId4" Type="http://schemas.openxmlformats.org/officeDocument/2006/relationships/audio" Target="../media/38_98.WAV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38_98.WAV"/><Relationship Id="rId2" Type="http://schemas.openxmlformats.org/officeDocument/2006/relationships/audio" Target="../media/38_98.WAV"/><Relationship Id="rId3" Type="http://schemas.openxmlformats.org/officeDocument/2006/relationships/audio" Target="../media/38_98.WAV"/><Relationship Id="rId4" Type="http://schemas.openxmlformats.org/officeDocument/2006/relationships/audio" Target="../media/38_98.WAV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052640"/>
            <a:ext cx="9131400" cy="74520"/>
          </a:xfrm>
          <a:prstGeom prst="rect">
            <a:avLst/>
          </a:prstGeom>
          <a:gradFill rotWithShape="0">
            <a:gsLst>
              <a:gs pos="0">
                <a:srgbClr val="003d2e"/>
              </a:gs>
              <a:gs pos="50000">
                <a:srgbClr val="00cc99"/>
              </a:gs>
              <a:gs pos="100000">
                <a:srgbClr val="003d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33160" y="1437120"/>
            <a:ext cx="5303880" cy="277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tailing Operations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nd the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ccounting Cycle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348000" y="4653000"/>
            <a:ext cx="275904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apter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57240" y="6480000"/>
            <a:ext cx="8172360" cy="3632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 Narrow"/>
              </a:rPr>
              <a:t>HORNGREN  </a:t>
            </a:r>
            <a:r>
              <a:rPr b="1" lang="en-AU" sz="1600" spc="-1" strike="noStrike">
                <a:solidFill>
                  <a:srgbClr val="ffffff"/>
                </a:solidFill>
                <a:latin typeface="Times New Roman"/>
              </a:rPr>
              <a:t>♦</a:t>
            </a:r>
            <a:r>
              <a:rPr b="1" lang="en-AU" sz="1800" spc="-1" strike="noStrike">
                <a:solidFill>
                  <a:srgbClr val="ffffff"/>
                </a:solidFill>
                <a:latin typeface="Arial Narrow"/>
              </a:rPr>
              <a:t>  HARRISON  </a:t>
            </a:r>
            <a:r>
              <a:rPr b="1" lang="en-AU" sz="1600" spc="-1" strike="noStrike">
                <a:solidFill>
                  <a:srgbClr val="ffffff"/>
                </a:solidFill>
                <a:latin typeface="Times New Roman"/>
              </a:rPr>
              <a:t>♦</a:t>
            </a:r>
            <a:r>
              <a:rPr b="1" lang="en-AU" sz="1800" spc="-1" strike="noStrike">
                <a:solidFill>
                  <a:srgbClr val="ffffff"/>
                </a:solidFill>
                <a:latin typeface="Arial Narrow"/>
              </a:rPr>
              <a:t>  BAMBER  </a:t>
            </a:r>
            <a:r>
              <a:rPr b="1" lang="en-AU" sz="1600" spc="-1" strike="noStrike">
                <a:solidFill>
                  <a:srgbClr val="ffffff"/>
                </a:solidFill>
                <a:latin typeface="Times New Roman"/>
              </a:rPr>
              <a:t>♦</a:t>
            </a:r>
            <a:r>
              <a:rPr b="1" lang="en-AU" sz="1800" spc="-1" strike="noStrike">
                <a:solidFill>
                  <a:srgbClr val="ffffff"/>
                </a:solidFill>
                <a:latin typeface="Arial Narrow"/>
              </a:rPr>
              <a:t>  BEST  </a:t>
            </a:r>
            <a:r>
              <a:rPr b="1" lang="en-AU" sz="1600" spc="-1" strike="noStrike">
                <a:solidFill>
                  <a:srgbClr val="ffffff"/>
                </a:solidFill>
                <a:latin typeface="Times New Roman"/>
              </a:rPr>
              <a:t>♦</a:t>
            </a:r>
            <a:r>
              <a:rPr b="1" lang="en-AU" sz="1800" spc="-1" strike="noStrike">
                <a:solidFill>
                  <a:srgbClr val="ffffff"/>
                </a:solidFill>
                <a:latin typeface="Arial Narrow"/>
              </a:rPr>
              <a:t>  FRASER  </a:t>
            </a:r>
            <a:r>
              <a:rPr b="1" lang="en-AU" sz="1600" spc="-1" strike="noStrike">
                <a:solidFill>
                  <a:srgbClr val="ffffff"/>
                </a:solidFill>
                <a:latin typeface="Times New Roman"/>
              </a:rPr>
              <a:t>♦</a:t>
            </a:r>
            <a:r>
              <a:rPr b="1" lang="en-AU" sz="1800" spc="-1" strike="noStrike">
                <a:solidFill>
                  <a:srgbClr val="ffffff"/>
                </a:solidFill>
                <a:latin typeface="Arial Narrow"/>
              </a:rPr>
              <a:t>  WILLETT</a:t>
            </a:r>
            <a:r>
              <a:rPr b="0" lang="en-AU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1008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460520" y="2323800"/>
            <a:ext cx="6216480" cy="209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ccount for the purch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nd sale of inventory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bjective 2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urchase of Inventory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62080" y="2438280"/>
            <a:ext cx="1828800" cy="182880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5400000"/>
          </a:gradFill>
          <a:ln w="12600">
            <a:solidFill>
              <a:srgbClr val="ffff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a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rch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2305080"/>
            <a:ext cx="2667240" cy="2112840"/>
          </a:xfrm>
          <a:prstGeom prst="ellipse">
            <a:avLst/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5400000"/>
          </a:gradFill>
          <a:ln w="12600">
            <a:solidFill>
              <a:srgbClr val="ffff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li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ven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a bi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3"/>
            <a:endCxn id="95" idx="2"/>
          </p:cNvCxnSpPr>
          <p:nvPr/>
        </p:nvCxnSpPr>
        <p:spPr>
          <a:xfrm>
            <a:off x="2990880" y="3352320"/>
            <a:ext cx="2877120" cy="10440"/>
          </a:xfrm>
          <a:prstGeom prst="straightConnector1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 flipH="1">
            <a:off x="2971800" y="3962520"/>
            <a:ext cx="312408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33480" y="4876920"/>
            <a:ext cx="2286000" cy="1600200"/>
          </a:xfrm>
          <a:prstGeom prst="diamond">
            <a:avLst/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5400000"/>
          </a:gradFill>
          <a:ln w="12600">
            <a:solidFill>
              <a:srgbClr val="ffff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4" idx="2"/>
            <a:endCxn id="98" idx="0"/>
          </p:cNvCxnSpPr>
          <p:nvPr/>
        </p:nvCxnSpPr>
        <p:spPr>
          <a:xfrm>
            <a:off x="2076120" y="4267080"/>
            <a:ext cx="1080" cy="610560"/>
          </a:xfrm>
          <a:prstGeom prst="straightConnector1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3"/>
            <a:endCxn id="95" idx="4"/>
          </p:cNvCxnSpPr>
          <p:nvPr/>
        </p:nvCxnSpPr>
        <p:spPr>
          <a:xfrm flipV="1">
            <a:off x="3219480" y="4417200"/>
            <a:ext cx="3982320" cy="1259640"/>
          </a:xfrm>
          <a:prstGeom prst="bentConnector2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38_9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38_9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38_9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38_9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urchase of Inventory Exampl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May 1, the Sporting Store acquired on account $2,000 of various items for resa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pplier sent the inventory along with a bill (invoice) stating the quantity, price, and terms of sa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journal entry (ignoring GST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5400000"/>
          </a:gradFill>
          <a:ln w="38160">
            <a:solidFill>
              <a:srgbClr val="ffff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ory                     $2,00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ounts Payable              $2,000   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urchased inventory on account (on cred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ory       Accounts Payab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,000                                2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66880" y="4881600"/>
            <a:ext cx="0" cy="1138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91320" y="4881600"/>
            <a:ext cx="0" cy="1214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15960" y="4876920"/>
            <a:ext cx="2217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95800" y="4876920"/>
            <a:ext cx="32716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urchase of Inventory Exampl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cording Purchase Returns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nd Allowances Exampl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ume that on May 4 a $100 item was returned prior to payment of the invo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journal entr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3962520"/>
            <a:ext cx="5943600" cy="243828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5400000"/>
          </a:gradFill>
          <a:ln w="12600">
            <a:solidFill>
              <a:srgbClr val="ffff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4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s Payable         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ventory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ventory was retur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cording Purchase Returns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nd Allowances Exampl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ume that one of the items of inventory is slightly damaged, and the store was given a $10 allow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journal entr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42120" y="4267080"/>
            <a:ext cx="5439240" cy="203868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5400000"/>
          </a:gradFill>
          <a:ln w="12600">
            <a:solidFill>
              <a:srgbClr val="ffff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4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s Payable         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ventory                       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ceived a purchase allowan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cording Purchase Returns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nd Allowances Exampl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48560" y="2395440"/>
            <a:ext cx="1870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ven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2898720"/>
            <a:ext cx="28958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,000    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971800"/>
            <a:ext cx="2438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0" y="2971800"/>
            <a:ext cx="0" cy="1752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4038480"/>
            <a:ext cx="28954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7640" y="4114800"/>
            <a:ext cx="1870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l. 1,89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72480" y="2362320"/>
            <a:ext cx="3217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s Pay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67280" y="2898720"/>
            <a:ext cx="28958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    2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57800" y="2895480"/>
            <a:ext cx="32004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81680" y="2895480"/>
            <a:ext cx="0" cy="1828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78440" y="4071960"/>
            <a:ext cx="1870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l. 1,89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4120" y="4038480"/>
            <a:ext cx="28954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5506920"/>
            <a:ext cx="8991720" cy="5155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‘Purchase Returns and Allowances’ account could be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urchase Discount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ntity or trade discounts simply reduce the cost of purch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unt received have credit terms stated in expressions such 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66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/10, N/3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meaning that a discount of 2% is allowed if the invoice is paid within 10 days; otherwise the full (net) amount is due within 30 day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unt received are a reduction in financial expen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urchase Discounts Exampl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ume the Sporting Store purchased inventory for $1,000 with terms of    2/10, N/3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ore paid within the discount peri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2% discount ($20) is deducted from the amount due ($1,000) and $980 is remitted (paid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urchase Discounts Exampl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journal entr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3487680"/>
            <a:ext cx="6934320" cy="216036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5400000"/>
          </a:gradFill>
          <a:ln w="12600">
            <a:solidFill>
              <a:srgbClr val="ffff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s Payable     1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s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8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ount Receiv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2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ayment of invoice within the discount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bjective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89917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ccff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se sales and gross profit to evaluate a compan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ccff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ccount for the purchase and sale of invento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ccff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just and close the accounts of a retail busines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ccff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epare a retailer’s financial statem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ccff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se gross profit percentage and the inventory turnover to evaluate a busines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ccff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lculate cost of goods sol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pplement: Periodic Inventory Syste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cording Transportation Cost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portation costs are the cost of moving inventory from seller to buy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B stands for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Free on Boa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governs the passing of title of the goo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ling/buying agreements usually specify FOB ter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cording Transportation Cost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1080" y="2362320"/>
            <a:ext cx="5162760" cy="1481040"/>
          </a:xfrm>
          <a:prstGeom prst="ellipse">
            <a:avLst/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5400000"/>
          </a:gradFill>
          <a:ln w="12600">
            <a:solidFill>
              <a:srgbClr val="ffff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B Shipping 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81080" y="4309920"/>
            <a:ext cx="5162760" cy="1481400"/>
          </a:xfrm>
          <a:prstGeom prst="ellipse">
            <a:avLst/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5400000"/>
          </a:gradFill>
          <a:ln w="12600">
            <a:solidFill>
              <a:srgbClr val="ffff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B Dest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reight Charges Exampl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ume that on May 9 the Sporting Store paid $60 for freigh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journal entr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70000" y="3675960"/>
            <a:ext cx="4635720" cy="261756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5400000"/>
          </a:gradFill>
          <a:ln w="12600">
            <a:solidFill>
              <a:srgbClr val="ffff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ventory       6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sh                      60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aid for fre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516720" y="4537080"/>
            <a:ext cx="1584360" cy="15699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porting Store Exampl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ume that on May 11 the store sold inventory (merchandise, goods, stock) costing $1,800 for $2,600 in cas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journal entri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porting Store Exampl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752480"/>
            <a:ext cx="6856560" cy="205740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5400000"/>
          </a:gradFill>
          <a:ln w="12600">
            <a:solidFill>
              <a:srgbClr val="ffff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sh                            2,6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les Revenue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,6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o record the cash s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4440" y="4267080"/>
            <a:ext cx="6856560" cy="205740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5400000"/>
          </a:gradFill>
          <a:ln w="12600">
            <a:solidFill>
              <a:srgbClr val="ffff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st of Goods Sold     1,8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ventory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8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o record the cost of inventory s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25880" y="3678120"/>
            <a:ext cx="181080" cy="57636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porting Store Exampl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May 15, the store sold to Maria Gym $5,000 worth of goods with a cost of $3,00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ms are 2/10, N/3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09760" y="4532400"/>
            <a:ext cx="6324480" cy="1551240"/>
          </a:xfrm>
          <a:prstGeom prst="rect">
            <a:avLst/>
          </a:prstGeom>
          <a:solidFill>
            <a:srgbClr val="cc00cc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voi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Maria Gy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rms 2/10, N/30 Tot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$5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42920" y="269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ales Discounts and Sales Returns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d Allowances Example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May 17, Maria Gym returned $1,500 worth of goods that cost $90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ddition, a credit of $100 was allowed  for inventory that was damag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journal entri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ales Discounts and Sales Returns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d Allowances Example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5720" y="2066760"/>
            <a:ext cx="7625160" cy="203868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5400000"/>
          </a:gradFill>
          <a:ln w="12600">
            <a:solidFill>
              <a:srgbClr val="ffff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1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les Returns and Allowance     1,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s Receivab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ceived returned invento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4080" y="4380120"/>
            <a:ext cx="7583760" cy="197784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5400000"/>
          </a:gradFill>
          <a:ln w="12600">
            <a:solidFill>
              <a:srgbClr val="ffff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1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ventory                                      9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st of Goods Sol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turned goods to invent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ales Discounts and Sales Returns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d Allowances Example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66"/>
              </a:buClr>
              <a:buSzPct val="75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no entry required for inventory since the goods were not return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97920" y="2170080"/>
            <a:ext cx="7150680" cy="197784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5400000"/>
          </a:gradFill>
          <a:ln w="12600">
            <a:solidFill>
              <a:srgbClr val="ffff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1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les Returns and Allowan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s Receivab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redit granted for damaged go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838080" y="3886200"/>
            <a:ext cx="7467840" cy="57636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5400000"/>
          </a:gradFill>
          <a:ln w="12600">
            <a:solidFill>
              <a:srgbClr val="ffff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s Receivable May 15 = $5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800600"/>
            <a:ext cx="7467840" cy="57636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5400000"/>
          </a:gradFill>
          <a:ln w="12600">
            <a:solidFill>
              <a:srgbClr val="ffff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s May 17 returns and allowances $1,6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5715000"/>
            <a:ext cx="7467840" cy="57636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5400000"/>
          </a:gradFill>
          <a:ln w="12600">
            <a:solidFill>
              <a:srgbClr val="ffff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quals May 20 balance due of $3,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ales Discounts and Sales Returns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d Allowances Example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May 20, the store received a cheque from Maria Gym for the balance d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balance du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7320" y="1981080"/>
            <a:ext cx="4552200" cy="392832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540000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rvice C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. of Fin. Perform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ear ended June 30, 200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rvice revenu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$xx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ens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lary expen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reciation expen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ome tax expen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    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et prof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$ x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20120" y="1982880"/>
            <a:ext cx="4095000" cy="435492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540000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ailing C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. of Fin. Perform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ear ended June 30, 200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les revenu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$xx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st of good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     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ross profi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rating expens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lary expen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reciation expen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et prof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$  x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371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399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tatements 0f Financial Performanc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3943440"/>
            <a:ext cx="298944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5" name=""/>
          <p:cNvCxnSpPr/>
          <p:nvPr/>
        </p:nvCxnSpPr>
        <p:spPr>
          <a:xfrm>
            <a:off x="1945800" y="3929040"/>
            <a:ext cx="3048840" cy="85320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ales Discounts and Sales Returns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d Allowances Example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ia took advantage of the sales terms – 2/10, N/3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1320" y="3130560"/>
            <a:ext cx="6438960" cy="246528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5400000"/>
          </a:gradFill>
          <a:ln w="12600">
            <a:solidFill>
              <a:srgbClr val="ffff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2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sh                                3,33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les Discoun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6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s Receivable              3,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ash collected within the discount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9120" y="5867280"/>
            <a:ext cx="8624880" cy="57636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5811840"/>
            <a:ext cx="8534520" cy="57636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‘Sales Discount’ is a financial expe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85800" y="2228760"/>
            <a:ext cx="7772400" cy="209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djust and close the accounts of a retailing busines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bjective 3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63520" y="2514600"/>
            <a:ext cx="2741760" cy="160020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5400000"/>
          </a:gradFill>
          <a:ln w="12600">
            <a:solidFill>
              <a:srgbClr val="ff00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ok Inven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l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$255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78320" y="2514600"/>
            <a:ext cx="2741760" cy="160020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5400000"/>
          </a:gradFill>
          <a:ln w="12600">
            <a:solidFill>
              <a:srgbClr val="ff00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ys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$252,500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33640" y="4952880"/>
            <a:ext cx="3276720" cy="57636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5400000"/>
          </a:gradFill>
          <a:ln w="12600">
            <a:solidFill>
              <a:srgbClr val="ff00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$2,500 dif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djustments to Inventory Example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62440" y="3313080"/>
            <a:ext cx="6810840" cy="197784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5400000"/>
          </a:gradFill>
          <a:ln w="12600">
            <a:solidFill>
              <a:srgbClr val="ffff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ne 3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st of Goods Sold          2,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ventory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,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o adjust inventory to physical cou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djustments to Inventory Example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journal entr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70040" y="2286000"/>
            <a:ext cx="2030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52480" y="2292480"/>
            <a:ext cx="0" cy="99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00720" y="2743200"/>
            <a:ext cx="2030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8880" y="2751120"/>
            <a:ext cx="0" cy="111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63000" y="1828800"/>
            <a:ext cx="1562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en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64160" y="2003400"/>
            <a:ext cx="1563840" cy="8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 &amp; 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33720" y="2989440"/>
            <a:ext cx="1511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.O.G.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-11880" y="3733920"/>
            <a:ext cx="2778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ount Allow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93920" y="4156200"/>
            <a:ext cx="101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2,8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0520" y="4894200"/>
            <a:ext cx="232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urns and 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13000" y="5257800"/>
            <a:ext cx="101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2,6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72200" y="5791320"/>
            <a:ext cx="20829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238880" y="5791320"/>
            <a:ext cx="0" cy="558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5334120"/>
            <a:ext cx="1204920" cy="8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pi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43280" y="3429000"/>
            <a:ext cx="16761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6760" y="4191120"/>
            <a:ext cx="22096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5334120"/>
            <a:ext cx="2030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5334120"/>
            <a:ext cx="0" cy="558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191120"/>
            <a:ext cx="0" cy="558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15920" y="3432240"/>
            <a:ext cx="1400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,490,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7000" y="2278080"/>
            <a:ext cx="1400760" cy="82044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,760,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79920" y="2749680"/>
            <a:ext cx="1400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,767,34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19520" y="3429000"/>
            <a:ext cx="0" cy="723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95920" y="5713560"/>
            <a:ext cx="1740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 Ex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008080" y="6172200"/>
            <a:ext cx="2030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6172200"/>
            <a:ext cx="0" cy="558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38480" y="2782800"/>
            <a:ext cx="14007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,884,34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67080" y="3316320"/>
            <a:ext cx="11721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83,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38880" y="5943600"/>
            <a:ext cx="11721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83,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95120" y="6175440"/>
            <a:ext cx="1248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38,51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losing Entries for a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tailing Business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212" name=""/>
          <p:cNvCxnSpPr>
            <a:stCxn id="210" idx="3"/>
            <a:endCxn id="207" idx="1"/>
          </p:cNvCxnSpPr>
          <p:nvPr/>
        </p:nvCxnSpPr>
        <p:spPr>
          <a:xfrm flipV="1">
            <a:off x="4143240" y="2991960"/>
            <a:ext cx="1696320" cy="3410640"/>
          </a:xfrm>
          <a:prstGeom prst="bentConnector3">
            <a:avLst>
              <a:gd name="adj1" fmla="val 46423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sp>
        <p:nvSpPr>
          <p:cNvPr id="213" name=""/>
          <p:cNvSpPr/>
          <p:nvPr/>
        </p:nvSpPr>
        <p:spPr>
          <a:xfrm>
            <a:off x="2495520" y="5486400"/>
            <a:ext cx="243828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76440" y="4381560"/>
            <a:ext cx="243864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19720" y="3657600"/>
            <a:ext cx="49536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08" idx="1"/>
            <a:endCxn id="209" idx="3"/>
          </p:cNvCxnSpPr>
          <p:nvPr/>
        </p:nvCxnSpPr>
        <p:spPr>
          <a:xfrm flipH="1" flipV="1" rot="10800000">
            <a:off x="6066360" y="3525840"/>
            <a:ext cx="2343960" cy="2627640"/>
          </a:xfrm>
          <a:prstGeom prst="bentConnector5">
            <a:avLst>
              <a:gd name="adj1" fmla="val -9754"/>
              <a:gd name="adj2" fmla="val 49972"/>
              <a:gd name="adj3" fmla="val 121059"/>
            </a:avLst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201" idx="1"/>
            <a:endCxn id="202" idx="3"/>
          </p:cNvCxnSpPr>
          <p:nvPr/>
        </p:nvCxnSpPr>
        <p:spPr>
          <a:xfrm flipH="1" flipV="1" rot="10800000">
            <a:off x="357840" y="2700720"/>
            <a:ext cx="8322120" cy="275400"/>
          </a:xfrm>
          <a:prstGeom prst="bentConnector5">
            <a:avLst>
              <a:gd name="adj1" fmla="val -2573"/>
              <a:gd name="adj2" fmla="val -309816"/>
              <a:gd name="adj3" fmla="val 102742"/>
            </a:avLst>
          </a:prstGeom>
          <a:ln w="381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3048120" y="2514600"/>
            <a:ext cx="16761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2514600"/>
            <a:ext cx="0" cy="723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71800" y="2590920"/>
            <a:ext cx="867240" cy="45468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,34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020400" y="1981080"/>
            <a:ext cx="1647360" cy="5155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. Re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895480" y="2819520"/>
            <a:ext cx="15264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95480" y="1828800"/>
            <a:ext cx="0" cy="9907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714680" y="2457000"/>
            <a:ext cx="571176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epare a retailer’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nancial statement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bjective 4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5524560" y="3860640"/>
          <a:ext cx="2792520" cy="23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24560" y="3860640"/>
                    <a:ext cx="2792520" cy="23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tatement of Financial Performanc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ormats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two basic formats for the statement of financial perform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66"/>
              </a:buClr>
              <a:buSzPct val="75000"/>
              <a:buFont typeface="Arial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st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66"/>
              </a:buClr>
              <a:buSzPct val="75000"/>
              <a:buFont typeface="Arial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le-st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ulti-Step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51600" y="1849320"/>
            <a:ext cx="6056640" cy="13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orting St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ement of Financial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ear Ended June 30, 20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81040" y="3200400"/>
            <a:ext cx="7962840" cy="271980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5400000"/>
          </a:gra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les revenu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$2,76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s and allowanc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–     32,60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t sales revenu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$2,727,39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st of goods sol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–1,490,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ss profi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$1,236,99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ulti-Step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1040" y="1600200"/>
            <a:ext cx="7981920" cy="491220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5400000"/>
          </a:gra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ss profi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$1,236,99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rating expens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ge expen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   166,28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nt expen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   137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urance expen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     16,3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reciation expen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       9,78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ount Receive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+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,34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ount Allow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     22,82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est expen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lies expen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–       8,15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t profit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$  883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ingle-Step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58800" y="1676520"/>
            <a:ext cx="603900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orting St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ement of Financial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ear Ended June 30, 20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05120" y="3200400"/>
            <a:ext cx="5695920" cy="228132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5400000"/>
          </a:gra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enu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s Expens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t Profi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58880" y="5867280"/>
            <a:ext cx="6141960" cy="9421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e exhibit 5.9 page 201 of your textbo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447560" y="1980720"/>
            <a:ext cx="6234120" cy="277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Use sales and gross profi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o evaluate a company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bjective 1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274320" y="2244600"/>
            <a:ext cx="8599320" cy="277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Use the gross profit percen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nd the inventory turno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atio to evaluate a busines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bjective 5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80880" y="4114800"/>
            <a:ext cx="8382240" cy="114300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5400000"/>
          </a:gradFill>
          <a:ln w="19080">
            <a:solidFill>
              <a:srgbClr val="ffff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ventory turnover = Cost of goods s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÷ Average inven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2286000"/>
            <a:ext cx="8382240" cy="114300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5400000"/>
          </a:gradFill>
          <a:ln w="19080">
            <a:solidFill>
              <a:srgbClr val="ffff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ss profit percentage = Gross prof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÷ Net sales reven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Using the Financial Statements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or Decision Making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ross Profit on $1 Three Retailers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example only – not real numbers)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685960" y="2057400"/>
            <a:ext cx="1544760" cy="16444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ro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f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0.4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476600" y="2076480"/>
            <a:ext cx="1544760" cy="1170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ro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f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0.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98920" y="3703680"/>
            <a:ext cx="1541160" cy="20113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st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oods so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0.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78400" y="3228840"/>
            <a:ext cx="1541520" cy="24861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st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oods so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0.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230880" y="2789280"/>
            <a:ext cx="1541520" cy="2925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st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oods so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0.7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227640" y="2068560"/>
            <a:ext cx="1544760" cy="731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ro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f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0.2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111360" y="5850000"/>
            <a:ext cx="1774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oolworth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286000" y="5715000"/>
            <a:ext cx="5486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2305080" y="2095560"/>
            <a:ext cx="0" cy="3610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38080" y="2133720"/>
            <a:ext cx="838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05000" y="1809720"/>
            <a:ext cx="1247760" cy="40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.00 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0.75 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0.50 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0.25 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0.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932920" y="5848200"/>
            <a:ext cx="75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718880" y="5848200"/>
            <a:ext cx="10623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r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5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40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ate of Inventory Turnover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or Three Retailers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66680" y="2514600"/>
            <a:ext cx="457200" cy="4572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679560" y="175248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oolworth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57400" y="2514600"/>
            <a:ext cx="457200" cy="4572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59" idx="0"/>
            <a:endCxn id="261" idx="0"/>
          </p:cNvCxnSpPr>
          <p:nvPr/>
        </p:nvCxnSpPr>
        <p:spPr>
          <a:xfrm flipH="1" rot="16200000">
            <a:off x="1789920" y="2019600"/>
            <a:ext cx="2160" cy="991440"/>
          </a:xfrm>
          <a:prstGeom prst="curvedConnector5">
            <a:avLst>
              <a:gd name="adj1" fmla="val -14400000"/>
              <a:gd name="adj2" fmla="val 49981"/>
              <a:gd name="adj3" fmla="val -14400000"/>
            </a:avLst>
          </a:prstGeom>
          <a:ln w="12600">
            <a:solidFill>
              <a:srgbClr val="66ff33"/>
            </a:solidFill>
            <a:miter/>
          </a:ln>
        </p:spPr>
      </p:cxnSp>
      <p:sp>
        <p:nvSpPr>
          <p:cNvPr id="263" name=""/>
          <p:cNvSpPr/>
          <p:nvPr/>
        </p:nvSpPr>
        <p:spPr>
          <a:xfrm>
            <a:off x="3124080" y="2514600"/>
            <a:ext cx="457200" cy="4572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91120" y="2514600"/>
            <a:ext cx="457200" cy="4572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57800" y="2514600"/>
            <a:ext cx="457200" cy="4572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24480" y="2514600"/>
            <a:ext cx="457200" cy="4572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391520" y="2514600"/>
            <a:ext cx="457200" cy="4572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1" idx="0"/>
            <a:endCxn id="263" idx="0"/>
          </p:cNvCxnSpPr>
          <p:nvPr/>
        </p:nvCxnSpPr>
        <p:spPr>
          <a:xfrm flipH="1" rot="16200000">
            <a:off x="2818440" y="1981800"/>
            <a:ext cx="2160" cy="106740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12600">
            <a:solidFill>
              <a:srgbClr val="66ff33"/>
            </a:solidFill>
            <a:miter/>
          </a:ln>
        </p:spPr>
      </p:cxnSp>
      <p:sp>
        <p:nvSpPr>
          <p:cNvPr id="269" name=""/>
          <p:cNvSpPr/>
          <p:nvPr/>
        </p:nvSpPr>
        <p:spPr>
          <a:xfrm>
            <a:off x="1523880" y="4114800"/>
            <a:ext cx="457200" cy="4572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41000" y="312408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r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85720" y="47242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734240" y="1752480"/>
            <a:ext cx="133524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.0 ti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r y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2280" y="6095880"/>
            <a:ext cx="8123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u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c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a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pri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u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2280" y="1676520"/>
            <a:ext cx="0" cy="4495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2280" y="6172200"/>
            <a:ext cx="7620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76" name=""/>
          <p:cNvCxnSpPr>
            <a:stCxn id="263" idx="0"/>
            <a:endCxn id="264" idx="0"/>
          </p:cNvCxnSpPr>
          <p:nvPr/>
        </p:nvCxnSpPr>
        <p:spPr>
          <a:xfrm flipH="1" rot="16200000">
            <a:off x="3885480" y="1981440"/>
            <a:ext cx="2160" cy="1067760"/>
          </a:xfrm>
          <a:prstGeom prst="curvedConnector5">
            <a:avLst>
              <a:gd name="adj1" fmla="val -14400000"/>
              <a:gd name="adj2" fmla="val 49983"/>
              <a:gd name="adj3" fmla="val -14400000"/>
            </a:avLst>
          </a:prstGeom>
          <a:ln w="12600">
            <a:solidFill>
              <a:srgbClr val="66ff33"/>
            </a:solidFill>
            <a:miter/>
          </a:ln>
        </p:spPr>
      </p:cxnSp>
      <p:cxnSp>
        <p:nvCxnSpPr>
          <p:cNvPr id="277" name=""/>
          <p:cNvCxnSpPr>
            <a:stCxn id="264" idx="0"/>
            <a:endCxn id="265" idx="0"/>
          </p:cNvCxnSpPr>
          <p:nvPr/>
        </p:nvCxnSpPr>
        <p:spPr>
          <a:xfrm flipH="1" rot="16200000">
            <a:off x="4952160" y="1981800"/>
            <a:ext cx="2160" cy="106740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12600">
            <a:solidFill>
              <a:srgbClr val="66ff33"/>
            </a:solidFill>
            <a:miter/>
          </a:ln>
        </p:spPr>
      </p:cxnSp>
      <p:cxnSp>
        <p:nvCxnSpPr>
          <p:cNvPr id="278" name=""/>
          <p:cNvCxnSpPr>
            <a:stCxn id="265" idx="0"/>
            <a:endCxn id="266" idx="0"/>
          </p:cNvCxnSpPr>
          <p:nvPr/>
        </p:nvCxnSpPr>
        <p:spPr>
          <a:xfrm flipH="1" rot="16200000">
            <a:off x="6018840" y="1981800"/>
            <a:ext cx="2160" cy="106740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12600">
            <a:solidFill>
              <a:srgbClr val="66ff33"/>
            </a:solidFill>
            <a:miter/>
          </a:ln>
        </p:spPr>
      </p:cxnSp>
      <p:cxnSp>
        <p:nvCxnSpPr>
          <p:cNvPr id="279" name=""/>
          <p:cNvCxnSpPr>
            <a:stCxn id="266" idx="0"/>
            <a:endCxn id="267" idx="0"/>
          </p:cNvCxnSpPr>
          <p:nvPr/>
        </p:nvCxnSpPr>
        <p:spPr>
          <a:xfrm flipH="1" rot="16200000">
            <a:off x="7085880" y="1981440"/>
            <a:ext cx="2160" cy="1067760"/>
          </a:xfrm>
          <a:prstGeom prst="curvedConnector5">
            <a:avLst>
              <a:gd name="adj1" fmla="val -14400000"/>
              <a:gd name="adj2" fmla="val 49983"/>
              <a:gd name="adj3" fmla="val -14400000"/>
            </a:avLst>
          </a:prstGeom>
          <a:ln w="12600">
            <a:solidFill>
              <a:srgbClr val="66ff33"/>
            </a:solidFill>
            <a:miter/>
            <a:tailEnd len="med" type="triangle" w="med"/>
          </a:ln>
        </p:spPr>
      </p:cxnSp>
      <p:sp>
        <p:nvSpPr>
          <p:cNvPr id="280" name=""/>
          <p:cNvSpPr/>
          <p:nvPr/>
        </p:nvSpPr>
        <p:spPr>
          <a:xfrm>
            <a:off x="2743200" y="4114800"/>
            <a:ext cx="457200" cy="4572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38480" y="4114800"/>
            <a:ext cx="457200" cy="4572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10080" y="4114800"/>
            <a:ext cx="457200" cy="4572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705720" y="4114800"/>
            <a:ext cx="457200" cy="4572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69" idx="0"/>
            <a:endCxn id="280" idx="0"/>
          </p:cNvCxnSpPr>
          <p:nvPr/>
        </p:nvCxnSpPr>
        <p:spPr>
          <a:xfrm flipH="1" rot="16200000">
            <a:off x="2361240" y="3505680"/>
            <a:ext cx="2160" cy="122004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12600">
            <a:solidFill>
              <a:srgbClr val="66ff33"/>
            </a:solidFill>
            <a:miter/>
          </a:ln>
        </p:spPr>
      </p:cxnSp>
      <p:cxnSp>
        <p:nvCxnSpPr>
          <p:cNvPr id="285" name=""/>
          <p:cNvCxnSpPr>
            <a:stCxn id="280" idx="0"/>
            <a:endCxn id="281" idx="0"/>
          </p:cNvCxnSpPr>
          <p:nvPr/>
        </p:nvCxnSpPr>
        <p:spPr>
          <a:xfrm flipH="1" rot="16200000">
            <a:off x="3618720" y="3467520"/>
            <a:ext cx="2160" cy="1296000"/>
          </a:xfrm>
          <a:prstGeom prst="curvedConnector5">
            <a:avLst>
              <a:gd name="adj1" fmla="val -14400000"/>
              <a:gd name="adj2" fmla="val 49986"/>
              <a:gd name="adj3" fmla="val -14400000"/>
            </a:avLst>
          </a:prstGeom>
          <a:ln w="12600">
            <a:solidFill>
              <a:srgbClr val="66ff33"/>
            </a:solidFill>
            <a:miter/>
          </a:ln>
        </p:spPr>
      </p:cxnSp>
      <p:cxnSp>
        <p:nvCxnSpPr>
          <p:cNvPr id="286" name=""/>
          <p:cNvCxnSpPr>
            <a:stCxn id="281" idx="0"/>
            <a:endCxn id="282" idx="0"/>
          </p:cNvCxnSpPr>
          <p:nvPr/>
        </p:nvCxnSpPr>
        <p:spPr>
          <a:xfrm flipH="1" rot="16200000">
            <a:off x="4952160" y="3429360"/>
            <a:ext cx="2160" cy="1372320"/>
          </a:xfrm>
          <a:prstGeom prst="curvedConnector5">
            <a:avLst>
              <a:gd name="adj1" fmla="val -14400000"/>
              <a:gd name="adj2" fmla="val 49986"/>
              <a:gd name="adj3" fmla="val -14400000"/>
            </a:avLst>
          </a:prstGeom>
          <a:ln w="12600">
            <a:solidFill>
              <a:srgbClr val="66ff33"/>
            </a:solidFill>
            <a:miter/>
          </a:ln>
        </p:spPr>
      </p:cxnSp>
      <p:cxnSp>
        <p:nvCxnSpPr>
          <p:cNvPr id="287" name=""/>
          <p:cNvCxnSpPr>
            <a:stCxn id="282" idx="0"/>
            <a:endCxn id="283" idx="0"/>
          </p:cNvCxnSpPr>
          <p:nvPr/>
        </p:nvCxnSpPr>
        <p:spPr>
          <a:xfrm flipH="1" rot="16200000">
            <a:off x="6285600" y="3467520"/>
            <a:ext cx="2160" cy="129636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12600">
            <a:solidFill>
              <a:srgbClr val="66ff33"/>
            </a:solidFill>
            <a:miter/>
          </a:ln>
        </p:spPr>
      </p:cxnSp>
      <p:sp>
        <p:nvSpPr>
          <p:cNvPr id="288" name=""/>
          <p:cNvSpPr/>
          <p:nvPr/>
        </p:nvSpPr>
        <p:spPr>
          <a:xfrm>
            <a:off x="7732800" y="3368520"/>
            <a:ext cx="133524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.4 ti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r y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3" idx="0"/>
            <a:endCxn id="288" idx="1"/>
          </p:cNvCxnSpPr>
          <p:nvPr/>
        </p:nvCxnSpPr>
        <p:spPr>
          <a:xfrm flipH="1" flipV="1" rot="5400000">
            <a:off x="7147440" y="3528000"/>
            <a:ext cx="373680" cy="800640"/>
          </a:xfrm>
          <a:prstGeom prst="curvedConnector2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</p:cxnSp>
      <p:sp>
        <p:nvSpPr>
          <p:cNvPr id="290" name=""/>
          <p:cNvSpPr/>
          <p:nvPr/>
        </p:nvSpPr>
        <p:spPr>
          <a:xfrm>
            <a:off x="3200400" y="5562720"/>
            <a:ext cx="457200" cy="4572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00800" y="5562720"/>
            <a:ext cx="457200" cy="4572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92" name=""/>
          <p:cNvCxnSpPr>
            <a:stCxn id="290" idx="0"/>
            <a:endCxn id="291" idx="0"/>
          </p:cNvCxnSpPr>
          <p:nvPr/>
        </p:nvCxnSpPr>
        <p:spPr>
          <a:xfrm flipH="1" rot="16200000">
            <a:off x="5028480" y="3962880"/>
            <a:ext cx="2160" cy="3201120"/>
          </a:xfrm>
          <a:prstGeom prst="curvedConnector5">
            <a:avLst>
              <a:gd name="adj1" fmla="val -14400000"/>
              <a:gd name="adj2" fmla="val 49994"/>
              <a:gd name="adj3" fmla="val -14400000"/>
            </a:avLst>
          </a:prstGeom>
          <a:ln w="12600">
            <a:solidFill>
              <a:srgbClr val="66ff33"/>
            </a:solidFill>
            <a:miter/>
          </a:ln>
        </p:spPr>
      </p:cxnSp>
      <p:sp>
        <p:nvSpPr>
          <p:cNvPr id="293" name=""/>
          <p:cNvSpPr/>
          <p:nvPr/>
        </p:nvSpPr>
        <p:spPr>
          <a:xfrm>
            <a:off x="7732800" y="4952880"/>
            <a:ext cx="133524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3 ti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r y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94" name=""/>
          <p:cNvCxnSpPr>
            <a:stCxn id="291" idx="0"/>
            <a:endCxn id="293" idx="1"/>
          </p:cNvCxnSpPr>
          <p:nvPr/>
        </p:nvCxnSpPr>
        <p:spPr>
          <a:xfrm flipH="1" flipV="1" rot="5400000">
            <a:off x="7063200" y="4891320"/>
            <a:ext cx="237240" cy="1105560"/>
          </a:xfrm>
          <a:prstGeom prst="curvedConnector2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</p:cxnSp>
      <p:sp>
        <p:nvSpPr>
          <p:cNvPr id="295" name=""/>
          <p:cNvSpPr/>
          <p:nvPr/>
        </p:nvSpPr>
        <p:spPr>
          <a:xfrm>
            <a:off x="152280" y="3124080"/>
            <a:ext cx="7620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2280" y="4724280"/>
            <a:ext cx="7620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50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4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5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500"/>
                            </p:stCondLst>
                            <p:childTnLst>
                              <p:par>
                                <p:cTn id="3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60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650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7000"/>
                            </p:stCondLst>
                            <p:childTnLst>
                              <p:par>
                                <p:cTn id="4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7500"/>
                            </p:stCondLst>
                            <p:childTnLst>
                              <p:par>
                                <p:cTn id="4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8000"/>
                            </p:stCondLst>
                            <p:childTnLst>
                              <p:par>
                                <p:cTn id="4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85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90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95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25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4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3500"/>
                            </p:stCondLst>
                            <p:childTnLst>
                              <p:par>
                                <p:cTn id="4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45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55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6000"/>
                            </p:stCondLst>
                            <p:childTnLst>
                              <p:par>
                                <p:cTn id="4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1919160" y="2457000"/>
            <a:ext cx="53056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alculate th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st of goods sol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bjective 6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80880" y="1828800"/>
            <a:ext cx="8382240" cy="114300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5400000"/>
          </a:gradFill>
          <a:ln w="38160">
            <a:solidFill>
              <a:srgbClr val="ffff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rchases of inventory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rchases returns and allowances =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Net purch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3429000"/>
            <a:ext cx="8382240" cy="114300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5400000"/>
          </a:gradFill>
          <a:ln w="38160">
            <a:solidFill>
              <a:srgbClr val="ffff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ginning inventory +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Net purchas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Freight-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ccff66"/>
                </a:solidFill>
                <a:latin typeface="Times New Roman"/>
              </a:rPr>
              <a:t>Cost of goods available for s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0880" y="5105520"/>
            <a:ext cx="8382240" cy="114300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5400000"/>
          </a:gradFill>
          <a:ln w="38160">
            <a:solidFill>
              <a:srgbClr val="ffff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Times New Roman"/>
              </a:rPr>
              <a:t>Cost of goods available for sa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Ending invent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Cost of goods s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alculating the Cost of Goods Sold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n a Periodic System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514440" y="2286000"/>
            <a:ext cx="2209680" cy="129528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gin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ent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$20,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4440" y="4495680"/>
            <a:ext cx="2209680" cy="137160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t Purch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Freight-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$101,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58040" y="2362320"/>
            <a:ext cx="2209680" cy="144756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ent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$15,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477120" y="4343400"/>
            <a:ext cx="2209680" cy="13716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st of Go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$106,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453480" y="3100320"/>
            <a:ext cx="2236680" cy="1800360"/>
          </a:xfrm>
          <a:prstGeom prst="rect">
            <a:avLst/>
          </a:prstGeom>
          <a:gradFill rotWithShape="0">
            <a:gsLst>
              <a:gs pos="0">
                <a:srgbClr val="3f3156"/>
              </a:gs>
              <a:gs pos="50000">
                <a:srgbClr val="896bbb"/>
              </a:gs>
              <a:gs pos="100000">
                <a:srgbClr val="3f3156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st of Go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ail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S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$121,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alculating the Cost of Goods Sold in a Periodic Syste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09" name=""/>
          <p:cNvCxnSpPr/>
          <p:nvPr/>
        </p:nvCxnSpPr>
        <p:spPr>
          <a:xfrm flipV="1">
            <a:off x="2723760" y="4228920"/>
            <a:ext cx="724680" cy="1181520"/>
          </a:xfrm>
          <a:prstGeom prst="bentConnector3">
            <a:avLst>
              <a:gd name="adj1" fmla="val 50000"/>
            </a:avLst>
          </a:prstGeom>
          <a:ln w="38160">
            <a:solidFill>
              <a:srgbClr val="66ff33"/>
            </a:solidFill>
            <a:miter/>
            <a:tailEnd len="med" type="triangle" w="med"/>
          </a:ln>
        </p:spPr>
      </p:cxnSp>
      <p:cxnSp>
        <p:nvCxnSpPr>
          <p:cNvPr id="310" name=""/>
          <p:cNvCxnSpPr/>
          <p:nvPr/>
        </p:nvCxnSpPr>
        <p:spPr>
          <a:xfrm>
            <a:off x="2723760" y="2742840"/>
            <a:ext cx="724680" cy="1067400"/>
          </a:xfrm>
          <a:prstGeom prst="bentConnector3">
            <a:avLst>
              <a:gd name="adj1" fmla="val 50000"/>
            </a:avLst>
          </a:prstGeom>
          <a:ln w="38160">
            <a:solidFill>
              <a:srgbClr val="66ff33"/>
            </a:solidFill>
            <a:miter/>
            <a:tailEnd len="med" type="triangle" w="med"/>
          </a:ln>
        </p:spPr>
      </p:cxnSp>
      <p:cxnSp>
        <p:nvCxnSpPr>
          <p:cNvPr id="311" name=""/>
          <p:cNvCxnSpPr/>
          <p:nvPr/>
        </p:nvCxnSpPr>
        <p:spPr>
          <a:xfrm flipV="1">
            <a:off x="5695560" y="2895120"/>
            <a:ext cx="7628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66ff33"/>
            </a:solidFill>
            <a:miter/>
            <a:tailEnd len="med" type="triangle" w="med"/>
          </a:ln>
        </p:spPr>
      </p:cxnSp>
      <p:cxnSp>
        <p:nvCxnSpPr>
          <p:cNvPr id="312" name=""/>
          <p:cNvCxnSpPr/>
          <p:nvPr/>
        </p:nvCxnSpPr>
        <p:spPr>
          <a:xfrm>
            <a:off x="5695920" y="4228920"/>
            <a:ext cx="781920" cy="1028880"/>
          </a:xfrm>
          <a:prstGeom prst="bentConnector3">
            <a:avLst>
              <a:gd name="adj1" fmla="val 49976"/>
            </a:avLst>
          </a:prstGeom>
          <a:ln w="38160">
            <a:solidFill>
              <a:srgbClr val="66ff33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38_9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38_9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000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5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38_9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3000"/>
                            </p:stCondLst>
                            <p:childTnLst>
                              <p:par>
                                <p:cTn id="5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3500"/>
                            </p:stCondLst>
                            <p:childTnLst>
                              <p:par>
                                <p:cTn id="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38_9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4000"/>
                            </p:stCondLst>
                            <p:childTnLst>
                              <p:par>
                                <p:cTn id="5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ccounting for Goods in a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eriodic Inventory System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297144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ount for the purchase and sale of inven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cost of goods s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just and close the accounts of a retail bus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e a retailer’s financial stat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57600" y="1905120"/>
            <a:ext cx="3186000" cy="7592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bjective S1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2666880"/>
            <a:ext cx="861048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count for the purchase and sale of inven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urchase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the perpetual inventory system when a purchase is made ‘Inventory’ is debi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the periodic inventory system when inventory is purchased we debit ‘Purchases’ accou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chase returns are treated the same – credit ‘Purchase Returns and Allowances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57600" y="2133720"/>
            <a:ext cx="1828800" cy="137160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5400000"/>
          </a:gradFill>
          <a:ln w="12600">
            <a:solidFill>
              <a:srgbClr val="ffff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t s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320" y="4954320"/>
            <a:ext cx="9067680" cy="106380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5400000"/>
          </a:gradFill>
          <a:ln w="12600">
            <a:solidFill>
              <a:srgbClr val="ffff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les Revenue les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les Retu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43240" y="3813120"/>
            <a:ext cx="8668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les Revenu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ale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the perpetual inventory system when a sale is made we record both the money flow (‘Accounts Receivable’ and ‘Sales’) and the goods flow (‘Inventory’ and ‘Costs of Goods Sold’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the periodic inventory system when inventory is sold we only record the money fl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bjective S2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297144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lculate the cost of goods sol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OG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periodic inventory COGS must be calculated at the end of the accounting period after a stock-take is conduc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457200" y="2057400"/>
            <a:ext cx="2743200" cy="129528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5400000"/>
          </a:gradFill>
          <a:ln w="12600">
            <a:solidFill>
              <a:srgbClr val="ffff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gi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ven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" y="4000320"/>
            <a:ext cx="8077320" cy="57636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5400000"/>
          </a:gradFill>
          <a:ln w="12600">
            <a:solidFill>
              <a:srgbClr val="ffff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st of Goods Available for S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OG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057400"/>
            <a:ext cx="2743200" cy="129528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5400000"/>
          </a:gradFill>
          <a:ln w="12600">
            <a:solidFill>
              <a:srgbClr val="ffff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t Purchas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Freight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" y="5105520"/>
            <a:ext cx="2743200" cy="129528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5400000"/>
          </a:gradFill>
          <a:ln w="12600">
            <a:solidFill>
              <a:srgbClr val="ffff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d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ven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15000" y="5105520"/>
            <a:ext cx="2743200" cy="129528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5400000"/>
          </a:gradFill>
          <a:ln w="12600">
            <a:solidFill>
              <a:srgbClr val="ffff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st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ods S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752480" y="3505320"/>
            <a:ext cx="60984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6324120" y="3429000"/>
            <a:ext cx="68580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276360" y="4724280"/>
            <a:ext cx="60948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00600" y="4724280"/>
            <a:ext cx="68580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OG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ning Inven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s Purch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s Freight 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 Purchase Returns and Allow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als Cost of Goods Available for Sa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 Ending Inven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al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bjective S3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just and close the accounts of a retail busin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osing Entrie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807696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adjustment – the balance of the ‘Inventory’ account is the beginning bal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must be replaced with the ending bal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osing Entrie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 Exhibit 5S-5  page 23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eginning balance of inventory is transferred to the debit column of Statement of Financial Perform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losing balance of inventory is debited to the Statement of Financial Position and credited to the Statement of Financial Perform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bjective S4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861048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pare a retailer’s financial stat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inancial Statement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nly difference between the financial statements of a periodic inventory system and a perpetual system is CO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petual – COGS is an account and appears as a single line in the Statement of Financial 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124080" y="2133720"/>
            <a:ext cx="2743200" cy="129528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5400000"/>
          </a:gradFill>
          <a:ln w="12600">
            <a:solidFill>
              <a:srgbClr val="ffff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ss Profi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4522680"/>
            <a:ext cx="9067680" cy="155124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5400000"/>
          </a:gradFill>
          <a:ln w="12600">
            <a:solidFill>
              <a:srgbClr val="ffff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t Sales les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st of Goods S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cost to the retailer of the goods they are sell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43240" y="3581280"/>
            <a:ext cx="8668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oss Profi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inancial Statement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odic – COGS is a calculation sh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ginning Invent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us Purchas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Purchase Returns and Allowa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us Freight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quals Cost of Goods Available for Sa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Ending Invent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qual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st of Goods S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 page 233 of the text book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08400" y="2975040"/>
            <a:ext cx="432576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nd of Chapter 5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perating Cycle of a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tailing Business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3125880"/>
            <a:ext cx="2741760" cy="27414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2971800"/>
            <a:ext cx="2057400" cy="685800"/>
          </a:xfrm>
          <a:prstGeom prst="ellipse">
            <a:avLst/>
          </a:prstGeom>
          <a:solidFill>
            <a:srgbClr val="33cc33"/>
          </a:solidFill>
          <a:ln w="0">
            <a:noFill/>
          </a:ln>
          <a:effectLst>
            <a:outerShdw dist="107932" dir="189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5257800"/>
            <a:ext cx="2057400" cy="685800"/>
          </a:xfrm>
          <a:prstGeom prst="ellipse">
            <a:avLst/>
          </a:prstGeom>
          <a:solidFill>
            <a:srgbClr val="0066ff"/>
          </a:solidFill>
          <a:ln w="0">
            <a:noFill/>
          </a:ln>
          <a:effectLst>
            <a:outerShdw dist="107932" dir="18900000" blurRad="0" rotWithShape="0">
              <a:srgbClr val="00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ent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3254000">
            <a:off x="3429000" y="5105160"/>
            <a:ext cx="24768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rot="2321400">
            <a:off x="1295280" y="3409560"/>
            <a:ext cx="24768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 rot="15772800">
            <a:off x="414360" y="4376520"/>
            <a:ext cx="1457280" cy="457200"/>
          </a:xfrm>
          <a:prstGeom prst="rect">
            <a:avLst/>
          </a:prstGeom>
        </p:spPr>
        <p:txBody>
          <a:bodyPr wrap="none" fromWordArt="1" lIns="90360" rIns="90360" tIns="44280" bIns="4428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Bookman Old Style"/>
              </a:rPr>
              <a:t>Cash Sale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73" name=""/>
          <p:cNvSpPr txBox="1"/>
          <p:nvPr/>
        </p:nvSpPr>
        <p:spPr>
          <a:xfrm rot="15741600">
            <a:off x="2645640" y="5524200"/>
            <a:ext cx="1413000" cy="538200"/>
          </a:xfrm>
          <a:prstGeom prst="rect">
            <a:avLst/>
          </a:prstGeom>
        </p:spPr>
        <p:txBody>
          <a:bodyPr wrap="none" fromWordArt="1" lIns="90360" rIns="90360" tIns="44280" bIns="4428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Bookman Old Style"/>
              </a:rPr>
              <a:t>Purchase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74" name=""/>
          <p:cNvSpPr/>
          <p:nvPr/>
        </p:nvSpPr>
        <p:spPr>
          <a:xfrm>
            <a:off x="5640480" y="3049560"/>
            <a:ext cx="2741400" cy="27417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9920" y="2971800"/>
            <a:ext cx="2057400" cy="685800"/>
          </a:xfrm>
          <a:prstGeom prst="ellipse">
            <a:avLst/>
          </a:prstGeom>
          <a:solidFill>
            <a:srgbClr val="33cc33"/>
          </a:solidFill>
          <a:ln w="0">
            <a:noFill/>
          </a:ln>
          <a:effectLst>
            <a:outerShdw dist="107932" dir="189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10280" y="4724280"/>
            <a:ext cx="2057400" cy="685800"/>
          </a:xfrm>
          <a:prstGeom prst="ellipse">
            <a:avLst/>
          </a:prstGeom>
          <a:solidFill>
            <a:srgbClr val="0066ff"/>
          </a:solidFill>
          <a:ln w="0">
            <a:noFill/>
          </a:ln>
          <a:effectLst>
            <a:outerShdw dist="107932" dir="18900000" blurRad="0" rotWithShape="0">
              <a:srgbClr val="00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ent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4724280"/>
            <a:ext cx="2057400" cy="6858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07932" dir="18900000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ceiv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rot="2321400">
            <a:off x="5847480" y="3352320"/>
            <a:ext cx="247680" cy="381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rot="18521400">
            <a:off x="6067440" y="5324400"/>
            <a:ext cx="24768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 rot="10931400">
            <a:off x="8248320" y="4304520"/>
            <a:ext cx="247320" cy="381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 rot="10483800">
            <a:off x="8217720" y="5804640"/>
            <a:ext cx="2279520" cy="901800"/>
          </a:xfrm>
          <a:prstGeom prst="rect">
            <a:avLst/>
          </a:prstGeom>
        </p:spPr>
        <p:txBody>
          <a:bodyPr wrap="none" fromWordArt="1" lIns="90360" rIns="90360" tIns="44280" bIns="4428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Bookman Old Style"/>
              </a:rPr>
              <a:t>Sales on Account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82" name=""/>
          <p:cNvSpPr txBox="1"/>
          <p:nvPr/>
        </p:nvSpPr>
        <p:spPr>
          <a:xfrm rot="17733000">
            <a:off x="4900320" y="3673080"/>
            <a:ext cx="1209960" cy="514080"/>
          </a:xfrm>
          <a:prstGeom prst="rect">
            <a:avLst/>
          </a:prstGeom>
        </p:spPr>
        <p:txBody>
          <a:bodyPr wrap="none" fromWordArt="1" lIns="90360" rIns="90360" tIns="44280" bIns="44280" anchor="t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Bookman Old Style"/>
              </a:rPr>
              <a:t>Collections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Bookman Old Style"/>
              </a:rPr>
              <a:t>o f Cash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83" name=""/>
          <p:cNvSpPr txBox="1"/>
          <p:nvPr/>
        </p:nvSpPr>
        <p:spPr>
          <a:xfrm rot="15393600">
            <a:off x="7439400" y="5247720"/>
            <a:ext cx="1412640" cy="538200"/>
          </a:xfrm>
          <a:prstGeom prst="rect">
            <a:avLst/>
          </a:prstGeom>
        </p:spPr>
        <p:txBody>
          <a:bodyPr wrap="none" fromWordArt="1" lIns="90360" rIns="90360" tIns="44280" bIns="4428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Bookman Old Style"/>
              </a:rPr>
              <a:t>Purchase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84" name=""/>
          <p:cNvSpPr/>
          <p:nvPr/>
        </p:nvSpPr>
        <p:spPr>
          <a:xfrm>
            <a:off x="838440" y="2057400"/>
            <a:ext cx="3305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rchase and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Cash S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16600" y="2057400"/>
            <a:ext cx="4127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rchase and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Sale on Accou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ST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Goods and Services Tax)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retailers are registered for GS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ff66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ST paid is claimed back from the A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ff66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ST collected is paid to the A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ff66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eality – net difference is paid or claim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ff66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sales and purchases are shown net of G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tailers who are not registered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ff66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do not charge GST on s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ff66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ST paid on purchases is added to the co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981080" y="2362320"/>
            <a:ext cx="5162760" cy="1481040"/>
          </a:xfrm>
          <a:prstGeom prst="ellipse">
            <a:avLst/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5400000"/>
          </a:gradFill>
          <a:ln w="12600">
            <a:solidFill>
              <a:srgbClr val="ffff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pet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4386240"/>
            <a:ext cx="5162760" cy="1481040"/>
          </a:xfrm>
          <a:prstGeom prst="ellipse">
            <a:avLst/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5400000"/>
          </a:gradFill>
          <a:ln w="12600">
            <a:solidFill>
              <a:srgbClr val="ffff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iod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ventory System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04T17:06:28Z</dcterms:created>
  <dc:creator>Jonathan Tyler</dc:creator>
  <dc:description/>
  <dc:language>en-US</dc:language>
  <cp:lastModifiedBy>Pearson Australia</cp:lastModifiedBy>
  <cp:lastPrinted>2001-01-09T15:06:55Z</cp:lastPrinted>
  <dcterms:modified xsi:type="dcterms:W3CDTF">2003-09-10T06:45:26Z</dcterms:modified>
  <cp:revision>224</cp:revision>
  <dc:subject>Accounting 4/e, Horngren</dc:subject>
  <dc:title>Retailing operations and the accounting cycle</dc:title>
</cp:coreProperties>
</file>