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B9E-F9AC-4555-9DCD-6A4859C8B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F2B-0C3A-4F19-890B-98A7DCBD6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A4C-5D44-4B0E-8864-4D087C5B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C87-8829-42F7-A453-F1EA7A5A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BF6-72DA-43F3-AE8E-81FBB2B5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06C-5F63-477A-95D6-7F0EC35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41FB-549C-4034-B8F9-D8773D83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60A-04C6-4F82-84E8-081E317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5AD-D246-4C96-BAE1-2ABA13D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B995-3FF0-4853-A05C-BF44264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A1C-4EBE-4D9D-9EB4-29736DA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583-AFE7-452A-A7A9-4BB4E62C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6E9F-5DCE-4518-81B3-F02482AF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888-22D4-4269-94D9-02619EEF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51C-2BDD-4D15-93A7-FA8999B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5190-F6E4-4004-B59B-7A4A896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1D6A-1C67-44C9-BDE0-B9D44018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147D-87AE-4689-B1B4-F39A1786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42A6-B323-42B6-AE22-DBACBEE0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C5D6-2B64-40C4-8110-98A6B621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6EFE-D90C-42E0-B00F-8CC2008F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DEF6-9D85-45E5-A546-22BFD06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3795-3C0E-4D6F-B6DF-4B36E3D2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2EC3-88BC-4E96-8BAC-B9893CE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A1F-77FE-4733-BAF2-4D9BCA5D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F88C-2ECE-4C81-A962-AF7FEE8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BFEB-BC9B-4B96-9C4E-93362F5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C8D6-2BC5-4B66-8576-3DC3CCB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EF23-99CA-4429-BBE1-4EE2BA1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DD2C6-AA17-4235-8907-F29D566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3150-7E72-4209-83E6-B6771AA7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3619-1C0F-43F4-91BE-650EE138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39BE-CC07-4BE8-A659-4D14F9BA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D255-6B7A-4713-8B73-C3AF4594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AE25-6DEA-4A09-9F39-9C9A5B4D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4F9-8497-48BF-A001-2F79F1FD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D1C8-11ED-42CB-8719-6CAECF8A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0A5C-4DC6-4F5A-9FB5-34CCC497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A34D-26E0-451B-89A6-24D2A10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48F6-94C2-48A0-A79E-AF81708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B032-33D4-4A2B-AE02-41D9A48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1752-D20E-4E01-BB28-7020988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4A7F-A2E3-499B-89AC-8FF0CA4E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6B9C-179B-4991-9534-005ACE0A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ECA2-0FEA-4E81-8FD8-DACEA11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3F0-7CE4-4F89-B352-C903C14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E31-5C04-4C3B-A4F8-26FE6CB5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169-61E2-4EBD-B9C1-EAF5AE9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7FC-BD73-464E-8558-D3F4F5A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B9D-06C6-451F-8E2B-29222A3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D9F-8B4D-4F41-88FB-AC8980E1E91F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010-E97F-4B3E-9A47-9F88F0C5604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6C7E-2840-49C1-8EAD-2DABFA950F3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03D-9A4A-43C0-B944-8623E255C61C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34800" y="1255680"/>
            <a:ext cx="865044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 3:  Community and Ambulatory Care Pharmacy Practice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0" lang="en-US" sz="5000" spc="-1" strike="noStrike" baseline="30000">
                <a:solidFill>
                  <a:srgbClr val="1f497d"/>
                </a:solidFill>
                <a:latin typeface="Calibri"/>
              </a:rPr>
              <a:t>rd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 Party Payers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employ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edicai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loyers’ health insurance poli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vate insurance purchased by individu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f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creased reimbursement for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tricted drugs cove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rol of copay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OBRA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990-Omnibus Budget Reconciliation Ac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d pharmacists to perform 3 functions for Medicaid prescriptions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spective drug utilization review (DUR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counse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record m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these functions performed for all prescrip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OBRA</a:t>
            </a:r>
            <a:r>
              <a:rPr b="0" lang="en-US" sz="50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Pharmacy Technicia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of pharmac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ved from preparers of drug products to dispensers of drug 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rs of medication therap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of pharmacy technici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umed technical functions drug distribution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ment of professional standards for technici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Practice Sit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ty &amp; ambulatory care pharmacy settin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munity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nic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d care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l-order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ommunity Pharmac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ependent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# of pharmacies declin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in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# of pharmacies increas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nic Pharmac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ted in clinics or medical cen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be owned by the facility or independen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community pharma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direct contact with prescrib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involved in managing drug therap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er health screening &amp; immunization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ller in 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mited amount of OTC med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Managed Care Pharmac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wned by managed care system  such as H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mble clinic pharmaci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tricted to patients in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ically located in close proximity to medical fac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coordinated communication among health care profession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Mail-Order Pharmac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ified as ambulatory pharma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l very large volumes of prescrip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alize in maintenance me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ly autom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 direct contact with patien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lephone , or electronically, via Web s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ke warehouses with pharmacists &amp; technici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Technician Responsibilities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municating with pati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ing patient priva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iving prescriptions and registering pati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nsferring prescri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tering prescriptions in compu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ndling restricted-use medic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olving third-party payer issu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lling &amp; labeling pharmaceutical produ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ounding prescri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llecting payment &amp; offering patient counsel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lfilling miscellaneous respon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ommunicating with Patient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 professionally and in a caring manner at all ti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ten first and last person to interact with a pati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ients may not feel w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 mu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concern for patient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ect patients’ priv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rontations with patien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lm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 pharmaci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Learning Outcom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 history of pharmacy pract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differences among practice si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importance of communic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various steps in filling a pre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y trends in pharmacy pract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evolving role of technician in pharmacy pract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Ensuring Patient Privacy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96-HIPAA pass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d “privacy rule” which is national standar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fic guidelines for private pati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are when discussing private patient inform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sure documents with private information be placed in the appropriate location for destru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ten policy for handling private patient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Receiving Prescriptions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returning patient with 2 identifiers such as name and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te of birth, address, or phone numb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stering new patients, obtai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rrect spelling of na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dress and phone number(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urance information from patient’s insurance car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te of birth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ug allerg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criptions or OTC medications the patient takes regular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alth condi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Receiving Prescriptions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s of recei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ly from pati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prescriber v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elephon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ax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lectronic transmiss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when patient will pick up pre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t for customer service &amp; workfl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cess prescriptions in order of when they are d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Fill With Brand or Generic?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ic drugs less expens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DA provides list of equivalent  generic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e regulations vary regarding generic substit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you like us to fill your prescription with a less expensive generic alternative, if one is available?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offer if prescriber has not allow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offer if generic not avail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Transferring Prescriptio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ject to specific state regulatio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st is responsible for information transfer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er must be accomplished only pharmacist to pharmacist in some st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on request for transf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btain information about prescri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ist will use to help with transfer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omputer Order Entry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ety of prescription processing soft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fic steps varies among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ten prescription scanned into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rd copy readily accessible  at each step of filling or refi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on prescription entered into appropriate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Restricted-Use Medicatio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DA requires Risk Evaluation and Mitigation Strategy (REMS) for certain medi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termines strategy to ensure benefits outweigh potential ris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require regist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y require other action by the physician, pharmacist, and pati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y also apply specifications for prescrip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its on how many units may be dispens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refills are allow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ickers or other documentation on the face of the prescrip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Examples of Drugs with REMS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osetron (Lotrone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ozapine (Clozaril, Fazacl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tretinoin (Accutane, Amnesteem, Claravis, Sotre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lidomide (Thalomi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fetilide (Tikosy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Alosetron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s a type of irritable bowel syndrome (IB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ious adverse reactions of gastrointestinal tr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necessitate a blood transfusion or surge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even lead to deat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tricted by Prescription Program for Lotronex (PP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quires physician enrollment &amp; submission of Patient-Physician Agreement For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scriptions must be written by physician &amp; must include  PPL sticker on face of prescrip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ozapine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s patients with schizophre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cause serious drop in white bloo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nitoring must be done regular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es must register to dispense clozap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fic day supply may be dispen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1, 2, or 3 weeks depending on monitoring frequenc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y must receive documentation of blood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Key Term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60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erse rea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bulatory pharm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and-name dru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in pharma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nic pharma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ty pharm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payment (copa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en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Isotretinoin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s severe acne &amp; can cause serious birth def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Pledge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stration required b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o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ti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harmac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t meet specific requirements / answer questions with iPledge Program each time drug  dispen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uantity dispensed is limi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cription must be picked up within limited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Thalidomide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s multiple myeloma/erythema nodosum lepros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uses birth def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lidomide Education &amp; Prescribing Safety (S.T.E.P.S.)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cribers, patients, pharmacies must regis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y must verify that the prescriber is registered with S.T.E.P.S. before dispensing med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Dofetilide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s irregular heart rhyth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cause serious com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ients must be hospitalized to initiate thera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kosyn in Pharmacy System (T.I.P.S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cribers &amp; pharmacists must regis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y must verify the prescriber’s regist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Medication Guid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DA designates drugs requiring Medicatio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u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 information approved by F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rpo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void serious adverse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m patient of known serious side eff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directions for u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mote adherence to treat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ailable for specific drugs/classes of drugs such 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Non-steroidal anti-infl ammatory drug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NSAID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tidepressa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ird-Party Payer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rty payer = someone other than patient p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be insurance company, federal or state government agency, employe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rty claim sent electronically as Rx information entered into pharmacy computer=adjud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ird-Party Paymen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claim is accep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yer has agreed to pay clai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ropriate copayment for  claim will be no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pay is amount of patient is responsible for pay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pays vary among plans and could be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centage of the total cost of the prescription 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lat dollar amount per prescription 0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ee-tier copay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0" lang="en-US" sz="5000" spc="-1" strike="noStrike" baseline="30000">
                <a:solidFill>
                  <a:srgbClr val="1f497d"/>
                </a:solidFill>
                <a:latin typeface="Calibri"/>
              </a:rPr>
              <a:t>rd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 Party Pla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tiered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 copay for generic dru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copay for “preferred” brand name dru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4f81bd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ill higher copay for “non-preferred” brand name  dru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ula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st of drugs/tiers tha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arty payer will cov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PBMs=Pharmacy Benefit Manager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for multiple third-party pay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ss trans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establish &amp; enforce their formula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Rejections from PBM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there is a problem with clai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y receives rejected claim messag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lving third-party rejections is time-consum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 rejectio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sing/invalid patient ID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fill too s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 limitations exceed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or authorization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Resolving 3</a:t>
            </a:r>
            <a:r>
              <a:rPr b="0" lang="en-US" sz="5000" spc="-1" strike="noStrike" baseline="30000">
                <a:solidFill>
                  <a:srgbClr val="1f497d"/>
                </a:solidFill>
                <a:latin typeface="Calibri"/>
              </a:rPr>
              <a:t>rd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 Party Rejectio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be resolved by simply verifying inform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require phone call to third-party payer or  PB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information in Chapter 2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Key Term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ug inter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ula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 Insurance Portability and Accountability Act (HIPA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pendent pharm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d care pharm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l-order pharm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cation gu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Prescription Filling &amp; Labeling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 correct drug product &amp; contai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ru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o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osage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ckage in prescription container before labe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Manufacturer’s Container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ufacturers packages available in commonly dispensed quantities (e.g., 30,60, or 9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pical preparations, inhalers, nasal spray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y prescription label to manufacturer’s pack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iration date, lot number, storage requirements should not be covered by lab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Safety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great care &amp; accu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takes present possible dangers to pat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completing filling &amp; labeling process re-che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ru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o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ct dosage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National Drug Code (NDC) as a double che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Technology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nting devices m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scale to count units based on their w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light beams to count units as they are pou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lk quantities in “cells” to dispense required number of units into v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ices may place label on v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fill, clean, &amp; maintain equi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ompounding Prescription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 of special formulatio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ple mixtures of liquids or cre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icated mixtures –preparing liquid form of tablet or capsu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may prepare compounded formulations under a pharmacist’s supervision in some st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ipe book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gred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ions for prep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age requir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Log of Compound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d in many st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gs doc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 was involved in the preparation /verif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gredient nam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gredient quant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t nu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iration 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information in Chapter 15: Nonsterile Compounding and Repacka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ollecting Paymen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int-of-sale (POS) trans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ecking out patients /collecting pay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 important aspec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erify patient’s name &amp;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identifying information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gal requirements must be met regarding patient counsel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vide privacy policy in compliance with HIPAA regula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llect patient signature for these reason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55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quired by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IPA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476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some states to document refusal of patient counsel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476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y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-party payers to prove receipt of prescrip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Miscellaneous Responsibilit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ing inven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ing pharmacy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ing patients locate OTC dru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estions that require clinical knowledge or judgment must be referred to a pharmaci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eudoephedrine  s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deral and state laws regulate quantity of OTC medications containing pseudoephedri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chnicians are allowed to process transactions under these guideli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Practice Trend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ease state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 screen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muniz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etary supp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alty compou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Disease State Managemen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Clinical management of medication therapie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ists collaborate with prescrib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adjustments or changes to medic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pertens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yperlipidemi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thma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ticoagulant therap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Key Term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tional Drug Code (NDC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-the counter (OTC) dru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ient counse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cription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imbursement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-party pa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Health Screening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pressure measur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glucose lev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lesterol pan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ne density sc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may assist pharmac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Immunizations in Pharmacie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nclud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luenza vacc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ing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vel vacci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sts need special trai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may assist with immuniz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ster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der, store &amp; prepare vaccine do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ep required reco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Dietary Supplement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ements loosely regul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d in health food stores &amp; other non-pharmacy outl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sts have unique opportunity to prov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med recommend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t warn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may help patients locate specific produc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Specialty Compounding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ounding pharmacies mak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psules, suppositories, transdermal gels, topical  prep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unding supply companies pro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quipm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lk chemic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mulations and stability informa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nicians assist in compounding under pharmacist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History of Pharmacy Practice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ty pharmacies-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harmac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bulatory care pharmaci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walk-in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ved from community pharma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located in close proximity to clinics, hospitals, or medical cen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prescription services  &amp; limited number of OTC medic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History of Pharmacy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eutical remedies were lim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s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ed, or compounded reme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d natural sources &amp; raw chemic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regulations on dru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armacists compounded remed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tient’s evaluation &amp; diagnos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tient’s symptoms or reques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Key Legislation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38-Food, Drug, and Cosmetics Act (FD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quired pre-market approval for new drugs (safe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hibited false therapeutic claims for dru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cription–only”  drug designation per manufactu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51-Durham-Humphrey Amendment to FD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cription–only”  drug designation based on safety &amp; potential for addi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categories of drugs were establish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egend dru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524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ver-the-counter (OTC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1950’s-1980’s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’s Focus on pharmacist dispen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mation about prescriptions limited to doctor-patient relation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appropriate for pharmacist to discuss drug therapy with pat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0’s-70’s  Drug interactions /adverse re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drugs on marke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armacies began maintaining patient profi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0’s Pharmaceutical care was gaining wider acceptan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2:59:28Z</dcterms:created>
  <dc:creator>an MCPS user</dc:creator>
  <dc:description/>
  <dc:language>en-US</dc:language>
  <cp:lastModifiedBy>an MCPS user</cp:lastModifiedBy>
  <dcterms:modified xsi:type="dcterms:W3CDTF">2011-02-14T00:09:48Z</dcterms:modified>
  <cp:revision>58</cp:revision>
  <dc:subject/>
  <dc:title>Introduction to Pharmacy Practice</dc:title>
</cp:coreProperties>
</file>