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0BB-DBBD-4254-A575-76A04DED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F5A-5A14-42C4-AAB7-6333BD27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4C5-6A95-4DA5-9443-A0DB40E9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005-48B3-4190-9E40-EFA46B60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6741-F8F2-400D-92D5-531BD04E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5EC2-4DA7-4FE6-8A3F-4E5BFF84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4850-9470-47E5-8C17-E3A1351C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C814-87D4-40BF-9884-FFED4ACA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1EFE-C573-42E9-AD92-FA90BD17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9CC9-85E3-4E6F-AF28-8E8A3F3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1C2-0507-4D2E-A660-94F32A8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6A6-AF5D-4908-BAEA-E5319359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150F-8579-485E-B1F6-6A1D0F82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7DE1-43E4-46E1-9090-21611D61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F871-E96F-4A1F-BF9E-9F9CC7C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1436-60F2-41E2-999C-AF167A57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3233-AB6F-4E35-9A8C-F7DDAF2A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DBA-0DB2-4D48-9A78-6E01ECBD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D05-2131-4CC0-A09C-826CD865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F8A-BA4B-4122-AB03-F77FF92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7CE-6262-46B9-9FA6-99A60A8F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39D-56FA-4FCD-93A1-1CDAFEB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C09-2A38-4692-AA04-2C8F9D2D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4B9-2CAC-4B3F-ADB3-F14950F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BE81-D21E-4812-AD7C-45B0F3BA13C7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026-DCFD-48ED-8C2F-605129A0C6CE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Low Voltage Haza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Constantia"/>
              </a:rPr>
              <a:t>Low voltage = Higher than 50V ac, 120Vd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Constantia"/>
              </a:rPr>
              <a:t>                              </a:t>
            </a:r>
            <a:r>
              <a:rPr b="0" lang="en-AU" sz="2600" spc="-1" strike="noStrike">
                <a:solidFill>
                  <a:srgbClr val="ff0000"/>
                </a:solidFill>
                <a:latin typeface="Constantia"/>
              </a:rPr>
              <a:t>Lower than High Volt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c000"/>
                </a:solidFill>
                <a:latin typeface="Constantia"/>
              </a:rPr>
              <a:t>Voltage hazards can be reduced by proper system grou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Step voltage, Touch voltage, Mesh voltage, Transferred volt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0b050"/>
                </a:solidFill>
                <a:latin typeface="Calibri"/>
              </a:rPr>
              <a:t>ENGINEER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70c0"/>
                </a:solidFill>
                <a:latin typeface="Constantia"/>
              </a:rPr>
              <a:t>Proper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70c0"/>
                </a:solidFill>
                <a:latin typeface="Constantia"/>
              </a:rPr>
              <a:t>Physical setting of devic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70c0"/>
                </a:solidFill>
                <a:latin typeface="Constantia"/>
              </a:rPr>
              <a:t>To certain that the equipment is capable of performing when called upo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500" spc="-1" strike="noStrike">
                <a:solidFill>
                  <a:srgbClr val="ff0000"/>
                </a:solidFill>
                <a:latin typeface="Calibri"/>
              </a:rPr>
              <a:t>HUMAN FACTORS IN ELECTRICAL SAFE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b050"/>
                </a:solidFill>
                <a:latin typeface="Constantia"/>
              </a:rPr>
              <a:t>Sense physical stimuli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b050"/>
                </a:solidFill>
                <a:latin typeface="Constantia"/>
              </a:rPr>
              <a:t>Perceive and process inform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b050"/>
                </a:solidFill>
                <a:latin typeface="Constantia"/>
              </a:rPr>
              <a:t>Ac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ff0000"/>
                </a:solidFill>
                <a:latin typeface="Calibri"/>
              </a:rPr>
              <a:t>SLOW REA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Sleep depri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Fatig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Time of del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Environmental extr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Drug u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Medical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b050"/>
                </a:solidFill>
                <a:latin typeface="Calibri"/>
              </a:rPr>
              <a:t>The nature of haza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Constantia"/>
              </a:rPr>
              <a:t>The relationship of frequency to hazard---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b050"/>
                </a:solidFill>
                <a:latin typeface="Constantia"/>
              </a:rPr>
              <a:t>Up to 100 HZ--- Similar effect for AC &amp; DC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b0f0"/>
                </a:solidFill>
                <a:latin typeface="Constantia"/>
              </a:rPr>
              <a:t>Above 100 KHZ------- 10 to 100 mA Thresho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0000"/>
                </a:solidFill>
                <a:latin typeface="Calibri"/>
              </a:rPr>
              <a:t>Capacitor dischar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86000"/>
            <a:ext cx="79200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1 micro Farad, 10 KV—Ventricular fibrill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Specific hazard of electronics equip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Electric shock from 120 to 240, 480V supp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Radio frequenc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Induced volt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Non ionizing RF radiation hazar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Electrical Hazar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Chemical Hazar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7030a0"/>
                </a:solidFill>
                <a:latin typeface="Constantia"/>
              </a:rPr>
              <a:t>Explosion Hazar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500" spc="-1" strike="noStrike">
                <a:solidFill>
                  <a:srgbClr val="ffc000"/>
                </a:solidFill>
                <a:latin typeface="Calibri"/>
              </a:rPr>
              <a:t>Medium and high voltage safe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Constantia"/>
              </a:rPr>
              <a:t>Open circuit in secondary of current transformers causes high volt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Constantia"/>
              </a:rPr>
              <a:t>System grounding --- The connection of one of the conductors to ear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 u="sng">
                <a:solidFill>
                  <a:srgbClr val="00b050"/>
                </a:solidFill>
                <a:uFillTx/>
                <a:latin typeface="Constantia"/>
              </a:rPr>
              <a:t>Reduce the risk to electrocution--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Protective equipments must be us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Hard hat, Eye protection, Electric  arc protection, Rubber glove, Rubber insulated equipments, Voltage testing equip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0b050"/>
                </a:solidFill>
                <a:latin typeface="Calibri"/>
              </a:rPr>
              <a:t>SAFETY PROCED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Approach distance must be regar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Qualified person to perform the ta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Complete risk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Review and approve the plan and 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Documentation &amp; approval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Working by minimizing the ri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PPE– Personal Protection Equipments must be us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500" spc="-1" strike="noStrike">
                <a:solidFill>
                  <a:srgbClr val="7030a0"/>
                </a:solidFill>
                <a:latin typeface="Calibri"/>
              </a:rPr>
              <a:t>SAFETY PROCEDURES &amp; METHOD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Think , be a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Understand your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Follow your proced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Use appropriate safety equip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Ask if you are unsure. Do not ass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Do not answer, if you do not really kno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500" spc="-1" strike="noStrike">
                <a:solidFill>
                  <a:srgbClr val="00b050"/>
                </a:solidFill>
                <a:latin typeface="Calibri"/>
              </a:rPr>
              <a:t>The steps required before de-energiz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All energy control devices feeding the area must be open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Lock and tags placed on energy contro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Voltage measur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Safety grou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Qualified inspector inspects the work ar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Test the instru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Measure the equipments being verifi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70c0"/>
                </a:solidFill>
                <a:latin typeface="Constantia"/>
              </a:rPr>
              <a:t>Re-test the instru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0b050"/>
                </a:solidFill>
                <a:latin typeface="Calibri"/>
              </a:rPr>
              <a:t>ONE MINUTE SAFETY AUD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Notify the responsible persons of your presence in ar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Listen to any abnormal sou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Sniff for unusual odou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Locate all fire emergency ex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Locate all fire alarms and teleph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Inspect all transformer insulation liquid levels, temperature and pres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Locate station one line dia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70c0"/>
                </a:solidFill>
                <a:latin typeface="Constantia"/>
              </a:rPr>
              <a:t>Make certain room is neat and ti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0b050"/>
                </a:solidFill>
                <a:latin typeface="Calibri"/>
              </a:rPr>
              <a:t>ONE MINUTE SAFETY AUD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Be certain that  all required equipments  are readily  available  and easily reach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Check to see that all protective relays and other operational flags are properly res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 u="sng">
                <a:solidFill>
                  <a:srgbClr val="00b050"/>
                </a:solidFill>
                <a:uFillTx/>
                <a:latin typeface="Constantia"/>
              </a:rPr>
              <a:t>ELECTRICAL INSTALLATION SAFE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Proper des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Se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Instal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0000"/>
                </a:solidFill>
                <a:latin typeface="Constantia"/>
              </a:rPr>
              <a:t>Calib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3:26:00Z</dcterms:created>
  <dc:creator>ukyawnaing</dc:creator>
  <dc:description/>
  <dc:language>en-US</dc:language>
  <cp:lastModifiedBy>ukyawnaing</cp:lastModifiedBy>
  <dcterms:modified xsi:type="dcterms:W3CDTF">2012-08-15T04:27:55Z</dcterms:modified>
  <cp:revision>22</cp:revision>
  <dc:subject/>
  <dc:title>Slide 1</dc:title>
</cp:coreProperties>
</file>