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D02E-99FA-4E97-B986-343D2F90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030B-5D78-4BD0-BB04-EDEFDFFB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DF15-1017-434B-BDA0-D48D895CB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0A2C-8239-4815-B9A2-B65C6011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8288-B77F-4A59-8599-D61B5868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3D5A-6EDA-4D6B-AA92-CA04BDA9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7466-09CE-4C2D-944F-3FF8CE4E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C491-740A-4723-AD50-3A274627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A04A-FB9E-49F3-BAE0-040B45A9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570A-09F2-4A96-BF80-5D47B9B2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AEC0-1CA0-4A73-9A21-80812AE5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8607-5E8C-4271-BC34-BD49AB11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AB4D-C493-4B88-8FC6-737256ABC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rning, Perception, and At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ce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ce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als with the various ways in which people interpret things in the outside world and how they act on the basis of these perce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4130640"/>
            <a:ext cx="73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 phenomena is interpreted in terms of how we perceive it, rather than what it really 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4572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tors to Perceptual Distor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71800" y="1523880"/>
            <a:ext cx="335268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otionally Charged Stim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3124080"/>
            <a:ext cx="1981440" cy="2210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cept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o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3124080"/>
            <a:ext cx="1981440" cy="2210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son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3657600"/>
            <a:ext cx="2895480" cy="2971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Mental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n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ereoty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lo 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lective Per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676520" y="2286000"/>
            <a:ext cx="121896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24480" y="213372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095880" y="5181480"/>
            <a:ext cx="60984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4876920"/>
            <a:ext cx="76176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014560" y="406440"/>
            <a:ext cx="5092560" cy="1158840"/>
          </a:xfrm>
          <a:prstGeom prst="plus">
            <a:avLst>
              <a:gd name="adj" fmla="val 25000"/>
            </a:avLst>
          </a:prstGeom>
          <a:solidFill>
            <a:srgbClr val="ffff00"/>
          </a:solidFill>
          <a:ln w="5076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00"/>
                </a:solidFill>
                <a:latin typeface="Times New Roman"/>
              </a:rPr>
              <a:t>External Factors in</a:t>
            </a:r>
            <a:br>
              <a:rPr sz="3200"/>
            </a:br>
            <a:r>
              <a:rPr b="1" lang="en-US" sz="3200" spc="-1" strike="noStrike">
                <a:solidFill>
                  <a:srgbClr val="e40000"/>
                </a:solidFill>
                <a:latin typeface="Times New Roman"/>
              </a:rPr>
              <a:t>Selective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79400" y="1889280"/>
            <a:ext cx="5775480" cy="4435200"/>
          </a:xfrm>
          <a:prstGeom prst="ellipse">
            <a:avLst/>
          </a:prstGeom>
          <a:solidFill>
            <a:srgbClr val="cfffc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66960" y="3382920"/>
            <a:ext cx="1812960" cy="14479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00"/>
                </a:solidFill>
                <a:latin typeface="Times New Roman"/>
              </a:rPr>
              <a:t>Selective</a:t>
            </a:r>
            <a:br>
              <a:rPr sz="2400"/>
            </a:br>
            <a:r>
              <a:rPr b="1" lang="en-US" sz="2400" spc="-1" strike="noStrike">
                <a:solidFill>
                  <a:srgbClr val="e40000"/>
                </a:solidFill>
                <a:latin typeface="Times New Roman"/>
              </a:rPr>
              <a:t>Scre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876920" y="1950840"/>
            <a:ext cx="380880" cy="1477800"/>
          </a:xfrm>
          <a:prstGeom prst="line">
            <a:avLst/>
          </a:prstGeom>
          <a:ln w="255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74920" y="2117880"/>
            <a:ext cx="824040" cy="13554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257800" y="2787120"/>
            <a:ext cx="1619280" cy="822600"/>
          </a:xfrm>
          <a:prstGeom prst="line">
            <a:avLst/>
          </a:prstGeom>
          <a:ln w="255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692000" y="4130640"/>
            <a:ext cx="1965240" cy="243000"/>
          </a:xfrm>
          <a:prstGeom prst="line">
            <a:avLst/>
          </a:prstGeom>
          <a:ln w="255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839760" y="4738680"/>
            <a:ext cx="260280" cy="1509840"/>
          </a:xfrm>
          <a:prstGeom prst="line">
            <a:avLst/>
          </a:prstGeom>
          <a:ln w="255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18280" y="4540320"/>
            <a:ext cx="1538280" cy="931680"/>
          </a:xfrm>
          <a:prstGeom prst="line">
            <a:avLst/>
          </a:prstGeom>
          <a:ln w="255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47240" y="201456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52680" y="228924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nt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883480" y="344016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ntr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10800" y="49482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17800" y="4513320"/>
            <a:ext cx="18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epeti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1706040" y="4387680"/>
            <a:ext cx="16200" cy="106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170160" y="2117880"/>
            <a:ext cx="136440" cy="475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97320" y="1951200"/>
            <a:ext cx="60480" cy="140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11920" y="2712960"/>
            <a:ext cx="61920" cy="90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842160" y="5394240"/>
            <a:ext cx="92160" cy="61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3809520" y="6262560"/>
            <a:ext cx="120600" cy="158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30320" y="3070080"/>
            <a:ext cx="182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velty and familiar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: PowerPoint 3.4</a:t>
            </a:r>
          </a:p>
        </p:txBody>
      </p:sp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679400" y="1889280"/>
            <a:ext cx="5775480" cy="4435200"/>
          </a:xfrm>
          <a:prstGeom prst="ellipse">
            <a:avLst/>
          </a:prstGeom>
          <a:solidFill>
            <a:srgbClr val="e7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66960" y="3382920"/>
            <a:ext cx="1812960" cy="1447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lectiv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cre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440320" y="3381120"/>
            <a:ext cx="1863720" cy="5014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51280" y="23050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ers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7040" y="389736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4191120"/>
            <a:ext cx="18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otiv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76320" y="500040"/>
            <a:ext cx="5394600" cy="1082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0"/>
                </a:solidFill>
                <a:latin typeface="Times New Roman"/>
              </a:rPr>
              <a:t>Internal Factors in</a:t>
            </a:r>
            <a:br>
              <a:rPr sz="3200"/>
            </a:br>
            <a:r>
              <a:rPr b="1" lang="en-US" sz="3200" spc="-1" strike="noStrike">
                <a:solidFill>
                  <a:srgbClr val="0000f0"/>
                </a:solidFill>
                <a:latin typeface="Times New Roman"/>
              </a:rPr>
              <a:t>Selective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572000" y="4846680"/>
            <a:ext cx="14400" cy="147780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11320" y="3048120"/>
            <a:ext cx="1768680" cy="745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33920" y="4243320"/>
            <a:ext cx="185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buClr>
                <a:srgbClr val="000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0"/>
                </a:solidFill>
                <a:latin typeface="Times New Roman"/>
              </a:rPr>
              <a:t>Perceptual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965240" y="3063960"/>
            <a:ext cx="60480" cy="921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571640" y="6324480"/>
            <a:ext cx="106200" cy="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69120" y="3306600"/>
            <a:ext cx="30240" cy="460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: PowerPoint 3.5</a:t>
            </a:r>
          </a:p>
        </p:txBody>
      </p:sp>
    </p:spTree>
  </p:cSld>
  <p:transition spd="slow">
    <p:cover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haracteristics of the stimulu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ptual problems are most likely encountered when the stimulus or cue to be perceived affects the emotional status of the perceiver. The perception of a stimulus or event depends on the emotions, needs, attitudes, and motives of a per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ental processes of peop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neral purpose of these perceptual shortcuts is usually to make the reality less painful or disturbing. As such, these mental processes are types of defensive behavi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ental processes of peop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n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We block out the existence of painful sensory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ereotyp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We lessen discomfort when we encounter a person who does not fit a stereotype by looking for behavior that conforms to the stereo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alo eff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People may color everything that they know about a person because of one recognizable favorable or unfavorable characterist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j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We project out own faults on to others instead of making an objective appraisal of the situ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lective perce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People use this mechanism when they draw an unjustified conclusion from an unclear situation. (They perceive what they want to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tribution Theory and Bl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common attribution errors are (a)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ndamental attribution err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(b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lf-serving b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undamental attribution erro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is the tendency to attribute behavior to internal causes when focusing on someone else’s behavi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elf-serving bia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is the general tendency to attribute one’s achievements to good inner qualities, while attributing failure to adverse factors within the enviro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attribute causes based on three dimensions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sens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id others do it?)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sistenc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table performance?);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inctive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unusual for the person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tribution Theory and Blame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attribute behavior to external causes when they perceive high consensus, low consistency, and high distinctive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attribute behavior to internal causes when they perceive low consensus, high consistency, and low distinctive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me is natural when harmful events take place, but can block problem solv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601640" y="442800"/>
            <a:ext cx="6108840" cy="1096920"/>
          </a:xfrm>
          <a:prstGeom prst="octagon">
            <a:avLst>
              <a:gd name="adj" fmla="val 29287"/>
            </a:avLst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ttributions of Internal and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xternal Causes of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12680" y="1886040"/>
            <a:ext cx="2955960" cy="1251000"/>
          </a:xfrm>
          <a:prstGeom prst="rect">
            <a:avLst/>
          </a:prstGeom>
          <a:solidFill>
            <a:srgbClr val="ad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4"/>
                </a:solidFill>
                <a:latin typeface="Times New Roman"/>
              </a:rPr>
              <a:t>Consistency i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4"/>
                </a:solidFill>
                <a:latin typeface="Times New Roman"/>
              </a:rPr>
              <a:t>Distinctiveness i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4"/>
                </a:solidFill>
                <a:latin typeface="Times New Roman"/>
              </a:rPr>
              <a:t>Consensus i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12680" y="3454560"/>
            <a:ext cx="2955960" cy="1250640"/>
          </a:xfrm>
          <a:prstGeom prst="rect">
            <a:avLst/>
          </a:prstGeom>
          <a:solidFill>
            <a:srgbClr val="ffcb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4"/>
                </a:solidFill>
                <a:latin typeface="Times New Roman"/>
              </a:rPr>
              <a:t>Consistency i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4"/>
                </a:solidFill>
                <a:latin typeface="Times New Roman"/>
              </a:rPr>
              <a:t>Distinctiveness is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4"/>
                </a:solidFill>
                <a:latin typeface="Times New Roman"/>
              </a:rPr>
              <a:t>Consensus is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12680" y="5032440"/>
            <a:ext cx="2955960" cy="1251000"/>
          </a:xfrm>
          <a:prstGeom prst="rect">
            <a:avLst/>
          </a:prstGeom>
          <a:solidFill>
            <a:srgbClr val="ffc0a1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4"/>
                </a:solidFill>
                <a:latin typeface="Times New Roman"/>
              </a:rPr>
              <a:t>Consistency is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35640" y="1886040"/>
            <a:ext cx="2955960" cy="1251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4"/>
                </a:solidFill>
                <a:latin typeface="Times New Roman"/>
              </a:rPr>
              <a:t>Attribution of</a:t>
            </a:r>
            <a:br>
              <a:rPr sz="2400"/>
            </a:br>
            <a:r>
              <a:rPr b="0" lang="en-US" sz="2400" spc="-1" strike="noStrike">
                <a:solidFill>
                  <a:srgbClr val="0000f4"/>
                </a:solidFill>
                <a:latin typeface="Times New Roman"/>
              </a:rPr>
              <a:t>external 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35640" y="3454560"/>
            <a:ext cx="2955960" cy="1250640"/>
          </a:xfrm>
          <a:prstGeom prst="rect">
            <a:avLst/>
          </a:prstGeom>
          <a:solidFill>
            <a:srgbClr val="85ffe8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4"/>
                </a:solidFill>
                <a:latin typeface="Times New Roman"/>
              </a:rPr>
              <a:t>Attribution of </a:t>
            </a:r>
            <a:br>
              <a:rPr sz="2400"/>
            </a:br>
            <a:r>
              <a:rPr b="0" lang="en-US" sz="2400" spc="-1" strike="noStrike">
                <a:solidFill>
                  <a:srgbClr val="0000f4"/>
                </a:solidFill>
                <a:latin typeface="Times New Roman"/>
              </a:rPr>
              <a:t>internal 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35640" y="5032440"/>
            <a:ext cx="2955960" cy="1251000"/>
          </a:xfrm>
          <a:prstGeom prst="rect">
            <a:avLst/>
          </a:prstGeom>
          <a:solidFill>
            <a:srgbClr val="cfffc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4"/>
                </a:solidFill>
                <a:latin typeface="Times New Roman"/>
              </a:rPr>
              <a:t>Attribution of either</a:t>
            </a:r>
            <a:br>
              <a:rPr sz="2400"/>
            </a:br>
            <a:r>
              <a:rPr b="0" lang="en-US" sz="2400" spc="-1" strike="noStrike">
                <a:solidFill>
                  <a:srgbClr val="0000f4"/>
                </a:solidFill>
                <a:latin typeface="Times New Roman"/>
              </a:rPr>
              <a:t>external or internal</a:t>
            </a:r>
            <a:br>
              <a:rPr sz="2400"/>
            </a:br>
            <a:r>
              <a:rPr b="0" lang="en-US" sz="2400" spc="-1" strike="noStrike">
                <a:solidFill>
                  <a:srgbClr val="0000f4"/>
                </a:solidFill>
                <a:latin typeface="Times New Roman"/>
              </a:rPr>
              <a:t>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06800" y="2514600"/>
            <a:ext cx="1403280" cy="0"/>
          </a:xfrm>
          <a:prstGeom prst="line">
            <a:avLst/>
          </a:prstGeom>
          <a:ln w="6048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16520" y="4079880"/>
            <a:ext cx="1403280" cy="0"/>
          </a:xfrm>
          <a:prstGeom prst="line">
            <a:avLst/>
          </a:prstGeom>
          <a:ln w="6048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06800" y="5654520"/>
            <a:ext cx="1403280" cy="0"/>
          </a:xfrm>
          <a:prstGeom prst="line">
            <a:avLst/>
          </a:prstGeom>
          <a:ln w="6048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: PowerPoint 3.10</a:t>
            </a:r>
          </a:p>
        </p:txBody>
      </p:sp>
    </p:spTree>
  </p:cSld>
  <p:transition spd="slow">
    <p:split dir="out" orient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6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6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6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6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6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6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6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6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6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6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6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6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WO KEY LEARNING PROCESSES AND E-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r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relatively permanent change in behavior based on practice or experience. Unless learning takes place, few employees would be able to perform their jobs satisfactor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Key Learning Processes and e-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205740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ing and Sha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de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ccurs through imitating some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hap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ccurs through rewarding small st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gnitive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s that learning is complicated including motivation and hun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. Informal learning—organization does not determine or design the learn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gnitive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arner’s orientation influences the amount of cognitive learning.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stery ori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lates to a dedication to increasing one’s competence on a tas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ri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earners focus on how well they perform on a task and making comparisons with oth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Key Learning Process and e-Learning (continu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l learning includes practical,  intrapersonal, interpersonal skills, and cultural aware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Learning is a Web-based form of computer-based trai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Used widely when learners are geographically disper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Cognitive process of self-motivation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discipline are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rning Sty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learn best in different ways, such as through studying versus d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, Auditory, and Kinesthetic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learners learn best by see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tory learners rely on hea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esthetic learners learn best by touching and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learners combine the three styles to some deg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Sty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styles have also been divided into four orientations based on four stages of the learning cyc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rete experience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s and reflections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ion of abstractions and generalizations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eses to be tested, leading to new experiences. The four learning orientations stemming from the cycle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rning Styles and Im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rientation toward concrete experiences that emphasizes being involved in experiences and dealing with human interactions in a personal 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rientation toward reflective observation that emphasizes understanding mean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rientation toward abstract conceptualization that emphasizes applying logic, ideas, and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rientation toward testing implications of concepts in new situations that emphasizes actively influencing people and changing situ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vidual Differences Related to Skill Acqui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with high mental ability and the ability to concentrate learn b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ne study, air traffic controllers who acquired more skills, scored higher on (a) cognitive ability test, and (b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arm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actor—warm, outgoing, attentive to others, cooperative, generous, and trusting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0:52:13Z</dcterms:created>
  <dc:creator>WinXP</dc:creator>
  <dc:description/>
  <dc:language>en-US</dc:language>
  <cp:lastModifiedBy>WinXP</cp:lastModifiedBy>
  <dcterms:modified xsi:type="dcterms:W3CDTF">2007-02-11T10:00:17Z</dcterms:modified>
  <cp:revision>5</cp:revision>
  <dc:subject/>
  <dc:title>Slide 1</dc:title>
</cp:coreProperties>
</file>