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363-0C7A-445E-AD53-A80CF525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0C3-9CD5-4E61-A47E-9EA092BF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27F-1EB1-4AA9-BCC6-01A7E20F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B18-576D-4816-A533-B6AE0794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B8B0-3F7A-4227-A779-8237F02A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B530-85EE-4BDE-819D-F13AC705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546D-61CF-45DE-A996-5499B194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5CB0-1845-41E1-A36D-0F26C768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3F53-B650-4431-A03B-C63FF919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23E0-8021-4BFF-A802-F086AF4D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05AF-AB00-4784-94FE-F4FB89A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6BF-33D5-4DDA-9CBA-1CA4587F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B962-1797-419A-BEA7-846ABC13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1B41-E355-44EE-9FB3-F9778BB2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7CE8-3E5B-4F46-B1A1-794BBB1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5B90-7140-42F0-8EB4-C82168CA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3CA1-8FF4-471C-8BF3-F0C90C3B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942-684F-4CD6-97F9-7440F00A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F09-F3F7-49F3-B64B-46EDEE72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FE5-3686-4FD5-B0B2-2569F09E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B5B-A90F-4384-ABDC-B942649A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C19-24F5-4AFA-91AF-736B5B6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12B-D9EE-4A61-884D-7562650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7B1-C7F0-4A6C-9091-726EBEF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08EB-17DA-4BC1-A7A0-5D88CDF74A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3A69-983C-4BFB-AA12-216EEC87DA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ttitudes, Values, and Eth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rganizational Citizenship Behavior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broader consequence of job satisfaction is that it contributes to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ganizational citizenship behavior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the willingness to work for the good of the organization even without the promise of a specific rewar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rganizational Citizenship Behavior (OCB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es above and beyond call of du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tisfied workers may show OC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ers with service orientation and empathy may engage in OC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OCB  leads to low turnover, and sometimes work/family conflic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C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1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ve key components of organizational citizenship behavior ar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cientious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tru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ivic virt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rte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rtsmanship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ood organizational citizen engages i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extraro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ehavio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VALU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alu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fers to the importance a person attaches to something that serves as a guide to actio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by boomers more conservative and respectful of author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tion X and Generation Y more team-oriented and tech savv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values are learned through modeling and liste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ployee-employer value fit leads to high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employee-employer value fit can lead to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person-role conflic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THIC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thic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the moral choices a person makes, and what he or she should do. Ethics can also be regarded as the vehicle that converts values into actio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thical Decision Making Crite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tandard way of understanding ethical decision-making is to understand the philosophical basis for making these decis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cus on consequenc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cording to this criterion, if nobody gets hurt, the decision is ethical. Focusing on consequences is often referred to as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utilitari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thical Decision M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ocus on the rights of individuals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theories underlying this approach are referred to a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eontologi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rom the Greek work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de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or dut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undamental idea of deontology is that equal respect must be given all individua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thical Decision Mak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ocus on integrity (virtue ethics)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the person in question has good character, and genuine motivation and intentions, he or she is behaving ethical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ecision maker’s environment, or community, helps define what integrity me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thical Decision-Making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uide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Gather the fac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Define the ethical issues (e.g. lying, job discriminatio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ntify the affected part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ntify the conseque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 Identify the obliga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. Consider your character and integr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. Develop creative  potential ac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8. Check your intui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tudes and Emo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ttitud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ave three components: cognitive, affective, and behavior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ognitiv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onent refers to the knowledge or intellectual beliefs an individual might have about an object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feeling or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ffectiv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onent refers to the emotion connected with that object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behaviora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onent refers to how a person acts. All three components are interrelated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ople search for consistency among the components of an attitu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hancing Ethical and Socially Responsible Behavi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dership by exam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ten codes of ethical condu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l mechanisms for ethics probl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pting whistle blow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ining in ethics and social responsib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wareness of cross-cultural influe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1371600"/>
            <a:ext cx="7086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gnitive dissonanc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is the situation in which the pieces of knowledge, information, attitudes, or beliefs held by an individual are contradictor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eople search for ways to reduce internal conflicts when they experience a clash between the information they receive and their actions or attitu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o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A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emotion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is a feeling such as anger, fear, joy, or surprise that underlies behavio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Emotion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three components: internal arousal, expressive behavior, and a cognitive apprais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o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anaging Emo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anage emotion well, managers should create a friendly emotional climate by setting a positive example, including serving as a model of healthy emotional expression. Managers might also include a positive attitude as one factor in selecting individuals and tea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otional Lab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regulate feelings and expressions to meet organizational go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face acting is faked expressions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ep acting is controlling feeling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Emotional dissonanc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mismatch between felt and expressed emotion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emotional exhaustion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tudes and Job Satisfac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titudes are linked to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b satisfaction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e amount of pleasure or contentment associated with a job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ers will have high job satisfaction when they have positive attitudes toward such job factors as the work itself, recognition, and the opportunity for advancemen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Satisf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-half of (U.S.) workers have high job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nefits, pay, job security rank hig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n on the job leads to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job satisfaction correlates with organizational perform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organizational performance can lead to high job satisfac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equences of Job Satisfa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mong the consequences of high job satisfaction ar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gh productivity when the work involves people conta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yalty to the company (important because of employee reten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tronger tendency to achieve customer loyal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w absenteeism and turno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s job stress and burnou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tter safety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tter life satisf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0:04:01Z</dcterms:created>
  <dc:creator>WinXP</dc:creator>
  <dc:description/>
  <dc:language>en-US</dc:language>
  <cp:lastModifiedBy>WinXP</cp:lastModifiedBy>
  <dcterms:modified xsi:type="dcterms:W3CDTF">2009-02-01T09:25:23Z</dcterms:modified>
  <cp:revision>3</cp:revision>
  <dc:subject/>
  <dc:title>Slide 1</dc:title>
</cp:coreProperties>
</file>