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038480" y="6172200"/>
            <a:ext cx="1971720" cy="476280"/>
            <a:chOff x="4038480" y="6172200"/>
            <a:chExt cx="1971720" cy="47628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4038480" y="6172200"/>
              <a:ext cx="19717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4038480" y="6172200"/>
              <a:ext cx="1971720" cy="4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3352680" y="6172200"/>
            <a:ext cx="60984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09120" y="14475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e Nature and Scope of Organizational Behavior 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617760"/>
            <a:ext cx="80010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arpening and Refining Common S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behavior sharpens and enlarges the domain for common s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behavior knowledge also refines common sense by challenging you to reexamine generally accepted ideas that may be only partially true—such as inactivity reduces stress for every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pperplate Gothic Bold"/>
              </a:rPr>
              <a:t>A Brief History of OB</a:t>
            </a: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assical approach to management (scientific management and administrative management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awthorne studies (workers respond to attention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uman relations movement (treat workers well to boost productivity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pperplate Gothic Bold"/>
              </a:rPr>
              <a:t>A Brief History of OB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pperplate Gothic Bold"/>
              </a:rPr>
              <a:t>(continued)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 contingency approach (examine individual and situational differences before taking action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ositive organizational behavior (focus on measurable strengths of workers to improve performance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25280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343080"/>
                <a:tab algn="l" pos="571680"/>
                <a:tab algn="l" pos="68580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lassical approa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3080"/>
                <a:tab algn="l" pos="571680"/>
                <a:tab algn="l" pos="68580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43080"/>
                <a:tab algn="l" pos="571680"/>
                <a:tab algn="l" pos="68580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cus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ientific manag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the application of scientific methods to increase individual worker’s produ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43080"/>
                <a:tab algn="l" pos="571680"/>
                <a:tab algn="l" pos="68580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43080"/>
                <a:tab algn="l" pos="571680"/>
                <a:tab algn="l" pos="68580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the principles of scientific management, there is a division of work between managers and work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43080"/>
                <a:tab algn="l" pos="571680"/>
                <a:tab algn="l" pos="68580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43080"/>
                <a:tab algn="l" pos="571680"/>
                <a:tab algn="l" pos="68580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istrative manag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concerned primarily with how organizations should be managed and structu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43080"/>
                <a:tab algn="l" pos="571680"/>
                <a:tab algn="l" pos="68580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43080"/>
                <a:tab algn="l" pos="571680"/>
                <a:tab algn="l" pos="68580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e of management knowledge lies within the classical school, including the framework of planning, organizing, and controll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1132920"/>
            <a:ext cx="80010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awthorn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Hawthorne study examined the effects of lighting on productiv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cond study conducted in a relay assembly room examined the relationships among rest, fatigue, and productiv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jor conclusion from these studies was the workers reacted positively because management cared about them (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wthorne 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awthorne effect is the tendency of people to behave differently when they receive attention because they respond to the demands of the situ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awthorne studies also led to many other conclusions, such as the fact that effective communication with workers is critical to managerial succ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789840"/>
            <a:ext cx="746748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uman Relations Mov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relations move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based on the belief that an important link exists among managerial practices, morale, and productiv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points of the movement are that satisfied workers are more productive and that, given the proper working environment, virtually all workers would be highly product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rnerstone of the human relations movement is Theory X and Theory Y of Douglas McGreg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 X is the somewhat stern and pessimistic traditional assumptions about worker capabil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 Y is an alternative, and optimistic, set of assum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1619280"/>
            <a:ext cx="746748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tingency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gency approach to manag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phasizes there is no one best way to manage people or wo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ingency approach is derived from the study of leadership sty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ength of the contingency approach is that it encourages managers and professionals to examine individual and situational differences before deciding on a course of a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765720"/>
            <a:ext cx="79250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Organization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merging movement in organizational behavior is a focus on what is right with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ve organizational 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study and application of human resource strengths and psychological capacities that can be measured, developed, and managed for performance improv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organizational behavior focuses on developing human strengths, making people more resilient, and cultivating extraordinary individuals, work units, and organiz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</a:rPr>
              <a:t>Skill Development in OB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periential exercises (learn by doing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nceptual information and exampl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eedback on skills and performanc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nceptual knowledge and behavioral guidelin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requent practic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58104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RAMEWORK FOR STUDYING ORGANIZATION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e levels of study in organizational behavior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and interpersonal relations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system and the glob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leve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pperplate Gothic Bold"/>
              </a:rPr>
              <a:t>What is Organizational Behavior?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B is the study of 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human behavior in the workplace,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the 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interaction between people and the organization,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the organization itself.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he goals of OB are to explain, predict, and control behavior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</a:rPr>
              <a:t>Individual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dividual differenc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Learning, perception and attribu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ttitudes, values and ethic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reativ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otiv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</a:rPr>
              <a:t>Group and Interpersonal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mmunic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roup dynamic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am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Leadershi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ower, politics and influenc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nflict, stress and well-be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</a:rPr>
              <a:t>Organizational System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tructure and desig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ultur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hange and knowledge managemen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ultural divers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pperplate Gothic Bold"/>
              </a:rPr>
              <a:t>Research methods in OB</a:t>
            </a:r>
            <a:endParaRPr b="1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se study (subjective but provides loads of information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periment (the most scientific method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ield experiment (experimental method applied to live situation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eta-analysis (quantitative review of studies that is widely used today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626400"/>
            <a:ext cx="7467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sence of conducting an experiment is to make sure that the variable being modified (the independent variable) is influencing the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ependent variable influences the dependent variable (such as productivit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experiments attempt to apply the experimental method to real-life situ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-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quantitative or statistical review of the literature on a particular subject, and is also an examination of a range of studies for reaching a combined results or best estim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039680"/>
            <a:ext cx="7467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ollection and Research Methods in Organization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thods of data collec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ee frequently used methods of collecting data in organizational behavior are surveys, interviews, and direct observation of behavi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e of survey questionnaire used by an organizational behavior specialist is prepared rigorous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pperplate Gothic Bold"/>
              </a:rPr>
              <a:t>Why study OB?</a:t>
            </a:r>
            <a:endParaRPr b="1" lang="en-US" sz="4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velopment of soft (interpersonal) skill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ersonal growth via insight into other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hancement of individual and organizational effectivenes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harpening and refining common sense (common sense is often wrong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640800"/>
            <a:ext cx="769644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ITS OF STUDYING ORGANIZATION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al behavior relates to the process—rather than the content—of conducting managerial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ssential requirement for entering into, surviving, and succeeding in the modern workplace is to have appropriate ski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al behavior skills have gained in importance in the modern workpl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skills generally refer to interpersonal skills such as motivating others, communicating, and adapting to people of different cultures. Hard skills generally refer to technical sk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46448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Growth through Insight Into Huma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others leads to personal fulfillment, and can also lead to enhanced self-knowledge and self-insight. Insight is useful for such purposes as selecting people for jobs and assignments, communicating, and motiva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038600"/>
            <a:ext cx="708660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hancing Organizational and Individual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mportant goal of organizational behavior is to impro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al effectivenes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extent to which an organization is productive and satisfies the demands of its interested par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-oriented management practices enable workers to use their wisdom and to receive appropriate trai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571680"/>
                <a:tab algn="l" pos="800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person develops knowledge about subject such as improved interpersonal communication, conflict resolution, and teamwork, he or she will become more eff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3:58:22Z</dcterms:created>
  <dc:creator>Toshiba</dc:creator>
  <dc:description/>
  <dc:language>en-US</dc:language>
  <cp:lastModifiedBy>WinXP</cp:lastModifiedBy>
  <dcterms:modified xsi:type="dcterms:W3CDTF">2008-11-14T10:29:30Z</dcterms:modified>
  <cp:revision>5</cp:revision>
  <dc:subject/>
  <dc:title>Slide 1</dc:title>
</cp:coreProperties>
</file>