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D28D-D408-45EF-90C8-06CD6B413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BE55-42E1-48E5-9AAD-782CCC311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FFE3-483E-4BCF-B36F-3D7F0F788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AEFE-CD5D-47C1-A41B-E93387299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2348-F3AF-4FE6-8647-5BD5B58EA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7E33-E838-4685-A00A-86D1D6158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B274-8662-4F2D-9570-221BC53E0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2BBC-C26F-4FA6-91E0-DCFB3982A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CBAA-31C6-407B-8774-1737BE8AF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EA99-46E1-4EAF-AF1A-8B841E45B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964B-DB80-4BEF-A042-050FCA457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92FF-DF5E-48B0-9F51-967F3BE69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75960" y="63622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638E-22FB-4782-82AC-346DB85A6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160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 flipH="1" rot="5400000">
            <a:off x="-3368880" y="3368520"/>
            <a:ext cx="6858000" cy="1206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 flipH="1" rot="5400000">
            <a:off x="5670000" y="3368520"/>
            <a:ext cx="6858000" cy="1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6172200"/>
            <a:ext cx="129528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dividual Differences, Mental Ability, and Personalit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66680" y="921960"/>
            <a:ext cx="685800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Y, also called Millennials, differ from Gen X and baby boomers in many ways, but perhaps most significantly in their media savvy, their need for quick gratification and recognition, and their lack of long-term commitment to a particular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is is a generation that expects a lot from institutions. They expect learning opportunities, creative challenges and proof of their ability to add value," Bruce Tulgan, founder of Rainmaker Thinking, a New Haven, Connecticu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ttp://www.workforce.com/section/06/feature/24/64/42/246444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947520"/>
            <a:ext cx="731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nic, Racial, and Cultural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nic and racial differences in job performance and behavior are usually attributable to culture rather than ethnicity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e ethnic groups take long lunch breaks because of their culture, not the fact of being a particular n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diversity will often give an organization a competitive advantage - similarity to the work group positively influenced the individual’s perception of group productivity and commitment to the work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satisfaction tends to higher for employees when others of similar demographic characteristics are present in the work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ntal ability (Intelligence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telligence is capacity to acquire and apply knowledg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ponents of Intelligen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riarchic theory (analytical, creative, and practical intelligence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ltiple Intelligences (8 types or faculties)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345680"/>
            <a:ext cx="62485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theory of intelligence explains that intelligence consist of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general) f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pecial) 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ontribute to problem-solving 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 helps explain why some people perform so well in so many different mental tasks (the have the right stuf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pecial Facto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erbal comprehension – the ability to understand the meanings of word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ord fluency – the ability to use words quickly and easil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umerical – the ability to handle numbers, mathematical analys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pecial factor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patial – the ability to visualize forms in space, manipulate objects mentall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mory – The ability to recall for symbols, words, numbers etc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ceptual speed – the ability to perceive visual details, identify similarities and differenc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uctive reasoning – the ability to discover a rule or principle and apply it in problem solv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918720"/>
            <a:ext cx="678168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iarchic Theory of Intellig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e on Practic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ory holds that intelligence is composed of three different subtypes: analytical, creative, and practic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 intelligence incorporates the ideas of common sense, wisdom, and street smar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tical intelligence (also called fluid intelligence) may decline from early to late adulth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ability to solve problems of a practical nature (crystallized intelligence) is maintained or increased through late adulthood. So being older makes you wi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645120"/>
            <a:ext cx="6705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tellig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know and understand the world in distinctly different ways, or look at it through different len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ight intelligences or faculties are: linguistic, logical-mathematical, musical, spatial, body/kinesthetic, intra­personal, interpersonal, and natura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file of intelligences influences how an individual will best learn, and to which types of jobs he/she is best su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52680" y="2819520"/>
            <a:ext cx="281952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ponen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ltiple Intellig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8769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dil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inesthe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motor ski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049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ngu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049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gical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hema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523880"/>
            <a:ext cx="19810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tur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external wor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usical (s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re sen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3352680"/>
            <a:ext cx="19810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a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brain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124080"/>
            <a:ext cx="198108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pers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knows oth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876920"/>
            <a:ext cx="198144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rapers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knows 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sonality Differenc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ersonality characteristics contribute to success in many jobs, and many job failures are caused by personality problems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sonalit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refers to the persistent and enduring behavior patterns of an individual that are expressed in a wide variety of situations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904040"/>
            <a:ext cx="67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how substanti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 differ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variations in how they respond to the same situation based on personal character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648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is a function of person interacting with the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(P x 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dividual Differenc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sonality Difference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91800"/>
            <a:ext cx="4114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ve Factor Mod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ists of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urotic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ravers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nness to experien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greeablen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cientiousn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4760" y="1828440"/>
            <a:ext cx="38098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her Key Trait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elf-monitoring of       behavio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 Risk taking and thrill see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 Optimis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l eight traits can affect job performance and behavi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2120" y="1249200"/>
            <a:ext cx="8194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ht Major Personality Factors and 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ight factors a substantial impact on job behavior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oticism (reflects emotional instability versus emo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ness (well-developed intell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ableness (friendly and cooper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entiousness (dependability and thorough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monitoring of behavior (adjusting how we appear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taking and thrill seeking (craving constant excit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m (a tendency to experience positive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12240" y="262080"/>
            <a:ext cx="5895720" cy="946800"/>
          </a:xfrm>
          <a:prstGeom prst="rect">
            <a:avLst/>
          </a:prstGeom>
          <a:solidFill>
            <a:srgbClr val="8f00f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d7"/>
                </a:solidFill>
                <a:latin typeface="Times New Roman"/>
              </a:rPr>
              <a:t>The “Big Five” Personality Fac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d7"/>
                </a:solidFill>
                <a:latin typeface="Times New Roman"/>
              </a:rPr>
              <a:t>(Figure 2.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6240" y="1441440"/>
            <a:ext cx="8672400" cy="4938840"/>
          </a:xfrm>
          <a:prstGeom prst="rect">
            <a:avLst/>
          </a:prstGeom>
          <a:gradFill rotWithShape="0">
            <a:gsLst>
              <a:gs pos="0">
                <a:srgbClr val="ffffd7"/>
              </a:gs>
              <a:gs pos="100000">
                <a:srgbClr val="e3ffff"/>
              </a:gs>
            </a:gsLst>
            <a:lin ang="5400000"/>
          </a:gra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94004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90196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95928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8480" y="144288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motion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8480" y="240192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greeabl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8480" y="346248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xtra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4440" y="1960560"/>
            <a:ext cx="30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Stable, confident, effec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080" y="29210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Warm, tactful, conside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4360" y="195408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Nervous, self-doubting, mo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42680" y="2914560"/>
            <a:ext cx="27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Independent, cold, ru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0120" y="3984480"/>
            <a:ext cx="43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Gregarious, energetic, self-dramatiz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63160" y="39783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Shy, unassertive, withdra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97520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937120"/>
            <a:ext cx="8382240" cy="0"/>
          </a:xfrm>
          <a:prstGeom prst="line">
            <a:avLst/>
          </a:prstGeom>
          <a:ln w="25560">
            <a:solidFill>
              <a:srgbClr val="99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8480" y="447048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nscientious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8480" y="5435640"/>
            <a:ext cx="81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5520" y="499284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Careful, neat, depend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920" y="59612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Imaginative, curious, orig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59160" y="498636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Impulsive, careless, irrespon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48560" y="5954760"/>
            <a:ext cx="39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00f0"/>
                </a:solidFill>
                <a:latin typeface="Times New Roman"/>
              </a:rPr>
              <a:t>(Dull, unimaginative, literal-mi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 2: PowerPoint 2.3</a:t>
            </a: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motional Intelligenc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ow effectively people use their emotions has a major impact on their success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motional intelligence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fers to qualities such as understanding one’s feelings, empathy for others, and the regulation of emotion to enhance living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motional Intelligence (2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als with ability to connect with people and understand their emot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awaren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manag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cial awaren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onship manag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2010240"/>
            <a:ext cx="6781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motional intelligence is associated with the ability to cope with job setba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otional intelligence underscores the importance of being practical minded and having effective interpersonal skills to succeed in organizatio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motional Intelligence (3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2081160"/>
            <a:ext cx="65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 is therefore determined by the effects of the individual and the environment on each 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dividual Difference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ividual Differences (3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eptional managers capitalize on strengths of worker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dividual differences have many consequences including productivity and qualit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sequences (1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 consequences of individual differences that have a major impact on managing people are as follows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ople differ in productivit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lity of work varies because people vary in their propensity for achieving high-quality result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mpowerment is effective with some workers, but not with all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given leadership style does not work with all peopl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sequences (2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ople differ in their need for contact with other people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pany management will find that commitment to the firm varies considerably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orkers vary in their level of self-esteem that in turn influences their productivity and capacity to take on additional responsibility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mographic Diversit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fers to background factors that shape worker attitudes and behavior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x and gender difference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ation and age-based differences such as Baby Boomers, generation 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thnic, racial, and cultural differences (culture has biggest effect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981720"/>
            <a:ext cx="6858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and Gender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 suggests that there are few differences between men and women in such factors as ability and motivation that will affect their job performa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 differences in communication patterns have been noted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n typically communicate to convey information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tablish stat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men are more likely to communicate to establis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pport and solve probl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earcher has noted that men are more likely to value equity, whereas women opt for equa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verinflated claims of gender differences can do harm in the workplace, such denying people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46224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and Age-Base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y behave differently on the job based somewhat on the behaviors and attitudes of many members of their gen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ur generations currently in the workforc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ists (1925 – 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by boomers (1946 – 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X (1961 – 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Y (1981 – pres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generation is influenced by major economic, political, and social events of its era, such as the Great Depression, the women’s movement, and advances in informatio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0:06:39Z</dcterms:created>
  <dc:creator>WinXP</dc:creator>
  <dc:description/>
  <dc:language>en-US</dc:language>
  <cp:lastModifiedBy>WinXP</cp:lastModifiedBy>
  <dcterms:modified xsi:type="dcterms:W3CDTF">2009-01-15T15:08:54Z</dcterms:modified>
  <cp:revision>8</cp:revision>
  <dc:subject/>
  <dc:title>Slide 1</dc:title>
</cp:coreProperties>
</file>