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094413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7CBE-B4DB-4658-9282-69633F82C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F9A9-F955-4866-A5BE-4791BE51E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85AB-9823-4F45-AC28-3571FA359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DA69-7A47-442B-A813-1816B6D2C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35CB4-26A7-4B2C-8166-42B7616B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677E8-5141-416F-AF93-AB7BCC9C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03EE5-4AB7-4AB3-A28A-5393867D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2A34E-5F40-4CEA-BC46-5F181FED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01F9D-5CA9-4319-A81D-2D89C1E3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374F4-597B-4105-A145-E173A5EE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D864C-6F1F-4D47-900C-83318977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0205-10C4-46F1-A9CC-DB008C22C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F9160-A98F-40F8-8F8E-91369D89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B1EE9-B9E6-4E99-AF8D-5597BAE2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D19F4-F62A-439B-9CA1-5B2193B9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2D983-1F03-4177-9D00-86D97B2F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5ADB-1B35-416B-81F5-FD7487D8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DD55-65F3-4559-BF91-C8A4033C6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B6E4-8DBF-49CC-B30F-6DFFE22E3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AA1F-42F6-4777-AED5-72557A4CD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AFE3F-2706-432E-93A9-D6FC2606E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C29B-942E-4ACF-8213-B1840922B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22EA-4F88-47A7-BE54-DBE6256D4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A6EB-CDA1-4698-93BE-5F9F85BCF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476280" y="5554440"/>
            <a:ext cx="77025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vant Garde"/>
              </a:defRPr>
            </a:lvl1pPr>
          </a:lstStyle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These courseware materials are to be used in conjunction with </a:t>
            </a:r>
            <a:r>
              <a:rPr b="0" i="1" lang="en-US" sz="1000" spc="-1" strike="noStrike">
                <a:solidFill>
                  <a:srgbClr val="ffffff"/>
                </a:solidFill>
                <a:latin typeface="Avant Garde"/>
              </a:rPr>
              <a:t>Software Engineering: A Practitioner’s Approach,</a:t>
            </a: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 6/e and are provided with permission by R.S. Pressman &amp; Associates, Inc., copyright © 1996, 2001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238960" y="5554440"/>
            <a:ext cx="6321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D090-8958-4ED8-8D21-9B16C662E7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48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456840" y="555444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555588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2720" y="55591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9BAC-F3C8-45C5-A2B1-6F80350E12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sdm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0560" y="2270160"/>
            <a:ext cx="7848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9fa07"/>
                </a:solidFill>
                <a:latin typeface="Palatino"/>
              </a:rPr>
              <a:t>Software Engineering: A Practitioner’s Approach, 6/e</a:t>
            </a: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hapter 4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gile Development</a:t>
            </a:r>
            <a:br>
              <a:rPr sz="3600"/>
            </a:br>
            <a:br>
              <a:rPr sz="36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1996, 2001, 2005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.S. Pressman &amp; Associates, Inc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University Use Onl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y be reproduced ONLY for student use at the university level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en used in conjunction with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oftware Engineering: A Practitioner's Approach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y other reproduction or use is expressly prohibited.</a:t>
            </a:r>
            <a:br>
              <a:rPr sz="1400"/>
            </a:b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7D0E-BAD1-4446-B825-B4F8BAB0B1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680" y="355680"/>
            <a:ext cx="87649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ff07"/>
                </a:solidFill>
                <a:latin typeface="Palatino"/>
              </a:rPr>
              <a:t>Dynamic Systems Development Method</a:t>
            </a:r>
            <a:endParaRPr b="1" lang="en-US" sz="32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omoted by the DSDM Consortium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Palatino"/>
                <a:hlinkClick r:id="rId1"/>
              </a:rPr>
              <a:t>www.dsdm.org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SDM—distinguishing featur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milar in most respects to XP and/or AS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Nine guiding principl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Palatino"/>
              </a:rPr>
              <a:t>Active user involvement is imperative. 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Palatino"/>
              </a:rPr>
              <a:t>DSDM teams must be empowered to make decisions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Palatino"/>
              </a:rPr>
              <a:t>The focus is on frequent delivery of products. 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Palatino"/>
              </a:rPr>
              <a:t>Fitness for business purpose is the essential criterion for acceptance of deliverables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Palatino"/>
              </a:rPr>
              <a:t>Iterative and incremental development is necessary to converge on an accurate business solution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Palatino"/>
              </a:rPr>
              <a:t>All changes during development are reversible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Palatino"/>
              </a:rPr>
              <a:t>Requirements are baselined at a high level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Palatino"/>
              </a:rPr>
              <a:t>Testing is integrated throughout the life-cycle.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B7D1-3B0F-4E46-9FDC-0C3963DBF1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55680"/>
            <a:ext cx="91440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ff07"/>
                </a:solidFill>
                <a:latin typeface="Palatino"/>
              </a:rPr>
              <a:t>Dynamic Systems Development Method</a:t>
            </a:r>
            <a:endParaRPr b="1" lang="en-US" sz="32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1" name=""/>
          <p:cNvSpPr/>
          <p:nvPr/>
        </p:nvSpPr>
        <p:spPr>
          <a:xfrm>
            <a:off x="1211400" y="1003320"/>
            <a:ext cx="6700680" cy="4502160"/>
          </a:xfrm>
          <a:prstGeom prst="rect">
            <a:avLst/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39800" y="1255680"/>
            <a:ext cx="584208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16840" y="5176800"/>
            <a:ext cx="45212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DM Life Cycle (with permission of the DSDM consortiu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BF52-23CC-49D0-BE56-32CFFE163A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10080" y="244440"/>
            <a:ext cx="192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crum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riginally proposed by Schwaber and Beedl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crum—distinguishing featur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velopment work is partitioned into “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packet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Testing and documentation are on-going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as the product is construct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Work occurs in “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sprint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” and is derived from a “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backlog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” of existing requirement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Meetings are very short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and sometimes conducted without chair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demo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” are delivered to the customer with the time-box allocat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6A7C-9DDF-4B8D-8019-69F8C5A0F9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98920" y="0"/>
            <a:ext cx="192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crum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7" name=""/>
          <p:cNvSpPr/>
          <p:nvPr/>
        </p:nvSpPr>
        <p:spPr>
          <a:xfrm>
            <a:off x="1336680" y="928800"/>
            <a:ext cx="6192720" cy="4387680"/>
          </a:xfrm>
          <a:prstGeom prst="rect">
            <a:avLst/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38320" y="1168560"/>
            <a:ext cx="5067360" cy="375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C2ED-D56C-4FD0-AFB7-BA533DC755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2240" y="244440"/>
            <a:ext cx="2097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rystal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0800" y="1366920"/>
            <a:ext cx="767412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oposed by Cockburn and Highsmith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rystal—distinguishing featur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ctually a 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family of process model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that allow “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maneuverability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” based on problem characteristic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Face-to-face communication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is emphasiz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uggests the use of “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reflection workshop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” to review the work habits of the team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BD12-0CC0-4755-8417-7A83DEC95E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9920" y="355320"/>
            <a:ext cx="8180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Feature Driven Develop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440" y="1353600"/>
            <a:ext cx="8229600" cy="39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riginally proposed by Peter Coad et a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DD—distinguishing featur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mphasis is on defining 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“features”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a</a:t>
            </a: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 </a:t>
            </a: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feature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“is a client-valued function that can be implemented in two weeks or less.”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Uses a 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feature templat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fa07"/>
                </a:solidFill>
                <a:latin typeface="Palatino"/>
              </a:rPr>
              <a:t>&lt;action&gt; the &lt;result&gt; &lt;by | for | of | to&gt; a(n) &lt;object&gt;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 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features list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is created and “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plan by feature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” is conduct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sign and construction merge in FD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57CF-53CE-40B5-AAC3-179894A64A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3680" y="244440"/>
            <a:ext cx="82166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Feature Driven Develop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63600" y="1371600"/>
            <a:ext cx="6566040" cy="2946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99880" y="4492800"/>
            <a:ext cx="3850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</a:rPr>
              <a:t>Reprinted with permission of Peter Co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0027-7B40-431B-9B67-AFD669A810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7920" y="244440"/>
            <a:ext cx="446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gile Model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1440" y="1343160"/>
            <a:ext cx="73440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riginally proposed by Scott Ambler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ggests a set of agile modeling principl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Model with a purpos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Use multiple model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Travel ligh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Content is more important than representa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Know the models and the tools you use to create them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Adapt locally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8F37-8157-4CD6-8A2D-55F3795820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6680" y="355680"/>
            <a:ext cx="66801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he Manifesto for 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gile Software Develop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0" name=""/>
          <p:cNvSpPr/>
          <p:nvPr/>
        </p:nvSpPr>
        <p:spPr>
          <a:xfrm>
            <a:off x="1650960" y="1482840"/>
            <a:ext cx="625176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We are uncovering better ways of developing software by doing it and helping others do it.  Through this work we have come to valu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f3ff0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ff07"/>
                </a:solidFill>
                <a:latin typeface="Palatino"/>
              </a:rPr>
              <a:t>Individuals and interactions</a:t>
            </a:r>
            <a:r>
              <a:rPr b="1" lang="en-US" sz="2000" spc="-1" strike="noStrike">
                <a:solidFill>
                  <a:srgbClr val="f3ff07"/>
                </a:solidFill>
                <a:latin typeface="Palatino"/>
              </a:rPr>
              <a:t> over processes and too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f3ff0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ff07"/>
                </a:solidFill>
                <a:latin typeface="Palatino"/>
              </a:rPr>
              <a:t>Working software</a:t>
            </a:r>
            <a:r>
              <a:rPr b="1" lang="en-US" sz="2000" spc="-1" strike="noStrike">
                <a:solidFill>
                  <a:srgbClr val="f3ff07"/>
                </a:solidFill>
                <a:latin typeface="Palatino"/>
              </a:rPr>
              <a:t> over comprehensive document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f3ff0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ff07"/>
                </a:solidFill>
                <a:latin typeface="Palatino"/>
              </a:rPr>
              <a:t>Customer collaboration</a:t>
            </a:r>
            <a:r>
              <a:rPr b="1" lang="en-US" sz="2000" spc="-1" strike="noStrike">
                <a:solidFill>
                  <a:srgbClr val="f3ff07"/>
                </a:solidFill>
                <a:latin typeface="Palatino"/>
              </a:rPr>
              <a:t> over contract negoti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f3ff0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ff07"/>
                </a:solidFill>
                <a:latin typeface="Palatino"/>
              </a:rPr>
              <a:t>Responding to change</a:t>
            </a:r>
            <a:r>
              <a:rPr b="1" lang="en-US" sz="2000" spc="-1" strike="noStrike">
                <a:solidFill>
                  <a:srgbClr val="f3ff07"/>
                </a:solidFill>
                <a:latin typeface="Palatino"/>
              </a:rPr>
              <a:t> over following a plan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That is, while there is value in the items on the right, we value the items on the left more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69760" y="5197320"/>
            <a:ext cx="1884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3ff07"/>
                </a:solidFill>
                <a:latin typeface="Palatino"/>
              </a:rPr>
              <a:t>Kent Beck et 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900E-E7A9-4758-A18B-6F4FCEC513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04920" y="244440"/>
            <a:ext cx="49514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What is “Agility”?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4640" y="1353600"/>
            <a:ext cx="7480080" cy="39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ffective (rapid and adaptive) response to chang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ffective communication among all stakeholder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rawing the customer onto the team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rganizing a team so that it is in control of the work performed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Yielding …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apid, incremental delivery of softwar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7A94-DBAC-4866-94D1-428B9F2288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6240" y="244440"/>
            <a:ext cx="4883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n Agile Proces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8920" y="1389240"/>
            <a:ext cx="73677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s driven by customer descriptions of what is required (scenarios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ecognizes that plans are short-lived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velops software iteratively with a heavy emphasis on construction activiti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livers multiple ‘software increments’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dapts as changes occur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28C9-9CE7-4D1F-BA3D-0E6BA652A1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120" y="244440"/>
            <a:ext cx="7750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xtreme Programming (XP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e most widely used agile process, originally proposed by Kent Beck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XP Planning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Begins with the creation of “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user storie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gile team assesses each story and assigns a 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cos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tories are grouped to for a 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deliverable incremen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 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commitment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is made on delivery dat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fter the first increment “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project velocity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” is used to help define subsequent delivery dates for other increment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882B-6010-4065-9C52-82C96C404A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5160" y="244440"/>
            <a:ext cx="77536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xtreme Programming (XP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XP Design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Follows the </a:t>
            </a: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KIS principle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Encourage the use of </a:t>
            </a: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CRC cards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 (see Chapter 8)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For difficult design problems, suggests the creation of “</a:t>
            </a: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spike solutions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”—a design prototype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Encourages “</a:t>
            </a: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refactoring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”—an iterative refinement of the internal program design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XP Coding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Recommends the </a:t>
            </a: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construction of a unit test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 for a store </a:t>
            </a:r>
            <a:r>
              <a:rPr b="0" i="1" lang="en-US" sz="1600" spc="-1" strike="noStrike">
                <a:solidFill>
                  <a:srgbClr val="ffffff"/>
                </a:solidFill>
                <a:latin typeface="Palatino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 coding commence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Encourages “</a:t>
            </a: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pair programming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XP Testing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All </a:t>
            </a: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unit tests are executed daily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“</a:t>
            </a: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Acceptance tests”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 are defined by the customer and excuted to assess customer visible functionality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4493-B4F1-4738-A99D-EA208326FE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20680" y="649440"/>
            <a:ext cx="6967800" cy="527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8600" y="169920"/>
            <a:ext cx="811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xtreme Programming (XP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9600" y="725400"/>
            <a:ext cx="6184800" cy="51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D37F-109D-411A-BFD5-38EC947C07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11240" y="355320"/>
            <a:ext cx="7321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daptive Software Develop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25000" y="1275840"/>
            <a:ext cx="7129800" cy="39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riginally proposed by Jim Highsmith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SD — distinguishing  featur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Mission-driven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planning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Component-based focu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Uses “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time-boxing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” (See Chapter 24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xplicit consideration of 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risk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mphasizes 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collaboration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for requirements gathering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mphasizes “</a:t>
            </a:r>
            <a:r>
              <a:rPr b="0" lang="en-US" sz="2000" spc="-1" strike="noStrike">
                <a:solidFill>
                  <a:srgbClr val="ffffcc"/>
                </a:solidFill>
                <a:latin typeface="Palatino"/>
              </a:rPr>
              <a:t>learning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” throughout the proces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D653-85CE-455D-AE3B-A4BEC2669D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6320" y="174600"/>
            <a:ext cx="732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daptive Software Develop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6" name=""/>
          <p:cNvSpPr/>
          <p:nvPr/>
        </p:nvSpPr>
        <p:spPr>
          <a:xfrm>
            <a:off x="1273320" y="903240"/>
            <a:ext cx="6777000" cy="5022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47880" y="965160"/>
            <a:ext cx="5727600" cy="485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15EC-A9BF-408D-B3A5-6233771246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0:57:40Z</dcterms:created>
  <dc:creator>Roger Pressman</dc:creator>
  <dc:description/>
  <dc:language>en-US</dc:language>
  <cp:lastModifiedBy>Roger Pressman</cp:lastModifiedBy>
  <dcterms:modified xsi:type="dcterms:W3CDTF">2003-09-11T14:41:32Z</dcterms:modified>
  <cp:revision>132</cp:revision>
  <dc:subject/>
  <dc:title>Transparency Masters for Software Engineering: A Practitioner's Approach, 4/e</dc:title>
</cp:coreProperties>
</file>