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094413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1701-4A5B-4F1A-BA36-C7FC2A3EC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64F1-7E73-4F79-9308-C858A7855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EEA7-9C62-4B15-9F4E-799919C4B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7AA0-A953-424A-B1DD-504467186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04688-71FC-4582-AD27-09B8870E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A215A-A46A-453A-AE99-609C4A39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BAD36-C565-4CA8-99FE-98CFEC22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BF78B-18FB-4198-A7BF-3F086E56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4B0DA-1E60-42AB-992E-2FD80E6B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74F81-E543-45B8-9DCF-E4F2A00F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BE5A8-AFE9-46E3-A2B5-85602FC2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6B0F-B293-47FF-9FB1-0D86C7464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9B8FD-DAE2-4BD4-82F5-8E00A53B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50443-ADBC-4690-84EB-A79A6AE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A6735-86C4-4DF8-BF2A-B96DDF06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8E9F6-23C9-4FFB-9E9C-2949D01B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D90A1-1BD8-4A85-A6D2-6211FCD7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C472-DE49-49BA-8DBD-4704AC67C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C446D-7BF3-4D94-BDDD-529794E50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5446-5A97-4A57-9AB1-463C20132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5115-F155-41E5-87A8-229E314A6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EA3B-959A-46B5-8A70-7C5B6187B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EF15-B362-4AA5-9D88-7E9D5D3DB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257F-1B06-451A-9843-F645C9564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476280" y="5554440"/>
            <a:ext cx="77025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vant Garde"/>
              </a:defRPr>
            </a:lvl1pPr>
          </a:lstStyle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These courseware materials are to be used in conjunction with </a:t>
            </a:r>
            <a:r>
              <a:rPr b="0" i="1" lang="en-US" sz="1000" spc="-1" strike="noStrike">
                <a:solidFill>
                  <a:srgbClr val="ffffff"/>
                </a:solidFill>
                <a:latin typeface="Avant Garde"/>
              </a:rPr>
              <a:t>Software Engineering: A Practitioner’s Approach,</a:t>
            </a: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 6/e and are provided with permission by R.S. Pressman &amp; Associates, Inc., copyright © 1996, 2001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238960" y="5554440"/>
            <a:ext cx="6321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3486-F1B5-4F0D-827B-47FE151790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48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456840" y="555444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555588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2720" y="55591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AEB3-C3A8-44BB-BE47-C086C87714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6880" y="659880"/>
            <a:ext cx="5883120" cy="242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96e3fe"/>
                </a:solidFill>
                <a:latin typeface="Palatino"/>
              </a:rPr>
              <a:t>Supplementary Slides for</a:t>
            </a:r>
            <a:br>
              <a:rPr sz="2400"/>
            </a:br>
            <a:r>
              <a:rPr b="1" i="1" lang="en-US" sz="3200" spc="-1" strike="noStrike">
                <a:solidFill>
                  <a:srgbClr val="f3ff07"/>
                </a:solidFill>
                <a:latin typeface="Palatino"/>
              </a:rPr>
              <a:t>Software Engineering:</a:t>
            </a:r>
            <a:br>
              <a:rPr sz="3200"/>
            </a:br>
            <a:r>
              <a:rPr b="1" i="1" lang="en-US" sz="3200" spc="-1" strike="noStrike">
                <a:solidFill>
                  <a:srgbClr val="f3ff07"/>
                </a:solidFill>
                <a:latin typeface="Palatino"/>
              </a:rPr>
              <a:t>A Practitioner's Approach, 6/e</a:t>
            </a:r>
            <a:br>
              <a:rPr sz="3200"/>
            </a:br>
            <a:r>
              <a:rPr b="1" lang="en-US" sz="2400" spc="-1" strike="noStrike">
                <a:solidFill>
                  <a:srgbClr val="96e3fe"/>
                </a:solidFill>
                <a:latin typeface="Palatino"/>
              </a:rPr>
              <a:t>Part 2</a:t>
            </a:r>
            <a:endParaRPr b="1" lang="en-US" sz="2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99" name=""/>
          <p:cNvSpPr/>
          <p:nvPr/>
        </p:nvSpPr>
        <p:spPr>
          <a:xfrm>
            <a:off x="577440" y="2905200"/>
            <a:ext cx="81586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1996, 2001,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.S. Pressman &amp; Associates, In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University Use On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be reproduced ONLY for student use at the university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used in conjunction with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ftware Engineering: A Practitioner's Approa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other reproduction or use is expressly prohibi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esentation, slides, or hardcopy may NOT be used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courses, industry seminars, or consulting purpo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D0D6-DA65-4177-9996-4E6A46029D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244440"/>
            <a:ext cx="53388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lanning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itiation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sk Boehm’s question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Why is the system begin developed?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What will be done?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When will it be accomplished?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Who is responsible?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Where are they located (organizationally)?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How will the job be done technically and managerially?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How much of each resource is needed?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B2B8-41A8-495C-A5C2-666D52E5A9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2680" y="244440"/>
            <a:ext cx="5337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lanning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6760" y="1283760"/>
            <a:ext cx="6769080" cy="39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n abbreviated task se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Re-assess project scop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ssess risk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valuate functions/featur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onsider infrastructure functions/featur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reate a coarse granularity pla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Number of software increment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Overall schedule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elivery dates for increment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reate fine granularity plan for first incremen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rack progres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ED4B-7845-45D5-B8F3-A1A67C7868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0" y="244440"/>
            <a:ext cx="55814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Modeling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We create models to gain a better understanding of the actual entity to be buil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3ff07"/>
                </a:solidFill>
                <a:latin typeface="Palatino"/>
              </a:rPr>
              <a:t>Analysis models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represent the customer requirements by depicting the software in three different domains: the information domain, the functional domain, and the behavioral domain.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3ff07"/>
                </a:solidFill>
                <a:latin typeface="Palatino"/>
              </a:rPr>
              <a:t>Design models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represent characteristics of the software that help practitioners to construct it effectively: the architecture, the user interface, and component-level detail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C299-F4B5-423C-8B32-4362F13C31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09960" y="3457440"/>
            <a:ext cx="3027240" cy="1305000"/>
          </a:xfrm>
          <a:prstGeom prst="rect">
            <a:avLst/>
          </a:prstGeom>
          <a:solidFill>
            <a:srgbClr val="8c4881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1960" y="244440"/>
            <a:ext cx="8043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nalysis Modeling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60320" y="1279440"/>
            <a:ext cx="639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Analysis modeling principle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Represent the information domain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Represent software function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Represent software behavior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Partition these representation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Move from essence toward implementation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lements of the analysis model (Chapter 8)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Data model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Flow model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Class model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Behavior model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4D5F-9780-4783-AFBF-770616FD03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82800" y="4307040"/>
            <a:ext cx="3027240" cy="1304640"/>
          </a:xfrm>
          <a:prstGeom prst="rect">
            <a:avLst/>
          </a:prstGeom>
          <a:solidFill>
            <a:srgbClr val="8c4881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2040" y="244440"/>
            <a:ext cx="76597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Design Modeling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52600" y="1231920"/>
            <a:ext cx="6648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Principle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Design must be traceable to the analysis model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Always consider architecture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Focus on the design of data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Interfaces (both user and internal) must be designed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Components should exhibit functional independence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Components should be loosely coupled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Design representation should be easily understood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ff07"/>
                </a:solidFill>
                <a:latin typeface="Palatino"/>
              </a:rPr>
              <a:t>The design model should be developed iteratively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lements of the design model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Data design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Architectural design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Component design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Interface design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A7D6-5291-4043-8242-B67AD6B382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7480" y="244440"/>
            <a:ext cx="6468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nstruction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eparation principles:</a:t>
            </a: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 Before you write one line of code, be sure you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Understand of the problem you’re trying to solve (see </a:t>
            </a:r>
            <a:r>
              <a:rPr b="0" lang="en-US" sz="1800" spc="-1" strike="noStrike">
                <a:solidFill>
                  <a:srgbClr val="96e3fe"/>
                </a:solidFill>
                <a:latin typeface="Palatino"/>
              </a:rPr>
              <a:t>communication</a:t>
            </a: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 and </a:t>
            </a:r>
            <a:r>
              <a:rPr b="0" lang="en-US" sz="1800" spc="-1" strike="noStrike">
                <a:solidFill>
                  <a:srgbClr val="96e3fe"/>
                </a:solidFill>
                <a:latin typeface="Palatino"/>
              </a:rPr>
              <a:t>modeling</a:t>
            </a: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Understand basic design principles and concepts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Pick a programming language that meets the needs of the software to be built and the environment in which it will operate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Select a programming environment that provides tools that will make your work easier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Create a set of unit tests that will be applied once the component you code is completed</a:t>
            </a:r>
            <a:r>
              <a:rPr b="1" lang="en-US" sz="1800" spc="-1" strike="noStrike">
                <a:solidFill>
                  <a:srgbClr val="f3ff07"/>
                </a:solidFill>
                <a:latin typeface="Palatino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8A0C-065A-428D-B8D7-B0824B287E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8120" y="244440"/>
            <a:ext cx="64677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nstruction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Coding principles: </a:t>
            </a:r>
            <a:r>
              <a:rPr b="0" i="1" lang="en-US" sz="1800" spc="-1" strike="noStrike">
                <a:solidFill>
                  <a:srgbClr val="ffffff"/>
                </a:solidFill>
                <a:latin typeface="Palatino"/>
              </a:rPr>
              <a:t>As you begin writing code, be sure you: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Constrain your algorithms by following structured programming [BOH00] practice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Select data structures that will meet the needs of the design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Understand the software architecture and create interfaces that are consistent with it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Keep conditional logic as simple as possible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Create nested loops in a way that makes them easily testable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Select meaningful variable names and follow other local coding standards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Write code that is self-documenting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Create a visual layout (e.g., indentation and blank lines) that aids understanding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5C56-7F78-4385-B9D4-88ACBA1A06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7480" y="244440"/>
            <a:ext cx="6468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nstruction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Validation Principles:  </a:t>
            </a: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After you’ve completed your first coding pass, be sure you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Conduct a code walkthrough when appropriate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Perform unit tests and correct errors you’ve uncovered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Refactor the code. 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E845-2682-49B7-9F06-494AE11628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7480" y="244440"/>
            <a:ext cx="6468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nstruction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esting Principl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All tests should be traceable to requirement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Tests should be plann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The Pareto Principle applies to testing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Testing begins “in the small” and moves toward “in the large”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Exhaustive testing is not possibl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425B4-058F-47F6-A786-7A7613757F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92120" y="244440"/>
            <a:ext cx="6375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Deployment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incipl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Manage customer expectations for each incremen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A complete delivery package should be assembled and test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A support regime should be establish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Instructional materials must be provided to end-user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Buggy software should be fixed first, delivered later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DAFA-A63D-4A73-89F0-CC5BA1F09A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9840" y="925560"/>
            <a:ext cx="7291440" cy="4423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9fa07"/>
                </a:solidFill>
                <a:latin typeface="Palatino"/>
              </a:rPr>
              <a:t>Software Engineering: A Practitioner’s Approach, 6/e</a:t>
            </a: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hapter 5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actice: A Generic View</a:t>
            </a:r>
            <a:br>
              <a:rPr sz="3600"/>
            </a:br>
            <a:br>
              <a:rPr sz="36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1996, 2001, 2005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.S. Pressman &amp; Associates, Inc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University Use Onl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y be reproduced ONLY for student use at the university level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en used in conjunction with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oftware Engineering: A Practitioner's Approach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y other reproduction or use is expressly prohibited.</a:t>
            </a:r>
            <a:br>
              <a:rPr sz="1400"/>
            </a:b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9442-26A6-4E3B-A00F-EA84F0A1B8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16200" y="244440"/>
            <a:ext cx="55339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What is “Practice”?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Practice is a broad array of concepts, principles, methods, and tools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that you must consider as software is planned and developed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It represents the details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—the technical considerations and how to’s—that are below the surface of the software process—the things that you’ll need to actually build high-quality computer software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AB14-2992-4BE3-8CAD-7FA17BAAD7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3760" y="244440"/>
            <a:ext cx="67723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he Essence of Practice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George Polya, in a book written in 1945 (!), describes the essence of software engineering practice …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Understand the problem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(communication and analysis)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Plan a solution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(modeling and software design)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Carry out the plan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(code generation)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Examine the result for accuracy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(testing and quality assurance)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t its core, good practice is </a:t>
            </a: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common-sense problem solving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8E75-330D-4889-96B0-40DA05815E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9520" y="355320"/>
            <a:ext cx="820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re Software Engineering Principl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5960" y="1263600"/>
            <a:ext cx="651528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ovide value to the customer and the user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KIS—keep it simple!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Maintain the product and project “vision”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What you produce, others will consum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Be open to the futur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lan ahead for reus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nk!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4691-E194-4DD6-B21A-061A89FC69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08200" y="1725480"/>
            <a:ext cx="3849480" cy="1756080"/>
          </a:xfrm>
          <a:prstGeom prst="rect">
            <a:avLst/>
          </a:prstGeom>
          <a:solidFill>
            <a:srgbClr val="ad278d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03480" y="352440"/>
            <a:ext cx="692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Engineering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56840" y="1252440"/>
            <a:ext cx="66423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nsider the generic process framework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Communica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Planning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Modeling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Construc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Deploymen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ere, we’ll identify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Underlying principl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How to initiate the practic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n abbreviated task se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1ABB-1E0F-420D-A828-CA6EB131F5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5720" y="244440"/>
            <a:ext cx="74707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mmunication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9400" y="1306440"/>
            <a:ext cx="67467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incipl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Liste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Prepare before you communicat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Facilitate the communica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Face-to-face is bes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Take notes and document decision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Collaborate with the customer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Stay focus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Draw pictures when things are unclear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Move on …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Negotiation works best when both parties win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9DC2-7857-4A91-96E2-B15760024D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5200" y="244440"/>
            <a:ext cx="7473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mmunication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8480" y="1263600"/>
            <a:ext cx="731844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Initia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The parties should be physically close to one another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Make sure communication is interactive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Create solid team “ecosystems”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Use the right team structure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n abbreviated task se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Identify who it is you need to speak with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efine the best mechanism for communication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stablish overall goals and objectives and define the scope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Get more detailed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Have stakeholders define scenarios for usage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Extract major functions/feature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Review the results with all stakeholder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490A-60AF-4BE9-8C42-D6110EC794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8000" y="244440"/>
            <a:ext cx="53373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lanning Practic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1400" y="1150920"/>
            <a:ext cx="716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Understand the project scope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Involve the customer (and other stakeholders)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Recognize that planning is iterative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Estimate based on what you know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Consider risk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Be realistic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Adjust granularity as you plan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Define how quality will be achieved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Define how you’ll accommodate change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Track what you’ve planned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BDCDF-7811-4AAD-B375-FF386B75CA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0:57:40Z</dcterms:created>
  <dc:creator>Roger Pressman</dc:creator>
  <dc:description/>
  <dc:language>en-US</dc:language>
  <cp:lastModifiedBy>Roger Pressman</cp:lastModifiedBy>
  <dcterms:modified xsi:type="dcterms:W3CDTF">2003-09-11T14:44:21Z</dcterms:modified>
  <cp:revision>133</cp:revision>
  <dc:subject/>
  <dc:title>Transparency Masters for Software Engineering: A Practitioner's Approach, 4/e</dc:title>
</cp:coreProperties>
</file>