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094413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8908-3115-4831-A552-1AAC0CF9A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01C1-E1F1-47D0-BEF7-6DC7A60F5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45A9-4C8B-4B39-B995-4C8DF80C3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E2A0-E5C0-4757-9B74-9A8A727F4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45200-0225-4E99-9F75-55144F62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0D4F9-1EB7-4E37-9F91-6A6FB434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3006D-6057-4F3A-80EA-00750454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AFB3D-42D6-4AF4-BFEB-CBF648A9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38524-F369-4D9F-BB7C-8AD99DDA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2AFA5-AFD6-4373-B80A-2F17DD37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FBFC0-E22D-4A7A-8BC8-D8DE33A7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6E66-E9A9-4386-8A65-D2F7D143F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119EC-F771-4957-B383-F5372B30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8434F-0EF1-4980-9D49-9BBFFF1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F655A-8C48-4013-B168-480CC34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FE051-F14B-4C6B-83E1-6DBC4663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B6DCE-C5BC-4C36-8CF2-6F024ADF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8F58-E5A5-404A-913F-27EB93B2B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C0C6-3581-4568-9656-70C489961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4C74-CB4E-4C4B-AEAD-56BDD75CC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93BB1-F730-46EC-A223-E4B3FAEC8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4B2A-5ACA-47CC-95A9-7E30335F4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5308-1C0C-4F1A-BA01-E8F981DCC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A5D9-390E-44B6-893D-31461CE27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476280" y="5554440"/>
            <a:ext cx="77025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vant Garde"/>
              </a:defRPr>
            </a:lvl1pPr>
          </a:lstStyle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These courseware materials are to be used in conjunction with </a:t>
            </a:r>
            <a:r>
              <a:rPr b="0" i="1" lang="en-US" sz="1000" spc="-1" strike="noStrike">
                <a:solidFill>
                  <a:srgbClr val="ffffff"/>
                </a:solidFill>
                <a:latin typeface="Avant Garde"/>
              </a:rPr>
              <a:t>Software Engineering: A Practitioner’s Approach,</a:t>
            </a: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 6/e and are provided with permission by R.S. Pressman &amp; Associates, Inc., copyright © 1996, 2001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238960" y="5554440"/>
            <a:ext cx="6321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85DE-EFC4-4296-B186-4269FE1FAC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4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555444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555588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55591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988E-1165-45E1-BFDE-D60EE1182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4080" y="2178000"/>
            <a:ext cx="7848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9fa07"/>
                </a:solidFill>
                <a:latin typeface="Palatino"/>
              </a:rPr>
              <a:t>Software Engineering: A Practitioner’s Approach, 6/e</a:t>
            </a: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hapter 3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escriptive Process Models</a:t>
            </a:r>
            <a:br>
              <a:rPr sz="3600"/>
            </a:br>
            <a:br>
              <a:rPr sz="36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pyright © 1996, 2001, 2005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.S. Pressman &amp; Associates, Inc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University Use Onl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y be reproduced ONLY for student use at the university level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en used in conjunction with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oftware Engineering: A Practitioner's Approach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y other reproduction or use is expressly prohibited.</a:t>
            </a:r>
            <a:br>
              <a:rPr sz="1400"/>
            </a:b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0B47-09BB-4084-AF11-733D70879D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8200" y="776160"/>
            <a:ext cx="8083440" cy="469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27000" y="236520"/>
            <a:ext cx="7351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Unified Process (UP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7120" y="912960"/>
            <a:ext cx="5549760" cy="4470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030400" y="1552680"/>
            <a:ext cx="137808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Arial"/>
              </a:rPr>
              <a:t>incep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900000"/>
            <a:ext cx="146520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56120" y="923760"/>
            <a:ext cx="1185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514"/>
                </a:solidFill>
                <a:latin typeface="Arial"/>
              </a:rPr>
              <a:t>e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238C-B801-474E-93A9-7DDA01AC3D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68160" y="950760"/>
            <a:ext cx="8006040" cy="4435560"/>
          </a:xfrm>
          <a:prstGeom prst="rect">
            <a:avLst/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88800" y="0"/>
            <a:ext cx="29718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P Phas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93760" y="971640"/>
            <a:ext cx="675648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1CC8-1E0B-4ABE-B181-CEF75FC4E7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8840" y="244440"/>
            <a:ext cx="50342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P Work Product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82720" y="920880"/>
            <a:ext cx="7378560" cy="42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9462-E537-46D0-B915-149C9FD53B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8680" y="1371600"/>
            <a:ext cx="7789680" cy="738360"/>
          </a:xfrm>
          <a:prstGeom prst="rect">
            <a:avLst/>
          </a:prstGeom>
          <a:solidFill>
            <a:srgbClr val="d1039b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6880" y="244440"/>
            <a:ext cx="56181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escriptive Model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escriptive process models advocate an orderly approach to software engineering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3ff07"/>
                </a:solidFill>
                <a:latin typeface="Palatino"/>
              </a:rPr>
              <a:t>That leads to a few questions …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If prescriptive process models strive for structure and order, </a:t>
            </a: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are they inappropriate for a software world that thrives on change?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Yet, if we reject traditional process models (and the order they imply) and replace them with something less structured, </a:t>
            </a: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do we make it impossible to achieve coordination and coherence in software work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0A0EA-5D50-4D4F-B43A-E089124D33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58640" y="244080"/>
            <a:ext cx="462276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Waterfall Model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880" y="1854360"/>
            <a:ext cx="789948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F917-36E8-42EC-8C8B-45A8AB202E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63880" y="182160"/>
            <a:ext cx="523224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Incremental Model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96760" y="1004760"/>
            <a:ext cx="7455240" cy="42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0274-3809-4804-9BC8-6E28640880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7200" y="191880"/>
            <a:ext cx="6750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RAD Model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3080" y="839880"/>
            <a:ext cx="7137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D909-97A0-4B61-92DC-D1D3A195C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1480" y="150480"/>
            <a:ext cx="759492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volutionary Models: Prototyp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54320" y="938160"/>
            <a:ext cx="4635360" cy="4546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22400" y="1768320"/>
            <a:ext cx="104148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51840" y="1922400"/>
            <a:ext cx="1207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45120" y="1541520"/>
            <a:ext cx="78084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5640" y="1541520"/>
            <a:ext cx="570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Qu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0320" y="2257560"/>
            <a:ext cx="86832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43800" y="2367000"/>
            <a:ext cx="64800" cy="291960"/>
          </a:xfrm>
          <a:prstGeom prst="rect">
            <a:avLst/>
          </a:prstGeom>
          <a:solidFill>
            <a:srgbClr val="96e3fe"/>
          </a:solidFill>
          <a:ln w="12600">
            <a:solidFill>
              <a:srgbClr val="96e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17080" y="2290680"/>
            <a:ext cx="1064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Quick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4880" y="4016520"/>
            <a:ext cx="1008000" cy="61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0040" y="4114800"/>
            <a:ext cx="1038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Constr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of prot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3600" y="3767040"/>
            <a:ext cx="1019160" cy="63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16560" y="3809880"/>
            <a:ext cx="9961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delivery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514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EFB9-AC2F-4694-A047-01A3930AB16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23840" y="150480"/>
            <a:ext cx="725184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volutionary Models: The Spiral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43120" y="1138320"/>
            <a:ext cx="5651280" cy="382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CDD4-113E-48B6-A9F9-AC9D1CB6B0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1080" y="355320"/>
            <a:ext cx="8729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volutionary Models: Concurr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1800" y="860400"/>
            <a:ext cx="4038840" cy="50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AD4A-233A-4F60-8F8A-1DC9DFAA61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1920" y="244080"/>
            <a:ext cx="595620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till Other Process Model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397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Component based development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—the process to apply when reuse is a development objectiv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65680" indent="-265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Formal method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—emphasizes the mathematical specification of requirement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65680" indent="-265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AOSD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—provides a process and methodological approach for defining, specifying, designing, and constructing </a:t>
            </a: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aspect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265680" indent="-265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ff07"/>
                </a:solidFill>
                <a:latin typeface="Palatino"/>
              </a:rPr>
              <a:t>Unified Proces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—a “use-case driven, architecture-centric, iterative and incremental” software process closely aligned with the Unified Modeling Language (UML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BFA5-EC20-4C06-A196-D4035BFCDF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0:57:40Z</dcterms:created>
  <dc:creator>Roger Pressman</dc:creator>
  <dc:description/>
  <dc:language>en-US</dc:language>
  <cp:lastModifiedBy>Roger Pressman</cp:lastModifiedBy>
  <dcterms:modified xsi:type="dcterms:W3CDTF">2003-09-11T14:40:53Z</dcterms:modified>
  <cp:revision>130</cp:revision>
  <dc:subject/>
  <dc:title>Transparency Masters for Software Engineering: A Practitioner's Approach, 4/e</dc:title>
</cp:coreProperties>
</file>