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094413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229C-37FA-4340-BAEC-1F133C16C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31385-6D4C-4D3F-A2A2-EA77962E6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1B90-2A8D-451D-812E-6688A6A7D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335B-1181-4324-A201-6B5C661DF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0B2BC-E2CA-4432-ABDF-DDE764DE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21752-3087-4009-A292-71A6E444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FC68E-302C-44A0-B7D1-18E09729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41B08-E479-478E-9CFB-EB9E00D8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81702-C5FF-4CB4-A9AA-E8570111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B8241-697F-4801-B03B-78271198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DAA95-81DA-43A4-90D6-974C349F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8031-48CC-4847-8C16-9F417F4EE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085AE-A607-427D-B87B-C48739C5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5F71D-58FB-4662-9CC9-192E76C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960B7-A7EB-46B5-A7CE-262BBC4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73E0D-A545-4D03-9312-0D679868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0A62E-B4FF-43D1-841E-FE8FB574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224A-F4A6-4B72-8044-1F278AB80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D5CF-5212-458D-9070-2C2AC3EB9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3E64-7E21-4E78-8180-693C30B35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2554-13F6-4775-A7B8-03F8A8878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EABA-BC06-41A8-9250-B32F2A087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932B-0E67-4C89-8893-8AB5052EB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C683-E75D-47A5-B3A8-BEC7515E7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476280" y="5554440"/>
            <a:ext cx="77025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vant Garde"/>
              </a:defRPr>
            </a:lvl1pPr>
          </a:lstStyle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These courseware materials are to be used in conjunction with </a:t>
            </a:r>
            <a:r>
              <a:rPr b="0" i="1" lang="en-US" sz="1000" spc="-1" strike="noStrike">
                <a:solidFill>
                  <a:srgbClr val="ffffff"/>
                </a:solidFill>
                <a:latin typeface="Avant Garde"/>
              </a:rPr>
              <a:t>Software Engineering: A Practitioner’s Approach,</a:t>
            </a: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 6/e and are provided with permission by R.S. Pressman &amp; Associates, Inc., copyright © 1996, 2001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238960" y="5554440"/>
            <a:ext cx="6321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CB9F-FCCF-40BF-9C3A-555FF3B234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4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555444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555588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55591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177C-C835-40BB-9ADE-5AD7DDF3E5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58760" y="961560"/>
            <a:ext cx="7291440" cy="4423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9fa07"/>
                </a:solidFill>
                <a:latin typeface="Palatino"/>
              </a:rPr>
              <a:t>Software Engineering: A Practitioner’s Approach, 6/e</a:t>
            </a: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hapter 6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ystem Engineering</a:t>
            </a:r>
            <a:br>
              <a:rPr sz="3600"/>
            </a:br>
            <a:br>
              <a:rPr sz="36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1996, 2001, 2005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.S. Pressman &amp; Associates, Inc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University Use Onl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y be reproduced ONLY for student use at the university level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en used in conjunction with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oftware Engineering: A Practitioner's Approach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y other reproduction or use is expressly prohibited.</a:t>
            </a:r>
            <a:br>
              <a:rPr sz="1400"/>
            </a:b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3C3B-9B86-4331-BF4D-60B5056244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16280" y="244080"/>
            <a:ext cx="530856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usiness Area Analysi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098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fine “naturally cohesive groupings of business functions and data” (Martin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erform many of the same activities as ISP, but narrow scope to individual business area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dentify existing (old) information systems / determine compatibility with new ISP mod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fine systems that are problematic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fining systems that are incompatible with new information mod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begin to establish  re-engineering prioriti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EAC3-9C59-4DDC-AB58-FC6C2B59B2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2080" y="244080"/>
            <a:ext cx="393696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BAA Proces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1100160"/>
            <a:ext cx="2311560" cy="1168200"/>
          </a:xfrm>
          <a:prstGeom prst="rect">
            <a:avLst/>
          </a:prstGeom>
          <a:solidFill>
            <a:srgbClr val="0033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54320" y="1104840"/>
            <a:ext cx="1650960" cy="6192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0440" y="1100160"/>
            <a:ext cx="0" cy="49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74640" y="1617840"/>
            <a:ext cx="5335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0440" y="1778040"/>
            <a:ext cx="0" cy="490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023920"/>
            <a:ext cx="4064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1752480"/>
            <a:ext cx="4064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70280" y="1778040"/>
            <a:ext cx="0" cy="490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175248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022560" y="2023920"/>
            <a:ext cx="914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22560" y="1913040"/>
            <a:ext cx="0" cy="220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61400" y="1832040"/>
            <a:ext cx="53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21640" y="2022480"/>
            <a:ext cx="46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85360" y="1287360"/>
            <a:ext cx="141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7920" y="1765440"/>
            <a:ext cx="41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83040" y="202248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g’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6720" y="176544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35840" y="1222200"/>
            <a:ext cx="640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m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0920" y="1274760"/>
            <a:ext cx="6577920" cy="326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17360" y="1407960"/>
            <a:ext cx="378468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559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5590"/>
              </a:path>
            </a:pathLst>
          </a:custGeom>
          <a:noFill/>
          <a:ln cap="rnd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12200" y="1521000"/>
            <a:ext cx="1421280" cy="358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2949480"/>
            <a:ext cx="1346040" cy="1614600"/>
          </a:xfrm>
          <a:prstGeom prst="rect">
            <a:avLst/>
          </a:prstGeom>
          <a:solidFill>
            <a:srgbClr val="e5405d"/>
          </a:solidFill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51360" y="2678040"/>
            <a:ext cx="1397160" cy="1616040"/>
          </a:xfrm>
          <a:prstGeom prst="rect">
            <a:avLst/>
          </a:prstGeom>
          <a:solidFill>
            <a:srgbClr val="a886e0"/>
          </a:solidFill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13000" y="3346560"/>
            <a:ext cx="1371600" cy="1612800"/>
          </a:xfrm>
          <a:prstGeom prst="rect">
            <a:avLst/>
          </a:prstGeom>
          <a:solidFill>
            <a:srgbClr val="005400"/>
          </a:solidFill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13960" y="3603600"/>
            <a:ext cx="801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62160" y="2932200"/>
            <a:ext cx="1361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Decompos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43280" y="3117960"/>
            <a:ext cx="14356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Arial"/>
              </a:rPr>
              <a:t>Matr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Arial"/>
              </a:rPr>
              <a:t>e.g.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Arial"/>
              </a:rPr>
              <a:t>entity/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4120" y="1646280"/>
            <a:ext cx="1066320" cy="175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67320" y="1374840"/>
            <a:ext cx="2463120" cy="22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63560" y="3154320"/>
            <a:ext cx="1346400" cy="1589040"/>
          </a:xfrm>
          <a:prstGeom prst="rect">
            <a:avLst/>
          </a:prstGeom>
          <a:solidFill>
            <a:srgbClr val="8c4881"/>
          </a:solidFill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7640" y="3373560"/>
            <a:ext cx="1069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AE22-2A22-4453-A9B2-672AF348C5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71640" y="930240"/>
            <a:ext cx="5159520" cy="4568760"/>
          </a:xfrm>
          <a:prstGeom prst="rect">
            <a:avLst/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22640" y="244080"/>
            <a:ext cx="469872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duct Engineer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33840" y="1049400"/>
            <a:ext cx="3636720" cy="42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7D77-1781-4048-99BA-C3FE4541963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5440" y="355320"/>
            <a:ext cx="687096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duct Architecture Template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17720" y="1206360"/>
            <a:ext cx="5295960" cy="367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A881-F217-4089-9FE4-121EAFF32B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57000" y="244080"/>
            <a:ext cx="603252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rchitecture Flow Diagram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05080" y="1079640"/>
            <a:ext cx="6306840" cy="45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D88F-8DE5-43FC-AD9B-3186F4F7E8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520" y="244440"/>
            <a:ext cx="7839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ystem Modeling with UML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18800" y="1370160"/>
            <a:ext cx="74595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Deployment diagram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ach 3-D box depicts a hardware element that is part of the physical architecture of the system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Activity diagram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Represent procedural aspects of a system elemen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Class diagram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Represent system level elements in terms of the data that describe the element and the operations that manipulate the data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These and other UML models will be discussed later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680B-EC29-4738-AC03-FFB57C4739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35080" y="860400"/>
            <a:ext cx="6743520" cy="4479840"/>
          </a:xfrm>
          <a:prstGeom prst="rect">
            <a:avLst/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55760" y="0"/>
            <a:ext cx="64310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Deployment Diagram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97000" y="955800"/>
            <a:ext cx="4953240" cy="41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7396-8D09-401A-8202-EEE833D02F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59080" y="703440"/>
            <a:ext cx="4489560" cy="4932360"/>
          </a:xfrm>
          <a:prstGeom prst="rect">
            <a:avLst/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47680" y="-360"/>
            <a:ext cx="5020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ctivity Diagram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19240" y="819000"/>
            <a:ext cx="3200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AF5D-2284-4E3B-8466-1C4B0FCB0C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71640" y="930240"/>
            <a:ext cx="5159520" cy="4568760"/>
          </a:xfrm>
          <a:prstGeom prst="rect">
            <a:avLst/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08400" y="-360"/>
            <a:ext cx="4389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lass Diagram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39760" y="950760"/>
            <a:ext cx="4876920" cy="44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9C5D-16CC-4753-89E3-D53DDB4144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04840" y="1825560"/>
            <a:ext cx="2732400" cy="2224080"/>
          </a:xfrm>
          <a:prstGeom prst="rect">
            <a:avLst/>
          </a:prstGeom>
          <a:solidFill>
            <a:srgbClr val="8c4881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1120" y="244440"/>
            <a:ext cx="57992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ystem Engineer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411200"/>
            <a:ext cx="61452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lements of a computer-based system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Peopl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Documenta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Procedur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ystem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 hierarchy of macro-elemen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656B-F317-4BA6-BBF4-6D585BF6E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71640" y="930240"/>
            <a:ext cx="5159520" cy="4568760"/>
          </a:xfrm>
          <a:prstGeom prst="rect">
            <a:avLst/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4440" y="244080"/>
            <a:ext cx="325116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Hierarchy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89280" y="1014480"/>
            <a:ext cx="3538440" cy="43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0EC7-4408-417C-95F2-1EEE9C56ED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7560" y="244440"/>
            <a:ext cx="5167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ystem Model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fine the processes that serve the needs of the view under consideration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represent the behavior of the processes and the assumptions on which the behavior is based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xplicitly define both exogenous and endogenous input to the model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exogenous inputs link one constituent of a given view with other constituents at the same level of other levels; endogenous input links individual components of a constituent at a particular view.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represent all linkages (including output) that will enable the engineer to better understand the view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6300-EA97-41BA-AAA7-5993E85B61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08240" y="355320"/>
            <a:ext cx="671832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usiness Process Engineer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1128600"/>
            <a:ext cx="66294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ses an integrated set of procedures, methods, and tools to identify how information systems can best meet the strategic goals of an enter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ocuses first on the enterprise and then on the business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reates enterprise models, data models and process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reates a framework for better information management distribution,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7BA7-AC03-4001-8BE0-729C36865F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5080" y="244440"/>
            <a:ext cx="633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ystem Architectur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ree different architectures must be analyzed and designed within the context of business objectives and goals: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data architectur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applications architectur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technology infrastructur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3ff07"/>
                </a:solidFill>
                <a:latin typeface="Palatino"/>
              </a:rPr>
              <a:t>data architecture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provides a framework for the information needs of a business or business func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3ff07"/>
                </a:solidFill>
                <a:latin typeface="Palatino"/>
              </a:rPr>
              <a:t>application architecture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encompasses those elements of a system that transform objects within the data architecture for some business purpos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3ff07"/>
                </a:solidFill>
                <a:latin typeface="Palatino"/>
              </a:rPr>
              <a:t>technology infrastructure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provides the foundation for the data and application architectur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CBA5-9C3B-4F87-84AC-E7084D13FF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2160" y="244080"/>
            <a:ext cx="427968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BPE Hierarchy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0640" y="1079280"/>
            <a:ext cx="612144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Information strategy planning (ISP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trategic goals defin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uccess factors/business rules identifi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nterprise model creat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Business area analysis (BAA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ocesses/services model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interrelationships of processes and data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Application Engineerin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.k.a ... software engineering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modeling applications/procedures that address (BAA) and constraints of ISP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Construction and deliver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6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using CASE and 4GTs, testing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FCCA-A7C9-4BF1-9657-B884DEAF13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4520" y="355320"/>
            <a:ext cx="683280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Information Strategy Plann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082520"/>
            <a:ext cx="657864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nagement issu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fine strategic business goals/objectiv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solate critical success factor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nduct analysis of technology impac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erform analysis of strategic system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echnical issu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reate a top-level data mod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uster by business/organizational area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fine model and clusterin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00A0-13FA-4F41-A7BC-3FBC27D167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6880" y="355320"/>
            <a:ext cx="687060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Defining Objectives and Goal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68560" y="14241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Objective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—general statement of directio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Goal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—defines measurable objective: “reduce manufactured cost of our product”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Zapf 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ff07"/>
                </a:solidFill>
                <a:latin typeface="Palatino"/>
              </a:rPr>
              <a:t>Subgoals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crease reject rate by 20% in first 6 month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gain 10% price concessions from supplier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Zapf Dingbat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re-engineer 30% of components for ease of manufacture during first year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bjectives tend to be strategic while goals tend to be tactica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2E60-3A38-4628-B08A-24E5DE0FDC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0:57:40Z</dcterms:created>
  <dc:creator>Roger Pressman</dc:creator>
  <dc:description/>
  <dc:language>en-US</dc:language>
  <cp:lastModifiedBy>Roger Pressman</cp:lastModifiedBy>
  <dcterms:modified xsi:type="dcterms:W3CDTF">2003-09-11T14:45:16Z</dcterms:modified>
  <cp:revision>133</cp:revision>
  <dc:subject/>
  <dc:title>Transparency Masters for Software Engineering: A Practitioner's Approach, 4/e</dc:title>
</cp:coreProperties>
</file>