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B2B-1938-4495-8158-0D7DCA9E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E75-B868-45AD-A1DF-0B07E0E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377-417F-4562-8C3C-4B9343F6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D55-6B93-44B5-B226-8F79330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9BE7-B275-4801-8C75-1C66185C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D1A-7D6C-4116-97B2-AE48927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FD5-28A7-4344-8549-840E7D2E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F739-5B2F-4FDF-9E20-DB0FFC58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210-3513-4700-BCDF-B1A81CC9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642D-602D-4760-BB44-87BA976B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379A-1876-4554-B820-5E40D871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3D0-5663-4AF3-8FAE-636A027D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D276-1A9F-482D-B0A2-CA1F114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9AEE-4594-4F34-A6CE-1575D4E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B9DD-259C-467E-BB65-9613D6D1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FD37-EA17-48B2-9A42-67E6E79A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1D02-46FB-4132-A642-FA85C22A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22A-DBB7-4544-A139-385D2661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86E-8AD6-4B3B-BB02-3F8C3DCA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DD7-A275-4107-8B23-C5A060E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A7A-476E-4CF4-9FE0-75CBF78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388-F99D-4147-807F-38D8E26C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E89-340D-4606-B847-E43FF2F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C9C-C3B8-4DC6-B872-3445A488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720-E28C-4A49-84F5-3075A5D6ED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4FF-B06C-4DA2-9922-F842058E37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p.com.au/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www.pccomputernotes.com/" TargetMode="External"/><Relationship Id="rId4" Type="http://schemas.openxmlformats.org/officeDocument/2006/relationships/hyperlink" Target="http://www.wikipedia.com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o What am I Presenting to you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Ex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nects different external devices to the rest of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riph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ansion S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\O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ive Conn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Simpler Terms the External Bus allows various devices to be added to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External Bus is also known as the Expansion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Architect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Busses connect different parts of the motherboard to one another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522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6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ront Side Bus Connects the CPU to the Northbridge. (Determines the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ackside Bus connects to the C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emory Bus connects the Northbridge to the 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DE\ATA Bus Connects the Southbridge to the disk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PCI Bus Connects the PCI Slots to the South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CI Express is the more latest BUS and eliminates the AGP BUS by introducing another PCI Express BUS to the graphics c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Travels on the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!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has to be exchanged between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art of the bus is dedicated to moving this data, this is what we call the Dat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found on both the Internal and 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is stored, manipulated and processed in 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omputer has to move information in and out of memory, and it has to keep track of which information has to go 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t has to keep a MAP of the different address locations in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ddress BU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has to transmit and describe the locations of the memory so other components can access and locat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Information used to describe the locations of the memory to the Components travels along the ADDRESS B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ore Memory locations that a processor addresses, the more RAM it use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G3.32: Memor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urrent memory in most of the computers is 256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 Computer 25 has 128 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are 2 168 PIN DIMM slots, however only 1 is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y use 133MHz SDRAM Mod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ximum memory you can put in each slot is 512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d the maximum memory the Motherboard can handle is 512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198864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US on this Motherboard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n Architectu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formatio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aken from the HP Website, using their technical reference manual from </a:t>
            </a: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hp.com.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so searching through the Google website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howstuffwork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pccomputernot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www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314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ank you for staying awake and liste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7086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s Selected by our Teacher Sharon….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 am Doing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attery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PU, has to be able to send out different types of data, information and values to all devices and components through the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f you look underneath your motherboa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'll see a whole network of lines or electronic pathways that join the different components toge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Research I have gathered that the wires are co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Hence, 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electronic pathways are nothing more than tiny wires that carry information, data and different signals throughout the computer to different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is what we call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ypes of B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Computers Bus is divided into 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cts different components inside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l other components on the mother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Internal Bus is also known as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3:53:06Z</dcterms:created>
  <dc:creator>Fotis</dc:creator>
  <dc:description/>
  <dc:language>en-US</dc:language>
  <cp:lastModifiedBy>sgg331-06</cp:lastModifiedBy>
  <dcterms:modified xsi:type="dcterms:W3CDTF">2007-03-08T07:09:06Z</dcterms:modified>
  <cp:revision>4</cp:revision>
  <dc:subject/>
  <dc:title>So What am I Presenting to you???</dc:title>
</cp:coreProperties>
</file>