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7CB-A012-4CAC-9004-0B45EA4D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1F5-D870-45EF-9D9B-7B35D5F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62C-8DE6-419F-8304-7CE8854D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1D0-ABC6-4A08-ABB6-FB2C548B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B41C-8500-4CD7-9E10-BC15BC78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F5B9-448A-4365-9CE3-AAC6C02F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64A-4602-4C95-AD9F-B4ADB270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B47A-B435-43BC-BF5F-68D8C4E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93F-4B6F-48E5-907D-3CBD5D33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173F-5D66-455A-A4CA-64920D4A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68A2-9ED8-4FB8-B7CD-9BE1DB5A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39F-05BD-4532-BE7A-730F8B3C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763C-98FA-457E-8244-D210ADB3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BF10-4E1C-4E6B-996A-CF2BE249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1CB0-8208-41A3-8CAB-968D82C5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7DBD-56D3-4CE5-8520-BE836830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75B-5907-4C20-AF48-796764AD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805-5127-4D49-B911-AEC7A254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032-2C05-4607-B271-46DB59E8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00F-E3EE-42F8-A1C8-BD425079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B00-B274-49D5-BE9F-5A097A9F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BDA-1CA1-4ABF-A2AE-D7812EEC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802-1C30-4A58-B180-B2A29DB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1A6-5BB5-47BE-810F-37EC6C9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3AA2-8726-47D2-8997-1795D850958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003-3106-4FBF-95CD-4B4D87D457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0246-2C01-4685-A0F4-5A0C2F5D418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3D1A-BF5A-4BB8-82AF-4284F3BB9C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ntrollers </a:t>
            </a: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(hard drive controllers)</a:t>
            </a:r>
            <a:endParaRPr b="0" i="1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7284"/>
          <a:stretch/>
        </p:blipFill>
        <p:spPr>
          <a:xfrm>
            <a:off x="1800360" y="3608280"/>
            <a:ext cx="540072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F10A-C9B3-45AA-ACDD-F50ADDF484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Controllers used in lab :G3.3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tandard floppy disk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Intel Bus Master IDE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Primary IDE Channel [Controller]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econdary IDE Channel [Controller]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C1D-C83E-4DA9-8E33-5AB97A5D6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Summary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ntroller is a hardware device it can be an expansion card or integrated onto the computer motherboar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t enables communication between The computer and another hardware dev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_ARCOIDE" descr=""/>
          <p:cNvPicPr/>
          <p:nvPr/>
        </p:nvPicPr>
        <p:blipFill>
          <a:blip r:embed="rId1"/>
          <a:srcRect l="0" t="15088" r="0" b="0"/>
          <a:stretch/>
        </p:blipFill>
        <p:spPr>
          <a:xfrm>
            <a:off x="1655640" y="4184640"/>
            <a:ext cx="630252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7A4-52BD-4F18-A4CB-2A4869C74F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is a controller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 device that controls the transfer of data from a computer to a peripheral device For example, disk drives, display screens, keyboards, and printers all require controll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n personal computers, the controllers are often single chips. When you buy a computer, it comes with all the necessary controller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f you attach additional devices you may need to insert new controllers that come on expansion card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A9A-01BA-489E-BAF9-1A1363E6F1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dis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graphics controller or video display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etwor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keyboar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RAI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CSI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B23-FF4B-402C-902B-F4F4F2FB88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" sz="3300" spc="-1" strike="noStrike">
                <a:solidFill>
                  <a:srgbClr val="336666"/>
                </a:solidFill>
                <a:latin typeface="Arial Black"/>
              </a:rPr>
              <a:t>Disk controll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disk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is the circuit which allows the CPU to communicate with a hard disk, floppy disk or other kind of disk dr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Early disk controllers were identified by their storage methods and data encoding. They were typically implemented on a separate controller ca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Modern disk controllers are integrated into the disk drive. The interface between the computer and hard disk is called a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host adap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C31-5467-43E4-9FD5-190240AE53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Host adapter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n computer hardware, a host adapter or host bus adapter (HBA) connects a host system (the computer) to other network and storage devic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Image:QLA 2200F.jpg"/>
          <p:cNvPicPr/>
          <p:nvPr/>
        </p:nvPicPr>
        <p:blipFill>
          <a:blip r:embed="rId1"/>
          <a:srcRect l="5129" t="10141" r="7689" b="18373"/>
          <a:stretch/>
        </p:blipFill>
        <p:spPr>
          <a:xfrm>
            <a:off x="2087640" y="3608280"/>
            <a:ext cx="525600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813-F268-4299-90A9-BD61B1DB7A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hard disk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The most common types in use are IDE, Serial ATA, and SCSI(controller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Most home personal computers use an IDE or Serial ATA interfac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network file servers mostly have SCS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F4A-BA78-4505-B3AB-E885F69544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IDE- Integrated Drive Electronic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A type of hardware interface widely used to connect hard disks, and  optical disks to a PC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43280" y="3537000"/>
            <a:ext cx="428472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4ED-0430-4000-BE52-5D05994E8D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ATA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) is a standard interface for connecting storage devices such as hard disks and CD-ROM drives inside personal comput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Serial 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is a computer bus technology designed for transfer of data to and from hard disks and optical driv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3DB-435B-4CE1-901A-93F3AFA95D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CSI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mall Computer System Interface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)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s a set of standards for physically connecting and transferring data between computers and peripheral devi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SCSI is most commonly used for hard disks, but it can connect a wide range of other devices, including scanners, printers, and optical drive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C2D-29D0-4DA6-9F20-C04F4AFE72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GG331-11</cp:lastModifiedBy>
  <dcterms:modified xsi:type="dcterms:W3CDTF">2007-03-08T07:20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