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B1A0-0C05-497E-9CCF-EF34A8443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393C-A7FC-4E95-89F5-834EC895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3FA3-A890-42C6-ACF6-24DF1F0AF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8C92-7B91-4A3E-868F-8B73952B3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428E-3426-41A4-9C6B-3EAE52B32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820D-4CF6-4FC2-8B5A-DF33AD98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EC8E-FE10-491E-92F2-64E6F1F3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BF9B-8DEA-496A-A600-FD68AA0E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1FC7-CD9C-4535-A589-9BCC4A8A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C1D6-DB5E-41E4-B453-D9A166E7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2705-87B6-42D3-855E-D02C07E6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8B7B-2FB3-4A4A-934E-DEFD9781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677B-7206-43AD-A481-9E5415ED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D728-8BD3-408C-956B-FCB0353F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890A-1C55-4A6D-A64F-0CA43602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D3B2-157B-4AB2-9F81-046F17E16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CA6B-9380-44DD-8D25-D2B2ABDB4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0CF8-A519-4FF7-9DA3-D3ECB636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28B1-8839-4F8A-A08C-25BE8840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99BB-CF47-4C19-850E-3C850868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99F7-648B-4D36-8B84-0A0A6BA1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D312-27CB-43C0-81A1-58353843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1ECA-283F-46DE-A856-5864CFFB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F3FE-74EE-402E-8C46-FB7B3453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152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304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457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609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762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914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1066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1219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1371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1523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676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1828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1981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2133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2438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2590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2743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2895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Rectangle 23"/>
          <p:cNvSpPr/>
          <p:nvPr/>
        </p:nvSpPr>
        <p:spPr>
          <a:xfrm>
            <a:off x="3048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Rectangle 24"/>
          <p:cNvSpPr/>
          <p:nvPr/>
        </p:nvSpPr>
        <p:spPr>
          <a:xfrm>
            <a:off x="3200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Rectangle 25"/>
          <p:cNvSpPr/>
          <p:nvPr/>
        </p:nvSpPr>
        <p:spPr>
          <a:xfrm>
            <a:off x="3352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Rectangle 26"/>
          <p:cNvSpPr/>
          <p:nvPr/>
        </p:nvSpPr>
        <p:spPr>
          <a:xfrm>
            <a:off x="3505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Rectangle 27"/>
          <p:cNvSpPr/>
          <p:nvPr/>
        </p:nvSpPr>
        <p:spPr>
          <a:xfrm>
            <a:off x="3657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Rectangle 28"/>
          <p:cNvSpPr/>
          <p:nvPr/>
        </p:nvSpPr>
        <p:spPr>
          <a:xfrm>
            <a:off x="3809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Rectangle 29"/>
          <p:cNvSpPr/>
          <p:nvPr/>
        </p:nvSpPr>
        <p:spPr>
          <a:xfrm>
            <a:off x="3962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Rectangle 30"/>
          <p:cNvSpPr/>
          <p:nvPr/>
        </p:nvSpPr>
        <p:spPr>
          <a:xfrm>
            <a:off x="4114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Rectangle 31"/>
          <p:cNvSpPr/>
          <p:nvPr/>
        </p:nvSpPr>
        <p:spPr>
          <a:xfrm>
            <a:off x="4267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Rectangle 32"/>
          <p:cNvSpPr/>
          <p:nvPr/>
        </p:nvSpPr>
        <p:spPr>
          <a:xfrm>
            <a:off x="4419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Rectangle 33"/>
          <p:cNvSpPr/>
          <p:nvPr/>
        </p:nvSpPr>
        <p:spPr>
          <a:xfrm>
            <a:off x="45720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Rectangle 34"/>
          <p:cNvSpPr/>
          <p:nvPr/>
        </p:nvSpPr>
        <p:spPr>
          <a:xfrm>
            <a:off x="4724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Rectangle 35"/>
          <p:cNvSpPr/>
          <p:nvPr/>
        </p:nvSpPr>
        <p:spPr>
          <a:xfrm>
            <a:off x="4876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Rectangle 36"/>
          <p:cNvSpPr/>
          <p:nvPr/>
        </p:nvSpPr>
        <p:spPr>
          <a:xfrm>
            <a:off x="5029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Rectangle 37"/>
          <p:cNvSpPr/>
          <p:nvPr/>
        </p:nvSpPr>
        <p:spPr>
          <a:xfrm>
            <a:off x="5181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Rectangle 38"/>
          <p:cNvSpPr/>
          <p:nvPr/>
        </p:nvSpPr>
        <p:spPr>
          <a:xfrm>
            <a:off x="5334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Rectangle 39"/>
          <p:cNvSpPr/>
          <p:nvPr/>
        </p:nvSpPr>
        <p:spPr>
          <a:xfrm>
            <a:off x="5486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Rectangle 40"/>
          <p:cNvSpPr/>
          <p:nvPr/>
        </p:nvSpPr>
        <p:spPr>
          <a:xfrm>
            <a:off x="5638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Rectangle 41"/>
          <p:cNvSpPr/>
          <p:nvPr/>
        </p:nvSpPr>
        <p:spPr>
          <a:xfrm>
            <a:off x="5791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Rectangle 42"/>
          <p:cNvSpPr/>
          <p:nvPr/>
        </p:nvSpPr>
        <p:spPr>
          <a:xfrm>
            <a:off x="5943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Rectangle 43"/>
          <p:cNvSpPr/>
          <p:nvPr/>
        </p:nvSpPr>
        <p:spPr>
          <a:xfrm>
            <a:off x="6095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Rectangle 44"/>
          <p:cNvSpPr/>
          <p:nvPr/>
        </p:nvSpPr>
        <p:spPr>
          <a:xfrm>
            <a:off x="6248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45"/>
          <p:cNvSpPr/>
          <p:nvPr/>
        </p:nvSpPr>
        <p:spPr>
          <a:xfrm>
            <a:off x="6400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46"/>
          <p:cNvSpPr/>
          <p:nvPr/>
        </p:nvSpPr>
        <p:spPr>
          <a:xfrm>
            <a:off x="6553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47"/>
          <p:cNvSpPr/>
          <p:nvPr/>
        </p:nvSpPr>
        <p:spPr>
          <a:xfrm>
            <a:off x="6705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48"/>
          <p:cNvSpPr/>
          <p:nvPr/>
        </p:nvSpPr>
        <p:spPr>
          <a:xfrm>
            <a:off x="68580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49"/>
          <p:cNvSpPr/>
          <p:nvPr/>
        </p:nvSpPr>
        <p:spPr>
          <a:xfrm>
            <a:off x="7010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50"/>
          <p:cNvSpPr/>
          <p:nvPr/>
        </p:nvSpPr>
        <p:spPr>
          <a:xfrm>
            <a:off x="7162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51"/>
          <p:cNvSpPr/>
          <p:nvPr/>
        </p:nvSpPr>
        <p:spPr>
          <a:xfrm>
            <a:off x="7315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52"/>
          <p:cNvSpPr/>
          <p:nvPr/>
        </p:nvSpPr>
        <p:spPr>
          <a:xfrm>
            <a:off x="7467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53"/>
          <p:cNvSpPr/>
          <p:nvPr/>
        </p:nvSpPr>
        <p:spPr>
          <a:xfrm>
            <a:off x="7620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54"/>
          <p:cNvSpPr/>
          <p:nvPr/>
        </p:nvSpPr>
        <p:spPr>
          <a:xfrm>
            <a:off x="7772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55"/>
          <p:cNvSpPr/>
          <p:nvPr/>
        </p:nvSpPr>
        <p:spPr>
          <a:xfrm>
            <a:off x="7924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56"/>
          <p:cNvSpPr/>
          <p:nvPr/>
        </p:nvSpPr>
        <p:spPr>
          <a:xfrm>
            <a:off x="8077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57"/>
          <p:cNvSpPr/>
          <p:nvPr/>
        </p:nvSpPr>
        <p:spPr>
          <a:xfrm>
            <a:off x="8229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58"/>
          <p:cNvSpPr/>
          <p:nvPr/>
        </p:nvSpPr>
        <p:spPr>
          <a:xfrm>
            <a:off x="8381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59"/>
          <p:cNvSpPr/>
          <p:nvPr/>
        </p:nvSpPr>
        <p:spPr>
          <a:xfrm>
            <a:off x="8534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60"/>
          <p:cNvSpPr/>
          <p:nvPr/>
        </p:nvSpPr>
        <p:spPr>
          <a:xfrm>
            <a:off x="8686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61"/>
          <p:cNvSpPr/>
          <p:nvPr/>
        </p:nvSpPr>
        <p:spPr>
          <a:xfrm>
            <a:off x="8839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62"/>
          <p:cNvSpPr/>
          <p:nvPr/>
        </p:nvSpPr>
        <p:spPr>
          <a:xfrm>
            <a:off x="8991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63"/>
          <p:cNvSpPr/>
          <p:nvPr/>
        </p:nvSpPr>
        <p:spPr>
          <a:xfrm>
            <a:off x="684360" y="0"/>
            <a:ext cx="846288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812B-0E92-446E-856C-417584412BE3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75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3" name="Group 71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4" name="Rectangle 3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Rectangle 4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Rectangle 5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6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7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8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9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10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1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2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3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4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5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6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7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8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9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20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1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2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3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4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5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6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7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8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9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30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1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2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3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4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5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6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7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8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9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40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1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2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3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4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5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6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7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8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9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50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1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2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3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4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5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6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7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8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9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60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1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2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4" name="Rectangle 63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Rectangle 64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6" name="Rectangle 65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2E54-A5DA-48C0-9404-E3971D0203E0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3366"/>
                </a:solidFill>
                <a:latin typeface="Verdana"/>
              </a:rPr>
              <a:t>The Budget Interview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Leo Isaa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2209680" y="4114800"/>
            <a:ext cx="6096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e following slides provide advice to help you determine the difference between good and not so good interview questions. Click your left mouse button to step through the present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1918440" y="152388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What is sold at the ba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752480" y="297180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Silly question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1941840" y="1523880"/>
            <a:ext cx="530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How many competitions have been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planned for the current seas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752480" y="2971800"/>
            <a:ext cx="611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Isn’t it next season you are budgeting fo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Anyway, just ask for next years calendar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1752480" y="1523880"/>
            <a:ext cx="60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What is the ration of male to female participant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752480" y="297180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How will this help your budgeting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1969560" y="1523880"/>
            <a:ext cx="52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What is the buying cost of trophi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752480" y="2971800"/>
            <a:ext cx="611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You could obtain basic information about the cost of trophies by visiting a web si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2012040" y="152388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How much is the electricity bill per yea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752480" y="2971800"/>
            <a:ext cx="611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Why not ask for a copy of previous year’s financial accounts? Then you can get information on many cos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1930680" y="1523880"/>
            <a:ext cx="48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How much is player registra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752480" y="2971800"/>
            <a:ext cx="611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is information is likely found on the web site or in promotional brochu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026"/>
          <p:cNvSpPr/>
          <p:nvPr/>
        </p:nvSpPr>
        <p:spPr>
          <a:xfrm>
            <a:off x="1752480" y="152388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Is your organisation a profit or non-profit organisation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1027"/>
          <p:cNvSpPr/>
          <p:nvPr/>
        </p:nvSpPr>
        <p:spPr>
          <a:xfrm>
            <a:off x="1752480" y="297180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Question makes you look dumb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2001600" y="1523880"/>
            <a:ext cx="626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Does the club have any gaming machin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752480" y="297180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Look and see for yourself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1752480" y="152388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What is the total cost of club merchandis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752480" y="2971800"/>
            <a:ext cx="611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oo complicated, interviewee unlikely to know the answer. Better to simply ask about types of product sol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1752480" y="152388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What functions do you run through the yea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752480" y="2971800"/>
            <a:ext cx="611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You will need to explain what is a function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1995120" y="1523880"/>
            <a:ext cx="56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What are the pay rates for employe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752480" y="297180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is information may be too sensitiv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2001600" y="1523880"/>
            <a:ext cx="626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Does the club have any gaming machin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1752480" y="297180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Look and see for yourself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970280" y="1523880"/>
            <a:ext cx="60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Does the organisation have a clubhous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1752480" y="2971800"/>
            <a:ext cx="611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You will get some strange looks, if you ask this question, especially if you are sitting in one at time of interview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14:02:15Z</dcterms:created>
  <dc:creator>Leo</dc:creator>
  <dc:description/>
  <dc:language>en-US</dc:language>
  <cp:lastModifiedBy>ds0929</cp:lastModifiedBy>
  <dcterms:modified xsi:type="dcterms:W3CDTF">2012-11-04T13:01:54Z</dcterms:modified>
  <cp:revision>3</cp:revision>
  <dc:subject/>
  <dc:title>PowerPoint Presentation</dc:title>
</cp:coreProperties>
</file>