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16C-BA72-45BF-B95B-A2D1574C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A36-88F3-4A01-BE80-9A6B7FA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EE3-C09D-48D3-84A5-A7C4B7FA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91E-A596-47F0-AB78-CF728BF1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0C02-7304-4BC0-B35B-60384056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3BB2-1162-4229-8012-71E1CA2E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2A3-3DE2-4DB2-8E75-1EA43091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B4FF-6AC0-4465-8AE8-7E5BEF36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D46C-C785-45A6-81B0-E78AB891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ACFF-D026-4209-9F23-11E6632B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AC41-1214-4FEC-962B-F7AA889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8E2-49AA-4CA0-8D74-CE41E1DE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A05F-E2E2-4E20-9F90-835055A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3C0F-75AB-4614-B83F-A54AB3A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45C9-7B29-43B4-AC54-3CBF145F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3D58-A329-430B-B257-2704CF0E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90DD-40AC-441E-A3B6-F4F307B3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21C-A627-4944-BFF9-BC547849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C22-31B8-484C-8E62-20EE911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773-54F6-446E-92E7-3D0D4B2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DA2-41C0-43D9-A403-72656692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B0A-CC3E-4913-9745-981D804E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670-125D-42B8-AAEA-A560068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258-84E0-4135-B8D1-59135D8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6F9F-37EB-4DCD-947F-2256B52A500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E3D-05AB-426C-8B11-3827B134302D}" type="slidenum">
              <a:rPr b="0" lang="en-A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esenting Your Budg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y Leo Isaa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Basic Ru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10 minute 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overheads rather than palm ca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main features of your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e prepared to answer ques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ources of Inco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your main sources of inc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a chart to indicate percent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by showing key data upon which this income may depen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Membership nu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Program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Opening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Fee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fee structure for membership and particip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the fee structure by showing the overall profitability of the club, association or busines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Employe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d overview of the number of employees in the organis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ndicate the probable employment costs of individu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total cost of employment as a percentage of all cos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ogram Expendi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 overview of the main programs and servic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how you have costed the main program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and explain the key data upon which your program costing depend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hea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the most significant overheads apart from employment co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a pie chart that gives a breakdown in terms of percentag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all Sit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overall profit sit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some key points about overall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32:27Z</dcterms:created>
  <dc:creator>Leo</dc:creator>
  <dc:description/>
  <dc:language>en-US</dc:language>
  <cp:lastModifiedBy>ds0929</cp:lastModifiedBy>
  <dcterms:modified xsi:type="dcterms:W3CDTF">2012-11-04T13:03:25Z</dcterms:modified>
  <cp:revision>1</cp:revision>
  <dc:subject/>
  <dc:title>Presenting Your Budget</dc:title>
</cp:coreProperties>
</file>