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FE7-9C4C-4ED0-B83E-ECF29093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9F3-68DC-4920-AAA7-8E64B7A9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100-0595-4B1F-8654-EF253F9C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7D2-4E11-44D7-A811-4E75DC6A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68B4-8BA8-4DB6-82AA-7B5545EE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9944-D144-4DBE-A3F5-A4948FE5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6458-A67B-4B97-BBDE-0886F1F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599-8F2D-4F7C-9E26-F6084550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C21-047B-4E6D-AC11-548475DD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E735-80CC-4BB0-8668-D9F501A4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2907-36C4-492F-AC4B-E7FCC34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DC9-A525-4CA0-BFB7-9B804C49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0088-FA92-4EBF-A7E9-B2486421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D3AE-6997-4F15-AD13-C834D8A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899-ABCA-4D13-BE0A-6FCAEB1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6C39-C39E-433D-9499-52D88E7B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2E4C-3DB0-46A0-922D-BFD398EA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371-4464-457A-AE63-2B5C998D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6DA-DFAB-49BB-92C5-79AC56B3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7A3-DC2C-46DF-98B0-31ACD3EA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8A9-E9EA-442E-BF2C-39439609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A36-DB67-431D-9661-E92F89E4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66E-C1BA-4995-A291-E65D06C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0AC-AF66-4A4E-84E1-7C73B5A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070-7A5A-4EF8-A53E-D86C0CB83F6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D5D-BB55-4ACF-93B8-30B750853D63}" type="slidenum">
              <a:rPr b="0" lang="en-A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resenting Your Budg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y Leo Isaa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Basic Ru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10 minute 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Use overheads rather than palm ca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Describe main features of your budg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e prepared to answer ques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ources of Inco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Describe your main sources of inco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Use a chart to indicate percent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ustify by showing key data upon which this income may depen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Membership numb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Program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Opening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Fee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the fee structure for membership and particip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ustify the fee structure by showing the overall profitability of the club, association or busines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Employe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and overview of the number of employees in the organis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ndicate the probable employment costs of individu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the total cost of employment as a percentage of all cos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rogram Expendi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an overview of the main programs and servic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how you have costed the main program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dentify and explain the key data upon which your program costing depend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Overhea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dentify the most significant overheads apart from employment co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a pie chart that gives a breakdown in terms of percentag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Overall Sit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overall profit sit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some key points about overall budg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32:27Z</dcterms:created>
  <dc:creator>Leo</dc:creator>
  <dc:description/>
  <dc:language>en-US</dc:language>
  <cp:lastModifiedBy>ds0929</cp:lastModifiedBy>
  <dcterms:modified xsi:type="dcterms:W3CDTF">2012-11-04T13:03:25Z</dcterms:modified>
  <cp:revision>1</cp:revision>
  <dc:subject/>
  <dc:title>Presenting Your Budget</dc:title>
</cp:coreProperties>
</file>