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162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15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89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15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89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ACCA-12F8-4887-B2BA-5005A58E2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D5E-4C2E-4505-9F31-576479F9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18A-E80D-4373-A157-DE3A7256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2E3-D7F9-43A7-BE96-38A60186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D6CB-D255-4062-8692-29B3EC9D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16D-B94E-41D9-9551-40D9EE5E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FFB-CA02-4665-98AB-8A07641E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162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D318-095C-41A7-9C1F-2CD549CF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B86-A5CA-4E51-8787-9E40859B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16D-40E3-41BA-9196-D08BE859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162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EF9-8D6A-4A0F-84B1-E58A6038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15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89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15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89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F92-E5EB-4F8B-B3EA-422B77A0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162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162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2" name=""/>
            <p:cNvSpPr/>
            <p:nvPr/>
          </p:nvSpPr>
          <p:spPr>
            <a:xfrm>
              <a:off x="0" y="685800"/>
              <a:ext cx="9144000" cy="5335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3">
              <a:lum bright="-12000"/>
            </a:blip>
            <a:stretch/>
          </p:blipFill>
          <p:spPr>
            <a:xfrm>
              <a:off x="0" y="0"/>
              <a:ext cx="119232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新細明體"/>
              </a:rPr>
              <a:t>Essentials of Management Information Systems, 6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新細明體"/>
              </a:rPr>
              <a:t>Chapter 1 Managing the Digital Fi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33520" y="6458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.</a:t>
            </a:r>
            <a:fld id="{CAC603C1-1D09-4502-8D99-E0A915AFA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02440" y="6477120"/>
            <a:ext cx="235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2005 by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3965-1825-400B-BFDF-EB45C236B1B9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3200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Managing the Digital Fi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685800"/>
            <a:ext cx="8001000" cy="763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9144000" cy="1219320"/>
            <a:chOff x="0" y="0"/>
            <a:chExt cx="9144000" cy="1219320"/>
          </a:xfrm>
        </p:grpSpPr>
        <p:sp>
          <p:nvSpPr>
            <p:cNvPr id="89" name=""/>
            <p:cNvSpPr/>
            <p:nvPr/>
          </p:nvSpPr>
          <p:spPr>
            <a:xfrm>
              <a:off x="0" y="685800"/>
              <a:ext cx="9144000" cy="533520"/>
            </a:xfrm>
            <a:prstGeom prst="rect">
              <a:avLst/>
            </a:pr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0" y="0"/>
              <a:ext cx="119232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ransformation of the Business 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lat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ecent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Location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Low transaction and coordination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Empower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llaborative work and team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ompetitive Business Environment and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Information technology capital investment 1980-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00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rcRect l="0" t="9577" r="0" b="0"/>
          <a:stretch/>
        </p:blipFill>
        <p:spPr>
          <a:xfrm>
            <a:off x="914400" y="1881360"/>
            <a:ext cx="7238880" cy="39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mergence of the Digital Fi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igitally enabled relationships with customers, suppliers, and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re business processes accomplished via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igital management of key corporate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Rapid sensing and responding to environmental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ompetitive Business Environment and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 set of interrelated components that coll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(or retrieve), process, store, and distribu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nformation to support decision mak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ntrol in an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hat Is an Information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ata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treams of raw facts representing events such as business transactions</a:t>
            </a:r>
            <a:br>
              <a:rPr sz="3200"/>
            </a:br>
            <a:r>
              <a:rPr b="0" lang="en-US" sz="32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:</a:t>
            </a:r>
            <a:r>
              <a:rPr b="0" lang="en-US" sz="32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Clusters of data that are meaningful and useful to human be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hat Is an Information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Data an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00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0" t="10303" r="0" b="0"/>
          <a:stretch/>
        </p:blipFill>
        <p:spPr>
          <a:xfrm>
            <a:off x="762120" y="1990800"/>
            <a:ext cx="761976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unctions of an informa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0" t="9146" r="0" b="0"/>
          <a:stretch/>
        </p:blipFill>
        <p:spPr>
          <a:xfrm>
            <a:off x="1676520" y="1828800"/>
            <a:ext cx="57196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rm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ixed definitions of data and procedures for collecting, storing, processing, disseminating, and using these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an be computer-based or manual</a:t>
            </a:r>
            <a:br>
              <a:rPr sz="2600"/>
            </a:br>
            <a:r>
              <a:rPr b="0" lang="en-US" sz="26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uter-based 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Use computer hardware and software to process and disseminate inform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hat Is an Information Syste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UPS Competes Globally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are the inputs, processing, and outputs of UPS’s package tracking system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technologies are use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How are these technologies related to UPS’s business strategy? How do they provide value for the compan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would happen if these technologies were not availabl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indow on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business information value 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rcRect l="0" t="9463" r="0" b="0"/>
          <a:stretch/>
        </p:blipFill>
        <p:spPr>
          <a:xfrm>
            <a:off x="1143000" y="1805040"/>
            <a:ext cx="68580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is the role of information systems in today’s competitive business environment?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exactly is an information system? What do managers need to know about information systems?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How are information systems transforming organizations and manage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Information systems are more than compu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0" t="8107" r="0" b="0"/>
          <a:stretch/>
        </p:blipFill>
        <p:spPr>
          <a:xfrm>
            <a:off x="2390760" y="1725480"/>
            <a:ext cx="423864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 systems literacy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</a:t>
            </a: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Broad-based understanding of information systems that includes behavioral knowledge about organizations and individuals using information systems and technical knowledge about computers</a:t>
            </a:r>
            <a:br>
              <a:rPr sz="2600"/>
            </a:br>
            <a:r>
              <a:rPr b="0" lang="en-US" sz="26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uter literacy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</a:t>
            </a: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Knowledge about information technology, focusing on understanding how computer-based technologies 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jor Business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ales and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anufa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Human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Key Elements of an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Operating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agement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enior manager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make long-range strategic decisions about products and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iddle manager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carry out the programs and plans of senior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perational manager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monitor the firm’s daily activi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formation Technology (IT) Infrastru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mputer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mputer 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torage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mmunications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Complementary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ssets required to derive value from a primary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an be organizational, managerial, or social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echnology investments supported by investment in complementary assets receive superior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Variation in returns on information technology 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rcRect l="0" t="8813" r="0" b="0"/>
          <a:stretch/>
        </p:blipFill>
        <p:spPr>
          <a:xfrm>
            <a:off x="2095560" y="1828800"/>
            <a:ext cx="49147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rganizational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upportive organizational culture valuing efficiency and effect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Efficient business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ecentralized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istributed decision-making r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trong IS development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Managerial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trong senior management support for technology investment and chang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ncentives for management innov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eamwork and collaborative work environ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anagement training progr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anagement culture valuing flexibility and knowledge-based decision ma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How have the Internet and Internet technology transformed business and government?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hat are the major management challenges to building and using information syst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cial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he Internet and telecommunications infrastructu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T-enriched educational progra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Governmental and private-sector stand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Laws and regulations creating fair, stable market environ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echnology and service firms in adjacent markets to assist imple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cial As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echnical approach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emphasizes mathematically based models, physical technology, and formal capabilities of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havioral approach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studies issues arising from development and maintenance of systems, such as business integration and uti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ontemporary Approaches to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Business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ontemporary Approaches to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Contemporary approaches to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rcRect l="0" t="10560" r="0" b="0"/>
          <a:stretch/>
        </p:blipFill>
        <p:spPr>
          <a:xfrm>
            <a:off x="838080" y="1998720"/>
            <a:ext cx="739152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Sociotechnic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anagement Information Systems (M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ystem performance optimized when technology and organization adjust to each other for a satisfactory 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ontemporary Approaches to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ontemporary Approaches to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 sociotechnical perspective on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rcRect l="0" t="10852" r="0" b="0"/>
          <a:stretch/>
        </p:blipFill>
        <p:spPr>
          <a:xfrm>
            <a:off x="838080" y="2057400"/>
            <a:ext cx="754380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interdependence between organizations and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0" t="14683" r="0" b="0"/>
          <a:stretch/>
        </p:blipFill>
        <p:spPr>
          <a:xfrm>
            <a:off x="2138400" y="1981080"/>
            <a:ext cx="479592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950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Technical changes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960s-70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Managerial controls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1980s-90s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Institutional core activ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oday:</a:t>
            </a: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 Digital information webs extending beyond the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Widening Scope of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widening scope of informatio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rcRect l="0" t="12812" r="0" b="0"/>
          <a:stretch/>
        </p:blipFill>
        <p:spPr>
          <a:xfrm>
            <a:off x="762120" y="2209680"/>
            <a:ext cx="761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nternational network of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Universal technology platform: Any computer can communicate with any other compu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World Wide Web and Web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Network Revolution and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What You Can Do on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mmunicate and collabo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ccess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Participate in discu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upply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ind entertai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Exchange business trans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Network Revolution and the 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Management Challe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esign competitive and effective systems.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Understand system requirements of global business environment. 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reate information architecture that supports organization’s go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lattening organizations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eparating work from location 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Reorganizing workflows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ncreasing flexibility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Redefining organizational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295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ew Options for Organizational Design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Digital Firm and the Collaborative Enterp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lattening organ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rcRect l="0" t="9354" r="0" b="0"/>
          <a:stretch/>
        </p:blipFill>
        <p:spPr>
          <a:xfrm>
            <a:off x="2057400" y="1905120"/>
            <a:ext cx="490536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designed workflow for insurance 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rcRect l="0" t="13664" r="0" b="0"/>
          <a:stretch/>
        </p:blipFill>
        <p:spPr>
          <a:xfrm>
            <a:off x="380880" y="2362320"/>
            <a:ext cx="83822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Electronic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Electronic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新細明體"/>
              </a:rPr>
              <a:t>Digital market: Information system that links buyers and sellers to exchange information, products, services, pay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 Brazilian Dime St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Becomes an E-Commerce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How did the Web change the way Lojas Americanas ran its busine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How did the Web site provide value for this compan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Window on Organiz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Electronic business and electronic commerce in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04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0" t="9524" r="0" b="0"/>
          <a:stretch/>
        </p:blipFill>
        <p:spPr>
          <a:xfrm>
            <a:off x="2286000" y="1793880"/>
            <a:ext cx="444348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ectronic Commerce (e-commerce)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buying and selling goods and services electron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lectronic Business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executing all the firm’s business processes with Interne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tranet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private, secure business network based on Internet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Extranet:</a:t>
            </a: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 extension of intranet to authorized external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Toward the Digital Fi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Positive Impacts of 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Faster calculations and paper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nalysis of customer purchase patterns and p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ore efficient busines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edical adv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nstant global distribution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Learning to Use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hallenges of Information Systems:  Key Managemen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egative Impacts of Information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Automation leading to job eli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Privacy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ystem outages and shutd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Health problems, repetitive stress inj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Illegal distribution of 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Learning to Use Informatio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hallenges of Information Systems:  Key Management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Evaluate the role of information systems in the way Herman Miller runs its business. How important are the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Explain why z-Axis was an important step forward in the furniture business. How did it provide value for Herman Mill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Did z-Axis provide a competitive advantage for Herman Miller? Explain your answer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hapter 1 Cas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Herman Miller: Information Systems at the Crossr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Management Challen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etermine business value of information systems.</a:t>
            </a:r>
            <a:br>
              <a:rPr sz="2800"/>
            </a:br>
            <a:r>
              <a:rPr b="0" lang="en-US" sz="2800" spc="-1" strike="noStrike">
                <a:solidFill>
                  <a:srgbClr val="022a8e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Design systems people can control, understand and use in a socially, ethically responsible man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Should Herman Miller continue to invest in z-Axis? Why or why no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新細明體"/>
              </a:rPr>
              <a:t>What management challenges does this case study illustrate? Explain in your ans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Chapter 1 Case Stu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Herman Miller: Information Systems at the Crossr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Four powerful worldwide changes that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altered the business environ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Glob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Rise of the Information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ransformation of the Business Ente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700"/>
              </a:spcBef>
              <a:buClr>
                <a:srgbClr val="022a8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Emergence of the Digital Fi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ompetitive Business Environment and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Glob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Management and control in a global market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Competition in world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Global work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Global delivery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ompetitive Business Environment and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Rise of the Information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Knowledge- and information-based econ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New products a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Knowledge: a central productive and strategic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ime-based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Shorter product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Turbul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22a8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2a8e"/>
                </a:solidFill>
                <a:latin typeface="Times New Roman"/>
                <a:ea typeface="新細明體"/>
              </a:rPr>
              <a:t>Limited employee knowledg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Competitive Business Environment and the Emerging Digital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7300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新細明體"/>
              </a:rPr>
              <a:t>Why Information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The growth of the information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00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Figure 1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9054" r="0" b="0"/>
          <a:stretch/>
        </p:blipFill>
        <p:spPr>
          <a:xfrm>
            <a:off x="1219320" y="1905120"/>
            <a:ext cx="662940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7:50:18Z</dcterms:created>
  <dc:creator>Linda D</dc:creator>
  <dc:description/>
  <dc:language>en-US</dc:language>
  <cp:lastModifiedBy>Compaq</cp:lastModifiedBy>
  <dcterms:modified xsi:type="dcterms:W3CDTF">2007-06-13T00:38:52Z</dcterms:modified>
  <cp:revision>36</cp:revision>
  <dc:subject/>
  <dc:title>Managing the Digital Firm</dc:title>
</cp:coreProperties>
</file>