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72F-E241-4C42-A902-68619197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7E2-FD72-4982-AE94-2C70617F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2B0-DF1A-4FD3-8E80-03C3C87C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D25-6144-406F-A32F-F54D89F1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05A-407A-4DCE-B05B-CA5094AF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1DD-2B91-4F01-BE06-89E586E3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A3C-7FDB-4C4B-B02A-E6634A2A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5D3-5F41-4910-8D08-EEEAE32A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0C1-2A57-46AD-9C7E-9117A1B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953-4D01-4436-ACAB-158EB54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26F-6B0E-4595-B355-AFB53036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0AB-5FF1-4343-AAC3-7E4E6C11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3B6E-6354-4C33-B114-714FF9AFE0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5:26Z</dcterms:created>
  <dc:creator>U Kyaw Naing</dc:creator>
  <dc:description/>
  <dc:language>en-US</dc:language>
  <cp:lastModifiedBy>U Kyaw Naing</cp:lastModifiedBy>
  <dcterms:modified xsi:type="dcterms:W3CDTF">2012-09-23T11:23:07Z</dcterms:modified>
  <cp:revision>4</cp:revision>
  <dc:subject/>
  <dc:title>Slide 1</dc:title>
</cp:coreProperties>
</file>