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A38-7CC2-49B0-9872-E7D00658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0F8-1F69-4CA5-83EC-E43FF7B8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A60-8E92-484D-B627-21112304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91A-14CF-43D1-98C7-46D23112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BF3-3B5B-45E2-8B54-BCDC7F5C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52F-58D8-445A-B3FC-A8655109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748-A38D-44C2-B1D2-5D14745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C65-2801-4CF6-A8B3-D70C3DCD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738-0EF0-4EAC-9CE7-866728D9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E3E-8EF8-4756-BE41-BBF3D721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8F4-FEE9-4F50-AC8F-03C5DCBB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5AF-0A92-433A-8299-329A3A9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FC1C-CE46-4532-A988-EF1DC09E72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03Z</dcterms:created>
  <dc:creator>U Kyaw Naing</dc:creator>
  <dc:description/>
  <dc:language>en-US</dc:language>
  <cp:lastModifiedBy>U Kyaw Naing</cp:lastModifiedBy>
  <dcterms:modified xsi:type="dcterms:W3CDTF">2012-09-23T11:05:36Z</dcterms:modified>
  <cp:revision>2</cp:revision>
  <dc:subject/>
  <dc:title>Slide 1</dc:title>
</cp:coreProperties>
</file>