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B96-6C38-4D8E-9BF9-05AA47C7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1BC-7E55-4C4E-BBBE-6E11EBB0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ADA-4CC4-4413-AE3E-99C6F470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676-1776-434D-A916-0A05D9FD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453-3714-4D3A-863E-85281FE0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196-718F-4FB9-8705-8304D05A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16A-1824-4F25-9E00-DCE25B9E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472-AE00-4576-A6FF-3DDB40D8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956-3894-452D-92AD-62A1D5E0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CF6-55EC-4EF8-BFE0-484F224E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6D4-E4E8-480F-BB63-84F434F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372-DDBF-4AF5-8DB1-1BDDCAB3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2DA4-6399-40C9-AB8C-9E8869EDA9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40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6:03Z</dcterms:created>
  <dc:creator>U Kyaw Naing</dc:creator>
  <dc:description/>
  <dc:language>en-US</dc:language>
  <cp:lastModifiedBy>U Kyaw Naing</cp:lastModifiedBy>
  <dcterms:modified xsi:type="dcterms:W3CDTF">2012-09-23T11:05:36Z</dcterms:modified>
  <cp:revision>2</cp:revision>
  <dc:subject/>
  <dc:title>Slide 1</dc:title>
</cp:coreProperties>
</file>