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62D-4DD0-4E81-A636-E4236466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FE0-DEBD-469D-A9DE-D795AAAD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46CD-6AB4-4DF8-B3D6-D98CF0D7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12A-0030-4C92-A0E8-95CB60F2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65D-BFAE-4F1B-BC9F-AD09DA4A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CB4-C229-4B03-BED1-195AE021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E506-45AD-454A-8DFE-F53CB2F9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A50C-55B2-4ED0-9230-DAB80E82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25DD-A77E-4F0B-9765-14F72DF1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14BA-24D0-458A-AEBB-2EF5F152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BFB-A631-4823-B413-8892FC67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B44D-2F04-4C2A-BDF2-CC192720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1BC0-AE6B-4D16-996F-AACC84238F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3932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6:40Z</dcterms:created>
  <dc:creator>U Kyaw Naing</dc:creator>
  <dc:description/>
  <dc:language>en-US</dc:language>
  <cp:lastModifiedBy>U Kyaw Naing</cp:lastModifiedBy>
  <dcterms:modified xsi:type="dcterms:W3CDTF">2012-09-23T11:05:59Z</dcterms:modified>
  <cp:revision>2</cp:revision>
  <dc:subject/>
  <dc:title>Slide 1</dc:title>
</cp:coreProperties>
</file>