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8DE-4009-42FC-8B6D-F8759C1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58E-C5CA-4082-9DAA-EB8C3200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BAF9-93CF-4F77-8A5A-EFB2849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7DA-5727-484D-A21E-51149DE3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73A-52E3-4182-AAAF-4152779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B0C-B867-4D9D-836C-737A75B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DC3-EDE8-45D3-85DA-FA0C5D54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214-DFBC-408E-949B-E5E08D7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9AB-7468-4239-B6FB-F9DEB8B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BD2-8A30-416E-9DA4-FB08EB0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376-0073-4348-B00D-65CF4FFD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108-2007-4B4C-A458-F11032F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857-38C4-41C7-AC2F-BE6BF410DD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1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4:06Z</dcterms:created>
  <dc:creator>U Kyaw Naing</dc:creator>
  <dc:description/>
  <dc:language>en-US</dc:language>
  <cp:lastModifiedBy>U Kyaw Naing</cp:lastModifiedBy>
  <dcterms:modified xsi:type="dcterms:W3CDTF">2012-09-23T11:03:58Z</dcterms:modified>
  <cp:revision>2</cp:revision>
  <dc:subject/>
  <dc:title>Slide 1</dc:title>
</cp:coreProperties>
</file>