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567-88B9-4C97-8187-81F868AC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D35-4DA5-4B32-8644-050CBBEA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92B-FCD4-4D4D-AC77-DE8024C3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001-4835-40A3-A0F2-78FC0D08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F62-C63C-4DF2-9331-910F2CF6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D4D-7AE2-4063-97EB-EB2E6CEB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EC3-83A3-4E68-967D-BFA3F603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5C0-D4D9-40AD-A5AB-A6D9DC12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3CD-CD26-4B99-B388-B8C86ACB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5C2-F664-46E8-8DF9-4330E7CF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CFE-19D4-4404-BA0E-9831827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2FA-3CC6-4C2B-9AF8-BCE04BC7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85A4-09FB-4974-AC0E-097072A951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09080" cy="6335640"/>
          </a:xfrm>
          <a:prstGeom prst="rect">
            <a:avLst/>
          </a:prstGeom>
          <a:ln w="0">
            <a:noFill/>
          </a:ln>
        </p:spPr>
      </p:pic>
      <p:pic>
        <p:nvPicPr>
          <p:cNvPr id="42" name="Page 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65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8:32Z</dcterms:created>
  <dc:creator>U Kyaw Naing</dc:creator>
  <dc:description/>
  <dc:language>en-US</dc:language>
  <cp:lastModifiedBy>U Kyaw Naing</cp:lastModifiedBy>
  <dcterms:modified xsi:type="dcterms:W3CDTF">2012-09-23T11:08:35Z</dcterms:modified>
  <cp:revision>2</cp:revision>
  <dc:subject/>
  <dc:title>Slide 1</dc:title>
</cp:coreProperties>
</file>