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9D7A-3CBF-4C0B-ADB9-20A6E582E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CCB5-FDDB-4DED-AE79-8AF73EE3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7AB5-AD96-4A8B-BF87-23C01DFBE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C4C6-F336-4AF5-A6CC-0F7E35331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6C1C-18B2-4232-B020-7F9C96A3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4896-2186-42CF-9CE6-34E642EE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0CDE-FDA3-442C-9997-710ED669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5122-DAA8-4EC0-B357-759BF643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888F-304A-4A75-A21D-218EE1C9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DE79-3259-4FB4-A5E9-47AFFC6D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378A-82CA-467C-888C-C21ADB31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9537-025C-43FD-A2CE-2A498466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8DA6-E65C-45DA-BA19-E88C79BB97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7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7654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4:07:18Z</dcterms:created>
  <dc:creator>U Kyaw Naing</dc:creator>
  <dc:description/>
  <dc:language>en-US</dc:language>
  <cp:lastModifiedBy>U Kyaw Naing</cp:lastModifiedBy>
  <dcterms:modified xsi:type="dcterms:W3CDTF">2012-09-23T11:20:45Z</dcterms:modified>
  <cp:revision>2</cp:revision>
  <dc:subject/>
  <dc:title>Slide 1</dc:title>
</cp:coreProperties>
</file>