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BEB2-A59F-4F03-A185-83335482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E4B7-8E68-4BB0-AB24-6CC27F68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7F47-4C42-496D-8836-B834E198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F872-A763-4B47-82D3-F260B8D6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8458-E1C0-4FD4-997C-AD31DD56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F28B-DAF2-47EC-A46D-AE4BCDB8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25AE-2EF6-4CD5-BE73-3E7375D2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0859-0050-41B8-B4C3-94384A5A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4FF8-CBAC-4CCB-A03E-FA0E7F37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E403-1707-4D13-9C89-C5A1F234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259D-5DAF-4080-82B8-E5E0FB52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9147-AC3B-4057-BF53-A287F8B4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E4C8-9900-4F67-8BE2-1ED0D9AF2A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112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4:02:37Z</dcterms:created>
  <dc:creator>U Kyaw Naing</dc:creator>
  <dc:description/>
  <dc:language>en-US</dc:language>
  <cp:lastModifiedBy>U Kyaw Naing</cp:lastModifiedBy>
  <dcterms:modified xsi:type="dcterms:W3CDTF">2012-09-23T11:03:37Z</dcterms:modified>
  <cp:revision>2</cp:revision>
  <dc:subject/>
  <dc:title>Slide 1</dc:title>
</cp:coreProperties>
</file>