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388-D658-4875-992D-37F41583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780-92D7-457D-A6CD-4FC8C176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8D85-1652-4E6E-8646-E6978F57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231-F25B-4B7E-A343-7CD5578A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3DF-6D84-4A7E-B194-F751D270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2F8-4E05-4760-8D6A-69AA6B9C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BAD0-FA6A-47C4-94D8-9B75F3F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481-7E62-4E94-AC99-FDACC5B1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E31-E22A-4DE3-8101-72CB066C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ED1-B717-4AF0-BB1B-CA425B2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965-AAE6-45FA-A340-AAD9D31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0CF-7217-49A6-BF71-C2A6E34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42B5-149E-4C54-BE5D-5D9C317357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75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4:50Z</dcterms:created>
  <dc:creator>U Kyaw Naing</dc:creator>
  <dc:description/>
  <dc:language>en-US</dc:language>
  <cp:lastModifiedBy>U Kyaw Naing</cp:lastModifiedBy>
  <dcterms:modified xsi:type="dcterms:W3CDTF">2012-09-23T11:04:18Z</dcterms:modified>
  <cp:revision>2</cp:revision>
  <dc:subject/>
  <dc:title>Slide 1</dc:title>
</cp:coreProperties>
</file>