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4B1F-3ADA-4157-8FDD-52EF273C2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A7D9-9504-43B5-B691-02CCF9773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8DC7-9B3D-4EC4-9346-08BA744AF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AEE7-CF25-4F51-BB10-CB91C393D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9B9D-599F-4B02-89E6-0A4F5AFAF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2426-9A6F-4FE7-94C3-9BBB1F1D2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D407-3389-4CCC-B237-7FB47D4ED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91CE-26C1-42F5-93D2-A44741DBA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8C88-B652-4A0E-8D76-2DA4DCDCC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DD26-410A-47BF-8736-F88F01F1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6775-004C-4485-B294-6D53F3B0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B813-97DB-4A72-942A-CFA8164D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9C99A-C87C-46F3-903A-E6557A0264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UNP0020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75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8876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1:40:24Z</dcterms:created>
  <dc:creator>U Kyaw Naing</dc:creator>
  <dc:description/>
  <dc:language>en-US</dc:language>
  <cp:lastModifiedBy>U Kyaw Naing</cp:lastModifiedBy>
  <dcterms:modified xsi:type="dcterms:W3CDTF">2012-09-30T11:43:09Z</dcterms:modified>
  <cp:revision>1</cp:revision>
  <dc:subject/>
  <dc:title>Slide 1</dc:title>
</cp:coreProperties>
</file>