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F5A-E9D7-4056-AE1C-EAB463EA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1FD-7BC1-449A-A653-9C5754F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66F8-CA28-4512-8957-AABD5125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13A-2A80-4541-B3C3-8A02E24B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F22-2E42-443E-A957-FE0CEE95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879-CFC4-4237-9B7C-8FABC87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2DB-E9C1-41A8-B9AF-196FDB60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606-90FD-4C2E-9CC4-14ABA2F3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504-0F50-4245-9A90-88F13AF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BEE-2204-400F-B788-E214719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C0F-0C4D-43F6-A526-4DA7241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BBF-9157-48A7-B218-530F9B7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925E-9E2F-49A9-9E69-8501A4269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1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36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3:24Z</dcterms:created>
  <dc:creator>U Kyaw Naing</dc:creator>
  <dc:description/>
  <dc:language>en-US</dc:language>
  <cp:lastModifiedBy>U Kyaw Naing</cp:lastModifiedBy>
  <dcterms:modified xsi:type="dcterms:W3CDTF">2012-09-30T12:14:04Z</dcterms:modified>
  <cp:revision>1</cp:revision>
  <dc:subject/>
  <dc:title>Slide 1</dc:title>
</cp:coreProperties>
</file>