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A162-8601-41EF-8CC8-140FF9016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A7CE-E285-44CC-B3A9-9371495A6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E289-EC1C-4C09-9745-DE5CBF200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8146-F63F-4D00-8DBE-D1BA72E2D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53D2-15DE-48F1-94EB-943EDB3CE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E4F6-E6C2-4D19-83FE-5242407B9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CA50-8FF8-48DF-8111-1B77445B0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4DA5-4A43-4A0E-BA2B-30A404D6B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79ED-D97E-4242-97EE-751C902C4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A8E5-6813-4109-BAA6-8BE0B7363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E5E8-7D1D-4025-BE4C-A79EB5ED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A266-0A1B-4598-9FF3-31A26119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89930-5F93-4C78-90DA-AABE701F26A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19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67 Part 2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131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2:21:26Z</dcterms:created>
  <dc:creator>U Kyaw Naing</dc:creator>
  <dc:description/>
  <dc:language>en-US</dc:language>
  <cp:lastModifiedBy>U Kyaw Naing</cp:lastModifiedBy>
  <dcterms:modified xsi:type="dcterms:W3CDTF">2012-09-30T12:21:59Z</dcterms:modified>
  <cp:revision>1</cp:revision>
  <dc:subject/>
  <dc:title>Slide 1</dc:title>
</cp:coreProperties>
</file>