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28B-DF12-4E1C-BAFE-CBC9081C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C8D-915F-43F4-8B75-1A5C0209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357-96E7-4057-A003-BF165C4B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41D-A90F-4FB0-98EE-06F91464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507-973B-49D1-8834-96B1072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04D-917C-431D-ABCC-27B8C750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9463-0332-4F98-884D-009F9B77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CB8-F47F-423E-8A31-034DEADB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368-8EA2-430A-8BDF-2D5D8DFA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25E-9B84-418C-90DB-AAB186A7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F5C-6E83-4E4F-BA74-1573C22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82D-208F-4412-BD8F-476B791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CDF-3F88-466C-862E-DAEC72377C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4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7:31Z</dcterms:created>
  <dc:creator>U Kyaw Naing</dc:creator>
  <dc:description/>
  <dc:language>en-US</dc:language>
  <cp:lastModifiedBy>U Kyaw Naing</cp:lastModifiedBy>
  <dcterms:modified xsi:type="dcterms:W3CDTF">2012-09-30T12:18:18Z</dcterms:modified>
  <cp:revision>1</cp:revision>
  <dc:subject/>
  <dc:title>Slide 1</dc:title>
</cp:coreProperties>
</file>