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C6D-A549-4A9B-ADE9-866485AB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420A-FBFD-4C48-B57E-F0032C28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E25-5354-4A55-AFDC-D07E9E2E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1C7-3ADA-4224-864C-E8CB49B8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EBA-8307-4760-9C81-B22817F0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EB6F-1271-4A5C-A71A-1925458D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214-AB52-462C-B91E-7CB2C909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FFD-1E18-4E80-A10B-E7CB989E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AD2-AB03-4829-AA82-14F7A902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20D7-174A-436B-8FBD-2DF51A28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EAC-8C15-412B-A017-1F0AAC35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516-7F58-443D-8926-B3B64745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1D93-BCAB-4357-8B76-5916E8623A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1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828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8:26Z</dcterms:created>
  <dc:creator>U Kyaw Naing</dc:creator>
  <dc:description/>
  <dc:language>en-US</dc:language>
  <cp:lastModifiedBy>U Kyaw Naing</cp:lastModifiedBy>
  <dcterms:modified xsi:type="dcterms:W3CDTF">2012-09-30T12:20:22Z</dcterms:modified>
  <cp:revision>1</cp:revision>
  <dc:subject/>
  <dc:title>Slide 1</dc:title>
</cp:coreProperties>
</file>