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72B-2F27-409D-A9A0-4F48D733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B44-7FE7-48B7-9867-EA1A2C5B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BF8-004B-4E7F-86A4-399DCC10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F81-588D-43B9-B8D3-CD9917DC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343-7991-4884-89C5-31A8AFA8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8E7-5DD5-487A-ACE1-D7C1FA34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FDA-1A4D-4B33-AFC2-D7DA2F5A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E7E-FEAC-4474-BCA5-C4F9A12B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C6A-CEE5-49B4-BE3E-DF0A2D02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777-C4B2-450F-BA37-B61A5BA6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799B-D454-4ECF-B47B-36BEEA63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22C-6584-447A-A3B9-D974B3B3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F75B-223A-4AB3-91ED-15DE2ABA09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0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8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92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11:18Z</dcterms:created>
  <dc:creator>U Kyaw Naing</dc:creator>
  <dc:description/>
  <dc:language>en-US</dc:language>
  <cp:lastModifiedBy>U Kyaw Naing</cp:lastModifiedBy>
  <dcterms:modified xsi:type="dcterms:W3CDTF">2012-09-30T12:12:04Z</dcterms:modified>
  <cp:revision>1</cp:revision>
  <dc:subject/>
  <dc:title>Slide 1</dc:title>
</cp:coreProperties>
</file>