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5396-4CE6-4DFD-8216-D8107DC1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C81-8667-4514-9278-38854FC1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A30-CD2C-49FC-8831-F0BE6D09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9DB-A676-46A9-918B-E6BDE824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E42-B2DA-459E-ACE3-2A8437E0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FDBF-8E58-4857-9295-9CDBC51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E90-5858-4586-BB33-31F71EAA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84A-17C3-4C88-A29E-75396EF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6DA-B900-408E-87F7-B66D56E2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BFD-8F8C-4518-A182-B43B9A9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27A-1FB3-4276-BE08-75215AF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297-8ADC-4EC4-B406-190B315B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D3D-B48D-491E-9BC6-3F335FF97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2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4:15Z</dcterms:created>
  <dc:creator>U Kyaw Naing</dc:creator>
  <dc:description/>
  <dc:language>en-US</dc:language>
  <cp:lastModifiedBy>U Kyaw Naing</cp:lastModifiedBy>
  <dcterms:modified xsi:type="dcterms:W3CDTF">2012-09-30T12:15:24Z</dcterms:modified>
  <cp:revision>1</cp:revision>
  <dc:subject/>
  <dc:title>Slide 1</dc:title>
</cp:coreProperties>
</file>