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0AC-1E3D-4C1A-B43C-B3585ECF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A58-5405-47B7-98EE-A8155EE7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310-6432-4E78-B726-20C3160E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194-8B0C-4EB6-8CF5-0512608F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CC8-8DC0-4D8B-810C-2720282B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2E5-C7E6-45A7-98A5-6381366D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AE5-A801-4CF4-BC99-DD64A916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BDE-B87A-4E57-AA4B-A99CA53E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825-70CA-4387-B339-F2781FD3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0C4-79F1-439D-8E7B-302FEC83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B220-0AA8-4ED8-9770-8D66C974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E03-9857-440C-BA03-16E1A535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5BDD-6C9D-4761-A560-C52EF7D1A0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2:12Z</dcterms:created>
  <dc:creator>U Kyaw Naing</dc:creator>
  <dc:description/>
  <dc:language>en-US</dc:language>
  <cp:lastModifiedBy>U Kyaw Naing</cp:lastModifiedBy>
  <dcterms:modified xsi:type="dcterms:W3CDTF">2012-09-30T12:13:15Z</dcterms:modified>
  <cp:revision>1</cp:revision>
  <dc:subject/>
  <dc:title>Slide 1</dc:title>
</cp:coreProperties>
</file>