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D12-F294-4C50-AF2C-839086EE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37B-297B-46CF-A13F-23CB66A0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482-5E8A-4B17-850A-0454846E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CC5-1751-4A1D-B4BF-E42F01FB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272-FB9E-449B-B624-B1275C02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847-947E-4E3F-9213-F7614241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616-CBFD-4E03-9243-D1FACDE0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61B-0216-4A56-B456-B35CBE17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E21-E374-4E6A-BAFC-ADDF5601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DEA-B5BE-4DB9-B7A9-776F768E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B3F-AE4F-4328-A89A-B93DD439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845-4017-49F0-9EE8-CB614C81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0A93-524C-421F-A3F1-C10D2E95BE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2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9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6:49Z</dcterms:created>
  <dc:creator>U Kyaw Naing</dc:creator>
  <dc:description/>
  <dc:language>en-US</dc:language>
  <cp:lastModifiedBy>U Kyaw Naing</cp:lastModifiedBy>
  <dcterms:modified xsi:type="dcterms:W3CDTF">2012-09-30T12:27:42Z</dcterms:modified>
  <cp:revision>1</cp:revision>
  <dc:subject/>
  <dc:title>Slide 1</dc:title>
</cp:coreProperties>
</file>