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7FB-014E-46F4-81B1-E328E8B4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83E-D366-42A3-9B4B-8ADFD906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162-2383-4AC0-A3A7-40541370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7C7-DEE6-45E0-BC27-FEDC946B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DD6-0533-43D0-9081-6CC42EE8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37B-ABBD-405D-BD5E-C591C96F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AA6-8F74-4415-8AE6-D255ECEF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896-E34A-4C40-AE57-31022003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06D-0FA4-431E-8B3B-2BFBD5E6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2FB-E92F-434F-B56A-CA63AB84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3F51-3048-4065-87FA-0673A38B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06A-C91A-44DE-8C8D-63F1148B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627E-AE59-44C9-AEF2-8AFB7DBDF9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18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6:27Z</dcterms:created>
  <dc:creator>U Kyaw Naing</dc:creator>
  <dc:description/>
  <dc:language>en-US</dc:language>
  <cp:lastModifiedBy>U Kyaw Naing</cp:lastModifiedBy>
  <dcterms:modified xsi:type="dcterms:W3CDTF">2012-09-30T12:17:17Z</dcterms:modified>
  <cp:revision>1</cp:revision>
  <dc:subject/>
  <dc:title>Slide 1</dc:title>
</cp:coreProperties>
</file>