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AF6-6157-4DD0-98FD-4E6FA9EF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792-02F4-4480-A6E4-FA5F12E8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2F6-F4B1-4DD2-A7E0-07F45DBC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DCC-7139-4D22-9933-E759F731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9C2-197B-452D-8692-0207C32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ED7-0E69-41F2-A500-F02C7267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B53-F1D6-4526-958D-16802D3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486-E561-4261-8168-9564D3DD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4DC-4623-48CC-B122-5E2380E1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FF0-604A-4318-A819-6B7546A8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71D-8C14-4577-A77D-595637D4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B77-2836-47D2-BFD3-F83FE8F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DA76-CAFB-48E3-98CE-06F0B505CA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6:55Z</dcterms:created>
  <dc:creator>U Kyaw Naing</dc:creator>
  <dc:description/>
  <dc:language>en-US</dc:language>
  <cp:lastModifiedBy>U Kyaw Naing</cp:lastModifiedBy>
  <dcterms:modified xsi:type="dcterms:W3CDTF">2012-09-30T12:10:57Z</dcterms:modified>
  <cp:revision>3</cp:revision>
  <dc:subject/>
  <dc:title>Slide 1</dc:title>
</cp:coreProperties>
</file>