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EBC-1C1B-479E-AC29-9F516ADC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2A3-4CB4-4AF7-B466-D03E64AD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CDF-D4C6-4079-A05C-24D6BEE3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391-F70C-45A2-BCA6-5C331EEA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843-6AFF-4032-9C86-5641A51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EF9-9014-4830-98CB-640B8694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CCD-9C2D-4EA9-A9B3-F6051F41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337-9B8C-4D73-A13A-DB230EC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3E8-5B99-48B9-A86D-9B5D7FF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AF5-EA09-49FA-A2D0-55AE331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6DD-72D8-4E32-96E5-9A0DAFE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529-54E8-4DC7-AFAA-1AAE9C6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15D6-4B2D-4F7F-94CF-2FF4B59F7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2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5:33Z</dcterms:created>
  <dc:creator>U Kyaw Naing</dc:creator>
  <dc:description/>
  <dc:language>en-US</dc:language>
  <cp:lastModifiedBy>U Kyaw Naing</cp:lastModifiedBy>
  <dcterms:modified xsi:type="dcterms:W3CDTF">2012-09-30T12:16:19Z</dcterms:modified>
  <cp:revision>1</cp:revision>
  <dc:subject/>
  <dc:title>Slide 1</dc:title>
</cp:coreProperties>
</file>