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711-C91C-444D-AB54-3472D438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7C5-8C8D-4DFA-8F31-D5FAAFD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204C-6F92-48BB-9A89-0287A489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F93-340A-4326-AB57-EFD2CF4B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5C2-C205-4DE8-9D14-BBEFCA92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685-4385-42D9-979C-441C0A1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9E0-C93F-4AEA-ADFD-DF6E392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142-3343-4C06-9994-5DF147E8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ABE-C3F3-4DD1-8380-3BAEAF2C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DE0-BA63-47A5-B016-C7D2BF2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3D5-F6E1-4897-B7C0-A115421E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CA8-0989-485A-B229-19576CA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2B98-E0E4-4785-88B0-511B0272C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6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3:04Z</dcterms:created>
  <dc:creator>U Kyaw Naing</dc:creator>
  <dc:description/>
  <dc:language>en-US</dc:language>
  <cp:lastModifiedBy>U Kyaw Naing</cp:lastModifiedBy>
  <dcterms:modified xsi:type="dcterms:W3CDTF">2012-09-30T12:23:52Z</dcterms:modified>
  <cp:revision>1</cp:revision>
  <dc:subject/>
  <dc:title>Slide 1</dc:title>
</cp:coreProperties>
</file>