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28F-1949-4816-904C-1FD3E3C9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BB6-F1B0-48C8-AB3D-F1171263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4D5-A561-47FF-8F7D-340BD3AA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1ED-4856-4591-89E7-5B4CA34E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24F-091D-49AF-AB5D-9D0B3322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D66-D6A7-4318-8875-01365EC3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16B-221C-440B-B9D8-EF5CD359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287-BFA3-4FC0-B193-6105618A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91C-1D12-4D49-A454-CFD8267F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384-DE9F-4BCF-8804-C142147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C0E-BA57-4CC2-B996-09923E55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1AB-B9C9-417B-9CF4-DBC921B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D419-9B8D-41A8-BA37-1140F027EC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2 Part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7:50Z</dcterms:created>
  <dc:creator>U Kyaw Naing</dc:creator>
  <dc:description/>
  <dc:language>en-US</dc:language>
  <cp:lastModifiedBy>U Kyaw Naing</cp:lastModifiedBy>
  <dcterms:modified xsi:type="dcterms:W3CDTF">2012-09-30T12:28:29Z</dcterms:modified>
  <cp:revision>1</cp:revision>
  <dc:subject/>
  <dc:title>Slide 1</dc:title>
</cp:coreProperties>
</file>