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0644-181E-44E1-BDCC-374D7628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837-6BE1-4995-95F2-379E5383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08A-A1FC-4992-A64E-ED3DEC3C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E4B-CB52-4064-A0E3-7C38B1C8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3DEF-855C-49E1-958D-7ED8AB32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EB4-EBEC-472E-B96E-4DCD8D97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013-7176-41A2-AF29-F1A8BA8C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612-17C7-4311-8DCC-428F6F85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8F40-2E90-400E-91D5-BA9A6402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8A1-3BE1-4425-99DA-62996478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BDA-D953-4481-AA2D-AA69E858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B32-32BB-400A-B02B-460FA1B3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8387-EB37-45F6-8D42-CA93063E33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7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39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4:48Z</dcterms:created>
  <dc:creator>U Kyaw Naing</dc:creator>
  <dc:description/>
  <dc:language>en-US</dc:language>
  <cp:lastModifiedBy>U Kyaw Naing</cp:lastModifiedBy>
  <dcterms:modified xsi:type="dcterms:W3CDTF">2012-09-30T12:25:44Z</dcterms:modified>
  <cp:revision>1</cp:revision>
  <dc:subject/>
  <dc:title>Slide 1</dc:title>
</cp:coreProperties>
</file>