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402-CC3C-4FF4-8B15-F9E791B5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60C-B358-4828-A958-894E94E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557-DA7B-48A3-9639-0C09526C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78B-7B6D-44D1-89C9-AB3AADC4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63F-7D02-4A2E-8AF0-815DF9F5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5FD-C360-4F24-A187-222CED9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7D7-7F35-4FC4-9DBE-1D2EFAEB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A81-BD1F-45E5-ADD6-636737A1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B37-577B-4F31-AC3C-564BD53E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00C-8058-4F3C-98CE-743FF37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CD9-A366-4F53-85DB-183CE4F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1EF-6F87-4BAC-BD78-93131397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73BC-E5E7-4C81-8164-49954C192F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88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5:58Z</dcterms:created>
  <dc:creator>U Kyaw Naing</dc:creator>
  <dc:description/>
  <dc:language>en-US</dc:language>
  <cp:lastModifiedBy>U Kyaw Naing</cp:lastModifiedBy>
  <dcterms:modified xsi:type="dcterms:W3CDTF">2012-09-30T12:26:41Z</dcterms:modified>
  <cp:revision>1</cp:revision>
  <dc:subject/>
  <dc:title>Slide 1</dc:title>
</cp:coreProperties>
</file>