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0E0-FD4A-4D8B-9D6A-F0A7DE93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B65-AD74-4BAB-9739-EEAE8C7E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DAD-6DDE-473D-9355-912F0314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9D1-5A3C-446A-8FBC-64966BE6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0F19-60B3-4A72-A358-2E28894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554-C382-4328-83A0-91C8E4BF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D51-B42A-45F9-B698-6EB8F85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5EF-5D83-40DA-B927-53497CE9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229-5532-4EEB-9B51-62225B00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356-3BD5-4C0D-B191-54E0DC2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6BC-48BA-4FAE-BB0C-1D17F600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213-9F47-4065-AA3F-05F9304E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FB0E-B5BC-4623-80A8-4CB5E689B4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04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4:11Z</dcterms:created>
  <dc:creator>U Kyaw Naing</dc:creator>
  <dc:description/>
  <dc:language>en-US</dc:language>
  <cp:lastModifiedBy>U Kyaw Naing</cp:lastModifiedBy>
  <dcterms:modified xsi:type="dcterms:W3CDTF">2012-09-30T11:45:32Z</dcterms:modified>
  <cp:revision>1</cp:revision>
  <dc:subject/>
  <dc:title>Slide 1</dc:title>
</cp:coreProperties>
</file>