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A4C-9900-4775-A87A-D2A3997F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185-7D14-40F5-B534-4854EE7A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95A-019D-48A0-83AE-9E37148B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695-A3EA-4430-88ED-AE76AE3D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98A-236B-4F56-8A5C-920D0318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B1E-7C84-480F-965E-02DEA313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350-A814-4A12-BEFC-8516203D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B21-BFAC-4B8B-A80F-3D8450AA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36A-6B62-44D1-9F4F-DBF3EDE5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81A-E024-46A7-929A-AEF3FC6A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889-6C17-4E01-8604-4EF7AE0A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246-5383-426F-B102-414F5755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BB7F-A3EB-43AF-9E7C-2DBDF073E5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8:39Z</dcterms:created>
  <dc:creator>U Kyaw Naing</dc:creator>
  <dc:description/>
  <dc:language>en-US</dc:language>
  <cp:lastModifiedBy>U Kyaw Naing</cp:lastModifiedBy>
  <dcterms:modified xsi:type="dcterms:W3CDTF">2012-09-30T12:30:34Z</dcterms:modified>
  <cp:revision>1</cp:revision>
  <dc:subject/>
  <dc:title>Slide 1</dc:title>
</cp:coreProperties>
</file>