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9A8-2FF5-4894-816C-0EA64E9F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A82-681C-499E-AD81-E587E726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A70-9381-4EAD-9F8C-23180CC2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5F0-7FE0-4EEE-8B4B-E89F4499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5F8-FAF2-43E4-98AC-670E2503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5AA-3435-447B-A6FE-B73EC628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73D-A911-4874-8EA4-8E65B7D3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7095-B92A-4E35-B8BB-4D4E0A30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2C4-EB4B-406D-A54F-19E640A5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D54-2227-4006-ABC0-406067F8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B03-B12D-4A3A-8FA0-DF7CA810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14B-F1A0-4AFD-862A-34FAC012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5685-FF6B-4DBD-ADDC-69D76A15BF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4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3:58Z</dcterms:created>
  <dc:creator>U Kyaw Naing</dc:creator>
  <dc:description/>
  <dc:language>en-US</dc:language>
  <cp:lastModifiedBy>U Kyaw Naing</cp:lastModifiedBy>
  <dcterms:modified xsi:type="dcterms:W3CDTF">2012-09-30T12:24:39Z</dcterms:modified>
  <cp:revision>1</cp:revision>
  <dc:subject/>
  <dc:title>Slide 1</dc:title>
</cp:coreProperties>
</file>