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44D-8242-4CB1-9EA4-1B947695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5737-A6F3-45E8-B86E-04F31DA6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50E-73EF-4E50-841E-C6D6819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817-2E35-4F72-BCD3-2B6A2360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AD6-9ED5-4AD5-BF99-F6097BFB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CBA-891C-4B69-AA73-C155E70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3D0-87F3-44B5-BDF1-3DD9F416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FD3-98C4-4502-99E4-CF18B3A1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B31-3364-4F7C-8DED-267DB6A9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4AC-6EDF-479F-BC9E-4D46091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28D-188A-4FAB-A21F-1D30A66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12A-7ECC-4E47-86C1-5E15F08A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B173-86CD-4652-9EAC-0B2C8D0F4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7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5:44Z</dcterms:created>
  <dc:creator>U Kyaw Naing</dc:creator>
  <dc:description/>
  <dc:language>en-US</dc:language>
  <cp:lastModifiedBy>U Kyaw Naing</cp:lastModifiedBy>
  <dcterms:modified xsi:type="dcterms:W3CDTF">2012-09-30T11:46:47Z</dcterms:modified>
  <cp:revision>1</cp:revision>
  <dc:subject/>
  <dc:title>Slide 1</dc:title>
</cp:coreProperties>
</file>