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F66-C2AD-4CEF-B4A3-B0D73623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FF89-AC7B-4D6D-B6C8-891E5B55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C5B8-0138-4C2C-BA1A-D06EB579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EC53-5840-4988-A648-B847F22E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1D89-E544-4515-BFF5-667C4FC6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BD1-C6E6-47EB-A758-9C1029F2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EE0B-07BE-483C-B151-ADF11575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F286-149A-43E8-99FB-19BB89BF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A086-F99F-4F4E-9FB8-4C277738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EE87-97FA-4CE3-9970-AFDBC1CA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5DE-E52B-4868-B5D9-E17907F1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6D02-1C8B-4031-ADB5-6A8ABC2A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B10A-5D51-4BBB-A610-8CC24FAD2D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2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40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1:43:18Z</dcterms:created>
  <dc:creator>U Kyaw Naing</dc:creator>
  <dc:description/>
  <dc:language>en-US</dc:language>
  <cp:lastModifiedBy>U Kyaw Naing</cp:lastModifiedBy>
  <dcterms:modified xsi:type="dcterms:W3CDTF">2012-09-30T11:44:03Z</dcterms:modified>
  <cp:revision>1</cp:revision>
  <dc:subject/>
  <dc:title>Slide 1</dc:title>
</cp:coreProperties>
</file>