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61B-2145-4271-8880-077DA3DF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CAC-C4ED-48CB-87BA-A549D797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7CD-49EB-47FC-81D1-1F195EEF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DF7-5611-4A2B-A258-479F6A79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C58-31A5-4195-B860-533993F4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62E-042D-4218-8390-6CBD9536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CDE-5866-47D9-B972-F08BC608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E17-D70C-4788-898A-963CD124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641-DACB-45B3-8D66-EFAB1B50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9B14-33D7-4829-B1E8-930A201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C57-514E-4CB1-A46A-58A43F6C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16F-9971-4DA7-80D9-03E163F2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1BFE-6F30-4878-B6CE-FE912E8405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7 Part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3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2:21Z</dcterms:created>
  <dc:creator>U Kyaw Naing</dc:creator>
  <dc:description/>
  <dc:language>en-US</dc:language>
  <cp:lastModifiedBy>U Kyaw Naing</cp:lastModifiedBy>
  <dcterms:modified xsi:type="dcterms:W3CDTF">2012-09-30T12:22:58Z</dcterms:modified>
  <cp:revision>1</cp:revision>
  <dc:subject/>
  <dc:title>Slide 1</dc:title>
</cp:coreProperties>
</file>