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16CF-F409-4910-A6D8-D705EAF3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598A-1FAC-4523-8BC4-D38F055F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72A7-EC2B-491B-AE63-D37D56BC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89B6-C6AD-4D55-8299-89207FA5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9330-4B51-4E38-A312-FB39B746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03E4-320B-4C21-A02C-76FAB66A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6C4A-A6DF-4A1A-B51B-CB5B9193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BF92-C5AC-4C66-9E89-9CF143F7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10DB-A74F-4AED-8E6B-8DED9FB1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86E4-7B61-4B22-B3C9-825F5D5E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91C8-B0FA-4BF1-8307-2A6E0EA1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1EB5-5085-4F8D-AB65-86058F4F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E981-7456-4F7B-B110-CAD17DBF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E170-F348-4012-BD88-7D862E41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ECA0-46F6-4DA5-BE56-EA6F29B5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0AD1-C064-404E-B60E-D58BC795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F7EB-9CE1-4F19-8DE1-20371758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CBD1-8A54-479A-97CC-7F813413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4CD5-ED99-4D00-BBD9-022FD9B3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6754-BBED-4A49-9B5A-706773DA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E04B-1F50-46F7-AEC4-8DA57EFA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B996-1BA5-4510-87C6-7A266E44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F0E2-4FA1-4A0A-A327-DB059961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2175-54AB-4D52-B0F2-327F6B01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8D05-29C2-4208-861A-5392F3BC94E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F506-4A50-41D6-BBDF-27AF23FD01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131A-502C-446A-AF60-17152584312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2BC9-0364-4FC7-8A20-90F5882CAB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ontrollers </a:t>
            </a: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(hard drive controllers)</a:t>
            </a:r>
            <a:endParaRPr b="0" i="1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0" t="0" r="0" b="7284"/>
          <a:stretch/>
        </p:blipFill>
        <p:spPr>
          <a:xfrm>
            <a:off x="1800360" y="3608280"/>
            <a:ext cx="5400720" cy="172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A231-C624-4B3C-805C-22D22FECFB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Controllers used in lab :G3.32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Standard floppy disk controller</a:t>
            </a:r>
            <a:br>
              <a:rPr sz="3100"/>
            </a:b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Intel Bus Master IDE Controller</a:t>
            </a:r>
            <a:br>
              <a:rPr sz="3100"/>
            </a:b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Primary IDE Channel [Controller]</a:t>
            </a:r>
            <a:br>
              <a:rPr sz="3100"/>
            </a:b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Secondary IDE Channel [Controller]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812E-88C1-4602-B6C0-6656841196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Summary</a:t>
            </a:r>
            <a:r>
              <a:rPr b="0" lang="en-A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Controller is a hardware device it can be an expansion card or integrated onto the computer motherboar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it enables communication between The computer and another hardware devi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_ARCOIDE" descr=""/>
          <p:cNvPicPr/>
          <p:nvPr/>
        </p:nvPicPr>
        <p:blipFill>
          <a:blip r:embed="rId1"/>
          <a:srcRect l="0" t="15088" r="0" b="0"/>
          <a:stretch/>
        </p:blipFill>
        <p:spPr>
          <a:xfrm>
            <a:off x="1655640" y="4184640"/>
            <a:ext cx="6302520" cy="18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F63E-A7DC-45FC-942A-93D6190CD7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hat is a controller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A device that controls the transfer of data from a computer to a peripheral device For example, disk drives, display screens, keyboards, and printers all require controller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In personal computers, the controllers are often single chips. When you buy a computer, it comes with all the necessary controller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If you attach additional devices you may need to insert new controllers that come on expansion card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C041-D895-4A1A-8561-7D1EF7F0B97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Types of controller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disk control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graphics controller or video display controll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network control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keyboard controll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RAID controll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SCSI controller</a:t>
            </a: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1F31-D6BF-4AF1-8A38-57B82C38DF6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lang="en" sz="3300" spc="-1" strike="noStrike">
                <a:solidFill>
                  <a:srgbClr val="336666"/>
                </a:solidFill>
                <a:latin typeface="Arial Black"/>
              </a:rPr>
              <a:t>Disk controll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" sz="2600" spc="-1" strike="noStrike">
                <a:solidFill>
                  <a:srgbClr val="000000"/>
                </a:solidFill>
                <a:latin typeface="Arial"/>
              </a:rPr>
              <a:t>disk controller</a:t>
            </a: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 is the circuit which allows the CPU to communicate with a hard disk, floppy disk or other kind of disk dri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Early disk controllers were identified by their storage methods and data encoding. They were typically implemented on a separate controller car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Modern disk controllers are integrated into the disk drive. The interface between the computer and hard disk is called a </a:t>
            </a:r>
            <a:r>
              <a:rPr b="1" lang="en" sz="2600" spc="-1" strike="noStrike">
                <a:solidFill>
                  <a:srgbClr val="000000"/>
                </a:solidFill>
                <a:latin typeface="Arial"/>
              </a:rPr>
              <a:t>host adap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AB04-22E3-4611-8C42-56F8948730A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Host adapter</a:t>
            </a:r>
            <a:r>
              <a:rPr b="0" lang="en-A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In computer hardware, a host adapter or host bus adapter (HBA) connects a host system (the computer) to other network and storage device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Image:QLA 2200F.jpg"/>
          <p:cNvPicPr/>
          <p:nvPr/>
        </p:nvPicPr>
        <p:blipFill>
          <a:blip r:embed="rId1"/>
          <a:srcRect l="5129" t="10141" r="7689" b="18373"/>
          <a:stretch/>
        </p:blipFill>
        <p:spPr>
          <a:xfrm>
            <a:off x="2087640" y="3608280"/>
            <a:ext cx="525600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5DC2-E53E-42DB-BF45-3A9B1586BF8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Types of hard disk controller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100" spc="-1" strike="noStrike">
                <a:solidFill>
                  <a:srgbClr val="000000"/>
                </a:solidFill>
                <a:latin typeface="Arial"/>
              </a:rPr>
              <a:t>The most common types in use are IDE, Serial ATA, and SCSI(controller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100" spc="-1" strike="noStrike">
                <a:solidFill>
                  <a:srgbClr val="000000"/>
                </a:solidFill>
                <a:latin typeface="Arial"/>
              </a:rPr>
              <a:t>Most home personal computers use an IDE or Serial ATA interface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100" spc="-1" strike="noStrike">
                <a:solidFill>
                  <a:srgbClr val="000000"/>
                </a:solidFill>
                <a:latin typeface="Arial"/>
              </a:rPr>
              <a:t>network file servers mostly have SCSI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21E4-3180-4272-9E4C-BDDF7EA4848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IDE- Integrated Drive Electronics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A type of hardware interface widely used to connect hard disks, and  optical disks to a PC</a:t>
            </a:r>
            <a:br>
              <a:rPr sz="3100"/>
            </a:b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43280" y="3537000"/>
            <a:ext cx="4284720" cy="21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5AF2-D53F-4186-8A54-7E743C3D2C0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ATA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700" spc="-1" strike="noStrike">
                <a:solidFill>
                  <a:srgbClr val="000000"/>
                </a:solidFill>
                <a:latin typeface="Arial"/>
              </a:rPr>
              <a:t>AT Attachment</a:t>
            </a:r>
            <a:r>
              <a:rPr b="0" lang="en" sz="2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" sz="2700" spc="-1" strike="noStrike">
                <a:solidFill>
                  <a:srgbClr val="000000"/>
                </a:solidFill>
                <a:latin typeface="Arial"/>
              </a:rPr>
              <a:t>ATA</a:t>
            </a:r>
            <a:r>
              <a:rPr b="0" lang="en" sz="2700" spc="-1" strike="noStrike">
                <a:solidFill>
                  <a:srgbClr val="000000"/>
                </a:solidFill>
                <a:latin typeface="Arial"/>
              </a:rPr>
              <a:t>) is a standard interface for connecting storage devices such as hard disks and CD-ROM drives inside personal computer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700" spc="-1" strike="noStrike">
                <a:solidFill>
                  <a:srgbClr val="000000"/>
                </a:solidFill>
                <a:latin typeface="Arial"/>
              </a:rPr>
              <a:t>Serial ATA</a:t>
            </a:r>
            <a:r>
              <a:rPr b="0" lang="en" sz="2700" spc="-1" strike="noStrike">
                <a:solidFill>
                  <a:srgbClr val="000000"/>
                </a:solidFill>
                <a:latin typeface="Arial"/>
              </a:rPr>
              <a:t> is a computer bus technology designed for transfer of data to and from hard disks and optical driv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B8DD-1654-4928-8684-E2C4ACC4395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900" spc="-1" strike="noStrike">
                <a:solidFill>
                  <a:srgbClr val="336666"/>
                </a:solidFill>
                <a:latin typeface="Arial Black"/>
              </a:rPr>
              <a:t>SCSI</a:t>
            </a:r>
            <a:r>
              <a:rPr b="0" lang="en" sz="2900" spc="-1" strike="noStrike">
                <a:solidFill>
                  <a:srgbClr val="336666"/>
                </a:solidFill>
                <a:latin typeface="Arial Black"/>
              </a:rPr>
              <a:t> (</a:t>
            </a:r>
            <a:r>
              <a:rPr b="1" lang="en" sz="2900" spc="-1" strike="noStrike">
                <a:solidFill>
                  <a:srgbClr val="336666"/>
                </a:solidFill>
                <a:latin typeface="Arial Black"/>
              </a:rPr>
              <a:t>Small Computer System Interface</a:t>
            </a:r>
            <a:r>
              <a:rPr b="0" lang="en" sz="2900" spc="-1" strike="noStrike">
                <a:solidFill>
                  <a:srgbClr val="336666"/>
                </a:solidFill>
                <a:latin typeface="Arial Black"/>
              </a:rPr>
              <a:t>)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is a set of standards for physically connecting and transferring data between computers and peripheral devic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SCSI is most commonly used for hard disks, but it can connect a wide range of other devices, including scanners, printers, and optical drives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BC5B-A3AA-4D20-A104-E681D1EB0AA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GG331-11</cp:lastModifiedBy>
  <dcterms:modified xsi:type="dcterms:W3CDTF">2007-03-08T07:20:1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