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240AE-F94B-45B7-B496-C637979BF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D3CC7-86E5-4CBC-A546-5D95AAB11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B0908-B339-4316-AD1A-E67AC3D75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A9F40-2529-4962-8C0B-83FF95E17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5480F-5069-4D6A-974E-85A928460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3A19C-D61D-49FD-B746-3BCDB68A4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FBF6F-3A57-421F-9011-64A65C58A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B5296-8CFC-44D1-894F-BF9A37DB8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4948E-C853-4EC6-AA5C-B47AA0202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3C672-F46A-44E4-B75D-3EEF95B9B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3C002-955E-40B0-8328-8D0F03164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3F1FE-B809-47D5-9D8F-5E2706493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13D47-E068-41E3-91A1-A45734C77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B7403-4837-4CD5-8064-C8320AB12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9ED03-A6DF-49FC-80E2-0C5A0E3E8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49EAA-7883-4080-B525-49B5685C3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05C50-6FAC-4F17-AC55-4E6C46222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BFC14-D3D7-4042-850D-1408E280D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632F3-07A5-4864-B9EE-457DFB835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33953-DF07-45B2-8B0E-B1541F0A7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63502-AB18-493C-8D46-6D0068FBD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291B8-ACC5-479E-8B7B-BC27BC0FF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BFB02-A24D-4208-B4C3-011C1139B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B5582-C383-415A-B254-DE733A541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68C39-2456-4594-BDC2-8B3437C40C9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65F62-0FF9-4B1D-8E09-4516C863190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en.wikipedia.org/wiki/X86" TargetMode="External"/><Relationship Id="rId2" Type="http://schemas.openxmlformats.org/officeDocument/2006/relationships/hyperlink" Target="http://www.computercloset.org/IBMPC.htm" TargetMode="Externa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5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What is System Architecture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962520" y="3809880"/>
            <a:ext cx="129528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?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0" name=""/>
          <p:cNvSpPr/>
          <p:nvPr/>
        </p:nvSpPr>
        <p:spPr>
          <a:xfrm>
            <a:off x="7391520" y="6613560"/>
            <a:ext cx="175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© Stuart Alexander 2007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oom 3.32 Architectur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2645" b="0"/>
          <a:stretch/>
        </p:blipFill>
        <p:spPr>
          <a:xfrm>
            <a:off x="0" y="1398600"/>
            <a:ext cx="5943600" cy="545940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6248520" y="2057400"/>
            <a:ext cx="28954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The HP Vectra VL400 uses a Socket 370 motherboard with a Pentium III processor and uses the x86 architec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172200" y="5867280"/>
            <a:ext cx="274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Vectra VL400 Motherboar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6613560"/>
            <a:ext cx="175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© Stuart Alexander 2007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oom 3.32 Architecture Cont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rcRect l="0" t="0" r="7186" b="0"/>
          <a:stretch/>
        </p:blipFill>
        <p:spPr>
          <a:xfrm>
            <a:off x="1981080" y="1295280"/>
            <a:ext cx="5105520" cy="556272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380880" y="1676520"/>
            <a:ext cx="1524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CPU &amp; Cach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543800" y="37339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R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4114800"/>
            <a:ext cx="19051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Expansion Ports/ Cards &amp; Interfa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828800"/>
            <a:ext cx="198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Bus &amp; Bus Controll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676520" y="1981080"/>
            <a:ext cx="22096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1600200" y="3504960"/>
            <a:ext cx="762120" cy="6094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752480" y="5181480"/>
            <a:ext cx="60984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5486040" y="2590920"/>
            <a:ext cx="1676520" cy="2286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5334120" y="2286000"/>
            <a:ext cx="18288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H="1" flipV="1">
            <a:off x="6553080" y="3580920"/>
            <a:ext cx="990720" cy="3049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828800" y="5715000"/>
            <a:ext cx="1752480" cy="6858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391520" y="6613560"/>
            <a:ext cx="175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© Stuart Alexander 2007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or more info see…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  <a:hlinkClick r:id="rId1"/>
              </a:rPr>
              <a:t>http://en.wikipedia.org/wiki/X8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  <a:hlinkClick r:id="rId2"/>
              </a:rPr>
              <a:t>http://www.computercloset.org/IBMPC.ht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391520" y="6613560"/>
            <a:ext cx="175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© Stuart Alexander 2007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ystem Architectur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www.mcsx.co.uk defines architecture a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990720" y="4572000"/>
            <a:ext cx="70866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How the different hardware, adapters &amp; interfaces are arranged on the motherboard and interact with each oth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62120" y="2438280"/>
            <a:ext cx="7543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The way a system is </a:t>
            </a:r>
            <a:r>
              <a:rPr b="0" lang="en-US" sz="3200" spc="-1" strike="noStrike" u="sng">
                <a:solidFill>
                  <a:srgbClr val="ffcc66"/>
                </a:solidFill>
                <a:uFillTx/>
                <a:latin typeface="Arial"/>
              </a:rPr>
              <a:t>designed </a:t>
            </a: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and how the components are </a:t>
            </a:r>
            <a:r>
              <a:rPr b="0" lang="en-US" sz="3200" spc="-1" strike="noStrike" u="sng">
                <a:solidFill>
                  <a:srgbClr val="ffcc66"/>
                </a:solidFill>
                <a:uFillTx/>
                <a:latin typeface="Arial"/>
              </a:rPr>
              <a:t>connected</a:t>
            </a: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 with each oth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523880" y="3886200"/>
            <a:ext cx="601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ich in my words means …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391520" y="6613560"/>
            <a:ext cx="175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© Stuart Alexander 2007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considered part of the Architecture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295280" y="2757600"/>
            <a:ext cx="6248520" cy="41004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457200" y="2590920"/>
            <a:ext cx="25146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6218280"/>
            <a:ext cx="1371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ttp://docs.rinet.ru/ZadnyyOffice/12bou01.gi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57200" y="1676520"/>
            <a:ext cx="1523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CPU &amp; Cach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743200" y="1600200"/>
            <a:ext cx="2057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Bus &amp; Bus Controll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24480" y="1371600"/>
            <a:ext cx="2819520" cy="1373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Expansion Cards/ ports &amp; Interfa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548640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R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523880" y="2743200"/>
            <a:ext cx="457200" cy="6094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066680" y="2743200"/>
            <a:ext cx="381240" cy="13716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343400" y="2590920"/>
            <a:ext cx="0" cy="6858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200400" y="2438280"/>
            <a:ext cx="0" cy="5335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7238520" y="4114800"/>
            <a:ext cx="11430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7543800" y="5943600"/>
            <a:ext cx="9144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990720" y="5791320"/>
            <a:ext cx="6858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H="1" flipV="1">
            <a:off x="8381880" y="2819520"/>
            <a:ext cx="76320" cy="3124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543800" y="655308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© Stuart Alexander 2007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urrent Architecture Used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391520" y="6613560"/>
            <a:ext cx="175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© Stuart Alexander 2007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9480" y="1447920"/>
            <a:ext cx="8153640" cy="51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ffcc66"/>
                </a:solidFill>
                <a:latin typeface="Arial"/>
              </a:rPr>
              <a:t>Pentium 4 and Athlons use x86 32bit architecture. (These can use up to 4GB of RAM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ffcc66"/>
                </a:solidFill>
                <a:latin typeface="Arial"/>
              </a:rPr>
              <a:t>x86 architecture has been used since the early days of pc’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ffcc66"/>
                </a:solidFill>
                <a:latin typeface="Arial"/>
              </a:rPr>
              <a:t>Athlon64, Pentium D, Intel Core 2 use the x86 architecture with 64bit expansi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ffcc66"/>
                </a:solidFill>
                <a:latin typeface="Arial"/>
              </a:rPr>
              <a:t>64bit allows the CPU to store more bits of data in the memory at any one time (These have the potential to use up to </a:t>
            </a:r>
            <a:r>
              <a:rPr b="0" lang="en-AU" sz="3000" spc="-1" strike="noStrike">
                <a:solidFill>
                  <a:srgbClr val="ffcc66"/>
                </a:solidFill>
                <a:latin typeface="Arial"/>
              </a:rPr>
              <a:t>17,179,869,184GB RAM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urrent Architecture cont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cc66"/>
                </a:solidFill>
                <a:latin typeface="Arial"/>
              </a:rPr>
              <a:t>One of the main parts of the x86 architecture is the chipset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cc66"/>
                </a:solidFill>
                <a:latin typeface="Arial"/>
              </a:rPr>
              <a:t>The chipsets are defined primarily by the CPU type it uses but is also the glue between the graphics card, memory and disk controlle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0" lang="en-AU" sz="3200" spc="-1" strike="noStrike">
                <a:solidFill>
                  <a:srgbClr val="ffcc66"/>
                </a:solidFill>
                <a:latin typeface="Arial"/>
              </a:rPr>
              <a:t>Example Chipse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0" lang="en-AU" sz="2800" spc="-1" strike="noStrike">
                <a:solidFill>
                  <a:srgbClr val="ffcc66"/>
                </a:solidFill>
                <a:latin typeface="Arial"/>
              </a:rPr>
              <a:t>Intel P965 chipsets run most of the Intel Core 2 Duo CPU’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cc66"/>
                </a:solidFill>
                <a:latin typeface="Arial"/>
              </a:rPr>
              <a:t>Nvidia nForce 570 chipsets run most new AMD CPU’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ore on Chipset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50292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Refers to the specialized motherboard chips on a computer or expansion car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On Intel Pentiums, the "chipsets" often refers to the northbridge and southbridg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5638680" y="2133720"/>
            <a:ext cx="314028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hipsets on a Motherboard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2699" t="1871" r="5405" b="3134"/>
          <a:stretch/>
        </p:blipFill>
        <p:spPr>
          <a:xfrm>
            <a:off x="457200" y="1828800"/>
            <a:ext cx="5181480" cy="40384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324480" y="259092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CP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172200" y="4267080"/>
            <a:ext cx="2743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Northbridge &amp; Southbrid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0880" y="6095880"/>
            <a:ext cx="853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Combined make up the Motherboard Chips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971800" y="3581280"/>
            <a:ext cx="1066680" cy="1067040"/>
          </a:xfrm>
          <a:prstGeom prst="ellipse">
            <a:avLst/>
          </a:prstGeom>
          <a:noFill/>
          <a:ln w="698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162320" y="3538440"/>
            <a:ext cx="990720" cy="1067040"/>
          </a:xfrm>
          <a:prstGeom prst="ellipse">
            <a:avLst/>
          </a:prstGeom>
          <a:noFill/>
          <a:ln w="69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5181480" y="2971800"/>
            <a:ext cx="990720" cy="533520"/>
          </a:xfrm>
          <a:prstGeom prst="line">
            <a:avLst/>
          </a:prstGeom>
          <a:ln w="698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 flipV="1">
            <a:off x="3809520" y="4647960"/>
            <a:ext cx="2210040" cy="228600"/>
          </a:xfrm>
          <a:prstGeom prst="line">
            <a:avLst/>
          </a:prstGeom>
          <a:ln w="698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ossible Compatibility Issue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914400" y="5530680"/>
            <a:ext cx="7467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se problems are less common today than they were in the past but…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391520" y="6613560"/>
            <a:ext cx="175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© Stuart Alexander 2007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57200" y="1371600"/>
            <a:ext cx="81532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3880" indent="-353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Historically compatibility problems with 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3880" indent="-353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architecture occurred whe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3880" indent="-353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1. Different hardware did not work together because they were made by different companies or used incompatible slo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3880" indent="-353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2. Software being designed for a particular set of hardware specs did not work on all hardw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3880" indent="-353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3. Initially there were a number of CPU makers. The CPU’s handled hardware differentl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32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patibility Problems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till happen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CPU’s can only be used in specific motherboards eg. Pentium 4 can’t fit in a Pentium 2 slo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Graphics cards will either use the AGP slot (lower-end cards) or PCI Express slot (higher end cards). These are non-interchange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There are generic hardware drivers but to get the most out of a piece of hardware, brand specific drivers need to be install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391520" y="6613560"/>
            <a:ext cx="175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© Stuart Alexander 2007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gg331-07</cp:lastModifiedBy>
  <dcterms:modified xsi:type="dcterms:W3CDTF">2007-03-15T08:04:5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