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B6555-D548-496D-8AE0-102CB6840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ADD99-88F2-4A44-BF5A-336F58D96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A2D60-2C3D-4380-A31F-451AC806A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62ADC-0354-4921-886D-FC237C6C6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28D22-DC0C-4466-8C31-09A031B02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E2A62-DA6C-43D0-8C44-C475B998F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F736E-A09C-4234-A9A6-D1BB567D2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E383F-821F-4A82-BFFE-2A069C933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4ADBE-39CC-4A78-8546-D89C40B70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5DF02-3CA5-4E0E-AAF7-56EFB9679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E0699-717D-4BD7-A69D-A39CC7CEA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D7E1-8CCF-4C73-A454-E1CCE4FC1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FBF12-5728-4F70-9EB4-5FB696F0A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118CB-C778-494B-AB8B-85C151139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A0286-CB03-4D02-80FC-64D7438CB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90569-F2B2-4F0C-A5AE-9B338F0FB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DDDE1-D933-4229-87FB-C6A55831A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49305-0C8A-46DE-B5D1-9F2E8E494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3B84A-AEBD-432C-8383-9296EE01E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E9EC-F25B-4C6A-9704-76067C604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3AE43-7527-4C04-8F7F-846CC5AA9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1A9C2-3FDF-4C1C-B296-8C9739A85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0D0AB-707E-45D3-88F8-B1AC79AE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A9CB7-10F6-4476-9366-BEB865C74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8928-D629-47AF-913D-14C37E72914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84F0-927D-4D3B-AF33-581B529E86A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Power Supplies &amp; Surge Protectors</a:t>
            </a:r>
            <a:r>
              <a:rPr b="1" lang="en-US" sz="5700" spc="-1" strike="noStrike">
                <a:solidFill>
                  <a:srgbClr val="ffffcc"/>
                </a:solidFill>
                <a:latin typeface="Arial"/>
              </a:rPr>
              <a:t>	</a:t>
            </a:r>
            <a:endParaRPr b="0" lang="en-US" sz="5700" spc="-1" strike="noStrike">
              <a:solidFill>
                <a:srgbClr val="ffffcc"/>
              </a:solidFill>
              <a:latin typeface="Arial"/>
            </a:endParaRPr>
          </a:p>
        </p:txBody>
      </p:sp>
      <p:pic>
        <p:nvPicPr>
          <p:cNvPr id="115" name="images" descr=""/>
          <p:cNvPicPr/>
          <p:nvPr/>
        </p:nvPicPr>
        <p:blipFill>
          <a:blip r:embed="rId1"/>
          <a:stretch/>
        </p:blipFill>
        <p:spPr>
          <a:xfrm>
            <a:off x="1219320" y="3505320"/>
            <a:ext cx="2590560" cy="1981080"/>
          </a:xfrm>
          <a:prstGeom prst="rect">
            <a:avLst/>
          </a:prstGeom>
          <a:ln w="0">
            <a:noFill/>
          </a:ln>
        </p:spPr>
      </p:pic>
      <p:pic>
        <p:nvPicPr>
          <p:cNvPr id="116" name="images2" descr=""/>
          <p:cNvPicPr/>
          <p:nvPr/>
        </p:nvPicPr>
        <p:blipFill>
          <a:blip r:embed="rId2"/>
          <a:stretch/>
        </p:blipFill>
        <p:spPr>
          <a:xfrm>
            <a:off x="4876920" y="3505320"/>
            <a:ext cx="23619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can keep equipment operational for hours. When purchasing a uninterruptible power supply, it is important to consider what equipment must be kept running, as well as for how long.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are 2 types of UPS’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ndby UP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inuous UPS</a:t>
            </a:r>
            <a:endParaRPr b="0" lang="en-US" sz="3200" spc="-1" strike="noStrike">
              <a:solidFill>
                <a:srgbClr val="eaeaea"/>
              </a:solidFill>
              <a:latin typeface="Verdana"/>
            </a:endParaRPr>
          </a:p>
          <a:p>
            <a:pPr marL="33264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2640" indent="-33264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tandby UPS systems are far more common for home or small-business use because they tend to cost about half as much as a continuous UPS system. Continuous systems provide extremely clean, stable power, so they tend to be used in server rooms and mission critical applications.</a:t>
            </a:r>
            <a:r>
              <a:rPr b="0" lang="en-US" sz="2400" spc="-1" strike="noStrike">
                <a:solidFill>
                  <a:srgbClr val="eaeaea"/>
                </a:solidFill>
                <a:latin typeface="Verdana"/>
              </a:rPr>
              <a:t> </a:t>
            </a: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ndby UP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lang="en-US" sz="3200" spc="-1" strike="noStrike">
                <a:solidFill>
                  <a:srgbClr val="eaeaea"/>
                </a:solidFill>
                <a:latin typeface="Verdana"/>
              </a:rPr>
              <a:t>standby UPS</a:t>
            </a:r>
            <a:r>
              <a:rPr b="0" lang="en-US" sz="3200" spc="-1" strike="noStrike">
                <a:solidFill>
                  <a:srgbClr val="eaeaea"/>
                </a:solidFill>
                <a:latin typeface="Verdana"/>
              </a:rPr>
              <a:t> runs the computer off the normal utility power until it detects a problem. At that point it very quickly (within 5 milliseconds or less) turns on a power inverter and runs the computer off of the UPS's battery.</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ntinuous UP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t>
            </a:r>
            <a:r>
              <a:rPr b="1" lang="en-US" sz="2800" spc="-1" strike="noStrike">
                <a:solidFill>
                  <a:srgbClr val="eaeaea"/>
                </a:solidFill>
                <a:latin typeface="Verdana"/>
              </a:rPr>
              <a:t>continuous UPS </a:t>
            </a:r>
            <a:r>
              <a:rPr b="0" lang="en-US" sz="2800" spc="-1" strike="noStrike">
                <a:solidFill>
                  <a:srgbClr val="eaeaea"/>
                </a:solidFill>
                <a:latin typeface="Verdana"/>
              </a:rPr>
              <a:t>is always running off battery power and the battery is continuously being recharged. The battery charger continuously produces DC power, which the inverter continuously turns back into 120-volt AC power. If the power fails, the battery provides power to the inverter. There is no switch-over time in a continuous UPS and provides a very stable source of power.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urge protector is a device that sits between your pc or other electrical equipment and the main power outlet.</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 protects your equipment’s power supply from electrical surg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y power must pass through the surge protector to reach your equipment.</a:t>
            </a:r>
            <a:endParaRPr b="0" lang="en-US" sz="2800" spc="-1" strike="noStrike">
              <a:solidFill>
                <a:srgbClr val="eaeaea"/>
              </a:solidFill>
              <a:latin typeface="Verdana"/>
            </a:endParaRPr>
          </a:p>
        </p:txBody>
      </p:sp>
      <p:pic>
        <p:nvPicPr>
          <p:cNvPr id="146" name="" descr=""/>
          <p:cNvPicPr/>
          <p:nvPr/>
        </p:nvPicPr>
        <p:blipFill>
          <a:blip r:embed="rId1"/>
          <a:stretch/>
        </p:blipFill>
        <p:spPr>
          <a:xfrm>
            <a:off x="3200400" y="4724280"/>
            <a:ext cx="236232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sually set up in a "strip" or box form, surge protectors have several power outlets to plug into. </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versions will also have at least one data outlet to protect a telephone, fax machine or a modem as these are also in danger from a nasty surge of electricity through a phone lin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urge protector works by channelling any extra voltage into the electrical outlet's "earth" or "ground" wire, thus stopping it from reaching your equipment and still allows the normal voltage to continu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power supply that can support the drives. All of the high-tech peripherals and latest editions of computer software products that you’ve installed are useless if your computers power supply is not sufficiently providing electricity. </a:t>
            </a:r>
            <a:endParaRPr b="0" lang="en-US" sz="2800" spc="-1" strike="noStrike">
              <a:solidFill>
                <a:srgbClr val="eaeaea"/>
              </a:solidFill>
              <a:latin typeface="Verdana"/>
            </a:endParaRPr>
          </a:p>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used in the workstations in room G3.32 are a 200-240V AC. A 240V power supply is the most common power supply used for standard computer systems these days.</a:t>
            </a:r>
            <a:endParaRPr b="0" lang="en-US" sz="28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Modern power supplies have power outputs that range from 200 to 500 watts. Before purchasing a new power supply you must firstly know the amount of power that each of your computers components need.</a:t>
            </a:r>
            <a:r>
              <a:rPr b="0" lang="en-US" sz="3200" spc="-1" strike="noStrike">
                <a:solidFill>
                  <a:srgbClr val="eaeaea"/>
                </a:solidFill>
                <a:latin typeface="Verdana"/>
              </a:rPr>
              <a:t> </a:t>
            </a:r>
            <a:r>
              <a:rPr b="0" lang="en-US" sz="3600" spc="-1" strike="noStrike">
                <a:solidFill>
                  <a:srgbClr val="eaeaea"/>
                </a:solidFill>
                <a:latin typeface="Verdana"/>
              </a:rPr>
              <a:t>(Peripheral / hardware devices).</a:t>
            </a:r>
            <a:endParaRPr b="0" lang="en-US" sz="3600" spc="-1" strike="noStrike">
              <a:solidFill>
                <a:srgbClr val="eaeaea"/>
              </a:solidFill>
              <a:latin typeface="Verdan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9480" indent="-3394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se power requirements can usually be found on the labels of the components themselves. By adding up these figures you will have a good estimate of the power output your new power supply should hav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computer system the power supply is the metal box usually found in the corner of the cas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visible from the back of many systems because it contains the power cord and the cooling fa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wer supply is the most vital component in the operation of a computer system.</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5880" indent="-3358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As a general rule, never buy a power supply with output ratings that are lower than your estimates. Also you should never buy one which has a too high power rating as most of this power will be wasted and a higher cost for the power.</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is a power supply which has been removed from its PC case.</a:t>
            </a:r>
            <a:endParaRPr b="0" lang="en-US" sz="3200" spc="-1" strike="noStrike">
              <a:solidFill>
                <a:srgbClr val="eaeaea"/>
              </a:solidFill>
              <a:latin typeface="Verdana"/>
            </a:endParaRPr>
          </a:p>
        </p:txBody>
      </p:sp>
      <p:pic>
        <p:nvPicPr>
          <p:cNvPr id="121" name="" descr=""/>
          <p:cNvPicPr/>
          <p:nvPr/>
        </p:nvPicPr>
        <p:blipFill>
          <a:blip r:embed="rId1"/>
          <a:stretch/>
        </p:blipFill>
        <p:spPr>
          <a:xfrm>
            <a:off x="2031840" y="2708280"/>
            <a:ext cx="508032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mall, red switch on the right, above the power-cord connector, is for changing line voltages in various countri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ower supplies are often referred to as "switching power supplies“ that use switcher technology to convert the AC input to lower DC voltages. The typical voltages supplied are: </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3.3 volts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5 volt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12 volts</a:t>
            </a:r>
            <a:r>
              <a:rPr b="1" lang="en-US" sz="2400" spc="-1" strike="noStrike">
                <a:solidFill>
                  <a:srgbClr val="eaeaea"/>
                </a:solidFill>
                <a:latin typeface="Verdana"/>
              </a:rPr>
              <a:t> </a:t>
            </a:r>
            <a:endParaRPr b="0" lang="en-US" sz="2400" spc="-1" strike="noStrike">
              <a:solidFill>
                <a:srgbClr val="eaeaea"/>
              </a:solidFill>
              <a:latin typeface="Verdan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converts the alternating current (AC) line from your home to the direct current (DC) needed by the computer syste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3.3 and 5-volts are typically used by digital circuits, while the 12-volt is used to run motors in disk drives and fans.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main specification of a power supply is in </a:t>
            </a:r>
            <a:r>
              <a:rPr b="1" lang="en-US" sz="2800" spc="-1" strike="noStrike">
                <a:solidFill>
                  <a:srgbClr val="eaeaea"/>
                </a:solidFill>
                <a:latin typeface="Verdana"/>
              </a:rPr>
              <a:t>watts</a:t>
            </a:r>
            <a:r>
              <a:rPr b="0" lang="en-US" sz="2800" spc="-1" strike="noStrike">
                <a:solidFill>
                  <a:srgbClr val="eaeaea"/>
                </a:solidFill>
                <a:latin typeface="Verdana"/>
              </a:rPr>
              <a:t>. A watt is the product of the </a:t>
            </a:r>
            <a:r>
              <a:rPr b="1" lang="en-US" sz="2800" spc="-1" strike="noStrike">
                <a:solidFill>
                  <a:srgbClr val="eaeaea"/>
                </a:solidFill>
                <a:latin typeface="Verdana"/>
              </a:rPr>
              <a:t>voltage</a:t>
            </a:r>
            <a:r>
              <a:rPr b="0" lang="en-US" sz="2800" spc="-1" strike="noStrike">
                <a:solidFill>
                  <a:srgbClr val="eaeaea"/>
                </a:solidFill>
                <a:latin typeface="Verdana"/>
              </a:rPr>
              <a:t> in volts and the </a:t>
            </a:r>
            <a:r>
              <a:rPr b="1" lang="en-US" sz="2800" spc="-1" strike="noStrike">
                <a:solidFill>
                  <a:srgbClr val="eaeaea"/>
                </a:solidFill>
                <a:latin typeface="Verdana"/>
              </a:rPr>
              <a:t>current</a:t>
            </a:r>
            <a:r>
              <a:rPr b="0" lang="en-US" sz="2800" spc="-1" strike="noStrike">
                <a:solidFill>
                  <a:srgbClr val="eaeaea"/>
                </a:solidFill>
                <a:latin typeface="Verdana"/>
              </a:rPr>
              <a:t> in amp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uninterruptible power supply (UPS) is a battery-driven power supply that helps protect electronic equipment from a sudden loss of pow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especially useful with computers and equipment that could suffer damage in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pic>
        <p:nvPicPr>
          <p:cNvPr id="129" name="" descr=""/>
          <p:cNvPicPr/>
          <p:nvPr/>
        </p:nvPicPr>
        <p:blipFill>
          <a:blip r:embed="rId1"/>
          <a:stretch/>
        </p:blipFill>
        <p:spPr>
          <a:xfrm>
            <a:off x="4716360" y="3860640"/>
            <a:ext cx="1965600" cy="1355760"/>
          </a:xfrm>
          <a:prstGeom prst="rect">
            <a:avLst/>
          </a:prstGeom>
          <a:ln w="0">
            <a:noFill/>
          </a:ln>
        </p:spPr>
      </p:pic>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PS units come in a variety of capacities and price ranges. Some UPS units are designed to provide enough power to keep a computer running until it can be safely shut down.</a:t>
            </a:r>
            <a:endParaRPr b="0" lang="en-US" sz="2800" spc="-1" strike="noStrike">
              <a:solidFill>
                <a:srgbClr val="eaeaea"/>
              </a:solidFill>
              <a:latin typeface="Verdana"/>
            </a:endParaRPr>
          </a:p>
        </p:txBody>
      </p:sp>
      <p:pic>
        <p:nvPicPr>
          <p:cNvPr id="131" name="" descr=""/>
          <p:cNvPicPr/>
          <p:nvPr/>
        </p:nvPicPr>
        <p:blipFill>
          <a:blip r:embed="rId2"/>
          <a:stretch/>
        </p:blipFill>
        <p:spPr>
          <a:xfrm>
            <a:off x="1979640" y="4005360"/>
            <a:ext cx="1728720" cy="107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units are important for certain types of equipment that could be damaged in a power failure. For example, computer servers that are left running 24 hours a day, to provide services and files for other computers.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good UPS can be connected to the PC via a serial or USB cab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You install special software on the PC, which enables the UPS to automatically shut down the PC in your absence in case of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41:48Z</dcterms:created>
  <dc:creator>sgg329-11</dc:creator>
  <dc:description/>
  <dc:language>en-US</dc:language>
  <cp:lastModifiedBy>sgg331-08</cp:lastModifiedBy>
  <dcterms:modified xsi:type="dcterms:W3CDTF">2007-03-08T07:18:38Z</dcterms:modified>
  <cp:revision>12</cp:revision>
  <dc:subject/>
  <dc:title>Power Supply &amp; Surge Protector </dc:title>
</cp:coreProperties>
</file>