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C38-C5A6-427C-8DEF-7A049EE9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B56-758E-4515-BFF7-CF43185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7EA-F05D-4D3E-83FD-C0DCCBE9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30E-697F-4FEE-B36A-E9CAFD9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235D-5184-43E6-8C38-B5F454C9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1683-B2DE-4748-A0C8-0CB890DC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B99-F09D-4130-B61A-64E98FF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788-5284-418C-8D20-8E401E7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89A-C645-4CBD-86CB-897121B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3D9-1944-4877-AFF6-193AFFF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539A-8EC3-45A7-BC0D-C6F5B14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2D7-455E-45AD-9114-30CAA3EC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0570-D01E-49C6-A820-96A1AE4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B010-12E8-4837-B2FA-4A17056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BC2B-CA13-4585-93C1-5D4D3487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706F-D868-4E4F-BB14-367F8894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C5A-A7C1-4800-916D-88035B0F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836-3335-493A-9019-1C63365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EA2-5655-40A5-814A-0863C89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0EE-932D-4D63-A600-B111108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799-97C1-4139-85A0-7132AFD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F5E-4ECD-4990-A6E7-837902D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A73-D1CE-4992-8241-590B5E4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9E3-8F2C-4D1A-9872-012BB24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629D-7E11-4FC0-87EA-B7F83058F9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7AB3-031E-49E3-B9DD-4A44A3C55F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p.com.au/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www.pccomputernotes.com/" TargetMode="External"/><Relationship Id="rId4" Type="http://schemas.openxmlformats.org/officeDocument/2006/relationships/hyperlink" Target="http://www.wikipedia.com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o What am I Presenting to you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Ex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nects different external devices to the rest of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riph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ansion S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\O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ive Conn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Simpler Terms the External Bus allows various devices to be added to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External Bus is also known as the Expansion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Architect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Busses connect different parts of the motherboard to one another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ront Side Bus Connects the CPU to the Northbridge. (Determines the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ackside Bus connects to the 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emory Bus connects the Northbridge to the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DE\ATA Bus Connects the Southbridge to the disk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PCI Bus Connects the PCI Slots to the South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CI Express is the more latest BUS and eliminates the AGP BUS by introducing another PCI Express BUS to the graphics c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Travels on the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!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has to be exchanged between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art of the bus is dedicated to moving this data, this is what we call the Dat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found on both the Internal and 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is stored, manipulated and processed in 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omputer has to move information in and out of memory, and it has to keep track of which information has to go 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t has to keep a MAP of the different address locations in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ddress BU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has to transmit and describe the locations of the memory so other components can access and locat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Information used to describe the locations of the memory to the Components travels along the ADDRESS B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ore Memory locations that a processor addresses, the more RAM it use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G3.32: Memor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urrent memory in most of the computers is 256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 Computer 25 has 128 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are 2 168 PIN DIMM slots, however only 1 is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y use 133MHz SDRAM Mod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ximum memory you can put in each slot is 512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d the maximum memory the Motherboard can handle is 512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US on this Motherboard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n Architectu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formatio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ken from the HP Website, using their technical reference manual from </a:t>
            </a: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hp.com.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so searching through the Google website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howstuffwork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pccomputernot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4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ank you for staying awake and list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s Selected by our Teacher Sharon….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 am Doing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attery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PU, has to be able to send out different types of data, information and values to all devices and components through the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f you look underneath your motherboa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'll see a whole network of lines or electronic pathways that join the different components toge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Research I have gathered that the wires are co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Hence, 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electronic pathways are nothing more than tiny wires that carry information, data and different signals throughout the computer to different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is what we call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ypes of B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Computers Bus is divided into 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cts different components inside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l other components on the mother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Internal Bus is also known as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3:53:06Z</dcterms:created>
  <dc:creator>Fotis</dc:creator>
  <dc:description/>
  <dc:language>en-US</dc:language>
  <cp:lastModifiedBy>sgg331-06</cp:lastModifiedBy>
  <dcterms:modified xsi:type="dcterms:W3CDTF">2007-03-08T07:09:06Z</dcterms:modified>
  <cp:revision>4</cp:revision>
  <dc:subject/>
  <dc:title>So What am I Presenting to you???</dc:title>
</cp:coreProperties>
</file>