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324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243C-C86E-4E85-869D-199F0CE3A6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581280"/>
            <a:ext cx="358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2096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 Understand the requirements in dep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ote Investors, Philips light bu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pro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iewpoint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905120"/>
            <a:ext cx="693396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University Admission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versity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ssions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aid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offices (e.g., athletics,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and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ademic depar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views with Cli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2209680"/>
            <a:ext cx="7696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ents may have only a vague concept of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before you meet with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full 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don't understand, delve fur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group meetings are often most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often confuse the current system with the underlying requi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362320"/>
            <a:ext cx="708660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 Organize the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fication into coherent clu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legal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and resolve confli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functionality v. cost v. timeli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Dartmouth general ledge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2362320"/>
            <a:ext cx="464832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Model the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-cen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dural Models: Flow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2438280"/>
            <a:ext cx="990360" cy="609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429000"/>
            <a:ext cx="83808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495680"/>
            <a:ext cx="609840" cy="457200"/>
          </a:xfrm>
          <a:prstGeom prst="flowChartManualOpe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5486400"/>
            <a:ext cx="533520" cy="5335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2666880"/>
            <a:ext cx="32004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al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lowchart: University Ad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0" y="2666880"/>
            <a:ext cx="1676520" cy="825480"/>
            <a:chOff x="0" y="2666880"/>
            <a:chExt cx="1676520" cy="825480"/>
          </a:xfrm>
        </p:grpSpPr>
        <p:sp>
          <p:nvSpPr>
            <p:cNvPr id="127" name=""/>
            <p:cNvSpPr/>
            <p:nvPr/>
          </p:nvSpPr>
          <p:spPr>
            <a:xfrm>
              <a:off x="0" y="2742840"/>
              <a:ext cx="1600200" cy="685800"/>
            </a:xfrm>
            <a:prstGeom prst="flowChartManualOperat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2666880"/>
              <a:ext cx="167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m recei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52480" y="2819520"/>
            <a:ext cx="153036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89080" y="2895480"/>
            <a:ext cx="9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2480" y="4038480"/>
            <a:ext cx="1447560" cy="825480"/>
            <a:chOff x="1752480" y="4038480"/>
            <a:chExt cx="1447560" cy="825480"/>
          </a:xfrm>
        </p:grpSpPr>
        <p:sp>
          <p:nvSpPr>
            <p:cNvPr id="134" name=""/>
            <p:cNvSpPr/>
            <p:nvPr/>
          </p:nvSpPr>
          <p:spPr>
            <a:xfrm>
              <a:off x="1904760" y="403848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52480" y="403848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 rec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438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181480"/>
            <a:ext cx="1295280" cy="9144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1055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2743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581280" y="2743200"/>
            <a:ext cx="1447560" cy="825480"/>
            <a:chOff x="3581280" y="2743200"/>
            <a:chExt cx="1447560" cy="825480"/>
          </a:xfrm>
        </p:grpSpPr>
        <p:sp>
          <p:nvSpPr>
            <p:cNvPr id="143" name=""/>
            <p:cNvSpPr/>
            <p:nvPr/>
          </p:nvSpPr>
          <p:spPr>
            <a:xfrm>
              <a:off x="3733560" y="2743200"/>
              <a:ext cx="114300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2743200"/>
              <a:ext cx="144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 databa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181480" y="2819520"/>
            <a:ext cx="190512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124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3809880"/>
            <a:ext cx="1295280" cy="9144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3809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 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2819520"/>
            <a:ext cx="609840" cy="6094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3581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dural Models: Pseudo-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:  Check project projec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2590920"/>
            <a:ext cx="784872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_pl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date_ti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e_date_ti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(too_lat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client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 (no_cl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(team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_te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_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(bad_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(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_report (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mments (text), comments (grad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se 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ror(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-Flow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43828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76520" y="3352680"/>
            <a:ext cx="761760" cy="45720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4343400"/>
            <a:ext cx="761760" cy="457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2438280"/>
            <a:ext cx="533412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ores or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55680" y="3417840"/>
            <a:ext cx="153684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6160" y="3794040"/>
            <a:ext cx="13766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3809880"/>
            <a:ext cx="1471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5120" y="444492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297180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40320" y="3127320"/>
            <a:ext cx="1144800" cy="42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35640" y="4025880"/>
            <a:ext cx="114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3429000"/>
            <a:ext cx="1328760" cy="773280"/>
          </a:xfrm>
          <a:prstGeom prst="roundRect">
            <a:avLst>
              <a:gd name="adj" fmla="val 2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41320" y="33591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41520" y="29653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3581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2743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madic Computing Experi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209680"/>
            <a:ext cx="8001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ITATION SESSION, MONDAY SEPTEMB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ll laptops with wireless cards available for CS 501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or 4 laptops p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dit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reless cards per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s at beginning and end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ach project as part of the Feasibility Study and Plan must identify which students will take responsibility for the equi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emble Application S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120" y="361008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2720" y="341640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09880"/>
            <a:ext cx="1336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92440" y="3886200"/>
            <a:ext cx="14716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302256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9520" y="3579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95720" y="303516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579132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62120" y="4079520"/>
            <a:ext cx="1315800" cy="17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00160" y="5842080"/>
            <a:ext cx="1752840" cy="76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24200" y="58420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432160" y="4178160"/>
            <a:ext cx="144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043080" y="4177800"/>
            <a:ext cx="0" cy="163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4520" y="3492360"/>
            <a:ext cx="1536480" cy="77328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756400" y="23252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2362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1880" y="349236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5715000"/>
            <a:ext cx="17524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57150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51440" y="4278240"/>
            <a:ext cx="1235160" cy="143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3886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3124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4191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708280" y="22492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79680" y="186840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66880" y="2362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97880" y="3719520"/>
            <a:ext cx="318960" cy="32544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niversity Admission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Completed Application S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38862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3505320"/>
            <a:ext cx="153684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886200" y="2285640"/>
            <a:ext cx="1676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27800" y="1944720"/>
            <a:ext cx="38088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62320" y="3657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14800" y="5638680"/>
            <a:ext cx="17524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638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75080" y="4292640"/>
            <a:ext cx="74124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963960" y="4266720"/>
            <a:ext cx="765360" cy="13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3886200"/>
            <a:ext cx="19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0960" y="3719520"/>
            <a:ext cx="319320" cy="325440"/>
          </a:xfrm>
          <a:prstGeom prst="flowChartConnec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971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3505320"/>
            <a:ext cx="1536480" cy="772920"/>
          </a:xfrm>
          <a:prstGeom prst="roundRect">
            <a:avLst>
              <a:gd name="adj" fmla="val 29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350532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521320" y="4255920"/>
            <a:ext cx="1347840" cy="13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4309920"/>
            <a:ext cx="1362240" cy="1328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610480" y="3657600"/>
            <a:ext cx="381240" cy="3808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3886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5880"/>
            <a:ext cx="380880" cy="3812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990720" y="4267080"/>
            <a:ext cx="16761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46483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v. System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2286000"/>
            <a:ext cx="78483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should make minimal assumptions about the system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 requirements definition must be consistent with computing technology and the resources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analysis and design are interwoven.  However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o not to allow the analysis tools to prejudge the system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362320"/>
            <a:ext cx="83059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and 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October 4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roup/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 ex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/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9 - Dec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resent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exam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ails are subject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92468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dnesday, September 13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ject plan due -- re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 of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/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status (e.g., previous wor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 (e.g., major stages, assignment to tasks, 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, schedule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ther relevan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that are planning to carry out the Internet Butler project, please meet with me after the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05120"/>
            <a:ext cx="746748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bility  (e.g., project plan, interim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upport  (e.g., user manu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communication (e.g., interface spec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evolution (e.g., requirements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and kept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priate for 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ed online (usu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but professional in style and 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cumentation is expensive --&gt; Quality not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 of Docu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286000"/>
            <a:ext cx="5867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context (e.g., copyright not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Definition and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400" y="1973160"/>
            <a:ext cx="187704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Requirements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-68400" y="2133720"/>
            <a:ext cx="2743200" cy="838080"/>
            <a:chOff x="-68400" y="2133720"/>
            <a:chExt cx="2743200" cy="838080"/>
          </a:xfrm>
        </p:grpSpPr>
        <p:sp>
          <p:nvSpPr>
            <p:cNvPr id="77" name=""/>
            <p:cNvSpPr/>
            <p:nvPr/>
          </p:nvSpPr>
          <p:spPr>
            <a:xfrm>
              <a:off x="100080" y="21337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68400" y="214632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easi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u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82800" y="2119320"/>
            <a:ext cx="3733920" cy="869760"/>
            <a:chOff x="1882800" y="2119320"/>
            <a:chExt cx="3733920" cy="869760"/>
          </a:xfrm>
        </p:grpSpPr>
        <p:sp>
          <p:nvSpPr>
            <p:cNvPr id="80" name=""/>
            <p:cNvSpPr/>
            <p:nvPr/>
          </p:nvSpPr>
          <p:spPr>
            <a:xfrm>
              <a:off x="2570400" y="2119320"/>
              <a:ext cx="213336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82800" y="216360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aly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67080" y="2895480"/>
            <a:ext cx="2514600" cy="847440"/>
            <a:chOff x="4267080" y="2895480"/>
            <a:chExt cx="2514600" cy="847440"/>
          </a:xfrm>
        </p:grpSpPr>
        <p:sp>
          <p:nvSpPr>
            <p:cNvPr id="83" name=""/>
            <p:cNvSpPr/>
            <p:nvPr/>
          </p:nvSpPr>
          <p:spPr>
            <a:xfrm>
              <a:off x="4452840" y="2895480"/>
              <a:ext cx="213372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2917440"/>
              <a:ext cx="2514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fin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553080" y="3505320"/>
            <a:ext cx="2440080" cy="850680"/>
            <a:chOff x="6553080" y="3505320"/>
            <a:chExt cx="2440080" cy="850680"/>
          </a:xfrm>
        </p:grpSpPr>
        <p:sp>
          <p:nvSpPr>
            <p:cNvPr id="86" name=""/>
            <p:cNvSpPr/>
            <p:nvPr/>
          </p:nvSpPr>
          <p:spPr>
            <a:xfrm>
              <a:off x="6711840" y="3505320"/>
              <a:ext cx="2133720" cy="837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3080" y="3530520"/>
              <a:ext cx="24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9000" y="3619440"/>
            <a:ext cx="19047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6280" y="4008600"/>
            <a:ext cx="1600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26708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37440" y="5765760"/>
            <a:ext cx="243828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pec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5791320"/>
            <a:ext cx="2057400" cy="82548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2400" y="4341960"/>
            <a:ext cx="0" cy="14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562720" y="3763800"/>
            <a:ext cx="7920" cy="47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298440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514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91240" y="3252960"/>
            <a:ext cx="106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251460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3247920"/>
            <a:ext cx="0" cy="2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54800" y="2521080"/>
            <a:ext cx="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866920" y="3962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730680" y="3352680"/>
            <a:ext cx="68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733920" y="2971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867280" y="365760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59240" y="4843440"/>
            <a:ext cx="1440" cy="89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723920" y="5105520"/>
            <a:ext cx="1800" cy="68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94080" y="6227640"/>
            <a:ext cx="1143000" cy="0"/>
          </a:xfrm>
          <a:prstGeom prst="line">
            <a:avLst/>
          </a:prstGeom>
          <a:ln w="9360">
            <a:solidFill>
              <a:srgbClr val="0000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9-11T19:35:37Z</dcterms:modified>
  <cp:revision>174</cp:revision>
  <dc:subject/>
  <dc:title>Digital Library Architecture- Key Principles </dc:title>
</cp:coreProperties>
</file>