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4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44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901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776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901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776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44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4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4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44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4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cc99"/>
              </a:buClr>
              <a:buFont typeface="Web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635040" y="1752480"/>
            <a:ext cx="7458120" cy="22860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6880" y="68580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52280" y="64008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2A1EA-78C3-4211-A7C1-1B673C62FE6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204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CS 501: Software Engineering</a:t>
            </a:r>
            <a:br>
              <a:rPr sz="3600"/>
            </a:b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Fall 2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28800" y="3352680"/>
            <a:ext cx="54100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cture 2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endable Systems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85800" y="2666880"/>
            <a:ext cx="7458120" cy="2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inciples for Dependable Syste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62120" y="2666880"/>
            <a:ext cx="7772400" cy="19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-quality has to be built-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&gt;  Each stage of development must be done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&gt;  Testing and correction does not lead to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&gt;  Changes should be incorporated into the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lity Management Process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7920" y="2286000"/>
            <a:ext cx="6705360" cy="38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ssump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od processes lead to good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importance of routi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ndard terminolog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requirements, specification, desig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ware standards (naming conventions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nal and external docu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orting proced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lity Management Process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447920" y="2438280"/>
            <a:ext cx="678168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ange manageme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code management and version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cking of change requests and bug 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dures for changing requirements specifications, designs and other docu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ease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esign and Code Review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33520" y="2438280"/>
            <a:ext cx="8305560" cy="35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leagues review each other's wor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be applied to any stage of software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be formal or inf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eveloper provides colleagues wi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cumentation (e.g., specification or design), or code list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lks through the work while answering ques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effective when developer and reviewers prepare wel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enefits of Design and Code Review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14400" y="1905120"/>
            <a:ext cx="7086600" cy="43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nefi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a eyes spot mistakes, suggest improv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leagues share expertise; helps with t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ccasion to tidy loose e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ompatibilities between modules can be identifi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lps scheduling and management contro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undamental requiremen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ior team members must show leader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helpful, not threate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ocess (Plan) Review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066680" y="2057400"/>
            <a:ext cx="739152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bjectiv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review progress against plan (formal or inform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adjust plan (schedule, team assignments, functionality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mpact on qualit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od quality systems usually result from plans that are demanding but reali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ood people like to be stretched and to work hard, but must not be pressed beyond their capabilit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tatistical Tes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38080" y="2438280"/>
            <a:ext cx="79250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e the operational profile of the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or generate a profile of test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 test data to system, record failure patter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 statistical values of metrics under test cond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tatistical Tes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520" y="2209680"/>
            <a:ext cx="8229600" cy="374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dvantag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test with very large numbers of trans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test with extreme cases (high loads, restarts, disruptio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repeat after system mod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isadvantag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certainty in operational profile (unlikely inpu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never prove high reli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xample: Dartmouth Time Sharing (1980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04920" y="2133720"/>
            <a:ext cx="8534160" cy="42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 central computer serves the entire campus.  Any failure is serio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ep 1.   Gather data on every failu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 years of data in a simple data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ry failure analyz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rd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ware (defaul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vironment (e.g., power, air condition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uman (e.g., operator err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xample: Dartmouth Time Sharing (1980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2209680"/>
            <a:ext cx="7315200" cy="38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ep 2.  Analyze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ekly, monthly, and annual stat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 of failures and interrup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n time to rep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s of trends by component, e.g.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ilure rates of disk dr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rdware failures after power fail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ashes caused by software bugs in each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dministr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447920" y="5257800"/>
            <a:ext cx="2286000" cy="457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457200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62120" y="2209680"/>
            <a:ext cx="79246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ignme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ort due tomorrow at 5 p.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roup design with individual pa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ations Wednesday through Fri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very group member must present during the seme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xample: Dartmouth Time Sharing (1980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2590920"/>
            <a:ext cx="80010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ep 3.  Invest resources where benefit will be maximum, e.g.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derly shut down after power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ority order for software improv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ed procedures for oper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lacement hard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actors for Fault Free Softwa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" y="1905120"/>
            <a:ext cx="830592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cise, unambiguou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ganizatio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ultu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 that expects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ach to software design and implementation tha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ides complex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e.g., structured design, object-oriented programm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of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ftware too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at restrict or detect errors (e.g., strongly typed languages, source control systems, debugge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gramming sty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at emphasizes simplicity, readability, and avoidance of dangerous constr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crement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valid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rror Avoida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371600" y="2209680"/>
            <a:ext cx="6400800" cy="40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isky programming constr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memory al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oating-point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llel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u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rup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l are valuable in certain circumstances, but should be used with discre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efensive Programm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62120" y="2133720"/>
            <a:ext cx="784836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rphy's Law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anything can go wrong, it wi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efensive Programming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dundant code is incorporated to check system state after mod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it assumptions are tested explicit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efensive Programming Examp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66680" y="2438280"/>
            <a:ext cx="708660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oole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variabl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te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ertion check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debugging code into program with a switch to display values at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ror checking codes in data, e.g., checksum or ha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ome Notable Bu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38080" y="2209680"/>
            <a:ext cx="7696440" cy="36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t-in function in Fortran compiler (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panese microcode for Honeywell DPS virtual 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icrofilm plotter with the missing byte (1:102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un 3 page fault that IBM paid to f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ft handed rotation in the graphics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Good people work around probl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he best people track them down and fix them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oftware Reliabil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14400" y="2133720"/>
            <a:ext cx="7696080" cy="45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ailur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Software does not deliver th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ervice expected by the us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e.g., mistake in requiremen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ault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rogramming or design error whereby the delivered system does not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onform to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liability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robability of a failure occurring in operational u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erceived reliability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Depends up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of inpu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in of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liability Metric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95280" y="2209680"/>
            <a:ext cx="6324840" cy="40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ility of failure on dem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failure occurrence (failure intens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n time between fail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ailability (up ti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n time to rep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ribution of fail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ypothetical examp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ars are safer than airplane in accidents (failures) per hour, but less safe in failures per m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liability Metrics for Distributed Syste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2286000"/>
            <a:ext cx="845820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raditional metrics are hard to apply in multi-component syste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a big network, at a given moment something will be giv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ouble, but very few users will see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ystem that has excellent average reliability may gi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rrible service to certain us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are so many components that system administrato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y on automatic reporting systems to identify problem are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User Perception of Reliabil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77240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 A personal computer that crashes frequently v. a machine that is out of service for two da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 A database system that crashes frequently but comes back quickly with no loss of data v. a system that fails once in three years but data has to be restored from backu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 A system that does not fail but has unpredictable periods when it runs very slow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st of Improved Reliabil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981080" y="2209680"/>
            <a:ext cx="0" cy="259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81080" y="4800600"/>
            <a:ext cx="4496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2057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781680" y="44197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537840" y="-1296360"/>
            <a:ext cx="5629680" cy="5638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62118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621183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6400800" y="213372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4343400" y="213372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962520" y="4876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9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943600" y="48006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523880" y="548640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ll you spend your money on new functionality or improved reliabilit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pecification of System Reliabil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38080" y="198108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: ATM card rea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2743200"/>
            <a:ext cx="8534520" cy="362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ailure 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Examp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tr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man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System fails to oper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per 1,000 d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-corrupt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with any card -- reb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i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System can not re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in 1,000 trans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-corrupt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an undamaged 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upt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A pattern 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actions corrup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80880" y="2743200"/>
            <a:ext cx="8458200" cy="380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438280" y="2743200"/>
            <a:ext cx="0" cy="380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638680" y="2743200"/>
            <a:ext cx="0" cy="380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0880" y="320040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80880" y="41911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5105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inciples for Dependable Syste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62120" y="220968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62120" y="2971800"/>
            <a:ext cx="7772400" cy="24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human mind can encompass only limited complexit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&gt;  Comprehensi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&gt;  Simpli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&gt;  Partitioning of complex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02T18:43:44Z</dcterms:created>
  <dc:creator>payette</dc:creator>
  <dc:description/>
  <dc:language>en-US</dc:language>
  <cp:lastModifiedBy> </cp:lastModifiedBy>
  <cp:lastPrinted>1999-09-14T17:00:20Z</cp:lastPrinted>
  <dcterms:modified xsi:type="dcterms:W3CDTF">2000-11-07T19:49:34Z</dcterms:modified>
  <cp:revision>392</cp:revision>
  <dc:subject/>
  <dc:title>Digital Library Architecture- Key Principles </dc:title>
</cp:coreProperties>
</file>