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0C69-5DF1-4F0B-98C7-285439130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886200"/>
            <a:ext cx="3962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-Oriented Design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Inheritance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11360" y="2057400"/>
            <a:ext cx="167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1080" y="3581280"/>
            <a:ext cx="167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08480" y="510552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32640" y="27432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08880" y="441972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08880" y="586728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205160" y="251784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253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205160" y="4044600"/>
            <a:ext cx="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14800" y="40622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70640" y="3200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80280" y="32180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7370280" y="4876920"/>
            <a:ext cx="1800" cy="9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80280" y="4894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191200" y="2930760"/>
            <a:ext cx="1406520" cy="21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2781800">
            <a:off x="5081400" y="50637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3557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809880"/>
            <a:ext cx="27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-95400" y="3952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ce Diagram:Painting Mech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2514600"/>
            <a:ext cx="1524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2514600"/>
            <a:ext cx="152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2514600"/>
            <a:ext cx="2438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ComponentP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2514600"/>
            <a:ext cx="2438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rget: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298440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3800" y="30193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8520" y="30160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298296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5880" y="3594240"/>
            <a:ext cx="204840" cy="196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600" y="37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00" y="324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90840" y="3556080"/>
            <a:ext cx="2286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20800" y="4033800"/>
            <a:ext cx="274680" cy="13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95840" y="4724280"/>
            <a:ext cx="257040" cy="121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29600" y="5300640"/>
            <a:ext cx="29052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8862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3962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120" y="434340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3505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back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41880"/>
            <a:ext cx="176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Ex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5638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5181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vity Diagram: Process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133720" y="2286000"/>
            <a:ext cx="2057400" cy="838080"/>
            <a:chOff x="2133720" y="2286000"/>
            <a:chExt cx="2057400" cy="838080"/>
          </a:xfrm>
        </p:grpSpPr>
        <p:sp>
          <p:nvSpPr>
            <p:cNvPr id="220" name=""/>
            <p:cNvSpPr/>
            <p:nvPr/>
          </p:nvSpPr>
          <p:spPr>
            <a:xfrm>
              <a:off x="2133720" y="2286000"/>
              <a:ext cx="2057400" cy="838080"/>
            </a:xfrm>
            <a:prstGeom prst="roundRect">
              <a:avLst>
                <a:gd name="adj" fmla="val 3981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10040" y="22860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lease work 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2057400" y="5410080"/>
            <a:ext cx="2057400" cy="838440"/>
            <a:chOff x="2057400" y="5410080"/>
            <a:chExt cx="2057400" cy="838440"/>
          </a:xfrm>
        </p:grpSpPr>
        <p:sp>
          <p:nvSpPr>
            <p:cNvPr id="223" name=""/>
            <p:cNvSpPr/>
            <p:nvPr/>
          </p:nvSpPr>
          <p:spPr>
            <a:xfrm>
              <a:off x="2057400" y="5410080"/>
              <a:ext cx="2057400" cy="838440"/>
            </a:xfrm>
            <a:prstGeom prst="roundRect">
              <a:avLst>
                <a:gd name="adj" fmla="val 3981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57400" y="55627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ign tas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629400" y="3886200"/>
            <a:ext cx="2057400" cy="838080"/>
            <a:chOff x="6629400" y="3886200"/>
            <a:chExt cx="2057400" cy="838080"/>
          </a:xfrm>
        </p:grpSpPr>
        <p:sp>
          <p:nvSpPr>
            <p:cNvPr id="226" name=""/>
            <p:cNvSpPr/>
            <p:nvPr/>
          </p:nvSpPr>
          <p:spPr>
            <a:xfrm>
              <a:off x="6629400" y="3886200"/>
              <a:ext cx="2057400" cy="838080"/>
            </a:xfrm>
            <a:prstGeom prst="roundRect">
              <a:avLst>
                <a:gd name="adj" fmla="val 3981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40384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chedu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401920" y="3976560"/>
            <a:ext cx="129528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8120" y="3124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703680" y="4279680"/>
            <a:ext cx="291312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733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aterials not read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4800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aterials read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50292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uard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959360" y="408456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3657600"/>
            <a:ext cx="9144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vity Diagram: Parallel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8120" y="2666880"/>
            <a:ext cx="2514600" cy="685800"/>
            <a:chOff x="3048120" y="2666880"/>
            <a:chExt cx="2514600" cy="685800"/>
          </a:xfrm>
        </p:grpSpPr>
        <p:sp>
          <p:nvSpPr>
            <p:cNvPr id="240" name=""/>
            <p:cNvSpPr/>
            <p:nvPr/>
          </p:nvSpPr>
          <p:spPr>
            <a:xfrm>
              <a:off x="3048120" y="2666880"/>
              <a:ext cx="2514600" cy="6858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00400" y="27432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omp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48320" y="4495680"/>
            <a:ext cx="2514600" cy="685800"/>
            <a:chOff x="4648320" y="4495680"/>
            <a:chExt cx="2514600" cy="685800"/>
          </a:xfrm>
        </p:grpSpPr>
        <p:sp>
          <p:nvSpPr>
            <p:cNvPr id="243" name=""/>
            <p:cNvSpPr/>
            <p:nvPr/>
          </p:nvSpPr>
          <p:spPr>
            <a:xfrm>
              <a:off x="4648320" y="4495680"/>
              <a:ext cx="2514600" cy="6858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4572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eam aud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447920" y="4495680"/>
            <a:ext cx="2514600" cy="685800"/>
            <a:chOff x="1447920" y="4495680"/>
            <a:chExt cx="2514600" cy="685800"/>
          </a:xfrm>
        </p:grpSpPr>
        <p:sp>
          <p:nvSpPr>
            <p:cNvPr id="246" name=""/>
            <p:cNvSpPr/>
            <p:nvPr/>
          </p:nvSpPr>
          <p:spPr>
            <a:xfrm>
              <a:off x="1447920" y="4495680"/>
              <a:ext cx="2514600" cy="6858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4572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ream vide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2670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388620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71600" y="57913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181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14800" y="5791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1800" y="19940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962520" y="6324480"/>
            <a:ext cx="304560" cy="304920"/>
            <a:chOff x="3962520" y="6324480"/>
            <a:chExt cx="304560" cy="304920"/>
          </a:xfrm>
        </p:grpSpPr>
        <p:sp>
          <p:nvSpPr>
            <p:cNvPr id="259" name=""/>
            <p:cNvSpPr/>
            <p:nvPr/>
          </p:nvSpPr>
          <p:spPr>
            <a:xfrm>
              <a:off x="4001760" y="6364080"/>
              <a:ext cx="2282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62520" y="6324480"/>
              <a:ext cx="30456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0948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562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tar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71800" y="2133360"/>
            <a:ext cx="10666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6172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top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6400800"/>
            <a:ext cx="8380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246480"/>
            <a:ext cx="175248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58672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e diagram for class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28600" y="331776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borrow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3551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895480" y="39322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10040" y="3094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62720" y="1981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67360" y="2595600"/>
            <a:ext cx="121932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51520" y="3635280"/>
            <a:ext cx="121932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3262320"/>
            <a:ext cx="1752840" cy="99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3513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170840" y="4253040"/>
            <a:ext cx="0" cy="6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82000" y="3201840"/>
            <a:ext cx="1440" cy="5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95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d()[not last cop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25560" y="390204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d()[last copy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uard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plementation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2209680"/>
            <a:ext cx="7696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ing of elements that specifies what a part of a system should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ponent (UML 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 distributable piece of implementation of a system, including software code (source, binary, or executable) but also including business documents, etc., in a human system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thought of as an implementation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b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exterior500-10" descr=""/>
          <p:cNvPicPr/>
          <p:nvPr/>
        </p:nvPicPr>
        <p:blipFill>
          <a:blip r:embed="rId1"/>
          <a:stretch/>
        </p:blipFill>
        <p:spPr>
          <a:xfrm>
            <a:off x="3484440" y="4789440"/>
            <a:ext cx="1416240" cy="1839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895480" y="3000240"/>
            <a:ext cx="2971440" cy="1218960"/>
            <a:chOff x="2895480" y="3000240"/>
            <a:chExt cx="2971440" cy="1218960"/>
          </a:xfrm>
        </p:grpSpPr>
        <p:sp>
          <p:nvSpPr>
            <p:cNvPr id="290" name=""/>
            <p:cNvSpPr/>
            <p:nvPr/>
          </p:nvSpPr>
          <p:spPr>
            <a:xfrm>
              <a:off x="3174120" y="3000240"/>
              <a:ext cx="269280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00520" y="3338280"/>
              <a:ext cx="50472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95480" y="3700080"/>
              <a:ext cx="5047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86240" y="4789440"/>
            <a:ext cx="141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53000" y="4713120"/>
            <a:ext cx="3236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51200" y="4789440"/>
            <a:ext cx="2476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9760" y="479412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51200" y="4989600"/>
            <a:ext cx="24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5800" y="32767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75520" y="3429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57880" y="35812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167600" y="3733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176960" y="3886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85800" y="3276720"/>
            <a:ext cx="1406520" cy="1828800"/>
            <a:chOff x="685800" y="3276720"/>
            <a:chExt cx="1406520" cy="1828800"/>
          </a:xfrm>
        </p:grpSpPr>
        <p:sp>
          <p:nvSpPr>
            <p:cNvPr id="306" name=""/>
            <p:cNvSpPr/>
            <p:nvPr/>
          </p:nvSpPr>
          <p:spPr>
            <a:xfrm>
              <a:off x="685800" y="3352680"/>
              <a:ext cx="1330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87400" y="32767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81280" y="3352680"/>
              <a:ext cx="233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78040" y="33526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81280" y="351468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41400" y="481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42840" y="45115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952560" y="4664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exterior500-10" descr=""/>
          <p:cNvPicPr/>
          <p:nvPr/>
        </p:nvPicPr>
        <p:blipFill>
          <a:blip r:embed="rId2"/>
          <a:stretch/>
        </p:blipFill>
        <p:spPr>
          <a:xfrm>
            <a:off x="1066680" y="3581280"/>
            <a:ext cx="581040" cy="762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3352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h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910560" y="2666880"/>
            <a:ext cx="1406520" cy="1828800"/>
            <a:chOff x="6910560" y="2666880"/>
            <a:chExt cx="1406520" cy="1828800"/>
          </a:xfrm>
        </p:grpSpPr>
        <p:sp>
          <p:nvSpPr>
            <p:cNvPr id="319" name=""/>
            <p:cNvSpPr/>
            <p:nvPr/>
          </p:nvSpPr>
          <p:spPr>
            <a:xfrm>
              <a:off x="6910560" y="2742840"/>
              <a:ext cx="1330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12160" y="26668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006040" y="2742840"/>
              <a:ext cx="233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2800" y="27428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06040" y="290484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057400" y="46483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43520" y="3581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ecutable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s and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743200" y="2514600"/>
            <a:ext cx="2971440" cy="1218960"/>
            <a:chOff x="2743200" y="2514600"/>
            <a:chExt cx="2971440" cy="1218960"/>
          </a:xfrm>
        </p:grpSpPr>
        <p:sp>
          <p:nvSpPr>
            <p:cNvPr id="329" name=""/>
            <p:cNvSpPr/>
            <p:nvPr/>
          </p:nvSpPr>
          <p:spPr>
            <a:xfrm>
              <a:off x="3021840" y="2514600"/>
              <a:ext cx="269280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48240" y="2852640"/>
              <a:ext cx="50472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43200" y="3214440"/>
              <a:ext cx="5047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50532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.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76520" y="472428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60680" y="475452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6200" y="5638680"/>
            <a:ext cx="152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4800600"/>
            <a:ext cx="19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666880" y="373392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3733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257800" y="373392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s and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600200" y="2514600"/>
            <a:ext cx="4114080" cy="2133360"/>
            <a:chOff x="1600200" y="2514600"/>
            <a:chExt cx="4114080" cy="2133360"/>
          </a:xfrm>
        </p:grpSpPr>
        <p:sp>
          <p:nvSpPr>
            <p:cNvPr id="342" name=""/>
            <p:cNvSpPr/>
            <p:nvPr/>
          </p:nvSpPr>
          <p:spPr>
            <a:xfrm>
              <a:off x="1985760" y="2514600"/>
              <a:ext cx="3728520" cy="2133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07040" y="3106080"/>
              <a:ext cx="699120" cy="266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00200" y="3739320"/>
              <a:ext cx="699120" cy="267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81952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.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13000" y="3187800"/>
            <a:ext cx="337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62320" y="31240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76920" y="5181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tended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4952880" y="4800600"/>
            <a:ext cx="6098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s and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5800" y="259092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logical abstractions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 physical thing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live 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attributes and operations directly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on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operations that are reachable only throug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9246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idterm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day, October 16, 7:30 to 8:30 pm, Phillips 2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5 questions on the material covered in l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04920" y="2971800"/>
            <a:ext cx="2590200" cy="1218960"/>
            <a:chOff x="304920" y="2971800"/>
            <a:chExt cx="2590200" cy="1218960"/>
          </a:xfrm>
        </p:grpSpPr>
        <p:sp>
          <p:nvSpPr>
            <p:cNvPr id="354" name=""/>
            <p:cNvSpPr/>
            <p:nvPr/>
          </p:nvSpPr>
          <p:spPr>
            <a:xfrm>
              <a:off x="547560" y="2971800"/>
              <a:ext cx="234756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9240" y="3309840"/>
              <a:ext cx="43992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04920" y="3671640"/>
              <a:ext cx="4399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8380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6477120" y="2971800"/>
            <a:ext cx="2437920" cy="1218960"/>
            <a:chOff x="6477120" y="2971800"/>
            <a:chExt cx="2437920" cy="1218960"/>
          </a:xfrm>
        </p:grpSpPr>
        <p:sp>
          <p:nvSpPr>
            <p:cNvPr id="359" name=""/>
            <p:cNvSpPr/>
            <p:nvPr/>
          </p:nvSpPr>
          <p:spPr>
            <a:xfrm>
              <a:off x="6705720" y="2971800"/>
              <a:ext cx="220932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81080" y="3309840"/>
              <a:ext cx="41400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477120" y="3671640"/>
              <a:ext cx="41400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705720" y="3048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32767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3581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48320" y="3581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895480" y="3657240"/>
            <a:ext cx="4572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5334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343400" y="434340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56272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5638680" y="3657240"/>
            <a:ext cx="5335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pplication Programming Interface (AP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2209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 is an interface that is realized by one or more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743200" y="2971800"/>
            <a:ext cx="2971440" cy="1218960"/>
            <a:chOff x="2743200" y="2971800"/>
            <a:chExt cx="2971440" cy="1218960"/>
          </a:xfrm>
        </p:grpSpPr>
        <p:sp>
          <p:nvSpPr>
            <p:cNvPr id="376" name=""/>
            <p:cNvSpPr/>
            <p:nvPr/>
          </p:nvSpPr>
          <p:spPr>
            <a:xfrm>
              <a:off x="3021840" y="2971800"/>
              <a:ext cx="2692800" cy="121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48240" y="3309840"/>
              <a:ext cx="504720" cy="152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43200" y="3671640"/>
              <a:ext cx="504720" cy="152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505320" y="3048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.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124080" y="4876920"/>
            <a:ext cx="60984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0524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5562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00600" y="4876920"/>
            <a:ext cx="6094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8176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86200" y="5562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0" y="3276720"/>
            <a:ext cx="60948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42000" y="3544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809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s and Replace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2362320"/>
            <a:ext cx="76201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llow system to be assembled fro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inary replaceable ele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 bits not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plac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ny other component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onforms to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t of a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mponent provide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 se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ments on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86000"/>
            <a:ext cx="7924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of graphics has bee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ext too small (diagrams, screen dum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of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v.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lient defines th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ell done, but time is short.  What is your critical pa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ing Dynamic Aspects of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2362320"/>
            <a:ext cx="76197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raction diagra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of objects and their relationships including messages that may be dispatched among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quence diagra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ordering of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llaboration diagram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al organiz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that send and receive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tivity diagra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low chart showing flow of control from activity to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echart diagra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uncing Ball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1981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http://www.cs.cornell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6668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6400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                                  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09880"/>
            <a:ext cx="7086600" cy="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5029200"/>
            <a:ext cx="7010280" cy="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819520"/>
            <a:ext cx="15238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ai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 conn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 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24382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2743200"/>
            <a:ext cx="4419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3048120"/>
            <a:ext cx="44193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276720"/>
            <a:ext cx="449568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8120" y="3581280"/>
            <a:ext cx="4495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3809880"/>
            <a:ext cx="4419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48120" y="4114800"/>
            <a:ext cx="44193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343400"/>
            <a:ext cx="449568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048120" y="4648320"/>
            <a:ext cx="4495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029200"/>
            <a:ext cx="4495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048120" y="5410080"/>
            <a:ext cx="4419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ions on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209680"/>
            <a:ext cx="23623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r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2438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py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4724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410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6172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396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73400" y="27432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2743200"/>
            <a:ext cx="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73040" y="327492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7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ToBorrow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03880" y="3556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4267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yReturn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42670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synchronous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46400" y="49989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create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5751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destroy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5562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tere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562720" y="5791320"/>
            <a:ext cx="91440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5715000" y="5257800"/>
            <a:ext cx="9144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713200" y="464004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751360" y="6004080"/>
            <a:ext cx="304920" cy="304560"/>
            <a:chOff x="5751360" y="6004080"/>
            <a:chExt cx="304920" cy="304560"/>
          </a:xfrm>
        </p:grpSpPr>
        <p:sp>
          <p:nvSpPr>
            <p:cNvPr id="93" name=""/>
            <p:cNvSpPr/>
            <p:nvPr/>
          </p:nvSpPr>
          <p:spPr>
            <a:xfrm>
              <a:off x="5751360" y="6045120"/>
              <a:ext cx="3049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5783040" y="6004080"/>
              <a:ext cx="22860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03840" y="2122560"/>
            <a:ext cx="1676160" cy="1015920"/>
            <a:chOff x="6603840" y="2122560"/>
            <a:chExt cx="1676160" cy="1015920"/>
          </a:xfrm>
        </p:grpSpPr>
        <p:sp>
          <p:nvSpPr>
            <p:cNvPr id="97" name=""/>
            <p:cNvSpPr/>
            <p:nvPr/>
          </p:nvSpPr>
          <p:spPr>
            <a:xfrm flipH="1">
              <a:off x="6603840" y="2122560"/>
              <a:ext cx="167616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p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603840" y="2579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603840" y="28083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 flipH="1">
            <a:off x="1193760" y="2198520"/>
            <a:ext cx="228600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orrowCop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returnCop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93760" y="2900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93760" y="325116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79760" y="273204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555360" y="2198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65760" y="22748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36960" y="227484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7680" y="5124600"/>
            <a:ext cx="327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bMem: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37240" y="5048280"/>
            <a:ext cx="1700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: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794040" y="5353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75280" y="520056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Copy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91120" y="4267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5334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4680" y="4059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1440" y="5519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62520" y="2692440"/>
            <a:ext cx="4680" cy="2878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ce Diagram: Change in Cornell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38080" y="1981080"/>
            <a:ext cx="380880" cy="662040"/>
            <a:chOff x="838080" y="1981080"/>
            <a:chExt cx="380880" cy="662040"/>
          </a:xfrm>
        </p:grpSpPr>
        <p:sp>
          <p:nvSpPr>
            <p:cNvPr id="120" name=""/>
            <p:cNvSpPr/>
            <p:nvPr/>
          </p:nvSpPr>
          <p:spPr>
            <a:xfrm>
              <a:off x="914040" y="19810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28520" y="22050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243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889920" y="240984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33200" y="241452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nell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3200400"/>
            <a:ext cx="15228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2209680"/>
            <a:ext cx="2361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MEng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6200" y="3581280"/>
            <a:ext cx="152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: getNam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1360" y="4867200"/>
            <a:ext cx="5410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005240" y="4952880"/>
            <a:ext cx="4680" cy="117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095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quence numbers added to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21440" y="4638600"/>
            <a:ext cx="2133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PhD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85800" y="42069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 :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01720" y="4410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: new PhDStudent(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85800" y="5557680"/>
            <a:ext cx="317664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5105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: &lt;&lt;destroy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97280" y="5373360"/>
            <a:ext cx="380520" cy="380520"/>
            <a:chOff x="3797280" y="5373360"/>
            <a:chExt cx="380520" cy="380520"/>
          </a:xfrm>
        </p:grpSpPr>
        <p:sp>
          <p:nvSpPr>
            <p:cNvPr id="141" name=""/>
            <p:cNvSpPr/>
            <p:nvPr/>
          </p:nvSpPr>
          <p:spPr>
            <a:xfrm>
              <a:off x="3797280" y="5424840"/>
              <a:ext cx="380520" cy="28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836520" y="5373360"/>
              <a:ext cx="285480" cy="38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000920" y="2693880"/>
            <a:ext cx="4680" cy="343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342900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2895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quence Diagram: Borrow copy of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838080" y="2286000"/>
            <a:ext cx="380880" cy="662040"/>
            <a:chOff x="838080" y="2286000"/>
            <a:chExt cx="380880" cy="662040"/>
          </a:xfrm>
        </p:grpSpPr>
        <p:sp>
          <p:nvSpPr>
            <p:cNvPr id="148" name=""/>
            <p:cNvSpPr/>
            <p:nvPr/>
          </p:nvSpPr>
          <p:spPr>
            <a:xfrm>
              <a:off x="914040" y="228600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28520" y="250992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2548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89920" y="271476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33200" y="271944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0" y="2971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505320"/>
            <a:ext cx="15228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2057400"/>
            <a:ext cx="2361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bMem: 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971800"/>
            <a:ext cx="2209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Copy: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22096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Book: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3886200"/>
            <a:ext cx="1522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4419720"/>
            <a:ext cx="152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10560" y="5087880"/>
            <a:ext cx="16164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191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6576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(theCo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12372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60560" y="4040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To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5334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99040" y="5508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5029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05T10:06:02Z</dcterms:modified>
  <cp:revision>499</cp:revision>
  <dc:subject/>
  <dc:title>Digital Library Architecture- Key Principles </dc:title>
</cp:coreProperties>
</file>