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29600" y="6324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A6DF-1BA8-47E7-92F1-D0476126C9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35053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5053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3505320"/>
            <a:ext cx="38124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0120" y="33526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69396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4400" y="274320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2743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105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gle server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82800" y="3691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92640" y="369108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02120" y="369108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11600" y="36910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281952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03800" y="26668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8200" y="3879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809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800" y="292896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r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34000" y="292896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2971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53200" y="368784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22880" y="353520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72280" y="4556160"/>
            <a:ext cx="380880" cy="3808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1960" y="4403880"/>
            <a:ext cx="663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55627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lti-server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hematica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209680"/>
            <a:ext cx="7010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eue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estimates of congestion can be made for single-server queues with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als that are independent, random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isson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imes that follow families of distribu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negative exponential, ga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f the results can be extended to multi-server que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tilization: Rule of Th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28800" y="2895480"/>
            <a:ext cx="5575320" cy="825480"/>
            <a:chOff x="1828800" y="2895480"/>
            <a:chExt cx="5575320" cy="825480"/>
          </a:xfrm>
        </p:grpSpPr>
        <p:sp>
          <p:nvSpPr>
            <p:cNvPr id="115" name=""/>
            <p:cNvSpPr/>
            <p:nvPr/>
          </p:nvSpPr>
          <p:spPr>
            <a:xfrm>
              <a:off x="1828800" y="3100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tilization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17920" y="289548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 service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an inter-arrival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6840" y="3328920"/>
              <a:ext cx="28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752480" y="41911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tilization of any system component exceeds 30%, be prepared for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ior of Queues: Ut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9718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6400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7520" y="2703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6095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43600" y="2895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9480" y="1676520"/>
            <a:ext cx="5639040" cy="4916520"/>
            <a:chOff x="609480" y="1676520"/>
            <a:chExt cx="5639040" cy="4916520"/>
          </a:xfrm>
        </p:grpSpPr>
        <p:sp>
          <p:nvSpPr>
            <p:cNvPr id="127" name=""/>
            <p:cNvSpPr/>
            <p:nvPr/>
          </p:nvSpPr>
          <p:spPr>
            <a:xfrm>
              <a:off x="876240" y="1676520"/>
              <a:ext cx="5372280" cy="4856040"/>
            </a:xfrm>
            <a:custGeom>
              <a:avLst/>
              <a:gdLst/>
              <a:ahLst/>
              <a:rect l="l" t="t" r="r" b="b"/>
              <a:pathLst>
                <a:path w="1928" h="2560">
                  <a:moveTo>
                    <a:pt x="0" y="2448"/>
                  </a:moveTo>
                  <a:cubicBezTo>
                    <a:pt x="472" y="2504"/>
                    <a:pt x="944" y="2560"/>
                    <a:pt x="1248" y="2208"/>
                  </a:cubicBezTo>
                  <a:cubicBezTo>
                    <a:pt x="1552" y="1856"/>
                    <a:pt x="1720" y="672"/>
                    <a:pt x="1824" y="336"/>
                  </a:cubicBezTo>
                  <a:cubicBezTo>
                    <a:pt x="1928" y="0"/>
                    <a:pt x="1832" y="552"/>
                    <a:pt x="1872" y="1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6046920"/>
              <a:ext cx="160524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24480" y="1981080"/>
              <a:ext cx="801720" cy="87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981080" y="6400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981080"/>
            <a:ext cx="7391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el the system as set of states an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 simulated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ich events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state and ev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rete time sim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me is advanced in fixed steps (e.g., 1 millise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xt event simul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ime is advanced to next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 can be simulated by random variables (e.g., arrival of next customer, completion of disk la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438280"/>
            <a:ext cx="8001000" cy="29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per sec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instru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latenc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5,00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,000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-up mod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6,0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38480" y="228600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286000"/>
            <a:ext cx="7315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29718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surements on Operationa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59092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chmarks:  Run system on standard problem sets, sample inputs, or a simulated load on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:  Clock specific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rial and Parallel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590920"/>
            <a:ext cx="4876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thread v. multi-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Uni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ularity of lock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record 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ong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back-of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erformance of Disk Ar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209680"/>
            <a:ext cx="754380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specific disk pl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I/O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to move heads on disk pla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for I/O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se for disk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agreement between: results from queueing theory, simulation, and direct measurement (within 15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001000" y="5954760"/>
            <a:ext cx="8380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oftware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2971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932240" y="5342040"/>
            <a:ext cx="9720" cy="55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14040" y="640080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914400" y="2808000"/>
            <a:ext cx="1440" cy="3592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38280" y="38095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114800" y="47239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8672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06388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al ver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nsity of transistors in an integrated circuit will double every year. (Gordon Moore, Intel, 196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urrent ver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silicon chips doubles every 18 mon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 and System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362320"/>
            <a:ext cx="82296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syst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duction u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drawn from produc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speeds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siz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.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capacit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os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0.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7339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10552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:  Rules of Thu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2063880"/>
            <a:ext cx="8229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ning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ye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silicon chips improves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/performance of magnetic media improves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 years  =       10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0 years  =  10,000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rkinson'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2362320"/>
            <a:ext cx="8001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igin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ork expands to fill the time available.  (C. Northcote Parkins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ning assum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Demand will expand to use all the hardware avail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 Low prices will create new de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)  Your software will be used on equipment that you have not envis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lse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514600"/>
            <a:ext cx="8381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file system will never exceed 2 Gbyte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alk networks will never have more than 256 hosts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 software will not last 1024 wee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body at Dartmouth will ever earn more than $10,000 per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, etc.,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-1827360" y="-914760"/>
            <a:ext cx="6551280" cy="700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77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77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ore's Law and the Long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6095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0800000">
            <a:off x="4011120" y="2259720"/>
            <a:ext cx="655128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177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1777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133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06640" y="6183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6640" y="19558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e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1337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617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3200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Within your working lif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028840" y="4038480"/>
            <a:ext cx="1523880" cy="16765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dicting System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9810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2743200"/>
            <a:ext cx="6095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l require detailed understanding of the interaction between software and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31T14:37:56Z</dcterms:modified>
  <cp:revision>302</cp:revision>
  <dc:subject/>
  <dc:title>Digital Library Architecture- Key Principles </dc:title>
</cp:coreProperties>
</file>