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0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77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62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0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77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Web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35040" y="1752480"/>
            <a:ext cx="7458120" cy="228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6880" y="6858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20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CS 501: Software Engineering</a:t>
            </a:r>
            <a:br>
              <a:rPr sz="3600"/>
            </a:b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Fall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828800" y="3581280"/>
            <a:ext cx="5410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cture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 I: Project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4581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ritical Path Meth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9880" y="3200400"/>
            <a:ext cx="111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733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3733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5880" y="3733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3124080"/>
            <a:ext cx="98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14600" y="3962520"/>
            <a:ext cx="771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3733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3124080"/>
            <a:ext cx="128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53080" y="39625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77120" y="320040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39625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31240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534520" y="37339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37339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2670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0120" y="3733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05920" y="41911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07732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ritical Path Meth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76720" y="3352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2590920"/>
            <a:ext cx="111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91120" y="31240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19520" y="31240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724280" y="411444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43760" y="372096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2743200"/>
            <a:ext cx="121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3352680"/>
            <a:ext cx="771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31240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2514600"/>
            <a:ext cx="128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00960" y="39495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424640" y="31878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s 3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762120" y="335232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251460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52680" y="4800600"/>
            <a:ext cx="111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6708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88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43600" y="30481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s 3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724280"/>
            <a:ext cx="771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4495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81080" y="4724280"/>
            <a:ext cx="128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42670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457200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342900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38680" y="3733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43434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276360" y="3505320"/>
            <a:ext cx="99036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39625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581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686800" y="3733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ritical Path Meth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5268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800600" y="441936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20080" y="4025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57400" y="3657600"/>
            <a:ext cx="771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77280" y="4254480"/>
            <a:ext cx="98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838080" y="365724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29000" y="5029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43400" y="4800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4800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33720" y="5029200"/>
            <a:ext cx="79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4800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457200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73392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4038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352680" y="38098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581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724280" y="2666880"/>
            <a:ext cx="381024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2666880"/>
            <a:ext cx="76212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2438280"/>
            <a:ext cx="45720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3962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62120" y="2742840"/>
            <a:ext cx="1143000" cy="152388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2680" y="2895480"/>
            <a:ext cx="111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228600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V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81480" y="236232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V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534520" y="2438280"/>
            <a:ext cx="3808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267080"/>
            <a:ext cx="111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934320" y="4419720"/>
            <a:ext cx="1600200" cy="137160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553080" y="5791320"/>
            <a:ext cx="457200" cy="457200"/>
          </a:xfrm>
          <a:prstGeom prst="ellipse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6019920"/>
            <a:ext cx="457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5791320"/>
            <a:ext cx="457200" cy="457200"/>
          </a:xfrm>
          <a:prstGeom prst="ellipse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6019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Prototype Comput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86600" y="502920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Comput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4648320"/>
            <a:ext cx="914400" cy="1143000"/>
          </a:xfrm>
          <a:prstGeom prst="line">
            <a:avLst/>
          </a:prstGeom>
          <a:ln w="9360">
            <a:solidFill>
              <a:srgbClr val="0000cc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5181480"/>
            <a:ext cx="3200400" cy="762120"/>
          </a:xfrm>
          <a:prstGeom prst="line">
            <a:avLst/>
          </a:prstGeom>
          <a:ln w="9360">
            <a:solidFill>
              <a:srgbClr val="0000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858000" y="4343400"/>
            <a:ext cx="304920" cy="1447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5780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Comput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4520" y="4114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8686800" y="28195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467480" y="3048120"/>
            <a:ext cx="1295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i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ime Estimates for Activities (Week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5268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6708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9548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800600" y="441936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120080" y="4025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7400" y="3657600"/>
            <a:ext cx="771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577280" y="4254480"/>
            <a:ext cx="98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38080" y="365724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29000" y="5029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4800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4800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7220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5029200"/>
            <a:ext cx="79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76520" y="4800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457200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73392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4038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352680" y="38098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724280" y="2590560"/>
            <a:ext cx="36576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274320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2438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3962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62120" y="2819160"/>
            <a:ext cx="1143000" cy="14475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1880" y="2362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934320" y="4419720"/>
            <a:ext cx="1600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53080" y="57913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81080" y="60199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57913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4648320"/>
            <a:ext cx="914400" cy="11430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52680" y="5181480"/>
            <a:ext cx="320040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858000" y="4343400"/>
            <a:ext cx="3049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534520" y="4038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8610480" y="2743200"/>
            <a:ext cx="763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2743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38280" y="2362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09680" y="3200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05920" y="3048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0552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012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2940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77120" y="3809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772400" y="3809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81280" y="5638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16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rliest Start D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52680" y="36576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6708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9548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800600" y="4419360"/>
            <a:ext cx="91440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120080" y="4025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57400" y="3657600"/>
            <a:ext cx="771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0020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577280" y="4254480"/>
            <a:ext cx="98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838080" y="3657240"/>
            <a:ext cx="762120" cy="6858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29000" y="5029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43400" y="4800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71800" y="4800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426708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33720" y="5029200"/>
            <a:ext cx="795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76520" y="4800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8080" y="4572000"/>
            <a:ext cx="838440" cy="4572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724280" y="3733920"/>
            <a:ext cx="9907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15000" y="4038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352680" y="3809880"/>
            <a:ext cx="990720" cy="10670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590920"/>
            <a:ext cx="365760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0" y="2666880"/>
            <a:ext cx="76212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28800" y="2438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3962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762120" y="2742840"/>
            <a:ext cx="1143000" cy="152388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81880" y="2362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6934320" y="4419720"/>
            <a:ext cx="1600200" cy="1371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553080" y="57913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81080" y="6019920"/>
            <a:ext cx="457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23880" y="57913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4648320"/>
            <a:ext cx="914400" cy="11430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5181480"/>
            <a:ext cx="3200400" cy="7621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6858000" y="4343400"/>
            <a:ext cx="304920" cy="144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534520" y="4038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8610480" y="2743200"/>
            <a:ext cx="76320" cy="1295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943600" y="2743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3828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0532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3392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09680" y="3200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305920" y="3048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0552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5288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2012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62940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477120" y="3809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772400" y="3809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81280" y="5638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666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66680" y="4419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0666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1620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0512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69960" y="3449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77960" y="4816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71760" y="5794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878200" y="3452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267080" y="342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33640" y="4800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53080" y="5791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43400" y="4800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15000" y="4038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05920" y="2362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086600" y="4038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534520" y="4038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atest Start D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352680" y="36576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6708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4800600" y="4419360"/>
            <a:ext cx="91440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20080" y="4025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3657600"/>
            <a:ext cx="771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60020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577280" y="4254480"/>
            <a:ext cx="98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838080" y="3657240"/>
            <a:ext cx="762120" cy="6858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5029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43400" y="4800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971800" y="4800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72200" y="426708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33720" y="5029200"/>
            <a:ext cx="795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76520" y="4800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38080" y="4572000"/>
            <a:ext cx="838440" cy="4572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724280" y="3733920"/>
            <a:ext cx="9907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15000" y="4038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3352680" y="3809880"/>
            <a:ext cx="990720" cy="10670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724280" y="2590920"/>
            <a:ext cx="365760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666880"/>
            <a:ext cx="76212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28800" y="2438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3962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762120" y="2742840"/>
            <a:ext cx="1143000" cy="152388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381880" y="2362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6934320" y="4419720"/>
            <a:ext cx="1600200" cy="1371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553080" y="57913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81080" y="6019920"/>
            <a:ext cx="457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23880" y="57913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" y="4648320"/>
            <a:ext cx="914400" cy="11430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352680" y="5181480"/>
            <a:ext cx="3200400" cy="7621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858000" y="4343400"/>
            <a:ext cx="304920" cy="144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534520" y="4038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8610480" y="2743200"/>
            <a:ext cx="76320" cy="1295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79132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14600" y="2590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0532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65760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209680" y="3200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0" y="4648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05920" y="3048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02920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87692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62012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53080" y="4800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3244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20120" y="3809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505320" y="55627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066680" y="3886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990720" y="4419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144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2438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569960" y="3449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677960" y="4816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23880" y="5791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878200" y="3452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67080" y="342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933640" y="4800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553080" y="5791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43400" y="4800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715000" y="4038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305920" y="2362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086600" y="4038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534520" y="4038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90720" y="52578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ritical Pa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352680" y="3657600"/>
            <a:ext cx="9144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26708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4800600" y="441936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120080" y="4025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57400" y="3657600"/>
            <a:ext cx="77148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0020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577280" y="4254480"/>
            <a:ext cx="98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838080" y="3657240"/>
            <a:ext cx="762120" cy="685800"/>
          </a:xfrm>
          <a:prstGeom prst="line">
            <a:avLst/>
          </a:prstGeom>
          <a:ln w="38160">
            <a:solidFill>
              <a:srgbClr val="ff99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9000" y="5029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43400" y="4800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971800" y="4800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17220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133720" y="5029200"/>
            <a:ext cx="79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676520" y="4800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8080" y="457200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724280" y="373392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715000" y="4038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3352680" y="3809880"/>
            <a:ext cx="990720" cy="106704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4724280" y="2590920"/>
            <a:ext cx="3657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86000" y="26668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828800" y="2438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85800" y="3962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762120" y="2742840"/>
            <a:ext cx="1143000" cy="15238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81880" y="2362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6934320" y="4419720"/>
            <a:ext cx="1600200" cy="13716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553080" y="57913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080" y="60199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523880" y="57913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85800" y="4648320"/>
            <a:ext cx="914400" cy="11430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52680" y="5181480"/>
            <a:ext cx="3200400" cy="76212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6858000" y="4343400"/>
            <a:ext cx="3049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534520" y="4038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8610480" y="2743200"/>
            <a:ext cx="76320" cy="12952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28600" y="3886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752480" y="2057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47920" y="30481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447920" y="4419720"/>
            <a:ext cx="9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00200" y="5410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30481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91120" y="30481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666880" y="4419720"/>
            <a:ext cx="9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867280" y="5410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1148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62720" y="3657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620120" y="21337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0572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848720" y="3733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la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352680" y="3657600"/>
            <a:ext cx="91440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26708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89548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4800600" y="441936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120080" y="4025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057400" y="3657600"/>
            <a:ext cx="77148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577280" y="4254480"/>
            <a:ext cx="98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838080" y="3657240"/>
            <a:ext cx="762120" cy="685800"/>
          </a:xfrm>
          <a:prstGeom prst="line">
            <a:avLst/>
          </a:prstGeom>
          <a:ln w="28440">
            <a:solidFill>
              <a:srgbClr val="ff99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429000" y="5029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343400" y="4800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971800" y="4800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17220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133720" y="5029200"/>
            <a:ext cx="795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676520" y="4800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38080" y="457200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724280" y="373392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4038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352680" y="3809880"/>
            <a:ext cx="990720" cy="1067040"/>
          </a:xfrm>
          <a:prstGeom prst="line">
            <a:avLst/>
          </a:prstGeom>
          <a:ln w="2844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7200" y="42670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4724280" y="2590920"/>
            <a:ext cx="3657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286000" y="26668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828800" y="24382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85800" y="39625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762120" y="2742840"/>
            <a:ext cx="1143000" cy="15238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381880" y="23623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6934320" y="4419720"/>
            <a:ext cx="1600200" cy="13716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553080" y="57913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981080" y="60199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523880" y="57913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85800" y="4648320"/>
            <a:ext cx="914400" cy="11430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352680" y="5181480"/>
            <a:ext cx="3200400" cy="762120"/>
          </a:xfrm>
          <a:prstGeom prst="line">
            <a:avLst/>
          </a:prstGeom>
          <a:ln w="2844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6858000" y="4343400"/>
            <a:ext cx="3049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534520" y="4038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 flipV="1">
            <a:off x="8610480" y="2743200"/>
            <a:ext cx="76320" cy="12952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228600" y="2057400"/>
            <a:ext cx="2286000" cy="2288520"/>
            <a:chOff x="228600" y="2057400"/>
            <a:chExt cx="2286000" cy="2288520"/>
          </a:xfrm>
        </p:grpSpPr>
        <p:sp>
          <p:nvSpPr>
            <p:cNvPr id="439" name=""/>
            <p:cNvSpPr/>
            <p:nvPr/>
          </p:nvSpPr>
          <p:spPr>
            <a:xfrm>
              <a:off x="228600" y="38862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752480" y="2057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5867280" y="3657600"/>
            <a:ext cx="1752840" cy="2212200"/>
            <a:chOff x="5867280" y="3657600"/>
            <a:chExt cx="1752840" cy="2212200"/>
          </a:xfrm>
        </p:grpSpPr>
        <p:sp>
          <p:nvSpPr>
            <p:cNvPr id="442" name=""/>
            <p:cNvSpPr/>
            <p:nvPr/>
          </p:nvSpPr>
          <p:spPr>
            <a:xfrm>
              <a:off x="5867280" y="5410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17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70572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2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990720" y="2971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705720" y="4724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838080" y="2133720"/>
            <a:ext cx="8001000" cy="3964680"/>
            <a:chOff x="838080" y="2133720"/>
            <a:chExt cx="8001000" cy="3964680"/>
          </a:xfrm>
        </p:grpSpPr>
        <p:sp>
          <p:nvSpPr>
            <p:cNvPr id="447" name=""/>
            <p:cNvSpPr/>
            <p:nvPr/>
          </p:nvSpPr>
          <p:spPr>
            <a:xfrm>
              <a:off x="3886200" y="4038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447920" y="3048120"/>
              <a:ext cx="94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1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447920" y="4419720"/>
              <a:ext cx="91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1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00200" y="54100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971800" y="304812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1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191120" y="30481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17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66880" y="441972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17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14800" y="44197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19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62720" y="36576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2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20120" y="213372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2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</a:rPr>
                <a:t>2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848720" y="37339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66"/>
                  </a:solidFill>
                  <a:latin typeface="Times New Roman"/>
                </a:rPr>
                <a:t>2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400" spc="-1" strike="noStrike">
                  <a:solidFill>
                    <a:srgbClr val="0000cc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514600" y="26668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181480" y="5257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620120" y="5029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84400" y="3822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133720" y="3581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505320" y="3581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381880" y="3048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362320" y="46483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219320" y="449568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3808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276720" y="5638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105520" y="3581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257800" y="4495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095880" y="26668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400800" y="4191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772400" y="4154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ey Personn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914400" y="2286000"/>
            <a:ext cx="77724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omputing, not all people are equ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est are at least 5 times more produ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asks are too difficult for every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ding more people adds communications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ctivities need a single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, the elapsed time for an activity can not be shorte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happens to the project if a key person is sick or qui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ey Personnel: Schedule for Edi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8080" y="1905120"/>
            <a:ext cx="762012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rliest Start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ty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eks 15-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t Uni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eks 17-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t Unit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eks 19-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t Unit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eks 21-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t Unit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ek 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 draft of Unit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ek 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 draft of Unit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ek 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proofs of Uni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ek 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proofs of Unit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eks 18-1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ek 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 s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2362320"/>
            <a:ext cx="79250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ment 1 has been posted to the web site.  Note that submission is by email to the senior Teaching Assistan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ember to copy email about the course to the Teaching Assist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ings about Requirements Analysis and Definition have been posted to the web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rt-up Ti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38080" y="2209680"/>
            <a:ext cx="76201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a big project, the start-up time is typically three to six month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nel have to complete previous projects (fatigue) or recrui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ware and software has to be acquired and instal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ff have to learn new domain areas and software (slow while learn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s may not be rea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perience with Critical Path Meth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0880" y="2133720"/>
            <a:ext cx="822960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nistrative computing department at Dartmouth used the Critical Path Method for implementation phase of major pro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rien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lapsed time to complete projects was consistently 25% to 40% longer than predicted by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alysi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asks not anticipated (incomplete understan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asks had to be redone (change of requirements, technical chang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personnel on many activities (schedule confli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ZZZ (non-billable ho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295280" y="28195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fore next class, read the readings on Requirements that have been posted on the web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S 3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2666880"/>
            <a:ext cx="75438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perating system for the IBM 360 w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 years l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uestion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es a project get two years behind schedu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One day at a tim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ed Brooks Jr.,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ythical Ma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im of Project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2362320"/>
            <a:ext cx="472428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mplete a pro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required functi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he satisfaction of the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exhausting the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oject Mana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2133720"/>
            <a:ext cx="8001000" cy="40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and maintain the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track progress against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some slack in the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continually making adjust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activities before previous activity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contract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egotiate deliver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senior management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ject Planning Meth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05120"/>
            <a:ext cx="80010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ritical Path Method, Gantt charts, Activity bar charts, etc. are roughly equival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methods are best w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is updated regularly (e.g., month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ructure of the project is well underst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me estimates are rel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ies do not share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Critical Path Method is excellent for large construction projects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An Open University Cour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286000"/>
            <a:ext cx="777240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liver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ten texts (bound in pai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visio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 experimental kit (scientific calcula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ments and sampl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lexi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438280"/>
            <a:ext cx="80773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chedu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ates for broadcasting TV and radio programs are fixed.  Printing and mailings can be accelerated if overtim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nctionalit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he course team can decide what goes into the components of the cour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sourc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he size of the course team can be increased sligh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cheduling: Critical Path Meth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52480" y="5715000"/>
            <a:ext cx="609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52480" y="457200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26668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24280" y="2438280"/>
            <a:ext cx="2819520" cy="38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ummy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iles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19320" y="37339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8:43:44Z</dcterms:created>
  <dc:creator>payette</dc:creator>
  <dc:description/>
  <dc:language>en-US</dc:language>
  <cp:lastModifiedBy> </cp:lastModifiedBy>
  <cp:lastPrinted>1999-09-14T17:00:20Z</cp:lastPrinted>
  <dcterms:modified xsi:type="dcterms:W3CDTF">2000-09-04T23:29:23Z</dcterms:modified>
  <cp:revision>227</cp:revision>
  <dc:subject/>
  <dc:title>Digital Library Architecture- Key Principles </dc:title>
</cp:coreProperties>
</file>