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image" Target="../media/image6.wmf"/><Relationship Id="rId5" Type="http://schemas.openxmlformats.org/officeDocument/2006/relationships/image" Target="../media/image3.wmf"/><Relationship Id="rId6" Type="http://schemas.openxmlformats.org/officeDocument/2006/relationships/image" Target="../media/image6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8800" y="320040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rchitectur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and Real Tim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eless Protocol v. Statefu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52480" y="2286000"/>
            <a:ext cx="5791320" cy="37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teless protoc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htt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in http must be sent with every message (e.g., as parameter string or in a cook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eless Protocol v. Statefu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2286000"/>
            <a:ext cx="693432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teful (session)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  Z39.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ve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remembers the results of previous transactions (e.g., authentication, partial results) until session is clo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330800" y="2209680"/>
            <a:ext cx="241200" cy="559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286000" y="2438280"/>
            <a:ext cx="20574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91080" y="2460600"/>
            <a:ext cx="205740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90720" y="2133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781680" y="20574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2120" y="3429000"/>
            <a:ext cx="80010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mputer at the junction of two network segments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ts every packet that attempts to cross the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s any packet that does not satisfy certain criteria, 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coming request to open a TCP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known packe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omain Nam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029200" y="2286000"/>
            <a:ext cx="927000" cy="558720"/>
            <a:chOff x="5029200" y="2286000"/>
            <a:chExt cx="927000" cy="558720"/>
          </a:xfrm>
        </p:grpSpPr>
        <p:sp>
          <p:nvSpPr>
            <p:cNvPr id="328" name=""/>
            <p:cNvSpPr/>
            <p:nvPr/>
          </p:nvSpPr>
          <p:spPr>
            <a:xfrm flipH="1">
              <a:off x="5168880" y="26539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5029200" y="2286000"/>
              <a:ext cx="24120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2"/>
            <a:stretch/>
          </p:blipFill>
          <p:spPr>
            <a:xfrm>
              <a:off x="5321160" y="2444400"/>
              <a:ext cx="635040" cy="36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"/>
          <p:cNvGrpSpPr/>
          <p:nvPr/>
        </p:nvGrpSpPr>
        <p:grpSpPr>
          <a:xfrm>
            <a:off x="5105520" y="3733920"/>
            <a:ext cx="927000" cy="558720"/>
            <a:chOff x="5105520" y="3733920"/>
            <a:chExt cx="927000" cy="558720"/>
          </a:xfrm>
        </p:grpSpPr>
        <p:sp>
          <p:nvSpPr>
            <p:cNvPr id="332" name=""/>
            <p:cNvSpPr/>
            <p:nvPr/>
          </p:nvSpPr>
          <p:spPr>
            <a:xfrm flipH="1">
              <a:off x="5245200" y="41018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3" name="" descr=""/>
            <p:cNvPicPr/>
            <p:nvPr/>
          </p:nvPicPr>
          <p:blipFill>
            <a:blip r:embed="rId3"/>
            <a:stretch/>
          </p:blipFill>
          <p:spPr>
            <a:xfrm>
              <a:off x="5105520" y="3733920"/>
              <a:ext cx="24120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4"/>
            <a:stretch/>
          </p:blipFill>
          <p:spPr>
            <a:xfrm>
              <a:off x="5397480" y="3892320"/>
              <a:ext cx="635040" cy="36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5" name=""/>
          <p:cNvGrpSpPr/>
          <p:nvPr/>
        </p:nvGrpSpPr>
        <p:grpSpPr>
          <a:xfrm>
            <a:off x="5181480" y="5029200"/>
            <a:ext cx="927000" cy="558720"/>
            <a:chOff x="5181480" y="5029200"/>
            <a:chExt cx="927000" cy="558720"/>
          </a:xfrm>
        </p:grpSpPr>
        <p:sp>
          <p:nvSpPr>
            <p:cNvPr id="336" name=""/>
            <p:cNvSpPr/>
            <p:nvPr/>
          </p:nvSpPr>
          <p:spPr>
            <a:xfrm flipH="1">
              <a:off x="5321160" y="53971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7" name="" descr=""/>
            <p:cNvPicPr/>
            <p:nvPr/>
          </p:nvPicPr>
          <p:blipFill>
            <a:blip r:embed="rId5"/>
            <a:stretch/>
          </p:blipFill>
          <p:spPr>
            <a:xfrm>
              <a:off x="5181480" y="5029200"/>
              <a:ext cx="24120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6"/>
            <a:stretch/>
          </p:blipFill>
          <p:spPr>
            <a:xfrm>
              <a:off x="5473440" y="5187600"/>
              <a:ext cx="63504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"/>
          <p:cNvSpPr/>
          <p:nvPr/>
        </p:nvSpPr>
        <p:spPr>
          <a:xfrm>
            <a:off x="6477120" y="2209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edu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36576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nell.edu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24480" y="4952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.cornell.edu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21337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rst attempt to resolve www.cs.cornell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86160" y="3657600"/>
            <a:ext cx="1434960" cy="856800"/>
            <a:chOff x="686160" y="3657600"/>
            <a:chExt cx="1434960" cy="856800"/>
          </a:xfrm>
        </p:grpSpPr>
        <p:grpSp>
          <p:nvGrpSpPr>
            <p:cNvPr id="344" name=""/>
            <p:cNvGrpSpPr/>
            <p:nvPr/>
          </p:nvGrpSpPr>
          <p:grpSpPr>
            <a:xfrm>
              <a:off x="1404000" y="3657600"/>
              <a:ext cx="494640" cy="355680"/>
              <a:chOff x="1404000" y="3657600"/>
              <a:chExt cx="494640" cy="355680"/>
            </a:xfrm>
          </p:grpSpPr>
          <p:sp>
            <p:nvSpPr>
              <p:cNvPr id="345" name=""/>
              <p:cNvSpPr/>
              <p:nvPr/>
            </p:nvSpPr>
            <p:spPr>
              <a:xfrm flipH="1">
                <a:off x="1531080" y="3848040"/>
                <a:ext cx="241200" cy="13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1404000" y="3924360"/>
                <a:ext cx="494640" cy="88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1492920" y="3657600"/>
                <a:ext cx="317160" cy="241200"/>
                <a:chOff x="1492920" y="3657600"/>
                <a:chExt cx="317160" cy="241200"/>
              </a:xfrm>
            </p:grpSpPr>
            <p:sp>
              <p:nvSpPr>
                <p:cNvPr id="348" name=""/>
                <p:cNvSpPr/>
                <p:nvPr/>
              </p:nvSpPr>
              <p:spPr>
                <a:xfrm flipH="1">
                  <a:off x="1492560" y="3657600"/>
                  <a:ext cx="317160" cy="2412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1518840" y="3683160"/>
                  <a:ext cx="266400" cy="203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1455120" y="3962520"/>
                <a:ext cx="40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455120" y="3987720"/>
                <a:ext cx="40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1207080" y="4083120"/>
              <a:ext cx="9140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371960" y="4095720"/>
              <a:ext cx="50400" cy="3812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1905480" y="4082760"/>
              <a:ext cx="5040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806760" y="370224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2280" y="3835440"/>
              <a:ext cx="0" cy="596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6160" y="4210200"/>
              <a:ext cx="304560" cy="126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97560" y="4229280"/>
              <a:ext cx="50400" cy="2286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60680" y="3797280"/>
              <a:ext cx="102600" cy="344520"/>
            </a:xfrm>
            <a:custGeom>
              <a:avLst/>
              <a:gdLst/>
              <a:ahLst/>
              <a:rect l="l" t="t" r="r" b="b"/>
              <a:pathLst>
                <a:path w="65" h="217">
                  <a:moveTo>
                    <a:pt x="0" y="0"/>
                  </a:moveTo>
                  <a:lnTo>
                    <a:pt x="64" y="104"/>
                  </a:lnTo>
                  <a:lnTo>
                    <a:pt x="64" y="2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50240" y="4152960"/>
              <a:ext cx="31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54800" y="4178520"/>
              <a:ext cx="75960" cy="29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105920" y="4432320"/>
              <a:ext cx="101160" cy="3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86240" y="3924360"/>
              <a:ext cx="445680" cy="90360"/>
            </a:xfrm>
            <a:custGeom>
              <a:avLst/>
              <a:gdLst/>
              <a:ahLst/>
              <a:rect l="l" t="t" r="r" b="b"/>
              <a:pathLst>
                <a:path w="281" h="57">
                  <a:moveTo>
                    <a:pt x="280" y="0"/>
                  </a:moveTo>
                  <a:lnTo>
                    <a:pt x="144" y="56"/>
                  </a:lnTo>
                  <a:lnTo>
                    <a:pt x="0" y="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V="1">
            <a:off x="2133720" y="2514240"/>
            <a:ext cx="24382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286000" y="2819520"/>
            <a:ext cx="22860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8120" y="29718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0" y="4038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362320" y="42670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38862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09680" y="4495680"/>
            <a:ext cx="2819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2057400" y="4723920"/>
            <a:ext cx="2819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2680" y="4800600"/>
            <a:ext cx="30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cussion of the First Attem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omain Nam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943600" y="2362320"/>
            <a:ext cx="927000" cy="558720"/>
            <a:chOff x="5943600" y="2362320"/>
            <a:chExt cx="927000" cy="558720"/>
          </a:xfrm>
        </p:grpSpPr>
        <p:sp>
          <p:nvSpPr>
            <p:cNvPr id="377" name=""/>
            <p:cNvSpPr/>
            <p:nvPr/>
          </p:nvSpPr>
          <p:spPr>
            <a:xfrm flipH="1">
              <a:off x="6083280" y="27302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1"/>
            <a:stretch/>
          </p:blipFill>
          <p:spPr>
            <a:xfrm>
              <a:off x="5943600" y="2362320"/>
              <a:ext cx="24120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6235560" y="2520720"/>
              <a:ext cx="635040" cy="36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0" name=""/>
          <p:cNvGrpSpPr/>
          <p:nvPr/>
        </p:nvGrpSpPr>
        <p:grpSpPr>
          <a:xfrm>
            <a:off x="5943600" y="3657600"/>
            <a:ext cx="927000" cy="558720"/>
            <a:chOff x="5943600" y="3657600"/>
            <a:chExt cx="927000" cy="558720"/>
          </a:xfrm>
        </p:grpSpPr>
        <p:sp>
          <p:nvSpPr>
            <p:cNvPr id="381" name=""/>
            <p:cNvSpPr/>
            <p:nvPr/>
          </p:nvSpPr>
          <p:spPr>
            <a:xfrm flipH="1">
              <a:off x="6083280" y="40255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2" name="" descr=""/>
            <p:cNvPicPr/>
            <p:nvPr/>
          </p:nvPicPr>
          <p:blipFill>
            <a:blip r:embed="rId3"/>
            <a:stretch/>
          </p:blipFill>
          <p:spPr>
            <a:xfrm>
              <a:off x="5943600" y="3657600"/>
              <a:ext cx="24120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4"/>
            <a:stretch/>
          </p:blipFill>
          <p:spPr>
            <a:xfrm>
              <a:off x="6235560" y="3816000"/>
              <a:ext cx="635040" cy="36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"/>
          <p:cNvGrpSpPr/>
          <p:nvPr/>
        </p:nvGrpSpPr>
        <p:grpSpPr>
          <a:xfrm>
            <a:off x="6019920" y="4952880"/>
            <a:ext cx="927000" cy="559080"/>
            <a:chOff x="6019920" y="4952880"/>
            <a:chExt cx="927000" cy="559080"/>
          </a:xfrm>
        </p:grpSpPr>
        <p:sp>
          <p:nvSpPr>
            <p:cNvPr id="385" name=""/>
            <p:cNvSpPr/>
            <p:nvPr/>
          </p:nvSpPr>
          <p:spPr>
            <a:xfrm flipH="1">
              <a:off x="6159600" y="5321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" descr=""/>
            <p:cNvPicPr/>
            <p:nvPr/>
          </p:nvPicPr>
          <p:blipFill>
            <a:blip r:embed="rId5"/>
            <a:stretch/>
          </p:blipFill>
          <p:spPr>
            <a:xfrm>
              <a:off x="6019920" y="4952880"/>
              <a:ext cx="24120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" descr=""/>
            <p:cNvPicPr/>
            <p:nvPr/>
          </p:nvPicPr>
          <p:blipFill>
            <a:blip r:embed="rId6"/>
            <a:stretch/>
          </p:blipFill>
          <p:spPr>
            <a:xfrm>
              <a:off x="6311880" y="5111640"/>
              <a:ext cx="63504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8" name=""/>
          <p:cNvSpPr/>
          <p:nvPr/>
        </p:nvSpPr>
        <p:spPr>
          <a:xfrm>
            <a:off x="7315200" y="2286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edu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35812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nell.edu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62920" y="48769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.cornell.edu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21337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tter 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64040" y="3048120"/>
            <a:ext cx="1434960" cy="856800"/>
            <a:chOff x="464040" y="3048120"/>
            <a:chExt cx="1434960" cy="856800"/>
          </a:xfrm>
        </p:grpSpPr>
        <p:grpSp>
          <p:nvGrpSpPr>
            <p:cNvPr id="393" name=""/>
            <p:cNvGrpSpPr/>
            <p:nvPr/>
          </p:nvGrpSpPr>
          <p:grpSpPr>
            <a:xfrm>
              <a:off x="1181880" y="3048120"/>
              <a:ext cx="494640" cy="355680"/>
              <a:chOff x="1181880" y="3048120"/>
              <a:chExt cx="494640" cy="355680"/>
            </a:xfrm>
          </p:grpSpPr>
          <p:sp>
            <p:nvSpPr>
              <p:cNvPr id="394" name=""/>
              <p:cNvSpPr/>
              <p:nvPr/>
            </p:nvSpPr>
            <p:spPr>
              <a:xfrm flipH="1">
                <a:off x="1308960" y="3238560"/>
                <a:ext cx="241200" cy="13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1181880" y="3314880"/>
                <a:ext cx="494640" cy="88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1270800" y="3048120"/>
                <a:ext cx="317160" cy="241200"/>
                <a:chOff x="1270800" y="3048120"/>
                <a:chExt cx="317160" cy="241200"/>
              </a:xfrm>
            </p:grpSpPr>
            <p:sp>
              <p:nvSpPr>
                <p:cNvPr id="397" name=""/>
                <p:cNvSpPr/>
                <p:nvPr/>
              </p:nvSpPr>
              <p:spPr>
                <a:xfrm flipH="1">
                  <a:off x="1270440" y="3048120"/>
                  <a:ext cx="317160" cy="2412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>
                  <a:off x="1296720" y="3073680"/>
                  <a:ext cx="266400" cy="203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1233000" y="3353040"/>
                <a:ext cx="40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33000" y="3378240"/>
                <a:ext cx="40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984960" y="3473640"/>
              <a:ext cx="9140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1149840" y="3486240"/>
              <a:ext cx="50400" cy="3812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1683360" y="3473280"/>
              <a:ext cx="5040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584640" y="309276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0160" y="3225960"/>
              <a:ext cx="0" cy="596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4040" y="3600720"/>
              <a:ext cx="304560" cy="126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5440" y="3619800"/>
              <a:ext cx="50400" cy="2286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538560" y="3187800"/>
              <a:ext cx="102600" cy="344520"/>
            </a:xfrm>
            <a:custGeom>
              <a:avLst/>
              <a:gdLst/>
              <a:ahLst/>
              <a:rect l="l" t="t" r="r" b="b"/>
              <a:pathLst>
                <a:path w="65" h="217">
                  <a:moveTo>
                    <a:pt x="0" y="0"/>
                  </a:moveTo>
                  <a:lnTo>
                    <a:pt x="64" y="104"/>
                  </a:lnTo>
                  <a:lnTo>
                    <a:pt x="64" y="2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8120" y="3543480"/>
              <a:ext cx="31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32680" y="3569040"/>
              <a:ext cx="75960" cy="29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883800" y="3822840"/>
              <a:ext cx="101160" cy="3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564120" y="3314880"/>
              <a:ext cx="445680" cy="90360"/>
            </a:xfrm>
            <a:custGeom>
              <a:avLst/>
              <a:gdLst/>
              <a:ahLst/>
              <a:rect l="l" t="t" r="r" b="b"/>
              <a:pathLst>
                <a:path w="281" h="57">
                  <a:moveTo>
                    <a:pt x="280" y="0"/>
                  </a:moveTo>
                  <a:lnTo>
                    <a:pt x="144" y="56"/>
                  </a:lnTo>
                  <a:lnTo>
                    <a:pt x="0" y="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4114800" y="3581280"/>
            <a:ext cx="17524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3962160" y="3657600"/>
            <a:ext cx="190476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911240" y="32767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1883880" y="3553920"/>
            <a:ext cx="1522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38480" y="3276720"/>
            <a:ext cx="1828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4114800" y="342900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81480" y="4343400"/>
            <a:ext cx="30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7"/>
          <a:stretch/>
        </p:blipFill>
        <p:spPr>
          <a:xfrm>
            <a:off x="3664080" y="3124080"/>
            <a:ext cx="241200" cy="5590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368440" y="320040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3889440"/>
            <a:ext cx="251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maden.ib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rnell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ce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b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cm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05120" y="3962520"/>
            <a:ext cx="2361960" cy="2666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05120" y="4343400"/>
            <a:ext cx="2361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27080" y="4678200"/>
            <a:ext cx="23623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936800" y="5038560"/>
            <a:ext cx="23623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05120" y="5410080"/>
            <a:ext cx="23619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917720" y="5772240"/>
            <a:ext cx="23623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25640" y="6157800"/>
            <a:ext cx="23623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82880" y="365760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00600" y="33526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90720" y="4572000"/>
            <a:ext cx="1295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2286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DNS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Tim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3000" y="2362320"/>
            <a:ext cx="69343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real time system is a software system whose correct functioning depends upon the results produced and the time at which they are pro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l time system is degraded if the results are not produced within required time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l time system fails if the results are not produced within required time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4876920" y="2209680"/>
            <a:ext cx="19047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2438280"/>
            <a:ext cx="1905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Web Ser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52680" y="1905120"/>
            <a:ext cx="4648320" cy="297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5800" y="3429000"/>
            <a:ext cx="236232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743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52680" y="2819520"/>
            <a:ext cx="12193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67080" y="312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e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38680" y="2666880"/>
            <a:ext cx="1905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29200" y="3809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wned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2880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 port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4467240" y="2819520"/>
            <a:ext cx="48564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567320" y="3142800"/>
            <a:ext cx="88560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4449600" y="3522600"/>
            <a:ext cx="1605240" cy="20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4800600"/>
            <a:ext cx="685800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emon listens at port 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message arrives 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wns a processes to handle the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to listening at port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mbedded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8080" y="2286000"/>
            <a:ext cx="75438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ftware and hardware are combined to provide an integrated unit, usually dedicated to a specific tas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obile engin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tific 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ftware may be embedded in the device in a manner that can not be altered after manufa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Autonomous Land Vehi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62120" y="2286000"/>
            <a:ext cx="738000" cy="72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62120" y="3581280"/>
            <a:ext cx="750600" cy="750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2120" y="4876920"/>
            <a:ext cx="76176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7200" y="5867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0880" y="2401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1240" y="37353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160" y="50054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362320" y="22860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362320" y="3657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362320" y="5029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33720" y="59436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gnal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3657600"/>
            <a:ext cx="1295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67280" y="3657600"/>
            <a:ext cx="1295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15000" y="4495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96080" y="2514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0120" y="441972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4674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423200" y="464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15200" y="5410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3880" y="2666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46200" y="3979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23880" y="5257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9000" y="2743200"/>
            <a:ext cx="6094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429000" y="434340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5780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7162920" y="32004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162920" y="4114800"/>
            <a:ext cx="561960" cy="49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743200"/>
            <a:ext cx="76964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ssignment 2: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es -- presentation, report,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s at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s from teaching assi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3: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362320" y="2209680"/>
            <a:ext cx="525780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ponse 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e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t bag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ar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user data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h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286000"/>
            <a:ext cx="60195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purpose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threading and multi-tas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 pro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digital signal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levels and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ulti-Th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066680" y="236232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ral similar threads operating concurrent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-entrant code -- separation of pure code from data for each 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-- single thread and multi 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real time (e.g., telephone switch) or non-time cr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Time Execu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90720" y="2286000"/>
            <a:ext cx="72388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hedules and dispatches tasks in a real tim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time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extremely rel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95280" y="2133720"/>
            <a:ext cx="6629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ming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chronous (clocked) -- periodic stim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nchronous -- wait for next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 Communications protocols may be synchronous or asynchron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rdware v.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480" y="2286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219320" y="22860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74674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sign of embedded systems requires close understanding of hardware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purpose hardware requires special tools and expert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functions may be implemented in either hardware of software (e.g., floating point 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requires separation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tinction between hardware and software may be blur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6019920" y="4038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Dartmouth Time Shared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00200" y="3048120"/>
            <a:ext cx="2286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s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600200" y="4343400"/>
            <a:ext cx="2286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s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3581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049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681120" y="3581280"/>
            <a:ext cx="7556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27040" y="307332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24160" y="327816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22360" y="348768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19120" y="3692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09760" y="440064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06520" y="460548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05080" y="481500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01840" y="5019840"/>
            <a:ext cx="152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2133720"/>
            <a:ext cx="1600200" cy="10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629400" y="3505320"/>
            <a:ext cx="16002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29400" y="4876920"/>
            <a:ext cx="16002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00880" y="22384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483240" y="36162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465960" y="49942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86200" y="3429000"/>
            <a:ext cx="498600" cy="49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886200" y="4114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5943600" y="27432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43600" y="4419720"/>
            <a:ext cx="68436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383000" y="3616200"/>
            <a:ext cx="16765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itplex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038480" y="20574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aster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43600" y="243828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ftware Consid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2209680"/>
            <a:ext cx="7848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ource considerations may dictate software design and imple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level language (e.g., C) where programmer has close link to machi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process communication may be too slow (e.g., C for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implement special buffering, etc., to control tim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CD Contro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47920" y="2463840"/>
            <a:ext cx="37339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206960" y="246528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00400" y="2743200"/>
            <a:ext cx="1927080" cy="307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90920" y="3352680"/>
            <a:ext cx="3176640" cy="191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74920" y="430704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2657520" y="3314520"/>
            <a:ext cx="3144960" cy="18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352680" y="2687760"/>
            <a:ext cx="1735200" cy="31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895480" y="3048120"/>
            <a:ext cx="2673360" cy="24382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219320" y="3962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29718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91320" y="29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324480" y="320040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365760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19520" y="297180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505320" y="259092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43400" y="259092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05520" y="297180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238880" y="274320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" y="3733920"/>
            <a:ext cx="457200" cy="4572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0" y="2743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775040" y="295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16520" y="2589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64040" y="2597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7500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119320" y="364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200" y="3732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19520" y="6172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tinuous Ope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9480" y="2286000"/>
            <a:ext cx="80773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ny systems must operate continu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update while op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monitoring and 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 power supplies, network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se functions must be designed into the fundamental archit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ents on Requirements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743200"/>
            <a:ext cx="8077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and design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updated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of detail -- will be used to validate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, not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se, but not legal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uters and Other Network Compu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914400" y="2286000"/>
            <a:ext cx="7162920" cy="39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tion with third party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several versions of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art after total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sive programming -- must sur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erroneous or maliciou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extreme 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uts, dropped packet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ution of network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000920" y="2693880"/>
            <a:ext cx="4680" cy="343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3429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28954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quence Diagram: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38080" y="2286000"/>
            <a:ext cx="380880" cy="662040"/>
            <a:chOff x="838080" y="2286000"/>
            <a:chExt cx="380880" cy="662040"/>
          </a:xfrm>
        </p:grpSpPr>
        <p:sp>
          <p:nvSpPr>
            <p:cNvPr id="56" name=""/>
            <p:cNvSpPr/>
            <p:nvPr/>
          </p:nvSpPr>
          <p:spPr>
            <a:xfrm>
              <a:off x="914040" y="2286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28520" y="250992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080" y="2548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889920" y="2714760"/>
              <a:ext cx="133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33200" y="2719440"/>
              <a:ext cx="133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0" y="2971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ok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505320"/>
            <a:ext cx="15228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057400"/>
            <a:ext cx="2361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bMem: Library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2971800"/>
            <a:ext cx="2209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Copy: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220968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Book: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4191120"/>
            <a:ext cx="1522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5334120"/>
            <a:ext cx="152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48360" y="5686560"/>
            <a:ext cx="138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4191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3657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(theCo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12372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60560" y="4040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ToB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5334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13440" y="5708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48160" y="5229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32004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otted line shows object life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7086600" y="3962520"/>
            <a:ext cx="5335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50292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ectangle shows focus of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162560" y="5257800"/>
            <a:ext cx="5331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839000" y="2666880"/>
            <a:ext cx="4680" cy="343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3402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8954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quence Diagram: Branc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38080" y="2286000"/>
            <a:ext cx="380880" cy="662040"/>
            <a:chOff x="838080" y="2286000"/>
            <a:chExt cx="380880" cy="662040"/>
          </a:xfrm>
        </p:grpSpPr>
        <p:sp>
          <p:nvSpPr>
            <p:cNvPr id="88" name=""/>
            <p:cNvSpPr/>
            <p:nvPr/>
          </p:nvSpPr>
          <p:spPr>
            <a:xfrm>
              <a:off x="914040" y="2286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28520" y="250992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8080" y="2548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889920" y="2714760"/>
              <a:ext cx="133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33200" y="2719440"/>
              <a:ext cx="133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0" y="2971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ok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3505320"/>
            <a:ext cx="15264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2057400"/>
            <a:ext cx="2362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bMem: Library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2944800"/>
            <a:ext cx="2210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Copy: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220968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Book: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4191120"/>
            <a:ext cx="152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530712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86800" y="5659560"/>
            <a:ext cx="137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1911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657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borrow(theCo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053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3962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:okToB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5334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48769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ok]3:b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1520" y="5681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520236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:b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6172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ran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1142640" y="5257800"/>
            <a:ext cx="12193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04920" y="53341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876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not ok]3:nob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124080" y="5257800"/>
            <a:ext cx="76212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Distributed Data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867280" y="4876920"/>
            <a:ext cx="1536840" cy="774720"/>
            <a:chOff x="5867280" y="4876920"/>
            <a:chExt cx="1536840" cy="774720"/>
          </a:xfrm>
        </p:grpSpPr>
        <p:sp>
          <p:nvSpPr>
            <p:cNvPr id="118" name=""/>
            <p:cNvSpPr/>
            <p:nvPr/>
          </p:nvSpPr>
          <p:spPr>
            <a:xfrm>
              <a:off x="6527880" y="4876920"/>
              <a:ext cx="876240" cy="77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53080" y="4889520"/>
              <a:ext cx="400320" cy="72396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78600" y="4902120"/>
              <a:ext cx="399960" cy="72396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02400" y="4925880"/>
              <a:ext cx="312840" cy="200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7040520" y="4938840"/>
              <a:ext cx="301680" cy="187200"/>
              <a:chOff x="7040520" y="4938840"/>
              <a:chExt cx="301680" cy="187200"/>
            </a:xfrm>
          </p:grpSpPr>
          <p:sp>
            <p:nvSpPr>
              <p:cNvPr id="123" name=""/>
              <p:cNvSpPr/>
              <p:nvPr/>
            </p:nvSpPr>
            <p:spPr>
              <a:xfrm>
                <a:off x="7040520" y="5076720"/>
                <a:ext cx="301680" cy="49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40520" y="4964040"/>
                <a:ext cx="301680" cy="13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040520" y="4938840"/>
                <a:ext cx="30168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7040520" y="5164200"/>
              <a:ext cx="301680" cy="187200"/>
              <a:chOff x="7040520" y="5164200"/>
              <a:chExt cx="301680" cy="187200"/>
            </a:xfrm>
          </p:grpSpPr>
          <p:sp>
            <p:nvSpPr>
              <p:cNvPr id="127" name=""/>
              <p:cNvSpPr/>
              <p:nvPr/>
            </p:nvSpPr>
            <p:spPr>
              <a:xfrm>
                <a:off x="7040520" y="5302440"/>
                <a:ext cx="301680" cy="48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40520" y="5189400"/>
                <a:ext cx="301680" cy="13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3120" y="5164200"/>
                <a:ext cx="28908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7053120" y="5389560"/>
              <a:ext cx="301680" cy="187200"/>
              <a:chOff x="7053120" y="5389560"/>
              <a:chExt cx="301680" cy="187200"/>
            </a:xfrm>
          </p:grpSpPr>
          <p:sp>
            <p:nvSpPr>
              <p:cNvPr id="131" name=""/>
              <p:cNvSpPr/>
              <p:nvPr/>
            </p:nvSpPr>
            <p:spPr>
              <a:xfrm>
                <a:off x="7053120" y="5526000"/>
                <a:ext cx="30168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053120" y="5413320"/>
                <a:ext cx="301680" cy="138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53120" y="5389560"/>
                <a:ext cx="30168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602400" y="5151600"/>
              <a:ext cx="299880" cy="187200"/>
              <a:chOff x="6602400" y="5151600"/>
              <a:chExt cx="299880" cy="187200"/>
            </a:xfrm>
          </p:grpSpPr>
          <p:sp>
            <p:nvSpPr>
              <p:cNvPr id="135" name=""/>
              <p:cNvSpPr/>
              <p:nvPr/>
            </p:nvSpPr>
            <p:spPr>
              <a:xfrm>
                <a:off x="6602400" y="5289480"/>
                <a:ext cx="299880" cy="49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602400" y="5176800"/>
                <a:ext cx="299880" cy="136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602400" y="5151600"/>
                <a:ext cx="29988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6615000" y="5376960"/>
              <a:ext cx="299880" cy="187200"/>
              <a:chOff x="6615000" y="5376960"/>
              <a:chExt cx="299880" cy="187200"/>
            </a:xfrm>
          </p:grpSpPr>
          <p:sp>
            <p:nvSpPr>
              <p:cNvPr id="139" name=""/>
              <p:cNvSpPr/>
              <p:nvPr/>
            </p:nvSpPr>
            <p:spPr>
              <a:xfrm>
                <a:off x="6615000" y="5513400"/>
                <a:ext cx="28728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615000" y="5402160"/>
                <a:ext cx="299880" cy="13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615000" y="5376960"/>
                <a:ext cx="29988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5867280" y="5029200"/>
              <a:ext cx="2415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6114960" y="532116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33720" y="4876920"/>
            <a:ext cx="1536120" cy="774720"/>
            <a:chOff x="2133720" y="4876920"/>
            <a:chExt cx="1536120" cy="774720"/>
          </a:xfrm>
        </p:grpSpPr>
        <p:sp>
          <p:nvSpPr>
            <p:cNvPr id="145" name=""/>
            <p:cNvSpPr/>
            <p:nvPr/>
          </p:nvSpPr>
          <p:spPr>
            <a:xfrm>
              <a:off x="2793600" y="4876920"/>
              <a:ext cx="876240" cy="774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19160" y="4889520"/>
              <a:ext cx="399600" cy="723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44680" y="4902480"/>
              <a:ext cx="399600" cy="723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68480" y="4926240"/>
              <a:ext cx="312120" cy="200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306600" y="4938840"/>
              <a:ext cx="301320" cy="187560"/>
              <a:chOff x="3306600" y="4938840"/>
              <a:chExt cx="301320" cy="187560"/>
            </a:xfrm>
          </p:grpSpPr>
          <p:sp>
            <p:nvSpPr>
              <p:cNvPr id="150" name=""/>
              <p:cNvSpPr/>
              <p:nvPr/>
            </p:nvSpPr>
            <p:spPr>
              <a:xfrm>
                <a:off x="3306600" y="5077080"/>
                <a:ext cx="301320" cy="49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306600" y="4964400"/>
                <a:ext cx="301320" cy="136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306600" y="4938840"/>
                <a:ext cx="3013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306600" y="5164200"/>
              <a:ext cx="301320" cy="187560"/>
              <a:chOff x="3306600" y="5164200"/>
              <a:chExt cx="301320" cy="187560"/>
            </a:xfrm>
          </p:grpSpPr>
          <p:sp>
            <p:nvSpPr>
              <p:cNvPr id="154" name=""/>
              <p:cNvSpPr/>
              <p:nvPr/>
            </p:nvSpPr>
            <p:spPr>
              <a:xfrm>
                <a:off x="3306600" y="5302440"/>
                <a:ext cx="301320" cy="49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306600" y="5189760"/>
                <a:ext cx="301320" cy="136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18840" y="5164200"/>
                <a:ext cx="2887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319200" y="5389920"/>
              <a:ext cx="301320" cy="187200"/>
              <a:chOff x="3319200" y="5389920"/>
              <a:chExt cx="301320" cy="187200"/>
            </a:xfrm>
          </p:grpSpPr>
          <p:sp>
            <p:nvSpPr>
              <p:cNvPr id="158" name=""/>
              <p:cNvSpPr/>
              <p:nvPr/>
            </p:nvSpPr>
            <p:spPr>
              <a:xfrm>
                <a:off x="3319200" y="5526360"/>
                <a:ext cx="30132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19200" y="5413680"/>
                <a:ext cx="301320" cy="1378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319200" y="5389920"/>
                <a:ext cx="3013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68480" y="5151600"/>
              <a:ext cx="299520" cy="187200"/>
              <a:chOff x="2868480" y="5151600"/>
              <a:chExt cx="299520" cy="187200"/>
            </a:xfrm>
          </p:grpSpPr>
          <p:sp>
            <p:nvSpPr>
              <p:cNvPr id="162" name=""/>
              <p:cNvSpPr/>
              <p:nvPr/>
            </p:nvSpPr>
            <p:spPr>
              <a:xfrm>
                <a:off x="2868480" y="5289840"/>
                <a:ext cx="299520" cy="48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68480" y="5177160"/>
                <a:ext cx="299520" cy="136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868480" y="5151600"/>
                <a:ext cx="2995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881080" y="5376960"/>
              <a:ext cx="299520" cy="187560"/>
              <a:chOff x="2881080" y="5376960"/>
              <a:chExt cx="299520" cy="187560"/>
            </a:xfrm>
          </p:grpSpPr>
          <p:sp>
            <p:nvSpPr>
              <p:cNvPr id="166" name=""/>
              <p:cNvSpPr/>
              <p:nvPr/>
            </p:nvSpPr>
            <p:spPr>
              <a:xfrm>
                <a:off x="2881080" y="5513400"/>
                <a:ext cx="286920" cy="51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81080" y="5402520"/>
                <a:ext cx="299520" cy="136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81080" y="5376960"/>
                <a:ext cx="2995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2133720" y="5029560"/>
              <a:ext cx="24084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381040" y="5321520"/>
              <a:ext cx="38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286000" y="2362320"/>
            <a:ext cx="1365120" cy="927000"/>
            <a:chOff x="2286000" y="2362320"/>
            <a:chExt cx="1365120" cy="927000"/>
          </a:xfrm>
        </p:grpSpPr>
        <p:sp>
          <p:nvSpPr>
            <p:cNvPr id="172" name=""/>
            <p:cNvSpPr/>
            <p:nvPr/>
          </p:nvSpPr>
          <p:spPr>
            <a:xfrm>
              <a:off x="2787480" y="2857320"/>
              <a:ext cx="8636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901960" y="287028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3435120" y="2857320"/>
              <a:ext cx="101520" cy="4320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286000" y="2362320"/>
              <a:ext cx="540720" cy="768240"/>
              <a:chOff x="2286000" y="2362320"/>
              <a:chExt cx="540720" cy="768240"/>
            </a:xfrm>
          </p:grpSpPr>
          <p:sp>
            <p:nvSpPr>
              <p:cNvPr id="176" name=""/>
              <p:cNvSpPr/>
              <p:nvPr/>
            </p:nvSpPr>
            <p:spPr>
              <a:xfrm>
                <a:off x="2399760" y="236232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286000" y="249552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04720" y="287028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15760" y="288936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355480" y="245736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368080" y="281304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673000" y="283824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2723760" y="309240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381040" y="258444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3035160" y="2413080"/>
              <a:ext cx="380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89160" y="2451240"/>
              <a:ext cx="2570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200400" y="3352680"/>
            <a:ext cx="0" cy="137160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5257800"/>
            <a:ext cx="1828800" cy="0"/>
          </a:xfrm>
          <a:prstGeom prst="line">
            <a:avLst/>
          </a:prstGeom>
          <a:ln w="2844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2743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wo copies of the sam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05320" y="3581280"/>
            <a:ext cx="13716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3581280"/>
            <a:ext cx="83808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ributed Data and Re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2209680"/>
            <a:ext cx="86108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tribut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held on several computer systems.  A transaction may need to assemble data from several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copies of the data are held in different loc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rro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plete data set is repl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ch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ynamic set of data is replicated (e.g., most recently u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 replicated data, the biggest problem is consist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832360" y="5584680"/>
            <a:ext cx="32767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920" y="586728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2760" y="184320"/>
            <a:ext cx="8476920" cy="119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Broadcast S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124080" y="3429000"/>
            <a:ext cx="1295640" cy="1219320"/>
            <a:chOff x="3124080" y="3429000"/>
            <a:chExt cx="1295640" cy="1219320"/>
          </a:xfrm>
        </p:grpSpPr>
        <p:sp>
          <p:nvSpPr>
            <p:cNvPr id="198" name=""/>
            <p:cNvSpPr/>
            <p:nvPr/>
          </p:nvSpPr>
          <p:spPr>
            <a:xfrm>
              <a:off x="3124080" y="3429000"/>
              <a:ext cx="1295640" cy="1219320"/>
            </a:xfrm>
            <a:prstGeom prst="ellipse">
              <a:avLst/>
            </a:prstGeom>
            <a:solidFill>
              <a:srgbClr val="fcfeb9"/>
            </a:solidFill>
            <a:ln w="507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3657600" y="3733920"/>
              <a:ext cx="181080" cy="55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748600" y="2209680"/>
            <a:ext cx="2199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533880" y="3581280"/>
            <a:ext cx="1434960" cy="856800"/>
            <a:chOff x="533880" y="3581280"/>
            <a:chExt cx="1434960" cy="856800"/>
          </a:xfrm>
        </p:grpSpPr>
        <p:grpSp>
          <p:nvGrpSpPr>
            <p:cNvPr id="202" name=""/>
            <p:cNvGrpSpPr/>
            <p:nvPr/>
          </p:nvGrpSpPr>
          <p:grpSpPr>
            <a:xfrm>
              <a:off x="1251720" y="3581280"/>
              <a:ext cx="494640" cy="355680"/>
              <a:chOff x="1251720" y="3581280"/>
              <a:chExt cx="494640" cy="355680"/>
            </a:xfrm>
          </p:grpSpPr>
          <p:sp>
            <p:nvSpPr>
              <p:cNvPr id="203" name=""/>
              <p:cNvSpPr/>
              <p:nvPr/>
            </p:nvSpPr>
            <p:spPr>
              <a:xfrm flipH="1">
                <a:off x="1378800" y="3771720"/>
                <a:ext cx="241200" cy="13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251720" y="3848040"/>
                <a:ext cx="494640" cy="88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1340640" y="3581280"/>
                <a:ext cx="317160" cy="241200"/>
                <a:chOff x="1340640" y="3581280"/>
                <a:chExt cx="317160" cy="241200"/>
              </a:xfrm>
            </p:grpSpPr>
            <p:sp>
              <p:nvSpPr>
                <p:cNvPr id="206" name=""/>
                <p:cNvSpPr/>
                <p:nvPr/>
              </p:nvSpPr>
              <p:spPr>
                <a:xfrm flipH="1">
                  <a:off x="1340280" y="3581280"/>
                  <a:ext cx="317160" cy="2412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1366560" y="3606840"/>
                  <a:ext cx="266400" cy="203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1302840" y="3886200"/>
                <a:ext cx="40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302840" y="3911400"/>
                <a:ext cx="40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054800" y="4006800"/>
              <a:ext cx="9140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219680" y="4019400"/>
              <a:ext cx="50400" cy="3812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1753200" y="4006440"/>
              <a:ext cx="5040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54480" y="362592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0000" y="3759120"/>
              <a:ext cx="0" cy="596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3880" y="4133880"/>
              <a:ext cx="304560" cy="126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5280" y="4152960"/>
              <a:ext cx="50400" cy="2286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08400" y="3720960"/>
              <a:ext cx="102600" cy="344520"/>
            </a:xfrm>
            <a:custGeom>
              <a:avLst/>
              <a:gdLst/>
              <a:ahLst/>
              <a:rect l="l" t="t" r="r" b="b"/>
              <a:pathLst>
                <a:path w="65" h="217">
                  <a:moveTo>
                    <a:pt x="0" y="0"/>
                  </a:moveTo>
                  <a:lnTo>
                    <a:pt x="64" y="104"/>
                  </a:lnTo>
                  <a:lnTo>
                    <a:pt x="64" y="2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97960" y="4076640"/>
              <a:ext cx="31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02520" y="4102200"/>
              <a:ext cx="75960" cy="29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953640" y="4356000"/>
              <a:ext cx="101160" cy="3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33960" y="3848040"/>
              <a:ext cx="445680" cy="90360"/>
            </a:xfrm>
            <a:custGeom>
              <a:avLst/>
              <a:gdLst/>
              <a:ahLst/>
              <a:rect l="l" t="t" r="r" b="b"/>
              <a:pathLst>
                <a:path w="281" h="57">
                  <a:moveTo>
                    <a:pt x="280" y="0"/>
                  </a:moveTo>
                  <a:lnTo>
                    <a:pt x="144" y="56"/>
                  </a:lnTo>
                  <a:lnTo>
                    <a:pt x="0" y="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048680" y="2666880"/>
            <a:ext cx="84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82640" y="1981080"/>
            <a:ext cx="1677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705720" y="2743200"/>
            <a:ext cx="895320" cy="520560"/>
            <a:chOff x="6705720" y="2743200"/>
            <a:chExt cx="895320" cy="520560"/>
          </a:xfrm>
        </p:grpSpPr>
        <p:sp>
          <p:nvSpPr>
            <p:cNvPr id="225" name=""/>
            <p:cNvSpPr/>
            <p:nvPr/>
          </p:nvSpPr>
          <p:spPr>
            <a:xfrm flipH="1">
              <a:off x="6813720" y="30794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2"/>
            <a:stretch/>
          </p:blipFill>
          <p:spPr>
            <a:xfrm>
              <a:off x="6966000" y="2869920"/>
              <a:ext cx="63504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705720" y="2743200"/>
              <a:ext cx="190440" cy="5205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18320" y="2755800"/>
              <a:ext cx="165240" cy="11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30920" y="2997000"/>
              <a:ext cx="1526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477120" y="2666880"/>
            <a:ext cx="129528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553080" y="5410080"/>
            <a:ext cx="1041480" cy="984240"/>
            <a:chOff x="6553080" y="5410080"/>
            <a:chExt cx="1041480" cy="984240"/>
          </a:xfrm>
        </p:grpSpPr>
        <p:sp>
          <p:nvSpPr>
            <p:cNvPr id="232" name=""/>
            <p:cNvSpPr/>
            <p:nvPr/>
          </p:nvSpPr>
          <p:spPr>
            <a:xfrm>
              <a:off x="6553080" y="5410080"/>
              <a:ext cx="1041480" cy="984240"/>
            </a:xfrm>
            <a:prstGeom prst="ellipse">
              <a:avLst/>
            </a:prstGeom>
            <a:solidFill>
              <a:srgbClr val="fcfeb9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3"/>
            <a:stretch/>
          </p:blipFill>
          <p:spPr>
            <a:xfrm>
              <a:off x="6781680" y="5715000"/>
              <a:ext cx="63504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"/>
          <p:cNvSpPr/>
          <p:nvPr/>
        </p:nvSpPr>
        <p:spPr>
          <a:xfrm>
            <a:off x="6477120" y="5334120"/>
            <a:ext cx="129528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05120" y="3886200"/>
            <a:ext cx="1218960" cy="152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419720" y="3123720"/>
            <a:ext cx="2209680" cy="6858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4419720"/>
            <a:ext cx="236232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832360" y="5584680"/>
            <a:ext cx="32767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5867280"/>
            <a:ext cx="1600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2760" y="184320"/>
            <a:ext cx="8476920" cy="119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Use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33880" y="3581280"/>
            <a:ext cx="1434960" cy="856800"/>
            <a:chOff x="533880" y="3581280"/>
            <a:chExt cx="1434960" cy="856800"/>
          </a:xfrm>
        </p:grpSpPr>
        <p:grpSp>
          <p:nvGrpSpPr>
            <p:cNvPr id="242" name=""/>
            <p:cNvGrpSpPr/>
            <p:nvPr/>
          </p:nvGrpSpPr>
          <p:grpSpPr>
            <a:xfrm>
              <a:off x="1251720" y="3581280"/>
              <a:ext cx="494640" cy="355680"/>
              <a:chOff x="1251720" y="3581280"/>
              <a:chExt cx="494640" cy="35568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1378800" y="3771720"/>
                <a:ext cx="241200" cy="139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251720" y="3848040"/>
                <a:ext cx="494640" cy="88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1340640" y="3581280"/>
                <a:ext cx="317160" cy="241200"/>
                <a:chOff x="1340640" y="3581280"/>
                <a:chExt cx="317160" cy="241200"/>
              </a:xfrm>
            </p:grpSpPr>
            <p:sp>
              <p:nvSpPr>
                <p:cNvPr id="246" name=""/>
                <p:cNvSpPr/>
                <p:nvPr/>
              </p:nvSpPr>
              <p:spPr>
                <a:xfrm flipH="1">
                  <a:off x="1340280" y="3581280"/>
                  <a:ext cx="317160" cy="2412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>
                  <a:off x="1366560" y="3606840"/>
                  <a:ext cx="266400" cy="2030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1302840" y="3886200"/>
                <a:ext cx="40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302840" y="3911400"/>
                <a:ext cx="40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1054800" y="4006800"/>
              <a:ext cx="9140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219680" y="4019400"/>
              <a:ext cx="50400" cy="3812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1753200" y="4006440"/>
              <a:ext cx="5040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54480" y="3625920"/>
              <a:ext cx="101520" cy="101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0000" y="3759120"/>
              <a:ext cx="0" cy="596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33880" y="4133880"/>
              <a:ext cx="304560" cy="126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45280" y="4152960"/>
              <a:ext cx="50400" cy="2286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608400" y="3720960"/>
              <a:ext cx="102600" cy="344520"/>
            </a:xfrm>
            <a:custGeom>
              <a:avLst/>
              <a:gdLst/>
              <a:ahLst/>
              <a:rect l="l" t="t" r="r" b="b"/>
              <a:pathLst>
                <a:path w="65" h="217">
                  <a:moveTo>
                    <a:pt x="0" y="0"/>
                  </a:moveTo>
                  <a:lnTo>
                    <a:pt x="64" y="104"/>
                  </a:lnTo>
                  <a:lnTo>
                    <a:pt x="64" y="2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7960" y="4076640"/>
              <a:ext cx="31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02520" y="4102200"/>
              <a:ext cx="75960" cy="29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953640" y="4356000"/>
              <a:ext cx="101160" cy="3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633960" y="3848040"/>
              <a:ext cx="445680" cy="90360"/>
            </a:xfrm>
            <a:custGeom>
              <a:avLst/>
              <a:gdLst/>
              <a:ahLst/>
              <a:rect l="l" t="t" r="r" b="b"/>
              <a:pathLst>
                <a:path w="281" h="57">
                  <a:moveTo>
                    <a:pt x="280" y="0"/>
                  </a:moveTo>
                  <a:lnTo>
                    <a:pt x="144" y="56"/>
                  </a:lnTo>
                  <a:lnTo>
                    <a:pt x="0" y="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019920" y="3581280"/>
            <a:ext cx="895320" cy="520920"/>
            <a:chOff x="6019920" y="3581280"/>
            <a:chExt cx="895320" cy="520920"/>
          </a:xfrm>
        </p:grpSpPr>
        <p:sp>
          <p:nvSpPr>
            <p:cNvPr id="263" name=""/>
            <p:cNvSpPr/>
            <p:nvPr/>
          </p:nvSpPr>
          <p:spPr>
            <a:xfrm flipH="1">
              <a:off x="6127920" y="3917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6280200" y="3708360"/>
              <a:ext cx="63504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019920" y="3581280"/>
              <a:ext cx="190440" cy="5209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32520" y="3594240"/>
              <a:ext cx="165240" cy="11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45120" y="3835440"/>
              <a:ext cx="1526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867280" y="5029200"/>
            <a:ext cx="895320" cy="520560"/>
            <a:chOff x="5867280" y="5029200"/>
            <a:chExt cx="895320" cy="520560"/>
          </a:xfrm>
        </p:grpSpPr>
        <p:sp>
          <p:nvSpPr>
            <p:cNvPr id="269" name=""/>
            <p:cNvSpPr/>
            <p:nvPr/>
          </p:nvSpPr>
          <p:spPr>
            <a:xfrm flipH="1">
              <a:off x="5975280" y="53654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6127560" y="5155920"/>
              <a:ext cx="63504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867280" y="5029200"/>
              <a:ext cx="190440" cy="5205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79880" y="5041800"/>
              <a:ext cx="165240" cy="11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2480" y="5283000"/>
              <a:ext cx="1526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962520" y="4191120"/>
            <a:ext cx="895320" cy="520560"/>
            <a:chOff x="3962520" y="4191120"/>
            <a:chExt cx="895320" cy="520560"/>
          </a:xfrm>
        </p:grpSpPr>
        <p:sp>
          <p:nvSpPr>
            <p:cNvPr id="275" name=""/>
            <p:cNvSpPr/>
            <p:nvPr/>
          </p:nvSpPr>
          <p:spPr>
            <a:xfrm flipH="1">
              <a:off x="4070520" y="4527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4222800" y="4317840"/>
              <a:ext cx="63504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962520" y="4191120"/>
              <a:ext cx="190440" cy="5205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75120" y="4203720"/>
              <a:ext cx="165240" cy="11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87720" y="4444920"/>
              <a:ext cx="1526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886200" y="2590920"/>
            <a:ext cx="895320" cy="520560"/>
            <a:chOff x="3886200" y="2590920"/>
            <a:chExt cx="895320" cy="520560"/>
          </a:xfrm>
        </p:grpSpPr>
        <p:sp>
          <p:nvSpPr>
            <p:cNvPr id="281" name=""/>
            <p:cNvSpPr/>
            <p:nvPr/>
          </p:nvSpPr>
          <p:spPr>
            <a:xfrm flipH="1">
              <a:off x="3994200" y="2927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4"/>
            <a:stretch/>
          </p:blipFill>
          <p:spPr>
            <a:xfrm>
              <a:off x="4146480" y="2717640"/>
              <a:ext cx="63504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3886200" y="2590920"/>
              <a:ext cx="190440" cy="5205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98800" y="2603520"/>
              <a:ext cx="165240" cy="11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11400" y="2844720"/>
              <a:ext cx="1526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514600" y="3429000"/>
            <a:ext cx="895320" cy="520560"/>
            <a:chOff x="2514600" y="3429000"/>
            <a:chExt cx="895320" cy="520560"/>
          </a:xfrm>
        </p:grpSpPr>
        <p:sp>
          <p:nvSpPr>
            <p:cNvPr id="287" name=""/>
            <p:cNvSpPr/>
            <p:nvPr/>
          </p:nvSpPr>
          <p:spPr>
            <a:xfrm flipH="1">
              <a:off x="2622600" y="37652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8" name="" descr=""/>
            <p:cNvPicPr/>
            <p:nvPr/>
          </p:nvPicPr>
          <p:blipFill>
            <a:blip r:embed="rId5"/>
            <a:stretch/>
          </p:blipFill>
          <p:spPr>
            <a:xfrm>
              <a:off x="2774880" y="3555720"/>
              <a:ext cx="635040" cy="36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2514600" y="3429000"/>
              <a:ext cx="190440" cy="5205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27200" y="3441600"/>
              <a:ext cx="165240" cy="11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39800" y="3682800"/>
              <a:ext cx="1526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934320" y="2438280"/>
            <a:ext cx="1364760" cy="926640"/>
            <a:chOff x="6934320" y="2438280"/>
            <a:chExt cx="1364760" cy="926640"/>
          </a:xfrm>
        </p:grpSpPr>
        <p:sp>
          <p:nvSpPr>
            <p:cNvPr id="293" name=""/>
            <p:cNvSpPr/>
            <p:nvPr/>
          </p:nvSpPr>
          <p:spPr>
            <a:xfrm>
              <a:off x="7435800" y="2933640"/>
              <a:ext cx="86328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7549920" y="294624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flipV="1">
              <a:off x="8083080" y="2933280"/>
              <a:ext cx="10116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6934320" y="2438280"/>
              <a:ext cx="540720" cy="768240"/>
              <a:chOff x="6934320" y="2438280"/>
              <a:chExt cx="540720" cy="768240"/>
            </a:xfrm>
          </p:grpSpPr>
          <p:sp>
            <p:nvSpPr>
              <p:cNvPr id="297" name=""/>
              <p:cNvSpPr/>
              <p:nvPr/>
            </p:nvSpPr>
            <p:spPr>
              <a:xfrm>
                <a:off x="7048080" y="243828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34320" y="257148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53040" y="294624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264080" y="296532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003800" y="253332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16400" y="288900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21320" y="291420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7372080" y="316836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29360" y="266040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7683480" y="2489040"/>
              <a:ext cx="38052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37480" y="2527200"/>
              <a:ext cx="25668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828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200400" y="312372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02920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200040" y="40381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4952880" y="480024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010280" y="34290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0-17T16:29:39Z</dcterms:modified>
  <cp:revision>354</cp:revision>
  <dc:subject/>
  <dc:title>Digital Library Architecture- Key Principles </dc:title>
</cp:coreProperties>
</file>