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0D9F-4B50-43B9-96FD-FA03D3E9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F585-0FEB-45E9-A8FE-697ABB22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EA82-3ED7-4913-B26D-534CC7115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469A-6C02-4EC7-B86E-DB524831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E4F3-6DBD-4F13-BC36-E45FE2DE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F9FF-73B2-4908-B7AF-15B0BAE4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DB79-F8C4-4054-BF7D-3251365D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D1C8-57EA-46D7-88A7-CB147E11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91B1-139F-44E1-A870-0714B241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0B84-141D-4A5D-9225-18CD7A3F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8A19-81C1-40A5-9172-732A968C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599A-9A80-4C89-AFA1-8D132161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D6C4-6ADE-4203-8D19-A88C3745F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mbysoft.com/javaCodingStandards.html" TargetMode="External"/><Relationship Id="rId2" Type="http://schemas.openxmlformats.org/officeDocument/2006/relationships/hyperlink" Target="http://www.ambysoft.com/javaCodingStandards.html" TargetMode="External"/><Relationship Id="rId3" Type="http://schemas.openxmlformats.org/officeDocument/2006/relationships/hyperlink" Target="http://www.ambysoft.com/javaCodingStandards.html" TargetMode="External"/><Relationship Id="rId4" Type="http://schemas.openxmlformats.org/officeDocument/2006/relationships/hyperlink" Target="http://www.ambysoft.com/javaCodingStandards.html" TargetMode="External"/><Relationship Id="rId5" Type="http://schemas.openxmlformats.org/officeDocument/2006/relationships/hyperlink" Target="http://www.ambysoft.com/javaCodingStandards.html" TargetMode="External"/><Relationship Id="rId6" Type="http://schemas.openxmlformats.org/officeDocument/2006/relationships/hyperlink" Target="http://www.swtech.com/java/codestd/" TargetMode="External"/><Relationship Id="rId7" Type="http://schemas.openxmlformats.org/officeDocument/2006/relationships/hyperlink" Target="http://www.swtech.com/java/codestd/" TargetMode="External"/><Relationship Id="rId8" Type="http://schemas.openxmlformats.org/officeDocument/2006/relationships/hyperlink" Target="http://www.swtech.com/java/codestd/" TargetMode="External"/><Relationship Id="rId9" Type="http://schemas.openxmlformats.org/officeDocument/2006/relationships/hyperlink" Target="http://www.swtech.com/java/codestd/" TargetMode="External"/><Relationship Id="rId10" Type="http://schemas.openxmlformats.org/officeDocument/2006/relationships/hyperlink" Target="http://www.swtech.com/java/codestd/" TargetMode="External"/><Relationship Id="rId11" Type="http://schemas.openxmlformats.org/officeDocument/2006/relationships/hyperlink" Target="http://www.swtech.com/java/codestd/" TargetMode="External"/><Relationship Id="rId12" Type="http://schemas.openxmlformats.org/officeDocument/2006/relationships/hyperlink" Target="http://www.swtech.com/java/codestd/" TargetMode="External"/><Relationship Id="rId13" Type="http://schemas.openxmlformats.org/officeDocument/2006/relationships/hyperlink" Target="http://ccs.hst.nasa.gov/ccspages/policies/standards/coding_standards.html" TargetMode="External"/><Relationship Id="rId14" Type="http://schemas.openxmlformats.org/officeDocument/2006/relationships/hyperlink" Target="http://ccs.hst.nasa.gov/ccspages/policies/standards/coding_standards.html" TargetMode="External"/><Relationship Id="rId15" Type="http://schemas.openxmlformats.org/officeDocument/2006/relationships/hyperlink" Target="http://ccs.hst.nasa.gov/ccspages/policies/standards/coding_standards.html" TargetMode="External"/><Relationship Id="rId16" Type="http://schemas.openxmlformats.org/officeDocument/2006/relationships/hyperlink" Target="http://ccs.hst.nasa.gov/ccspages/policies/standards/coding_standards.html" TargetMode="External"/><Relationship Id="rId17" Type="http://schemas.openxmlformats.org/officeDocument/2006/relationships/hyperlink" Target="http://ccs.hst.nasa.gov/ccspages/policies/standards/coding_standards.html" TargetMode="External"/><Relationship Id="rId18" Type="http://schemas.openxmlformats.org/officeDocument/2006/relationships/hyperlink" Target="http://ccs.hst.nasa.gov/ccspages/policies/standards/coding_standards.html" TargetMode="External"/><Relationship Id="rId19" Type="http://schemas.openxmlformats.org/officeDocument/2006/relationships/hyperlink" Target="http://ccs.hst.nasa.gov/ccspages/policies/standards/coding_standards.html" TargetMode="External"/><Relationship Id="rId20" Type="http://schemas.openxmlformats.org/officeDocument/2006/relationships/hyperlink" Target="http://ccs.hst.nasa.gov/ccspages/policies/standards/coding_standards.html" TargetMode="External"/><Relationship Id="rId21" Type="http://schemas.openxmlformats.org/officeDocument/2006/relationships/hyperlink" Target="http://ccs.hst.nasa.gov/ccspages/policies/standards/coding_standards.html" TargetMode="External"/><Relationship Id="rId22" Type="http://schemas.openxmlformats.org/officeDocument/2006/relationships/hyperlink" Target="http://ccs.hst.nasa.gov/ccspages/policies/standards/coding_standards.html" TargetMode="External"/><Relationship Id="rId23" Type="http://schemas.openxmlformats.org/officeDocument/2006/relationships/hyperlink" Target="http://ccs.hst.nasa.gov/ccspages/policies/standards/coding_standards.html" TargetMode="External"/><Relationship Id="rId2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2057400"/>
            <a:ext cx="66294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cture 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ols for Debugging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62532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Coding Sty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280" y="209988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full English descrip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mixed case to make names read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bbreviations sparingly and consist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long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leading/trailing under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the purpose of every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why something is done not just w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7840" y="0"/>
            <a:ext cx="8605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getVar() and setVar() functions on all class variabl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l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is being used solely as a data structure (OO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Functions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nd why member function does what it do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/ retur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function modifies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onditions /Post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urrency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r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Struct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as well as what the code do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cult or complex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ing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 needn’t be onerous - find a standard that works for your te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ize early - the effort to bring your old work into the standard will be too great otherwi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urage a culture where standards are follow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62532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Coding Stand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209988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2"/>
              </a:rPr>
              <a:t>ambysoft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3"/>
              </a:rPr>
              <a:t>.com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4"/>
              </a:rPr>
              <a:t>javaCodingStandards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5"/>
              </a:rPr>
              <a:t>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7"/>
              </a:rPr>
              <a:t>swtech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8"/>
              </a:rPr>
              <a:t>.com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9"/>
              </a:rPr>
              <a:t>java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10"/>
              </a:rPr>
              <a:t>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11"/>
              </a:rPr>
              <a:t>codestd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12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13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14"/>
              </a:rPr>
              <a:t>ccs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15"/>
              </a:rPr>
              <a:t>.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16"/>
              </a:rPr>
              <a:t>hst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17"/>
              </a:rPr>
              <a:t>.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18"/>
              </a:rPr>
              <a:t>nasa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19"/>
              </a:rPr>
              <a:t>.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20"/>
              </a:rPr>
              <a:t>gov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21"/>
              </a:rPr>
              <a:t>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22"/>
              </a:rPr>
              <a:t>ccspages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Courier New"/>
                <a:hlinkClick r:id="rId23"/>
              </a:rPr>
              <a:t>/policies/standards/coding_standard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www.scriptics.com/doc/styleGuide.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Pound all of your odd-shaped programmers into a one size fits all h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think there may be a bug in Joe’s Code - Please F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 GreenEggsNHam(Not SamIAm, Green EggsNH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ach Green TryThem in SamI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EatThem(TryThem) =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nACarNotOnABus(EggsNH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 NotInACarNotOnABus(Green EggsNH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tThem(EggsNHam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OnAPlane(EggsNH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ach NotLikeThem SamIAm of EggsNHam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t EatThem(SamIAm)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nACarNotOnABus(SamI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oNotLikeThem(EggsNH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Joe’s Code Following a Sane Coding Standard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 DepthFirstSearch(graph G, vertex 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ach vertex w in 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Encountered(w) =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iveDFS(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 RecursiveDFS(vertex 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untered(v) =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sit(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ach neighbor w of v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t Encountered(w)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iveDFS(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Visit(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Coding Stand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 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uidelines for code style and documentatio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ream is that any developer familiar with the guidelines can work on any code that followed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s range from a simple series of statements to involved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as Typically Cove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ing Conven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tting Conven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y Even Licen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8200" y="609480"/>
            <a:ext cx="860580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Have Coding Stand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00240"/>
            <a:ext cx="8605800" cy="47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eater consistency between develop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asier to develop and maint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ves time and m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e Dir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cument every time you violate a stand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tandard is perfect for every application, but failure to comply with your standards requires a com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62532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bler’s Law of Stand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280" y="209988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ustry Standards &gt; organizational standards &gt; project standards &gt; no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re commonly accepted a standard the easier it is for team members to commun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nt standards when necessary, but don’t waste time creating something that you won’t be able to use l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anguages have recommended coding standards available.  It is well worth your effort to find and use industry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 for organizational standards whenever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0T03:33:27Z</dcterms:created>
  <dc:creator>Ken Hopkinson</dc:creator>
  <dc:description/>
  <dc:language>en-US</dc:language>
  <cp:lastModifiedBy> </cp:lastModifiedBy>
  <dcterms:modified xsi:type="dcterms:W3CDTF">2000-11-08T23:36:21Z</dcterms:modified>
  <cp:revision>16</cp:revision>
  <dc:subject/>
  <dc:title>Coding Standards</dc:title>
</cp:coreProperties>
</file>