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1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77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2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1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77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4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1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66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Web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7458120" cy="2286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688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204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S 501: Software Engineering</a:t>
            </a:r>
            <a:br>
              <a:rPr sz="3600"/>
            </a:b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Fall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8800" y="358128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cture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4581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2362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+ 3 + 5 + ... 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205740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ntrt (int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Calculate integer square roo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, term, s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= 1; sum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 = 0; sum &lt;= a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 = term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sum + ter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ite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2590920"/>
            <a:ext cx="6629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broadly used method of formal specif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driven systems (e.g., g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, etc.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ite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2743200"/>
            <a:ext cx="6019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apy control cons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informal descripti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 Transition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8720" y="391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3809880"/>
            <a:ext cx="9903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943600" y="3809880"/>
            <a:ext cx="99072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809880"/>
            <a:ext cx="99036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91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11720" y="39243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31000" y="3924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2800" y="3732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705720" y="3429000"/>
            <a:ext cx="1218960" cy="380880"/>
            <a:chOff x="6705720" y="3429000"/>
            <a:chExt cx="1218960" cy="380880"/>
          </a:xfrm>
        </p:grpSpPr>
        <p:sp>
          <p:nvSpPr>
            <p:cNvPr id="138" name=""/>
            <p:cNvSpPr/>
            <p:nvPr/>
          </p:nvSpPr>
          <p:spPr>
            <a:xfrm flipV="1">
              <a:off x="67057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0572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246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00200" y="3429000"/>
            <a:ext cx="1218960" cy="380880"/>
            <a:chOff x="1600200" y="3429000"/>
            <a:chExt cx="1218960" cy="380880"/>
          </a:xfrm>
        </p:grpSpPr>
        <p:sp>
          <p:nvSpPr>
            <p:cNvPr id="142" name=""/>
            <p:cNvSpPr/>
            <p:nvPr/>
          </p:nvSpPr>
          <p:spPr>
            <a:xfrm flipV="1">
              <a:off x="160020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1916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352680" y="3429000"/>
            <a:ext cx="1218960" cy="380880"/>
            <a:chOff x="3352680" y="3429000"/>
            <a:chExt cx="1218960" cy="380880"/>
          </a:xfrm>
        </p:grpSpPr>
        <p:sp>
          <p:nvSpPr>
            <p:cNvPr id="146" name=""/>
            <p:cNvSpPr/>
            <p:nvPr/>
          </p:nvSpPr>
          <p:spPr>
            <a:xfrm flipV="1">
              <a:off x="33526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5268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164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105520" y="3429000"/>
            <a:ext cx="1218960" cy="380880"/>
            <a:chOff x="5105520" y="3429000"/>
            <a:chExt cx="1218960" cy="380880"/>
          </a:xfrm>
        </p:grpSpPr>
        <p:sp>
          <p:nvSpPr>
            <p:cNvPr id="150" name=""/>
            <p:cNvSpPr/>
            <p:nvPr/>
          </p:nvSpPr>
          <p:spPr>
            <a:xfrm flipV="1">
              <a:off x="510552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5520" y="34290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24480" y="3429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732720" y="4513320"/>
            <a:ext cx="1218960" cy="380880"/>
            <a:chOff x="6732720" y="4513320"/>
            <a:chExt cx="1218960" cy="380880"/>
          </a:xfrm>
        </p:grpSpPr>
        <p:sp>
          <p:nvSpPr>
            <p:cNvPr id="154" name=""/>
            <p:cNvSpPr/>
            <p:nvPr/>
          </p:nvSpPr>
          <p:spPr>
            <a:xfrm>
              <a:off x="7951680" y="4513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732720" y="4894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732720" y="4513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144792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58672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30600" y="450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62160" y="4505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02920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88280" y="4495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18440" y="450864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5486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1004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80060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491160" y="2438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2438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42240" y="295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56280" y="4818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7280" y="58388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85040" y="5429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nter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07120" y="2971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o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te Transition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2286000"/>
            <a:ext cx="8001000" cy="4343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22860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22860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22860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52480" y="228600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22860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2860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0120" y="228600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733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51814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0481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4956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9436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160" y="2274840"/>
            <a:ext cx="990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74640" y="2273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44840" y="227484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46680" y="2401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86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29400" y="2438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9880" y="2392200"/>
            <a:ext cx="17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3124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886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032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58672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74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7732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9880" y="5486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76920" y="5486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486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6172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9880" y="6172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572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50960" y="3873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50960" y="4584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50960" y="5295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386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96080" y="6019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572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51814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6019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20574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2209680"/>
            <a:ext cx="784836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: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 | beam_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: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_pati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_fie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M == (ST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)        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_change, transitions, contro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95680" y="3860640"/>
            <a:ext cx="381240" cy="76320"/>
            <a:chOff x="4495680" y="3860640"/>
            <a:chExt cx="381240" cy="76320"/>
          </a:xfrm>
        </p:grpSpPr>
        <p:sp>
          <p:nvSpPr>
            <p:cNvPr id="244" name=""/>
            <p:cNvSpPr/>
            <p:nvPr/>
          </p:nvSpPr>
          <p:spPr>
            <a:xfrm>
              <a:off x="4495680" y="38862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8320" y="38606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" y="44956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5181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41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inued on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Z Specification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133720"/>
            <a:ext cx="8763120" cy="43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_change    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_change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ansitio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, select_pat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_pat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_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_pati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ti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lect_fie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am_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am_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am_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tu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19810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133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111480" y="2311560"/>
            <a:ext cx="152280" cy="152280"/>
            <a:chOff x="3111480" y="2311560"/>
            <a:chExt cx="152280" cy="152280"/>
          </a:xfrm>
        </p:grpSpPr>
        <p:sp>
          <p:nvSpPr>
            <p:cNvPr id="254" name=""/>
            <p:cNvSpPr/>
            <p:nvPr/>
          </p:nvSpPr>
          <p:spPr>
            <a:xfrm>
              <a:off x="3111480" y="2311560"/>
              <a:ext cx="15228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87800" y="2311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11480" y="2387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419720" y="3429000"/>
            <a:ext cx="217440" cy="76320"/>
            <a:chOff x="4419720" y="3429000"/>
            <a:chExt cx="217440" cy="76320"/>
          </a:xfrm>
        </p:grpSpPr>
        <p:sp>
          <p:nvSpPr>
            <p:cNvPr id="258" name=""/>
            <p:cNvSpPr/>
            <p:nvPr/>
          </p:nvSpPr>
          <p:spPr>
            <a:xfrm flipV="1">
              <a:off x="4419720" y="347472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657600" y="3962520"/>
            <a:ext cx="217440" cy="75960"/>
            <a:chOff x="3657600" y="3962520"/>
            <a:chExt cx="217440" cy="75960"/>
          </a:xfrm>
        </p:grpSpPr>
        <p:sp>
          <p:nvSpPr>
            <p:cNvPr id="261" name=""/>
            <p:cNvSpPr/>
            <p:nvPr/>
          </p:nvSpPr>
          <p:spPr>
            <a:xfrm flipV="1">
              <a:off x="3657600" y="4008240"/>
              <a:ext cx="217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57600" y="39625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3733920" y="5334120"/>
            <a:ext cx="217440" cy="75960"/>
            <a:chOff x="3733920" y="5334120"/>
            <a:chExt cx="217440" cy="75960"/>
          </a:xfrm>
        </p:grpSpPr>
        <p:sp>
          <p:nvSpPr>
            <p:cNvPr id="264" name=""/>
            <p:cNvSpPr/>
            <p:nvPr/>
          </p:nvSpPr>
          <p:spPr>
            <a:xfrm flipV="1">
              <a:off x="3733920" y="5379840"/>
              <a:ext cx="217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3392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858000" y="3962520"/>
            <a:ext cx="217440" cy="75960"/>
            <a:chOff x="6858000" y="3962520"/>
            <a:chExt cx="217440" cy="75960"/>
          </a:xfrm>
        </p:grpSpPr>
        <p:sp>
          <p:nvSpPr>
            <p:cNvPr id="267" name=""/>
            <p:cNvSpPr/>
            <p:nvPr/>
          </p:nvSpPr>
          <p:spPr>
            <a:xfrm flipV="1">
              <a:off x="6858000" y="4008240"/>
              <a:ext cx="217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858000" y="39625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848720" y="5334120"/>
            <a:ext cx="217440" cy="75960"/>
            <a:chOff x="7848720" y="5334120"/>
            <a:chExt cx="217440" cy="75960"/>
          </a:xfrm>
        </p:grpSpPr>
        <p:sp>
          <p:nvSpPr>
            <p:cNvPr id="270" name=""/>
            <p:cNvSpPr/>
            <p:nvPr/>
          </p:nvSpPr>
          <p:spPr>
            <a:xfrm flipV="1">
              <a:off x="7848720" y="5379840"/>
              <a:ext cx="217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48720" y="53341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48120" y="4800600"/>
            <a:ext cx="217440" cy="76320"/>
            <a:chOff x="3048120" y="4800600"/>
            <a:chExt cx="217440" cy="76320"/>
          </a:xfrm>
        </p:grpSpPr>
        <p:sp>
          <p:nvSpPr>
            <p:cNvPr id="273" name=""/>
            <p:cNvSpPr/>
            <p:nvPr/>
          </p:nvSpPr>
          <p:spPr>
            <a:xfrm flipV="1">
              <a:off x="3048120" y="484632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48120" y="4800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620120" y="4495680"/>
            <a:ext cx="217440" cy="76320"/>
            <a:chOff x="7620120" y="4495680"/>
            <a:chExt cx="217440" cy="76320"/>
          </a:xfrm>
        </p:grpSpPr>
        <p:sp>
          <p:nvSpPr>
            <p:cNvPr id="276" name=""/>
            <p:cNvSpPr/>
            <p:nvPr/>
          </p:nvSpPr>
          <p:spPr>
            <a:xfrm flipV="1">
              <a:off x="7620120" y="454140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2012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657600" y="4495680"/>
            <a:ext cx="217440" cy="76320"/>
            <a:chOff x="3657600" y="4495680"/>
            <a:chExt cx="217440" cy="76320"/>
          </a:xfrm>
        </p:grpSpPr>
        <p:sp>
          <p:nvSpPr>
            <p:cNvPr id="279" name=""/>
            <p:cNvSpPr/>
            <p:nvPr/>
          </p:nvSpPr>
          <p:spPr>
            <a:xfrm flipV="1">
              <a:off x="3657600" y="454140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57600" y="4495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352680" y="5638680"/>
            <a:ext cx="217440" cy="76320"/>
            <a:chOff x="3352680" y="5638680"/>
            <a:chExt cx="217440" cy="76320"/>
          </a:xfrm>
        </p:grpSpPr>
        <p:sp>
          <p:nvSpPr>
            <p:cNvPr id="282" name=""/>
            <p:cNvSpPr/>
            <p:nvPr/>
          </p:nvSpPr>
          <p:spPr>
            <a:xfrm flipV="1">
              <a:off x="3352680" y="568440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352680" y="5638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238880" y="5715000"/>
            <a:ext cx="217440" cy="76320"/>
            <a:chOff x="7238880" y="5715000"/>
            <a:chExt cx="217440" cy="76320"/>
          </a:xfrm>
        </p:grpSpPr>
        <p:sp>
          <p:nvSpPr>
            <p:cNvPr id="285" name=""/>
            <p:cNvSpPr/>
            <p:nvPr/>
          </p:nvSpPr>
          <p:spPr>
            <a:xfrm flipV="1">
              <a:off x="7238880" y="576072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388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71800" y="6248520"/>
            <a:ext cx="217440" cy="75960"/>
            <a:chOff x="2971800" y="6248520"/>
            <a:chExt cx="217440" cy="75960"/>
          </a:xfrm>
        </p:grpSpPr>
        <p:sp>
          <p:nvSpPr>
            <p:cNvPr id="288" name=""/>
            <p:cNvSpPr/>
            <p:nvPr/>
          </p:nvSpPr>
          <p:spPr>
            <a:xfrm flipV="1">
              <a:off x="2971800" y="6294240"/>
              <a:ext cx="217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71800" y="62485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934320" y="6248520"/>
            <a:ext cx="217440" cy="75960"/>
            <a:chOff x="6934320" y="6248520"/>
            <a:chExt cx="217440" cy="75960"/>
          </a:xfrm>
        </p:grpSpPr>
        <p:sp>
          <p:nvSpPr>
            <p:cNvPr id="291" name=""/>
            <p:cNvSpPr/>
            <p:nvPr/>
          </p:nvSpPr>
          <p:spPr>
            <a:xfrm flipV="1">
              <a:off x="6934320" y="6294240"/>
              <a:ext cx="2174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4320" y="62485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248520" y="2895480"/>
            <a:ext cx="217440" cy="76320"/>
            <a:chOff x="6248520" y="2895480"/>
            <a:chExt cx="217440" cy="76320"/>
          </a:xfrm>
        </p:grpSpPr>
        <p:sp>
          <p:nvSpPr>
            <p:cNvPr id="294" name=""/>
            <p:cNvSpPr/>
            <p:nvPr/>
          </p:nvSpPr>
          <p:spPr>
            <a:xfrm flipV="1">
              <a:off x="6248520" y="2941200"/>
              <a:ext cx="2174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485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2590920"/>
            <a:ext cx="685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ch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unit of formal specif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admissible states and operations of a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Sys:  An Example of 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209680"/>
            <a:ext cx="76197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brary syste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of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ed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opy of a book has a unique ident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books on loan; other books on shelves available for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number of books that any user may have on lo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1337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20968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omadic lap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of student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on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about the first 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Sys: 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2286000"/>
            <a:ext cx="75438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 a copy of a book to a r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er return a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copy to the st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a copy from the st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e which books are on loan to a r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e which readers has a particular copy of a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a new rea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 a reader's regist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S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438280"/>
            <a:ext cx="6629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vel of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given s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sta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as Describing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251460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ming conventions for obj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lain variables, 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with appended dash, 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ith appended ?, 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utpu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ith appended !, e.g.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: Issue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2057400"/>
            <a:ext cx="84582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s: copy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reader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must be shelved initially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he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er must be registered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er must have less than maximum number of books on loa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 &lt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must be recorded as issued to the rea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ck and the set of registered readers are unchang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327560" y="5257800"/>
            <a:ext cx="380880" cy="76320"/>
            <a:chOff x="4327560" y="5257800"/>
            <a:chExt cx="380880" cy="76320"/>
          </a:xfrm>
        </p:grpSpPr>
        <p:sp>
          <p:nvSpPr>
            <p:cNvPr id="311" name=""/>
            <p:cNvSpPr/>
            <p:nvPr/>
          </p:nvSpPr>
          <p:spPr>
            <a:xfrm>
              <a:off x="4327560" y="5283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9840" y="5257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main and 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2438280"/>
            <a:ext cx="32004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2286000"/>
            <a:ext cx="2514600" cy="1523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5120" y="2743200"/>
            <a:ext cx="1600200" cy="99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2514600"/>
            <a:ext cx="1143000" cy="990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819520" y="3276720"/>
            <a:ext cx="3429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62920" y="28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3276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2590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4343400"/>
            <a:ext cx="4952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: X       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m = {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       y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m  = {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 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       y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10440" y="5157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91360" y="570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: Issue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2362320"/>
            <a:ext cx="7315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133720"/>
            <a:ext cx="525780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      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      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e next slid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213372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53341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2133720"/>
            <a:ext cx="144792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4425840" y="2919240"/>
            <a:ext cx="381240" cy="76320"/>
            <a:chOff x="4425840" y="2919240"/>
            <a:chExt cx="381240" cy="76320"/>
          </a:xfrm>
        </p:grpSpPr>
        <p:sp>
          <p:nvSpPr>
            <p:cNvPr id="336" name=""/>
            <p:cNvSpPr/>
            <p:nvPr/>
          </p:nvSpPr>
          <p:spPr>
            <a:xfrm>
              <a:off x="4425840" y="2944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78480" y="29192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684680" y="3378240"/>
            <a:ext cx="380880" cy="76320"/>
            <a:chOff x="4684680" y="3378240"/>
            <a:chExt cx="380880" cy="76320"/>
          </a:xfrm>
        </p:grpSpPr>
        <p:sp>
          <p:nvSpPr>
            <p:cNvPr id="339" name=""/>
            <p:cNvSpPr/>
            <p:nvPr/>
          </p:nvSpPr>
          <p:spPr>
            <a:xfrm>
              <a:off x="4684680" y="3403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36960" y="33782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peration: Issue a Book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2286000"/>
            <a:ext cx="73152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76520" y="2590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e previous slid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205740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32004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54880" y="2281320"/>
            <a:ext cx="144792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327672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Ø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r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#(issued 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 = issu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191120" y="6070680"/>
            <a:ext cx="380880" cy="75960"/>
            <a:chOff x="4191120" y="6070680"/>
            <a:chExt cx="380880" cy="75960"/>
          </a:xfrm>
        </p:grpSpPr>
        <p:sp>
          <p:nvSpPr>
            <p:cNvPr id="349" name=""/>
            <p:cNvSpPr/>
            <p:nvPr/>
          </p:nvSpPr>
          <p:spPr>
            <a:xfrm>
              <a:off x="4191120" y="6095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43400" y="6070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027760" y="4761000"/>
            <a:ext cx="609480" cy="459720"/>
            <a:chOff x="5027760" y="4761000"/>
            <a:chExt cx="609480" cy="459720"/>
          </a:xfrm>
        </p:grpSpPr>
        <p:sp>
          <p:nvSpPr>
            <p:cNvPr id="352" name=""/>
            <p:cNvSpPr/>
            <p:nvPr/>
          </p:nvSpPr>
          <p:spPr>
            <a:xfrm>
              <a:off x="5027760" y="4761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29280" y="5108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127480" y="5106960"/>
            <a:ext cx="609480" cy="459720"/>
            <a:chOff x="5127480" y="5106960"/>
            <a:chExt cx="609480" cy="459720"/>
          </a:xfrm>
        </p:grpSpPr>
        <p:sp>
          <p:nvSpPr>
            <p:cNvPr id="355" name=""/>
            <p:cNvSpPr/>
            <p:nvPr/>
          </p:nvSpPr>
          <p:spPr>
            <a:xfrm>
              <a:off x="5127480" y="5106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9000" y="5454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bSys: Schema for Abstract 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71600" y="2133720"/>
            <a:ext cx="62485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1930320"/>
            <a:ext cx="1143000" cy="4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391520" y="2057400"/>
            <a:ext cx="6094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8800" y="1905120"/>
            <a:ext cx="60199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505320" y="2743200"/>
            <a:ext cx="380880" cy="76320"/>
            <a:chOff x="3505320" y="2743200"/>
            <a:chExt cx="380880" cy="76320"/>
          </a:xfrm>
        </p:grpSpPr>
        <p:sp>
          <p:nvSpPr>
            <p:cNvPr id="363" name=""/>
            <p:cNvSpPr/>
            <p:nvPr/>
          </p:nvSpPr>
          <p:spPr>
            <a:xfrm>
              <a:off x="3505320" y="2768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760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733920" y="3060720"/>
            <a:ext cx="380880" cy="76320"/>
            <a:chOff x="3733920" y="3060720"/>
            <a:chExt cx="380880" cy="76320"/>
          </a:xfrm>
        </p:grpSpPr>
        <p:sp>
          <p:nvSpPr>
            <p:cNvPr id="366" name=""/>
            <p:cNvSpPr/>
            <p:nvPr/>
          </p:nvSpPr>
          <p:spPr>
            <a:xfrm>
              <a:off x="3733920" y="30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86200" y="3060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371600" y="426708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796000" y="5452920"/>
            <a:ext cx="609480" cy="459720"/>
            <a:chOff x="5796000" y="5452920"/>
            <a:chExt cx="609480" cy="459720"/>
          </a:xfrm>
        </p:grpSpPr>
        <p:sp>
          <p:nvSpPr>
            <p:cNvPr id="370" name=""/>
            <p:cNvSpPr/>
            <p:nvPr/>
          </p:nvSpPr>
          <p:spPr>
            <a:xfrm>
              <a:off x="5796000" y="5452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7520" y="5800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a I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2286000"/>
            <a:ext cx="65534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39800" y="20430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2514600"/>
            <a:ext cx="3809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      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313080" y="2751120"/>
            <a:ext cx="380880" cy="76320"/>
            <a:chOff x="3313080" y="2751120"/>
            <a:chExt cx="380880" cy="76320"/>
          </a:xfrm>
        </p:grpSpPr>
        <p:sp>
          <p:nvSpPr>
            <p:cNvPr id="377" name=""/>
            <p:cNvSpPr/>
            <p:nvPr/>
          </p:nvSpPr>
          <p:spPr>
            <a:xfrm>
              <a:off x="3313080" y="2776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65360" y="27511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7467480" y="2133720"/>
            <a:ext cx="6858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95280" y="4267080"/>
            <a:ext cx="65534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60400" y="401796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419720"/>
            <a:ext cx="594360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     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53341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4038480"/>
            <a:ext cx="6858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584680" y="5378400"/>
            <a:ext cx="609480" cy="459720"/>
            <a:chOff x="5584680" y="5378400"/>
            <a:chExt cx="609480" cy="459720"/>
          </a:xfrm>
        </p:grpSpPr>
        <p:sp>
          <p:nvSpPr>
            <p:cNvPr id="386" name=""/>
            <p:cNvSpPr/>
            <p:nvPr/>
          </p:nvSpPr>
          <p:spPr>
            <a:xfrm>
              <a:off x="5584680" y="5378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86200" y="57261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454560" y="4648320"/>
            <a:ext cx="380880" cy="75960"/>
            <a:chOff x="3454560" y="4648320"/>
            <a:chExt cx="380880" cy="75960"/>
          </a:xfrm>
        </p:grpSpPr>
        <p:sp>
          <p:nvSpPr>
            <p:cNvPr id="389" name=""/>
            <p:cNvSpPr/>
            <p:nvPr/>
          </p:nvSpPr>
          <p:spPr>
            <a:xfrm>
              <a:off x="3454560" y="4673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06840" y="4648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a Inclusion (continu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2362320"/>
            <a:ext cx="6934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892160" y="211284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2743200"/>
            <a:ext cx="487692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657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86600" y="2209680"/>
            <a:ext cx="175248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0574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514600"/>
            <a:ext cx="685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standard to define and validat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y no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time consu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not suitable for al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a Dec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6680" y="2286000"/>
            <a:ext cx="7315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05120" y="205740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39625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67480" y="2133720"/>
            <a:ext cx="144792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70080" y="2570040"/>
            <a:ext cx="761976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rary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: Copy; r? :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 = issu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114800" y="5029200"/>
            <a:ext cx="380880" cy="76320"/>
            <a:chOff x="4114800" y="5029200"/>
            <a:chExt cx="380880" cy="76320"/>
          </a:xfrm>
        </p:grpSpPr>
        <p:sp>
          <p:nvSpPr>
            <p:cNvPr id="404" name=""/>
            <p:cNvSpPr/>
            <p:nvPr/>
          </p:nvSpPr>
          <p:spPr>
            <a:xfrm>
              <a:off x="4114800" y="5054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67080" y="5029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ema Dec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6680" y="2286000"/>
            <a:ext cx="73152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5120" y="205740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358128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467480" y="2133720"/>
            <a:ext cx="144792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70080" y="2570040"/>
            <a:ext cx="76197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: Copy; r? : R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l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MT Extra"/>
                <a:ea typeface="MT Extra"/>
              </a:rPr>
              <a:t>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)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x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sued' = issu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114800" y="4648320"/>
            <a:ext cx="380880" cy="75960"/>
            <a:chOff x="4114800" y="4648320"/>
            <a:chExt cx="380880" cy="75960"/>
          </a:xfrm>
        </p:grpSpPr>
        <p:sp>
          <p:nvSpPr>
            <p:cNvPr id="413" name=""/>
            <p:cNvSpPr/>
            <p:nvPr/>
          </p:nvSpPr>
          <p:spPr>
            <a:xfrm>
              <a:off x="4114800" y="4673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67080" y="4648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chema Calcul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133720"/>
            <a:ext cx="8001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ma i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ma dec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ma disj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Copy       AddKnownTit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New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ma conj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terNewCo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ddCopyAd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ma n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chema 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133720" y="4876920"/>
            <a:ext cx="457200" cy="537480"/>
            <a:chOff x="2133720" y="4876920"/>
            <a:chExt cx="457200" cy="537480"/>
          </a:xfrm>
        </p:grpSpPr>
        <p:sp>
          <p:nvSpPr>
            <p:cNvPr id="418" name=""/>
            <p:cNvSpPr/>
            <p:nvPr/>
          </p:nvSpPr>
          <p:spPr>
            <a:xfrm>
              <a:off x="2133720" y="4954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3660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181240" y="3743280"/>
            <a:ext cx="457200" cy="537480"/>
            <a:chOff x="2181240" y="3743280"/>
            <a:chExt cx="457200" cy="537480"/>
          </a:xfrm>
        </p:grpSpPr>
        <p:sp>
          <p:nvSpPr>
            <p:cNvPr id="421" name=""/>
            <p:cNvSpPr/>
            <p:nvPr/>
          </p:nvSpPr>
          <p:spPr>
            <a:xfrm>
              <a:off x="2181240" y="38210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84120" y="3743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al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2209680"/>
            <a:ext cx="59436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 Potter, Jane Sinclair, David Ti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Introduction to Formal Specification and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rentice Hall) 19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athan Ja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ay of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ambridge University Press)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thematical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815364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ample of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...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quence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a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...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erical accuracy must be such that, for all k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fication of Programm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57400"/>
            <a:ext cx="85345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unsigned number&gt; ::=  &lt;unsigned integer&gt; | &lt;unsigned re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unsigned integer&gt; ::=  &lt;digit&gt; {&lt;digit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unsigned real&gt; ::= &lt;unsigned integer&gt; . &lt;digit&gt; {&lt;digit&gt;}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unsigned integer&gt; . &lt;digit&gt; {&lt;digit&gt;} E &lt;scale factor&gt;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unsigned integer&gt; E &lt;scale 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cale factor&gt; ::= &lt;unsigned integer&gt; | &lt;sign&gt; &lt;unsigned integ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gn&gt; ::= + |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scal number syn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mal Specification Using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429000" y="2514600"/>
            <a:ext cx="1523520" cy="533160"/>
            <a:chOff x="3429000" y="2514600"/>
            <a:chExt cx="1523520" cy="533160"/>
          </a:xfrm>
        </p:grpSpPr>
        <p:sp>
          <p:nvSpPr>
            <p:cNvPr id="59" name=""/>
            <p:cNvSpPr/>
            <p:nvPr/>
          </p:nvSpPr>
          <p:spPr>
            <a:xfrm>
              <a:off x="3429000" y="2514600"/>
              <a:ext cx="1218960" cy="5331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57240" y="2514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g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1371600" y="27702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78200" y="2773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124080" y="32767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17960" y="2774520"/>
            <a:ext cx="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084640" y="27748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133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598920" y="4784760"/>
            <a:ext cx="1523520" cy="533160"/>
            <a:chOff x="3598920" y="4784760"/>
            <a:chExt cx="1523520" cy="533160"/>
          </a:xfrm>
        </p:grpSpPr>
        <p:sp>
          <p:nvSpPr>
            <p:cNvPr id="68" name=""/>
            <p:cNvSpPr/>
            <p:nvPr/>
          </p:nvSpPr>
          <p:spPr>
            <a:xfrm>
              <a:off x="3598920" y="4784760"/>
              <a:ext cx="1218960" cy="53316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27160" y="478476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g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 flipV="1">
            <a:off x="3475080" y="5533560"/>
            <a:ext cx="1378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73280" y="5010120"/>
            <a:ext cx="0" cy="52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69000" y="502128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971800" y="4724280"/>
            <a:ext cx="533160" cy="533520"/>
            <a:chOff x="2971800" y="4724280"/>
            <a:chExt cx="533160" cy="533520"/>
          </a:xfrm>
        </p:grpSpPr>
        <p:sp>
          <p:nvSpPr>
            <p:cNvPr id="74" name=""/>
            <p:cNvSpPr/>
            <p:nvPr/>
          </p:nvSpPr>
          <p:spPr>
            <a:xfrm>
              <a:off x="2971800" y="480060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776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145120" y="4800600"/>
            <a:ext cx="457200" cy="465120"/>
            <a:chOff x="5145120" y="4800600"/>
            <a:chExt cx="457200" cy="465120"/>
          </a:xfrm>
        </p:grpSpPr>
        <p:sp>
          <p:nvSpPr>
            <p:cNvPr id="77" name=""/>
            <p:cNvSpPr/>
            <p:nvPr/>
          </p:nvSpPr>
          <p:spPr>
            <a:xfrm>
              <a:off x="5145120" y="48085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91200" y="4800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751360" y="4203720"/>
            <a:ext cx="457200" cy="469080"/>
            <a:chOff x="5751360" y="4203720"/>
            <a:chExt cx="457200" cy="469080"/>
          </a:xfrm>
        </p:grpSpPr>
        <p:sp>
          <p:nvSpPr>
            <p:cNvPr id="80" name=""/>
            <p:cNvSpPr/>
            <p:nvPr/>
          </p:nvSpPr>
          <p:spPr>
            <a:xfrm>
              <a:off x="5751360" y="4203720"/>
              <a:ext cx="45720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94200" y="421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40560" y="5410080"/>
            <a:ext cx="494640" cy="495000"/>
            <a:chOff x="5740560" y="5410080"/>
            <a:chExt cx="494640" cy="495000"/>
          </a:xfrm>
        </p:grpSpPr>
        <p:sp>
          <p:nvSpPr>
            <p:cNvPr id="83" name=""/>
            <p:cNvSpPr/>
            <p:nvPr/>
          </p:nvSpPr>
          <p:spPr>
            <a:xfrm>
              <a:off x="5740560" y="5447880"/>
              <a:ext cx="4568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54680" y="5410080"/>
              <a:ext cx="3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465960" y="476244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2040" y="4776840"/>
            <a:ext cx="228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631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5029200"/>
            <a:ext cx="30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29000" y="5016240"/>
            <a:ext cx="2080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5029200"/>
            <a:ext cx="38088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790720" y="4524480"/>
            <a:ext cx="21607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784600" y="45259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52880" y="4533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028840" y="5029200"/>
            <a:ext cx="4680" cy="125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638680" y="4419360"/>
            <a:ext cx="504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6324480" y="4419360"/>
            <a:ext cx="5040" cy="12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8942040" y="5008320"/>
            <a:ext cx="4680" cy="12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033520" y="6283440"/>
            <a:ext cx="38941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2560" y="4416480"/>
            <a:ext cx="158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638680" y="5665320"/>
            <a:ext cx="1508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34120" y="4432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48520" y="56386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signed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wo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819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 does not guarantee correc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specification does not prescribe the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1981080"/>
            <a:ext cx="80773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rm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t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turns the largest integer  whose square is less than or equal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al (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t: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: 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N 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t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rt(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ntrt(a)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ntrt(a)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191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4724280"/>
            <a:ext cx="304200" cy="314280"/>
            <a:chOff x="762120" y="4724280"/>
            <a:chExt cx="304200" cy="314280"/>
          </a:xfrm>
        </p:grpSpPr>
        <p:sp>
          <p:nvSpPr>
            <p:cNvPr id="111" name=""/>
            <p:cNvSpPr/>
            <p:nvPr/>
          </p:nvSpPr>
          <p:spPr>
            <a:xfrm>
              <a:off x="762120" y="472428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914040" y="473364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487656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33520" y="4038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4956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56272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Z Specification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2T18:43:44Z</dcterms:created>
  <dc:creator>payette</dc:creator>
  <dc:description/>
  <dc:language>en-US</dc:language>
  <cp:lastModifiedBy> </cp:lastModifiedBy>
  <cp:lastPrinted>1999-09-14T17:00:20Z</cp:lastPrinted>
  <dcterms:modified xsi:type="dcterms:W3CDTF">2000-09-26T17:42:10Z</dcterms:modified>
  <cp:revision>248</cp:revision>
  <dc:subject/>
  <dc:title>Digital Library Architecture- Key Principles </dc:title>
</cp:coreProperties>
</file>