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28600" y="6095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E6F1-F9F5-4759-8B30-167A75CEC8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286000" y="3581280"/>
            <a:ext cx="39625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oftwar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3200" y="39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gramming and Unit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2666880"/>
            <a:ext cx="716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oftware design is realized as a set of programs or program units.  (Written specifically, acquired from elsewhere, or modifi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components are tested against spec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gration and System T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743200"/>
            <a:ext cx="6248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ividual program unit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and tested as a comple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d against the requirements as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ivered to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024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 and Mainte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09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0968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er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ystem is put into practical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intenan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Errors and problems are identified and fi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ystem evolves over time as requirements change, to add new functions or adapt the technical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o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system is withdrawn from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4640" y="325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of 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2209680"/>
            <a:ext cx="548640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e o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tage in the process reveals new understanding of the previous stages, that requires the earlier stages to be revi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edback in 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Evolutionary Develop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209680"/>
            <a:ext cx="7772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cep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itial implementation for user comment, followed by refinement until system is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porware:  user interface mo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w-away softwa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mmy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id prototy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ive 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209680"/>
            <a:ext cx="0" cy="4419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191120"/>
            <a:ext cx="5257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486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oto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209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9720" y="38098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3809880"/>
            <a:ext cx="0" cy="762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520" y="4572000"/>
            <a:ext cx="1295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09880" y="3352320"/>
            <a:ext cx="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97280" y="3390840"/>
            <a:ext cx="1676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479920" y="3402000"/>
            <a:ext cx="6480" cy="154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28640" y="495288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429000" y="2967120"/>
            <a:ext cx="0" cy="1985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971800"/>
            <a:ext cx="2438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971800"/>
            <a:ext cx="0" cy="23623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047760" y="5334120"/>
            <a:ext cx="281916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00560" y="4052880"/>
            <a:ext cx="228600" cy="22860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419720" y="3809520"/>
            <a:ext cx="0" cy="3049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553080" y="4419720"/>
            <a:ext cx="19814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43434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3440" y="431964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133720"/>
            <a:ext cx="259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465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605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297180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267080"/>
            <a:ext cx="19810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6720" y="30639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30880" y="43387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5320" y="563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4724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72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&amp; Softwar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20040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124080"/>
            <a:ext cx="29718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2133720"/>
            <a:ext cx="259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27672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434340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410080"/>
            <a:ext cx="26668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465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560556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5562720"/>
            <a:ext cx="19810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5320" y="563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86080" y="3605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97280" y="515772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94200" y="515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6019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2133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is iterative refinement appropri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36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590920"/>
            <a:ext cx="8610480" cy="19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 URL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s.cornell.edu/Courses/cs501/2000f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planning -- any 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+ Waterfall Model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for Ba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0720" y="2666880"/>
            <a:ext cx="6858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line Descrip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 vector graphics to Dartmouth Bas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xtend current language with a preprocessor and run-time support package.  (1976/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rite new compiler and run-time system incorporating graphics elements.  (1978/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36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+ Waterfall Model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for Ba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2514600"/>
            <a:ext cx="8458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gn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torial subprograms: coordinate systems, window/viewpor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specification of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ign Strategy: (Iterative Refin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a series of prototypes with various proposed seman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with a set of programming tas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erative Refinement + Waterfall Model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aphics for Ba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2514600"/>
            <a:ext cx="7467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1: Implementation (Waterf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nal specification was agreed, the entire preprocessor and run-time support were reco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was almost entirely bug-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hase 2: New compiler (Waterf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1 was used as the requirements definition for the final 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rvations about Software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25146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d projects should look like the 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ut ..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velopment process is always partly evolu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is lowered b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totyp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ey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ng in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use of reusabl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514600"/>
            <a:ext cx="74678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derick P. Brooks, Jr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ythical Man Month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son-Wesley, 1972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n Sommervil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6th edition.  Addison-Wesley,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y Booch, James Rumbach, Ivar Jacobs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Unified Modeling Langua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ison-Wesle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e the Readings page on the CS 501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304812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damental Assump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lead to goo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rocesses reduc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205740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can go wrong in a software proj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can the risk be redu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oftware Process (Simpl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7920" y="2590920"/>
            <a:ext cx="187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5410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5880" y="5334120"/>
            <a:ext cx="23623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114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362320"/>
            <a:ext cx="26668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876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388620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5410080"/>
            <a:ext cx="266724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09680"/>
            <a:ext cx="23623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133720"/>
            <a:ext cx="304812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 Analysis and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133720"/>
            <a:ext cx="80773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's services, constraints and goals are established by consultation with system users.  They are then defined in a manner that is understandable by both users and development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hase can be divided i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ility study (often carried out separat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024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nd Software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590920"/>
            <a:ext cx="72388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stem desig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artition the requirements to hardware or software systems.  Establishes an overall system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ware desig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the software system functions in a form that can be transformed into one or more executabl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arlett"/>
                <a:ea typeface="Marlett"/>
              </a:rPr>
              <a:t>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8-11-05T17:35:05Z</cp:lastPrinted>
  <dcterms:modified xsi:type="dcterms:W3CDTF">2000-08-31T12:05:44Z</dcterms:modified>
  <cp:revision>143</cp:revision>
  <dc:subject/>
  <dc:title>Digital Library Architecture- Key Principles </dc:title>
</cp:coreProperties>
</file>