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B73-6CE0-41E5-83FD-5D596669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F127-985C-414E-B9B8-9FD66B66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454-9375-4C57-9937-CEA6AAB4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C17-42B2-4568-A6FC-23D2DF1A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BCA-75BF-4B88-A48E-FA422203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EF4E-49E3-4DA3-960E-6A6BA601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C16-49EC-4EC2-9B2B-E2CEAD25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A87-1BE2-4BF6-BAF0-B18FFD62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215-0227-483B-B049-81B39B26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A60-B91A-4514-96BE-56287222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400-2EB9-491D-8290-64C826C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65B-7D37-4EB3-9675-EB7CBD08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8049-B83C-40C4-A0D5-D976C5F47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ying Out of Prison in the Information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ma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name or ph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ic terms cannot be tradema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marks can be lost if they are not def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t trademarks: aspirin, kleen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d Trademarks: Coke, Pe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 Secr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expire - as long as it is kept secr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ors may not use secrets obtained through extraordinary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Walled chemical plant layout learned through helicopter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blis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maging statements you cannot prove about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blisher and author are both 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nder is a less serious, but similar, crime where damaging statements that cannot be proven are made in a public 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ly Total Fitness Vs. Fa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“Bally Sucks” web site was created by Faber complaining about Bally fitness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ademarked Bally seal was placed on the site overlaid with the words “Suck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ly sued Faber making claims of trademark infringement, dilution, and unfair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ly Case Dec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rademark infringement - little possibility of co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ilution - the defendant did not sell a competing product and did not convey confusion about the author’s 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ilution (lessening ability of the plaintiff’s mark to identify its goods and services) since defendant was not marketing a competing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identally - no slander, negative opinions protected under the first amend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P Li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Internet Service Provider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e Company: Route information flows between individu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spaper: Package content for distribution in a public 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wer determines ISP’s legal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ules have been in a constant state of flux in recent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cient History (~Decade Ag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amatory posting on Prodigy (Stratton Oakmont Vs. Prodigy Services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igy a large IS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imed to be “family friendly”.  Prodigy advertised that internal newsgroups monitored for bad/inappropriat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 of a publisher - hence, Prodigy like a news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Serve did not monitor users activity - like a telephone company (Cubby Inc. Vs. CompuServe Inc. in 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rn E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cations Decency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 may monitor user activity (according to polic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tatement to the effect that ISP does not take responsibility for user traffic in place then no ISP liability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 for complaints must be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aint response must happen in a timely fash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M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illennium Copyright 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opyright infringement is claimed a web site must be taken down (however tenuous the claim may b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site can only be reinstated after an appeals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Future?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Computer Crime Treaty may be created by the end of this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’s may be required to monitor user traffic with a 40 day data-lo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’s not explicitly exempt from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ker/Security Tools Ille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izens must provide passwords for data seized by po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not a lawyer and do not have any formal legal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cture is made up of my observations of the legal system to make you aware of important issues concentrating on an information technology work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nal Rule: Be aware of the law, but always consult an attorney if/when you become involved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in the Workp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for employers/employees - “Do you have a reasonable expectation of privacy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se can be made that private e-mail on business machines still private, but this is not the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-related material on business machines is definitely not priv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in E-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ly, e-mail is like a postal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of privacy in trans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 loses its special protected status once it leaves the letter carrier's gra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-mai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of privacy while signal travels over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 loses its protected status at the mail ser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ther you have read it or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m and Address Spoo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hew Seidl v. Greentree Mortgage Co. (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entree hired third party to send mass e-mail to potential customers (sp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address spoofed to read nobody@localhost.com (an actual addr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7,000 complaints sent to nobody resulting in denial of service for 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el case dismissed since third party was a contractor.  Likely that third party would, in fact, be vulnerable to a laws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iness E-m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unications Privacy Act (1986) says all business communication belongs to that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ing e-mail can be ruled spoliation (intentionally destroying company recor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ve worthless if it cannot be indexed effectively (in effect, saving everything can be equivalent to saving not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Privacy at H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public information is considered priv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creasing amount of public information available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 phone look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paign Con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ing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warted) Driver’s license information and photo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llection has few boundaries in U.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 privacy policy (can change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 Safe Harbor agreement may change things in the future (TRUSTe web site privacy seal pro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ternet has no boundari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at really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break a law in Finland, but you were on the Internet in the United States, what happens to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f you are in California and you break a law in Minneso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ommerce Big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sell an illegal item to a resident of community 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you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stop the flow of illegal sales into 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asy example of where this might come up is found in the on-line pornography b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cene or Offens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cent speech and offensive speech protected under the 1st Amend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cene speech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what is obscene spee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ler Test for Obsce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Whether “the average person applying contemporary community standards”, would find that the work, taken as a whole, appeals primarily to prurient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Whether the work depicts or describes, in a patently offensive way, sexual conduct specifically defined by applicable state la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Whether the work, taken as a whole, lacks serious literary, artistic, political, or scientific va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w Cav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eople read the text of the law and think they know it.  Things are never so easy.  If you have questions ask a law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ignore the law relying on corporate lawyers in case something goes wrong.  This is not a good idea.  As in any other system, catching problems in the design phase is always better than in the debugging p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deral Court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4 US District Courts (89 in the 50 st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 Judicial Circuits, each with a court of appe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reme Court ultimate appellate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risdiction can be a determining factor in case outc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V. Thomas (199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And Mrs. Thomas ran a pornographic BBS in Califor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officer paid a membership fee and downloaded pornography in Tennes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ple tried in Federal cour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 Tenness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lost their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ational Juris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dition over civil suits unlik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Question #1: Do you have assets in the country in ques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g Question #2: Will you ever try to enter country 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frey Vs. Doleng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enga was a Cornell Biochemistry Master’s student from British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frey, a nuclear physicist from London, made anti-Canadian remarks in a news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lenga responded by flaming Godf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frey notified Cornell of the offensive remarks, but they were not removed (First Amend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dfrey filed defamation suits against Dolenga and Corne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Brit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one of at least seven such ca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lenga Did Not Defend Himself . .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lenga was found guilty by default in English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- Dolenga does not have assets in England and it is unlikely that American courts will enforce the British jud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ell Did Defend Its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nell has assets in England (the Cornell abroad pro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it was for roughly 80,000 pounds.  The University could have settled, but chose to take the case to co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it was brought to a successful conclusion (for Corne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ons to be taken away from this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w is constantly changing and never as simple as it se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should try to be familiar with the law to protect yourself (corporate lawyers are like a fire department, not like a seeing eye do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so, you DO need the help of someone with formal training when dealing with leg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lk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for Lawyers Vs. Life for Engin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ents, copyright, trademarks, trade secrets revi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 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risdiction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for Computer Professio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utions either work or not.  Little room for gray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and mathematical laws ultimate authority when disputes a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ing Philosophy - “Tell me what you need and I will create a system with appropriate trade-offs at least cost to solve your problem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 for Law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ort and intent often matter as much as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reme court ultimate authority when disputes a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ing Philosophy - “Laws are passed based on how society should run - even if enforcement and legal interpretation issues have yet to be nailed dow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orlds Collide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community always behind the technology cu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yers and politicians typically have poor technical backgr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result, analogies often made between new technological paradigms and old world systems - some more easily defended than ot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interpretations would result in different 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odiment of a specific method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ng products must use different method for achieving same task to avoid 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 lifespan beyond which patent information freely available for use by th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ally held when work is created, but easier to defend if it is regist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e lifetime beyond which the work is freely available to th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8:41:39Z</dcterms:created>
  <dc:creator>Ken Hopkinson</dc:creator>
  <dc:description/>
  <dc:language>en-US</dc:language>
  <cp:lastModifiedBy> </cp:lastModifiedBy>
  <dcterms:modified xsi:type="dcterms:W3CDTF">2000-11-21T17:05:14Z</dcterms:modified>
  <cp:revision>20</cp:revision>
  <dc:subject/>
  <dc:title>Legal Issues in Computing</dc:title>
</cp:coreProperties>
</file>