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6400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6323-2629-4D4B-84EE-4D2FBB2CB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8098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-Oriented Design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Unified Modeling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070000"/>
            <a:ext cx="77724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ML is a standard language for modeling softwar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s as a bridge between the requirements specification and the implem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means to specify and document the design of a softwar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ocess and programming language in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articularly suited to object-oriented program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2067120"/>
            <a:ext cx="1676160" cy="303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5120" y="2666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0080" y="3503520"/>
            <a:ext cx="16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057400"/>
            <a:ext cx="1752480" cy="22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728520" y="2360160"/>
            <a:ext cx="1909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733560" y="3048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8620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set of objects that share the same attributes, operations, relationships and seman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7000" y="3097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llection of operations that specify a service of a class or component, i.e., the externally visible behavior of that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2057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ollaboration &amp; Use C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4952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800600"/>
            <a:ext cx="21337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escription of a set of sequence of actions that a system performs that yields an observabl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405160"/>
            <a:ext cx="2057400" cy="838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3720" y="23526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n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2767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abor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an interaction, i.e., a society of roles and other elements that work together to provide some cooperative behavior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Active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2286000"/>
            <a:ext cx="2133720" cy="1937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pen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sh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2819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5200" y="3402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464832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e clas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class whose objects own one or more processes or threads and therefore can initiate control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1360" y="38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Component &amp; N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514600" y="2133720"/>
            <a:ext cx="2706480" cy="1218960"/>
            <a:chOff x="2514600" y="2133720"/>
            <a:chExt cx="2706480" cy="1218960"/>
          </a:xfrm>
        </p:grpSpPr>
        <p:sp>
          <p:nvSpPr>
            <p:cNvPr id="105" name=""/>
            <p:cNvSpPr/>
            <p:nvPr/>
          </p:nvSpPr>
          <p:spPr>
            <a:xfrm>
              <a:off x="2766960" y="2133720"/>
              <a:ext cx="2438280" cy="121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9280" y="2471760"/>
              <a:ext cx="4572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4600" y="2833560"/>
              <a:ext cx="457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11400" y="21574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form.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5238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hysical and replaceable part of a system that conforms to and provides the realization of a set of interf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648320"/>
            <a:ext cx="10666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7560" y="4653000"/>
            <a:ext cx="0" cy="245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1040" y="4838760"/>
            <a:ext cx="1066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257360" y="5638680"/>
            <a:ext cx="23796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257360" y="4651200"/>
            <a:ext cx="236520" cy="19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92480" y="4651200"/>
            <a:ext cx="23184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48040" y="4811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5867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hysical element that exists at run time and represents a computational re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49800" y="5637240"/>
            <a:ext cx="412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Behavioral Thing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ssages &amp;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5146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52680" y="2057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2819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behavior that comprises a set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ss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d among a set of objects within a particular context to accomplish a specific purpo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343400"/>
            <a:ext cx="16002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11320" y="4497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2578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 mach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behavior that specifies the sequence of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object or an interaction goes through during its lifetime in response to ev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Grouping and An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2004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eneral-purpose mechanism for organizing elements into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133720"/>
            <a:ext cx="5335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286000"/>
            <a:ext cx="1828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0976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4343400"/>
            <a:ext cx="19810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267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0960" y="4343400"/>
            <a:ext cx="2332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7720" y="43434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0960" y="4505400"/>
            <a:ext cx="23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43387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opy of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54100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ymbol for rendering constraints and comments attached to an element or a collection of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Relation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22096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pendenc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emantic relationship between two things in which a change to one may effect the semantics of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90720" y="4648320"/>
            <a:ext cx="3565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05040" y="4210200"/>
            <a:ext cx="3886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.1                                     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r                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ructural relationship that describes a set of links, a link being a connection among objec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: Relationships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724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5844960" y="4619520"/>
            <a:ext cx="1522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neraliz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pecialization/generalization relationship is which objects of the specialized element (child) are substitutable for objects of the generalized element (pare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133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49528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alizatio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semantic relationship between classifiers, wherein one classifier specifies a contract that another classifier guarantees to carry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38280" y="23623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5996880" y="2257200"/>
            <a:ext cx="15264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47920" y="5257800"/>
            <a:ext cx="22860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5720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209680"/>
            <a:ext cx="7543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for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 Recitation Section, Monday Octob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Not all members of team need be pres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Programming Contest for this year will be on October 14th, organized by the ACSU and David Kem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s.cornell.edu/kempe/contest/defaul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286000"/>
            <a:ext cx="7696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graphical representation of a set of elements, usually rendered as a connected graph of vertices (things) and arcs (relationship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lass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classes, interfaces, and collaborations with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jec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objects and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cas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et of use cases and actors (a special kind of class) and their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514600"/>
            <a:ext cx="73915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action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n interaction, consisting of a set of objects and the relationships, including the messages that may be dispatched among the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quence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hasizes the time ordering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 A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llaboration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hasizes the structural organization of the objects that send and receive mess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iagrams in UML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2438280"/>
            <a:ext cx="7467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atechar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a state machine  consisting of states, transitions, events, and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ctivity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tatechart diagram that shows the flow from activity to activity within a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ponen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the organization and dependencies among a set of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ployment diagr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s the configuration of processing nodes and the components that live on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HelloWorl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895480"/>
            <a:ext cx="1676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straction for Hello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1676160" cy="21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3505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3733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3886200"/>
            <a:ext cx="3429000" cy="914400"/>
            <a:chOff x="5181480" y="3886200"/>
            <a:chExt cx="3429000" cy="914400"/>
          </a:xfrm>
        </p:grpSpPr>
        <p:sp>
          <p:nvSpPr>
            <p:cNvPr id="171" name=""/>
            <p:cNvSpPr/>
            <p:nvPr/>
          </p:nvSpPr>
          <p:spPr>
            <a:xfrm>
              <a:off x="5181480" y="3962520"/>
              <a:ext cx="30067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9600" y="3886200"/>
              <a:ext cx="3049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53480" y="3962520"/>
              <a:ext cx="23328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50240" y="3962520"/>
              <a:ext cx="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53480" y="412416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57800" y="3957480"/>
              <a:ext cx="335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drawString ("HelloWorld", 0, 10)"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895480" y="42670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2286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962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32767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"Hello, World"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2895480"/>
            <a:ext cx="66294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java.awt.Graphic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lloWor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tends java.applet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pp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paint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drawString ("Hello, World!", 10, 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 from: BJ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2438280"/>
            <a:ext cx="2057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4114800"/>
            <a:ext cx="2057400" cy="1572120"/>
            <a:chOff x="1752480" y="4114800"/>
            <a:chExt cx="2057400" cy="1572120"/>
          </a:xfrm>
        </p:grpSpPr>
        <p:sp>
          <p:nvSpPr>
            <p:cNvPr id="188" name=""/>
            <p:cNvSpPr/>
            <p:nvPr/>
          </p:nvSpPr>
          <p:spPr>
            <a:xfrm>
              <a:off x="1752480" y="4114800"/>
              <a:ext cx="2057400" cy="157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lloWor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int(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52480" y="46479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2480" y="502884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V="1">
            <a:off x="274320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52840" y="2913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257800"/>
            <a:ext cx="190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276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49528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2590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Applet and Graphics classes are show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li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Inheritance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11360" y="205740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1080" y="3581280"/>
            <a:ext cx="167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08480" y="51055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2640" y="274320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08880" y="441972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8880" y="5867280"/>
            <a:ext cx="1676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205160" y="2517840"/>
            <a:ext cx="0" cy="107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253512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05160" y="4044600"/>
            <a:ext cx="0" cy="104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40622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7370640" y="3200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80280" y="321804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7370280" y="4876920"/>
            <a:ext cx="1800" cy="9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80280" y="489420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191200" y="2930760"/>
            <a:ext cx="1406520" cy="21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2781800">
            <a:off x="5081400" y="50637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280" y="35575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809880"/>
            <a:ext cx="278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95400" y="3952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3048120" y="2286000"/>
            <a:ext cx="4875840" cy="4341600"/>
            <a:chOff x="3048120" y="2286000"/>
            <a:chExt cx="4875840" cy="4341600"/>
          </a:xfrm>
        </p:grpSpPr>
        <p:sp>
          <p:nvSpPr>
            <p:cNvPr id="220" name=""/>
            <p:cNvSpPr/>
            <p:nvPr/>
          </p:nvSpPr>
          <p:spPr>
            <a:xfrm>
              <a:off x="3048120" y="2286000"/>
              <a:ext cx="1422360" cy="100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8120" y="2953440"/>
              <a:ext cx="4875840" cy="367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3560" y="30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kaging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419720" y="3048120"/>
            <a:ext cx="1828800" cy="990360"/>
            <a:chOff x="4419720" y="3048120"/>
            <a:chExt cx="1828800" cy="990360"/>
          </a:xfrm>
        </p:grpSpPr>
        <p:grpSp>
          <p:nvGrpSpPr>
            <p:cNvPr id="224" name=""/>
            <p:cNvGrpSpPr/>
            <p:nvPr/>
          </p:nvGrpSpPr>
          <p:grpSpPr>
            <a:xfrm>
              <a:off x="4419720" y="3048120"/>
              <a:ext cx="1828800" cy="990360"/>
              <a:chOff x="4419720" y="3048120"/>
              <a:chExt cx="1828800" cy="990360"/>
            </a:xfrm>
          </p:grpSpPr>
          <p:sp>
            <p:nvSpPr>
              <p:cNvPr id="225" name=""/>
              <p:cNvSpPr/>
              <p:nvPr/>
            </p:nvSpPr>
            <p:spPr>
              <a:xfrm>
                <a:off x="4419720" y="304812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419720" y="320040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535640" y="33386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pp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19720" y="4267080"/>
            <a:ext cx="1828800" cy="990360"/>
            <a:chOff x="4419720" y="4267080"/>
            <a:chExt cx="1828800" cy="990360"/>
          </a:xfrm>
        </p:grpSpPr>
        <p:grpSp>
          <p:nvGrpSpPr>
            <p:cNvPr id="229" name=""/>
            <p:cNvGrpSpPr/>
            <p:nvPr/>
          </p:nvGrpSpPr>
          <p:grpSpPr>
            <a:xfrm>
              <a:off x="4419720" y="4267080"/>
              <a:ext cx="1828800" cy="990360"/>
              <a:chOff x="4419720" y="4267080"/>
              <a:chExt cx="1828800" cy="990360"/>
            </a:xfrm>
          </p:grpSpPr>
          <p:sp>
            <p:nvSpPr>
              <p:cNvPr id="230" name=""/>
              <p:cNvSpPr/>
              <p:nvPr/>
            </p:nvSpPr>
            <p:spPr>
              <a:xfrm>
                <a:off x="4419720" y="426708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19720" y="441936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815000" y="4614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w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495680" y="5562720"/>
            <a:ext cx="1828800" cy="990360"/>
            <a:chOff x="4495680" y="5562720"/>
            <a:chExt cx="1828800" cy="990360"/>
          </a:xfrm>
        </p:grpSpPr>
        <p:grpSp>
          <p:nvGrpSpPr>
            <p:cNvPr id="234" name=""/>
            <p:cNvGrpSpPr/>
            <p:nvPr/>
          </p:nvGrpSpPr>
          <p:grpSpPr>
            <a:xfrm>
              <a:off x="4495680" y="5562720"/>
              <a:ext cx="1828800" cy="990360"/>
              <a:chOff x="4495680" y="5562720"/>
              <a:chExt cx="1828800" cy="990360"/>
            </a:xfrm>
          </p:grpSpPr>
          <p:sp>
            <p:nvSpPr>
              <p:cNvPr id="235" name=""/>
              <p:cNvSpPr/>
              <p:nvPr/>
            </p:nvSpPr>
            <p:spPr>
              <a:xfrm>
                <a:off x="4495680" y="5562720"/>
                <a:ext cx="5335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495680" y="5715000"/>
                <a:ext cx="182880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4786200" y="5860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33520" y="327672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2362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80200" y="52880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4800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4572000"/>
            <a:ext cx="1904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3505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24480" y="335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ation for Classes and Ob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21337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82680" y="21477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867280" y="2057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9560" y="2793960"/>
            <a:ext cx="175284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1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2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3276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41911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5791320"/>
            <a:ext cx="1752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260676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81480" y="274320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bject: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396252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Any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81480" y="5029200"/>
            <a:ext cx="2819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8880" y="573876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s of objects are underl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352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in a Requirements Docu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09680"/>
            <a:ext cx="86108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(Web Butler and Web Site Profi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web data collection in real time or batch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jobs sta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re the parameters set up (interactive, edit file, ..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arameters (specify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job parameters be stored and used again? If so, 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eedback is given while job is run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 user pause or break a job? If so, are the results reta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in a Requirements Docu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81536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ocument specifies the functionality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plan to deliver to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be comprehensive and detailed.  Everything must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out -- no hand wav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quirements document is likely to be several times as long as Assign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ment 2 -- Individual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 appro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your document, include a list of who contributed what part to the Requirements study, 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analysis for database design (member of team of 3), wrote Section 3.1 of document, worked with client to identify software n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s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visual aids for presentation, edited entire document, specified the security needs and wrote Section 4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terfal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640" y="1973160"/>
            <a:ext cx="1877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5640" y="391644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ni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14880" y="491004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67480" y="5886360"/>
            <a:ext cx="2057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1320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59760" y="5356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02240" y="3438360"/>
            <a:ext cx="4680" cy="46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343400"/>
            <a:ext cx="46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40520" y="5372280"/>
            <a:ext cx="504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971800"/>
            <a:ext cx="25146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ystem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oftwar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ful Tex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579760"/>
            <a:ext cx="792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James Rumbaugh, Ivar Jacobson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Unified Modeling Languag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y Booch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-Oriented Analysis and Design with Appl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cond edition.  Benjamin/Cummings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Pooley, Perdita Steven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UML Software Engineering with Objects and Components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son-Wesley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Importance of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2096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2438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4976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is a simplification of re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uild models so that we can better understand the system we are develo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build models of complex system because we cannot comprehend such a system in its entir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dels can be informal or formal.  The more complex the project the more valuable a formal model be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ciples of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2113920"/>
            <a:ext cx="6858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oice of what models to create has a profound influence on how a problem is attacked and how a solution is sha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model can be expressed at different levels of pr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est models are connected to re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ngle model is sufficient.  Every nontrivial system is best approached through a small set of nearly independent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28T16:37:14Z</dcterms:modified>
  <cp:revision>438</cp:revision>
  <dc:subject/>
  <dc:title>Digital Library Architecture- Key Principles </dc:title>
</cp:coreProperties>
</file>