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1880" y="6400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79F7-2A3B-4FD1-BBE2-A63467DC4D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20040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rchitecture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se: Objects - Basic Defin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2514600"/>
            <a:ext cx="7010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iece of code that ow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rovides services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thods operate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stance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wned by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llection of like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944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se: Objects - Characte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2133720"/>
            <a:ext cx="69343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capsula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 object has a publi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 defines how other objects or applications can interact with 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stanc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Subclasses can be derived from parent classes.  They inherit or override the parents' methods and instanc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morphis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effect of a method can vary depending on the class that implements it (e.g., display_obj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se: Objects - Object Bi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2057400"/>
            <a:ext cx="769608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i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inking of the software interface between two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c bind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interface is determined at compile or build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ght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ype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ynamic bind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late binding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link is established at ru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le and 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se: Objects - Distributed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438280"/>
            <a:ext cx="7696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on separate computers interact through method calls and instanc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jor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(Common Object Request Broker Archite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family: OLE, COM, DCOM, Active X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sirable Properties of Distributed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743200"/>
            <a:ext cx="7162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languages and operating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usable code: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 can be ext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changes can be 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tools used for client/server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Fedora ID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66688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search project to explore extensi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 very simple Interface Defini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 powerful tools for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 interoperability, Cornell and CN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s.cornell.edu/cdlrg/fedora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 Request Broker (OR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2362320"/>
            <a:ext cx="838080" cy="838080"/>
          </a:xfrm>
          <a:prstGeom prst="ellipse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363760"/>
            <a:ext cx="838080" cy="838080"/>
          </a:xfrm>
          <a:prstGeom prst="ellipse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363760"/>
            <a:ext cx="914400" cy="838080"/>
          </a:xfrm>
          <a:prstGeom prst="ellipse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08520" y="2365200"/>
            <a:ext cx="838440" cy="8384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75560" y="2367000"/>
            <a:ext cx="838080" cy="8380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2514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81200" y="2554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40560" y="2523960"/>
            <a:ext cx="8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5146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11440" y="2536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o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343400"/>
            <a:ext cx="2819520" cy="45720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4343400"/>
            <a:ext cx="1905120" cy="4572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09480" y="54864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5486400"/>
            <a:ext cx="70106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8077320" y="54864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23880" y="3200400"/>
            <a:ext cx="762120" cy="1143000"/>
            <a:chOff x="1523880" y="3200400"/>
            <a:chExt cx="762120" cy="1143000"/>
          </a:xfrm>
        </p:grpSpPr>
        <p:sp>
          <p:nvSpPr>
            <p:cNvPr id="131" name=""/>
            <p:cNvSpPr/>
            <p:nvPr/>
          </p:nvSpPr>
          <p:spPr>
            <a:xfrm>
              <a:off x="1905120" y="3200400"/>
              <a:ext cx="0" cy="11430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3880" y="3429000"/>
              <a:ext cx="76212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0968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4343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514600" y="3200400"/>
            <a:ext cx="762120" cy="1143000"/>
            <a:chOff x="2514600" y="3200400"/>
            <a:chExt cx="762120" cy="1143000"/>
          </a:xfrm>
        </p:grpSpPr>
        <p:sp>
          <p:nvSpPr>
            <p:cNvPr id="136" name=""/>
            <p:cNvSpPr/>
            <p:nvPr/>
          </p:nvSpPr>
          <p:spPr>
            <a:xfrm>
              <a:off x="2895840" y="3200400"/>
              <a:ext cx="0" cy="11430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3429000"/>
              <a:ext cx="76212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567240" y="3200400"/>
            <a:ext cx="761760" cy="1143000"/>
            <a:chOff x="3567240" y="3200400"/>
            <a:chExt cx="761760" cy="1143000"/>
          </a:xfrm>
        </p:grpSpPr>
        <p:sp>
          <p:nvSpPr>
            <p:cNvPr id="139" name=""/>
            <p:cNvSpPr/>
            <p:nvPr/>
          </p:nvSpPr>
          <p:spPr>
            <a:xfrm>
              <a:off x="3948120" y="3200400"/>
              <a:ext cx="0" cy="1143000"/>
            </a:xfrm>
            <a:prstGeom prst="line">
              <a:avLst/>
            </a:prstGeom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67240" y="3429000"/>
              <a:ext cx="76176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715000" y="3200400"/>
            <a:ext cx="762120" cy="1143000"/>
            <a:chOff x="5715000" y="3200400"/>
            <a:chExt cx="762120" cy="1143000"/>
          </a:xfrm>
        </p:grpSpPr>
        <p:sp>
          <p:nvSpPr>
            <p:cNvPr id="142" name=""/>
            <p:cNvSpPr/>
            <p:nvPr/>
          </p:nvSpPr>
          <p:spPr>
            <a:xfrm>
              <a:off x="6096240" y="3200400"/>
              <a:ext cx="0" cy="11430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3429000"/>
              <a:ext cx="76212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781680" y="3200400"/>
            <a:ext cx="762120" cy="1143000"/>
            <a:chOff x="6781680" y="3200400"/>
            <a:chExt cx="762120" cy="1143000"/>
          </a:xfrm>
        </p:grpSpPr>
        <p:sp>
          <p:nvSpPr>
            <p:cNvPr id="145" name=""/>
            <p:cNvSpPr/>
            <p:nvPr/>
          </p:nvSpPr>
          <p:spPr>
            <a:xfrm>
              <a:off x="7162920" y="3200400"/>
              <a:ext cx="0" cy="11430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781680" y="3429000"/>
              <a:ext cx="762120" cy="4597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895480" y="4800600"/>
            <a:ext cx="0" cy="685800"/>
          </a:xfrm>
          <a:prstGeom prst="line">
            <a:avLst/>
          </a:prstGeom>
          <a:ln w="1908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4800600"/>
            <a:ext cx="0" cy="685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33720" y="547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Request 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4640" y="37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face Definition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828800"/>
            <a:ext cx="7848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identifi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ype declarations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nstant declarations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xception declarations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identifier&gt; [:&lt;inheritance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identifier&gt; [:&lt;inheritance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 .....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1981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Naming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48520" y="3886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efine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5486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efine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face Definition Language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057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0574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981080"/>
            <a:ext cx="76197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identifier&gt; [:&lt;inheritance&gt;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type declarations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constant declarations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exception declarations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&lt;op_type] &lt;identifier&gt;(&lt;parameters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eption] [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&lt;op_type] &lt;identifier&gt;(&lt;parameters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ception] [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2057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efine a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39783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efine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80160" y="50799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Define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029200" y="2514600"/>
            <a:ext cx="3429000" cy="205740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2514600"/>
            <a:ext cx="3429000" cy="20574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B: Programmer's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292680" y="5383440"/>
            <a:ext cx="111924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81080" y="5052960"/>
            <a:ext cx="7010280" cy="1119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5400000">
            <a:off x="7760160" y="5383800"/>
            <a:ext cx="111924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56386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ject Request 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2743200"/>
            <a:ext cx="1371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2743200"/>
            <a:ext cx="1371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57800" y="274320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3276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0" y="274320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3276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391520" y="3733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3962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55627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5257800"/>
            <a:ext cx="152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943600" y="3809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057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 Request Broker (OR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2209680"/>
            <a:ext cx="7543800" cy="40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RB lets objects make requests to and receive response from other objects located locally or remo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and dynamic method inv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level language b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describ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/remote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ORB protoc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Inter-ORB Protocol (II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B: System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609480" y="54864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5486400"/>
            <a:ext cx="70106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8077320" y="54864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33720" y="5477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Request 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2286000"/>
            <a:ext cx="2057400" cy="1371600"/>
          </a:xfrm>
          <a:prstGeom prst="roundRect">
            <a:avLst>
              <a:gd name="adj" fmla="val 1666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2286000"/>
            <a:ext cx="2210040" cy="14479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3520" y="3505320"/>
            <a:ext cx="635040" cy="368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52280" y="26668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495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Dynamic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27280" y="4508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lient IDL st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49568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ORB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924680" y="3124080"/>
            <a:ext cx="635040" cy="368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010280" y="228600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4343400"/>
            <a:ext cx="1371600" cy="106668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4343400"/>
            <a:ext cx="1371600" cy="106668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4343400"/>
            <a:ext cx="1371600" cy="1066680"/>
          </a:xfrm>
          <a:prstGeom prst="rect">
            <a:avLst/>
          </a:prstGeom>
          <a:noFill/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48320" y="4343400"/>
            <a:ext cx="1371600" cy="7621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5880" y="4343400"/>
            <a:ext cx="1371600" cy="7621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4343400"/>
            <a:ext cx="137160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42670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tatic skelet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ynamic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0120" y="44197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 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48320" y="5181480"/>
            <a:ext cx="2895480" cy="228600"/>
          </a:xfrm>
          <a:prstGeom prst="rect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2286000"/>
            <a:ext cx="22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ject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3124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312408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219320" y="33526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1523880" y="365760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914040" y="39625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666880" y="37339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05320" y="365760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334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640044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6629040" y="380988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8305560" y="3505320"/>
            <a:ext cx="75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RBA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7360" y="1870200"/>
            <a:ext cx="4190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ization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cycl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c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censing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ted Objects and the System Life-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22860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large systems change with tim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binding of objects combined with polymorph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s the addition of extra object types, incre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, etc. to be local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velopment environments change with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bindings and IIOP permi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ion environments changes with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an be reused in different enviro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-Time: Software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209680"/>
            <a:ext cx="7848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ource considerations may dictate software design and 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level language (e.g., C) where programmer has close link to machi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process communication may be too slow (e.g., C for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mplement special buffering, etc., to control tim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ffering Example:  CD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7920" y="2463840"/>
            <a:ext cx="37339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06960" y="24652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743200"/>
            <a:ext cx="1927080" cy="30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3352680"/>
            <a:ext cx="3176640" cy="19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74920" y="430704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657520" y="3314520"/>
            <a:ext cx="314496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352680" y="2687760"/>
            <a:ext cx="1735200" cy="31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3048120"/>
            <a:ext cx="2673360" cy="24382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96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29718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3200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365760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97180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259092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259092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297180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74320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73392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75040" y="295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16520" y="2589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64040" y="2597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7500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19320" y="364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200" y="3732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6172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inuous Op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286000"/>
            <a:ext cx="80773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ny systems must operate continu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update while op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monitoring and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power supplies, network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se functions must be designed into the fundamental archit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Routers and Other Network Compu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286000"/>
            <a:ext cx="716292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tion with third party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several versions of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rt after total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ive programming -- must sur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erroneous or maliciou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extreme 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uts, dropped packet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 of network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057400" y="2057400"/>
            <a:ext cx="6705720" cy="29718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259092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04812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Transaction Moni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581280"/>
            <a:ext cx="114300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373392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3080" y="2948040"/>
            <a:ext cx="608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638680" y="357984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1055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transaction moni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onitors transactions, routes them across services, balances the load, restarts transactions after fail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2971800"/>
            <a:ext cx="121932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2590920"/>
            <a:ext cx="1676160" cy="193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Reuse: Application Pack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514600"/>
            <a:ext cx="80773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e supports a standard application (e.g., payroll, user interface to Internet information, mathematical algorith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ty can be enhan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configuration parameters (e.g., table driv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extensibility at define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custom written source code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use: Object Object Oriented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286000"/>
            <a:ext cx="80773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is a relatively straightforward language with a very rich set of class hierarch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programs derive much of their functionality from standard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nd understanding the classes is difficul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Java experts can write complex systems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Inexperienced Java programmers write inelegant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buggy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0-19T15:18:27Z</dcterms:modified>
  <cp:revision>375</cp:revision>
  <dc:subject/>
  <dc:title>Digital Library Architecture- Key Principles </dc:title>
</cp:coreProperties>
</file>