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58200" y="6400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7DB7-D0D3-4C99-915A-ABB52A7206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wmf"/><Relationship Id="rId3" Type="http://schemas.openxmlformats.org/officeDocument/2006/relationships/image" Target="../media/image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20040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rchitectur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tensiv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229600" y="3733920"/>
            <a:ext cx="76212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tch Processing:  Master File Up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952880" y="3962520"/>
            <a:ext cx="1041480" cy="558720"/>
            <a:chOff x="4952880" y="3962520"/>
            <a:chExt cx="1041480" cy="558720"/>
          </a:xfrm>
        </p:grpSpPr>
        <p:sp>
          <p:nvSpPr>
            <p:cNvPr id="160" name=""/>
            <p:cNvSpPr/>
            <p:nvPr/>
          </p:nvSpPr>
          <p:spPr>
            <a:xfrm flipH="1">
              <a:off x="5092560" y="43304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>
              <a:off x="5359320" y="3968640"/>
              <a:ext cx="635040" cy="3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4952880" y="3962520"/>
              <a:ext cx="24120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5244840" y="4120920"/>
              <a:ext cx="63504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4668840" y="4645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91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886200"/>
            <a:ext cx="76212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4191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12240" y="4616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9600" y="403848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32840" y="412920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36080" y="421956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38960" y="4309920"/>
            <a:ext cx="6098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32767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d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90920" y="3733920"/>
            <a:ext cx="1218960" cy="8254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by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52480" y="4114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257800" y="2819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600200" y="28195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0481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943600" y="274284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286000"/>
            <a:ext cx="76176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5880" y="464832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91520" y="5257800"/>
            <a:ext cx="76176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nefits of Batch Upd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471760"/>
            <a:ext cx="7239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ransactions for an account are processed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up and recovery have fixed chec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management control of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use of staff and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132760" y="3889440"/>
            <a:ext cx="76212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824200" y="3693960"/>
            <a:ext cx="1365120" cy="927000"/>
            <a:chOff x="2824200" y="3693960"/>
            <a:chExt cx="1365120" cy="927000"/>
          </a:xfrm>
        </p:grpSpPr>
        <p:sp>
          <p:nvSpPr>
            <p:cNvPr id="189" name=""/>
            <p:cNvSpPr/>
            <p:nvPr/>
          </p:nvSpPr>
          <p:spPr>
            <a:xfrm>
              <a:off x="3325680" y="418896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440160" y="420192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3973320" y="418896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2824200" y="3693960"/>
              <a:ext cx="540720" cy="768240"/>
              <a:chOff x="2824200" y="3693960"/>
              <a:chExt cx="540720" cy="768240"/>
            </a:xfrm>
          </p:grpSpPr>
          <p:sp>
            <p:nvSpPr>
              <p:cNvPr id="193" name=""/>
              <p:cNvSpPr/>
              <p:nvPr/>
            </p:nvSpPr>
            <p:spPr>
              <a:xfrm>
                <a:off x="2937960" y="369396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24200" y="382716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842920" y="420192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53960" y="422100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893680" y="37890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06280" y="414468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11200" y="416988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3261960" y="442404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919240" y="391608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573360" y="374472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27360" y="378288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88960" y="3965400"/>
            <a:ext cx="838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05000" y="3995640"/>
            <a:ext cx="7596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93880" y="427032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69840" y="434664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46160" y="442260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ine Inqui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05320" y="4827600"/>
            <a:ext cx="168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658960" y="3838680"/>
            <a:ext cx="1365120" cy="927000"/>
            <a:chOff x="2658960" y="3838680"/>
            <a:chExt cx="1365120" cy="927000"/>
          </a:xfrm>
        </p:grpSpPr>
        <p:sp>
          <p:nvSpPr>
            <p:cNvPr id="212" name=""/>
            <p:cNvSpPr/>
            <p:nvPr/>
          </p:nvSpPr>
          <p:spPr>
            <a:xfrm>
              <a:off x="3160440" y="433368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274920" y="434664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3808080" y="433368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658960" y="3838680"/>
              <a:ext cx="540720" cy="768240"/>
              <a:chOff x="2658960" y="3838680"/>
              <a:chExt cx="540720" cy="768240"/>
            </a:xfrm>
          </p:grpSpPr>
          <p:sp>
            <p:nvSpPr>
              <p:cNvPr id="216" name=""/>
              <p:cNvSpPr/>
              <p:nvPr/>
            </p:nvSpPr>
            <p:spPr>
              <a:xfrm>
                <a:off x="2772720" y="383868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658960" y="397188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677680" y="434664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88720" y="436572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28440" y="393372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741040" y="428940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45960" y="431460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3096720" y="456876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54000" y="406080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408120" y="388944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62120" y="392760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541840" y="4118040"/>
            <a:ext cx="1041480" cy="558720"/>
            <a:chOff x="5541840" y="4118040"/>
            <a:chExt cx="1041480" cy="558720"/>
          </a:xfrm>
        </p:grpSpPr>
        <p:sp>
          <p:nvSpPr>
            <p:cNvPr id="228" name=""/>
            <p:cNvSpPr/>
            <p:nvPr/>
          </p:nvSpPr>
          <p:spPr>
            <a:xfrm flipH="1">
              <a:off x="5681520" y="4485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5948280" y="4124160"/>
              <a:ext cx="635040" cy="3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5541840" y="4118040"/>
              <a:ext cx="24120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5833800" y="4276440"/>
              <a:ext cx="63504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52578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2640" y="4118040"/>
            <a:ext cx="8384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28680" y="4148280"/>
            <a:ext cx="763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7560" y="442260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93880" y="449892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9840" y="457524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0360" y="48038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03360" y="4422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70240" y="43466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56440" y="4041720"/>
            <a:ext cx="76212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61160" y="43466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15400" y="47721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32760" y="419400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36000" y="428472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39240" y="437508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42120" y="4465800"/>
            <a:ext cx="6098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181480" y="2133720"/>
            <a:ext cx="1365480" cy="926640"/>
            <a:chOff x="5181480" y="2133720"/>
            <a:chExt cx="1365480" cy="926640"/>
          </a:xfrm>
        </p:grpSpPr>
        <p:sp>
          <p:nvSpPr>
            <p:cNvPr id="249" name=""/>
            <p:cNvSpPr/>
            <p:nvPr/>
          </p:nvSpPr>
          <p:spPr>
            <a:xfrm>
              <a:off x="5683320" y="262908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797080" y="2641680"/>
              <a:ext cx="10188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6330960" y="2628720"/>
              <a:ext cx="10152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5181480" y="2133720"/>
              <a:ext cx="541440" cy="768240"/>
              <a:chOff x="5181480" y="2133720"/>
              <a:chExt cx="541440" cy="768240"/>
            </a:xfrm>
          </p:grpSpPr>
          <p:sp>
            <p:nvSpPr>
              <p:cNvPr id="253" name=""/>
              <p:cNvSpPr/>
              <p:nvPr/>
            </p:nvSpPr>
            <p:spPr>
              <a:xfrm>
                <a:off x="5295600" y="2133720"/>
                <a:ext cx="10188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81480" y="226692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200560" y="2641680"/>
                <a:ext cx="25380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11600" y="266076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251320" y="2228760"/>
                <a:ext cx="10332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263920" y="258444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568840" y="2609640"/>
                <a:ext cx="2520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5619600" y="2863800"/>
                <a:ext cx="5076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276880" y="2355840"/>
                <a:ext cx="44604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5931000" y="2184480"/>
              <a:ext cx="380880" cy="380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85000" y="222264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095880" y="2971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2400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21337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 2: A Small-town Stockbro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2480" y="2514600"/>
            <a:ext cx="56390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d by mail or ov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mmediate or late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customer inqui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competitiv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Database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2590920"/>
            <a:ext cx="75438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abase(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and accou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products (e.g., account types, pension plans, savings sche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databases (e.g., stock markets, mutual funds, insurance compan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abase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343400" y="4632480"/>
            <a:ext cx="1555560" cy="812520"/>
            <a:chOff x="4343400" y="4632480"/>
            <a:chExt cx="1555560" cy="812520"/>
          </a:xfrm>
        </p:grpSpPr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4971960" y="4632480"/>
              <a:ext cx="92700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4343400" y="4816440"/>
              <a:ext cx="241200" cy="5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4591080" y="510840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447920" y="4952880"/>
            <a:ext cx="1040760" cy="559080"/>
            <a:chOff x="1447920" y="4952880"/>
            <a:chExt cx="1040760" cy="559080"/>
          </a:xfrm>
        </p:grpSpPr>
        <p:sp>
          <p:nvSpPr>
            <p:cNvPr id="277" name=""/>
            <p:cNvSpPr/>
            <p:nvPr/>
          </p:nvSpPr>
          <p:spPr>
            <a:xfrm flipH="1">
              <a:off x="1586880" y="5321160"/>
              <a:ext cx="27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1854000" y="4959360"/>
              <a:ext cx="6346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1447920" y="4952880"/>
              <a:ext cx="24084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5"/>
            <a:stretch/>
          </p:blipFill>
          <p:spPr>
            <a:xfrm>
              <a:off x="1739520" y="5111640"/>
              <a:ext cx="63468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"/>
          <p:cNvSpPr/>
          <p:nvPr/>
        </p:nvSpPr>
        <p:spPr>
          <a:xfrm>
            <a:off x="4267080" y="5486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&amp; accou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040" y="546084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&amp; services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15200" y="54784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6705720" y="3581280"/>
            <a:ext cx="1752480" cy="1524240"/>
          </a:xfrm>
          <a:prstGeom prst="cloudCallout">
            <a:avLst>
              <a:gd name="adj1" fmla="val -34333"/>
              <a:gd name="adj2" fmla="val 77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-time Trans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343400" y="4632480"/>
            <a:ext cx="1555560" cy="812520"/>
            <a:chOff x="4343400" y="4632480"/>
            <a:chExt cx="1555560" cy="812520"/>
          </a:xfrm>
        </p:grpSpPr>
        <p:pic>
          <p:nvPicPr>
            <p:cNvPr id="287" name="" descr=""/>
            <p:cNvPicPr/>
            <p:nvPr/>
          </p:nvPicPr>
          <p:blipFill>
            <a:blip r:embed="rId1"/>
            <a:stretch/>
          </p:blipFill>
          <p:spPr>
            <a:xfrm>
              <a:off x="4971960" y="4632480"/>
              <a:ext cx="92700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4343400" y="4816440"/>
              <a:ext cx="241200" cy="5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4591080" y="510840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447920" y="4952880"/>
            <a:ext cx="1040760" cy="559080"/>
            <a:chOff x="1447920" y="4952880"/>
            <a:chExt cx="1040760" cy="559080"/>
          </a:xfrm>
        </p:grpSpPr>
        <p:sp>
          <p:nvSpPr>
            <p:cNvPr id="291" name=""/>
            <p:cNvSpPr/>
            <p:nvPr/>
          </p:nvSpPr>
          <p:spPr>
            <a:xfrm flipH="1">
              <a:off x="1586880" y="5321160"/>
              <a:ext cx="27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2" name="" descr=""/>
            <p:cNvPicPr/>
            <p:nvPr/>
          </p:nvPicPr>
          <p:blipFill>
            <a:blip r:embed="rId3"/>
            <a:stretch/>
          </p:blipFill>
          <p:spPr>
            <a:xfrm>
              <a:off x="1854000" y="4959360"/>
              <a:ext cx="6346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4"/>
            <a:stretch/>
          </p:blipFill>
          <p:spPr>
            <a:xfrm>
              <a:off x="1447920" y="4952880"/>
              <a:ext cx="24084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5"/>
            <a:stretch/>
          </p:blipFill>
          <p:spPr>
            <a:xfrm>
              <a:off x="1739520" y="5111640"/>
              <a:ext cx="63468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"/>
          <p:cNvSpPr/>
          <p:nvPr/>
        </p:nvSpPr>
        <p:spPr>
          <a:xfrm>
            <a:off x="4267080" y="5486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&amp; accou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78040" y="546084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&amp; services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54784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705720" y="3581280"/>
            <a:ext cx="1752480" cy="1524240"/>
          </a:xfrm>
          <a:prstGeom prst="cloudCallout">
            <a:avLst>
              <a:gd name="adj1" fmla="val -34333"/>
              <a:gd name="adj2" fmla="val 77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85800" y="2971800"/>
            <a:ext cx="1364760" cy="926640"/>
            <a:chOff x="685800" y="2971800"/>
            <a:chExt cx="1364760" cy="926640"/>
          </a:xfrm>
        </p:grpSpPr>
        <p:sp>
          <p:nvSpPr>
            <p:cNvPr id="300" name=""/>
            <p:cNvSpPr/>
            <p:nvPr/>
          </p:nvSpPr>
          <p:spPr>
            <a:xfrm>
              <a:off x="1187280" y="3467160"/>
              <a:ext cx="8632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301400" y="347976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1834560" y="3466800"/>
              <a:ext cx="10116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85800" y="2971800"/>
              <a:ext cx="540720" cy="768240"/>
              <a:chOff x="685800" y="2971800"/>
              <a:chExt cx="540720" cy="768240"/>
            </a:xfrm>
          </p:grpSpPr>
          <p:sp>
            <p:nvSpPr>
              <p:cNvPr id="304" name=""/>
              <p:cNvSpPr/>
              <p:nvPr/>
            </p:nvSpPr>
            <p:spPr>
              <a:xfrm>
                <a:off x="799560" y="297180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85800" y="310500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4520" y="347976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15560" y="349884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5280" y="306684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67880" y="342252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072800" y="344772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1123560" y="370188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0840" y="319392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1434960" y="3022560"/>
              <a:ext cx="380520" cy="380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88960" y="3060720"/>
              <a:ext cx="25668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572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88620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3962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3571920"/>
            <a:ext cx="2751120" cy="11523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943600" y="3962160"/>
            <a:ext cx="685800" cy="6094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-time Transactions &amp; Batch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343400" y="4632480"/>
            <a:ext cx="1555560" cy="812520"/>
            <a:chOff x="4343400" y="4632480"/>
            <a:chExt cx="1555560" cy="812520"/>
          </a:xfrm>
        </p:grpSpPr>
        <p:pic>
          <p:nvPicPr>
            <p:cNvPr id="322" name="" descr=""/>
            <p:cNvPicPr/>
            <p:nvPr/>
          </p:nvPicPr>
          <p:blipFill>
            <a:blip r:embed="rId1"/>
            <a:stretch/>
          </p:blipFill>
          <p:spPr>
            <a:xfrm>
              <a:off x="4971960" y="4632480"/>
              <a:ext cx="927000" cy="81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2"/>
            <a:stretch/>
          </p:blipFill>
          <p:spPr>
            <a:xfrm>
              <a:off x="4343400" y="4816440"/>
              <a:ext cx="241200" cy="5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591080" y="510840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447920" y="4952880"/>
            <a:ext cx="1040760" cy="559080"/>
            <a:chOff x="1447920" y="4952880"/>
            <a:chExt cx="1040760" cy="559080"/>
          </a:xfrm>
        </p:grpSpPr>
        <p:sp>
          <p:nvSpPr>
            <p:cNvPr id="326" name=""/>
            <p:cNvSpPr/>
            <p:nvPr/>
          </p:nvSpPr>
          <p:spPr>
            <a:xfrm flipH="1">
              <a:off x="1586880" y="5321160"/>
              <a:ext cx="27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7" name="" descr=""/>
            <p:cNvPicPr/>
            <p:nvPr/>
          </p:nvPicPr>
          <p:blipFill>
            <a:blip r:embed="rId3"/>
            <a:stretch/>
          </p:blipFill>
          <p:spPr>
            <a:xfrm>
              <a:off x="1854000" y="4959360"/>
              <a:ext cx="63468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1447920" y="4952880"/>
              <a:ext cx="240840" cy="55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1739520" y="5111640"/>
              <a:ext cx="63468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4267080" y="5486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&amp; accou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78040" y="546084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 &amp; services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5200" y="54784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705720" y="3581280"/>
            <a:ext cx="1752480" cy="1524240"/>
          </a:xfrm>
          <a:prstGeom prst="cloudCallout">
            <a:avLst>
              <a:gd name="adj1" fmla="val -34333"/>
              <a:gd name="adj2" fmla="val 771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85800" y="2971800"/>
            <a:ext cx="1364760" cy="926640"/>
            <a:chOff x="685800" y="2971800"/>
            <a:chExt cx="1364760" cy="926640"/>
          </a:xfrm>
        </p:grpSpPr>
        <p:sp>
          <p:nvSpPr>
            <p:cNvPr id="335" name=""/>
            <p:cNvSpPr/>
            <p:nvPr/>
          </p:nvSpPr>
          <p:spPr>
            <a:xfrm>
              <a:off x="1187280" y="3467160"/>
              <a:ext cx="8632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1301400" y="347976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834560" y="3466800"/>
              <a:ext cx="10116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85800" y="2971800"/>
              <a:ext cx="540720" cy="768240"/>
              <a:chOff x="685800" y="2971800"/>
              <a:chExt cx="540720" cy="768240"/>
            </a:xfrm>
          </p:grpSpPr>
          <p:sp>
            <p:nvSpPr>
              <p:cNvPr id="339" name=""/>
              <p:cNvSpPr/>
              <p:nvPr/>
            </p:nvSpPr>
            <p:spPr>
              <a:xfrm>
                <a:off x="799560" y="297180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85800" y="310500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04520" y="347976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15560" y="349884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55280" y="306684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67880" y="342252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072800" y="344772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123560" y="370188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80840" y="319392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1434960" y="3022560"/>
              <a:ext cx="380520" cy="380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88960" y="3060720"/>
              <a:ext cx="25668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206880" y="2971800"/>
            <a:ext cx="1365120" cy="927000"/>
            <a:chOff x="3206880" y="2971800"/>
            <a:chExt cx="1365120" cy="927000"/>
          </a:xfrm>
        </p:grpSpPr>
        <p:sp>
          <p:nvSpPr>
            <p:cNvPr id="351" name=""/>
            <p:cNvSpPr/>
            <p:nvPr/>
          </p:nvSpPr>
          <p:spPr>
            <a:xfrm>
              <a:off x="3708360" y="346680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822840" y="347976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4356000" y="346680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206880" y="2971800"/>
              <a:ext cx="540720" cy="768240"/>
              <a:chOff x="3206880" y="2971800"/>
              <a:chExt cx="540720" cy="768240"/>
            </a:xfrm>
          </p:grpSpPr>
          <p:sp>
            <p:nvSpPr>
              <p:cNvPr id="355" name=""/>
              <p:cNvSpPr/>
              <p:nvPr/>
            </p:nvSpPr>
            <p:spPr>
              <a:xfrm>
                <a:off x="3320640" y="297180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06880" y="310500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5600" y="347976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36640" y="349884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76360" y="306684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288960" y="342252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3880" y="344772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3644640" y="370188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01920" y="319392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3956040" y="302256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10040" y="306072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572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2133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ch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1981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00200" y="3886200"/>
            <a:ext cx="30492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85640" y="3809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35812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39625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25800" y="3571920"/>
            <a:ext cx="2751120" cy="115236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0" y="3200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38680" y="3200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943600" y="3962160"/>
            <a:ext cx="685800" cy="60948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848720" y="5029200"/>
            <a:ext cx="7617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chitectural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66680" y="2133720"/>
            <a:ext cx="7162920" cy="44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service during scheduled hours + batch processing overn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information from sever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consistency after any type of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phase com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oad from checkpoint +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audit tr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ill transaction errors be avoi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ill transaction errors be corr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 Merger of Two B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514600"/>
            <a:ext cx="8305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ank has a database with its customer accounts.  The databases are used by staff at many branches and for back-office proc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ment is to integrate the two banks so that they appear to the customers to be a single organization and to provide integrated service from all branch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5146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term examination, October 16, 7:30 to 8:30 p.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 Hollister B14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note change of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See course notices for sampl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rger of Two Banks: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867280" y="4876920"/>
            <a:ext cx="1536840" cy="774720"/>
            <a:chOff x="5867280" y="4876920"/>
            <a:chExt cx="1536840" cy="774720"/>
          </a:xfrm>
        </p:grpSpPr>
        <p:sp>
          <p:nvSpPr>
            <p:cNvPr id="384" name=""/>
            <p:cNvSpPr/>
            <p:nvPr/>
          </p:nvSpPr>
          <p:spPr>
            <a:xfrm>
              <a:off x="6527880" y="4876920"/>
              <a:ext cx="8762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53080" y="4889520"/>
              <a:ext cx="400320" cy="72396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78600" y="4902120"/>
              <a:ext cx="399960" cy="72396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602400" y="4925880"/>
              <a:ext cx="312840" cy="200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7040520" y="4938840"/>
              <a:ext cx="301680" cy="187200"/>
              <a:chOff x="7040520" y="4938840"/>
              <a:chExt cx="301680" cy="187200"/>
            </a:xfrm>
          </p:grpSpPr>
          <p:sp>
            <p:nvSpPr>
              <p:cNvPr id="389" name=""/>
              <p:cNvSpPr/>
              <p:nvPr/>
            </p:nvSpPr>
            <p:spPr>
              <a:xfrm>
                <a:off x="7040520" y="5076720"/>
                <a:ext cx="301680" cy="49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040520" y="4964040"/>
                <a:ext cx="301680" cy="13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040520" y="4938840"/>
                <a:ext cx="3016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040520" y="5164200"/>
              <a:ext cx="301680" cy="187200"/>
              <a:chOff x="7040520" y="5164200"/>
              <a:chExt cx="301680" cy="187200"/>
            </a:xfrm>
          </p:grpSpPr>
          <p:sp>
            <p:nvSpPr>
              <p:cNvPr id="393" name=""/>
              <p:cNvSpPr/>
              <p:nvPr/>
            </p:nvSpPr>
            <p:spPr>
              <a:xfrm>
                <a:off x="7040520" y="5302440"/>
                <a:ext cx="301680" cy="48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040520" y="5189400"/>
                <a:ext cx="301680" cy="13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053120" y="5164200"/>
                <a:ext cx="2890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053120" y="5389560"/>
              <a:ext cx="301680" cy="187200"/>
              <a:chOff x="7053120" y="5389560"/>
              <a:chExt cx="301680" cy="187200"/>
            </a:xfrm>
          </p:grpSpPr>
          <p:sp>
            <p:nvSpPr>
              <p:cNvPr id="397" name=""/>
              <p:cNvSpPr/>
              <p:nvPr/>
            </p:nvSpPr>
            <p:spPr>
              <a:xfrm>
                <a:off x="7053120" y="5526000"/>
                <a:ext cx="30168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053120" y="5413320"/>
                <a:ext cx="301680" cy="1382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53120" y="5389560"/>
                <a:ext cx="3016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6602400" y="5151600"/>
              <a:ext cx="299880" cy="187200"/>
              <a:chOff x="6602400" y="5151600"/>
              <a:chExt cx="299880" cy="187200"/>
            </a:xfrm>
          </p:grpSpPr>
          <p:sp>
            <p:nvSpPr>
              <p:cNvPr id="401" name=""/>
              <p:cNvSpPr/>
              <p:nvPr/>
            </p:nvSpPr>
            <p:spPr>
              <a:xfrm>
                <a:off x="6602400" y="5289480"/>
                <a:ext cx="299880" cy="49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02400" y="5176800"/>
                <a:ext cx="29988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02400" y="5151600"/>
                <a:ext cx="2998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615000" y="5376960"/>
              <a:ext cx="299880" cy="187200"/>
              <a:chOff x="6615000" y="5376960"/>
              <a:chExt cx="299880" cy="187200"/>
            </a:xfrm>
          </p:grpSpPr>
          <p:sp>
            <p:nvSpPr>
              <p:cNvPr id="405" name=""/>
              <p:cNvSpPr/>
              <p:nvPr/>
            </p:nvSpPr>
            <p:spPr>
              <a:xfrm>
                <a:off x="6615000" y="5513400"/>
                <a:ext cx="28728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615000" y="5402160"/>
                <a:ext cx="299880" cy="136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615000" y="5376960"/>
                <a:ext cx="29988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08" name="" descr=""/>
            <p:cNvPicPr/>
            <p:nvPr/>
          </p:nvPicPr>
          <p:blipFill>
            <a:blip r:embed="rId2"/>
            <a:stretch/>
          </p:blipFill>
          <p:spPr>
            <a:xfrm>
              <a:off x="5867280" y="5029200"/>
              <a:ext cx="2415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114960" y="532116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133720" y="4876920"/>
            <a:ext cx="1536120" cy="774720"/>
            <a:chOff x="2133720" y="4876920"/>
            <a:chExt cx="1536120" cy="774720"/>
          </a:xfrm>
        </p:grpSpPr>
        <p:sp>
          <p:nvSpPr>
            <p:cNvPr id="411" name=""/>
            <p:cNvSpPr/>
            <p:nvPr/>
          </p:nvSpPr>
          <p:spPr>
            <a:xfrm>
              <a:off x="2793600" y="4876920"/>
              <a:ext cx="876240" cy="774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19160" y="4889520"/>
              <a:ext cx="399600" cy="723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44680" y="4902480"/>
              <a:ext cx="399600" cy="7239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68480" y="4926240"/>
              <a:ext cx="312120" cy="200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306600" y="4938840"/>
              <a:ext cx="301320" cy="187560"/>
              <a:chOff x="3306600" y="4938840"/>
              <a:chExt cx="301320" cy="187560"/>
            </a:xfrm>
          </p:grpSpPr>
          <p:sp>
            <p:nvSpPr>
              <p:cNvPr id="416" name=""/>
              <p:cNvSpPr/>
              <p:nvPr/>
            </p:nvSpPr>
            <p:spPr>
              <a:xfrm>
                <a:off x="3306600" y="5077080"/>
                <a:ext cx="301320" cy="49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306600" y="4964400"/>
                <a:ext cx="30132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306600" y="4938840"/>
                <a:ext cx="3013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306600" y="5164200"/>
              <a:ext cx="301320" cy="187560"/>
              <a:chOff x="3306600" y="5164200"/>
              <a:chExt cx="301320" cy="187560"/>
            </a:xfrm>
          </p:grpSpPr>
          <p:sp>
            <p:nvSpPr>
              <p:cNvPr id="420" name=""/>
              <p:cNvSpPr/>
              <p:nvPr/>
            </p:nvSpPr>
            <p:spPr>
              <a:xfrm>
                <a:off x="3306600" y="5302440"/>
                <a:ext cx="301320" cy="49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306600" y="5189760"/>
                <a:ext cx="30132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318840" y="5164200"/>
                <a:ext cx="2887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319200" y="5389920"/>
              <a:ext cx="301320" cy="187200"/>
              <a:chOff x="3319200" y="5389920"/>
              <a:chExt cx="301320" cy="187200"/>
            </a:xfrm>
          </p:grpSpPr>
          <p:sp>
            <p:nvSpPr>
              <p:cNvPr id="424" name=""/>
              <p:cNvSpPr/>
              <p:nvPr/>
            </p:nvSpPr>
            <p:spPr>
              <a:xfrm>
                <a:off x="3319200" y="5526360"/>
                <a:ext cx="30132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319200" y="5413680"/>
                <a:ext cx="301320" cy="137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319200" y="5389920"/>
                <a:ext cx="3013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2868480" y="5151600"/>
              <a:ext cx="299520" cy="187200"/>
              <a:chOff x="2868480" y="5151600"/>
              <a:chExt cx="299520" cy="187200"/>
            </a:xfrm>
          </p:grpSpPr>
          <p:sp>
            <p:nvSpPr>
              <p:cNvPr id="428" name=""/>
              <p:cNvSpPr/>
              <p:nvPr/>
            </p:nvSpPr>
            <p:spPr>
              <a:xfrm>
                <a:off x="2868480" y="5289840"/>
                <a:ext cx="299520" cy="48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68480" y="5177160"/>
                <a:ext cx="29952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868480" y="5151600"/>
                <a:ext cx="2995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881080" y="5376960"/>
              <a:ext cx="299520" cy="187560"/>
              <a:chOff x="2881080" y="5376960"/>
              <a:chExt cx="299520" cy="187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881080" y="5513400"/>
                <a:ext cx="286920" cy="51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81080" y="5402520"/>
                <a:ext cx="299520" cy="136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881080" y="5376960"/>
                <a:ext cx="299520" cy="61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35" name="" descr=""/>
            <p:cNvPicPr/>
            <p:nvPr/>
          </p:nvPicPr>
          <p:blipFill>
            <a:blip r:embed="rId4"/>
            <a:stretch/>
          </p:blipFill>
          <p:spPr>
            <a:xfrm>
              <a:off x="2133720" y="5029560"/>
              <a:ext cx="24084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2381040" y="5321520"/>
              <a:ext cx="38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019920" y="2438280"/>
            <a:ext cx="1364760" cy="926640"/>
            <a:chOff x="6019920" y="2438280"/>
            <a:chExt cx="1364760" cy="926640"/>
          </a:xfrm>
        </p:grpSpPr>
        <p:sp>
          <p:nvSpPr>
            <p:cNvPr id="438" name=""/>
            <p:cNvSpPr/>
            <p:nvPr/>
          </p:nvSpPr>
          <p:spPr>
            <a:xfrm>
              <a:off x="6521400" y="2933640"/>
              <a:ext cx="8632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635520" y="294624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168680" y="2933280"/>
              <a:ext cx="101160" cy="4316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019920" y="2438280"/>
              <a:ext cx="540720" cy="768240"/>
              <a:chOff x="6019920" y="2438280"/>
              <a:chExt cx="540720" cy="768240"/>
            </a:xfrm>
          </p:grpSpPr>
          <p:sp>
            <p:nvSpPr>
              <p:cNvPr id="442" name=""/>
              <p:cNvSpPr/>
              <p:nvPr/>
            </p:nvSpPr>
            <p:spPr>
              <a:xfrm>
                <a:off x="6133680" y="243828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019920" y="257148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038640" y="294624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349680" y="296532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089400" y="253332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02000" y="288900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406920" y="291420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6457680" y="316836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114960" y="266040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6769080" y="2489040"/>
              <a:ext cx="38052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23080" y="2527200"/>
              <a:ext cx="25668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286000" y="2362320"/>
            <a:ext cx="1365120" cy="927000"/>
            <a:chOff x="2286000" y="2362320"/>
            <a:chExt cx="1365120" cy="927000"/>
          </a:xfrm>
        </p:grpSpPr>
        <p:sp>
          <p:nvSpPr>
            <p:cNvPr id="454" name=""/>
            <p:cNvSpPr/>
            <p:nvPr/>
          </p:nvSpPr>
          <p:spPr>
            <a:xfrm>
              <a:off x="2787480" y="285732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2901960" y="287028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3435120" y="285732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2286000" y="2362320"/>
              <a:ext cx="540720" cy="768240"/>
              <a:chOff x="2286000" y="2362320"/>
              <a:chExt cx="540720" cy="768240"/>
            </a:xfrm>
          </p:grpSpPr>
          <p:sp>
            <p:nvSpPr>
              <p:cNvPr id="458" name=""/>
              <p:cNvSpPr/>
              <p:nvPr/>
            </p:nvSpPr>
            <p:spPr>
              <a:xfrm>
                <a:off x="2399760" y="236232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86000" y="249552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04720" y="287028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615760" y="288936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355480" y="245736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368080" y="281304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673000" y="283824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2723760" y="309240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81040" y="258444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3035160" y="241308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89160" y="245124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6934320" y="3276720"/>
            <a:ext cx="0" cy="137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200400" y="3352680"/>
            <a:ext cx="0" cy="1371600"/>
          </a:xfrm>
          <a:prstGeom prst="line">
            <a:avLst/>
          </a:prstGeom>
          <a:ln w="2844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09880" y="3276720"/>
            <a:ext cx="2438640" cy="1523880"/>
          </a:xfrm>
          <a:prstGeom prst="line">
            <a:avLst/>
          </a:prstGeom>
          <a:ln w="284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3733920" y="3352320"/>
            <a:ext cx="2438280" cy="1295640"/>
          </a:xfrm>
          <a:prstGeom prst="line">
            <a:avLst/>
          </a:prstGeom>
          <a:ln w="284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373392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09880" y="5257800"/>
            <a:ext cx="1828800" cy="0"/>
          </a:xfrm>
          <a:prstGeom prst="line">
            <a:avLst/>
          </a:prstGeom>
          <a:ln w="284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19720" y="50292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34290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20120" y="358128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rger of Two Banks: Architectural O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38080" y="22096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2246400"/>
            <a:ext cx="67816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 Convert everything to System 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i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System A (software and hard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 System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 Build an interface between the databases in System A and System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 Extend client software so that it can interact with either System A or System B datab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stributed Computing: General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8080" y="2057400"/>
            <a:ext cx="76201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pplication that is running on one computer wishes to use data or services provided by ano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, public, or virtual privat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ire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-to-point, multicast,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, RPC, distribute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ful or stat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Cho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66680" y="2209680"/>
            <a:ext cx="655344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blic Intern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quitous --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ivate net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abl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 of protocols  (e.g., IBM's S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lity of Network Ser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2286000"/>
            <a:ext cx="647712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tions in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media (e.g., aud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shooting and 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4330800" y="2209680"/>
            <a:ext cx="241200" cy="5590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286000" y="2438280"/>
            <a:ext cx="20574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91080" y="2460600"/>
            <a:ext cx="205740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90720" y="2133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81680" y="2057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120" y="3429000"/>
            <a:ext cx="80010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mputer at the junction of two network segments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pects every packet that attempts to cross the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s any packet that does not satisfy certain criteria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coming request to open a TCP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known packe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ystem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514600"/>
            <a:ext cx="83059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verall design of a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s and networks (e.g., monolithic, distribu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s and protocols (e.g., http, COR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 (e.g., relational, distribu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(e.g., smart card authentication, S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(e.g., backup, archiving, audit trai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environments (e.g., languages, source control to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ta Intensive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438280"/>
            <a:ext cx="6934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utility customer 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e company call recording and 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rental reservations (e.g., Hert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market brokerage (e.g., Charles Schw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ales (e.g., Amazon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153280" y="3276720"/>
            <a:ext cx="76212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352680"/>
            <a:ext cx="8384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25520" y="3382920"/>
            <a:ext cx="7632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65760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373392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380988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 1: Electricity Utility Bi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irst attemp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25840" y="4214880"/>
            <a:ext cx="168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679840" y="3225960"/>
            <a:ext cx="1365120" cy="927000"/>
            <a:chOff x="2679840" y="3225960"/>
            <a:chExt cx="1365120" cy="927000"/>
          </a:xfrm>
        </p:grpSpPr>
        <p:sp>
          <p:nvSpPr>
            <p:cNvPr id="62" name=""/>
            <p:cNvSpPr/>
            <p:nvPr/>
          </p:nvSpPr>
          <p:spPr>
            <a:xfrm>
              <a:off x="3181320" y="372096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295800" y="373392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828960" y="372096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2679840" y="3225960"/>
              <a:ext cx="540720" cy="768240"/>
              <a:chOff x="2679840" y="3225960"/>
              <a:chExt cx="540720" cy="768240"/>
            </a:xfrm>
          </p:grpSpPr>
          <p:sp>
            <p:nvSpPr>
              <p:cNvPr id="66" name=""/>
              <p:cNvSpPr/>
              <p:nvPr/>
            </p:nvSpPr>
            <p:spPr>
              <a:xfrm>
                <a:off x="2793600" y="322596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79840" y="335916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98560" y="373392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09600" y="375300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749320" y="332100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61920" y="367668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66840" y="370188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3117600" y="395604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74880" y="344808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3429000" y="327672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83000" y="331488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562720" y="3505320"/>
            <a:ext cx="1040760" cy="558720"/>
            <a:chOff x="5562720" y="3505320"/>
            <a:chExt cx="1040760" cy="558720"/>
          </a:xfrm>
        </p:grpSpPr>
        <p:sp>
          <p:nvSpPr>
            <p:cNvPr id="78" name=""/>
            <p:cNvSpPr/>
            <p:nvPr/>
          </p:nvSpPr>
          <p:spPr>
            <a:xfrm flipH="1">
              <a:off x="5701680" y="3873240"/>
              <a:ext cx="27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5968800" y="3511440"/>
              <a:ext cx="634680" cy="3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5562720" y="3505320"/>
              <a:ext cx="24084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5854320" y="3663720"/>
              <a:ext cx="63468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5278320" y="4187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80988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88620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3962520"/>
            <a:ext cx="2286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4191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809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3429000"/>
            <a:ext cx="761760" cy="6858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35920" y="41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3581280"/>
            <a:ext cx="6098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56520" y="367200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159760" y="376236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63000" y="3852720"/>
            <a:ext cx="60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5181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ransaction handled as it arr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iticisms of First Attem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1337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is this first attempt wea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943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requirements have not been specified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ansaction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057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209680"/>
            <a:ext cx="51814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ccount / close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er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redits / de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cleared / check bou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ion of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, etc., 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ypical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438280"/>
            <a:ext cx="746748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ayments to be credited on day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s must be able to query account by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ting off service for non-payment 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put staff should proces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actions per 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rate must be below 0.0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available 99.9% of business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536920" y="3084480"/>
            <a:ext cx="1365120" cy="927000"/>
            <a:chOff x="2536920" y="3084480"/>
            <a:chExt cx="1365120" cy="927000"/>
          </a:xfrm>
        </p:grpSpPr>
        <p:sp>
          <p:nvSpPr>
            <p:cNvPr id="106" name=""/>
            <p:cNvSpPr/>
            <p:nvPr/>
          </p:nvSpPr>
          <p:spPr>
            <a:xfrm>
              <a:off x="3038400" y="357948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52880" y="359244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686040" y="357948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536920" y="3084480"/>
              <a:ext cx="540720" cy="768240"/>
              <a:chOff x="2536920" y="3084480"/>
              <a:chExt cx="540720" cy="768240"/>
            </a:xfrm>
          </p:grpSpPr>
          <p:sp>
            <p:nvSpPr>
              <p:cNvPr id="110" name=""/>
              <p:cNvSpPr/>
              <p:nvPr/>
            </p:nvSpPr>
            <p:spPr>
              <a:xfrm>
                <a:off x="2650680" y="308448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36920" y="321768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55640" y="359244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66680" y="361152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06400" y="317952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19000" y="353520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23920" y="356040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2974680" y="381456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31960" y="330660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3286080" y="313524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317340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tch Processing: Va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18040" y="4218120"/>
            <a:ext cx="168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ata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371680" y="3228840"/>
            <a:ext cx="1365120" cy="927000"/>
            <a:chOff x="2371680" y="3228840"/>
            <a:chExt cx="1365120" cy="927000"/>
          </a:xfrm>
        </p:grpSpPr>
        <p:sp>
          <p:nvSpPr>
            <p:cNvPr id="124" name=""/>
            <p:cNvSpPr/>
            <p:nvPr/>
          </p:nvSpPr>
          <p:spPr>
            <a:xfrm>
              <a:off x="2873160" y="3723840"/>
              <a:ext cx="8636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87640" y="3736800"/>
              <a:ext cx="101520" cy="3808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520800" y="3723840"/>
              <a:ext cx="101520" cy="43200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2371680" y="3228840"/>
              <a:ext cx="540720" cy="768240"/>
              <a:chOff x="2371680" y="3228840"/>
              <a:chExt cx="540720" cy="768240"/>
            </a:xfrm>
          </p:grpSpPr>
          <p:sp>
            <p:nvSpPr>
              <p:cNvPr id="128" name=""/>
              <p:cNvSpPr/>
              <p:nvPr/>
            </p:nvSpPr>
            <p:spPr>
              <a:xfrm>
                <a:off x="2485440" y="3228840"/>
                <a:ext cx="101520" cy="1015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371680" y="3362040"/>
                <a:ext cx="0" cy="5968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390400" y="3736800"/>
                <a:ext cx="253440" cy="12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01440" y="3755880"/>
                <a:ext cx="0" cy="22860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41160" y="3323880"/>
                <a:ext cx="102960" cy="344520"/>
              </a:xfrm>
              <a:custGeom>
                <a:avLst/>
                <a:gdLst/>
                <a:ahLst/>
                <a:rect l="l" t="t" r="r" b="b"/>
                <a:pathLst>
                  <a:path w="65" h="217">
                    <a:moveTo>
                      <a:pt x="64" y="0"/>
                    </a:moveTo>
                    <a:lnTo>
                      <a:pt x="0" y="104"/>
                    </a:lnTo>
                    <a:lnTo>
                      <a:pt x="0" y="21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53760" y="367956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758680" y="3704760"/>
                <a:ext cx="24840" cy="292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809440" y="3958920"/>
                <a:ext cx="50400" cy="38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66720" y="3450960"/>
                <a:ext cx="445680" cy="90360"/>
              </a:xfrm>
              <a:custGeom>
                <a:avLst/>
                <a:gdLst/>
                <a:ahLst/>
                <a:rect l="l" t="t" r="r" b="b"/>
                <a:pathLst>
                  <a:path w="281" h="57">
                    <a:moveTo>
                      <a:pt x="0" y="0"/>
                    </a:moveTo>
                    <a:lnTo>
                      <a:pt x="136" y="56"/>
                    </a:lnTo>
                    <a:lnTo>
                      <a:pt x="280" y="8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120840" y="3279600"/>
              <a:ext cx="380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74840" y="3317760"/>
              <a:ext cx="257040" cy="23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089680" y="5353200"/>
            <a:ext cx="1040760" cy="558720"/>
            <a:chOff x="5089680" y="5353200"/>
            <a:chExt cx="1040760" cy="558720"/>
          </a:xfrm>
        </p:grpSpPr>
        <p:sp>
          <p:nvSpPr>
            <p:cNvPr id="140" name=""/>
            <p:cNvSpPr/>
            <p:nvPr/>
          </p:nvSpPr>
          <p:spPr>
            <a:xfrm flipH="1">
              <a:off x="5228640" y="5721120"/>
              <a:ext cx="27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5495760" y="5359320"/>
              <a:ext cx="634680" cy="3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5089680" y="5353200"/>
              <a:ext cx="24084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5381280" y="5511600"/>
              <a:ext cx="634680" cy="36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4805280" y="60357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2960" y="3736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48320" y="37958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7040" y="3303720"/>
            <a:ext cx="1447920" cy="8254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 &amp;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10240" y="425304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72160" y="455760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10240" y="242424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476160" y="24242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76520" y="242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2576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33526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ed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80" y="3349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ing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0-12T17:00:56Z</dcterms:modified>
  <cp:revision>331</cp:revision>
  <dc:subject/>
  <dc:title>Digital Library Architecture- Key Principles </dc:title>
</cp:coreProperties>
</file>