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CBB-C0E5-43FB-885C-1C941C9C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A57-8900-4B73-91A6-5366F837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0C8-5774-4683-A9C7-337F7D59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369-47AE-42BC-8464-9DD99F0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ADCF-F45D-4C60-B053-08D2DE9B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C06-D0C8-4107-8766-C0E527B7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3DC8-18C5-4C6D-8D66-372A74BC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B6D4-A3AA-4E88-B0D9-8D99D06B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5EF-583A-4FD8-83FE-B34F36DA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1B2-AB5E-404A-833A-07BCE404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32B-70D7-4DF5-B0F6-7C76ACEE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883-AA73-4228-B0EA-9542E37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2393-1F8A-498A-9B5E-30B8B2EC6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Management: How I learned to Stop Worrying and Hate My Co-workers L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eople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committing changes, each user merges their copy with the latest copy in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normally done automatically by the system and usually works, but you should not blindly accept the result of the m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el all the files in the source base that make up a product at each miles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fore and just after a major change (eg. changing several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in the database has a version 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ranch off the version tree to allow separate development pa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a main path (trunk) for the next major version and branches off of shipped versions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6000"/>
          </a:blip>
          <a:srcRect l="43550" t="30092" r="19357" b="23622"/>
          <a:stretch/>
        </p:blipFill>
        <p:spPr>
          <a:xfrm>
            <a:off x="5486400" y="4800600"/>
            <a:ext cx="210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n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new version ships, typically create a branch in the version tree fo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update: fix a defect in the latest version and then merge the changes (often by hand) into the maintenance 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create personal versions so you can make a change against a stable source base and then merge in the latest vers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is: man rcsi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is: man c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cyclic.com/cvs/info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ual Source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sdn.microsoft.com/S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rationa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managemen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ac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and 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in and un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support for b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on top of R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little support for bi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can be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ocking: merge before co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ema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S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’s entry in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out-edit-checki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-in web site cre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MS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case is configuration management on stero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reate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database with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fig spe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describes how to select files from the data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set a view, Clearcase creates a virtual filesystem containing only those versions of the files selected by the config 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earcas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groups at different locations can work on the sam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install tri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e-mail the author of a file when some one makes a change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merging model like CVS, but can also lock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known as Configuratio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Managers are tools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 your developmen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 as a single point of entry/exit when adding or updating developmen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learcas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s with MSD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s to rebuild out-of-date files even if your makefile does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and a bit bug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ful Rules for Version Control Bli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d Files Should Always Comp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eview Files Before Che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and run latest archived files       *as a set* before Che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heating (even “simple bug fixes” need to undergo this proc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ou Want A Source Contro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concurrent development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diverging source code 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s file/release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access to all previous rev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cor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revision was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al disk spac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’ll end up doing something equivalent anyway so it may as well be auto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Code Management Tools Are N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ubstitute for project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placement for developer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y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database of source code, documentation, 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file stored only once - all other versions are diffs of that one c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a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out the latest version of 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th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need old versions of the tools to build old versions of th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s software is rebuilt exactly as the customer receive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Su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thing else you might want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sion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ies ship several products from the same source base (ie Win NT and  Windows 2000 versions of MS 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racking down bugs you want to examine the code as it was when the product shipp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people can work on the same source base without col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 Locks individual files so only one person at a time can modify it *OR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Allows multiple people to modify a source file and the system will automatically merge the changes (usual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one person can work on a file at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airly well if developers work on different areas of the project and don’t conflict o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1: People forget to unlock files when they ar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2: People work around locking by editing a private copy and checking in when the file is finally unlocked - easy to goof and los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7T03:21:43Z</dcterms:created>
  <dc:creator>Ken Hopkinson</dc:creator>
  <dc:description/>
  <dc:language>en-US</dc:language>
  <cp:lastModifiedBy> </cp:lastModifiedBy>
  <dcterms:modified xsi:type="dcterms:W3CDTF">2000-09-14T16:10:53Z</dcterms:modified>
  <cp:revision>9</cp:revision>
  <dc:subject/>
  <dc:title>Source Code Management AKA Configuration Management Or How I learned to Stop Worrying (As Much) and Hate My Co-workers Less</dc:title>
</cp:coreProperties>
</file>