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F0C4-2903-470F-AA3A-DC28032A11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3809880"/>
            <a:ext cx="4648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n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Stop Gracefull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057400"/>
            <a:ext cx="822960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cancel a project than to star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harder to withdraw a service than introduc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ponents of the system must now reverse their public 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ment of expec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of the service need a migration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taff must have a graceful path for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Complete a Software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36232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arge software projects typically take at least two years from start to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ve phase -- changes of plan are easy to accommo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phase -- fundamental changes are almost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et many things can change in two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Sense of Urgenc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981080"/>
            <a:ext cx="7620120" cy="46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not-for-profit corporation is developing a system for a government organiz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6 all research had been completed and the system demonstrated successfully with real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0, the system is still not in full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cremental improvements to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peated requests for more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Reluctance to reorganize cler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body had a sense of u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vertaken by Even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University C has a project to develop a digital library system, with funds from Company Z , private foundations and the governm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3 an extensive system is running at the university and Z is marketing the technology to its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4 it is clear that web browsers and web formats (though technically weak) are becoming widely adop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ing Requirements and Desig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286000"/>
            <a:ext cx="7924680" cy="41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CNRI Handle System -- a high performance, distributed system to map names to resources (1994-9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only web browser was Mos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Java did no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mirroring and caching utilities were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94 commercial interest wa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decisions made in 1994 had to be changed.  Software was rewritten and greatly improved in 1998/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a job's worth doing, it's worth doing twice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nges of Leadershi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057400"/>
            <a:ext cx="8153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projects are wasted because of managemen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 1988, Company W gave University D $1,000,000 to port a new operating system to its personal computers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 was well done, on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W changed its president and senior technical staff during the project.  The work was wa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ade later and several presidents later, Company W is releasing a modern version of the sam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graduate student from University D is now Senior Vice President of Company W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ent Overs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133720"/>
            <a:ext cx="8001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work is out-sourced, the client must be vigil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pany G was the world's leader in software for optimization (e.g., linear and integer programming).  G had implemented several packages for various manufactur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rating system Company H contracted with G to develop an optimization package for its new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ckage was late, performed badly and disliked by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went wrong? What can we lea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Difficult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2133720"/>
            <a:ext cx="73911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development team at University E was given government funds to build a high-performance gateway from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otoco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mising young developer was hired and assigned to this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was too difficult for him, but he hid his problems for many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produced nothing of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can we learn from this experi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gineering and Marke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286000"/>
            <a:ext cx="82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rporate engineering &amp; marketing divisions at cross purpo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erox's Palo Alto Research Center pioneered window managers, Ethernet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al user interfaces, font managers, et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pple, Adobe, Digital, etc. brought them to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would not bring its first Unix workstation to the market until the software had been largely re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Sun's early workstations were unreliable but sold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057400"/>
            <a:ext cx="8305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appoint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President does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appoints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IO does not wa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appoints the computing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computing mangers do not want to admit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appoint the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The developers do not want to admit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body pretends that things are going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Return Tim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2133720"/>
            <a:ext cx="35053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 Dec 6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. Dec 11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30 - 3:00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d. Dec 13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:30 - 11:00 AM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30 U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nior Management Dynam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057400"/>
            <a:ext cx="7848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last the troubles can not be hidd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s and shareholders try to blame the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sident tries to blame the Chief Information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O tries to blame the computing manag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s about the Presi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uting managers try to blame the develop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d grumble about the 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s grumble about their manag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can we do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bering Though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057400"/>
            <a:ext cx="81532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computing projects are very complex.  Inevitab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delays and fail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organizations know how to manage risk &amp; uncertai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CIO'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anage to minimiz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confidence of their staff who keep th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Have the self-confidence to keep their senio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truthfully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362320"/>
            <a:ext cx="685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reward those people who were regular in attend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s and Risk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71629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ftware development projects can fail in many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d software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, over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function, full of bugs, bad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ing circum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of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biggest single source of problems is poor understanding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ing Ris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514600"/>
            <a:ext cx="6400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nage projects to avoid ri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and visible 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void su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l review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ingness to modify or cancel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celing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362320"/>
            <a:ext cx="7696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drew Window Manager (w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superior to X (MIT's Athena project) in 19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... Digital Equipment Corporation turning X into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with massive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ready to support 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fore wm cancelled in 1986, Andrew user interfa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pplications ported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lure to Cancel a Proj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1337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F developed a novel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985 to 1989, this was a promising language for simple programming of window-base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0, clearly not gaining acceptance beyond University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evelopment continued for many more years (about $500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cancelled becaus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o Big to Cancel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2133720"/>
            <a:ext cx="80773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University A has antiquated administrative systems. Senior management decides to replace them all with commercial packages from X.  The timetable and budget are hopelessly optim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get dispir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ief Information Officer finds another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Chief Information Officer is appoi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she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are doing it the Wrong Way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2209680"/>
            <a:ext cx="7543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versity B has a (big) joint project with Company Y to develop a new computer operating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wo years work, a junior software developer persuades the university leader that the technical approach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universit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hould the company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28T16:21:18Z</dcterms:modified>
  <cp:revision>617</cp:revision>
  <dc:subject/>
  <dc:title>Digital Library Architecture- Key Principles </dc:title>
</cp:coreProperties>
</file>