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5DC-DF90-427C-BEA5-B129C25B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E5D-8BC9-447C-A2FF-D631E31F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69B-05F9-4178-9624-A9B4118B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A1A-AA82-4A9B-ACCA-94BC12A7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ABE-CC07-400A-9AEB-C43AA1A0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347-66B0-46C4-A959-CB1FE7A2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A46-6BDB-4A09-9432-20D73A7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501-BEB8-4222-B096-34187C2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62D-3F46-4DB8-A689-EEF5B11F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E82-BFE3-461C-8371-AE88A0A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F58-9381-466E-B426-58A29BED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1C5-4A2C-483C-8DC7-D1541734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8F8-F32B-4B1C-9B94-C361D69896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6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1:41Z</dcterms:created>
  <dc:creator>U Kyaw Naing</dc:creator>
  <dc:description/>
  <dc:language>en-US</dc:language>
  <cp:lastModifiedBy>U Kyaw Naing</cp:lastModifiedBy>
  <dcterms:modified xsi:type="dcterms:W3CDTF">2012-10-04T16:18:26Z</dcterms:modified>
  <cp:revision>2</cp:revision>
  <dc:subject/>
  <dc:title>Slide 1</dc:title>
</cp:coreProperties>
</file>