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107-E280-4686-B29B-7BA8570A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467-0871-4D1F-AC4D-C5872304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EFE-74E9-4180-86A1-2661462C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CB3-87E0-4C79-9CCF-485ED3D7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BB2-5123-4E2A-BDD5-1DFBD2D8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24E-22FB-4C6C-9430-A4CE6AA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832-FA0A-40E6-AF75-C32979D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6E2-929E-4EFC-B469-B4F0FEC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2CA-2BEA-4E90-B9AC-B787640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A33-DFF0-4CA9-9436-24D3E47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A49-8A61-4FA8-8E6E-D106D85B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F8-080A-47D1-815D-3DC8670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6BA-CDF9-4810-ABAD-D6855B5BB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2:58Z</dcterms:created>
  <dc:creator>U Kyaw Naing</dc:creator>
  <dc:description/>
  <dc:language>en-US</dc:language>
  <cp:lastModifiedBy>U Kyaw Naing</cp:lastModifiedBy>
  <dcterms:modified xsi:type="dcterms:W3CDTF">2012-10-04T15:04:19Z</dcterms:modified>
  <cp:revision>1</cp:revision>
  <dc:subject/>
  <dc:title>Slide 1</dc:title>
</cp:coreProperties>
</file>