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ED24-1604-40E6-9A5C-892C1CD57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1089-5775-43FD-B2DE-3B22F711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0E53-9D28-45CA-BF67-B2A5C06B0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6DF0-B0B0-420A-9673-C13F1C975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E6FF-7D7C-40FE-8E12-A07BB3DC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0583-360E-40B7-A039-58D020B9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A925-CB2A-49CB-B275-27694E6D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FA6D-BFB8-44A4-AFC8-8428B75E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F0F9-FE79-427B-B7E6-0D01B01B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C8A0-389E-444D-A28D-79067278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A712-E0F6-4809-A05D-7D5053AF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E6EB-D52F-4286-84F8-6965C1E9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00A7-4F84-4587-A7E3-72234C8709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127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7040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4T15:07:26Z</dcterms:created>
  <dc:creator>U Kyaw Naing</dc:creator>
  <dc:description/>
  <dc:language>en-US</dc:language>
  <cp:lastModifiedBy>U Kyaw Naing</cp:lastModifiedBy>
  <dcterms:modified xsi:type="dcterms:W3CDTF">2012-10-04T15:10:11Z</dcterms:modified>
  <cp:revision>1</cp:revision>
  <dc:subject/>
  <dc:title>Slide 1</dc:title>
</cp:coreProperties>
</file>