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4446D-0524-4972-80EA-975AC20BA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1054A-E9E4-4BCA-AEC2-3AEA4C43C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99795-2CB0-4731-852A-ABDE79697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15F19-5478-4F3F-840F-61B60C600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5411A-A91C-4589-9850-65977EC62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6F49F-F205-49C2-9BFD-3DD1D758F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12465-8713-4CD1-BA8C-3A740E65E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33150-7CC5-420B-9ED3-52BDD9FA4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AFB32-A5B5-478F-91E4-6591C9232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1CE59-1B8D-4746-B1AD-A15509589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FEDBF-6753-4702-8691-68A3DDC13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7A2F8-CDA7-4600-83EC-A1953CA67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59CE3-581C-4440-BC3D-3538C3939C1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SUNP002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age 114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79232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4T15:19:19Z</dcterms:created>
  <dc:creator>U Kyaw Naing</dc:creator>
  <dc:description/>
  <dc:language>en-US</dc:language>
  <cp:lastModifiedBy>U Kyaw Naing</cp:lastModifiedBy>
  <dcterms:modified xsi:type="dcterms:W3CDTF">2012-10-04T16:17:49Z</dcterms:modified>
  <cp:revision>2</cp:revision>
  <dc:subject/>
  <dc:title>Slide 1</dc:title>
</cp:coreProperties>
</file>