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39F-7C57-4668-9690-4AF95337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64E7-259F-42F7-8085-927454DA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E58A-9C21-4066-A2B1-77D2C9CB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354-28CB-4FB0-9582-53B89CCE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F45A-E241-4DAB-B9E1-00D7BD66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1583-4770-499B-9E3A-6065759B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8C85-38FF-4682-B804-8AB9B091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7AEA-CCC5-48C4-B061-6ED28A8C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6179-1626-450E-85DC-AD65200F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B29B-C4F1-4D3E-84E2-5CB34355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68AC-086F-4DA8-BF76-55FEABEF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05C-11A4-4DF5-8C93-99F9DB62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F9E3-50E9-46DE-94A3-F4CE917D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BE79-69B0-4DED-B3C4-F26331E9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E625-AAF5-4990-A172-37600CD9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54FD-B454-454E-B19B-17BF148A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A760-3BA4-4B92-B334-5CD4EA13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7D28-3C6B-4926-BA20-5195037F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29C6-F8D3-4250-838B-1C568E23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0E3D-CC8E-46FF-83F7-C1FA78E4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999-FA05-467B-BC0C-B4A923A0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028-06F7-400D-90D6-52871623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6D2-6E93-43C5-8487-5A7A3591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3C79-D817-4A9C-B06E-66B6DBFA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A687-71D8-4A01-AEA1-DC28003C46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6EB0-B18B-419B-9344-064348AD60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Chapter Overview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 the TCP/IP protocol su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ing and troubleshooting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ing, configuring, and troubleshooting NW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ing and configuring network binding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905-7FDE-4A32-AFD0-2A15248EEB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744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he Automatic Private IP Addressing Process for Clients with a Valid Lease at Boot Time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e client tries to renew its lease with the DHCP ser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f the DHCP server is not available, the client pings the default gatew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the default gateway replies, the client continues to use the le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he default gateway does not reply, the client uses Automatic Private IP Addressing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131-52C4-497D-864B-559C2D3D32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Specifying an Alternate TCP/IP Configuration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979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a DHCP server is not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You can use an alternate TCP/IP configuration when a computer is used on more than one network and one of the networks does not have a DHCP server and does not use Automatic Private IP Addr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you want to disable gateway Automatic Private IP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Automatic Private IP Addressing is enabled by defa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If the first TCP/IP configuration fails, Microsoft Windows XP Professional uses the second TCP/IP configuration instead of using Automatic Private IP Address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E56-52B7-4C77-B04E-A6201CAAF1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f04al12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696080" cy="4376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CP/IP Tools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C0E6-1BA9-4DA9-B089-B59E4140D7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esting a TCP/IP Configuration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f04al12" descr=""/>
          <p:cNvPicPr/>
          <p:nvPr/>
        </p:nvPicPr>
        <p:blipFill>
          <a:blip r:embed="rId1"/>
          <a:stretch/>
        </p:blipFill>
        <p:spPr>
          <a:xfrm>
            <a:off x="1219320" y="1860480"/>
            <a:ext cx="6629400" cy="470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5453-3136-4B59-9E4C-820681576B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Introducing NWLink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s the common name for NWLink IPX/SPX/NetBIOS Compatible Transport protocol (NWLin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 Microsoft’s 32-bit implementation of Novell NetWare’s Internetwork Packet Exchange/Sequenced Packet Exchange (IPX/SPX) protoco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C45-49D8-4FE2-A296-F6231ADCE1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Understanding NWLink Featur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upports communication with NetWa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upports sockets and NetBIOS over IP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Gives NetWare clients access to applications that run on Microsoft Windows 2000 Serv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s File and Print Services for NetWare (FPNW) to be installed to give NetWare clients access to file and print resources on Windows 2000 serv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1502-F42B-479D-A9BB-2C4F76A41E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Installing NWLink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F04al15" descr=""/>
          <p:cNvPicPr/>
          <p:nvPr/>
        </p:nvPicPr>
        <p:blipFill>
          <a:blip r:embed="rId1"/>
          <a:stretch/>
        </p:blipFill>
        <p:spPr>
          <a:xfrm>
            <a:off x="1371600" y="1835280"/>
            <a:ext cx="6324480" cy="47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72D5-BDFB-484B-8F3F-E2555EC655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Configuring NWLink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F04al16" descr=""/>
          <p:cNvPicPr/>
          <p:nvPr/>
        </p:nvPicPr>
        <p:blipFill>
          <a:blip r:embed="rId1"/>
          <a:stretch/>
        </p:blipFill>
        <p:spPr>
          <a:xfrm>
            <a:off x="2835360" y="1905120"/>
            <a:ext cx="36637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542-5CD2-4CC0-AAD9-C30BA333B1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roubleshooting NetWare Connectivity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Ipxroute confi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Ipxroute ripo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Network Moni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roubleshooting common NWLink configuration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Verify that NWLink and Client Services for NetWare are insta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Verify that Client Services for NetWare is runn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Verify that the Frame Type is set to AutoDetect on the cli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the Installed Network Number and Frame Type on the client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4A81-E415-4CE1-AC89-6B70A91991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Introduction to Network Binding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f04al18" descr=""/>
          <p:cNvPicPr/>
          <p:nvPr/>
        </p:nvPicPr>
        <p:blipFill>
          <a:blip r:embed="rId1"/>
          <a:stretch/>
        </p:blipFill>
        <p:spPr>
          <a:xfrm>
            <a:off x="1219320" y="1868400"/>
            <a:ext cx="662940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EDB1-506B-4709-90F1-4845F992DB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Advantages of Using TCP/IP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 routable networking system supported by most operat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e technology for connecting dissimila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 robust, scalable, cross-platform client/server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of accessing Internet resour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37F-02A8-4010-8514-DFF0B0814A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Configuring Network Binding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f04al19" descr=""/>
          <p:cNvPicPr/>
          <p:nvPr/>
        </p:nvPicPr>
        <p:blipFill>
          <a:blip r:embed="rId1"/>
          <a:stretch/>
        </p:blipFill>
        <p:spPr>
          <a:xfrm>
            <a:off x="2387520" y="1828800"/>
            <a:ext cx="4251240" cy="478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F98D-F320-4ECB-91F4-973D00FDEF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Chapter Summary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763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Microsoft’s implementation of TCP/IP provides a robust, scalable, cross-platform client/server framework that is supported by most large network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The TCP/IP suite of protocols maps to a four-layer conceptual model: network interface, Internet, transport, and application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The four Internet layer protocols—IP, ARP, ICMP, and IGMP—encapsulate packets into Internet datagrams and run all the necessary routing algorithm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The two transport layer protocols—TCP and UDP—provide communication sessions between host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TCP/IP provides the Winsock and NetBT interfaces for network applications to use the services of the TCP/IP protocol stack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Each TCP/IP host has a logical IP address that identifies a computer’s location on the network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D9F3-22A0-4E97-B935-1EB44FA868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Chapter Summary (Cont.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icrosoft’s implementation of TCP/IP enables a TCP/IP host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Use a static IP addr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Obtain an IP address automatically from a DHCP ser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Use Automatic Private IP Addr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NWLink provides NetWare clients with access to applications designed for Windows 2000 Ser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 allow a client running Windows XP Professional to access a NetWare server, you must install NWLink and Client Services for NetWare on the cli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inding allows all bound components to share the services they provid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3D4-1F81-43CC-8BE0-CF8FBA25C3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he TCP/IP Suite of Protocols Maps to a Four-Layer Conceptual Model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f04al02" descr=""/>
          <p:cNvPicPr/>
          <p:nvPr/>
        </p:nvPicPr>
        <p:blipFill>
          <a:blip r:embed="rId1"/>
          <a:stretch/>
        </p:blipFill>
        <p:spPr>
          <a:xfrm>
            <a:off x="380880" y="2552760"/>
            <a:ext cx="845820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A3C-D46B-4976-9F5C-17A598DE4D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Understanding IP Address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dentifies each Transmission Control Protocol/Internet Protocol (TCP/IP)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onsists of a network ID and a host 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s of a logical 32-bit number (four 8-bit octet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CAB1-2939-4F1F-885A-EDB504323C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Addresses Supported by Microsoft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lass A addresses: 1.0.0.0 through 126.0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126 networks and 16,777,214 hosts p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lass B addresses: 128.0.0.0 through 191.255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16,384 networks and 65,534 hosts p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lass C addresses: 192.0.0.0 through 223.255.255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,097,152 networks and 254 hosts per net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849D-0FE3-4C79-9D20-DC06B8C0B9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Using a Static IP Address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F04al05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4183200" cy="471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10D6-11EC-414F-9661-1B58B6AAA9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Obtaining an IP Address Automatically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f04al06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31164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2EF-F71B-4026-872C-3F5D7F75CC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Using Automatic Private IP Address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utomatically configures Internet Protocol (IP)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ithout using static IP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ithout installing the Dynamic Host Configuration Protocol (DHCP)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rovides the ability to create a functioning single-subnet network by de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es not require a default gate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DD2-D20B-420B-B700-4E2B47717E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he Automatic Private IP Addressing Proces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f04al08" descr=""/>
          <p:cNvPicPr/>
          <p:nvPr/>
        </p:nvPicPr>
        <p:blipFill>
          <a:blip r:embed="rId1"/>
          <a:stretch/>
        </p:blipFill>
        <p:spPr>
          <a:xfrm>
            <a:off x="2894040" y="1841400"/>
            <a:ext cx="3887640" cy="47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6C1-4A71-4A45-AAA2-2B082CFD6B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