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CDD-FB5A-4D42-9DD1-48416F4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16C-471E-46CD-A0EE-7C00DCC0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C7E-AECC-4CAE-950C-63F05658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108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8724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9492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108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8724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8AA-A01A-4F42-A739-7FAEBED2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A598-5A79-4E1A-83E8-AF0280CA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EEA-BBD5-4582-812A-42A434B5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B4E-6943-405B-8D40-12A0DEB5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7126-F4F0-4E1E-A100-9AD0FD9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6CC-7156-4101-87E1-6EB0044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63240" y="457200"/>
            <a:ext cx="7118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9B1F-62A7-4F09-8E83-CD72C49C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1AD0-13E6-4D78-8DC6-DDBAA00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889-71A3-4EB7-B97E-BDA8B10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61A-70A9-490D-B128-C8560CD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F76-B591-48E6-A7BF-0CDB935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D0A-646B-4B0A-94F9-0007135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A6CA-F4EB-4413-B4E7-253E0F47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108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8724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9492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108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8724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6EDC-83B3-4F70-A2E0-08C613D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29B-29B5-40A0-B4C2-0769810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D61-2C6F-4FB9-B08E-25DAABFB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6AB-A531-42D3-A69A-C0B4F63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63240" y="457200"/>
            <a:ext cx="7118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83F-C99B-45D2-B7DE-1DA2861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6C9-C90E-4A8F-9BF6-BDE9FFF0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8A4-E8E9-4F2D-B6C4-C175B66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BDA-6B89-4362-96C0-5DD978D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5000"/>
              </a:lnSpc>
              <a:spcAft>
                <a:spcPts val="799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5000"/>
              </a:lnSpc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5000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5000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AB1B-0ED4-47BE-A82A-2147E324CA3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A0A0E21-228C-4AF6-9DDF-06ABDC3ED080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361960" y="63244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0D3-6FED-4131-8AF1-D045C67EC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B9E5-6CD2-487A-9E50-0AE5D641CB5F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6BDE4EB3-EB69-4C69-891F-5CA044150285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1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FF11-6639-48E2-BCB7-09B6C9E74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TCP/IP Protocol Su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stry stand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enterprise networking and 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0F2-EED1-4C11-9ABE-27471E6A27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TCP/IP Ut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7tk05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657600" cy="26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1EC-24B5-4EE5-9638-69916F23C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pconf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ipconfig /all to verify the TCP/IP configuration parameters on a hos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ipconfig /all | more to prevent the ipconfig output from scrolling off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EA9-A7EE-4E13-B16D-E950CB13F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1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configuration is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displays the IP address and subnet ma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displays the default gateway if it is assig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28E-3B37-402B-A5C2-748494224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2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duplicate IP address ex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indicates IP address is config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mask is 0.0.0.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F3E-DAF6-4851-907E-3F2C8A4409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3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erver running the DHCP Service on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address provided by Automatic Private IP 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address is 169.254.0.0 through 169.254.255.25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7D0-2FA0-4A8D-BFD6-1D8BE348FF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o test 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o determine if a host is available and 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CAA-44F5-4C54-ACC0-CF9CB10DC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pconfig and P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F07tk0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632040" cy="26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EB2-1E2E-4CDD-912B-3E6A9F1CC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WLink IPX/SPX/NetBIOS-compatible transpor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’s implementation of Novell’s NetWare IPX/SPX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400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ly used whe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s running Microsoft operating systems access resources on NetWare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s running NetWare access resources on computers running Microsoft operating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459-F81B-4EDC-9C44-986F5E9AF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NWLink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communications with NetWare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sockets and NetBIOS over I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NetWare clients with access to Windows 2000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824-8E41-4732-AA58-1B805182A7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ing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F07TK07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63536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394-BB53-43CC-826F-B364C40D7B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990720"/>
            <a:ext cx="742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TCP/IP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a Microsoft Windows 2000 Config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 routable networking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s dissimila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 robust, scaleable, cross-platform client/server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Windows Sockets (Winso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ccess to Internet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7080" y="1523880"/>
            <a:ext cx="8542080" cy="1052280"/>
            <a:chOff x="127080" y="1523880"/>
            <a:chExt cx="8542080" cy="1052280"/>
          </a:xfrm>
        </p:grpSpPr>
        <p:sp>
          <p:nvSpPr>
            <p:cNvPr id="103" name=""/>
            <p:cNvSpPr/>
            <p:nvPr/>
          </p:nvSpPr>
          <p:spPr>
            <a:xfrm>
              <a:off x="417600" y="1631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0280" y="1631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440" y="2054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1160" y="2054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80" y="1981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1523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2800" y="2314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861-2C76-48C8-8F76-07FD18724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287-BBC9-4057-8C59-6230BEA10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network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1D6-2E5C-4680-9FB6-09CE8B1A81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WLink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default, Windows 2000 detects a frame type and a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2000 provides a generic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network adapter card bound to NWLink in a computer requires a frame type and a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878-C3EA-4ED8-A41E-3F34C0ADA8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rame type defines the way that the network adapter card formats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WLink frame type should match the frame type on the NetWare ser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manually configure the frame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C98-2A97-463B-BF3D-A91F306C65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ologies and Fram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supports Ethernet II, 802.3, 802.2,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ken Ring topology supports 802.5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DI supports 802.2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C9A-9D60-49E9-9583-787D430967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frame type configured on a network adapter ca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a network numb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twork number must be unique for each network seg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 on a segment using the same frame type must use the same network number to communicate with each oth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Registry Editor to manually specify a network numb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DE1-F9E9-4AA7-80D7-3D1E90673F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al Network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quely identifies a computer on the network for internal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ht-digit hexadecimal number that is set to 00000000 by defa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A7B-9F01-4AEB-AADD-829664C74D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ually Assign an Internal Network Number 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NW is installed and there are multiple frame types on a single ad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NW is installed and NWLink is bound to multiple adapters in the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lication is using the NetWare Service Advertising Protocol (SAP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62C-5813-45EA-A74F-48D1036919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etBE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for LANs with 20 to 200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, fast, and effici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ou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864-38B0-4E7C-88E9-5D6804D135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EUI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on-oriented and connectionless communication between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configuration and self-t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prot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memory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C0C-C957-413E-AA0C-9344229A32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EUI Lim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departmental-sized 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nect computers running Windows 2000 and NetBEUI by using bri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es on broadcasts for many of its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E35-6C66-41BB-8952-DFD90C0FA6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r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F07tk0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22928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7C3-45E9-49D9-ACB7-FC8818AF9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F07tk09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19724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632-9848-4210-B2C7-2F005C5B77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Talk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computers running Windows 2000 Server and Apple Macintosh clients to share files and prin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mputer running Windows 2000 Services for Macinto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available on the net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F6A-222E-44CB-871E-17D1037B35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Monitor Driver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s and displays statistics about activity detected by the network c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w these statistics on a computer running Network Monitor Agent Serv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icrosoft Systems Management Server and Network Monitor to collect statistics from computers running Network Monitor Ag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908-CF4C-46A0-83C5-38C655C10C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F07tk10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879720" cy="27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7E5-F033-47C5-93F7-E28C399987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ing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select which protocols are bound to the network adapter c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dding network software, Windows 2000 automatically binds all dependent network components according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river Interface Specification (NDIS) 5 provides the local security database that Windows 2000 uses to validate the logon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CD8-931A-4B27-B0BF-FA2271358E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Network And Dial-Up Connections window, click Advanced, and then click Advanced Settings to configure network bind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n experienced network administrator who is familiar with the requirements of the network software should attempt to change binding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25F-2148-4E13-9CFC-0345845788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ying Binding Or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specify binding order to optimize network perform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pecify the binding order, in the Network And Dial-Up Connections window, click Advanced, and then click Advanced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11-6C4E-41F7-BC0F-FE2FFE6407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CP/IP to Use a Static Add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default, client computers running Microsof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2000, Microsoft Windows 98, or Microsoft Windows 95 obtain TCP/IP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mputers should always be assigned a static IP address, for example the computer running the DHCP Serv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EF5-86FA-4A1D-83FA-F056CCA0B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ons Used in Configuring a Static TCP/IP Add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F07TK02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586320" cy="39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999-8303-4C7F-9CDF-8F4480706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240" y="9144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CP/IP to Obtain an IP Address Automatical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7080" y="1447920"/>
            <a:ext cx="8542080" cy="1052280"/>
            <a:chOff x="127080" y="1447920"/>
            <a:chExt cx="8542080" cy="1052280"/>
          </a:xfrm>
        </p:grpSpPr>
        <p:sp>
          <p:nvSpPr>
            <p:cNvPr id="119" name=""/>
            <p:cNvSpPr/>
            <p:nvPr/>
          </p:nvSpPr>
          <p:spPr>
            <a:xfrm>
              <a:off x="417600" y="15559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280" y="15559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440" y="19782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1160" y="19782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080" y="19051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1447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2800" y="22384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F07tk0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2063880" cy="291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CEC-8052-4101-B90E-4AD86E98A01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47F5742B-3831-4A7C-8A1D-FA7155352019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1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63244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AC4-CE4F-44B5-AEE1-4A5FC2DC20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9C2-4E79-4953-8185-4C3A94A70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f dynamic IP address assignment for LAN adap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400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configuration of IP addresses with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tatic IP address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01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ing the DHCP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e network LAN adapter to Obtain An IP Address Automa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70B-3DFD-409A-BBF0-B0B9BBEF0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s in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F07tk04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444760" cy="297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9E4-09FC-49AF-8176-2323C1B4F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ling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d by defa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the IPAutoconfigurationEnabled value to the HKEY_LOCAL_MACHINE\SYSTEM\CurrentControlSet\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s\Tcpip\Parameters\Interfaces\Adapter subk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IPAutoconfigurationEnabled value to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491-8ACB-4EC6-B067-8B94206FBD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0:59:18Z</dcterms:created>
  <dc:creator>Microsoft Corporation</dc:creator>
  <dc:description/>
  <dc:language>en-US</dc:language>
  <cp:lastModifiedBy>c177538-a</cp:lastModifiedBy>
  <dcterms:modified xsi:type="dcterms:W3CDTF">2000-06-26T15:01:32Z</dcterms:modified>
  <cp:revision>41</cp:revision>
  <dc:subject/>
  <dc:title>Reliability and Performance</dc:title>
</cp:coreProperties>
</file>