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5DC-6AF2-4585-A10D-CD2CC19E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9A3-0654-4B36-9D17-EF2FE99E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D28-A072-48E4-86FE-0A12D94C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248-56A3-46B3-8D69-0F3EB319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D5A-B3DA-4895-8516-FA4C5D1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07F-1BE4-47CF-AEFE-4265543C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DAA7-00E6-402E-9E27-3B7F0A1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7312-667F-4C63-BA12-4D24DC94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2EE-E589-471B-A76C-AC569F5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42C1-D703-4F68-B2ED-84B6DFE3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E77-5853-49C7-A13F-0E67919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A25-53FB-41D5-A3AE-D5469B3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0DBD-E350-4DDB-BEA0-D353405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FB8B-9886-4754-B9F3-4057C52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60CD-8445-4057-B303-BD8CCDA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1A4D-3872-473A-A2DD-14065E4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62D2-7BB0-4A94-9DF7-3F06ED27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100-B665-46F7-9794-3275D79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E99-6490-472F-B41D-C3893FC1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14C-A608-4D0C-90E0-6931565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51F-C6BC-4FC8-8A24-7929C85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234-DD00-41A7-9E4D-F4F405A1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4DF-5FF3-41F4-97CB-8B29428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727-B4DE-4F45-A41A-D70856E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0F82-80AD-4970-BD76-5BD939C9CC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98F8-03A8-4254-8512-A23E8B11D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Overview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the TCP/IP protocol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ing and troubleshooting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, configuring, and troubleshooting NW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ing and configuring network binding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5D2-23E1-42A2-B52F-09C232C2F6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44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 for Clients with a Valid Lease at Boot Tim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client tries to renew its lease with the DHCP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DHCP server is not available, the client pings the default gate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the default gateway replies, the client continues to use the l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default gateway does not reply, the client uses Automatic Private IP Address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195-8CA8-455B-948D-8C85AA2C4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Specifying an Alternate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a DHCP server is not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You can use an alternate TCP/IP configuration when a computer is used on more than one network and one of the networks does not have a DHCP server and does not 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you want to disable gateway Automatic Private IP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utomatic Private IP Addressing is enabled by defa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first TCP/IP configuration fails, Microsoft Windows XP Professional uses the second TCP/IP configuration instead of using Automatic Private IP Addres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DB4-2351-46BC-B642-3A358CD1F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f04al12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96080" cy="437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CP/IP Tool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A3C-4DFF-4EC1-B490-3DB99F8EF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esting a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f04al12" descr=""/>
          <p:cNvPicPr/>
          <p:nvPr/>
        </p:nvPicPr>
        <p:blipFill>
          <a:blip r:embed="rId1"/>
          <a:stretch/>
        </p:blipFill>
        <p:spPr>
          <a:xfrm>
            <a:off x="1219320" y="1860480"/>
            <a:ext cx="66294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D98-73DF-4F60-B8A1-B943EE4C3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s the common name for NWLink IPX/SPX/NetBIOS Compatible Transport protocol (NW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Microsoft’s 32-bit implementation of Novell NetWare’s Internetwork Packet Exchange/Sequenced Packet Exchange (IPX/SPX) protoc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88F-A1E1-46BE-89E2-43446C63F2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NWLink Featur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communication with NetWa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sockets and NetBIOS over IP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ives NetWare clients access to applications that run on Microsoft Windows 2000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File and Print Services for NetWare (FPNW) to be installed to give NetWare clients access to file and print resources on Windows 2000 serv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915-2993-463A-A998-9540A00D7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stall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04al15" descr=""/>
          <p:cNvPicPr/>
          <p:nvPr/>
        </p:nvPicPr>
        <p:blipFill>
          <a:blip r:embed="rId1"/>
          <a:stretch/>
        </p:blipFill>
        <p:spPr>
          <a:xfrm>
            <a:off x="1371600" y="1835280"/>
            <a:ext cx="6324480" cy="47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B65-6117-4AAC-8EE5-38B17D723C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F04al16" descr=""/>
          <p:cNvPicPr/>
          <p:nvPr/>
        </p:nvPicPr>
        <p:blipFill>
          <a:blip r:embed="rId1"/>
          <a:stretch/>
        </p:blipFill>
        <p:spPr>
          <a:xfrm>
            <a:off x="2835360" y="1905120"/>
            <a:ext cx="3663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AB6-7320-4DE5-9DE5-0C43DC9E1B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roubleshooting NetWare Connectivit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confi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rip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Network Moni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oubleshooting common NWLink configur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NWLink and Client Services for NetWare are inst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Client Services for NetWare is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the Frame Type is set to AutoDetect on the cli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the Installed Network Number and Frame Type on the client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BD6-14C7-4CD3-BD3B-0135BDEAA7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tion to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f04al18" descr=""/>
          <p:cNvPicPr/>
          <p:nvPr/>
        </p:nvPicPr>
        <p:blipFill>
          <a:blip r:embed="rId1"/>
          <a:stretch/>
        </p:blipFill>
        <p:spPr>
          <a:xfrm>
            <a:off x="1219320" y="1868400"/>
            <a:ext cx="6629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2BF-011F-4C60-BBC1-DE9CE01660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vantages of Using TCP/IP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utable networking system supported by most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technology for connecting dissimila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bust, scalable, cross-platform client/server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of accessing Internet re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E8C-8211-4A9A-B706-00612B8DC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4al19" descr=""/>
          <p:cNvPicPr/>
          <p:nvPr/>
        </p:nvPicPr>
        <p:blipFill>
          <a:blip r:embed="rId1"/>
          <a:stretch/>
        </p:blipFill>
        <p:spPr>
          <a:xfrm>
            <a:off x="2387520" y="1828800"/>
            <a:ext cx="425124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24F-0B2F-47F7-8BD3-B44CFA6495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provides a robust, scalable, cross-platform client/server framework that is supported by most large network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CP/IP suite of protocols maps to a four-layer conceptual model: network interface, Internet, transport, and applica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four Internet layer protocols—IP, ARP, ICMP, and IGMP—encapsulate packets into Internet datagrams and run all the necessary routing algorithm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wo transport layer protocols—TCP and UDP—provide communication sessions between host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CP/IP provides the Winsock and NetBT interfaces for network applications to use the services of the TCP/IP protocol stac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Each TCP/IP host has a logical IP address that identifies a computer’s location on the networ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955-5C9E-4F4F-A1F6-49FDF656E7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 (Cont.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enables a TCP/IP hos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 static IP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btain an IP address automatically from a DHCP ser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WLink provides NetWare clients with access to applications designed for Windows 2000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allow a client running Windows XP Professional to access a NetWare server, you must install NWLink and Client Services for NetWare on the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nding allows all bound components to share the services they provid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17F-FC77-4CB3-A994-42F9CA6AD0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TCP/IP Suite of Protocols Maps to a Four-Layer Conceptual Mode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f04al0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845820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279-1604-4466-B02A-00BEE4312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IP Address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dentifies each Transmission Control Protocol/Internet Protocol (TCP/IP)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sists of a network ID and a host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s of a logical 32-bit number (four 8-bit octet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E4F-8025-408B-94D1-D34533286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dresses Supported by Microsof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A addresses: 1.0.0.0 through 126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26 networks and 16,777,21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B addresses: 128.0.0.0 through 191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6,384 networks and 65,53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C addresses: 192.0.0.0 through 223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,097,152 networks and 254 hosts per net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1BB-90AB-4A95-9CC1-3F1D2F57B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 Static IP Addres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F04al05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8320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76C-0A9B-4D7A-AF31-0B5672A3F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btaining an IP Address Automaticall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f04al06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311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F79-F8B4-46ED-B91D-439D4EB4C0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utomatic Private IP Address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tomatically configures Internet Protocol (IP)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using static IP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installing the Dynamic Host Configuration Protocol (DHCP)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vides the ability to create a functioning single-subnet network by 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not require a default gate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375-00DB-4D92-849C-510F8F526F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f04al08" descr=""/>
          <p:cNvPicPr/>
          <p:nvPr/>
        </p:nvPicPr>
        <p:blipFill>
          <a:blip r:embed="rId1"/>
          <a:stretch/>
        </p:blipFill>
        <p:spPr>
          <a:xfrm>
            <a:off x="2894040" y="1841400"/>
            <a:ext cx="3887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1D-5EC2-4DC0-B00A-524302D044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