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9.wmf" ContentType="image/x-wmf"/>
  <Override PartName="/ppt/media/image19.jpeg" ContentType="image/jpeg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27.jpeg" ContentType="image/jpeg"/>
  <Override PartName="/ppt/media/image8.jpeg" ContentType="image/jpeg"/>
  <Override PartName="/ppt/media/image13.jpeg" ContentType="image/jpeg"/>
  <Override PartName="/ppt/media/image32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EB3EF-8863-4937-AAD3-4D23F60AEC6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CAE23-E9E2-48BB-B692-62110282CD1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11AA3-598E-4125-A0D2-70D0FDB47E5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258D8-5954-43C0-8E7D-F3F928B2E46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08E82-8935-4F26-96EF-754B367B97F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36294-1785-4255-A0E5-6CEAAF5F80B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82B6B-5E16-4AE1-8573-446FAB5E9B4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5, drawing (a)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B9959-333C-4DCA-8F0E-089AC374F96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9A2F9-8369-4870-A6C7-34E3ED94B19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5, drawing (b)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517D6-9649-41AA-B224-38BEFE1FF4C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37286-978B-4DB1-A18E-117506DA4D1B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5, drawing (c)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F5E10-B10B-480B-9C72-3A2AED8F630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DB691-9839-43EF-B382-68462C54ED0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239E5-A28A-4DC9-B205-0C14F16458B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655C5-2895-4B67-BF79-558E593BBE9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80AD6-C546-4A38-886B-AAAE866FB91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7E3BB-A5A5-4CFF-840A-B2303D7E70F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45C51-C94C-48ED-85CF-D250508E16E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24FA0-0E2F-49BB-BD3B-C7A825D5C76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22DAE-1171-4358-812E-50B75D6F0EB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9ED80-D357-4B93-ABE4-7A32A5BA517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A8B0F-E3A1-4D1A-99A6-B468755414E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83D4A-68C1-4362-A51B-642473CE447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94851-E5A5-4026-9AA9-90E48F1183A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25BF4-4950-41E9-AEFD-3186C6E8E51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88259-F3B0-4D92-A3A5-303C75FEAE1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D0C32-653E-46E9-92D9-4E20255D455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0 (a)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C3C02-45D6-488D-AC43-F571D2D7147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46350-E789-4DF4-B667-1AF8C9D20C0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0 (b)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8729E-4E5F-4F02-81D9-B774BD9A50D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B3412-09C5-47BA-9A46-4D5CA12AFDB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AD982-E509-40CC-AD30-27691635643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0BF53-C222-4CB6-9645-1D243829C16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9116F-F3E3-473B-BEA3-F3798A38E0C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2D0A3-9FCC-438F-B233-D4FF63D6138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C74E7-136D-4C6B-A1BC-6DFAC7D3B9C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DC366-DE1E-4567-BE2C-AC5E7C04A5E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16427-C64B-4AFC-96F8-2D8B814CF79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7D935-43DD-43BE-B39C-7AA53FBA4FE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50FB0-0205-4D93-B44C-28DEC3B87B6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A2BDA-CFF4-401C-9F18-17EE9244A30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C4AF2-F715-41D7-80AE-9B2CDD2DA7B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95C8A-D9D6-49B1-98A7-5CEBC3F5713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6696C-131E-419A-AB91-DF6C72D45F0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AEE30-64E6-44A0-ACF4-0CD1136E4F0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3E229-D522-43A0-9DD9-4376E4342CF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27012-04BB-40EA-A3E6-2615CB2F538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9ED71-32E3-4547-AECC-E3EB03CBF40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E1664-86A3-4ECF-9B5E-AEF467DD989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E343E-50A2-407C-9BF3-58E91FA18CB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C6760-8D5E-438A-A013-51292D1E8FB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B4234-CBA9-4FB1-AC66-1133223B72A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EBE28-2B67-4E1F-88B9-5418A1F080C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36B1D-CD95-4193-AC2B-79BC81FD652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9A66D-EEFD-4117-8E65-6019269185D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1B794-5461-4887-85DB-C4B20952B61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9C090-085E-470E-AB55-F95A53C4B5D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91519-A1A1-4C16-80F6-7FF58A51F4A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9259B-CBEC-4E05-B316-446829B1D3C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F69A3-7CA4-4A0F-98A4-B0958F543AE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66631-3015-42C6-80F0-E7637E9E44F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2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7D48E-BEFA-494B-8430-25C7668ACF3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37ADE-BC4F-4351-A2CE-E4653DCB18E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F5636-88E9-4664-B02E-2215D6DE677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E8A09-FCE8-4803-B3AD-E418B8C25CF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2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9AFCD-3AF9-4DB3-A440-5FD5272B699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4D9FE-A85D-465B-AE09-6346CA64874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854E2-103F-4C80-A058-A25ADACA569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57AAA-DAF2-4FCA-8590-2B2FBA40D8B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2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7FF41-87CB-4CBE-A372-BED1EC328C6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C9203-A6BE-4334-9DAD-20AA3E8B35A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2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E329A-E57C-496C-BBDB-AAFB7606ADD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6AEC0-E561-49AE-97BF-EDBF18CA6E6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1F5D6-495B-4DEA-AD31-D67C8D6BE91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02B13-8623-48C4-B0E6-68C56906A4B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2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579CC-5FA5-43B6-8938-6B5BB42CC46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D648F-0468-431E-860B-F205C9E0C67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CD974-39A9-47C7-BA5E-E13EC31222A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91F47-CE94-4E1A-AA7D-31E17E7BED5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F1D2E-810F-4E97-B4FD-141D6F9EDB9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E9E55-D0C1-45E3-97CA-8FEC399DD72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79F05-6F07-4E87-9582-9A962C1F413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5A15-801B-4AEA-BB2D-A9B9610DFFF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291A7-1D5F-4FD2-85B5-F1D7720118A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9D1BC-21E7-435B-A827-F12C5060054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AC5B4-E3CB-40EF-BB30-961AD9B84A3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8F68-CE01-41FD-A900-8299BAC0B89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F7985-8466-40DE-80A8-45D8D5B9465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DD5CB-1D39-422D-B8CC-F9B63CE13D9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2.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70190-597D-4285-92C7-0D0679308DBF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EFC0B-23D5-4576-88F9-C1EB66DD929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892-ED43-4AC3-8DB5-6007FE42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8AD-C096-4C30-BC9A-95C6E579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63A-FCCF-41E0-AB6D-E72B61B8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8D3-D30E-4044-BAB8-4A9DEA3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2AF-CCB0-47C2-980C-F859A08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F51-1626-45DF-A6F6-2FEF4CF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BFC-E161-46E2-AE98-B499C81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BAA-8A86-4134-A070-A41DD42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292-A801-4C7D-9258-D356B2C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0B3-FAFE-4A96-AA3F-AF7CDE7D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810-D28E-4292-A3E2-20E8D113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AEE-CD66-42AD-8D48-F3B57262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555D-5449-4612-A513-020BD080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198D-07B4-453E-A645-B5112684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716-B471-4D44-8002-B127D9DE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B018-1A24-4722-9FB8-A61CC55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38F5-5236-42AB-8EAE-B7A61843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A5C4-EAB8-4F3F-8114-E5F19E8D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BCBE-673B-4425-A448-F3B0560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EE29-3233-45B1-92D7-81AFC86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D2EF-9A05-4F8E-9074-68D599B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811-FA7A-4019-8914-37822B1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7E9-8166-4076-A69E-D5B3D8AD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32A8-1505-42A9-9273-28CDE021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B826-5729-4D04-A81F-D52ACD1C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20E3-3601-4998-A872-B59D7DD7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EF6E-E9D8-4E76-B07E-1D940C1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500F-3AE0-412B-98F5-9680FFB6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A0DB-8FB1-42CA-9913-E364A2C6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4679-001C-4A68-A3EB-9BF6A2DB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16D7-5A7B-4C76-9B06-1BAB4B9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E828-B32F-4852-B98B-25ECD1E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7F75-71D0-4010-9F78-4839709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DA52-E844-4FCD-B8C9-B20D18C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84DB-F714-42C6-BAAE-753E517B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3899-F08A-42F3-BD2D-69D53384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20E8-63FC-4366-A31A-FB288658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2892-165C-4CB8-81ED-B07D6F23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6E5D-990C-40A6-9F7E-B06AD10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79F3-6F36-4511-95BF-BE6C7D2A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FDAA-BFA6-4E63-9298-70633667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6E66-82B9-49EA-9639-6F0F782C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1E9EF-9FFD-4642-8D51-8BA49A2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5D1D-6095-41D3-A2E3-1138A55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DE08-B7E4-4F9D-BB02-28287EC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DDB7-BF2A-4D79-9DE8-CBD0501D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92B5-1062-4DC9-9010-1E0EA80D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E848-BC4C-4F55-A02F-5085875E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E3DF-EB3D-4726-8C7E-8AB7511C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7B7B5-2989-4DE3-8A60-331836E2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8AC9-7575-42D8-9F64-7CE4D43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5F2C-5884-46CA-BD71-8D4CD6E1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F533-E1A9-470E-B20E-E820B0A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E584-AB42-4D32-836E-0037540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8F52-7885-4DE1-BC58-4E8A9B3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542C-4A8F-4A72-93C4-5DE185D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0D0D-A143-40DD-95B1-1DCFDC4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5C5C-63D5-46FE-9890-5AD9984A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4C16-2DF7-491A-A909-1F11C573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9F51-FC5D-4C7C-BA2F-15B6C2A5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3378-5689-4BD8-9358-D27694E0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351C-1F0C-4200-B025-83E8D6C0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CDCE-B676-42FA-AE0C-08FEFDB7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2D40A-AE3F-4CA3-9D31-DC831B13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83A3-9399-43E8-8869-1B0CDA7C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6CCDC-0440-4D7F-976C-F07850C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4292E-2FCE-4049-B4DF-E42FC9B1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E652-0ED3-4F90-AF20-74C2D5B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90D1-FF97-48D4-AE6E-EAB3DC5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1F57-AE36-4C54-8950-164A5DD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08800" y="43016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D5A2-1124-40A2-92B7-73873D0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45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9920" y="20570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091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45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9920" y="430164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780D-637A-4110-A293-ECB08ACC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205704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430164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76644-EFB0-4D38-B3DC-B4B32A66C1E2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A791C-47A6-4A89-ABB7-14BB17FEB5AF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35C22-1086-46D4-844C-C06A1D00CB8F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B4E48-7F41-4980-BB77-067177367862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68C17-EBB3-4159-86B5-05715E7C3527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09120" y="20570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E5B10-CB23-4E2F-A0EA-0AB64C15A7FD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alculating induced voltage (e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611280" y="1511280"/>
            <a:ext cx="792000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 = B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 = induced EMF in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 = flux density of the magnetic field (tes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 = length of the conductor moving at right angles to the field (met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v = velocity of the conductor  (metres per seco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 12.1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611280" y="43722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422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84240"/>
                <a:tab algn="l" pos="199404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v = 10 m/s, B = 0.001 T, l = 0.0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84240"/>
                <a:tab algn="l" pos="199404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 = Blv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84240"/>
                <a:tab algn="l" pos="199404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 = 0.001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0.01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10  = 0.0001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84240"/>
                <a:tab algn="l" pos="199404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 = 100 µ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Figure 12.4.jpg"/>
          <p:cNvPicPr/>
          <p:nvPr/>
        </p:nvPicPr>
        <p:blipFill>
          <a:blip r:embed="rId1"/>
          <a:stretch/>
        </p:blipFill>
        <p:spPr>
          <a:xfrm>
            <a:off x="1579680" y="1646280"/>
            <a:ext cx="601668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Inducing a voltage in a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611280" y="4859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inding the conductor into a coil increases its length, and therefore increases the induced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Figure 12.5a.jpg"/>
          <p:cNvPicPr/>
          <p:nvPr/>
        </p:nvPicPr>
        <p:blipFill>
          <a:blip r:embed="rId1"/>
          <a:stretch/>
        </p:blipFill>
        <p:spPr>
          <a:xfrm>
            <a:off x="790560" y="1674720"/>
            <a:ext cx="756288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No motion, no induced voltag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voltage is induced in a coil only when the magne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Figure 12.5b.jpg"/>
          <p:cNvPicPr/>
          <p:nvPr/>
        </p:nvPicPr>
        <p:blipFill>
          <a:blip r:embed="rId1"/>
          <a:stretch/>
        </p:blipFill>
        <p:spPr>
          <a:xfrm>
            <a:off x="900000" y="1773360"/>
            <a:ext cx="728532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0" y="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eversing direction of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polarity of the induced voltage reverses when the direction of motion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pic>
        <p:nvPicPr>
          <p:cNvPr id="323" name="Picture 8" descr="Figure 12.5c.jpg"/>
          <p:cNvPicPr/>
          <p:nvPr/>
        </p:nvPicPr>
        <p:blipFill>
          <a:blip r:embed="rId1"/>
          <a:stretch/>
        </p:blipFill>
        <p:spPr>
          <a:xfrm>
            <a:off x="442800" y="1700280"/>
            <a:ext cx="82584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0" y="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 induced in a co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611280" y="1511280"/>
            <a:ext cx="7921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araday’s law is another way to calculate induced vol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 = N × rate of change of fl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 = induced EMF in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 = number of turns on the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ate of change of flux = flux in webers cut per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7"/>
          <p:cNvGraphicFramePr/>
          <p:nvPr/>
        </p:nvGraphicFramePr>
        <p:xfrm>
          <a:off x="3851280" y="2631960"/>
          <a:ext cx="144144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31960"/>
                    <a:ext cx="14414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 12.2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612720" y="4437000"/>
            <a:ext cx="791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7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N = 1000 turns, rate of change of flux = 0.0015 W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7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 = N × rate of change of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7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 = 1000 × 0.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7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 = 1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Figure 12.6.jpg"/>
          <p:cNvPicPr/>
          <p:nvPr/>
        </p:nvPicPr>
        <p:blipFill>
          <a:blip r:embed="rId1"/>
          <a:stretch/>
        </p:blipFill>
        <p:spPr>
          <a:xfrm>
            <a:off x="1147680" y="1844640"/>
            <a:ext cx="684864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2.3 Lenz’s law 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612720" y="1511280"/>
            <a:ext cx="791856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enz’s law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current induced in a conductor will set up a magnetic field that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oppose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the magnetic field causing the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Opposition to conductor mo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612720" y="4292640"/>
            <a:ext cx="8136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(a) Fleming’s right-hand rule gives the direction of the induced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(b) It shows the current is flowing towards you, causing an anticlockwise field around the conductor. The fields repel because their lines of force are in the sam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Figure 12.7.jpg"/>
          <p:cNvPicPr/>
          <p:nvPr/>
        </p:nvPicPr>
        <p:blipFill>
          <a:blip r:embed="rId1"/>
          <a:stretch/>
        </p:blipFill>
        <p:spPr>
          <a:xfrm>
            <a:off x="1303200" y="1413000"/>
            <a:ext cx="650880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enz’s law acting in a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68360" y="4859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Lenz’s law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– the coil’s magnetic field oppos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ovement of the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Figure 12.8.jpg"/>
          <p:cNvPicPr/>
          <p:nvPr/>
        </p:nvPicPr>
        <p:blipFill>
          <a:blip r:embed="rId1"/>
          <a:stretch/>
        </p:blipFill>
        <p:spPr>
          <a:xfrm>
            <a:off x="2195640" y="1452600"/>
            <a:ext cx="4725720" cy="33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12720" y="549360"/>
            <a:ext cx="7918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Electromagnetic in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2.4 Ind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11280" y="1511280"/>
            <a:ext cx="79214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ductance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the property of a circuit, component or conductor that opposes a change in the value of an 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increased when a conductor is wound into a c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ack-EMF of a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coil produces a back-EMF while the magnetic field builds up, because the expanding field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Figure 12.10a.jpg"/>
          <p:cNvPicPr/>
          <p:nvPr/>
        </p:nvPicPr>
        <p:blipFill>
          <a:blip r:embed="rId1"/>
          <a:stretch/>
        </p:blipFill>
        <p:spPr>
          <a:xfrm>
            <a:off x="1403280" y="1566720"/>
            <a:ext cx="62913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No motion, no back-EMF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hen the field has built up, there is no relative motion and therefore no induced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Figure 12.10b.jpg"/>
          <p:cNvPicPr/>
          <p:nvPr/>
        </p:nvPicPr>
        <p:blipFill>
          <a:blip r:embed="rId1"/>
          <a:stretch/>
        </p:blipFill>
        <p:spPr>
          <a:xfrm>
            <a:off x="900000" y="1574640"/>
            <a:ext cx="727236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he induc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611280" y="1511280"/>
            <a:ext cx="7921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 inductor is a component that has a coil of wire wound around a core. It therefore has induc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unit of inductance is the henry, where one henry causes an induced voltage of one volt when the current is changing at a rate of one ampere per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ductor symb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Figure 12.11.jpg"/>
          <p:cNvPicPr/>
          <p:nvPr/>
        </p:nvPicPr>
        <p:blipFill>
          <a:blip r:embed="rId1"/>
          <a:stretch/>
        </p:blipFill>
        <p:spPr>
          <a:xfrm>
            <a:off x="876240" y="4437000"/>
            <a:ext cx="722484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actors that determine ind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7"/>
          <p:cNvSpPr/>
          <p:nvPr/>
        </p:nvSpPr>
        <p:spPr>
          <a:xfrm>
            <a:off x="611280" y="1511280"/>
            <a:ext cx="7920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inductance of a coil is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umber of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ength of the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cross-sectional area of the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4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ermeability of the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Number of turn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611280" y="4859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nductance is proportional the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square</a:t>
            </a:r>
            <a:r>
              <a:rPr b="0" i="1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of the number of turns. That is, double the turns gives four times the induc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Figure 12.12.jpg"/>
          <p:cNvPicPr/>
          <p:nvPr/>
        </p:nvPicPr>
        <p:blipFill>
          <a:blip r:embed="rId1"/>
          <a:stretch/>
        </p:blipFill>
        <p:spPr>
          <a:xfrm>
            <a:off x="474840" y="1859040"/>
            <a:ext cx="827388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ength of the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nductance is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inversely</a:t>
            </a:r>
            <a:r>
              <a:rPr b="0" i="1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roportional to the length of a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Figure 12.13.jpg"/>
          <p:cNvPicPr/>
          <p:nvPr/>
        </p:nvPicPr>
        <p:blipFill>
          <a:blip r:embed="rId1"/>
          <a:stretch/>
        </p:blipFill>
        <p:spPr>
          <a:xfrm>
            <a:off x="395280" y="1989000"/>
            <a:ext cx="827388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rea of the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nductance is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directly</a:t>
            </a:r>
            <a:r>
              <a:rPr b="0" i="1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roportional to the cross-sectional area of a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Figure 12.14.jpg"/>
          <p:cNvPicPr/>
          <p:nvPr/>
        </p:nvPicPr>
        <p:blipFill>
          <a:blip r:embed="rId1"/>
          <a:stretch/>
        </p:blipFill>
        <p:spPr>
          <a:xfrm>
            <a:off x="576360" y="1916280"/>
            <a:ext cx="795636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ermeability of the cor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6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nductance is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directly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proportional to the permeability of the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Figure 12.15.jpg"/>
          <p:cNvPicPr/>
          <p:nvPr/>
        </p:nvPicPr>
        <p:blipFill>
          <a:blip r:embed="rId1"/>
          <a:stretch/>
        </p:blipFill>
        <p:spPr>
          <a:xfrm>
            <a:off x="598320" y="1989000"/>
            <a:ext cx="793296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for ind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4479840" y="24796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9120" y="249192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37952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37952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inductance in henr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37952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number of turn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37952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cross-sectional area in square metres (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37952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permeability of the core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37952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length of the coil in metres (m).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13"/>
          <p:cNvGraphicFramePr/>
          <p:nvPr/>
        </p:nvGraphicFramePr>
        <p:xfrm>
          <a:off x="3203640" y="1687680"/>
          <a:ext cx="185904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87680"/>
                    <a:ext cx="18590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bout this chapte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39640" y="1484280"/>
            <a:ext cx="79930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 electric current produces a magnetic field, and as explained in this chapter, a moving magnetic field can cause an electric current. This is called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electromagnetic induction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d is how most electrical power is gener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chap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troduces the i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xplains the property calle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inductance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and some of its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Inductor cor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611280" y="1511280"/>
            <a:ext cx="7920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ree main types of core materials used with inductor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ir (or other non-magnetic materi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oft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 fer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Typical low power induc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ow power inductors are mainly used in electronics. They have a range of core materials, typically ferrite, silicon steel or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Figure 12.17.jpg"/>
          <p:cNvPicPr/>
          <p:nvPr/>
        </p:nvPicPr>
        <p:blipFill>
          <a:blip r:embed="rId1"/>
          <a:stretch/>
        </p:blipFill>
        <p:spPr>
          <a:xfrm>
            <a:off x="1476360" y="1557360"/>
            <a:ext cx="6270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High power induc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3049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60" y="4859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ower inductors can handle high currents and are found in sub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iron-cored ‘ballast’ is from a fluorescent light f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Figure 12.18.jpg"/>
          <p:cNvPicPr/>
          <p:nvPr/>
        </p:nvPicPr>
        <p:blipFill>
          <a:blip r:embed="rId1"/>
          <a:stretch/>
        </p:blipFill>
        <p:spPr>
          <a:xfrm>
            <a:off x="1619280" y="1703520"/>
            <a:ext cx="5869080" cy="28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12720" y="1511280"/>
            <a:ext cx="791856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enz’s law states that the current induced in a conductor will set up a magnetic field that opposes the magnetic field causing the current. This opposition is called induc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ductance is measured in henrys (H). A coil has an inductance of 1 H if a voltage of 1 V is induced in the coil when the current in the coil is changing by 1 A per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12720" y="1511280"/>
            <a:ext cx="791856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inductance (L) of a coil is proportional to the square of the turns (N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, the cross-sectional area (A), the permeability of the core (µ), and is inversely proportional to the length (l) of the c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3"/>
          <p:cNvGraphicFramePr/>
          <p:nvPr/>
        </p:nvGraphicFramePr>
        <p:xfrm>
          <a:off x="3203640" y="3789360"/>
          <a:ext cx="18590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789360"/>
                    <a:ext cx="18590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3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612720" y="1511280"/>
            <a:ext cx="7918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ductors can have a ferromagnetic or an air core. Inductors used with an alternating current have a laminated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igh power inductors are used in electrical power substations, low power inductors are used in electronics and tele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2.5 Mutual ind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11280" y="4608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utual inductance occurs between two nearby coi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hen current starts flowing in one coil, it builds up a magneti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moving field induces a voltage in the other c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Figure 12.19.jpg"/>
          <p:cNvPicPr/>
          <p:nvPr/>
        </p:nvPicPr>
        <p:blipFill>
          <a:blip r:embed="rId1"/>
          <a:stretch/>
        </p:blipFill>
        <p:spPr>
          <a:xfrm>
            <a:off x="588960" y="1844640"/>
            <a:ext cx="801540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pplica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479840" y="2747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647640" y="5084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transformer has coils on a common core and works by mutual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Figure 12.20.jpg"/>
          <p:cNvPicPr/>
          <p:nvPr/>
        </p:nvPicPr>
        <p:blipFill>
          <a:blip r:embed="rId1"/>
          <a:stretch/>
        </p:blipFill>
        <p:spPr>
          <a:xfrm>
            <a:off x="762120" y="1649520"/>
            <a:ext cx="762624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2.6 The LR circui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611280" y="1511280"/>
            <a:ext cx="7921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circuit that has inductance and resistance is called an LR circu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l inductors have resistance, so an inductor itself is an LR circuit, as its resistance and inductance are in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resistance of a coil limits the maximum value of the DC current that can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ts inductance opposes changes in the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asic LR circui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611280" y="485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n LR circuit has inductance and resistance in series, where the resistance is often that of the inductor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Figure 12.21.jpg"/>
          <p:cNvPicPr/>
          <p:nvPr/>
        </p:nvPicPr>
        <p:blipFill>
          <a:blip r:embed="rId1"/>
          <a:stretch/>
        </p:blipFill>
        <p:spPr>
          <a:xfrm>
            <a:off x="1353960" y="1798560"/>
            <a:ext cx="641520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onten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11280" y="1511280"/>
            <a:ext cx="792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604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2.1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604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2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lectromagnetic 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604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2.3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604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2.4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604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2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utual 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604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2.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LR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ffect of ind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12720" y="486252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uctance opposes a change in current, so the current in an LR circuit increases exponentially, as in an R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Figure 12.22.jpg"/>
          <p:cNvPicPr/>
          <p:nvPr/>
        </p:nvPicPr>
        <p:blipFill>
          <a:blip r:embed="rId1"/>
          <a:stretch/>
        </p:blipFill>
        <p:spPr>
          <a:xfrm>
            <a:off x="690480" y="1773360"/>
            <a:ext cx="776916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ffect at switch-off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468360" y="48592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back-EMF of the coil causes current to continue after supply is disconnected, making it decay to zero exponentially, as in an R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Figure 12.23.jpg"/>
          <p:cNvPicPr/>
          <p:nvPr/>
        </p:nvPicPr>
        <p:blipFill>
          <a:blip r:embed="rId1"/>
          <a:stretch/>
        </p:blipFill>
        <p:spPr>
          <a:xfrm>
            <a:off x="1008000" y="1628640"/>
            <a:ext cx="716436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R time constan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611280" y="1511280"/>
            <a:ext cx="7920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time constant is the time taken for a current or voltage to reach 63.2 per cent of its final value. The time constant of an LR circuit is foun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τ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= time constant in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 = inductance in henr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 = resistance in o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9"/>
          <p:cNvGraphicFramePr/>
          <p:nvPr/>
        </p:nvGraphicFramePr>
        <p:xfrm>
          <a:off x="4140360" y="2997360"/>
          <a:ext cx="8632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997360"/>
                    <a:ext cx="863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1042920" y="2060640"/>
            <a:ext cx="28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 = 5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 = 100 o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.0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13"/>
          <p:cNvGraphicFramePr/>
          <p:nvPr/>
        </p:nvGraphicFramePr>
        <p:xfrm>
          <a:off x="1079640" y="3139920"/>
          <a:ext cx="17650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3139920"/>
                    <a:ext cx="17650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8" descr="Figure 12.24.jpg"/>
          <p:cNvPicPr/>
          <p:nvPr/>
        </p:nvPicPr>
        <p:blipFill>
          <a:blip r:embed="rId3"/>
          <a:stretch/>
        </p:blipFill>
        <p:spPr>
          <a:xfrm>
            <a:off x="4211640" y="1989000"/>
            <a:ext cx="37530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612720" y="1511280"/>
            <a:ext cx="79185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voltage (e) induced in a conductor by a moving magnetic field equals the product of the flux density (B), length of the conductor (l) and the velocity of the relative movement (v), or e = Bl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voltage (e) induced in a coil equals the number of turns (N) multiplied by the rate of change of the magnetic flu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at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graphicFrame>
        <p:nvGraphicFramePr>
          <p:cNvPr id="421" name="Object 5"/>
          <p:cNvGraphicFramePr/>
          <p:nvPr/>
        </p:nvGraphicFramePr>
        <p:xfrm>
          <a:off x="3851280" y="4606920"/>
          <a:ext cx="147780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606920"/>
                    <a:ext cx="1477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612720" y="1511280"/>
            <a:ext cx="7918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ductance is opposition to a change in current. An inductance of one henry causes an induced voltage of 1 V when the current is changing at a rate of 1 A per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inductance (L) of a coil can be found with the equation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13"/>
          <p:cNvGraphicFramePr/>
          <p:nvPr/>
        </p:nvGraphicFramePr>
        <p:xfrm>
          <a:off x="3132000" y="4132440"/>
          <a:ext cx="18590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132440"/>
                    <a:ext cx="18590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hapter summary (3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11280" y="1511280"/>
            <a:ext cx="792144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interaction between the magnetic field of one coil and an adjacent coil is called mutual 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time constan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of an LR circuit is the inductance divided by the resistance or L/R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0" y="3059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2.1 Introdu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612720" y="1511280"/>
            <a:ext cx="79200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1820, Oersted discovered the link between electricity and magnetism. In 1831, Michael Faraday found that a moving magnetic field causes a current to flow in a condu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effect, calle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electromagnetic induction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, was studied by many notable people of the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first DC generator was produced in 1832, and today most electrical power is produced by electromagnetic in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2.2 Electromagnetic indu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611280" y="4859280"/>
            <a:ext cx="7921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conductor moving in a magnetic field causes a voltage to be induced in the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Figure 12.1.jpg"/>
          <p:cNvPicPr/>
          <p:nvPr/>
        </p:nvPicPr>
        <p:blipFill>
          <a:blip r:embed="rId1"/>
          <a:stretch/>
        </p:blipFill>
        <p:spPr>
          <a:xfrm>
            <a:off x="1527120" y="1773360"/>
            <a:ext cx="606924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eversing direction of mo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2" name="Rectangle 34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polarity of the induced voltage changes with the direction of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Figure 12.2.jpg"/>
          <p:cNvPicPr/>
          <p:nvPr/>
        </p:nvPicPr>
        <p:blipFill>
          <a:blip r:embed="rId1"/>
          <a:stretch/>
        </p:blipFill>
        <p:spPr>
          <a:xfrm>
            <a:off x="755640" y="1628640"/>
            <a:ext cx="7661160" cy="30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leming’s right-hand rul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12720" y="486900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Fleming’s right-hand rule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gives a way of determining the direction of the induced current when a conductor is moving in a magnet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Figure 12.3.jpg"/>
          <p:cNvPicPr/>
          <p:nvPr/>
        </p:nvPicPr>
        <p:blipFill>
          <a:blip r:embed="rId1"/>
          <a:stretch/>
        </p:blipFill>
        <p:spPr>
          <a:xfrm>
            <a:off x="826920" y="1628640"/>
            <a:ext cx="7453440" cy="31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Voltage induced in a conduc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611280" y="1511280"/>
            <a:ext cx="799308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value of the voltage induced in a conductor is proportional to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ength of the conductor in the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peed of relative movement between the conductor and the magnetic f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trength of the magnetic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t is also affected by the angle at which the conductor passes through the magnetic field. This is assumed to be a right angle (90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5:41:48Z</dcterms:created>
  <dc:creator>Donna Beaty</dc:creator>
  <dc:description/>
  <dc:language>en-US</dc:language>
  <cp:lastModifiedBy>Fellows, Amelia</cp:lastModifiedBy>
  <dcterms:modified xsi:type="dcterms:W3CDTF">2015-10-01T05:09:30Z</dcterms:modified>
  <cp:revision>52</cp:revision>
  <dc:subject/>
  <dc:title>Slide 1</dc:title>
</cp:coreProperties>
</file>