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9.wmf" ContentType="image/x-wmf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35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14.wmf" ContentType="image/x-wmf"/>
  <Override PartName="/ppt/media/image22.jpeg" ContentType="image/jpeg"/>
  <Override PartName="/ppt/media/image1.jpeg" ContentType="image/jpeg"/>
  <Override PartName="/ppt/media/image23.jpeg" ContentType="image/jpeg"/>
  <Override PartName="/ppt/media/image4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30.wmf" ContentType="image/x-wmf"/>
  <Override PartName="/ppt/media/image27.jpeg" ContentType="image/jpeg"/>
  <Override PartName="/ppt/media/image13.jpeg" ContentType="image/jpeg"/>
  <Override PartName="/ppt/media/image40.jpeg" ContentType="image/jpeg"/>
  <Override PartName="/ppt/media/image33.wmf" ContentType="image/x-wmf"/>
  <Override PartName="/ppt/media/image34.wmf" ContentType="image/x-wmf"/>
  <Override PartName="/ppt/media/image32.png" ContentType="image/png"/>
  <Override PartName="/ppt/media/image43.jpeg" ContentType="image/jpeg"/>
  <Override PartName="/ppt/media/image38.jpeg" ContentType="image/jpeg"/>
  <Override PartName="/ppt/media/image31.wmf" ContentType="image/x-wmf"/>
  <Override PartName="/ppt/media/image7.jpeg" ContentType="image/jpeg"/>
  <Override PartName="/ppt/media/image6.jpeg" ContentType="image/jpeg"/>
  <Override PartName="/ppt/media/image18.png" ContentType="image/png"/>
  <Override PartName="/ppt/media/image12.wmf" ContentType="image/x-wmf"/>
  <Override PartName="/ppt/media/image5.jpeg" ContentType="image/jpeg"/>
  <Override PartName="/ppt/media/image20.wmf" ContentType="image/x-wmf"/>
  <Override PartName="/ppt/media/image4.jpeg" ContentType="image/jpeg"/>
  <Override PartName="/ppt/media/image28.wmf" ContentType="image/x-wmf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Narrow"/>
              </a:rPr>
              <a:t>Click to move the slide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C3AE3E-500A-4E9B-A71A-7C9B8E3D397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A3D369-D752-4357-BD39-F74BF165DE2E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19A6B-1501-4ABC-AE3F-730891E83FE0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1.5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ADB59F-27C0-46B6-BDA7-1FD3F56998F7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C8977C-9ABA-4CB6-A999-369176CB0AD6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42F46-D06E-40CF-9794-A6A9E40B3539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54272-8E0C-4232-A23E-3651FCD178D5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1.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13BC67-9698-44CA-BDDD-5C84CF2B6FBB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4EF7A-6ADF-4390-9E81-1CDC8994D0BF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EFC30-D26D-417B-9607-72A69D921AA6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88B5EA-8FD4-497E-B171-FC31BEA971B5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B65B82-17E6-42FF-A080-50BACD1F2F0A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7536C8-CEC4-44E7-B452-6C95157BF1BB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DD63F-6C39-47BE-95C7-8FE8C9682552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31C88-F260-44E0-8DD2-74F2D7C1F395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B6B34-4A3E-4CCB-8160-01047D10F0F3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14E64-CB84-441B-8B7D-2D9A61AD09BD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1.7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50981E-BB6F-4BEB-B7CE-0B919A400AF3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B9FDEA-5CDF-4703-92ED-97EA1C979966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C5EB0E-7C42-4709-AF92-5A5C9E6B48A0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0B354-1121-478B-BA19-1CE58029CC15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3B26FB-65D4-4000-AD78-60B8C5ED6CC8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C2CAB6-A057-49E5-B2C9-47A16F606695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1FADB5-C137-4671-B1F8-460668EE1E95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BCB80E-2BEF-4321-8CB8-E6E255444DE8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0B6D9A-D2A5-4E3D-8AE2-A960A9CCCD29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9EE90-25CB-4952-9523-673FD0997521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19C7EA-EB86-43C8-BAFA-8B4BBA26CAA7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1645A-0206-492F-955C-492BD146C6C8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1.9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65BD4A-2F4F-4ED5-974D-145943D2A56D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D761E-55DC-4F06-814B-DB3F654DD203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1.8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11E0C1-F2F5-491C-8FA2-AF02DFDBBE9A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21D872-0087-4B98-93F2-6EF6B81C0EF7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1.10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9DFA83-4E06-4AA4-9322-3227C4EE7311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70CDE-FAD4-41BA-BA7F-4E6DFE12D9F6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7AA30-7B77-4E8A-A7DC-B240DCFF0924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71111-42EC-42E0-9DA5-EB2071917B6F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6CA18-A196-4E0F-B679-BFFEDF361183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DABF32-63EB-43DE-8A8D-0C0305F9E0BA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1.1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092E86-50A4-44FB-9E07-A5C1D49D0EB0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19FCDC-0964-4903-8934-34D1CFFB41D0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41B9A0-E8B0-4AFD-94F3-029CD1FEA2AC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88376-B45C-41AF-B0CB-0030A85AB9C7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1.1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E3A5A0-5069-410A-BD6C-D98FCD2FEA5A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0DD041-0546-41CC-8D13-B2E0836CF363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2CE2E7-FAC2-46EF-ADE8-23DB76188293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4C96C2-7863-488C-AFB2-139657309F06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B0969-E417-4AFC-8C8D-105666AC2C53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B4691F-ACBD-4BB3-91E6-E4B80C123C26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47A0A2-E5BA-47ED-90D8-D0B44689DA2D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1D069B-1D30-417A-B7AE-A11E285234CF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14A9A-9601-46B1-855C-1EC2E4807E45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57892-40D6-4D90-844A-94BC6FFC00EA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5AA71A-8296-40D2-94C3-E6960584F7D4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FAA6E-471C-419C-AC9D-7957BE0BC1AC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1.1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1DE2E4-3D80-4736-9804-61700F3FCB1A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80C575-C81F-4F6C-BBC2-A3816999DC73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1.1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59C2F9-DCAA-4D8A-995B-13AFA49CBCAA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92893-4F79-4CF3-9FFD-543A14D2EA9F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1.15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47E6C0-6F1D-4065-B8AA-EEAC194406DD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F563C5-414D-46BC-8BF4-170D57D90431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1.1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9CCFC7-4888-494B-9E11-D0F61AC19371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D532A8-4D6D-4882-A0D1-96D72A7F2899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1.17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CCB3E1-54EE-45A4-9698-21DBF0F1D54E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958CAF-E5A9-417A-8777-19C4AE0A0DD2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4A5E8-F7EA-4369-8FFE-983BC19BDF5B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EA7538-D2B1-4BEB-B38E-813828635C50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E4F135-1E78-4189-9A0F-2032E452ED25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E2FD24-A63B-4330-A791-E94946A47282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1.19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92B741-EB63-46CA-BAA9-17E0A63C90FC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12F6D9-8CCC-4D6F-955B-61997A54E093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1.20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F2289-B6EE-4E4E-A8BA-90B4013FFE6D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98987-D9FB-4864-A551-ECD55D32F384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CEE060-84FF-45A1-B43C-81DB3FEDD943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5BD30-1FC6-49D2-A1D8-354C3E64C019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1.2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6534D-1BA6-4DD6-9B93-E880589DC463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F5A9E-E28B-4D60-AB04-2526F4E2FE2D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1.2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B33CC-4F09-427F-9870-CB3D94709562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D3418-00AC-4E1C-BB9F-46DF63A738A8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590DED-6DE9-4B57-BC3C-0283C96641A7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2F5373-4B39-4FE0-8EC0-6A4925E65033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1.2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A42521-9D35-46F2-8F80-01F1FEE9386C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3FD76-DC78-419D-8423-558AB66652A8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22FA1-B1F5-4ED5-9B2C-ED2E8F3BAD85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1A344-E0E2-4FC8-A320-2F2E2881D7D8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FF0AC-133F-41E0-8C26-881A6A4244E5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A00F25-D533-4B5D-8AF9-0B2D966DB897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0F695D-DCAC-4955-A594-22EE327DA373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71FEF0-2C93-48AE-961D-A7C6A47B82E7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EC2DE7-8BF9-4BB6-8CB6-CC23C44A9176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565D01-C73C-4162-8C00-021FEAFD27FF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F7DCFC-9B93-4B34-ADB2-3F239D9A2044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B577E9-6D07-4007-9290-2545C3949273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E72EC2-87AD-4932-8AD8-A70C90C7BD2A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4AA86-1DE3-4BD6-876D-774002566E46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834C8-DF5F-4A32-B129-1D4D00608801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C65B6-900A-4F11-9A2C-D10212AC2D10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33D138-D54E-4100-9BC6-BC7123F51586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3A56CE-D03A-41EF-BB78-F9C41226E500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Table 11.1 from page 237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0C90F5-D8CD-4ADD-9E57-AEEDD9B30D60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1654DA-335F-40C3-B2BB-ABA173436299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D20F68-1818-4826-8E8C-F4AE6F92FC6D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CEE0D-3847-4E2F-AE6F-F1372191E336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26D842-E09F-4E51-BF55-B4F2239FCD5A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11D2A-CEE7-43C8-A65E-52240803C7D5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90FAB5-9BF7-463F-A425-3430B54146D6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5B884-D319-44D2-B564-CFA7442528AC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34F495-D508-4670-854A-91AC6C8C51A4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2015C5-4240-41C9-B27A-8B3CF3547DAC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1.25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30B70-501E-4667-8AED-C9E6F1F8FFE1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48575C-AC46-4A11-9DAC-F8AEA38AABC2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1.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099B2B-5FBF-4AD5-A8DD-8163AAFDDBAD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0DA8DE-EEEC-4B8A-BA48-58C67960618B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AABD8D-A04F-4485-8DB2-372100A1E045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4CFC7-3A98-4FF5-B286-3BEC0D768778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28C18-7B36-4994-B037-C6F50E765D29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81E83-13FB-4098-9001-3F6702D31721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75022-03E9-4345-83F3-CAE76BC8EC2B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3E1112-1B1B-4992-BD6D-C8209698CDD3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1.27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3FCF0D-7D63-4405-AFC9-2A4E105040B6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11D475-BCF1-4E68-87B3-D491750B21C8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1.28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799D7-701F-4728-AFB7-B848D954429D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2FC99B-7F2C-4F1D-9408-2C92B2939CE9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B918F-BA92-4941-B6F5-AD4307AAFF7E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11F10-0809-4711-AF8B-D5D54A946332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1.29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7BE1E-C6E1-4B06-AA48-B27EA25F9B21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DAE116-5338-487C-9D2D-92B7FCADB3A1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1.30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F58AB4-B13A-4FB2-89B1-C9C64A5ADA07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89606-16A8-49F8-855C-D1B9870F649D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1.3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C8A52B-7685-4003-B8BC-2257F3EC7995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E8F4FE-7364-46DC-883D-D774F26B6ECC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A688EC-6BDB-4AD9-B7B7-F1832F5E6992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0BFAEB-65A9-4B58-B280-D81A04D66E98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1.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5B7DC1-EA91-4AC2-8E40-59D82A1B42C3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5821CC-6A6F-4C40-879D-55FD654F73CA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1.3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D172C3-E455-495A-A6CC-DA1C1ED8DCD8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4D6C8-0885-46BC-8593-919BB402763C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Figure 11.3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CCF8AF-99E1-44FB-9FBF-3B4B5313D53D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E14410-F78E-424E-8980-295F5C7BB2FE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5E6121-B44B-46E9-96E8-E29F7E410708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CC6FA6-C09F-4D18-B789-798C34863119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5B102-A38D-4D54-9F0B-9D674F9AAB46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281886-8DC0-4B84-B63C-B0ABA8590ED4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C3523-723C-47BD-9A99-76670F9DE145}" type="datetime5">
              <a:rPr b="0" lang="en-AU" sz="1200" spc="-1" strike="noStrike">
                <a:solidFill>
                  <a:srgbClr val="000000"/>
                </a:solidFill>
                <a:latin typeface="Arial Narrow"/>
              </a:rPr>
              <a:t>31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 Narrow"/>
              </a:rPr>
              <a:t>Install HV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0E7D7-FAA8-4DCD-B17F-91B910324A51}" type="slidenum">
              <a:rPr b="0" lang="en-AU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320" y="1155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1320" y="148392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1320" y="372852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1155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48392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000" y="148392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71320" y="372852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1000" y="372852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1320" y="1155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1320" y="148392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76720" y="148392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48392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1320" y="372852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76720" y="372852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372852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DC1B-D17D-4BA9-9601-005783DF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1320" y="1155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71320" y="148392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15C7-2F84-4608-AD91-8634E68A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1155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1320" y="148392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986D-4EF1-4537-A94E-76F2047E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1155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148392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1000" y="148392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B462-8340-4138-AC69-D210440A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1155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A8DD-A3AF-4E77-A731-486D6599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115560"/>
            <a:ext cx="8001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57DD-BE28-4B65-BD9E-1ADEE147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1155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1320" y="148392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000" y="148392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71320" y="372852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B19D-3607-4F54-B0D5-7C83854C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71320" y="1155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71320" y="148392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320" y="1155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1320" y="148392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48392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1000" y="372852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262B-84F5-4462-B3FF-206BF381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1320" y="1155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1320" y="148392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48392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1320" y="372852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2B32-9AB6-4AAC-846A-7F21955D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1155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1320" y="148392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1320" y="372852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5E1A-8908-4A6C-B6D8-54CB2019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320" y="1155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48392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000" y="148392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71320" y="372852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1000" y="372852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CD92-8AF3-474E-A008-B6418644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1155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48392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76720" y="148392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82120" y="148392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71320" y="372852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76720" y="372852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82120" y="3728520"/>
            <a:ext cx="2576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19A2-CC9D-451D-964A-24AE2EAB9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1155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71320" y="148392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1155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148392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1000" y="148392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1155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71320" y="115560"/>
            <a:ext cx="8001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1155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71320" y="148392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000" y="148392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71320" y="372852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320" y="1155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1320" y="1483920"/>
            <a:ext cx="3904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000" y="148392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1000" y="372852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320" y="1155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1320" y="148392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000" y="1483920"/>
            <a:ext cx="3904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1320" y="3728520"/>
            <a:ext cx="8001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1155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48392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1320" y="1155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71320" y="148392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2FF905-87E9-421E-9C06-1BD7C066880E}" type="slidenum">
              <a:rPr b="0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68688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Lines of force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612720" y="4859280"/>
            <a:ext cx="79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Lines of force take the path of least magnetic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figure 11.5.jpg"/>
          <p:cNvPicPr/>
          <p:nvPr/>
        </p:nvPicPr>
        <p:blipFill>
          <a:blip r:embed="rId1"/>
          <a:stretch/>
        </p:blipFill>
        <p:spPr>
          <a:xfrm>
            <a:off x="1332000" y="1538280"/>
            <a:ext cx="6458040" cy="31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Magnetic induction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611280" y="1511280"/>
            <a:ext cx="792000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When a magnetic material is in a magnetic field, it becomes temporarily magneti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is is called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magnetic induction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, because magnetism is induced in the material by the magnetic field of the magn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polarity of the induced magnet is the same as if the material itself was a magnet, with lines of force also travelling (externally) from its north to its south po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Inducing magnetism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Soft iron can be magnetised by induction by stroking the iron with one or two strong mag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Figure 11.6.jpg"/>
          <p:cNvPicPr/>
          <p:nvPr/>
        </p:nvPicPr>
        <p:blipFill>
          <a:blip r:embed="rId1"/>
          <a:stretch/>
        </p:blipFill>
        <p:spPr>
          <a:xfrm>
            <a:off x="588960" y="1511280"/>
            <a:ext cx="7943760" cy="31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Magnetic material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611280" y="1511280"/>
            <a:ext cx="792000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Materials are either non-magnetic or magnet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Non-magnetic materials have no reaction to or effect on a magnetic fie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ll magnetic materials react in some way to a magnetic field and are classified according the type of rea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re are three classif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ferro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diamagnet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1"/>
          <p:cNvSpPr/>
          <p:nvPr/>
        </p:nvSpPr>
        <p:spPr>
          <a:xfrm>
            <a:off x="0" y="0"/>
            <a:ext cx="91440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Ferromagnetic mater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5"/>
          <p:cNvSpPr/>
          <p:nvPr/>
        </p:nvSpPr>
        <p:spPr>
          <a:xfrm>
            <a:off x="611280" y="1511280"/>
            <a:ext cx="7920000" cy="37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Ferromagnetic materi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re attracted by a magnetic field, can be magnetised and affect the shape of a magnetic fi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have a high permeability (low resistance to lines of force) and are good conductors of a magnetic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nclude iron, steel, nickel, cobalt and alloy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symbol for permeability is µ (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0" y="0"/>
            <a:ext cx="91440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Rare earth magn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612720" y="1511280"/>
            <a:ext cx="791856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Rare earth magnetic alloys can support a stronger magnetic field than conventional alloys. They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samarium-cobalt (Sm-Co), an alloy combining samarium, cobalt and i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neodymium (Nd-Fe-B), an alloy made of neodymium, iron and bor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Ferrite magnet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19" name="Rectangle 25"/>
          <p:cNvSpPr/>
          <p:nvPr/>
        </p:nvSpPr>
        <p:spPr>
          <a:xfrm>
            <a:off x="611280" y="1511280"/>
            <a:ext cx="792144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Ferri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s a ceramic material combining iron oxides in a ceramic 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has similar properties to a ferromagnetic material, except it does not conduct an electric current (insula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s classed as a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ferrimagnetic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Magnets 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539640" y="485928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Examples of ferrite, alnico (alloy of aluminium, nickel and cobalt) and rare earth mag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Figure 11.7.jpg"/>
          <p:cNvPicPr/>
          <p:nvPr/>
        </p:nvPicPr>
        <p:blipFill>
          <a:blip r:embed="rId1"/>
          <a:stretch/>
        </p:blipFill>
        <p:spPr>
          <a:xfrm>
            <a:off x="684360" y="1697040"/>
            <a:ext cx="7769160" cy="28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Paramagnetic material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611280" y="1511280"/>
            <a:ext cx="792144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Paramagnetic materi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re weakly attracted to a mag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nclude aluminium, platinum, manganese, chromium and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have a permeability slightly higher than one and become weakly magnetised in the same direction as the magnetising fo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have far less strength than a ferromagnetic magnet, and lose magnetism when magnetising force is remo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Diamagnetic material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12720" y="1511280"/>
            <a:ext cx="79185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Diamagnetic materi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lso become weakly magnetised, but in the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opposite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direction to the magnetising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have a permeability less tha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nclude Bismuth and carbon graphite, the strongest diamagnetic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lso include mercury, copper, gold, silver, water, diamonds, wood and living tissue which are less stro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12720" y="539640"/>
            <a:ext cx="79185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800" spc="-1" strike="noStrike">
                <a:solidFill>
                  <a:srgbClr val="3c9325"/>
                </a:solidFill>
                <a:latin typeface="Arial Narrow"/>
              </a:rPr>
              <a:t>Chapter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800" spc="-1" strike="noStrike">
                <a:solidFill>
                  <a:srgbClr val="3c9325"/>
                </a:solidFill>
                <a:latin typeface="Arial Narrow"/>
              </a:rPr>
              <a:t>Magnetism and electromagne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Non-magnetic material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12720" y="1511280"/>
            <a:ext cx="791856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Non-magnetic materi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have a permeability of 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nclude air, wood, plastic, water, paper and cloth fabr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re not affected by a magnetic field (don’t become magnetised) and have no effect on the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for most purposes include paramagnetic and diamagnetic materials which are considered non-magnet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Preserving a magnet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612720" y="1511280"/>
            <a:ext cx="792000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magnet of any type will lose some or all of its magnetism if it’s exposed to a high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loss of magnetism is complete at the Curie temperature (for iron ≈ 770 ºC, for neodymium ≈ 300 º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Hammering or jarring a magnet will also affect its magnetic str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magnet can lose its magnetic strength if it’s exposed to another magnetic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Magnetic keeper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Magnets should be stored with an iron keeper to preserve their magnetic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Figure 11.9.jpg"/>
          <p:cNvPicPr/>
          <p:nvPr/>
        </p:nvPicPr>
        <p:blipFill>
          <a:blip r:embed="rId1"/>
          <a:stretch/>
        </p:blipFill>
        <p:spPr>
          <a:xfrm>
            <a:off x="2411280" y="1413000"/>
            <a:ext cx="468180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Law of attraction and repulsion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612720" y="5111640"/>
            <a:ext cx="79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Unlike poles attract, like poles re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Figure 11.8.jpg"/>
          <p:cNvPicPr/>
          <p:nvPr/>
        </p:nvPicPr>
        <p:blipFill>
          <a:blip r:embed="rId1"/>
          <a:stretch/>
        </p:blipFill>
        <p:spPr>
          <a:xfrm>
            <a:off x="792000" y="1825560"/>
            <a:ext cx="7525080" cy="31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Magnetic shielding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0" y="3068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6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A magnetic shield keeps magnetic flux away from an area by providing a high permeability path around th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Figure 11.10.jpg"/>
          <p:cNvPicPr/>
          <p:nvPr/>
        </p:nvPicPr>
        <p:blipFill>
          <a:blip r:embed="rId1"/>
          <a:stretch/>
        </p:blipFill>
        <p:spPr>
          <a:xfrm>
            <a:off x="390600" y="1744560"/>
            <a:ext cx="8362800" cy="26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Magnetic flux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611280" y="1511280"/>
            <a:ext cx="792144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Magnetic flu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s the total number of lines of magnetic force produced by a mag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s measured in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webers</a:t>
            </a:r>
            <a:r>
              <a:rPr b="0" i="1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(abbreviated to Wb), where one weber equals 100 million (10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 Narrow"/>
              </a:rPr>
              <a:t>8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) lines of fo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s known by the symbol </a:t>
            </a:r>
            <a:r>
              <a:rPr b="0" lang="el-GR" sz="2800" spc="-1" strike="noStrike">
                <a:solidFill>
                  <a:srgbClr val="000000"/>
                </a:solidFill>
                <a:latin typeface="Arial Narrow"/>
              </a:rPr>
              <a:t>Φ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i="1" lang="en-AU" sz="2800" spc="-1" strike="noStrike">
                <a:solidFill>
                  <a:srgbClr val="000000"/>
                </a:solidFill>
                <a:latin typeface="Arial Narrow"/>
              </a:rPr>
              <a:t>phi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Magnetic flux (2)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44" name="Rectangle 24"/>
          <p:cNvSpPr/>
          <p:nvPr/>
        </p:nvSpPr>
        <p:spPr>
          <a:xfrm>
            <a:off x="611280" y="1511280"/>
            <a:ext cx="79214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typical horseshoe magnet produces a flux of 0.0001 Wb, or 10 000 lines of for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Expressed with a metrix prefix, 0.0001 Wb becomes 0.1 mWb (milliweber), and for calculations, is written as       0.1 × 10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 Narrow"/>
              </a:rPr>
              <a:t>-3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we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Flux density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12720" y="5111640"/>
            <a:ext cx="79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Flux density is flux divided by th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Figure 11.11.jpg"/>
          <p:cNvPicPr/>
          <p:nvPr/>
        </p:nvPicPr>
        <p:blipFill>
          <a:blip r:embed="rId1"/>
          <a:stretch/>
        </p:blipFill>
        <p:spPr>
          <a:xfrm>
            <a:off x="1317600" y="1576440"/>
            <a:ext cx="6451560" cy="34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Equation for flux density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611280" y="1511280"/>
            <a:ext cx="7848360" cy="49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B = flux density in teslas (or webers/m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 Narrow"/>
              </a:rPr>
              <a:t>Φ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= flux in we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= area (or csa) in square metres (m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One tesla equals one weber per square metre. That i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one tesla is 10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 Narrow"/>
              </a:rPr>
              <a:t>8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lines of force in an area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one square metre (m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13"/>
          <p:cNvGraphicFramePr/>
          <p:nvPr/>
        </p:nvGraphicFramePr>
        <p:xfrm>
          <a:off x="4211640" y="1511280"/>
          <a:ext cx="79200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511280"/>
                    <a:ext cx="79200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Applications of permanent magnet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6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Permanent magnets are used in a range of de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6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Figure 11.12.jpg"/>
          <p:cNvPicPr/>
          <p:nvPr/>
        </p:nvPicPr>
        <p:blipFill>
          <a:blip r:embed="rId1"/>
          <a:stretch/>
        </p:blipFill>
        <p:spPr>
          <a:xfrm>
            <a:off x="684360" y="1989000"/>
            <a:ext cx="776916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About this chapter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611280" y="1268280"/>
            <a:ext cx="792144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Magnetism and electricity are closely related. Most of the electricity we generate relies on this relationship, as do electric motors and many other electrical compon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is chap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reviews magnetism, the magnetic field and some of the terms that describe magne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looks at the way different types of materials respond to a magnetic field and how they are class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explains electromagnets and a number of terms and equations related to magnet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Summing up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612720" y="1511280"/>
            <a:ext cx="791856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magnet can be made by exposing a ferromagnetic material to a strong magnetic fie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process is called magnetic induction, as the magnet is inducing magnetism in the ferromagnetic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magnet has a north and south pole. The north pole of a magnet points towards the Earth’s magnetic North P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Unlike magnetic poles attract; like magnetic poles rep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magnetic field (flux) consists of lines of force that flow from the north pole of a magnet to its south p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Summing up (2)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612720" y="1511280"/>
            <a:ext cx="7918560" cy="42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Lines do not cross each other, they all have the same magnetic strength and although they have a direction, they don’t actually m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Materials are classified as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ferromagnetic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(strongly attracted to a magnetic field),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paramagnetic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(weakly attracted by a strong magnetic field, e.g. oxygen) and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diamagnetic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(weakly repelled by a strong magnetic field, e.g. living tissu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Summing up (3)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12720" y="1511280"/>
            <a:ext cx="7918560" cy="39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magnet can lose its magnetism as a result of excess heat, physical vibration and stress, and through exposure to a magnetic field of the opposite polar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soft iron keeper across the poles of a magnet helps it retain its magnet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Magnetic flux (symbo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) is measured in webers, where one weber (Wb) is 100 million (10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 Narrow"/>
              </a:rPr>
              <a:t>8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) lines of for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Summing up (4)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11280" y="1511280"/>
            <a:ext cx="7920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Most magnetic fields have a flux in milliwebers (mWb) or microwebers (µWb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Flux density (B) refers to the number of lines of forc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) in a given area (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B is measured in teslas, where one tesla equals one weber of flux per square met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0" y="30495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4"/>
          <p:cNvGraphicFramePr/>
          <p:nvPr/>
        </p:nvGraphicFramePr>
        <p:xfrm>
          <a:off x="4211640" y="4508640"/>
          <a:ext cx="82692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4508640"/>
                    <a:ext cx="82692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11.2 Magnetic effect of an electric current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072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An electric current causes a magnetic field to be created aro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072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the 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Figure 11.13.jpg"/>
          <p:cNvPicPr/>
          <p:nvPr/>
        </p:nvPicPr>
        <p:blipFill>
          <a:blip r:embed="rId1"/>
          <a:stretch/>
        </p:blipFill>
        <p:spPr>
          <a:xfrm>
            <a:off x="1541520" y="1511280"/>
            <a:ext cx="5910120" cy="29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Direction of the field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The direction of the magnetic field depends on the dir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of th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Figure 11.14.jpg"/>
          <p:cNvPicPr/>
          <p:nvPr/>
        </p:nvPicPr>
        <p:blipFill>
          <a:blip r:embed="rId1"/>
          <a:stretch/>
        </p:blipFill>
        <p:spPr>
          <a:xfrm>
            <a:off x="1042920" y="1623960"/>
            <a:ext cx="7093080" cy="302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Right-hand rule for a conductor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Right-hand thumb (or grip) rule to find the direction of the magnetic field around a 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Figure 11.15.jpg"/>
          <p:cNvPicPr/>
          <p:nvPr/>
        </p:nvPicPr>
        <p:blipFill>
          <a:blip r:embed="rId1"/>
          <a:stretch/>
        </p:blipFill>
        <p:spPr>
          <a:xfrm>
            <a:off x="1403280" y="1628640"/>
            <a:ext cx="629460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Magnetic field around two conductor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When the current is in the same direction, adjacent conductors are </a:t>
            </a:r>
            <a:r>
              <a:rPr b="0" lang="en-AU" sz="2400" spc="-1" strike="noStrike">
                <a:solidFill>
                  <a:srgbClr val="3c9325"/>
                </a:solidFill>
                <a:latin typeface="Arial Narrow"/>
              </a:rPr>
              <a:t>attracted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" descr=""/>
          <p:cNvPicPr/>
          <p:nvPr/>
        </p:nvPicPr>
        <p:blipFill>
          <a:blip r:embed="rId1"/>
          <a:stretch/>
        </p:blipFill>
        <p:spPr>
          <a:xfrm>
            <a:off x="612720" y="1940040"/>
            <a:ext cx="815328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Currents in opposite direction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Currents in the opposite direction make adjacent conductors </a:t>
            </a:r>
            <a:r>
              <a:rPr b="0" lang="en-AU" sz="2400" spc="-1" strike="noStrike">
                <a:solidFill>
                  <a:srgbClr val="3c9325"/>
                </a:solidFill>
                <a:latin typeface="Arial Narrow"/>
              </a:rPr>
              <a:t>repel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Figure 11.17.jpg"/>
          <p:cNvPicPr/>
          <p:nvPr/>
        </p:nvPicPr>
        <p:blipFill>
          <a:blip r:embed="rId1"/>
          <a:stretch/>
        </p:blipFill>
        <p:spPr>
          <a:xfrm>
            <a:off x="1957320" y="1341360"/>
            <a:ext cx="5567400" cy="34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Force between two conductor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0" y="30542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7"/>
          <p:cNvGraphicFramePr/>
          <p:nvPr/>
        </p:nvGraphicFramePr>
        <p:xfrm>
          <a:off x="3635280" y="1539720"/>
          <a:ext cx="201636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539720"/>
                    <a:ext cx="201636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9"/>
          <p:cNvSpPr/>
          <p:nvPr/>
        </p:nvSpPr>
        <p:spPr>
          <a:xfrm>
            <a:off x="612720" y="2358000"/>
            <a:ext cx="791856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 = force in newtons (N) per metr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current in one con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current in the other con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 = distance in metres between the condu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Content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11280" y="1511280"/>
            <a:ext cx="7920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1928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11.1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Magne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1928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11.2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Magnetic effect of an electric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1928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11.3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electromag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1928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11.4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Magnetic 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1928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11.5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Magnetisation cu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11.3 The electromagnet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The magnetic field around a coil of wire is the same a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permanent mag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Figure 11.19.jpg"/>
          <p:cNvPicPr/>
          <p:nvPr/>
        </p:nvPicPr>
        <p:blipFill>
          <a:blip r:embed="rId1"/>
          <a:stretch/>
        </p:blipFill>
        <p:spPr>
          <a:xfrm>
            <a:off x="2195640" y="1557360"/>
            <a:ext cx="47527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Right-hand rule for a coil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11280" y="5111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Use the right-hand rule to find the north pole of an electromag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Figure 11.20.jpg"/>
          <p:cNvPicPr/>
          <p:nvPr/>
        </p:nvPicPr>
        <p:blipFill>
          <a:blip r:embed="rId1"/>
          <a:stretch/>
        </p:blipFill>
        <p:spPr>
          <a:xfrm>
            <a:off x="900000" y="1628640"/>
            <a:ext cx="7344000" cy="33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Magnetomotive force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612720" y="1511280"/>
            <a:ext cx="79185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strength of the magnetic field produced by an air-cored electromagnet depends on the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coil current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nd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number of turns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product of these two values is called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magnetomotive force</a:t>
            </a:r>
            <a:r>
              <a:rPr b="0" i="1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(F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m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0" i="1" lang="en-AU" sz="28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at is: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m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× 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m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= magnetomotive force in ampere-turns (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= current in amp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N = number of tu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Magnetomotive force example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Magnetic flux produced by an electromagnet is proportional to the current and the number of 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Figure 11.21.jpg"/>
          <p:cNvPicPr/>
          <p:nvPr/>
        </p:nvPicPr>
        <p:blipFill>
          <a:blip r:embed="rId1"/>
          <a:stretch/>
        </p:blipFill>
        <p:spPr>
          <a:xfrm>
            <a:off x="2124000" y="1484280"/>
            <a:ext cx="4830840" cy="33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Magnetising force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Magnetising force depends on the </a:t>
            </a:r>
            <a:r>
              <a:rPr b="0" lang="en-AU" sz="2400" spc="-1" strike="noStrike">
                <a:solidFill>
                  <a:srgbClr val="3c9325"/>
                </a:solidFill>
                <a:latin typeface="Arial Narrow"/>
              </a:rPr>
              <a:t>ampere turns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 of the coil and the </a:t>
            </a:r>
            <a:r>
              <a:rPr b="0" lang="en-AU" sz="2400" spc="-1" strike="noStrike">
                <a:solidFill>
                  <a:srgbClr val="3c9325"/>
                </a:solidFill>
                <a:latin typeface="Arial Narrow"/>
              </a:rPr>
              <a:t>length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 of the magnetic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Figure 11.22.jpg"/>
          <p:cNvPicPr/>
          <p:nvPr/>
        </p:nvPicPr>
        <p:blipFill>
          <a:blip r:embed="rId1"/>
          <a:stretch/>
        </p:blipFill>
        <p:spPr>
          <a:xfrm>
            <a:off x="2050920" y="1557360"/>
            <a:ext cx="507204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539640" y="1557360"/>
            <a:ext cx="792000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Magnetising force (H) is magnetomotive force divided by 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 = magnetising force in ampere-turns per metre (At/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</a:t>
            </a:r>
            <a:r>
              <a:rPr b="0" lang="en-AU" sz="2800" spc="-1" strike="noStrike" baseline="-30000">
                <a:solidFill>
                  <a:srgbClr val="000000"/>
                </a:solidFill>
                <a:latin typeface="Arial Narrow"/>
                <a:ea typeface="Times New Roman"/>
              </a:rPr>
              <a:t>m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(NI) = magnetomotive force in ampere-turns (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 = length of magnetic path in metres (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Magnetising force equation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graphicFrame>
        <p:nvGraphicFramePr>
          <p:cNvPr id="202" name="Object 9"/>
          <p:cNvGraphicFramePr/>
          <p:nvPr/>
        </p:nvGraphicFramePr>
        <p:xfrm>
          <a:off x="3328920" y="2543040"/>
          <a:ext cx="914400" cy="7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28920" y="2543040"/>
                    <a:ext cx="9144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8"/>
          <p:cNvGraphicFramePr/>
          <p:nvPr/>
        </p:nvGraphicFramePr>
        <p:xfrm>
          <a:off x="4906800" y="2592360"/>
          <a:ext cx="35892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06800" y="2592360"/>
                    <a:ext cx="3589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11"/>
          <p:cNvSpPr/>
          <p:nvPr/>
        </p:nvSpPr>
        <p:spPr>
          <a:xfrm>
            <a:off x="4257720" y="2544840"/>
            <a:ext cx="6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Magnetising force example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Magnetising force is the same in all parts of an iron core and is inversely proportional to the length of the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Figure 11.23.jpg"/>
          <p:cNvPicPr/>
          <p:nvPr/>
        </p:nvPicPr>
        <p:blipFill>
          <a:blip r:embed="rId1"/>
          <a:stretch/>
        </p:blipFill>
        <p:spPr>
          <a:xfrm>
            <a:off x="2022480" y="1606680"/>
            <a:ext cx="5070600" cy="304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Summing up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611280" y="1511280"/>
            <a:ext cx="79214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Magnetomotive force is the force that establishes and maintains a magnetic flux in a magnetic circuit. Symbol is F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m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, measured in ampere-turns (A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Magnetising force is magnetomotive force per unit length. For air-cored solenoid, the length is that of the coil, for iron-cored solenoid it’s the average length of the iron core. Symbol is H, unit is ampere-turns per metre (At/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Magnetic flux is the total number of lines an electromagnet or a permanent magnet produ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Summing up (2)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612720" y="1511280"/>
            <a:ext cx="791856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Flux density is the number of lines per square metre. Symbol is B, unit is the tesla (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right-hand thumb rule can be used to find the north pole of an electro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djacent current-carrying conductors will have a force acting to repel them (currents in different directions) or attract them (current in the same direc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11.4 Magnetic circuit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12720" y="1511280"/>
            <a:ext cx="8062920" cy="35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magnetic circui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s like an electric circuit, where voltage causes current to flow, which is opposed by the resistance of the circui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has magnetomotive force (F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m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) equivalent to voltage, and magnetic flux (</a:t>
            </a:r>
            <a:r>
              <a:rPr b="0" lang="el-GR" sz="2800" spc="-1" strike="noStrike">
                <a:solidFill>
                  <a:srgbClr val="000000"/>
                </a:solidFill>
                <a:latin typeface="Arial Narrow"/>
              </a:rPr>
              <a:t>Φ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) equivalent to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s the path taken by the flux, so its ability to conduct the flux is important. This is related to the material’s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permeability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11.1 Magnetism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611280" y="1511280"/>
            <a:ext cx="7921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Magnetism is a force created by a magnetic fie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Earth has a magnetic field that produces the magnetosphere, which protects the Earth from the sun’s solar w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magnet has two poles (north and south pole), so named because a magnet, if allowed to move freely, aligns itself so its north pole points to the Earth’s magnetic North P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Relative permeability (µ</a:t>
            </a:r>
            <a:r>
              <a:rPr b="0" lang="en-AU" sz="4000" spc="-1" strike="noStrike" baseline="-25000">
                <a:solidFill>
                  <a:srgbClr val="3c9325"/>
                </a:solidFill>
                <a:latin typeface="Arial Narrow"/>
              </a:rPr>
              <a:t>r</a:t>
            </a: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)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4479840" y="27478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611280" y="1557360"/>
            <a:ext cx="7921440" cy="43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is compares the permeability of a material to the permeability of air (or vacu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Symbol is µ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(does not have a measurement un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B = flux density in teslas (or webers/m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Object 12"/>
          <p:cNvGraphicFramePr/>
          <p:nvPr/>
        </p:nvGraphicFramePr>
        <p:xfrm>
          <a:off x="2540160" y="3219480"/>
          <a:ext cx="4248000" cy="9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0160" y="3219480"/>
                    <a:ext cx="42480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14"/>
          <p:cNvSpPr/>
          <p:nvPr/>
        </p:nvSpPr>
        <p:spPr>
          <a:xfrm>
            <a:off x="0" y="360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63188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462924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Permeability of air (µ</a:t>
            </a:r>
            <a:r>
              <a:rPr b="0" lang="en-AU" sz="4000" spc="-1" strike="noStrike" baseline="-25000">
                <a:solidFill>
                  <a:srgbClr val="3c9325"/>
                </a:solidFill>
                <a:latin typeface="Arial Narrow"/>
              </a:rPr>
              <a:t>0</a:t>
            </a: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)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611280" y="1511280"/>
            <a:ext cx="7920000" cy="35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n air (or a vacuum), the ratio of  flux density (B) and magnetising force (H) producing the flux gives a value called the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permeability of air</a:t>
            </a:r>
            <a:r>
              <a:rPr b="0" i="1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(free spac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is value is constant regardless of the magnetising force, and is called µ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0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µ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0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= 4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x 10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 Narrow"/>
              </a:rPr>
              <a:t>–7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(exactly) or for practical purposes,         1.26 × 10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 Narrow"/>
              </a:rPr>
              <a:t>–6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henry/metre (H/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Absolute permeability (µ)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539640" y="1511280"/>
            <a:ext cx="8280360" cy="41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absolute permeability (µ) of a material is calcu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by multiplying its relative permeability by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permeability of a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Note: Absolute permeability (µ) is sometimes referred to as permeability.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0"/>
          <p:cNvSpPr/>
          <p:nvPr/>
        </p:nvSpPr>
        <p:spPr>
          <a:xfrm>
            <a:off x="612720" y="1609200"/>
            <a:ext cx="792000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63188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462924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bsolute permeability of a material can also be calculated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63188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462924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63188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462924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63188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462924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 is the flux density (tes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63188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462924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</a:t>
            </a:r>
            <a:r>
              <a:rPr b="0" i="1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s the magnetising force (At/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457200"/>
                <a:tab algn="l" pos="914400"/>
                <a:tab algn="l" pos="1371600"/>
                <a:tab algn="l" pos="163188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462924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his equation can be transposed in terms of either B or H, gi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63188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462924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Permeability in terms of B and H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9"/>
          <p:cNvGraphicFramePr/>
          <p:nvPr/>
        </p:nvGraphicFramePr>
        <p:xfrm>
          <a:off x="3995640" y="2195640"/>
          <a:ext cx="936720" cy="87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195640"/>
                    <a:ext cx="93672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8"/>
          <p:cNvGraphicFramePr/>
          <p:nvPr/>
        </p:nvGraphicFramePr>
        <p:xfrm>
          <a:off x="3159000" y="5157720"/>
          <a:ext cx="10810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59000" y="5157720"/>
                    <a:ext cx="10810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7"/>
          <p:cNvGraphicFramePr/>
          <p:nvPr/>
        </p:nvGraphicFramePr>
        <p:xfrm>
          <a:off x="4932360" y="4869000"/>
          <a:ext cx="1008000" cy="97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4869000"/>
                    <a:ext cx="10080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Rectangle 13"/>
          <p:cNvSpPr/>
          <p:nvPr/>
        </p:nvSpPr>
        <p:spPr>
          <a:xfrm>
            <a:off x="2244600" y="4623840"/>
            <a:ext cx="20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4240080" y="4653000"/>
            <a:ext cx="71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n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Permeability comparison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539640" y="4608360"/>
            <a:ext cx="7920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Relative permeability (µ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) changes with flux density (B). The values shown give an approximate range. Minimum values of permeability (µ) are gi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" descr=""/>
          <p:cNvPicPr/>
          <p:nvPr/>
        </p:nvPicPr>
        <p:blipFill>
          <a:blip r:embed="rId1"/>
          <a:stretch/>
        </p:blipFill>
        <p:spPr>
          <a:xfrm>
            <a:off x="1979640" y="1528920"/>
            <a:ext cx="5564160" cy="28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Reluctance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12720" y="1511280"/>
            <a:ext cx="791856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magnetic path has resistance to magnetic flux, referred to as its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reluctance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symbol for reluctance is R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m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Measurement unit is the ampere-turn per weber (At/Wb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R</a:t>
            </a:r>
            <a:r>
              <a:rPr b="0" lang="en-AU" sz="4000" spc="-1" strike="noStrike" baseline="-25000">
                <a:solidFill>
                  <a:srgbClr val="3c9325"/>
                </a:solidFill>
                <a:latin typeface="Arial Narrow"/>
              </a:rPr>
              <a:t>m</a:t>
            </a: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 in terms of Ohm’s law 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611280" y="1484280"/>
            <a:ext cx="79214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n an electric circuit, Ohm’s law relates V,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and R. In a magnetic circuit, there’s a similar relationship between magnetomotive force F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m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, magnetic flu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reluctance R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m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0" y="30542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8"/>
          <p:cNvGraphicFramePr/>
          <p:nvPr/>
        </p:nvGraphicFramePr>
        <p:xfrm>
          <a:off x="4067280" y="3416400"/>
          <a:ext cx="102240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3416400"/>
                    <a:ext cx="10224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10"/>
          <p:cNvSpPr/>
          <p:nvPr/>
        </p:nvSpPr>
        <p:spPr>
          <a:xfrm>
            <a:off x="611280" y="3954240"/>
            <a:ext cx="79214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63188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462924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63188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462924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s flux in webers (W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63188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462924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m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is magnetomotive force in ampere-turns (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63188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462924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m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is reluctance in ampere-turns per weber (At/Wb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Factors affecting r</a:t>
            </a:r>
            <a:r>
              <a:rPr b="0" lang="en-AU" sz="4000" spc="-1" strike="noStrike" baseline="-25000">
                <a:solidFill>
                  <a:srgbClr val="3c9325"/>
                </a:solidFill>
                <a:latin typeface="Arial Narrow"/>
              </a:rPr>
              <a:t>m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611280" y="1511280"/>
            <a:ext cx="792000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45072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reluctance of a magnetic circuit depend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45072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length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– the longer the magnetic circuit, the higher the reluc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45072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cross-sectional area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– the smaller the csa, the higher the reluc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45072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permeability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– the lower the permeability, the higher the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reluc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R</a:t>
            </a:r>
            <a:r>
              <a:rPr b="0" lang="en-AU" sz="4000" spc="-1" strike="noStrike" baseline="-25000">
                <a:solidFill>
                  <a:srgbClr val="3c9325"/>
                </a:solidFill>
                <a:latin typeface="Arial Narrow"/>
              </a:rPr>
              <a:t>m </a:t>
            </a: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in terms of µ and area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11280" y="15112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45072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Reluctance of a magnetic circuit can be calculated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0" y="3040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4"/>
          <p:cNvGraphicFramePr/>
          <p:nvPr/>
        </p:nvGraphicFramePr>
        <p:xfrm>
          <a:off x="1908000" y="2087640"/>
          <a:ext cx="1800360" cy="98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087640"/>
                    <a:ext cx="180036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Rectangle 6"/>
          <p:cNvSpPr/>
          <p:nvPr/>
        </p:nvSpPr>
        <p:spPr>
          <a:xfrm>
            <a:off x="611280" y="2850120"/>
            <a:ext cx="7848360" cy="32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63188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462924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63188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462924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m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is reluctance in ampere-turns per weber (At/W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63188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462924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µ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0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is permeability of air = 1.26 × 10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 Narrow"/>
              </a:rPr>
              <a:t>–6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henry/me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63188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462924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µ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is relative permeability (if know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63188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462924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µ is absolute permeability (if know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63188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462924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is the cross-sectional area in square metres (m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0" y="30290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7"/>
          <p:cNvGraphicFramePr/>
          <p:nvPr/>
        </p:nvGraphicFramePr>
        <p:xfrm>
          <a:off x="5040360" y="2087640"/>
          <a:ext cx="1379520" cy="9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40360" y="2087640"/>
                    <a:ext cx="13795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 Box 11"/>
          <p:cNvSpPr/>
          <p:nvPr/>
        </p:nvSpPr>
        <p:spPr>
          <a:xfrm>
            <a:off x="4032360" y="2340000"/>
            <a:ext cx="6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Effect of air gap on reluctance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A relay has an air-gap in the magnetic path when the armature is open, which increases the reluctance of the magnetic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Figure 11.25.jpg"/>
          <p:cNvPicPr/>
          <p:nvPr/>
        </p:nvPicPr>
        <p:blipFill>
          <a:blip r:embed="rId1"/>
          <a:stretch/>
        </p:blipFill>
        <p:spPr>
          <a:xfrm>
            <a:off x="1225440" y="1644480"/>
            <a:ext cx="6659640" cy="31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Basic compas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12720" y="4859280"/>
            <a:ext cx="79185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The north-seeking pole of a magnet points to the Earth’s magnetic North P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Figure 11.2.jpg"/>
          <p:cNvPicPr/>
          <p:nvPr/>
        </p:nvPicPr>
        <p:blipFill>
          <a:blip r:embed="rId1"/>
          <a:stretch/>
        </p:blipFill>
        <p:spPr>
          <a:xfrm>
            <a:off x="1039680" y="1825560"/>
            <a:ext cx="7061400" cy="30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Summing up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612720" y="1511280"/>
            <a:ext cx="791856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bsolute permeability or permeability (µ) is the ability of a material to conduct magnetic flux; unit is henrys per me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Permeability of a vacuum (µ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0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) is a constant and equals approximately 1.26 × 10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 Narrow"/>
              </a:rPr>
              <a:t>–6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henrys per metre (H/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Relative permeability (symbol µ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) is a measure of the increase in flux density a magnetic material causes compared to air, for the same magnetising force. For ferromagnetic materials, µ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is always greater than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Summing up (2)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684360" y="1557360"/>
            <a:ext cx="792000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Permeability (µ) of a material is the product of its relative permeability (µ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) and µ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0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40000"/>
              </a:lnSpc>
              <a:spcBef>
                <a:spcPts val="1049"/>
              </a:spcBef>
              <a:spcAft>
                <a:spcPts val="876"/>
              </a:spcAft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t also equals flux density (B) divided by the magnetising force (H). 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Reluctance (symbol R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 Narrow"/>
              </a:rPr>
              <a:t>m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) is the resistance a magnetic path offers to magnetic lines of forc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) and is measured in ampere turns per weber (At/W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4140360" y="3284640"/>
          <a:ext cx="936360" cy="87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3284640"/>
                    <a:ext cx="93636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11.5 Magnetisation curve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612720" y="1511280"/>
            <a:ext cx="791856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way a magnetic material responds to a magnetic field can be shown by measuring the flux density (B) in the material for different values of magnetising force (H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magnitude and direction of a magnetic field in a magnetic material can be measured with an instrument called a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magnetometer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, sometimes known as a Tesla meter, or Gaussm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B–H curve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A B–H curve shows how the flux density changes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magnetising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Figure 11.27.jpg"/>
          <p:cNvPicPr/>
          <p:nvPr/>
        </p:nvPicPr>
        <p:blipFill>
          <a:blip r:embed="rId1"/>
          <a:stretch/>
        </p:blipFill>
        <p:spPr>
          <a:xfrm>
            <a:off x="2195640" y="1511280"/>
            <a:ext cx="4733640" cy="31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Shape of B–H curve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612720" y="1511280"/>
            <a:ext cx="476100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shape</a:t>
            </a:r>
            <a:r>
              <a:rPr b="0" i="1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of a B–H curve depends on the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material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Some saturate more rapid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Some have a linear region over a wider range of magnetising fo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Each material will have a different value of flux density at a particular magnetising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Figure 11.28.jpg"/>
          <p:cNvPicPr/>
          <p:nvPr/>
        </p:nvPicPr>
        <p:blipFill>
          <a:blip r:embed="rId1"/>
          <a:stretch/>
        </p:blipFill>
        <p:spPr>
          <a:xfrm>
            <a:off x="5373720" y="1916280"/>
            <a:ext cx="3273480" cy="323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Magnetic hysteresi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611280" y="1511280"/>
            <a:ext cx="792144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test that yields more information about a magnetic material is achieved by passing an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alternating current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rough the coi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Because the current is periodically changing direction, the magnetic field will periodically change polar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at is, the magnetic core will be magnetised in one direction, then in the other, on a repeating ba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t no stage is the material satura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Hysteresis curve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81" name="Rectangle 10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Called a hysteresis curve (lagging behind) because when H is zero,  B is </a:t>
            </a:r>
            <a:r>
              <a:rPr b="0" i="1" lang="en-AU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Figure 11.29.jpg"/>
          <p:cNvPicPr/>
          <p:nvPr/>
        </p:nvPicPr>
        <p:blipFill>
          <a:blip r:embed="rId1"/>
          <a:stretch/>
        </p:blipFill>
        <p:spPr>
          <a:xfrm>
            <a:off x="2050920" y="1484280"/>
            <a:ext cx="4681800" cy="32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Example hysteresis loop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611280" y="485928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A ‘soft’ magnetic material is more easily magnetised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de-magnetised than a ‘hard’ magnetic mate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Figure 11.30.jpg"/>
          <p:cNvPicPr/>
          <p:nvPr/>
        </p:nvPicPr>
        <p:blipFill>
          <a:blip r:embed="rId1"/>
          <a:stretch/>
        </p:blipFill>
        <p:spPr>
          <a:xfrm>
            <a:off x="1332000" y="1479600"/>
            <a:ext cx="6408720" cy="32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Ferrite hysteresis loop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Ferrite is a hard magnetic material with an almost squ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hysteresis lo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Figure 11.31.jpg"/>
          <p:cNvPicPr/>
          <p:nvPr/>
        </p:nvPicPr>
        <p:blipFill>
          <a:blip r:embed="rId1"/>
          <a:stretch/>
        </p:blipFill>
        <p:spPr>
          <a:xfrm>
            <a:off x="3276720" y="1557360"/>
            <a:ext cx="288900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Magnetic losse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612720" y="1557360"/>
            <a:ext cx="791856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538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1.</a:t>
            </a: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Hysteresis loss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– caused by a material’s hysteresis. A comparison between materials can be seen from their hysteresis curves. The smaller the area enclosed by the curve, the lower the lo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538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2.</a:t>
            </a: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Eddy current loss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– which occurs when a coil is supplied with alternating current. To reduce this, the core of the coil is lamin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538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3.</a:t>
            </a: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Fringing and leakage loss</a:t>
            </a:r>
            <a:r>
              <a:rPr b="0" i="1" lang="en-AU" sz="2800" spc="-1" strike="noStrike">
                <a:solidFill>
                  <a:srgbClr val="3c9325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– due to flux flowing outside  the c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Magnetic field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98" name="Rectangle 34"/>
          <p:cNvSpPr/>
          <p:nvPr/>
        </p:nvSpPr>
        <p:spPr>
          <a:xfrm>
            <a:off x="611280" y="485928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A magnetic field is made up of lines of force that travel from the north to the south pole of a mag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Figure 11.3.jpg"/>
          <p:cNvPicPr/>
          <p:nvPr/>
        </p:nvPicPr>
        <p:blipFill>
          <a:blip r:embed="rId1"/>
          <a:stretch/>
        </p:blipFill>
        <p:spPr>
          <a:xfrm>
            <a:off x="611280" y="1700280"/>
            <a:ext cx="785628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Reducing eddy current loss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Electromagnets operating with an alternating current have a laminated core to minimise eddy currents flowing in the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5" descr="Figure 11.32.jpg"/>
          <p:cNvPicPr/>
          <p:nvPr/>
        </p:nvPicPr>
        <p:blipFill>
          <a:blip r:embed="rId1"/>
          <a:stretch/>
        </p:blipFill>
        <p:spPr>
          <a:xfrm>
            <a:off x="1042920" y="1555920"/>
            <a:ext cx="7088400" cy="31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Magnetic leakage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612720" y="4859280"/>
            <a:ext cx="79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Magnetic fringing and leakage contribute to the losses i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magnetic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Figure 11.33.jpg"/>
          <p:cNvPicPr/>
          <p:nvPr/>
        </p:nvPicPr>
        <p:blipFill>
          <a:blip r:embed="rId1"/>
          <a:stretch/>
        </p:blipFill>
        <p:spPr>
          <a:xfrm>
            <a:off x="2508120" y="1706400"/>
            <a:ext cx="4008600" cy="29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Summing up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612720" y="1511280"/>
            <a:ext cx="791856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B–H curve shows how much flux density B is produced in a material at various values of magnetising force 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Permeability of a magnetic material changes with flux density, and is maximum near the knee of the B–H cur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hysteresis loop (or curve) of a magnetic material shows how the flux density changes when the magnetising force is periodically reversed by passing an alternating current through the  magnetising co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Summing up (2)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611280" y="1511280"/>
            <a:ext cx="792000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term </a:t>
            </a:r>
            <a:r>
              <a:rPr b="0" lang="en-AU" sz="2800" spc="-1" strike="noStrike">
                <a:solidFill>
                  <a:srgbClr val="3c9325"/>
                </a:solidFill>
                <a:latin typeface="Arial Narrow"/>
              </a:rPr>
              <a:t>hysteresis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means the lag between the magnetising force and the state of magnetisation of the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smaller the area enclosed by a material’s hysteresis loop, the lower the hysteresis losses in the material, and the more suited the material is for use with an alternating magnetic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ll magnetic circuits have losses, which include hysteresis loss, eddy current loss, magnetic fringing and lea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Properties of a magnetic field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2720" y="1511280"/>
            <a:ext cx="7918560" cy="38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Properties of a magnetic field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y seek the path of least magnetic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n a single bar magnet they attempt to form closed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y never cross one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y all have the same magnetic 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y become less dense (spread out) in air or other non-magnetic materials, and become more dense when flowing in a magnetic material, such as ir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3c9325"/>
                </a:solidFill>
                <a:latin typeface="Arial Narrow"/>
              </a:rPr>
              <a:t>Properties of a magnetic field (2)</a:t>
            </a:r>
            <a:endParaRPr b="0" lang="en-US" sz="40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611280" y="1511280"/>
            <a:ext cx="792144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Properties of a magnetic field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parallel lines of force travelling in the same direction repel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ir density decreases with increasing distance from the p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y are considered to have direction as if flowing, though no actual movement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y flow externally from a magnet’s north pole to a south pole, internally they flow from the south to the north p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05:41:48Z</dcterms:created>
  <dc:creator>Donna Beaty</dc:creator>
  <dc:description/>
  <dc:language>en-US</dc:language>
  <cp:lastModifiedBy>Michael A. JAMES</cp:lastModifiedBy>
  <dcterms:modified xsi:type="dcterms:W3CDTF">2019-02-01T19:51:05Z</dcterms:modified>
  <cp:revision>73</cp:revision>
  <dc:subject/>
  <dc:title>Slide 1</dc:title>
</cp:coreProperties>
</file>