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9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8260A-BA72-4E41-B770-48CB7E5037F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BA31A-69A9-4E7D-8C09-CDF7BA6B792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428E7-CB56-4911-A9C0-2AB68164853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BDDE2-0A39-4B77-B353-EF015AE6726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CD852-B485-412E-A7CA-967D6E32DF8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BD436-BBA9-4E52-8768-DBA28BD762C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24A09-D8F3-4DF8-BA19-22EEC27CB38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dapted from Herman, </a:t>
            </a:r>
            <a:r>
              <a:rPr b="0" i="1" lang="en-AU" sz="1200" spc="-1" strike="noStrike">
                <a:solidFill>
                  <a:srgbClr val="000000"/>
                </a:solidFill>
                <a:latin typeface="Arial Narrow"/>
              </a:rPr>
              <a:t>Standard Textbook of Electricity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1e, © 1993 Delmar Learning, a part of Cengage Learning, Inc, reproduced by permission, www.cengage.com/permiss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8F76B-2311-4F40-A320-7E6B94F5D78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668F3-77DB-42F5-BAFF-F7152D53E14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rmature core and shaft from </a:t>
            </a:r>
            <a:r>
              <a:rPr b="0" i="1" lang="en-AU" sz="1200" spc="-1" strike="noStrike">
                <a:solidFill>
                  <a:srgbClr val="000000"/>
                </a:solidFill>
                <a:latin typeface="Arial Narrow"/>
              </a:rPr>
              <a:t>Multi-Amp Inst Basic Electricity for Electricians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1e, © 1992 Delmar Learning, a part of Cengage Learning, Inc, reproduced by permission, www.cengage.com/permiss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0BF34-D421-4C86-B93C-A74456ACEE0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DDF9B-8CBD-4687-853A-2A73BFBFED9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BFB74-4BF9-4B20-A67B-5DC5809E6E5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1B0FA-F1F8-4DDA-87D0-3462DAEC9BE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9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72F01-03D6-498F-AC3B-912F7C14B5B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15604-5ED0-4CF5-B35A-548E4771D89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367C4-61A7-4F99-9FCE-038D57BE239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5331F-2333-4C5A-B06B-4212F0A54F9F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4F774-A0A9-4DF6-A5B3-D635EAC7684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DFD1E-2969-4D79-BBD0-32AB6C973EE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38182-3F5C-4F12-B770-13411D3D145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6DAB9-786F-427C-B969-4B9B1E0C24F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CCB83-92F0-4034-92AA-08AB17B842F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19D28-9716-4F30-92CC-7D20DF89A6F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A8594-253B-4A88-8345-362AFE62F9C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0E32F-2E54-42D1-B2D1-78210E73933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69DB1-6844-4A1C-8C71-AE7E5A5505C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A83C3-A157-47C9-AEB2-1060E1C3F95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4C93D-92EE-4D78-97A1-A3DCF454960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68904-B488-4EB8-81E2-DBF48D977BBE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0A2EF-E5AB-43D1-BEB2-AA882F4CB7B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A91F0-53C6-46C7-AC04-8573B27FECB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dapted from Herman, </a:t>
            </a:r>
            <a:r>
              <a:rPr b="0" i="1" lang="en-AU" sz="1200" spc="-1" strike="noStrike">
                <a:solidFill>
                  <a:srgbClr val="000000"/>
                </a:solidFill>
                <a:latin typeface="Arial Narrow"/>
              </a:rPr>
              <a:t>Standard Textbook of Electricity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 1e, © 1993 Delmar Learning, a part of Cengage Learning, Inc, reproduced by permission, www.cengage.com/permiss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1109C-F1E7-4654-A4BB-9574248D2D7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DD01E-55FD-4133-BEA8-592546E0FC6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33ACC-E91E-4565-B487-66C2728A2F5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0A40B-7BA7-4C3B-966F-189ADA20790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030BE-4A03-4B38-ABA2-BA585ABD86DB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C3717-9CFC-4FD6-A56D-07A6CE5BF10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C544E-1EF0-41BB-B549-20AAAEBE78A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7272D-9BAC-49BE-8CD7-2C4898292A3D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CF334-FA66-4251-BF7C-25C6AD701E1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9B099-2224-4719-9A83-6AC8C8A5A52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E6747-672F-4526-9C1E-F45B0C270C9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3A66A-CBF3-4CD8-A0E6-9E4C39DFDE9F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88B72-7911-4C83-9610-8F5511412D4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0D38A-6B1A-45A1-B018-B93D5337698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DA229-C27E-43CF-8B71-EB21DEA06D6C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9C129-76C8-4904-B749-69360F4A533E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9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10332-D83F-4429-BCE8-13FB8FA3B75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57D8B-18DE-4336-BE2D-49406FA62ED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84B07-0300-49A6-9091-D830C4C395DB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1323C-869B-4370-850D-D6FF853A1B3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2D93B-B15B-47E2-97BE-DA3C64E35DB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721DA-90AF-466E-9152-CBEFB388646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5BC19-48A3-4F8A-9BFD-ACB6CCD6978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93FDB-93B3-4EC4-AA32-72C24434DB5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EFB36-2A16-4C0C-A744-AE7959C64F5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2ED70-0A89-48E7-8CB8-17A75B072DA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401B4-542B-4E79-9DA0-BF4937B8B11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E6EAC-8CC7-4EB6-80F3-FAB788F5945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F446D-5C58-403E-9E27-64A05C44273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DD57B-8CA4-4E92-97B6-15161FFECA6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dapted from Herman, </a:t>
            </a:r>
            <a:r>
              <a:rPr b="0" i="1" lang="en-AU" sz="1200" spc="-1" strike="noStrike">
                <a:solidFill>
                  <a:srgbClr val="000000"/>
                </a:solidFill>
                <a:latin typeface="Arial Narrow"/>
              </a:rPr>
              <a:t>Standard Textbook of Electricity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1e, © 1993 Delmar Learning, a part of Cengage Learning, Inc, reproduced by permission, www.cengage.com/permiss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4CE1F-C7B2-481D-8B61-543D40D2FE5C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DAA0E-2BE6-4351-85D2-F650DD5A77F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75CC1-CE6D-44ED-ABE1-D5A3865D509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953C2-876A-4987-8364-68B9EBDC78A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dapted from Herman, </a:t>
            </a:r>
            <a:r>
              <a:rPr b="0" i="1" lang="en-AU" sz="1200" spc="-1" strike="noStrike">
                <a:solidFill>
                  <a:srgbClr val="000000"/>
                </a:solidFill>
                <a:latin typeface="Arial Narrow"/>
              </a:rPr>
              <a:t>Standard Textbook of Electricity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1e, © 1993 Delmar Learning, a part of Cengage Learning, Inc, reproduced by permission, www.cengage.com/permiss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AE258-767A-466B-A53E-0269DC8E18D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037E8-A0B9-42A6-B022-466E9AB7D90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DA19E-B9F3-4C6B-B0AF-DC72636A784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C509B-4AE4-478B-B7AC-569F0CE7DF1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EB1AD-D3E4-41F1-BA80-08FB26CDD12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AD48D-4487-4F21-AD89-E0FCE2D9A7A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0A586-4B35-42BB-99BC-CD4E2E7A05A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276E6-B8A4-42EC-A68F-B95BCAC68A2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dapted from Herman, </a:t>
            </a:r>
            <a:r>
              <a:rPr b="0" i="1" lang="en-AU" sz="1200" spc="-1" strike="noStrike">
                <a:solidFill>
                  <a:srgbClr val="000000"/>
                </a:solidFill>
                <a:latin typeface="Arial Narrow"/>
              </a:rPr>
              <a:t>Standard Textbook of Electricity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1e, © 1993 Delmar Learning, a part of Cengage Learning, Inc, reproduced by permission, www.cengage.com/permiss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753F4-C182-4032-A6D4-C4763E08A20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7EB89-7446-4C8A-866D-355783DA854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9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9BE59-CD13-4576-B92C-EFFE5C52297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60455-232C-4487-841B-5811A276B16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3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8DD68-5D6B-40E9-9C82-ADDC7BF3E5F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03C1B-B064-44EB-AB60-4640A35D1D6E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3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Adapted from Herman, </a:t>
            </a:r>
            <a:r>
              <a:rPr b="0" i="1" lang="en-AU" sz="1200" spc="-1" strike="noStrike">
                <a:solidFill>
                  <a:srgbClr val="000000"/>
                </a:solidFill>
                <a:latin typeface="Arial Narrow"/>
              </a:rPr>
              <a:t>Standard Textbook of Electricity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1e, © 1993 Delmar Learning, a part of Cengage Learning, Inc, reproduced by permission, www.cengage.com/permiss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526C1-505F-4B15-9F0D-DA88AA061B1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4814C-219F-4E0C-9831-39B23986A1FD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3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EC225-56F8-4822-817F-53647E4463F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A1DEB-8AAD-4B58-A33B-86EB2931024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E284E-E99D-4E5B-88DB-93D0545DDBD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D5BFA-3118-422B-9B4D-ED5DACCBC85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3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FA06A-2A4A-488F-9A8C-0D5F802FBB5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FED48-C101-488C-A139-0FE7CCB078A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F9C76-3242-40A6-A40B-3C1CABEC135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7CBBA-4FA8-4315-99F8-6F5234E7156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29BE3-3AC8-4717-998E-11AD0C3D744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9EF25-701C-4A00-94FB-2C7CA60E4F5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3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49483-6ADF-4695-B142-A0B20124523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CEF4F-545F-446A-B620-DB4F2D434F0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DAEEA-C0ED-4A25-BF55-58FBEE03B9BB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5D023-F9AD-40A3-BED6-6F98F708E00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E94A4-54B6-48B2-96A4-B087242EEBC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C0A8A-E91C-493D-A122-E4C107B28CF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60FF3-B528-47DC-A756-144B0ECA5B9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99FAC-5C1E-48D0-99C9-05A7AA1AECFD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9889A-02D2-42A0-8304-DD7585793D5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4A789-9F3D-45A4-B133-FE38A503551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9F40C-66AF-4A24-A36F-7FB8C8693F8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70649-9AA3-41A1-B00E-9A8314FF143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EEF8A-BDFA-4F65-8959-C5EA753BDEE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C86BC-47A5-4EE1-801D-ABB2ABE82D4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859D7-2C2E-4F61-9033-3B6CD0383CB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1BECD-6226-45C3-A034-37844BE60D9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DD827-DC0B-4505-8338-426F503FB52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DBF87-1675-45EE-807C-3D77F07451C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1B956-F3F9-41D8-8D97-CBE5FEE6901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DD715-A901-434F-BE65-3E0BF11CE41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Courtesy of Fischer Panda GmbH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C0F9F-443D-4B5E-B545-316292B3C67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CED60-3BF8-4A03-98CA-6B8D3478A29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2147F-318F-45B7-B38A-44F4702769D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93BD5-2FCF-4CBE-AF2A-79B3E6B0B7D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2D323-7C0E-4F1D-8E23-865FE51C57C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067DC-FE5B-41FF-AE5E-FD10F7DC241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2D420-5915-460C-96EF-9CA65468B74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BFE08-B6AB-4A0E-97F5-DEE53B39542F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377AF-5A1F-43D9-B37A-A0B82723779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DCCC6-3365-413E-AAB8-E432ECE0E40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3.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DF6-7EEB-4F03-A605-B456CE05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A7C-06C6-46A5-ABF9-357979DD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70B-F6EB-4F0F-8202-2C4B4DD5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89B-9A10-46FD-B92C-CC709E1C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F06-440A-4D55-AC74-1A5804C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BE9-0529-4EF2-B808-DA4DB1B7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7E2-B6C0-4770-8FBC-35C91E1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027-EB63-4480-8B16-80521BA7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7CC-96D5-4936-919F-E69F51FD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4AD-6E15-4A40-9DF2-661E322F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0A3-A15A-45B9-BB18-A147CF69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303-3F06-4729-9142-E91067C8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9CD4-D590-4465-A2E9-EAB1332A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7EFD-C390-480D-9D64-019022F0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370C-1872-4DFC-A8E2-7AAAD18A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235F-1F79-478A-B012-8F10DC0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73C4-9828-411E-A531-C40A0849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AFF9-9110-4BD9-93A0-EC2C8A8D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667E-78A8-44DE-9A5B-6F6C8BF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6F7E-1749-4E0E-B965-78A9605F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B19F-0111-4ECC-AF53-38E37E12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74CC-51DC-4388-ACF7-09033AD6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B422-63B4-4BC9-A745-DCB8C8AF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C896-470F-4F94-A2F5-979EBEB3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D9BA-3866-4A2C-B538-A2E0467E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F566-BC7A-426B-A27F-EA907ECB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90620-9391-4B13-8021-CEA6AF18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CF14-35A7-47D4-9138-B440E760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3F12-6BBC-46EF-A463-5C6BEA59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6710-0351-40B2-A40D-3630C2D6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4EA8-02A6-4613-8DE8-49599520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4BCF-579F-4F1C-A399-07FBCEB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9A3F-3607-4131-A18C-14D392F1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EFE5-C7F1-4F0B-9917-55C898D4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4AA9-0818-43ED-B23E-84F2D33C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67B1-7F72-4AD4-A37A-5B7F4298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0B858-5D72-4132-A42C-1A1B3F9A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1E72-3C14-4215-8A49-7F90EB2E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5A85-032E-4F04-B36D-0F829126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FA993-B442-44F6-9D76-B9E35781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453FB-35F7-4652-B50B-22E29AAD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45EFC-2E7C-4F5F-9083-D736EB97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9AC6-BF7A-4291-BFC2-53EA9457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A449-84EB-4146-9CF8-3A25D26C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D2E3D-3447-4F86-A1F3-B498AB2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8EC6-CDBC-4498-8A39-963DCE32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EB8A-FFF4-4A5D-A9CB-293F3718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F4B1-B443-40B4-94F8-B9416540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1A80-3097-48AE-8EF6-DBFDED10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B85F-D7B1-477B-8421-9726DF03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5736C-15EC-4563-94D9-0C94099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35DDA-C642-47CC-B9D9-E7C71BD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C200-F458-4177-84BC-42F590BC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E6D1C-DBA1-4FF7-A225-4391C9E7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DC359-E697-41ED-9582-7277A3A2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555EF-53C0-4C6C-91A3-5B814F8B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6AC2C-C3EF-4041-BF61-6C7AE32E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148E3-D9D0-4588-A9DB-8A5A494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1B621-B561-41D0-907D-B78D402A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89AD-59F3-4FA0-96DE-02D05CBA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751AF-D022-46E2-A0A5-FB459297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635CB-F562-4619-9234-8C9CAEEE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75FD8-F534-4EAD-BA71-892F13C9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072F9-6F8C-49CA-A700-522E44BF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C45DF-205B-4EA3-91E6-8498EA3F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814B5-E152-4781-8E86-AD3A778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FDCF-5664-4ED7-8E45-31676EAD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E95CE-7176-4D6A-AB1C-A2D5992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E391-EDD9-49F0-833E-803D927C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668C2-9AC9-49D9-9C3F-D566E485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8BDA-0492-424D-97ED-7110656D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513ED-28A5-4AB6-B803-43661081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E5642-F146-4F55-B49E-4946ABEB133E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27D74-E0CC-46BF-8308-60948A0E91DB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167C9-38E0-4DA7-BA35-23DC87D9D3D1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92673-D43E-497B-96B9-26DAD4A77B14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B42F4-7168-49DB-AA4C-B8EB88282527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0B6A3-167F-4D83-B1A2-8CF064C4A103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68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Basic genera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commutator switches the coil connections every half turn. This causes the load current to always flow in the sam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654120" y="1506600"/>
            <a:ext cx="783576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3.3 DC machine construc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611280" y="1511280"/>
            <a:ext cx="792144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DC machine has stationary parts built into a frame, and a rotary part called the arm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Coils are wound on pole pieces that are attached to the frame. Pole pieces are made from steel lamin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n supplied with an electric current, the pole pieces become magnet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ome machines have four or six poles, with the coil around each pole piece connected to give the opposite magnetic polarity to its two adjacent 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tator part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17" name="Rectangle 19"/>
          <p:cNvSpPr/>
          <p:nvPr/>
        </p:nvSpPr>
        <p:spPr>
          <a:xfrm>
            <a:off x="611280" y="48592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Basic construction of the frame of a DC machine. The frame, pole pieces and coils provide the magnetic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figure 13.6.jpg"/>
          <p:cNvPicPr/>
          <p:nvPr/>
        </p:nvPicPr>
        <p:blipFill>
          <a:blip r:embed="rId1"/>
          <a:stretch/>
        </p:blipFill>
        <p:spPr>
          <a:xfrm>
            <a:off x="1968480" y="1557360"/>
            <a:ext cx="51958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rmatur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20" name="Rectangle 22"/>
          <p:cNvSpPr/>
          <p:nvPr/>
        </p:nvSpPr>
        <p:spPr>
          <a:xfrm>
            <a:off x="612720" y="4859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n armature core is made of steel laminations, which are shaped to provide slots for the w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figure 13.7.jpg"/>
          <p:cNvPicPr/>
          <p:nvPr/>
        </p:nvPicPr>
        <p:blipFill>
          <a:blip r:embed="rId1"/>
          <a:stretch/>
        </p:blipFill>
        <p:spPr>
          <a:xfrm>
            <a:off x="1176480" y="1628640"/>
            <a:ext cx="670860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1"/>
          <p:cNvSpPr/>
          <p:nvPr/>
        </p:nvSpPr>
        <p:spPr>
          <a:xfrm>
            <a:off x="0" y="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Brushes – large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611280" y="5111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Brushes and brush gear for larg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figure 13.8.jpg"/>
          <p:cNvPicPr/>
          <p:nvPr/>
        </p:nvPicPr>
        <p:blipFill>
          <a:blip r:embed="rId1"/>
          <a:stretch/>
        </p:blipFill>
        <p:spPr>
          <a:xfrm>
            <a:off x="695160" y="1577880"/>
            <a:ext cx="776448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0" y="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Brushes – small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9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Brushes and brush gear for small machines, in this case for a four-pol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figure 13.9.jpg"/>
          <p:cNvPicPr/>
          <p:nvPr/>
        </p:nvPicPr>
        <p:blipFill>
          <a:blip r:embed="rId1"/>
          <a:stretch/>
        </p:blipFill>
        <p:spPr>
          <a:xfrm>
            <a:off x="755640" y="1844640"/>
            <a:ext cx="75945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rmature winding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Because there are two coils rather than a single coil, a smoother output voltage is obtained. The commutator now has four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figure 13.10.jpg"/>
          <p:cNvPicPr/>
          <p:nvPr/>
        </p:nvPicPr>
        <p:blipFill>
          <a:blip r:embed="rId1"/>
          <a:stretch/>
        </p:blipFill>
        <p:spPr>
          <a:xfrm>
            <a:off x="504720" y="1876320"/>
            <a:ext cx="809964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ap and wave winding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611280" y="1511280"/>
            <a:ext cx="7921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two main types of armature windings are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lap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windings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wave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windings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lap winding has the start and end of each coil connected to adjacent commutator seg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a wave winding, the ends of each coil are connected to segments some distance a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ap winding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Lap winding, in which each coil connects to adjacent commutator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figure 13.11.jpg"/>
          <p:cNvPicPr/>
          <p:nvPr/>
        </p:nvPicPr>
        <p:blipFill>
          <a:blip r:embed="rId1"/>
          <a:stretch/>
        </p:blipFill>
        <p:spPr>
          <a:xfrm>
            <a:off x="1427040" y="1484280"/>
            <a:ext cx="631368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ap winding schematic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12720" y="511164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chematic diagram of the illustration on the previous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figure 13.12.jpg"/>
          <p:cNvPicPr/>
          <p:nvPr/>
        </p:nvPicPr>
        <p:blipFill>
          <a:blip r:embed="rId1"/>
          <a:stretch/>
        </p:blipFill>
        <p:spPr>
          <a:xfrm>
            <a:off x="2543040" y="1504800"/>
            <a:ext cx="4044960" cy="35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679320" y="549360"/>
            <a:ext cx="770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800" spc="-1" strike="noStrike">
                <a:solidFill>
                  <a:srgbClr val="3c9325"/>
                </a:solidFill>
                <a:latin typeface="Arial Narrow"/>
              </a:rPr>
              <a:t>Chapter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800" spc="-1" strike="noStrike">
                <a:solidFill>
                  <a:srgbClr val="3c9325"/>
                </a:solidFill>
                <a:latin typeface="Arial Narrow"/>
              </a:rPr>
              <a:t>DC gener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Wave winding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Wave winding, in which each coil connects to commutator segments some distance a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figure 13.13.jpg"/>
          <p:cNvPicPr/>
          <p:nvPr/>
        </p:nvPicPr>
        <p:blipFill>
          <a:blip r:embed="rId1"/>
          <a:stretch/>
        </p:blipFill>
        <p:spPr>
          <a:xfrm>
            <a:off x="1440000" y="1557360"/>
            <a:ext cx="630072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omparison of winding type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612720" y="1511280"/>
            <a:ext cx="791856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A wave winding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as two parallel paths between brush connections, with windings effectively in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means a larger number of conductors contribute to output voltage, but because they’re in series, output current is less than from a lap wound arm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A lap winding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roduces a lower voltage and a higher current than a wave wi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oth types of armature windings produce the same amount of output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3.4 Separately excited DC genera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611280" y="1511280"/>
            <a:ext cx="7920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magnetic field current in a separately excited DC generator is provided by an external DC supp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DC supply can be adjustable, or for a fixed supply voltage, connected in series with a variable resistance to control the value of the field 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DC supply can be from another DC generator mechanically connected to the main DC generator sh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xampl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611280" y="529272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basic two-pole separately excited DC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figure 13.14.jpg"/>
          <p:cNvPicPr/>
          <p:nvPr/>
        </p:nvPicPr>
        <p:blipFill>
          <a:blip r:embed="rId1"/>
          <a:stretch/>
        </p:blipFill>
        <p:spPr>
          <a:xfrm>
            <a:off x="1897200" y="1700280"/>
            <a:ext cx="53388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ircuit diagram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0" y="3068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9"/>
          <p:cNvSpPr/>
          <p:nvPr/>
        </p:nvSpPr>
        <p:spPr>
          <a:xfrm>
            <a:off x="611280" y="4859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Circuit diagram of a separately excited DC generator. The field rheostat adjusts the value of the field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figure 13.15.jpg"/>
          <p:cNvPicPr/>
          <p:nvPr/>
        </p:nvPicPr>
        <p:blipFill>
          <a:blip r:embed="rId1"/>
          <a:stretch/>
        </p:blipFill>
        <p:spPr>
          <a:xfrm>
            <a:off x="2340000" y="1555920"/>
            <a:ext cx="446400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quivalent circui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539640" y="4859280"/>
            <a:ext cx="806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quivalent circuit of a separately excited DC generator. Coils are shown as DC resistances, the voltage produced by the armature is E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figure 13.16.jpg"/>
          <p:cNvPicPr/>
          <p:nvPr/>
        </p:nvPicPr>
        <p:blipFill>
          <a:blip r:embed="rId1"/>
          <a:stretch/>
        </p:blipFill>
        <p:spPr>
          <a:xfrm>
            <a:off x="1079640" y="1555920"/>
            <a:ext cx="6948360" cy="30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Open-circuit characteristic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611280" y="1511280"/>
            <a:ext cx="7921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n there is no load connected to a generator, its terminal voltage (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will equal the EMF generated in the armature (E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. The value of this voltage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trength of the magnetic field created by the field c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umber of armature conductors connected in series, which depends on the construction of the armature and how it is w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elative speed between the moving conductors and the magnetic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quation to find E</a:t>
            </a:r>
            <a:r>
              <a:rPr b="0" lang="en-AU" sz="4000" spc="-1" strike="noStrike" baseline="-25000">
                <a:solidFill>
                  <a:srgbClr val="3c9325"/>
                </a:solidFill>
                <a:latin typeface="Arial Narrow"/>
              </a:rPr>
              <a:t>G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0" y="248904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18"/>
          <p:cNvGraphicFramePr/>
          <p:nvPr/>
        </p:nvGraphicFramePr>
        <p:xfrm>
          <a:off x="3564000" y="1511280"/>
          <a:ext cx="19447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511280"/>
                    <a:ext cx="19447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20"/>
          <p:cNvSpPr/>
          <p:nvPr/>
        </p:nvSpPr>
        <p:spPr>
          <a:xfrm>
            <a:off x="612720" y="2426400"/>
            <a:ext cx="79185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892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 Narrow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= voltage generated by the ar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 = number of p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Φ = flux per pole in we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 = revolutions per minute (R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 = number of effective armature cond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= number of parallel paths in the arm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Test setup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11280" y="4608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6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Circuit when determining a DC generator’s open-circuit characteristic, in which the speed is held constant for different values of field current while the output voltage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figure 13.17.jpg"/>
          <p:cNvPicPr/>
          <p:nvPr/>
        </p:nvPicPr>
        <p:blipFill>
          <a:blip r:embed="rId1"/>
          <a:stretch/>
        </p:blipFill>
        <p:spPr>
          <a:xfrm>
            <a:off x="804960" y="1628640"/>
            <a:ext cx="77994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Output versus increasing field curren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4479840" y="24796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704880" y="4859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open-circuit voltage curve of a DC generator is the same as the magnetisation (B–H) curve of the machine’s magnetic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figure 13.18.jpg"/>
          <p:cNvPicPr/>
          <p:nvPr/>
        </p:nvPicPr>
        <p:blipFill>
          <a:blip r:embed="rId1"/>
          <a:stretch/>
        </p:blipFill>
        <p:spPr>
          <a:xfrm>
            <a:off x="933480" y="1628640"/>
            <a:ext cx="709308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bout this chapte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612720" y="1511280"/>
            <a:ext cx="792000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lthough Faraday discovered the principles of electromagnetic induction in 1831, it took 40 years before a commercially viable DC generator was develop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chap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escribes the operating principles and construction of various types of DC gen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ooks at how each type of generator performs when providing power to a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ooks at applications and limitations of each gen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Output versus increasing RPM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612720" y="511164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Voltage versus speed curve for a DC generator on no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figure 13.19.jpg"/>
          <p:cNvPicPr/>
          <p:nvPr/>
        </p:nvPicPr>
        <p:blipFill>
          <a:blip r:embed="rId1"/>
          <a:stretch/>
        </p:blipFill>
        <p:spPr>
          <a:xfrm>
            <a:off x="2340000" y="1531800"/>
            <a:ext cx="439272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oad characteristic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12720" y="1511280"/>
            <a:ext cx="79185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DC generator is used to provide electrical power to a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t’s therefore useful to know how the generator performs under load condi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is done with a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load test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which the generator is run at its rated speed and field current while the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load current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var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Test setup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3049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612720" y="4608360"/>
            <a:ext cx="791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Load test circuit diagram, in which the generator’s terminal voltage is measured at different values of load current, for constant RPM and fiel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figure 13.20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7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oad characteristic curv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output voltage falls as the load is increased due to armature and brush resistance, and because of armatur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figure 13.21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1636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rmature reac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rmature reaction causes the machine’s magnetic field to twist in the direction of ro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figure 13.22.jpg"/>
          <p:cNvPicPr/>
          <p:nvPr/>
        </p:nvPicPr>
        <p:blipFill>
          <a:blip r:embed="rId1"/>
          <a:stretch/>
        </p:blipFill>
        <p:spPr>
          <a:xfrm>
            <a:off x="1476360" y="1557360"/>
            <a:ext cx="622764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ffects of armature reac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612720" y="1511280"/>
            <a:ext cx="791856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rmature reaction 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lux to concentrate at the trailing pole tips and reduce at the leading pole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magnetic flux to be distributed unevenly. As a result, the magnetic circuit in the machine is not being used effectively, and the generated voltage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parking at the brushes, which can be reduced by moving the brushes to a new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Brush posi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4479840" y="27478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612720" y="4608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Brushes are positioned so switching between commutator segments occurs at the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magnetic neutral zone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, when there is no induced current in the coils being swi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figure 13.23.jpg"/>
          <p:cNvPicPr/>
          <p:nvPr/>
        </p:nvPicPr>
        <p:blipFill>
          <a:blip r:embed="rId1"/>
          <a:stretch/>
        </p:blipFill>
        <p:spPr>
          <a:xfrm>
            <a:off x="1547640" y="1544760"/>
            <a:ext cx="605016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Interpole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3" name="Rectangle 15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Interpoles reduce the effects of armature reaction and are connected in series with the arm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figure 13.24.jpg"/>
          <p:cNvPicPr/>
          <p:nvPr/>
        </p:nvPicPr>
        <p:blipFill>
          <a:blip r:embed="rId1"/>
          <a:stretch/>
        </p:blipFill>
        <p:spPr>
          <a:xfrm>
            <a:off x="2195640" y="1557360"/>
            <a:ext cx="4752720" cy="31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3.5 Self-excited genera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611280" y="1511280"/>
            <a:ext cx="79214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ost DC generators are self-excited, which means they provide their own field curr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re are various ways this can be done, and each method is named after the manner in which the field coils are connec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y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series with the ar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parallel (sh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combination of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hunt genera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611280" y="486252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shunt-connected DC generator has its field winding in parallel with the armature and (therefore) the output 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figure 13.25.jpg"/>
          <p:cNvPicPr/>
          <p:nvPr/>
        </p:nvPicPr>
        <p:blipFill>
          <a:blip r:embed="rId1"/>
          <a:stretch/>
        </p:blipFill>
        <p:spPr>
          <a:xfrm>
            <a:off x="1547640" y="1587600"/>
            <a:ext cx="5937480" cy="31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ontent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11280" y="151128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49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3.1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49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3.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C generator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49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3.3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C machin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49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3.4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eparately excited DC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49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3.5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elf-excited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496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3.6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oad characteristic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611280" y="48592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terminal voltage of a shunt DC generator falls dramatically under overload conditions, shown by the red section of the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figure 13.26.jpg"/>
          <p:cNvPicPr/>
          <p:nvPr/>
        </p:nvPicPr>
        <p:blipFill>
          <a:blip r:embed="rId1"/>
          <a:stretch/>
        </p:blipFill>
        <p:spPr>
          <a:xfrm>
            <a:off x="863640" y="1557360"/>
            <a:ext cx="745344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Voltage–speed characteristic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4211640" y="1511280"/>
            <a:ext cx="446400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voltage produced by a shunt generator varies almost proportionally to its speed of rotation, once the critical speed is reac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elow this speed, the voltage produced by the generator is due mainly to its residual  magnetis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figure 13.27.jpg"/>
          <p:cNvPicPr/>
          <p:nvPr/>
        </p:nvPicPr>
        <p:blipFill>
          <a:blip r:embed="rId1"/>
          <a:stretch/>
        </p:blipFill>
        <p:spPr>
          <a:xfrm>
            <a:off x="630360" y="1628640"/>
            <a:ext cx="34369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eries genera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field coils in a series DC generator are wound with few turns of heavy gauge wire, and are connected in series with the arm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figure 13.28.jpg"/>
          <p:cNvPicPr/>
          <p:nvPr/>
        </p:nvPicPr>
        <p:blipFill>
          <a:blip r:embed="rId1"/>
          <a:stretch/>
        </p:blipFill>
        <p:spPr>
          <a:xfrm>
            <a:off x="1835280" y="1660680"/>
            <a:ext cx="5400720" cy="29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oad characteristic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terminal voltage of a series DC generator increases as the load curre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figure 13.29.jpg"/>
          <p:cNvPicPr/>
          <p:nvPr/>
        </p:nvPicPr>
        <p:blipFill>
          <a:blip r:embed="rId1"/>
          <a:stretch/>
        </p:blipFill>
        <p:spPr>
          <a:xfrm>
            <a:off x="984240" y="1584360"/>
            <a:ext cx="718812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Voltage–speed characteristic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voltage produced by a series generator varies almost proportionally to its speed of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figure 13.30.jpg"/>
          <p:cNvPicPr/>
          <p:nvPr/>
        </p:nvPicPr>
        <p:blipFill>
          <a:blip r:embed="rId1"/>
          <a:stretch/>
        </p:blipFill>
        <p:spPr>
          <a:xfrm>
            <a:off x="2627280" y="1484280"/>
            <a:ext cx="3984480" cy="33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ompound genera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612720" y="4778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compound generator has two separate windings in each field coil, a series-connected coil and a shunt-connected 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figure 13.31.jpg"/>
          <p:cNvPicPr/>
          <p:nvPr/>
        </p:nvPicPr>
        <p:blipFill>
          <a:blip r:embed="rId1"/>
          <a:stretch/>
        </p:blipFill>
        <p:spPr>
          <a:xfrm>
            <a:off x="1619280" y="1557360"/>
            <a:ext cx="588168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ircuit diagram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wo ways of connecting the shunt field coils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compound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" descr="figure 13.32.jpg"/>
          <p:cNvPicPr/>
          <p:nvPr/>
        </p:nvPicPr>
        <p:blipFill>
          <a:blip r:embed="rId1"/>
          <a:stretch/>
        </p:blipFill>
        <p:spPr>
          <a:xfrm>
            <a:off x="1079640" y="1484280"/>
            <a:ext cx="702144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Types of compound genera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611280" y="1511280"/>
            <a:ext cx="792144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Level-compound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– the number of turns in the series coils keeps the generator’s terminal voltage almost constant from no load to full lo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Over-compound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– has more turns in the series coils, causing the loaded voltage to rise above its no-loa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Under-compound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– has less turns in the series coils, causing the terminal voltage to fall under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Differential compound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– in which the series coils oppose the magnetic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Types of compound generator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Curves showing how the output voltage of different types of compound generators behave und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figure 13.33.jpg"/>
          <p:cNvPicPr/>
          <p:nvPr/>
        </p:nvPicPr>
        <p:blipFill>
          <a:blip r:embed="rId1"/>
          <a:stretch/>
        </p:blipFill>
        <p:spPr>
          <a:xfrm>
            <a:off x="1042920" y="1492200"/>
            <a:ext cx="700740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3.6 Calculation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612720" y="1511280"/>
            <a:ext cx="79185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a typical installation, the load is connected to a DC generator with cables, which will have some value of resistance. Brushes and armature windings also have re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voltage drops across the cables and brushes-armature can be calculated if their resistance and the load current is 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armature’s generated EMF at full load can also be determ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3.1 Introduc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611280" y="1511280"/>
            <a:ext cx="79200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DC generator and a DC motor have a similar construction and are called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DC machines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DC generator converts mechanical energy into electrical energy. The mechanical energy is from a prime mover that rotates the generator sh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rime movers include diesel or petrol engines, hydro-power, steam turbin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amount of electrical power produced depends on the power of the prime mover and design of the DC gen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3.6 Calculations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hunt generator connected to a 400 V, 40 kW load. Brush and armature resistance is 0.08 </a:t>
            </a:r>
            <a:r>
              <a:rPr b="0" lang="el-GR" sz="2400" spc="-1" strike="noStrike">
                <a:solidFill>
                  <a:srgbClr val="000000"/>
                </a:solidFill>
                <a:latin typeface="Arial Narrow"/>
              </a:rPr>
              <a:t>Ω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, total cable resistance is 0.1 </a:t>
            </a:r>
            <a:r>
              <a:rPr b="0" lang="el-GR" sz="2400" spc="-1" strike="noStrike">
                <a:solidFill>
                  <a:srgbClr val="000000"/>
                </a:solidFill>
                <a:latin typeface="Arial Narrow"/>
              </a:rPr>
              <a:t>Ω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7" descr="figure 13.34.jpg"/>
          <p:cNvPicPr/>
          <p:nvPr/>
        </p:nvPicPr>
        <p:blipFill>
          <a:blip r:embed="rId1"/>
          <a:stretch/>
        </p:blipFill>
        <p:spPr>
          <a:xfrm>
            <a:off x="1152360" y="1492200"/>
            <a:ext cx="680436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Voltage drops due to resistan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612720" y="1511280"/>
            <a:ext cx="79185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o determine the voltage dro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ind the load current, assuming the voltage across the load is 400 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nswer: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100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ind the voltage at the generator terminals (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when the load current is 100 A and the load voltage is 400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nswer: 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41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Voltage drops due to resistance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612720" y="1511280"/>
            <a:ext cx="7918560" cy="27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o determine the voltage dro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ind the armature’s generated EMF (E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, assuming the only losses are due to the armature and brush re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nswer: E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418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Voltage regula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612720" y="1511280"/>
            <a:ext cx="791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Generators are rated at their full-load output voltage. Voltage regulation is the difference between the no-load and full-load voltages, divided by the full-load value. The answer is multiplied by 100 to express it as a percen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Object 7"/>
          <p:cNvGraphicFramePr/>
          <p:nvPr/>
        </p:nvGraphicFramePr>
        <p:xfrm>
          <a:off x="1643040" y="3595680"/>
          <a:ext cx="525636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3595680"/>
                    <a:ext cx="525636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Rectangle 9"/>
          <p:cNvSpPr/>
          <p:nvPr/>
        </p:nvSpPr>
        <p:spPr>
          <a:xfrm>
            <a:off x="612720" y="4410360"/>
            <a:ext cx="79185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N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no-load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F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full-load vol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ower loss and efficiency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612720" y="1511280"/>
            <a:ext cx="792000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ower losses include copper losses  (I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 losses), mechanical losses due to friction and wind resistance, and magnetic core losses due to hysteresis, magnetic fringing and leakage, and eddy currents induced in the c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refore, the prime mover driving a DC generator has to provide sufficient power to overcome all these lo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fficiency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612720" y="1511280"/>
            <a:ext cx="791856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ratio of the power output (P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out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and the power input (P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in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gives a measure of a machine’s efficien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fficiency (symbol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η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is expressed as a percen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7"/>
          <p:cNvGraphicFramePr/>
          <p:nvPr/>
        </p:nvGraphicFramePr>
        <p:xfrm>
          <a:off x="3564000" y="3111480"/>
          <a:ext cx="1942920" cy="8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111480"/>
                    <a:ext cx="19429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611280" y="1511280"/>
            <a:ext cx="792144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C machines (motors and generators) have virtually the same co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frame and pole pieces in a generator provide a path for the magnetic field created by its field co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field interacts with the rotating armature to induce a voltage in the armature co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alternating armature current is converted by the commutator to direct current in the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611280" y="1511280"/>
            <a:ext cx="7920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lap wound armature has many parallel paths and suits a high current, low voltag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wave wound armature has two parallel paths and suits a high voltage, low current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magnetic field in a generator can be produced by permanent magnets (smaller machines), or field coils supplied by either an external DC source, or by the generator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3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611280" y="1511280"/>
            <a:ext cx="792144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elf-excited generators can be: shunt, where the field coils are in parallel with the armature; series, in which the armature current flows in the field coils; and compound, which combines shunt and series field co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Generators are rated by their output current at a rated output voltage, and have a specific direction of rotation. If the direction of rotation is reversed, a self-excited machine cancels its residual magnetism and cannot produce an output vol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4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612720" y="1511280"/>
            <a:ext cx="791856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mechanical energy required to drive a generator is proportional to, but greater than, the electrical energy being delivered by the gen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DC generator has resistive (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) losses, core losses (magnetic effects) and mechanical losses (friction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esistive losses are those due to any resistance in series with the armature’s generated EMF (E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and the output terminals of the gene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xample DC genera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611280" y="5111640"/>
            <a:ext cx="792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12.5 kW DC generator set, powered by a diesel prime m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figure 13.1.jpg"/>
          <p:cNvPicPr/>
          <p:nvPr/>
        </p:nvPicPr>
        <p:blipFill>
          <a:blip r:embed="rId1"/>
          <a:stretch/>
        </p:blipFill>
        <p:spPr>
          <a:xfrm>
            <a:off x="1428840" y="1628640"/>
            <a:ext cx="6311880" cy="33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5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611280" y="1511280"/>
            <a:ext cx="792000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C machines (motors and generators) operate at a certain efficiency, which is the ratio of the power delivered by the machine (P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out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and the power required to drive the machine (P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in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% voltage regulation of a DC generator is a measure of how much its output voltage drops under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6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3029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12720" y="1511280"/>
            <a:ext cx="7918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prime mover driving a DC generator has to overcome the opposing magnetic fields created by the armature and the generator’s main f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armature field strength increases with load current, requiring more mechanical power from the prime m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3.2 DC generator operating principle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3" name="Rectangle 34"/>
          <p:cNvSpPr/>
          <p:nvPr/>
        </p:nvSpPr>
        <p:spPr>
          <a:xfrm>
            <a:off x="612720" y="486900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rotating magnet arranged to induce a current in a stationary coil. This arrangement produces an alternating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1351080" y="1773360"/>
            <a:ext cx="6441840" cy="29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ixed magnetic field, rotating coil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611280" y="4608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rotating coil inside a stationary magnetic field. The coil is connected to the load through brushes rubbing against sliprings. This device also produces an alternating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31988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Basic alterna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When a coil rotates in a magnetic field, the voltage induced in the coil changes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figure 13.4.jpg"/>
          <p:cNvPicPr/>
          <p:nvPr/>
        </p:nvPicPr>
        <p:blipFill>
          <a:blip r:embed="rId1"/>
          <a:stretch/>
        </p:blipFill>
        <p:spPr>
          <a:xfrm>
            <a:off x="2484360" y="1576440"/>
            <a:ext cx="4175280" cy="307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5:41:48Z</dcterms:created>
  <dc:creator>Donna Beaty</dc:creator>
  <dc:description/>
  <dc:language>en-US</dc:language>
  <cp:lastModifiedBy>Fellows, Amelia</cp:lastModifiedBy>
  <dcterms:modified xsi:type="dcterms:W3CDTF">2015-10-01T05:13:33Z</dcterms:modified>
  <cp:revision>49</cp:revision>
  <dc:subject/>
  <dc:title>Slide 1</dc:title>
</cp:coreProperties>
</file>