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23.wmf" ContentType="image/x-wmf"/>
  <Override PartName="/ppt/media/image8.wmf" ContentType="image/x-wmf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4.wmf" ContentType="image/x-wmf"/>
  <Override PartName="/ppt/media/image22.wmf" ContentType="image/x-wmf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 Narrow"/>
              </a:rPr>
              <a:t>Click to move the slide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EF5DEC-4BED-49E4-8251-2112FB0482B6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BAF510-F136-47EB-ADE7-FDA77E08DC82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C72B21-7A21-4B47-9346-FC54621E5DBA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D667FD-A851-4CB3-9850-D7EC54217C34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6832BD-F5E1-4695-9F3E-D6CB15E2D5E9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Arial Narrow"/>
              </a:rPr>
              <a:t>Figure 23.6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Arial Narrow"/>
              </a:rPr>
              <a:t>Starting torque is low – 1.5 - 2 times running torque.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Arial Narrow"/>
              </a:rPr>
              <a:t>Starting current is 5 – 7 times the running current.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Arial Narrow"/>
              </a:rPr>
              <a:t>Torque reduces when start winding cuts out.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Arial Narrow"/>
              </a:rPr>
              <a:t>Auxiliary coil must be disconnected so number of starts per hour are limited.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Arial Narrow"/>
              </a:rPr>
              <a:t>Reversing swap polarity on any winding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Arial Narrow"/>
              </a:rPr>
              <a:t>Typical size 1kW or less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Arial Narrow"/>
              </a:rPr>
              <a:t>Application Grinders, Sanders, small lathes &amp; drilling machines. (note how drilling machine can be held without turning at start).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Arial Narrow"/>
              </a:rPr>
              <a:t>Go to workshop and test split phase motors. Use skill practice 1 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Arial Narrow"/>
              </a:rPr>
              <a:t>Students can do tutorial 5 at this point.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4733BA-EC2A-428C-907A-7F722996E884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C3E353-0A41-42B6-AB02-37A8F347FA64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8C7E9C-BA84-44CB-8BF3-81C3CE8B5A8A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DBF289-01AC-44BF-8B07-2CCF07F00E13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Go to workshop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4B911B-508B-4DA5-AAFD-FE44E4F2F50C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E72D32-951A-4D0B-B141-8BF6018309DA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23.7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5F6138-D254-459B-91E9-D3ADDF7DDFE8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56317C-6250-476A-8123-68527913A4E5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23.8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Capacitor starts are provided to give more torque and smoother running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Three types</a:t>
            </a: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Cap start </a:t>
            </a: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Cap Start/Cap Run </a:t>
            </a: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Permanently Split capacito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Typical sizes range 30w over 10kW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945944-75E5-4E64-B12D-21BB18AD49A2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C02619-056E-4BFE-87BC-F4FA3512F9F6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23.9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Capacitors have number of starts per hour on them, rated to specific voltages and farads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Must be replaced with suitable capacitor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Show Caps start motor from motor room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Next slide to introduce Cap start and demo torque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D77832-128C-40D6-9405-443B49C1018E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67B7DF-A6F4-4C34-AA6F-FAD1D9F5DF1A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23.10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Explain operation with Capacitor giving phase shift leading (its not 90 degrees from Voltage supply as its in series with start coil)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Overall phase shift is 90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Capacitor duty times can vary from 5-10 seconds which means motor must get to 75% of speed before then to allow cap to get disconnected from circuit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Next slide to discuss torque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986E46-D0F7-47CF-8AD0-7C49172A31AF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9AE613-9C2B-43CE-8073-6E9A70E4B959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23.1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On motors above 750W current relay is used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4 x torque by using capacitor,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Very common motor, can be reversed when running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Air con &amp; refrigera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628D37-6AD2-4B29-829F-D925537F6FA9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96B171-965E-405F-932C-2A3A07C44A83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23.12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Keeping capaicitor in the circuit gives a more uniform magnetic field due to 90 degree phase shift, therefore its a quieter motor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Run cap also increases the motors breakdown torque, improving its efficiency and power factor.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Start cap about 10-15 times the value of run cap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Main use compressors (&amp; air con) unique to floor polisher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C87512-7381-4493-87F3-FC25990236DF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29859D-C0DC-4CD5-8846-E87724F99DA5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6949C9-CB0C-4536-9944-B825654C56DF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5FBCF1-4491-4DD5-9D6E-0E699F00C5F7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23.13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Two identical winding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Cap in series with one of them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Reverse by using switch to change capsitor winding configuration. (redraw on board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Due to only one capacitor its torque is reduced but it remains quiet and smooth, its main task is ceiling fans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1F94B7-47C0-494D-B3A3-BA836D7085BB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1409FA-3CAB-49A0-A878-0D46AD9C7AA9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utorial 6 page 34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FFA802-91B1-48D1-873C-1058BDA138C8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259A87-57AF-406A-996E-8BA816098C57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23.14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Pass out Shaded pole induction motor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Explain it gets its name from the closed copper loop around the magnetic poles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Small machines no greater than a few hundred watts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Small fans pumps etc. Low torque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4848F5-CCAB-4F19-9325-282787824492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1B8617-3000-4980-AE87-E661B1917690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23.15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Coil has low resistance, large current, instantaneous strong magnetic field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Step through how magnetic field is concentrated to one side as current rises rapidly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Lenz's law causes opposing field in shaded pole.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High slip speed,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Very simple robust construc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Not normally reversible unless two set of shading rings are fitted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Very inefficient, loose laminations, sticking motor,, generally not worth repairing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BAA702-D8DC-46A6-B19C-FF5C2AB59C25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FB6096-910B-406C-B7F2-A13CF7A10412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5BD6E7-A2BA-4712-865C-C6634C9BC53D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F4DB1D-1E8A-41D1-9C34-B0EBD9AE763E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23.1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NOT INDUC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Wound armature in series with stator coils. Magnetic feild is produced by current into the armature &amp; stator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Operates on AC &amp; DC draw circuit to show current direction on AC and DC. Demo with moto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Very high speed 20000RPM Unloaded, can cause machine to damage its armature  Show you tube clip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small machine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0DF838-D81D-4B7E-B257-5A2C4DD7BA09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307955-B76F-4FDA-A377-485413BC5277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23.17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Draw circuit two represent reversal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Operation is,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as current is limited by coil &amp; rotor resistance then it is quite high at start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Therefore high torque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As motor turns Back EMF reduces the current in the circuit. The faster the armature the less current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V</a:t>
            </a:r>
            <a:r>
              <a:rPr b="0" lang="en-AU" sz="1200" spc="-1" strike="noStrike" baseline="-25000">
                <a:solidFill>
                  <a:srgbClr val="000000"/>
                </a:solidFill>
                <a:latin typeface="Arial Narrow"/>
              </a:rPr>
              <a:t>T</a:t>
            </a: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 = (IZ)+Vg    I = V</a:t>
            </a:r>
            <a:r>
              <a:rPr b="0" lang="en-AU" sz="1200" spc="-1" strike="noStrike" baseline="-25000">
                <a:solidFill>
                  <a:srgbClr val="000000"/>
                </a:solidFill>
                <a:latin typeface="Arial Narrow"/>
              </a:rPr>
              <a:t>T</a:t>
            </a: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-Vg/Z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Power under 1kW, but good size ratio for power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Poor efficiency prone to faults, sparking brushes, commutator can wear windings burn ou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Sparking causes radio interference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8C1CBD-2930-469E-B899-0236F7897FD8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A7E3ED-06B4-41A0-A2B0-867DBD9B1446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o Skill practical 3 in book on DC betts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o skill practical of series universal on 230 volt motors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o Philips tutorial question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o learning resource tutorial 7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3F1B3C-83F7-4ED2-AE8B-1B276ACE65AD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54CDA8-61D6-488A-82B1-BE1544E3D46D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4E6167-04CE-424C-A786-2C34E719D265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72FCD0-1D00-49B2-98CB-5280B4D68A92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F97D5E-4DB2-4AA7-BE06-741E80E71348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FF2774-EFE8-4CA1-A115-357B564B8204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29E958-7723-4627-85A8-9457320DA743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D50A64-C969-45A3-8081-82B920915939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59FA64-0B45-4F0C-A55B-841BC6934D7E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74911C-69EE-4F4B-ADED-77B910D7FDA1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4611F2-BF03-439C-BC63-779A05FEF33B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9A41E3-4A77-412B-A26F-80FA989106A4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307FE7-65ED-4795-BA35-2FD273F2C6DD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F62B74-9429-47EA-855C-8BE20887E5E1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612962-9A7F-4B08-815F-E520F8AA14C5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EC3F76-FEDB-4D39-9161-5FD4CC254B43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C31D8B-5CDE-4131-92DB-880B408D55F6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54DAE6-38E2-4A44-8ECF-6A2B80FCD50C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624821-AA04-4188-9698-793E626A1B74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EF49B7-2A27-492E-8B3A-3EDB2BCBAE30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2BB961-DF13-4BD2-AC1F-E45848A639D4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22A2B4-29E8-4B3F-9B11-E4D7055AEAD5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23.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Shows pulsating field with no rotation  Demonstrate with motor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Explain that turning by hand will cause induction into rotor and therefore the rotor will keep running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f you disconnect two lines of a three phase motor it will run with reduced efficiency and torque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Can be squirrel or wound and categorised as split phase, capacitor motors and shaded pole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We will look at these individually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Single phase motors with wound rotors have an armature &amp; commutator like DC motors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A11514-EFE5-4AC6-A8B7-EA71AC24A5B2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EE3E85-2600-49F9-8F7D-A192CBB30090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23.2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Explai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Run winding which has a large CSA and set deeper in the core which gives it a large phase angle in relation to the supply voltage. Approx example 50degree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Start winding which has opposite characteristics and 25% less turns &amp; set higher in the core, less of a phase angle approx example 20 degrees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Overall phase shift between both currents is 30 degree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The phaser sum of these currents causes an rotating elliptical magnetic field which provides enough torque to move the rotor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F78461-8A8F-4904-8A39-ACAC82743AEC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3B99B2-CF4D-4490-AAD8-429E6290271B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23.3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Demo with split phase motor and show you tube clip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Start winding cannot be left running. Small gauge wire will burn out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Connected in series with start winding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Next slide shows diagram and current relay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2EA736-11C0-4F10-BE8C-C7FB98A3DF0E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848ABC-2349-4B96-85E5-C367C1490FB6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23.4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Current relay energises with large inrush current and as motor speeds up current reduces and relay drops out, opening relay contact to start winding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Relay can be positioned local or remote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E99F26-4506-4AB7-A0A4-15DD8864E5F0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96FF6D-FE36-41A8-8701-02D2ADD1BAA1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23.5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Step through components, next slide calculating speed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9120" y="43016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0880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45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99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91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45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99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6D0E-8F73-454B-906B-49865C1C0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A74D-A206-41DC-9D46-CFA3531D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7D00-DE3A-4D42-A42F-338C6000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AB87-1856-4648-9D25-6BBC1EE9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68EE-3B96-434F-A83A-3EB37ED6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8001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DEDA-DF91-4C6F-A3CA-2FD33628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A326-2D0D-41FC-AC7A-0B0A9600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0880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9E60-0241-42FA-97CB-28A6693F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06DA-6A43-4772-B2C4-238194E8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120" y="43016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6622-7DD4-4111-B3A8-AAD53D7D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0880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683F-B519-4263-BBDE-DCD0E4FDE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45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99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1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45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99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2BC4-7743-4AAF-A43D-BE3C2FA05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B5E1-CA83-4822-81B7-C80A33992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6EDF-3D93-4FEB-B176-3C9B0FAD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97AF-B786-40A4-91C7-82081FD6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CCDC-65DF-4CD4-A0D4-BD8C2408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81BF-58CA-49B3-BEFC-80DE1057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8001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E05E-93A0-4861-AF1A-BEA4E190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54A8-9776-4390-AD86-977C5E4A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70880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74AF-F93D-4F59-86EB-49C84A66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4E97-5C2A-4017-9E89-C4FEB3EE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09120" y="43016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0B4A-B9BB-4207-A071-A1D0B6FE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70880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E96C-1166-4DCA-BE76-0B78670A8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145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199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091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145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199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D0D2-B993-40D6-BDC1-AB87AB337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594E8-5A0B-4981-BC2D-3B969BFF2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0C324-509E-410C-9AC7-A19884C0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04E13-767E-44E5-9A81-4D67C77C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FC663-0408-4AA0-B28D-0625009E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49321-32AF-4403-B696-C2B0B389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8001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281A5-B47A-4123-B2E6-0B5D6331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6834A-DF8C-448E-A629-CA4C3A45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70880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450F3-5026-4BB2-B754-5629CA24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7CA67-C298-4E79-AD18-6911DFF1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09120" y="43016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BE362-5633-4B68-AA39-8B1684D4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70880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5157B-5A37-46C0-BAFC-AD87297F3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145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199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091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145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199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D4E9C-9C17-42DF-855F-202680886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01D48-B4E5-462A-9988-F75DC668A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4B3B9-DADB-4C11-A64E-5347D3E6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E0DB0-958E-473E-A20D-3EE22CA5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B7CAA-290E-4A70-9DB5-11CD4C08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0B93B-74FA-41BD-A674-C456FB88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8001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1CA32-B32D-4787-AAFF-25E50588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509AC-5BDF-40B6-801F-5956FCFC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70880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5127F-2BFB-484F-8BA1-5A1CDFD4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75B0E-27DD-41F7-A466-FFA0F22E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09120" y="43016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4BE6A-26BA-4122-B2D7-72CD981C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70880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0D7E6-8C43-4988-BAF8-2C2382631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8001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45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199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091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45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199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F0EA1-7E3F-4334-9B52-7523BD98F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B8782-0810-43DB-9961-7643D138C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6C69E-109A-4CD7-BF17-9B3C5213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DF37C-2365-4C55-AEEA-BD22D180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A86BA-EEA2-4EF1-B9B6-378897B8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A8FE1-6A97-423E-BDFA-9D459D12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8001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35398-5A38-4D24-B9A8-029B8BA3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6E705-1E63-4C08-B8EC-AA816179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70880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5AAF2-2C71-4717-B427-7F05D5CD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C75CD-22F8-41A0-96DD-D1FFD3B2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09120" y="43016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F2EA1-0BFB-4E5F-8A53-687FA6E3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70880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DFE76-73E2-4A5C-B9B6-7DCBF3851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3145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199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091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3145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199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A090C-829F-4CB3-832F-46E6AF0A0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5AFB1-60E9-4ADA-9783-44EFD06DF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5BD86-A41E-4B7B-A871-0F57AC4E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47CA9-D9BB-4086-9686-5FDAA482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FF29A-5991-4C37-9A9F-0B6BF61E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DF7C7-39AC-469F-93A0-184AFA8A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8001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9FE54-BCD3-460A-9BBA-649A6388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86DD3-2671-4DE9-BE83-2A1EFC40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0880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70880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E5617-0A37-4A1D-80BA-02513758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04737-03A6-42BF-9C0C-083C7ED9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09120" y="43016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B63C0-98F9-4537-BE6F-FEC89902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70880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F17E6-C8B4-42C0-87C0-ABDE90BAB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3145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199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091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3145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199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9D66B-E606-4587-9D99-2BCB29C6C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4BA290-1289-4E4F-AAA8-6B285517F512}" type="slidenum"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70FFC5-8CC1-410E-AF16-93FE00010D6F}" type="slidenum"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235DDE-3D95-4336-8375-B1A9FB29B93C}" type="slidenum"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6E382B-0D86-4A01-BF07-CBAB37336BE9}" type="slidenum"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746A82-CF44-436E-A6EE-11A2224FBA90}" type="slidenum"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B52E9B-07F4-48AA-8142-CDCE6B03D99D}" type="slidenum"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3" descr="COL 7987_Phillips_ElectricalPrinciples_PPT_1.jpg"/>
          <p:cNvPicPr/>
          <p:nvPr/>
        </p:nvPicPr>
        <p:blipFill>
          <a:blip r:embed="rId1"/>
          <a:stretch/>
        </p:blipFill>
        <p:spPr>
          <a:xfrm>
            <a:off x="0" y="-76320"/>
            <a:ext cx="9166320" cy="69660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68688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3"/>
          <p:cNvSpPr/>
          <p:nvPr/>
        </p:nvSpPr>
        <p:spPr>
          <a:xfrm>
            <a:off x="611280" y="1511280"/>
            <a:ext cx="7921440" cy="35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Synchronous speed of a split-phase mot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Arial Narrow"/>
              </a:rPr>
              <a:t>s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= synchronous speed in R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f = supply frequency in her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p = number of po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7799400" y="6407280"/>
            <a:ext cx="5047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1595C2-7D28-4383-8817-E10466DE0F6A}" type="slidenum">
              <a:rPr b="0" lang="en-AU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Split-phase motor characteristics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26" name="Rectangle 28"/>
          <p:cNvSpPr/>
          <p:nvPr/>
        </p:nvSpPr>
        <p:spPr>
          <a:xfrm>
            <a:off x="0" y="30542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Object 27"/>
          <p:cNvGraphicFramePr/>
          <p:nvPr/>
        </p:nvGraphicFramePr>
        <p:xfrm>
          <a:off x="3851280" y="2087640"/>
          <a:ext cx="1297080" cy="89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087640"/>
                    <a:ext cx="129708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5"/>
          <p:cNvSpPr/>
          <p:nvPr/>
        </p:nvSpPr>
        <p:spPr>
          <a:xfrm>
            <a:off x="7799400" y="6407280"/>
            <a:ext cx="5047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D9FB66-F7FE-4317-A321-48B267BDA5F4}" type="slidenum">
              <a:rPr b="0" lang="en-AU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39480" y="214200"/>
            <a:ext cx="8304120" cy="6177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Torque-speed curve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31" name="Rectangle 18"/>
          <p:cNvSpPr/>
          <p:nvPr/>
        </p:nvSpPr>
        <p:spPr>
          <a:xfrm>
            <a:off x="612720" y="5111640"/>
            <a:ext cx="79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Typical torque-speed curve for a split-phase induction m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5" descr="Figure 23.6.jpg"/>
          <p:cNvPicPr/>
          <p:nvPr/>
        </p:nvPicPr>
        <p:blipFill>
          <a:blip r:embed="rId1"/>
          <a:stretch/>
        </p:blipFill>
        <p:spPr>
          <a:xfrm>
            <a:off x="2627280" y="1473120"/>
            <a:ext cx="3826080" cy="33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lide Number Placeholder 5"/>
          <p:cNvSpPr/>
          <p:nvPr/>
        </p:nvSpPr>
        <p:spPr>
          <a:xfrm>
            <a:off x="7799400" y="6407280"/>
            <a:ext cx="5047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7B490F-106F-4DEB-A711-4B5A162D706A}" type="slidenum">
              <a:rPr b="0" lang="en-AU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Protection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611280" y="1517760"/>
            <a:ext cx="792000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1080" indent="-181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63188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462924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otor protection and isolation requirements are specified by </a:t>
            </a:r>
            <a:r>
              <a:rPr b="0" lang="en-AU" sz="2800" spc="-1" strike="noStrike">
                <a:solidFill>
                  <a:srgbClr val="3c9325"/>
                </a:solidFill>
                <a:latin typeface="Arial Narrow"/>
                <a:ea typeface="Times New Roman"/>
              </a:rPr>
              <a:t>AS/NZS 3000:2007 in section 4.13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63188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462924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attended split-phase motors rated higher than 240 VA are required to have protection against over-tempera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63188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462924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tection devices include a thermistor embedded in the winding and a bimetal snap-action swit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lide Number Placeholder 5"/>
          <p:cNvSpPr/>
          <p:nvPr/>
        </p:nvSpPr>
        <p:spPr>
          <a:xfrm>
            <a:off x="7799400" y="6407280"/>
            <a:ext cx="5047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E0F1F1-5CB1-49D7-B4EA-71BCC4204C03}" type="slidenum">
              <a:rPr b="0" lang="en-AU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Testing and fault-finding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611280" y="1511280"/>
            <a:ext cx="792000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Common faults in a single-phase induction motor are dust and dirt build-up inside the motor, and bearing fail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If a motor won’t start, check for faulty centrifugal switch contacts, operation of the thermal overload, an open circuit auxiliary or main winding, a locked rotor or loss of supp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If the motor hums and attempts to start, the load may be jam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lide Number Placeholder 5"/>
          <p:cNvSpPr/>
          <p:nvPr/>
        </p:nvSpPr>
        <p:spPr>
          <a:xfrm>
            <a:off x="7799400" y="6407280"/>
            <a:ext cx="5047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A7AE2E-F51B-429A-805E-DB6EC1C3A242}" type="slidenum">
              <a:rPr b="0" lang="en-AU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Insulation resistance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611280" y="460836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Tests include measuring the DC resistance of both windings and measuring the insulation resistance between windings and motor frame, which should be earth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6" descr="Figure 23.7.jpg"/>
          <p:cNvPicPr/>
          <p:nvPr/>
        </p:nvPicPr>
        <p:blipFill>
          <a:blip r:embed="rId1"/>
          <a:stretch/>
        </p:blipFill>
        <p:spPr>
          <a:xfrm>
            <a:off x="684360" y="1700280"/>
            <a:ext cx="7799400" cy="260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5"/>
          <p:cNvSpPr/>
          <p:nvPr/>
        </p:nvSpPr>
        <p:spPr>
          <a:xfrm>
            <a:off x="7799400" y="6407280"/>
            <a:ext cx="5047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8B1874-A38A-4888-A87E-CDD3F83A3D19}" type="slidenum">
              <a:rPr b="0" lang="en-AU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94920" y="268200"/>
            <a:ext cx="7380360" cy="49680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23.2 Capacitor motors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45" name="Rectangle 19"/>
          <p:cNvSpPr/>
          <p:nvPr/>
        </p:nvSpPr>
        <p:spPr>
          <a:xfrm>
            <a:off x="612720" y="5573880"/>
            <a:ext cx="79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Typical capacitor mo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5" descr="Figure 23.8.jpg"/>
          <p:cNvPicPr/>
          <p:nvPr/>
        </p:nvPicPr>
        <p:blipFill>
          <a:blip r:embed="rId1"/>
          <a:stretch/>
        </p:blipFill>
        <p:spPr>
          <a:xfrm>
            <a:off x="63360" y="1557360"/>
            <a:ext cx="904572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Slide Number Placeholder 5"/>
          <p:cNvSpPr/>
          <p:nvPr/>
        </p:nvSpPr>
        <p:spPr>
          <a:xfrm>
            <a:off x="7799400" y="6407280"/>
            <a:ext cx="5047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6E3DBA-51DC-4FAD-999E-805273B3268D}" type="slidenum">
              <a:rPr b="0" lang="en-AU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716120" y="192240"/>
            <a:ext cx="6588000" cy="71280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Motor capacitors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49" name="Rectangle 25"/>
          <p:cNvSpPr/>
          <p:nvPr/>
        </p:nvSpPr>
        <p:spPr>
          <a:xfrm>
            <a:off x="0" y="30542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9"/>
          <p:cNvSpPr/>
          <p:nvPr/>
        </p:nvSpPr>
        <p:spPr>
          <a:xfrm>
            <a:off x="0" y="30542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32"/>
          <p:cNvSpPr/>
          <p:nvPr/>
        </p:nvSpPr>
        <p:spPr>
          <a:xfrm>
            <a:off x="3708360" y="1511280"/>
            <a:ext cx="4967280" cy="40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Motor capacitors range from a </a:t>
            </a:r>
            <a:r>
              <a:rPr b="0" lang="en-AU" sz="2800" spc="-1" strike="noStrike">
                <a:solidFill>
                  <a:srgbClr val="ff0000"/>
                </a:solidFill>
                <a:latin typeface="Arial Narrow"/>
              </a:rPr>
              <a:t>few microfarads to over 200 µF. 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y have an </a:t>
            </a:r>
            <a:r>
              <a:rPr b="0" lang="en-AU" sz="2800" spc="-1" strike="noStrike">
                <a:solidFill>
                  <a:srgbClr val="ff0000"/>
                </a:solidFill>
                <a:latin typeface="Arial Narrow"/>
              </a:rPr>
              <a:t>AC voltage rating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Capacitors in the starting circuit are often non-polarised electrolytic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Capacitors in circuit while the motor is running are usually oil-filled paper or plastic film dielectric typ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7" descr="Figure 23.9.jpg"/>
          <p:cNvPicPr/>
          <p:nvPr/>
        </p:nvPicPr>
        <p:blipFill>
          <a:blip r:embed="rId1"/>
          <a:stretch/>
        </p:blipFill>
        <p:spPr>
          <a:xfrm>
            <a:off x="576360" y="2421000"/>
            <a:ext cx="2916000" cy="201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5"/>
          <p:cNvSpPr/>
          <p:nvPr/>
        </p:nvSpPr>
        <p:spPr>
          <a:xfrm>
            <a:off x="7799400" y="6407280"/>
            <a:ext cx="5047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6ACE13-7524-429F-BA39-862F357864A9}" type="slidenum">
              <a:rPr b="0" lang="en-AU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1"/>
          <p:cNvSpPr/>
          <p:nvPr/>
        </p:nvSpPr>
        <p:spPr>
          <a:xfrm>
            <a:off x="1079640" y="84240"/>
            <a:ext cx="745164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Capacitor start mo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2"/>
          <p:cNvSpPr/>
          <p:nvPr/>
        </p:nvSpPr>
        <p:spPr>
          <a:xfrm>
            <a:off x="611280" y="527544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Circuit of a capacitor start, induction run motor in which the phase difference between the start and run currents approaches 90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5" descr="Figure 23.10.jpg"/>
          <p:cNvPicPr/>
          <p:nvPr/>
        </p:nvPicPr>
        <p:blipFill>
          <a:blip r:embed="rId1"/>
          <a:stretch/>
        </p:blipFill>
        <p:spPr>
          <a:xfrm>
            <a:off x="611280" y="1197000"/>
            <a:ext cx="78962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5"/>
          <p:cNvSpPr/>
          <p:nvPr/>
        </p:nvSpPr>
        <p:spPr>
          <a:xfrm>
            <a:off x="7799400" y="6407280"/>
            <a:ext cx="5047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3EB358-6502-4F6E-981D-6C781A3D3D25}" type="slidenum">
              <a:rPr b="0" lang="en-AU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755640" y="115920"/>
            <a:ext cx="7956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Current relay in the start circu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0" y="30686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0"/>
          <p:cNvSpPr/>
          <p:nvPr/>
        </p:nvSpPr>
        <p:spPr>
          <a:xfrm>
            <a:off x="971640" y="5049720"/>
            <a:ext cx="30956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 Narrow"/>
              </a:rPr>
              <a:t>(a)</a:t>
            </a: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0" lang="en-AU" sz="2000" spc="-1" strike="noStrike">
                <a:solidFill>
                  <a:srgbClr val="ff0000"/>
                </a:solidFill>
                <a:latin typeface="Arial Narrow"/>
              </a:rPr>
              <a:t>current relay </a:t>
            </a:r>
            <a:r>
              <a:rPr b="0" lang="en-AU" sz="2000" spc="-1" strike="noStrike">
                <a:solidFill>
                  <a:srgbClr val="000000"/>
                </a:solidFill>
                <a:latin typeface="Arial Narrow"/>
              </a:rPr>
              <a:t>is used in the start circuit of capacitor motors rated </a:t>
            </a:r>
            <a:r>
              <a:rPr b="0" lang="en-AU" sz="2000" spc="-1" strike="noStrike">
                <a:solidFill>
                  <a:srgbClr val="ff0000"/>
                </a:solidFill>
                <a:latin typeface="Arial Narrow"/>
              </a:rPr>
              <a:t>above 750 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6" descr="Figure 23.11.jpg"/>
          <p:cNvPicPr/>
          <p:nvPr/>
        </p:nvPicPr>
        <p:blipFill>
          <a:blip r:embed="rId1"/>
          <a:stretch/>
        </p:blipFill>
        <p:spPr>
          <a:xfrm>
            <a:off x="514440" y="1125360"/>
            <a:ext cx="8207280" cy="345600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7"/>
          <p:cNvSpPr/>
          <p:nvPr/>
        </p:nvSpPr>
        <p:spPr>
          <a:xfrm>
            <a:off x="4859280" y="5110200"/>
            <a:ext cx="324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 Narrow"/>
              </a:rPr>
              <a:t>(b)</a:t>
            </a:r>
            <a:r>
              <a:rPr b="1" lang="en-AU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AU" sz="2000" spc="-1" strike="noStrike">
                <a:solidFill>
                  <a:srgbClr val="ff0000"/>
                </a:solidFill>
                <a:latin typeface="Arial Narrow"/>
              </a:rPr>
              <a:t>Capacitor start </a:t>
            </a:r>
            <a:r>
              <a:rPr b="0" lang="en-AU" sz="2000" spc="-1" strike="noStrike">
                <a:solidFill>
                  <a:srgbClr val="000000"/>
                </a:solidFill>
                <a:latin typeface="Arial Narrow"/>
              </a:rPr>
              <a:t>motors have a starting </a:t>
            </a:r>
            <a:r>
              <a:rPr b="0" lang="en-AU" sz="2000" spc="-1" strike="noStrike">
                <a:solidFill>
                  <a:srgbClr val="ff0000"/>
                </a:solidFill>
                <a:latin typeface="Arial Narrow"/>
              </a:rPr>
              <a:t>torque up to four times</a:t>
            </a:r>
            <a:r>
              <a:rPr b="0" lang="en-AU" sz="2000" spc="-1" strike="noStrike">
                <a:solidFill>
                  <a:srgbClr val="000000"/>
                </a:solidFill>
                <a:latin typeface="Arial Narrow"/>
              </a:rPr>
              <a:t> the rated tor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Slide Number Placeholder 5"/>
          <p:cNvSpPr/>
          <p:nvPr/>
        </p:nvSpPr>
        <p:spPr>
          <a:xfrm>
            <a:off x="7799400" y="6407280"/>
            <a:ext cx="5047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90440C-3BAF-4502-A0E8-8C58DB2EA874}" type="slidenum">
              <a:rPr b="0" lang="en-AU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468360" y="115920"/>
            <a:ext cx="830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Capacitor start, capacitor run mo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3"/>
          <p:cNvSpPr/>
          <p:nvPr/>
        </p:nvSpPr>
        <p:spPr>
          <a:xfrm>
            <a:off x="4308480" y="960480"/>
            <a:ext cx="4464000" cy="40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 auxiliary (</a:t>
            </a:r>
            <a:r>
              <a:rPr b="0" lang="en-AU" sz="2800" spc="-1" strike="noStrike">
                <a:solidFill>
                  <a:srgbClr val="ff0000"/>
                </a:solidFill>
                <a:latin typeface="Arial Narrow"/>
              </a:rPr>
              <a:t>start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) winding  is </a:t>
            </a:r>
            <a:r>
              <a:rPr b="0" lang="en-AU" sz="2800" spc="-1" strike="noStrike">
                <a:solidFill>
                  <a:srgbClr val="ff0000"/>
                </a:solidFill>
                <a:latin typeface="Arial Narrow"/>
              </a:rPr>
              <a:t>always connected 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o the supply via either of the two capacito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 </a:t>
            </a:r>
            <a:r>
              <a:rPr b="0" lang="en-AU" sz="2800" spc="-1" strike="noStrike">
                <a:solidFill>
                  <a:srgbClr val="ff0000"/>
                </a:solidFill>
                <a:latin typeface="Arial Narrow"/>
              </a:rPr>
              <a:t>start capacitor has a greater capacitance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than the run capac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is type of motor has a good starting torque and </a:t>
            </a:r>
            <a:r>
              <a:rPr b="0" lang="en-AU" sz="2800" spc="-1" strike="noStrike">
                <a:solidFill>
                  <a:srgbClr val="ff0000"/>
                </a:solidFill>
                <a:latin typeface="Arial Narrow"/>
              </a:rPr>
              <a:t>smooth ru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5" descr="Figure 23.12.jpg"/>
          <p:cNvPicPr/>
          <p:nvPr/>
        </p:nvPicPr>
        <p:blipFill>
          <a:blip r:embed="rId1"/>
          <a:stretch/>
        </p:blipFill>
        <p:spPr>
          <a:xfrm>
            <a:off x="684360" y="1836720"/>
            <a:ext cx="3278160" cy="32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612720" y="549360"/>
            <a:ext cx="79185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800" spc="-1" strike="noStrike">
                <a:solidFill>
                  <a:srgbClr val="3c9325"/>
                </a:solidFill>
                <a:latin typeface="Arial Narrow"/>
              </a:rPr>
              <a:t>Chapter 2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800" spc="-1" strike="noStrike">
                <a:solidFill>
                  <a:srgbClr val="3c9325"/>
                </a:solidFill>
                <a:latin typeface="Arial Narrow"/>
              </a:rPr>
              <a:t>Single-phase moto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Slide Number Placeholder 5"/>
          <p:cNvSpPr/>
          <p:nvPr/>
        </p:nvSpPr>
        <p:spPr>
          <a:xfrm>
            <a:off x="7799400" y="6407280"/>
            <a:ext cx="5047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F1598A-C2C8-4AA1-AE95-899FFB97067F}" type="slidenum">
              <a:rPr b="0" lang="en-AU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0920" y="124920"/>
            <a:ext cx="7799400" cy="56700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Permanently-split capacitor motor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69" name="Rectangle 30"/>
          <p:cNvSpPr/>
          <p:nvPr/>
        </p:nvSpPr>
        <p:spPr>
          <a:xfrm>
            <a:off x="611280" y="479736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0" lang="en-AU" sz="2400" spc="-1" strike="noStrike">
                <a:solidFill>
                  <a:srgbClr val="ff0000"/>
                </a:solidFill>
                <a:latin typeface="Arial Narrow"/>
              </a:rPr>
              <a:t>permanently-split</a:t>
            </a: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 capacitor motor </a:t>
            </a:r>
            <a:r>
              <a:rPr b="0" lang="en-AU" sz="2400" spc="-1" strike="noStrike">
                <a:solidFill>
                  <a:srgbClr val="ff0000"/>
                </a:solidFill>
                <a:latin typeface="Arial Narrow"/>
              </a:rPr>
              <a:t>does not have a starting switch</a:t>
            </a: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It is reversed by adding an external switch  that selects which of the identical windings has a capacitor in series with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5" descr="Figure 23.13.jpg"/>
          <p:cNvPicPr/>
          <p:nvPr/>
        </p:nvPicPr>
        <p:blipFill>
          <a:blip r:embed="rId1"/>
          <a:stretch/>
        </p:blipFill>
        <p:spPr>
          <a:xfrm>
            <a:off x="179280" y="907920"/>
            <a:ext cx="8785440" cy="348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lide Number Placeholder 5"/>
          <p:cNvSpPr/>
          <p:nvPr/>
        </p:nvSpPr>
        <p:spPr>
          <a:xfrm>
            <a:off x="7799400" y="6407280"/>
            <a:ext cx="5047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69F3AF-7EC8-4D01-A0A9-C79329558A6F}" type="slidenum">
              <a:rPr b="0" lang="en-AU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42560" y="192240"/>
            <a:ext cx="7799400" cy="71280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Faults in capacitor motors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11280" y="1197000"/>
            <a:ext cx="79214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s well as the faults that can occur in any induction motor, a capacitor motor can fail due to a faulty capaci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Capacitor faults are either an open-circuit, low resistance dielectric which means it can’t hold a charge, or a short-circu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 failing capacitor can also become leaky in that its dielectric seeps outside the c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lide Number Placeholder 5"/>
          <p:cNvSpPr/>
          <p:nvPr/>
        </p:nvSpPr>
        <p:spPr>
          <a:xfrm>
            <a:off x="7799400" y="6407280"/>
            <a:ext cx="5047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7A1DA5-8B28-456D-BA23-C08E001AD191}" type="slidenum">
              <a:rPr b="0" lang="en-AU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23.3 Shaded-pole induction motors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76" name="Rectangle 20"/>
          <p:cNvSpPr/>
          <p:nvPr/>
        </p:nvSpPr>
        <p:spPr>
          <a:xfrm>
            <a:off x="0" y="30686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6"/>
          <p:cNvSpPr/>
          <p:nvPr/>
        </p:nvSpPr>
        <p:spPr>
          <a:xfrm>
            <a:off x="612720" y="4608360"/>
            <a:ext cx="791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Shaded-pole motors are used in all kinds of fans, small pumps, clothes driers and have power ratings that rarely exceed a few hundred wat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Figure 23.14.jpg"/>
          <p:cNvPicPr/>
          <p:nvPr/>
        </p:nvPicPr>
        <p:blipFill>
          <a:blip r:embed="rId1"/>
          <a:stretch/>
        </p:blipFill>
        <p:spPr>
          <a:xfrm>
            <a:off x="1476360" y="1657440"/>
            <a:ext cx="615492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Slide Number Placeholder 5"/>
          <p:cNvSpPr/>
          <p:nvPr/>
        </p:nvSpPr>
        <p:spPr>
          <a:xfrm>
            <a:off x="7799400" y="6407280"/>
            <a:ext cx="5047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619567-20F1-427C-84E3-6E6DFE69AED0}" type="slidenum">
              <a:rPr b="0" lang="en-AU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360" y="124920"/>
            <a:ext cx="7799400" cy="56700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Shaded-pole operation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0" y="30686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612720" y="4869000"/>
            <a:ext cx="791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The shading rings in a shaded-pole motor cause the </a:t>
            </a:r>
            <a:r>
              <a:rPr b="0" lang="en-AU" sz="2400" spc="-1" strike="noStrike">
                <a:solidFill>
                  <a:srgbClr val="ff0000"/>
                </a:solidFill>
                <a:latin typeface="Arial Narrow"/>
              </a:rPr>
              <a:t>flux to concentrate in different parts of the poles</a:t>
            </a: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, depending on how fast the current is cha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6" descr="Figure 23.15.jpg"/>
          <p:cNvPicPr/>
          <p:nvPr/>
        </p:nvPicPr>
        <p:blipFill>
          <a:blip r:embed="rId1"/>
          <a:stretch/>
        </p:blipFill>
        <p:spPr>
          <a:xfrm>
            <a:off x="539640" y="981000"/>
            <a:ext cx="82026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Slide Number Placeholder 5"/>
          <p:cNvSpPr/>
          <p:nvPr/>
        </p:nvSpPr>
        <p:spPr>
          <a:xfrm>
            <a:off x="7799400" y="6407280"/>
            <a:ext cx="5047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FC0106-08B4-429B-9378-5792ADD2201A}" type="slidenum">
              <a:rPr b="0" lang="en-AU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23.4 Universal motors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0" y="30686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611280" y="1511280"/>
            <a:ext cx="792144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 universal motor is not an induction motor, as it has a wound armature like those in a DC mo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y are called universal because they operate from AC and D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 universal motor is used in mains-powered hand tools (drills, saws, planers, etc.), vacuum cleaners and applications where a high speed, relatively small motor is requi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Slide Number Placeholder 5"/>
          <p:cNvSpPr/>
          <p:nvPr/>
        </p:nvSpPr>
        <p:spPr>
          <a:xfrm>
            <a:off x="7799400" y="6407280"/>
            <a:ext cx="5047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04A9FB-E6AB-481D-96D0-BC44B8812D7D}" type="slidenum">
              <a:rPr b="0" lang="en-AU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19280" y="124920"/>
            <a:ext cx="7524720" cy="56700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Example universal motor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90" name="Rectangle 18"/>
          <p:cNvSpPr/>
          <p:nvPr/>
        </p:nvSpPr>
        <p:spPr>
          <a:xfrm>
            <a:off x="612720" y="5157720"/>
            <a:ext cx="791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The field coils are in series with the armature, and the stator and armature core are la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5" descr="Figure 23.16.jpg"/>
          <p:cNvPicPr/>
          <p:nvPr/>
        </p:nvPicPr>
        <p:blipFill>
          <a:blip r:embed="rId1"/>
          <a:stretch/>
        </p:blipFill>
        <p:spPr>
          <a:xfrm>
            <a:off x="179280" y="1052640"/>
            <a:ext cx="874872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Slide Number Placeholder 5"/>
          <p:cNvSpPr/>
          <p:nvPr/>
        </p:nvSpPr>
        <p:spPr>
          <a:xfrm>
            <a:off x="7799400" y="6407280"/>
            <a:ext cx="5047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F8733D-073B-4796-BFB6-25D2B1EA3702}" type="slidenum">
              <a:rPr b="0" lang="en-AU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Circuit and torque-speed curve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94" name="Rectangle 10"/>
          <p:cNvSpPr/>
          <p:nvPr/>
        </p:nvSpPr>
        <p:spPr>
          <a:xfrm>
            <a:off x="612720" y="4859280"/>
            <a:ext cx="791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Maximum torque of a universal motor is produced at start-up, and reduces significantly with sp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5" descr="Figure 23.17.jpg"/>
          <p:cNvPicPr/>
          <p:nvPr/>
        </p:nvPicPr>
        <p:blipFill>
          <a:blip r:embed="rId1"/>
          <a:stretch/>
        </p:blipFill>
        <p:spPr>
          <a:xfrm>
            <a:off x="684360" y="1700280"/>
            <a:ext cx="7846920" cy="27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lide Number Placeholder 5"/>
          <p:cNvSpPr/>
          <p:nvPr/>
        </p:nvSpPr>
        <p:spPr>
          <a:xfrm>
            <a:off x="7799400" y="6407280"/>
            <a:ext cx="5047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4DDC19-3199-477B-A0D7-B5D42147BA81}" type="slidenum">
              <a:rPr b="0" lang="en-AU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Chapter summary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0" y="30592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612720" y="1511280"/>
            <a:ext cx="791856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ll single-phase induction motors require some means of creating a rotating magnetic field to start the rotor turn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Once rotating above a certain speed, the rotor and stator magnetic fields produce the rotational tor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ll induction motors have a squirrel cage laminated steel rotor. The cage is usually made of alumini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lide Number Placeholder 5"/>
          <p:cNvSpPr/>
          <p:nvPr/>
        </p:nvSpPr>
        <p:spPr>
          <a:xfrm>
            <a:off x="7799400" y="6407280"/>
            <a:ext cx="5047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1BAE9C-4336-4402-9BC3-0135AA0F5168}" type="slidenum">
              <a:rPr b="0" lang="en-AU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Chapter summary (2)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0" y="30592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612720" y="1511280"/>
            <a:ext cx="791856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 split-phase induction motor has two windings, one with a higher resistance and lower inductance (auxiliary winding) than the other (main winding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is creates a phase shift between the winding currents, giving a rotating field that can start the motor turn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 auxiliary winding is disconnected from the supply when the motor reaches around 75 per cent of its rated sp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5"/>
          <p:cNvSpPr/>
          <p:nvPr/>
        </p:nvSpPr>
        <p:spPr>
          <a:xfrm>
            <a:off x="7799400" y="6407280"/>
            <a:ext cx="5047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41155A-9FC7-407D-B2D2-1EC1C1BE6C4B}" type="slidenum">
              <a:rPr b="0" lang="en-AU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Chapter summary (3)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08" name="Rectangle 3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0" y="30592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611280" y="1511280"/>
            <a:ext cx="7921440" cy="32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 auxiliary winding is disconnected from the supply by a centrifugal switch mechanism, or a current relay in series with the main wi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 capacitor start motor has a large value capacitor in series with the auxiliary winding that provides additional phase shift between the winding currents during starting, giving the motor an increased starting tor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5"/>
          <p:cNvSpPr/>
          <p:nvPr/>
        </p:nvSpPr>
        <p:spPr>
          <a:xfrm>
            <a:off x="7799400" y="6407280"/>
            <a:ext cx="5047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4495EC-546C-4EC5-A51F-65A875650464}" type="slidenum">
              <a:rPr b="0" lang="en-AU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About this chapter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612720" y="1511280"/>
            <a:ext cx="791856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Single-phase motors are used extensively and operate in a similar way to the three-phase induction motor, but have an additional winding to make them star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is chapt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looks at the various types of single-phase motors, including capacitor motors, shaded-pole motors and universal moto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describes these motors, their protection requirements and typical fa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Slide Number Placeholder 5"/>
          <p:cNvSpPr/>
          <p:nvPr/>
        </p:nvSpPr>
        <p:spPr>
          <a:xfrm>
            <a:off x="7799400" y="6407280"/>
            <a:ext cx="5047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D49316-9A2E-45B7-BF95-8C172EDBC1F5}" type="slidenum">
              <a:rPr b="0" lang="en-AU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Chapter summary (4)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13" name="Rectangle 3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4"/>
          <p:cNvSpPr/>
          <p:nvPr/>
        </p:nvSpPr>
        <p:spPr>
          <a:xfrm>
            <a:off x="0" y="30592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5"/>
          <p:cNvSpPr/>
          <p:nvPr/>
        </p:nvSpPr>
        <p:spPr>
          <a:xfrm>
            <a:off x="612720" y="1511280"/>
            <a:ext cx="7918560" cy="43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 permanently-split capacitor motor has two identical windings with a capacitor permanently in series with one of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It does not have a start switch, it is easily reversed and runs smoothly and quie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 shaded-pole motor has a copper shading coil fitted to the trailing tips of the stator po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It has limited starting torque, low efficiency, and cannot be easily rever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Slide Number Placeholder 5"/>
          <p:cNvSpPr/>
          <p:nvPr/>
        </p:nvSpPr>
        <p:spPr>
          <a:xfrm>
            <a:off x="7799400" y="6407280"/>
            <a:ext cx="5047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90E1A9-C458-4656-A67A-5D046D2DD6CC}" type="slidenum">
              <a:rPr b="0" lang="en-AU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Chapter summary (5)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4"/>
          <p:cNvSpPr/>
          <p:nvPr/>
        </p:nvSpPr>
        <p:spPr>
          <a:xfrm>
            <a:off x="0" y="30592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5"/>
          <p:cNvSpPr/>
          <p:nvPr/>
        </p:nvSpPr>
        <p:spPr>
          <a:xfrm>
            <a:off x="612720" y="1511280"/>
            <a:ext cx="7918560" cy="41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 universal motor runs on AC and DC, and has a wound armature in series with the field coi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 highest torque occurs at start-up, it can reach high speeds when unloaded, and features a high power to weight rat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ests on a motor to prove serviceability include winding resistance tests, confirming correct operation of the start switch mechanism or relay, and measuring the insulation resistance between windings and motor fra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5"/>
          <p:cNvSpPr/>
          <p:nvPr/>
        </p:nvSpPr>
        <p:spPr>
          <a:xfrm>
            <a:off x="7799400" y="6407280"/>
            <a:ext cx="5047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E750A2-E941-4C30-85BA-EC8EF775C778}" type="slidenum">
              <a:rPr b="0" lang="en-AU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Equation summary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23" name="Rectangle 3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0" y="30592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Object 7"/>
          <p:cNvGraphicFramePr/>
          <p:nvPr/>
        </p:nvGraphicFramePr>
        <p:xfrm>
          <a:off x="3780000" y="1670040"/>
          <a:ext cx="1512720" cy="10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670040"/>
                    <a:ext cx="15127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Rectangle 8"/>
          <p:cNvSpPr/>
          <p:nvPr/>
        </p:nvSpPr>
        <p:spPr>
          <a:xfrm>
            <a:off x="612720" y="2708280"/>
            <a:ext cx="457200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Arial Narrow"/>
              </a:rPr>
              <a:t>s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= synchronous speed in R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f = supply frequency in her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p = number of po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Slide Number Placeholder 5"/>
          <p:cNvSpPr/>
          <p:nvPr/>
        </p:nvSpPr>
        <p:spPr>
          <a:xfrm>
            <a:off x="7799400" y="6407280"/>
            <a:ext cx="5047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9C4A17-237C-484A-942C-5B7AD8320041}" type="slidenum">
              <a:rPr b="0" lang="en-AU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Equation summary (2)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0" y="30592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Object 10"/>
          <p:cNvGraphicFramePr/>
          <p:nvPr/>
        </p:nvGraphicFramePr>
        <p:xfrm>
          <a:off x="3348000" y="1700280"/>
          <a:ext cx="240660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700280"/>
                    <a:ext cx="240660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Rectangle 11"/>
          <p:cNvSpPr/>
          <p:nvPr/>
        </p:nvSpPr>
        <p:spPr>
          <a:xfrm>
            <a:off x="611280" y="2690640"/>
            <a:ext cx="403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s% = percentage sl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ns = synchronous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n = rotor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Slide Number Placeholder 5"/>
          <p:cNvSpPr/>
          <p:nvPr/>
        </p:nvSpPr>
        <p:spPr>
          <a:xfrm>
            <a:off x="7799400" y="6407280"/>
            <a:ext cx="5047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2ED38E-B363-478E-A78F-F97B08D257BD}" type="slidenum">
              <a:rPr b="0" lang="en-AU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Equation summary (3)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37" name="Rectangle 3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0" y="30592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1"/>
          <p:cNvSpPr/>
          <p:nvPr/>
        </p:nvSpPr>
        <p:spPr>
          <a:xfrm>
            <a:off x="611280" y="2690640"/>
            <a:ext cx="4033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= rotor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f = supply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Object 13"/>
          <p:cNvGraphicFramePr/>
          <p:nvPr/>
        </p:nvGraphicFramePr>
        <p:xfrm>
          <a:off x="3708360" y="1706400"/>
          <a:ext cx="1712880" cy="9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1706400"/>
                    <a:ext cx="171288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Slide Number Placeholder 5"/>
          <p:cNvSpPr/>
          <p:nvPr/>
        </p:nvSpPr>
        <p:spPr>
          <a:xfrm>
            <a:off x="7799400" y="6407280"/>
            <a:ext cx="5047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38CD89-F79F-4E53-9CF4-7085970061C0}" type="slidenum">
              <a:rPr b="0" lang="en-AU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Equation summary (4)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0" y="30592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6" name="Object 14"/>
          <p:cNvGraphicFramePr/>
          <p:nvPr/>
        </p:nvGraphicFramePr>
        <p:xfrm>
          <a:off x="3637080" y="1700280"/>
          <a:ext cx="1942920" cy="89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7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7080" y="1700280"/>
                    <a:ext cx="1942920" cy="89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Text Box 16"/>
          <p:cNvSpPr/>
          <p:nvPr/>
        </p:nvSpPr>
        <p:spPr>
          <a:xfrm>
            <a:off x="612720" y="3035160"/>
            <a:ext cx="622152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174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 Narrow"/>
              </a:rPr>
              <a:t>in</a:t>
            </a: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 = VI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cos </a:t>
            </a:r>
            <a:r>
              <a:rPr b="0" lang="el-GR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Object 17"/>
          <p:cNvGraphicFramePr/>
          <p:nvPr/>
        </p:nvGraphicFramePr>
        <p:xfrm>
          <a:off x="826920" y="4330800"/>
          <a:ext cx="2562480" cy="89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0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4330800"/>
                    <a:ext cx="256248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5"/>
          <p:cNvSpPr/>
          <p:nvPr/>
        </p:nvSpPr>
        <p:spPr>
          <a:xfrm>
            <a:off x="7799400" y="6407280"/>
            <a:ext cx="5047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DC7324-4699-462E-B728-58B8C2AB2A11}" type="slidenum">
              <a:rPr b="0" lang="en-AU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Contents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612720" y="1511280"/>
            <a:ext cx="7918560" cy="22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2160" indent="-7221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2216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Narrow"/>
              </a:rPr>
              <a:t>23.1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Single-phase induction mo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2216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Narrow"/>
              </a:rPr>
              <a:t>23.2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Capacitor mo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2216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Narrow"/>
              </a:rPr>
              <a:t>23.3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Shaded-pole induction mo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2216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Narrow"/>
              </a:rPr>
              <a:t>23.4 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Universal mo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5"/>
          <p:cNvSpPr/>
          <p:nvPr/>
        </p:nvSpPr>
        <p:spPr>
          <a:xfrm>
            <a:off x="7799400" y="6407280"/>
            <a:ext cx="5047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41102C-B799-4155-A258-A6A46764AEB4}" type="slidenum">
              <a:rPr b="0" lang="en-AU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57120" y="12240"/>
            <a:ext cx="8531280" cy="8319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23.1 Single-phase induction motors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02" name="Rectangle 15"/>
          <p:cNvSpPr/>
          <p:nvPr/>
        </p:nvSpPr>
        <p:spPr>
          <a:xfrm>
            <a:off x="357120" y="5024520"/>
            <a:ext cx="85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A single-phase motor produces a pulsating magnetic field that holds the rotor stationary. It therefore needs an extra winding to make it ro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5" descr="Figure 23.1.jpg"/>
          <p:cNvPicPr/>
          <p:nvPr/>
        </p:nvPicPr>
        <p:blipFill>
          <a:blip r:embed="rId1"/>
          <a:stretch/>
        </p:blipFill>
        <p:spPr>
          <a:xfrm>
            <a:off x="801720" y="1143000"/>
            <a:ext cx="7277040" cy="36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5"/>
          <p:cNvSpPr/>
          <p:nvPr/>
        </p:nvSpPr>
        <p:spPr>
          <a:xfrm>
            <a:off x="7799400" y="6407280"/>
            <a:ext cx="5047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99AF5B-DDC1-4B3B-9991-FBB3B7B5B60F}" type="slidenum">
              <a:rPr b="0" lang="en-AU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35040" y="25200"/>
            <a:ext cx="7896240" cy="61740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Split-phase induction motor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612720" y="4608360"/>
            <a:ext cx="791856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A split-phase induction motor has two sets of winding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The run winding - High inductance and a Low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The start (auxiliary) winding – Low Inductance, High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5" descr="Figure 23.2.jpg"/>
          <p:cNvPicPr/>
          <p:nvPr/>
        </p:nvPicPr>
        <p:blipFill>
          <a:blip r:embed="rId1"/>
          <a:stretch/>
        </p:blipFill>
        <p:spPr>
          <a:xfrm>
            <a:off x="268200" y="1000080"/>
            <a:ext cx="86616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5"/>
          <p:cNvSpPr/>
          <p:nvPr/>
        </p:nvSpPr>
        <p:spPr>
          <a:xfrm>
            <a:off x="7799400" y="6407280"/>
            <a:ext cx="5047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CADAC9-ECB4-493A-B698-EEDC5D723A3B}" type="slidenum">
              <a:rPr b="0" lang="en-AU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15520" y="119160"/>
            <a:ext cx="8304120" cy="76032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Centrifugal switch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10" name="Rectangle 34"/>
          <p:cNvSpPr/>
          <p:nvPr/>
        </p:nvSpPr>
        <p:spPr>
          <a:xfrm>
            <a:off x="6094440" y="1357200"/>
            <a:ext cx="2620800" cy="28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Once the motor is at around 75% of its running speed, the start winding can be disconnected by a centrifugal swi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6" descr="Figure 23.3.jpg"/>
          <p:cNvPicPr/>
          <p:nvPr/>
        </p:nvPicPr>
        <p:blipFill>
          <a:blip r:embed="rId1"/>
          <a:stretch/>
        </p:blipFill>
        <p:spPr>
          <a:xfrm>
            <a:off x="611280" y="1239840"/>
            <a:ext cx="5072040" cy="440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lide Number Placeholder 5"/>
          <p:cNvSpPr/>
          <p:nvPr/>
        </p:nvSpPr>
        <p:spPr>
          <a:xfrm>
            <a:off x="7799400" y="6407280"/>
            <a:ext cx="5047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D9DE50-3746-4682-B812-4910B9C593D6}" type="slidenum">
              <a:rPr b="0" lang="en-AU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Circuit – split-phase induction motor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444600" y="5118120"/>
            <a:ext cx="39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This circuit incorporates a centrifugal switch and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4572000" y="5118120"/>
            <a:ext cx="43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This circuit has a motor start relay to switch the start (auxiliary) w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10" descr="Figure 23.4.jpg"/>
          <p:cNvPicPr/>
          <p:nvPr/>
        </p:nvPicPr>
        <p:blipFill>
          <a:blip r:embed="rId1"/>
          <a:stretch/>
        </p:blipFill>
        <p:spPr>
          <a:xfrm>
            <a:off x="444600" y="1554120"/>
            <a:ext cx="8304120" cy="3170160"/>
          </a:xfrm>
          <a:prstGeom prst="rect">
            <a:avLst/>
          </a:prstGeom>
          <a:ln w="0">
            <a:noFill/>
          </a:ln>
        </p:spPr>
      </p:pic>
      <p:cxnSp>
        <p:nvCxnSpPr>
          <p:cNvPr id="317" name="Straight Arrow Connector 11"/>
          <p:cNvCxnSpPr/>
          <p:nvPr/>
        </p:nvCxnSpPr>
        <p:spPr>
          <a:xfrm flipV="1">
            <a:off x="2410920" y="4715640"/>
            <a:ext cx="1080" cy="423000"/>
          </a:xfrm>
          <a:prstGeom prst="straightConnector1">
            <a:avLst/>
          </a:prstGeom>
          <a:ln w="25560">
            <a:solidFill>
              <a:srgbClr val="3c9325"/>
            </a:solidFill>
            <a:miter/>
            <a:tailEnd len="lg" type="triangle" w="lg"/>
          </a:ln>
        </p:spPr>
      </p:cxnSp>
      <p:cxnSp>
        <p:nvCxnSpPr>
          <p:cNvPr id="318" name="Straight Arrow Connector 12"/>
          <p:cNvCxnSpPr/>
          <p:nvPr/>
        </p:nvCxnSpPr>
        <p:spPr>
          <a:xfrm flipV="1">
            <a:off x="6732360" y="4715640"/>
            <a:ext cx="1080" cy="423000"/>
          </a:xfrm>
          <a:prstGeom prst="straightConnector1">
            <a:avLst/>
          </a:prstGeom>
          <a:ln w="25560">
            <a:solidFill>
              <a:srgbClr val="3c9325"/>
            </a:solidFill>
            <a:miter/>
            <a:tailEnd len="lg" type="triangle" w="lg"/>
          </a:ln>
        </p:spPr>
      </p:cxn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Slide Number Placeholder 5"/>
          <p:cNvSpPr/>
          <p:nvPr/>
        </p:nvSpPr>
        <p:spPr>
          <a:xfrm>
            <a:off x="7799400" y="6407280"/>
            <a:ext cx="5047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513840-1FEB-4A05-9BCD-16D8155835FD}" type="slidenum">
              <a:rPr b="0" lang="en-AU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6880" y="142920"/>
            <a:ext cx="8531280" cy="76032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Typical motor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21" name="Rectangle 13"/>
          <p:cNvSpPr/>
          <p:nvPr/>
        </p:nvSpPr>
        <p:spPr>
          <a:xfrm>
            <a:off x="612720" y="5168880"/>
            <a:ext cx="791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A typical split-phase induction motor with a centrifugal switch in the start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5" descr="Figure 23.5.jpg"/>
          <p:cNvPicPr/>
          <p:nvPr/>
        </p:nvPicPr>
        <p:blipFill>
          <a:blip r:embed="rId1"/>
          <a:stretch/>
        </p:blipFill>
        <p:spPr>
          <a:xfrm>
            <a:off x="770040" y="903240"/>
            <a:ext cx="7816680" cy="4265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05:41:48Z</dcterms:created>
  <dc:creator>Donna Beaty</dc:creator>
  <dc:description/>
  <dc:language>en-US</dc:language>
  <cp:lastModifiedBy>James, Michael</cp:lastModifiedBy>
  <dcterms:modified xsi:type="dcterms:W3CDTF">2017-11-27T23:54:16Z</dcterms:modified>
  <cp:revision>72</cp:revision>
  <dc:subject/>
  <dc:title>Slide 1</dc:title>
</cp:coreProperties>
</file>