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522-1DC7-446F-AC42-53316752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A6A-42A5-47E0-AA1C-080C44C6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DCFB-424D-4E1A-8DB1-E24AEC4D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D72-1E4A-47F3-8B33-60B089A2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547-3C0A-4C69-974E-A161DE24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61A-38E5-47A6-9E7B-66374C76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355-D8AB-46F1-B192-87B1F95A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7014-1062-4444-A5B5-328ADD37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9311-0046-4CF0-9ADD-63FFCF5B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F2A-E41A-47F9-A8D8-87D1B36F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861-F0A8-4AED-A2D0-24B0C11E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DD6C-CE5A-4597-B226-15930B68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D713-67CC-482C-A8A4-441283BC1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D For Noise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CE contains built-in models for passive elements, semiconductor devices …etc.  by including control lines in an input file, SPICE can be made to perform various analyses of a circuit including noise analy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analysis is performed in SPICE by using .NOISE statement in the input control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CE calculates shot noise and thermal noise for the circu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lifier Nois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odeling purposes it is advantageous to lump all the noise produced by an amplifier or other functional block into 2 noise sourc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show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several ways to implement this type of an amplifier model in SPICE.  The easiest way is to use 2 resistors as noise sources and reflect their noises to the appropriate nodes using dependent voltage and current 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odes can also be used as sources of shot noise and flicker noise and reflect their noises to the appropriated nodes in the circu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stor Modeling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CE calculates the thermal noise current in a resistor according t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                   and 10                respe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reate 2 thermal noise current standards of 1                  by using 2 resistors of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separate sources are necessary since it is normally assumed that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mplifier noise sources are uncorrel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arity does not matter for any of the sources because noise is a squared quantity. The multipliers needed for the H and F sources are respe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PICE codes are:  RNE 100 0 16.5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SEN 100 0 DC 0; HEN 1 3 VESEN 3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NI 200 0 16.56 k;  VISEN 200 0 DC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 2  3  VISEN 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066680" y="838080"/>
                <a:ext cx="12193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124080" y="1676520"/>
                <a:ext cx="99072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952880" y="1676520"/>
                <a:ext cx="9907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095880" y="2057400"/>
                <a:ext cx="8384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971800" y="2514600"/>
                <a:ext cx="35053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143000" y="4343400"/>
                <a:ext cx="4267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V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z</m:t>
                                </m:r>
                              </m:e>
                            </m:rad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z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z</m:t>
                                </m:r>
                              </m:e>
                            </m:rad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z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desire to include the amplifier’s input impedance into our noise model, an extra noise will be unintentionally introduced through the resistive component of the input imped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/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CE calculates the noise current in a diode according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ise of 20 nV/Hz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a noise corner frequenc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00 Hz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ise of 0.5 pA/Hz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a noise corner frequenc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c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500 Hz in each di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c diode current is calculated according 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the flicker noise term is set equal to the 1-pA/Hz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ence noise current at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equencies.  For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 with AF =1, KF is calculated by equating the two right-hand terms.  Th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ly KF for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143000" y="2133720"/>
                <a:ext cx="24382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sup>
                        </m:s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867280" y="3657600"/>
                <a:ext cx="3048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2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143000" y="5181480"/>
                <a:ext cx="3048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F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0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352680" y="5562720"/>
                <a:ext cx="14479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1T01:49:44Z</dcterms:created>
  <dc:creator>Dr. Charles Surya</dc:creator>
  <dc:description/>
  <dc:language>en-US</dc:language>
  <cp:lastModifiedBy>Acer User</cp:lastModifiedBy>
  <dcterms:modified xsi:type="dcterms:W3CDTF">1999-03-01T03:07:00Z</dcterms:modified>
  <cp:revision>34</cp:revision>
  <dc:subject/>
  <dc:title>Integrated Circuits Design for Applications in Communications</dc:title>
</cp:coreProperties>
</file>