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60D-2680-45AC-BCB2-9534F4A8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D05-AEF1-46C6-8C37-50175F40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BF7-084F-4EFA-9B2C-BF581F83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5C1-101E-4C4E-937B-C23ECF17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8F9-F906-45C8-BD18-CDA2BB8B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6FF-BE42-4390-BCC8-A0B4B284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A6B-C2D5-47FC-95EA-781D4B60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0A4-8EF4-45A5-8287-7E22A985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1D5-DF38-4CAC-9D93-44684450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D1A-A4C8-4D5C-8FCE-AA68961D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FA9-133E-49E8-882B-63492FBF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8E9-F38F-4C87-A2B5-4195062A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B0D-8226-41AA-9C0D-DE867A51DF4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mall-Signal Amplifi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amplifiers in communication circuits are small signal amplifiers.  Hence, they can be described by linear equations.  We will consider several amplifiers including BJT, FET, operational amplifiers and differential amplifi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95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polar Transistor 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quivalent circuit of the BJT is show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2-1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5288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6D1-A518-46D5-A998-C685B58ABE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-Effect Transistors 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two types of FETs -- JFETs and MOSF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w-frequency small signal model is as sh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conductance is def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JFE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transconductance when gate-to-source bias voltage is 0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drain current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drain current when the gate-to-source voltage is 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OSFETs,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transconductance at some specified drain bias curren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F2-15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324480" cy="15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24280" y="3054240"/>
                <a:ext cx="914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3675240"/>
                <a:ext cx="1676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352680" y="5030640"/>
                <a:ext cx="16765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8E2-934F-41E0-B928-1F4E0F26A0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-Source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-source amplifier is similar to the common-emitter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-source amplifier is similar to the common-emitter amplif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R so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F2-16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2895480" cy="27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285-BC56-4193-A4C0-E0E8FA65C7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urce voltage is determined from the following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 current leaving output node and source is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rrent throug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source voltag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oltage gai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d &gt;&g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have the following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gm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1 we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666880" y="762120"/>
                <a:ext cx="21337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m>
                          <m:mr>
                            <m:e/>
                          </m:mr>
                        </m:m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715000" y="2209680"/>
                <a:ext cx="106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24080" y="2743200"/>
                <a:ext cx="251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657600" y="3581280"/>
                <a:ext cx="13716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57600" y="4307040"/>
                <a:ext cx="9907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D7E-6A3E-4E46-BE5C-5CFE675A35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-Fol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ircuit diagram and its equivalent circuit model for source follower are show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F2-18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27672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048120" y="3886200"/>
                <a:ext cx="320040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D9B-2C89-4071-B029-3DBAEE12E5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impedanc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is much smaller than the other two FET amplifier configurations and is the major advantage for thi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733920" y="144360"/>
                <a:ext cx="152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8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-Gate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-gate amplifier is often used in high-frequency application and has a much larger bandwidth than the common source configu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F2-22" descr=""/>
          <p:cNvPicPr/>
          <p:nvPr/>
        </p:nvPicPr>
        <p:blipFill>
          <a:blip r:embed="rId1"/>
          <a:stretch/>
        </p:blipFill>
        <p:spPr>
          <a:xfrm>
            <a:off x="2746440" y="3124080"/>
            <a:ext cx="327348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E24-ED58-441B-B908-FBCA420D4A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put impedance at the source can be found by solving for the source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143000" y="1600200"/>
                <a:ext cx="1523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43000" y="304920"/>
                <a:ext cx="22096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 from c</m:t>
                              </m:r>
                            </m:e>
                          </m:mr>
                        </m:m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43000" y="3352680"/>
                <a:ext cx="19051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76520" y="4038480"/>
                <a:ext cx="1523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  <m:e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≈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066680" y="5257800"/>
                <a:ext cx="28958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51A-0C77-4A0D-906A-ED1723383F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impedance is determ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0 is also the current passing through the source resistance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 gate amplifier has the highest output impedance of the three FET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257800" y="380880"/>
                <a:ext cx="17524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752480" y="1143000"/>
                <a:ext cx="22860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 </m:t>
                              </m:r>
                            </m:e>
                          </m:mr>
                        </m: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53352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s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7339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stage amplifiers are used for impedance matching or to obtain extra ga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transistors have smaller gain-bandwidth product than low-power transistors, hence the power amplification stage is often operated near unity voltage gain in order to maximize the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amplification is carried out in the stages preceding the power amplification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9E5-51E5-4262-9D54-9DA242B1F3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 Gate 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5331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ET cascode circuit has many high-frequency applications that two FETs are often fabricated as a single transistor with 2 gates.  The source of the one transistor is continuous with the drain of the other so the device has 1 source, 1 drain and 2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vice offers low-noise and high gain in radio-frequenc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 versatile device which can be used as a mixer or automatic gain control amplifier.  The equivalent circuit is as sh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2-26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0736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17E-2059-488C-B07F-A59765F628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gate 2 and the source are grou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ad resistance of the first stage is the input resistance of the second stage, and the second stage is a common-gate amplifier.  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transconductance at some specified drain bias curren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both transistors have the same drain current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u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95480" y="838080"/>
                <a:ext cx="182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62320" y="1905120"/>
                <a:ext cx="16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752480" y="2590920"/>
                <a:ext cx="1676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4800600"/>
                <a:ext cx="2666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A2C-FE2B-47C4-BC36-7A3625D11B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 Pull 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stors all exhibit a nonlinear characteristic that causes distortion of the input signal levels.  Such distortion can be eliminated by push-pull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ove example uses 2 center-tapped transformers.  The input transformer separates the input signal into 2 signal 18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 of phase.  The output transformer is used to sum the output currents of the two transis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input signal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F2-27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3886200" cy="2074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81080" y="5029200"/>
                <a:ext cx="1524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</m:mr>
                        </m: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0400" y="5715000"/>
                <a:ext cx="1447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E3C-2F2B-4F81-A061-7F8C79A531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is the resistance between the terminal and the actual base junction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base-emitter junction resist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.  An estimation o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ollector to emitter resistance typically of the order 15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ollector-base resistance of the order several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conductanc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ified version of the small-signal model equivalent circuit is give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809880" y="1219320"/>
                <a:ext cx="9907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657600" y="2743200"/>
                <a:ext cx="1523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" name="F2-2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4572000" cy="21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2B0-14D4-4024-9621-482A93B7CB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he output of the 2 transistors are also periodic, and they can be expressed in a 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two transistors are identical then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dentical excep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gs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18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curren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en harmonics are eliminated from the output.  This is important as FET have a square-law characteristic that generates a relatively large second harmon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00200" y="914400"/>
                <a:ext cx="49528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23880" y="1905120"/>
                <a:ext cx="50292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523880" y="2666880"/>
                <a:ext cx="38102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C00-735A-4D8C-9874-AA000639E4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ial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tial amplifier is an essential building block in modern IC amplifiers.  The circuit is shown be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peration of this circuit is based on the ability to fabricate matched components on the same chip.  In the figure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realized using a current mirror.  We assume that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dentical transistors and both collector resistors fabricated with equal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VL expression for the loop containing the two emitter-base junctions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33720" y="1447920"/>
          <a:ext cx="3809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3809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286000" y="6019920"/>
                <a:ext cx="23623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F01-2697-4B76-8927-47D6916297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istors are biased in the forward-active mode, the reverse saturation current of the collector-base junction is negligible.  The collector currents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giv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we assumed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difference between the two input voltages.  KCL at the emitter node requ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ly                                 The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 for the emitter-coupled pair is shown on the following p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 then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590920" y="1219320"/>
                <a:ext cx="2590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276720" y="2057400"/>
                <a:ext cx="1828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0200" y="2362320"/>
                <a:ext cx="3124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523880" y="3657600"/>
                <a:ext cx="48006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ividing by 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yields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; Thus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28800" y="5105520"/>
                <a:ext cx="19051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C7E-5D95-4B07-B401-4093F3D022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incrementally increas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             and simultaneously decreas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            . The differential voltage becomes       .  For        &lt; 4kT as indicated in the transfer characteristics above the circuit behaves linearly. 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reases by         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reases by the same amount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724280" y="444600"/>
                <a:ext cx="685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28800" y="750960"/>
                <a:ext cx="6858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019920" y="752400"/>
                <a:ext cx="380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086600" y="762120"/>
                <a:ext cx="380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819520" y="135900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2209680" y="1752480"/>
          <a:ext cx="419112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41911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CB5-AD81-4BE3-A045-6CAD68F555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bo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ncreased by            .  The difference voltage remains 0,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ain equal.  However, both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hibit a small increase       .   Hence the current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reases by          .  The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 longer constant but increase by an amount of               .  This situation where equal signal are applied to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alled the common mo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differential amplifiers are designed such that only differential signals are ampl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410080" y="380880"/>
                <a:ext cx="685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914400"/>
                <a:ext cx="45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10280" y="914400"/>
                <a:ext cx="609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467480" y="1295280"/>
                <a:ext cx="7621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85800" y="2895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of Differential 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200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sis  of differential amplifiers is simplified using “half-circuit” concept.  The equivalent circuit model for differential and common modes are show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057400" y="4168800"/>
          <a:ext cx="541008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168800"/>
                    <a:ext cx="541008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45D-E9E6-4852-91AE-2D71F7F6AA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mode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mode gai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 Mode Rejection Ration (CMRR) is def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e above we obta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rbitrary signal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applied to the inputs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05320" y="304920"/>
                <a:ext cx="28191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505320" y="1066680"/>
                <a:ext cx="25905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315200" y="1752480"/>
                <a:ext cx="1295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86200" y="2265480"/>
                <a:ext cx="2895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819520" y="2971800"/>
                <a:ext cx="1676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819520" y="4114800"/>
                <a:ext cx="251460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MRR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MRR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AD5-CE49-494E-BC18-0625AD6086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T Differential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ical differential amplifier connection is show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F2-30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24640" cy="2478240"/>
          </a:xfrm>
          <a:prstGeom prst="rect">
            <a:avLst/>
          </a:prstGeom>
          <a:ln w="0">
            <a:noFill/>
          </a:ln>
        </p:spPr>
      </p:pic>
      <p:pic>
        <p:nvPicPr>
          <p:cNvPr id="169" name="F2-31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114800" cy="312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D64-FAC5-4BBC-B5BA-37A54B46C2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-Emitter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2-3" descr=""/>
          <p:cNvPicPr/>
          <p:nvPr/>
        </p:nvPicPr>
        <p:blipFill>
          <a:blip r:embed="rId1"/>
          <a:stretch/>
        </p:blipFill>
        <p:spPr>
          <a:xfrm>
            <a:off x="379440" y="990720"/>
            <a:ext cx="320184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90720" y="5478480"/>
                <a:ext cx="1295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33560" y="5331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the coupling capacitance is treated as a short circ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voltage is 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put impedance, not including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s give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ends on applied the input resistance will depend on it as 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rrent gai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24280" y="1600200"/>
                <a:ext cx="32767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505320"/>
                <a:ext cx="23623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724280" y="5105520"/>
                <a:ext cx="3429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1FC-7738-436D-BCE8-C6D78D45BB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Base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3352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ircuit diagram and its equivalent circuit model for the CB amplifier are show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 sum of the currents leaving the emitter junction is 0, we have the following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2-5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333760" cy="3197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95480" y="5181480"/>
                <a:ext cx="274320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E88-17FC-4605-9827-5E1F955D7A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umed to be large compared wit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voltage gai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gt;&g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the magnitude of the voltage gain will be the same as that of the common-emitter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put impedance of the common-base amplifier is determined using the following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133720" y="990720"/>
                <a:ext cx="25146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den>
                        </m:f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β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π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β</m:t>
                                        </m:r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43000" y="3733920"/>
                <a:ext cx="259092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5" name="F2-6" descr=""/>
          <p:cNvPicPr/>
          <p:nvPr/>
        </p:nvPicPr>
        <p:blipFill>
          <a:blip r:embed="rId1"/>
          <a:stretch/>
        </p:blipFill>
        <p:spPr>
          <a:xfrm>
            <a:off x="4038480" y="3733920"/>
            <a:ext cx="5105520" cy="16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E4D-E8A2-400F-B723-B07228AB8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impedance is determined using the following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-base amplifier has a voltage gain but its current gain is less than unity.  It is used as non-inverting amplifiers where low input impedance and high output impedance is des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also has much better high-frequency response than CE amplifier and is often used in high-frequency circ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295280" y="1371600"/>
                <a:ext cx="236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" name="F2-7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800600" cy="19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053-7586-413A-8F76-4F4A7EAC12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itter Fol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 has a non-inverting voltage gain of less tha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it can combine with other stages, such as the CE stage, to realize a greater combined gain than CE stage a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2-1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647960" cy="1779480"/>
          </a:xfrm>
          <a:prstGeom prst="rect">
            <a:avLst/>
          </a:prstGeom>
          <a:ln w="0">
            <a:noFill/>
          </a:ln>
        </p:spPr>
      </p:pic>
      <p:pic>
        <p:nvPicPr>
          <p:cNvPr id="72" name="F2-11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4647960" cy="166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BEF-24E1-464B-9A11-B8106ABC9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2-12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638680" cy="2017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equivalent circuit the voltage gain if found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 configuration has the largest input impedance compared to the other configu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057400" y="2743200"/>
                <a:ext cx="35812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5BF-1B1E-4DF1-BD92-7689361E89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impedance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 is used when low output impedance is needed.  Also, although it has a voltage gain &lt; 1, it has large current gain.  It is frequently used as a power amplifier for low-impedance loa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33720" y="914400"/>
                <a:ext cx="297180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781-3516-44F0-AF6D-AF69D59A85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01:49:44Z</dcterms:created>
  <dc:creator>Dr. Charles Surya</dc:creator>
  <dc:description/>
  <dc:language>en-US</dc:language>
  <cp:lastModifiedBy>Alex</cp:lastModifiedBy>
  <cp:lastPrinted>1999-02-11T06:09:06Z</cp:lastPrinted>
  <dcterms:modified xsi:type="dcterms:W3CDTF">1999-07-14T01:33:16Z</dcterms:modified>
  <cp:revision>45</cp:revision>
  <dc:subject/>
  <dc:title>Integrated Circuits Design for Applications in Communications</dc:title>
</cp:coreProperties>
</file>