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31EE-65CA-4A7A-8FB5-B9CA0FB36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9727-3B64-46D8-9B32-B8E55EA21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928C-81B7-4B88-8432-AF95BD3CB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7A84-ECA7-4BB7-B415-B670A73EA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B40E-100C-40CF-A948-06D02BD2E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9F07-245B-47FA-A5E7-DC366E806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DF4B-0629-4571-94FB-CF5EFF04E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5072-22E2-4A85-A9A4-5B22316CC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325D-FF89-4901-8401-7E222A12C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A910-F9A5-4891-B4A5-F44DA30C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EE37-6E1F-4008-BB7E-FA2111C3A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EC16-2C6A-4CD7-9467-29E56548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D6399-826C-4950-829B-3731B2563DD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SUNP0017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302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0755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3T14:25:41Z</dcterms:created>
  <dc:creator>U Kyaw Naing</dc:creator>
  <dc:description/>
  <dc:language>en-US</dc:language>
  <cp:lastModifiedBy>U Kyaw Naing</cp:lastModifiedBy>
  <dcterms:modified xsi:type="dcterms:W3CDTF">2012-10-03T14:28:40Z</dcterms:modified>
  <cp:revision>1</cp:revision>
  <dc:subject/>
  <dc:title>Slide 1</dc:title>
</cp:coreProperties>
</file>