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ED2-2CF6-46EE-82A6-0F1D40FB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974-7F03-4C41-84E9-296BECB6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DDC-7CD7-4E30-9B86-0042E85D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E47-ECBE-4669-8513-AD64852D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98C-8B37-4042-AE6D-3E25739E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C9D-EDB0-4154-AE72-4E45A6E1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7B6-1805-45F9-A364-FCC2E2CD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FB1-A728-4A2E-AD32-7C400AE0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0D8-B39A-4240-909C-CCEBE915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903-F3E4-4A04-9D9E-367FB44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042-30D6-472B-8194-2663F7F7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73B-7AD7-48A7-A303-5766B01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F145-77C0-4B8C-9862-001E6415D1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8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03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4:14:06Z</dcterms:created>
  <dc:creator>U Kyaw Naing</dc:creator>
  <dc:description/>
  <dc:language>en-US</dc:language>
  <cp:lastModifiedBy>U Kyaw Naing</cp:lastModifiedBy>
  <dcterms:modified xsi:type="dcterms:W3CDTF">2012-10-03T14:15:30Z</dcterms:modified>
  <cp:revision>1</cp:revision>
  <dc:subject/>
  <dc:title>Slide 1</dc:title>
</cp:coreProperties>
</file>