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562F-398D-4030-9E97-7EED4AFB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FE0-ADBF-4741-9EB4-030E14A5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D6F-5FB8-435F-B198-0872A9A9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82F-C703-40BC-BA79-2AF1F7F1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227-1F38-4D6B-92C8-EFADD36D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D92-ED51-45F8-B027-C142ADC8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680-0FB7-4DB9-9ACE-48CD5EC7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04D-2D9D-4BFC-9261-D837FD72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FE4-FDC8-4B7C-AF64-34C70459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6F5-B133-4FF7-B195-AD87AC3D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468-4225-4814-9A80-5FFF39BB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B5A-6986-4D86-8159-B8C46887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FE59-E837-4AF4-8048-C47ED1339C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UNP0011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9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13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22:03Z</dcterms:created>
  <dc:creator>U Kyaw Naing</dc:creator>
  <dc:description/>
  <dc:language>en-US</dc:language>
  <cp:lastModifiedBy>U Kyaw Naing</cp:lastModifiedBy>
  <dcterms:modified xsi:type="dcterms:W3CDTF">2012-10-03T14:23:54Z</dcterms:modified>
  <cp:revision>1</cp:revision>
  <dc:subject/>
  <dc:title>Slide 1</dc:title>
</cp:coreProperties>
</file>