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890-B4E7-464A-B9E8-1577296D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403-DA06-453F-B830-521365F1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A32-A01F-4DA1-85A8-5478662E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776-8477-4072-9237-4ED85F41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ED1-B981-4368-83FC-05D33C9F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A80-F625-405A-A243-3F363D0A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AB2-8545-45E2-B060-8CE50121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80B-A847-42F3-A21B-5E3BEE22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79E-D207-4AA2-96AF-829C94AC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8A57-F42B-4376-B1B6-23B1C57E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298B-8CA1-40C8-98AA-762C01A9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E08-58A0-4255-8ED4-1881EDEE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0F56-DCE8-41AB-8BEA-CC1A8CBDD5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8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03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14:06Z</dcterms:created>
  <dc:creator>U Kyaw Naing</dc:creator>
  <dc:description/>
  <dc:language>en-US</dc:language>
  <cp:lastModifiedBy>U Kyaw Naing</cp:lastModifiedBy>
  <dcterms:modified xsi:type="dcterms:W3CDTF">2012-10-03T14:15:30Z</dcterms:modified>
  <cp:revision>1</cp:revision>
  <dc:subject/>
  <dc:title>Slide 1</dc:title>
</cp:coreProperties>
</file>