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680F-05E3-409C-B1E3-ECE376D3B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0606-E2DB-4C94-A590-5D836487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9352-053B-41A4-BE5A-CC1A34D72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1739-E13F-4DE5-A60A-4DE671A1E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88CE-4810-49D7-9523-669535CD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886E-8C57-4D45-A6E2-01E51854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DA07-B249-40D9-9300-31AEC59C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0834-F232-4787-B3F7-9B5E2355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E239-75D7-404B-86AE-FD03E4C7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EC3E-D0F4-4774-BBEB-1D73E03B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CC38-74C1-4761-9D50-8A2DCB53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29EE-A107-4B22-84C9-05052C4E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5000-ED22-48EE-ACBC-3240D06A98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UNP0011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99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7139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14:22:03Z</dcterms:created>
  <dc:creator>U Kyaw Naing</dc:creator>
  <dc:description/>
  <dc:language>en-US</dc:language>
  <cp:lastModifiedBy>U Kyaw Naing</cp:lastModifiedBy>
  <dcterms:modified xsi:type="dcterms:W3CDTF">2012-10-03T14:23:54Z</dcterms:modified>
  <cp:revision>1</cp:revision>
  <dc:subject/>
  <dc:title>Slide 1</dc:title>
</cp:coreProperties>
</file>