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B41-885A-449E-AEB8-F0C2D682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45B-69ED-4A7A-8218-299DE868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732-7F73-461E-A263-1767FC6F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F87-4AB0-477B-AF2B-B63164B9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9CB-E6C7-41C7-8326-AEB7704F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EC4-6F90-4B04-9E4C-F45E58F4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037-068C-4066-8B0D-8243B65E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FE1-F723-423B-AA77-84641F0B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266-E624-4EC1-AA71-818EF6FC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828-1F90-4B4E-8D53-8E1F5163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436-FF62-492A-AA47-59C28059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8B8-C8BF-4BAD-B644-E09D2CAB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09E1-6743-4FD8-AB09-B2D8B19EB8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98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31:16Z</dcterms:created>
  <dc:creator>U Kyaw Naing</dc:creator>
  <dc:description/>
  <dc:language>en-US</dc:language>
  <cp:lastModifiedBy>U Kyaw Naing</cp:lastModifiedBy>
  <dcterms:modified xsi:type="dcterms:W3CDTF">2012-10-03T14:32:11Z</dcterms:modified>
  <cp:revision>1</cp:revision>
  <dc:subject/>
  <dc:title>Slide 1</dc:title>
</cp:coreProperties>
</file>