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BE3-86EB-4158-A3B1-A9D5D39A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6D3-ACF1-4642-BF32-FC67713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AD5-8884-4168-93CA-9E19AAC2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296-EA9E-4490-BB17-49E0720F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1B8-0476-4DFA-9A1B-40428FBF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001-8DBE-4669-8261-A013DDE4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C6F-CAEA-46A9-8F32-58925052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B5-490C-4DF9-AD59-232A48C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14-7C2D-45F3-99C4-3A660CC8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F0C-B3B1-48D4-B4BD-233F6CD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727-1072-4C4C-9235-2AE648B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2A4-1AEA-41B3-A573-3B54431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0BE-1632-40C4-8774-94D11969A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6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9:05Z</dcterms:created>
  <dc:creator>U Kyaw Naing</dc:creator>
  <dc:description/>
  <dc:language>en-US</dc:language>
  <cp:lastModifiedBy>U Kyaw Naing</cp:lastModifiedBy>
  <dcterms:modified xsi:type="dcterms:W3CDTF">2012-10-03T14:29:43Z</dcterms:modified>
  <cp:revision>1</cp:revision>
  <dc:subject/>
  <dc:title>Slide 1</dc:title>
</cp:coreProperties>
</file>