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B9C-17AA-4F84-8BF8-E1D20636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ABB-EFB1-4971-B86E-B636E122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25A-013F-4877-B493-017FAB0B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A4E-454B-442C-9ED3-62FEC526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3D4-40BE-4B27-9608-8857BA2C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0B3-7318-427F-BC6A-67B94760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9A5-8558-49A2-A3D0-36295952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ADF-1ADE-4F88-A336-25A24A51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78B-5B75-457E-B94D-DDFE68DE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52B-511F-4C96-B1C0-2957F4C7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6D3-32FA-420E-99D4-18008008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BAB-DA35-4934-9AA7-2F86E596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D3FC-AC18-4D34-9D73-FBBCC52D39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8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15:38Z</dcterms:created>
  <dc:creator>U Kyaw Naing</dc:creator>
  <dc:description/>
  <dc:language>en-US</dc:language>
  <cp:lastModifiedBy>U Kyaw Naing</cp:lastModifiedBy>
  <dcterms:modified xsi:type="dcterms:W3CDTF">2012-10-03T14:18:02Z</dcterms:modified>
  <cp:revision>1</cp:revision>
  <dc:subject/>
  <dc:title>Slide 1</dc:title>
</cp:coreProperties>
</file>