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027-D5B6-45A7-A466-E4853F1C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D5B-339B-4B9A-949D-DDFFDBDF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AF0-7A1B-4919-84F4-3F677FF9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033-7CEB-4676-AC70-D92D62F7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019-744D-4181-BAFF-CC6DCEF5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80C-F0D3-46FE-B3E3-1A7112A6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31B-616A-4BE7-A8D4-2DCF4064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D89-9101-42D9-BDE4-5F624500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208-800D-48CA-AAA1-8B90CF1D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150-A2D4-4F93-9653-EC3EBC9B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651-05AB-47EF-A331-B2131F99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DB6-BFFE-4D45-AA01-AABB48FE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2DED-C821-439D-9A2F-C9F22EF999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4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9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17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19:46Z</dcterms:created>
  <dc:creator>U Kyaw Naing</dc:creator>
  <dc:description/>
  <dc:language>en-US</dc:language>
  <cp:lastModifiedBy>U Kyaw Naing</cp:lastModifiedBy>
  <dcterms:modified xsi:type="dcterms:W3CDTF">2012-10-03T14:20:48Z</dcterms:modified>
  <cp:revision>1</cp:revision>
  <dc:subject/>
  <dc:title>Slide 1</dc:title>
</cp:coreProperties>
</file>