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D98-FC82-4DF9-A26E-E06D1749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450-8F94-4C74-9D29-8D03873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9A1-563E-44C0-AFFD-8775821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096-2C72-4769-80EE-1578754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04C-0A3A-4A6B-AEDA-12A9F9F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F61-727E-4E02-880A-39D7EB9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65D-6761-4847-ADD7-4FB2C3E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785-6415-40E0-B29C-C03791BA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97A-35F6-4F75-BA14-45EF921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A49-6654-4CB2-8DAB-E630E54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7D2-8162-4420-9DF6-9C646587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3F5-A5A7-4F58-8338-4E9B575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824-C1F6-4206-B4EE-F8E5F9F51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6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9:05Z</dcterms:created>
  <dc:creator>U Kyaw Naing</dc:creator>
  <dc:description/>
  <dc:language>en-US</dc:language>
  <cp:lastModifiedBy>U Kyaw Naing</cp:lastModifiedBy>
  <dcterms:modified xsi:type="dcterms:W3CDTF">2012-10-03T14:29:43Z</dcterms:modified>
  <cp:revision>1</cp:revision>
  <dc:subject/>
  <dc:title>Slide 1</dc:title>
</cp:coreProperties>
</file>