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97D-E5FF-44E4-9FCC-AEF293F9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005-7427-465C-B0C0-D01E7E54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C9B-C23C-4C93-8808-84CB3DD9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A69-43B0-456A-B4E1-1B4436E6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BBD-2D76-46E9-B6A6-AAFB688C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6C9-DB91-4A04-87F3-A2945431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675-6699-48E6-8937-F470FCE1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5E11-66B5-4DF0-B278-700A6D08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A46-E457-45E9-AE2C-3C43FDF2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510-E055-4BC5-A25E-55DAB399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181-5B74-47CC-975F-598F3964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F4F-0785-46AD-989A-7AC981D5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CA62-F2BC-4139-9449-9B883D7D67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32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8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5846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18:09Z</dcterms:created>
  <dc:creator>U Kyaw Naing</dc:creator>
  <dc:description/>
  <dc:language>en-US</dc:language>
  <cp:lastModifiedBy>U Kyaw Naing</cp:lastModifiedBy>
  <dcterms:modified xsi:type="dcterms:W3CDTF">2012-10-03T14:19:24Z</dcterms:modified>
  <cp:revision>1</cp:revision>
  <dc:subject/>
  <dc:title>Slide 1</dc:title>
</cp:coreProperties>
</file>