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4FE-EE61-4A82-B03A-70CDD7D0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A97-6378-416A-8D52-0EF834A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6C2-C2DE-4D42-A9BB-BBC9A80A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30C-ED8B-4384-849E-8ED7987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983-54A3-4A03-A84A-48344DB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C25-3BD2-4D16-977E-22552F16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480-CD00-4103-AEE1-773D184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5D8-24BC-449F-BE24-8D8BCED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D69-D067-4B55-A028-FEFA034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174-AD56-4880-A50D-AA43D09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570-220E-4EE0-A416-FC5CC37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4D6-6C7A-413B-B83C-5CFCC13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BC0-333F-4E53-9D15-34D69660B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4:05Z</dcterms:created>
  <dc:creator>U Kyaw Naing</dc:creator>
  <dc:description/>
  <dc:language>en-US</dc:language>
  <cp:lastModifiedBy>U Kyaw Naing</cp:lastModifiedBy>
  <dcterms:modified xsi:type="dcterms:W3CDTF">2012-10-03T14:24:52Z</dcterms:modified>
  <cp:revision>1</cp:revision>
  <dc:subject/>
  <dc:title>Slide 1</dc:title>
</cp:coreProperties>
</file>