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169-BB26-4240-81C7-7EE22FF2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5C1-26AF-4051-9841-EFFE3D7A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EDD-4485-4A37-9376-6521A07C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D88-6661-4BCD-A862-02644C55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718-A3B5-41AE-8562-4568CBB0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9C3-1960-401A-9DA0-BE78447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99E-A912-4E07-92F9-B7AE890A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35F-0E53-4D4B-988F-A7E8B53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255-F680-4ED0-92BE-A749AF30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607-F284-41CB-BE11-F360E8D4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E80-8250-4830-A879-E9F36A7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157-557B-4CAE-8D5C-CAE78AE0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002C-0445-47FF-BBE1-D992726C77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98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31:16Z</dcterms:created>
  <dc:creator>U Kyaw Naing</dc:creator>
  <dc:description/>
  <dc:language>en-US</dc:language>
  <cp:lastModifiedBy>U Kyaw Naing</cp:lastModifiedBy>
  <dcterms:modified xsi:type="dcterms:W3CDTF">2012-10-03T14:32:11Z</dcterms:modified>
  <cp:revision>1</cp:revision>
  <dc:subject/>
  <dc:title>Slide 1</dc:title>
</cp:coreProperties>
</file>