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F6A-D8EA-443F-A6A6-8C5EED79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013-37FC-441C-B949-0CB8D66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184-4161-4AB8-BCCF-E30E3D75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19D-44A3-4D21-A018-F1F517C0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330-9B87-42A3-913C-3CBF2574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346-1EB8-40ED-97FC-197B71B7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50F-F209-4DC8-9656-69963746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194-98A6-47E6-9B8B-CE69A61B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8AA-1B5D-4915-8C8E-EDC1FEFF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8D7-D721-4AD9-A2EA-1E80619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AE3-038B-4BF7-9D8E-5D87476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06C-07B7-46CD-9C7F-C8A6A08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437C-35BA-4AF9-8C81-3EC70920E2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9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0:58Z</dcterms:created>
  <dc:creator>U Kyaw Naing</dc:creator>
  <dc:description/>
  <dc:language>en-US</dc:language>
  <cp:lastModifiedBy>U Kyaw Naing</cp:lastModifiedBy>
  <dcterms:modified xsi:type="dcterms:W3CDTF">2012-10-03T14:21:49Z</dcterms:modified>
  <cp:revision>1</cp:revision>
  <dc:subject/>
  <dc:title>Slide 1</dc:title>
</cp:coreProperties>
</file>