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FD4-4573-45DA-B285-3B3E68EB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D63-1CB6-4A2C-8F3F-FC945B01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1D2-A861-49B2-A14F-261DA99A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242-928E-4E4F-83DF-DF95ED8E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202-109A-468D-BF74-167674C4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DAF-C5E6-443D-82EA-12F408EC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D1FA-033E-412A-9622-B7E25686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00B-FDFE-4431-9A84-5A6A9E7E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1E87-BC63-4437-9EBF-DB78A031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0D03-6906-44A4-9809-26439477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A2E6-7BD5-4FF5-868E-EA06B75E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B9F-5258-4802-8B15-8DFC02FE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1BDC-519B-43B8-9360-1EE956878E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17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0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75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25:41Z</dcterms:created>
  <dc:creator>U Kyaw Naing</dc:creator>
  <dc:description/>
  <dc:language>en-US</dc:language>
  <cp:lastModifiedBy>U Kyaw Naing</cp:lastModifiedBy>
  <dcterms:modified xsi:type="dcterms:W3CDTF">2012-10-03T14:28:40Z</dcterms:modified>
  <cp:revision>1</cp:revision>
  <dc:subject/>
  <dc:title>Slide 1</dc:title>
</cp:coreProperties>
</file>