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D12-070B-4548-AB97-11D7C28E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CA8-79C7-411F-A6B0-58385E9D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8F2-4C86-443A-B00C-18731802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1A6-7D87-4474-9ACB-64EE2804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845-42F1-47C5-A03E-A400B4A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BEC-19E8-4944-9706-9EFECC6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DD6-E5C5-4D3A-97CF-1021461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DF1-5AE5-4B2F-853B-5E28EC5D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8CF-065A-4919-897A-3337F84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B54-5677-448A-A457-50E7AE7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7DE-F89E-4FC1-BA15-F4B9BF2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224-A2CC-43C3-A618-4FAA9B4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4C4C-0775-4837-B475-9D7567A58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7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32:16Z</dcterms:created>
  <dc:creator>U Kyaw Naing</dc:creator>
  <dc:description/>
  <dc:language>en-US</dc:language>
  <cp:lastModifiedBy>U Kyaw Naing</cp:lastModifiedBy>
  <dcterms:modified xsi:type="dcterms:W3CDTF">2012-10-03T14:33:00Z</dcterms:modified>
  <cp:revision>1</cp:revision>
  <dc:subject/>
  <dc:title>Slide 1</dc:title>
</cp:coreProperties>
</file>