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A0C1-0EC6-4288-8968-E79C77C7C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0763-6994-4314-86C1-7CA11CB69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8AA8-F338-4F6B-851E-51982D844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B3B4-93D4-4B39-A3E4-29B6DC555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43DA-6274-40E5-97AD-58DE3B3DE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D528-8701-4233-B910-C15C0E6E7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D6EC-7582-4579-A84E-CF81439DB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8752-573E-4908-B1BA-D3C8F82A1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333B-C8DE-4F9F-A00B-C0DB98A36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6576-F4D7-44EA-933A-AEE56BC2F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7F90-A043-4677-9316-34168C5B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4320-5B29-483E-A46C-86472AAD3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0490E-1586-4FD8-8E94-8B2B4C22CF3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SUNP0022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305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131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3T14:29:53Z</dcterms:created>
  <dc:creator>U Kyaw Naing</dc:creator>
  <dc:description/>
  <dc:language>en-US</dc:language>
  <cp:lastModifiedBy>U Kyaw Naing</cp:lastModifiedBy>
  <dcterms:modified xsi:type="dcterms:W3CDTF">2012-10-03T14:31:03Z</dcterms:modified>
  <cp:revision>1</cp:revision>
  <dc:subject/>
  <dc:title>Slide 1</dc:title>
</cp:coreProperties>
</file>