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D882-37BE-4260-8A90-A184FEB5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2B0-574D-4CC4-B344-96583C7E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C291-422F-4E5C-8240-D32C4960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E2E4-1C78-44E6-8D52-9ED1FB2D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C8B-0433-4756-89D6-FEB0533C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2D8C-A249-421F-9FD2-A1E888CD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C546-AFB2-480F-A6FA-FBEB2F3E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641-5111-4975-ADA3-F1A81D64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C39-759C-471E-9FAA-9C30A819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435A-2405-44CB-B417-90722CDC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2DF-27B0-4674-A865-9FF4578B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FCC-AD91-4352-BA96-686F3A20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2D38-9709-4E3C-AC00-6C7F9D4957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22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0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3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29:53Z</dcterms:created>
  <dc:creator>U Kyaw Naing</dc:creator>
  <dc:description/>
  <dc:language>en-US</dc:language>
  <cp:lastModifiedBy>U Kyaw Naing</cp:lastModifiedBy>
  <dcterms:modified xsi:type="dcterms:W3CDTF">2012-10-03T14:31:03Z</dcterms:modified>
  <cp:revision>1</cp:revision>
  <dc:subject/>
  <dc:title>Slide 1</dc:title>
</cp:coreProperties>
</file>