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47F-0D12-4DB3-B79E-146EC3D5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A4C-1304-401C-BABF-CFB7BD4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5E5-2D5B-436D-8944-0CC9BBA9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AC7-A755-418D-8C11-E0E31E31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DAF-987C-49DB-91C5-5C95C56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859-3387-4874-9AA5-29EB4872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CCA-0B5B-477F-9D58-F3D9068F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C68-AA61-4CA4-8DF5-8B8C8818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933-6645-4914-A0EC-BCBE4470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DDA-CC12-4871-9C4E-600A9F4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9C3-F5BE-473A-946F-4DF7259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AE4-E70A-4149-80BD-F787060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6D5-8457-4C66-ADD6-5A8A233CA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5:38Z</dcterms:created>
  <dc:creator>U Kyaw Naing</dc:creator>
  <dc:description/>
  <dc:language>en-US</dc:language>
  <cp:lastModifiedBy>U Kyaw Naing</cp:lastModifiedBy>
  <dcterms:modified xsi:type="dcterms:W3CDTF">2012-10-03T14:18:02Z</dcterms:modified>
  <cp:revision>1</cp:revision>
  <dc:subject/>
  <dc:title>Slide 1</dc:title>
</cp:coreProperties>
</file>