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43A-9F25-473E-AEFA-1BFED89D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BC5-4E36-4C9C-AC3E-6086A097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8DC-5D80-4883-8CB4-26A9DB86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637-DF29-47E4-AC96-02562A09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C81-A117-48C9-B661-D0D7ADF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5CB-05B5-419A-BA17-ECCAE56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16E-1B07-4D97-B16E-ED54E7F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836-6D06-45C9-B07C-248EBE1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D16-2BC4-4D7C-83E1-A3021BC3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656-608B-4506-A585-A48D298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56C-5F30-4A88-A341-D8A0D29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CF8-F9BE-4EA0-8516-877564A9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B85-64B0-44FC-B964-9EF1A3CE1E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7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9:46Z</dcterms:created>
  <dc:creator>U Kyaw Naing</dc:creator>
  <dc:description/>
  <dc:language>en-US</dc:language>
  <cp:lastModifiedBy>U Kyaw Naing</cp:lastModifiedBy>
  <dcterms:modified xsi:type="dcterms:W3CDTF">2012-10-03T14:20:48Z</dcterms:modified>
  <cp:revision>1</cp:revision>
  <dc:subject/>
  <dc:title>Slide 1</dc:title>
</cp:coreProperties>
</file>