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CD1-4785-4A9F-9A65-496DC374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61E-E1A1-431B-8AA4-12701A26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C55-1F57-4871-8FC6-4093BCD1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D65-81EB-4F3F-844C-3F2A316B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5AB-096F-43A0-ADE4-2B6B255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DC9-BDAB-46D5-8BE6-064C21D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FF4-F435-4658-B07A-06CD176F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AC5-BFCF-4FF9-89F2-E4E759C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78D-6D6B-4CC5-A015-EC75E9B9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BAF-56F8-4DBA-9902-B061EAF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CD1-FCEF-49BB-9C52-CE4E2D7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022-51C3-4159-94A7-B420DB2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F293-DF0E-4E56-8BC9-94FFE2C304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3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8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4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8:09Z</dcterms:created>
  <dc:creator>U Kyaw Naing</dc:creator>
  <dc:description/>
  <dc:language>en-US</dc:language>
  <cp:lastModifiedBy>U Kyaw Naing</cp:lastModifiedBy>
  <dcterms:modified xsi:type="dcterms:W3CDTF">2012-10-03T14:19:24Z</dcterms:modified>
  <cp:revision>1</cp:revision>
  <dc:subject/>
  <dc:title>Slide 1</dc:title>
</cp:coreProperties>
</file>