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C2B-D686-4FAA-99DC-5B074950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BB9-4DA2-45DA-A293-D64A348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167-B7B2-41FD-BA77-5C68BD9B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21E-9A4B-4992-9A0F-C5D2B5A4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CDB-0165-4B8D-90BE-2AF8AFE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666-9442-4324-BA92-7189BAC8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D5B-6EE9-4983-B129-AEC06995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629-42FD-42FD-9414-8EA8B7AF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9CB-E19F-4D50-8B9F-E2A42A4A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8BB-54D8-41D0-9222-2E7845E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8DC-4500-4996-9B9D-7A25EFF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498-A9F5-4884-9DD2-89CD9F03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4ECF-9750-4EBC-8E52-BD6FD43FCE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7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32:16Z</dcterms:created>
  <dc:creator>U Kyaw Naing</dc:creator>
  <dc:description/>
  <dc:language>en-US</dc:language>
  <cp:lastModifiedBy>U Kyaw Naing</cp:lastModifiedBy>
  <dcterms:modified xsi:type="dcterms:W3CDTF">2012-10-03T14:33:00Z</dcterms:modified>
  <cp:revision>1</cp:revision>
  <dc:subject/>
  <dc:title>Slide 1</dc:title>
</cp:coreProperties>
</file>