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84E-FF0F-40FE-8BB7-D0273616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559-FEF5-484B-B98B-0AD97F96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AC5-93BD-42F6-9D45-8A3C4CDC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061-32F0-437E-98B4-045790A6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4EA-FEE0-4367-9E28-ECFD08A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49B-3EBD-41EF-9094-EB256F9C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CF7-A382-4F3C-93BF-C09B050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2C7-D048-44A1-A332-E46735DE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87D-3501-4DEA-9520-030EFE81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F41-E399-4580-B0E4-8F2DC0F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6DD-AA69-4967-93A4-971982C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8F1-38C1-4960-83BF-72326CB2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C938-F32D-4ED2-9994-22AB0F2EE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4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4:05Z</dcterms:created>
  <dc:creator>U Kyaw Naing</dc:creator>
  <dc:description/>
  <dc:language>en-US</dc:language>
  <cp:lastModifiedBy>U Kyaw Naing</cp:lastModifiedBy>
  <dcterms:modified xsi:type="dcterms:W3CDTF">2012-10-03T14:24:52Z</dcterms:modified>
  <cp:revision>1</cp:revision>
  <dc:subject/>
  <dc:title>Slide 1</dc:title>
</cp:coreProperties>
</file>