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2F1-360B-4E58-AC65-A993435B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56B-C632-4F17-B025-E3ED8777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E15-7A2A-4435-BB0A-8DA52381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F27-F3D5-44D4-8700-6C0EDAEA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0A6-3410-4FA9-A756-61864D03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024-494F-45AC-9A96-F72A2DD9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850-7E08-4A42-8196-BFFE2F06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6A2-DFF6-4E02-B6CC-BE2AE29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DAB-47A1-4346-9E5A-338EDA0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5F7-3954-43B5-A387-7641B796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8C4-D733-429D-A2B7-6D6636A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564-A9E8-469A-A752-DE8392F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9020-F06B-445A-ADD4-44720D479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9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20:58Z</dcterms:created>
  <dc:creator>U Kyaw Naing</dc:creator>
  <dc:description/>
  <dc:language>en-US</dc:language>
  <cp:lastModifiedBy>U Kyaw Naing</cp:lastModifiedBy>
  <dcterms:modified xsi:type="dcterms:W3CDTF">2012-10-03T14:21:49Z</dcterms:modified>
  <cp:revision>1</cp:revision>
  <dc:subject/>
  <dc:title>Slide 1</dc:title>
</cp:coreProperties>
</file>