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8E36-0082-4D90-B5CC-9E12740E2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AA07-3A0F-4B7C-8BCB-F9AE672C8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5C09-CDD4-4279-B816-F5E5CE885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A525-F924-4B31-B71B-340145257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2C80-1476-4AE2-B4DB-0D7263688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5650-67A8-4E4E-B1AF-DC5EECCD6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D32D-0D7F-4490-AA76-66BB4AE7F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B1B6-284B-4592-844A-8D313C41F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D28E-0128-4AED-A174-CA2BB7222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0916-08DB-4807-8742-4A5B4E65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9178-01EE-47B0-8F48-78B7CC85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6D00-F438-458A-B2A3-144DEC9C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2EEA9-8AE0-4E8F-8979-3414B2F2F7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1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426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7273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8T13:54:37Z</dcterms:created>
  <dc:creator>U Kyaw Naing</dc:creator>
  <dc:description/>
  <dc:language>en-US</dc:language>
  <cp:lastModifiedBy>U Kyaw Naing</cp:lastModifiedBy>
  <dcterms:modified xsi:type="dcterms:W3CDTF">2012-09-28T14:41:49Z</dcterms:modified>
  <cp:revision>2</cp:revision>
  <dc:subject/>
  <dc:title>Slide 1</dc:title>
</cp:coreProperties>
</file>