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3EE-EF6C-4EDA-9AAC-276D71A8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E78-E995-40DA-BCBB-533C1778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5E3-8F66-4F17-B5E4-A7F33522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7BB-F156-493F-8B32-F821C76C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606-C2BB-4349-9029-905DDDA1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717-9D6A-4312-86EA-65D100B9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292-977E-4A39-841D-89A2657C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A2B-574C-4911-B8C9-14C2406B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741D-10AF-4CFC-9A7B-FFD617C8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26F-EE45-4FF8-8ECF-E67FE3AF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CD2-D440-4165-AC00-03D60221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8BD-B51E-4E73-96C5-9D8228E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452-F8B4-414C-8957-BD09F11A3C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8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0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59:19Z</dcterms:created>
  <dc:creator>U Kyaw Naing</dc:creator>
  <dc:description/>
  <dc:language>en-US</dc:language>
  <cp:lastModifiedBy>U Kyaw Naing</cp:lastModifiedBy>
  <dcterms:modified xsi:type="dcterms:W3CDTF">2012-09-28T10:59:56Z</dcterms:modified>
  <cp:revision>1</cp:revision>
  <dc:subject/>
  <dc:title>Slide 1</dc:title>
</cp:coreProperties>
</file>