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F83-FB50-41FF-BC76-670B8CF8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A00-013D-4537-9C1C-F42CBC7F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D5B-F606-4AAA-83E7-41432DB8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FAF-1D0A-409B-AD2B-25444ADF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1680-F93A-46A8-AC7A-9C1FFE10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FAC-AFEC-45D9-AB62-DF8008F8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398-C4D2-4D0C-A492-269E2109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20B-C772-4835-B038-5C07F0A9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969-A0C9-47F9-B740-63EF37BD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A09-B60F-491B-942A-B21FF11D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C5DF-6C41-468D-BBFC-87F7FBF4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32B-F13D-417A-AC3D-9DC741C9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3BDC-D34C-4FB4-9A45-7A3BBC5C1D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41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4886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3:40:09Z</dcterms:created>
  <dc:creator>U Kyaw Naing</dc:creator>
  <dc:description/>
  <dc:language>en-US</dc:language>
  <cp:lastModifiedBy>U Kyaw Naing</cp:lastModifiedBy>
  <dcterms:modified xsi:type="dcterms:W3CDTF">2012-09-28T13:42:15Z</dcterms:modified>
  <cp:revision>1</cp:revision>
  <dc:subject/>
  <dc:title>Slide 1</dc:title>
</cp:coreProperties>
</file>