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F7D-A723-48A6-B390-9D6B0DFB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6157-512A-4C43-8FB7-501B448D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AD6-658A-4289-94FF-24E8C69B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BB8-D6AE-4099-BB43-627802F6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5B8-6971-4E4C-BA17-91FF6A9B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9088-9AC0-4F0A-94C9-368A84C5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46D-88AD-4FB3-839C-A449ACB9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210-B794-4BA0-96B8-B7F394F0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632-815F-466B-9E4E-31CE14B7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A234-FB4C-4C4E-967C-43822D7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976-9C9D-4522-8065-AB6FA98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002-4A07-4755-9E6A-FDE98D30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F62C-DDEF-43A1-A678-5996C13889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63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53:37Z</dcterms:created>
  <dc:creator>U Kyaw Naing</dc:creator>
  <dc:description/>
  <dc:language>en-US</dc:language>
  <cp:lastModifiedBy>U Kyaw Naing</cp:lastModifiedBy>
  <dcterms:modified xsi:type="dcterms:W3CDTF">2012-09-28T14:40:54Z</dcterms:modified>
  <cp:revision>3</cp:revision>
  <dc:subject/>
  <dc:title>Slide 1</dc:title>
</cp:coreProperties>
</file>