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9719-D96C-445E-992E-551B2627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1F0-F0E0-4539-84B1-FE09216B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F73-8B46-4310-89FD-0D42CBC6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419E-AC3C-43E6-A8F7-F95F1B67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F28-E6EC-40E1-843F-8F3E8F39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E967-3BC8-4386-96DF-36DA9192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CD2-9BB6-44DB-BF43-2F1D0B2E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539-7A59-4717-8109-BDB159B5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C1A-FBDA-45CA-9D85-84F4C0BD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9B6-071F-4441-9EF8-23B7421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555-F085-4509-A0BE-3AD48BB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CF9D-2213-4420-88DC-101B5BDA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257E-45A9-4D74-81E2-A138DA1338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4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5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4:12Z</dcterms:created>
  <dc:creator>U Kyaw Naing</dc:creator>
  <dc:description/>
  <dc:language>en-US</dc:language>
  <cp:lastModifiedBy>U Kyaw Naing</cp:lastModifiedBy>
  <dcterms:modified xsi:type="dcterms:W3CDTF">2012-09-28T11:04:44Z</dcterms:modified>
  <cp:revision>1</cp:revision>
  <dc:subject/>
  <dc:title>Slide 1</dc:title>
</cp:coreProperties>
</file>