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DF249-4916-44FB-8A63-5E3F0E560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35AB5-4CB7-4FF3-BE93-B83281053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2423F-9BEE-46E9-B2DD-0960565AB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BAAB6-2C38-4679-93E5-E5DFAFAAC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0C75D-3093-4238-BE8C-34C358B10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867E1-9A85-485E-817C-5F92589AE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9F8B7-858C-47CC-82BE-6E00ACD6E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AE5DE-32CE-4668-86F8-8C93E4B3C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6A4B7-9E67-415C-90C4-7BE57630C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498BA-8609-4DFD-B953-EB3163F73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DAFD6-C54B-431C-929B-3003973D9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ACD25-A961-48DF-87E3-22519AB20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FD16A-E10F-464D-96E8-8C06A11A810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SUNP0028.JPG"/>
          <p:cNvPicPr/>
          <p:nvPr/>
        </p:nvPicPr>
        <p:blipFill>
          <a:blip r:embed="rId1"/>
          <a:stretch/>
        </p:blipFill>
        <p:spPr>
          <a:xfrm>
            <a:off x="0" y="27000"/>
            <a:ext cx="9144000" cy="6804000"/>
          </a:xfrm>
          <a:prstGeom prst="rect">
            <a:avLst/>
          </a:prstGeom>
          <a:ln w="0">
            <a:noFill/>
          </a:ln>
        </p:spPr>
      </p:pic>
      <p:pic>
        <p:nvPicPr>
          <p:cNvPr id="42" name="Page 379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505856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8T10:58:29Z</dcterms:created>
  <dc:creator>U Kyaw Naing</dc:creator>
  <dc:description/>
  <dc:language>en-US</dc:language>
  <cp:lastModifiedBy>U Kyaw Naing</cp:lastModifiedBy>
  <dcterms:modified xsi:type="dcterms:W3CDTF">2012-09-28T10:59:15Z</dcterms:modified>
  <cp:revision>1</cp:revision>
  <dc:subject/>
  <dc:title>Slide 1</dc:title>
</cp:coreProperties>
</file>