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CBB8-1A3C-43BE-BCBB-2D70B1DB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13B-43FB-4BD8-A997-E2BFF9F4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61F-5A8D-4160-BE03-FA0C4228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149-2945-4933-AD76-3756E176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0AB-94BA-45C4-BE08-36A6AD8C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1A9-06D9-462C-B7B8-ED64337D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DC8-AB62-4AC0-9B35-479791B9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91A-21F5-4332-8613-F1FAF2AF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B019-3C57-4259-AA81-7F148525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B7D-96F5-462C-927B-12B5715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A7F-F68B-4BC0-84C4-7919752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555-AD8B-4A66-B5BF-81393D87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33D3-EA38-4445-B158-11488354B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SUNP0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1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40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43:31Z</dcterms:created>
  <dc:creator>U Kyaw Naing</dc:creator>
  <dc:description/>
  <dc:language>en-US</dc:language>
  <cp:lastModifiedBy>U Kyaw Naing</cp:lastModifiedBy>
  <dcterms:modified xsi:type="dcterms:W3CDTF">2012-09-28T13:47:56Z</dcterms:modified>
  <cp:revision>1</cp:revision>
  <dc:subject/>
  <dc:title>Slide 1</dc:title>
</cp:coreProperties>
</file>