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DB8C-4DEC-4DF6-A590-A2C04BBC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798-3C74-465C-8924-617DD700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94ED-2402-42FB-A59F-250870FD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823-703C-4F95-88B3-E245D7FE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6DBE-26A6-44D9-94C1-7F75A106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A8FA-D23C-44A9-910E-CD24D63F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D098-0326-42E4-B3C1-AF6DE320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310-8DD7-4681-965D-CEC04105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BF5-9061-41A4-96E5-F36D93AB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77ED-98A9-4D62-98AC-259045AF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7BA-CD87-48F9-9AA8-76FA24C1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2CD9-1127-4BDE-8343-1DFC3E8C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4365-51E9-4026-9136-51D00168DA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42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96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3:58:07Z</dcterms:created>
  <dc:creator>U Kyaw Naing</dc:creator>
  <dc:description/>
  <dc:language>en-US</dc:language>
  <cp:lastModifiedBy>U Kyaw Naing</cp:lastModifiedBy>
  <dcterms:modified xsi:type="dcterms:W3CDTF">2012-09-28T14:01:28Z</dcterms:modified>
  <cp:revision>1</cp:revision>
  <dc:subject/>
  <dc:title>Slide 1</dc:title>
</cp:coreProperties>
</file>