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E19A-0443-404D-A904-DB513C87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24EB-97B5-4586-BC37-413FD35F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0C36-872C-4F3D-BCC7-80C726F1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A75A-B1B1-4A1D-A879-A196D02E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BF12-D43B-4CEB-B479-89BA9F26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3763-75BE-4F2D-B966-4849B8C3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CA4C-882B-4498-91C1-515C7236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A5DC-940F-492D-B1A4-AFC24E63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33DF-1746-4066-B909-CBCC8998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6AC5-F29E-46AC-A6BB-4E398736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4DF-1885-490C-878C-C8F9EAA0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F9B5-6B85-426C-8ED7-DABBA4D3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6EFD-C6F5-4FE1-A82B-B16B560D07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32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8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56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1:00:08Z</dcterms:created>
  <dc:creator>U Kyaw Naing</dc:creator>
  <dc:description/>
  <dc:language>en-US</dc:language>
  <cp:lastModifiedBy>U Kyaw Naing</cp:lastModifiedBy>
  <dcterms:modified xsi:type="dcterms:W3CDTF">2012-09-28T11:00:56Z</dcterms:modified>
  <cp:revision>1</cp:revision>
  <dc:subject/>
  <dc:title>Slide 1</dc:title>
</cp:coreProperties>
</file>