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A82D-23B4-4915-AFDE-2364533E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B5DF-D733-4862-AA02-B3E4CFB4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9BA-7BA5-408C-B8E2-7E7E4324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116-D42E-484F-A2FB-95FF7C04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56D-BAA7-4CA5-83CB-9FF69EBA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057-9EB5-487C-B7CB-C6FFE4D6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25B2-A247-4C84-9780-7F19A6AD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81A-83EA-4DF0-89D7-F74E89D0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7AF-E52D-432E-A64D-D33AE600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B6C-8197-4445-B234-F9727B41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502E-21FC-40EF-86A0-19A93CC7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778-C2B6-42F1-B05C-BBCD0DAD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D7C9-4A88-4FC9-97C3-F7561934D8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1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67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3:42:22Z</dcterms:created>
  <dc:creator>U Kyaw Naing</dc:creator>
  <dc:description/>
  <dc:language>en-US</dc:language>
  <cp:lastModifiedBy>U Kyaw Naing</cp:lastModifiedBy>
  <dcterms:modified xsi:type="dcterms:W3CDTF">2012-09-28T13:43:21Z</dcterms:modified>
  <cp:revision>1</cp:revision>
  <dc:subject/>
  <dc:title>Slide 1</dc:title>
</cp:coreProperties>
</file>