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39F-948C-4F45-91DB-0B30BECA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105-EA99-44C4-8DCF-3868B07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D47-4590-4B6F-92C4-85D61042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CBE-2264-44C0-AE42-A021152B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3FD-E57B-4D9D-AF47-634BF474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E17-E8F4-4129-A170-64431506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501-D764-4752-B2B6-8DDAC0F8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833-62A1-4CCD-B962-3B70EF39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3BA-5B6F-4F27-A8FD-A855CBAD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B20-E1D6-4131-A51A-5BA66896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FDB-1636-4B83-88A2-4BDDF010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25F-5715-433A-BD69-64603285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643-7B45-4DDE-BD1A-3CA398FDF1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4:17:28Z</dcterms:created>
  <dc:creator>U Kyaw Naing</dc:creator>
  <dc:description/>
  <dc:language>en-US</dc:language>
  <cp:lastModifiedBy>U Kyaw Naing</cp:lastModifiedBy>
  <dcterms:modified xsi:type="dcterms:W3CDTF">2012-09-28T14:19:44Z</dcterms:modified>
  <cp:revision>1</cp:revision>
  <dc:subject/>
  <dc:title>Slide 1</dc:title>
</cp:coreProperties>
</file>