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42F-1D57-49DA-9043-FA761125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434-21BC-4467-855D-A258097E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C1B3-4ED3-4686-8971-68AB5188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AFE-C1FB-400E-9A2F-6E65C42E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A74-0152-4900-80D5-31173BC5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D2E-F64C-405C-8EA7-3E61C13E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C0C-0A95-4EED-9412-ED4D7D9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5B1-AA62-4586-A11B-259E726F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294-2D15-40E9-BFD8-3CA488DB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7EC-8C05-463C-B0DF-EAE93827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1C0E-3298-4ED2-9AFB-B4D627E1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C7A-F977-4946-951C-F2044065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3C79-E3D5-4D44-94C1-C7375F5AE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852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2:06Z</dcterms:created>
  <dc:creator>U Kyaw Naing</dc:creator>
  <dc:description/>
  <dc:language>en-US</dc:language>
  <cp:lastModifiedBy>U Kyaw Naing</cp:lastModifiedBy>
  <dcterms:modified xsi:type="dcterms:W3CDTF">2012-09-28T11:02:47Z</dcterms:modified>
  <cp:revision>1</cp:revision>
  <dc:subject/>
  <dc:title>Slide 1</dc:title>
</cp:coreProperties>
</file>