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636-D192-4514-92AB-3C07B9AA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523-EF59-4C33-AA53-C6A4BC34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143-AE37-4E90-B4A4-C48545BD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A3F2-6494-449F-B580-C8BA5502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13C-CB0D-4319-9143-E57536A3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5E7-83DA-40C0-AFAB-FF82F9AD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191-467E-4E39-ACBE-E62424B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B7D-BAC7-45EB-AD33-0794A73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654-807A-47C8-B9EA-397310BD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FCE-EF6E-4E64-BB42-9A73720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9C3-79D9-4A80-8842-E1F1C4F9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E58-EFF7-48AD-A0C1-5BBE0E8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133E-F4D7-4E33-9F03-F42254C325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4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1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48:08Z</dcterms:created>
  <dc:creator>U Kyaw Naing</dc:creator>
  <dc:description/>
  <dc:language>en-US</dc:language>
  <cp:lastModifiedBy>U Kyaw Naing</cp:lastModifiedBy>
  <dcterms:modified xsi:type="dcterms:W3CDTF">2012-09-28T14:31:49Z</dcterms:modified>
  <cp:revision>2</cp:revision>
  <dc:subject/>
  <dc:title>Slide 1</dc:title>
</cp:coreProperties>
</file>