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698-01D6-4746-8CAD-08C32074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546-8605-47B8-ADE7-A426635E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5D5-66E2-4BA1-B493-9214A173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F69-17C7-4EB5-A5A6-F9B244B9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5E3-4060-4DB3-ADCC-140E0A2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8BB-72AE-41E3-88D3-9F8E8DE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F44-93D5-4BE9-80B4-23A2AEB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14F-8C61-4E8E-B90D-CCCA89AA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785-E264-4133-AB26-D72E4726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21B-C3E4-4657-8280-E46062EB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7A4-E12F-4462-8DC1-E7D4BFE5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F26-6F5D-49D8-976F-128B357E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D042-00C6-4C99-999B-40735F4F3D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8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4:07:26Z</dcterms:created>
  <dc:creator>U Kyaw Naing</dc:creator>
  <dc:description/>
  <dc:language>en-US</dc:language>
  <cp:lastModifiedBy>U Kyaw Naing</cp:lastModifiedBy>
  <dcterms:modified xsi:type="dcterms:W3CDTF">2012-09-28T14:09:36Z</dcterms:modified>
  <cp:revision>1</cp:revision>
  <dc:subject/>
  <dc:title>Slide 1</dc:title>
</cp:coreProperties>
</file>