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66A-65B4-4C3B-BBE0-893268E1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2E5-794F-483D-85D2-57CF17D4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E50-4DAB-4F52-820C-B5C23735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95B-1F66-4CFB-957E-FCD88A1D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09F2-2582-402B-B3E9-36812F48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300-6F4B-4C98-8ABC-1444B171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0781-60D5-474A-AF4F-0CDDC499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9D7-9E25-49E8-94E2-4FFA5EBD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D1CF-8B43-4904-87E6-FA7C3745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8D1-83EA-4249-8AD9-16E4D8C0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BDCD-7DA2-429C-BF0B-5316DCF3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60C-8713-47E6-AB5A-41E23170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BFCF-CC05-45AA-90C7-2D9634D1C1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8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37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1065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0:52:01Z</dcterms:created>
  <dc:creator>U Kyaw Naing</dc:creator>
  <dc:description/>
  <dc:language>en-US</dc:language>
  <cp:lastModifiedBy>U Kyaw Naing</cp:lastModifiedBy>
  <dcterms:modified xsi:type="dcterms:W3CDTF">2012-09-28T10:54:26Z</dcterms:modified>
  <cp:revision>1</cp:revision>
  <dc:subject/>
  <dc:title>Slide 1</dc:title>
</cp:coreProperties>
</file>