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C312-98F2-4CF5-BACE-6994C0405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A470-0949-4823-8D2F-2802D595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362F-00F3-4FF1-9C20-B34587F3F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10F9-D6F4-4E62-B89A-6441FFD53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1079-744F-4C08-82A6-6814615F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007D-93FC-4D8E-97B9-53BFB5BC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D662-1FCC-4F97-931F-0999AF06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8DD9-9305-47A5-B7AD-7C14C7CE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5594-20C0-4AE1-8569-3C47EEFB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47DE-CACD-4A94-A20D-0239C4D8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B00F-A33F-448A-9B92-5969BC2F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E1AA-52D7-4935-8B1D-2CFEC34C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7303-D786-4C9E-87CB-FE88B7B251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UNP00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423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912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3:48:08Z</dcterms:created>
  <dc:creator>U Kyaw Naing</dc:creator>
  <dc:description/>
  <dc:language>en-US</dc:language>
  <cp:lastModifiedBy>U Kyaw Naing</cp:lastModifiedBy>
  <dcterms:modified xsi:type="dcterms:W3CDTF">2012-09-28T13:53:17Z</dcterms:modified>
  <cp:revision>1</cp:revision>
  <dc:subject/>
  <dc:title>Slide 1</dc:title>
</cp:coreProperties>
</file>