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689-89A6-40D0-9710-3C846985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A4D-C363-4790-A8B6-77C6842F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0BD-6E61-4024-BCE3-8D033742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BEF-70B6-41B2-AE30-97B5054F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581-8545-4A3A-BAD8-F622BF58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392-734A-4BEC-A672-765C0FFA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BDC-7673-4C08-AB60-DA3D7EB1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E3F-7ECA-4D12-A097-C08AC53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EF0-D947-457F-9F2E-14650EDE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B2B-F046-4451-9B17-07A9E2D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1A5-EC33-404F-9BB3-2E817FFB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745-F60E-4441-98E0-0F15BDA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410-2B6D-4B32-8E55-72E27F652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7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56:38Z</dcterms:created>
  <dc:creator>U Kyaw Naing</dc:creator>
  <dc:description/>
  <dc:language>en-US</dc:language>
  <cp:lastModifiedBy>U Kyaw Naing</cp:lastModifiedBy>
  <dcterms:modified xsi:type="dcterms:W3CDTF">2012-09-28T13:57:52Z</dcterms:modified>
  <cp:revision>1</cp:revision>
  <dc:subject/>
  <dc:title>Slide 1</dc:title>
</cp:coreProperties>
</file>