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F425-BEF2-4729-8C4E-1DF8936C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9B51-60B4-458C-A47C-6E61552D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1E66-8A65-4E38-BD64-079C7698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9FC5-86F1-4EA8-A197-38C24CEC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4EA3-8875-4CB6-9156-74C478A1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BC19-178C-4AB2-9001-B4B4EAAE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DC25-766B-497A-A720-9F31E244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6C80-A3DA-4F1B-B041-5BCA25B5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3D10-FDB0-46A8-8E3A-8D88A31D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D153-64AA-47F7-ACDD-EED77E69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2427-8340-44A9-A7D5-555C2CB9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77B3-8CFE-4856-B5F4-5FF8933A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4F28-AD0C-40CE-AEE4-B4ECEE8856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34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8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79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1:01:12Z</dcterms:created>
  <dc:creator>U Kyaw Naing</dc:creator>
  <dc:description/>
  <dc:language>en-US</dc:language>
  <cp:lastModifiedBy>U Kyaw Naing</cp:lastModifiedBy>
  <dcterms:modified xsi:type="dcterms:W3CDTF">2012-09-28T11:01:57Z</dcterms:modified>
  <cp:revision>1</cp:revision>
  <dc:subject/>
  <dc:title>Slide 1</dc:title>
</cp:coreProperties>
</file>