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CC7-D5F7-4258-82BB-FC1C6435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E6C-AE73-4189-8474-168468D4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CBF-3750-4162-9112-8A18F0BE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C6D0-E352-4FDA-8F7A-C2F3DFAD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0C0-AF0B-42EC-9198-665E8D2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3CC-F065-415B-8E48-04F9668A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A4D-361B-4834-9A15-A95F4678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305-8305-4C1F-9B2D-637005D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545-967A-4716-9FB5-538C8C08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37B-0935-4269-BA8B-69DC505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402-BC40-4B15-96D5-F7C0EA60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394-FA9C-4117-9411-F4DFB53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88AE-952C-4A0E-8D83-17C10B286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7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7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6:35Z</dcterms:created>
  <dc:creator>U Kyaw Naing</dc:creator>
  <dc:description/>
  <dc:language>en-US</dc:language>
  <cp:lastModifiedBy>U Kyaw Naing</cp:lastModifiedBy>
  <dcterms:modified xsi:type="dcterms:W3CDTF">2012-09-28T10:58:25Z</dcterms:modified>
  <cp:revision>1</cp:revision>
  <dc:subject/>
  <dc:title>Slide 1</dc:title>
</cp:coreProperties>
</file>