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845-C866-4622-8FAD-A2C439E4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512-EB5D-4DE9-8F07-ED88692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BB6-8765-47F7-94AC-A6EDDDD5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33F-0D70-47B5-97BD-10985FFE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CCA-CBE2-458E-93BA-E2893CC7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C4D-7D6D-4058-B996-C8888202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29D-AC15-412F-AFBB-A22B1A6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66C-F7F0-45DC-ACC7-88FB30CC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F33-E155-4582-AD9D-C3FC9A47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10B-65CF-4E61-9DD5-1AF79F34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691-52C3-4AE2-8E00-1A61F245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A97-2CE5-4A41-BC3C-7AE5A37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F72A-64B0-44D4-ABEE-933B61FA79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3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76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2:54Z</dcterms:created>
  <dc:creator>U Kyaw Naing</dc:creator>
  <dc:description/>
  <dc:language>en-US</dc:language>
  <cp:lastModifiedBy>U Kyaw Naing</cp:lastModifiedBy>
  <dcterms:modified xsi:type="dcterms:W3CDTF">2012-09-28T11:04:02Z</dcterms:modified>
  <cp:revision>1</cp:revision>
  <dc:subject/>
  <dc:title>Slide 1</dc:title>
</cp:coreProperties>
</file>