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E271-E94E-4D8A-BFA2-B99B7A40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029-E9CA-46EF-8EF1-43444FE3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187-0A18-48EA-A8F5-A5E253C5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BD0-6A3E-4EB5-B5BB-01B6141B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88B-8B00-4B77-ABA1-3D2B0983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78A4-05FD-4999-B459-AE93A7B9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918-0EFD-417B-B620-B7DB0B3C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D4E-9601-457F-90F4-A3C8C43C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04C-6FE3-40EA-8DBB-54C688F0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0F4-0302-4976-8C86-7763C529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350-49BE-453E-A575-DFC32A62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4BF-2A07-4B8E-9BD0-D50E5561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62E4-60B6-41B2-B6FB-F776D58433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2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4:42:00Z</dcterms:created>
  <dc:creator>U Kyaw Naing</dc:creator>
  <dc:description/>
  <dc:language>en-US</dc:language>
  <cp:lastModifiedBy>U Kyaw Naing</cp:lastModifiedBy>
  <dcterms:modified xsi:type="dcterms:W3CDTF">2012-10-02T04:43:14Z</dcterms:modified>
  <cp:revision>2</cp:revision>
  <dc:subject/>
  <dc:title>Slide 1</dc:title>
</cp:coreProperties>
</file>