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3D0-B946-473C-851F-4CC1AD408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CFC-EFA9-4F33-AC96-32B069F5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2F5-735D-42BF-89AD-D1E6DF15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6AA-2FB6-4172-8E69-176AB44C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7CA-E870-46FF-A45B-9480C462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806-D5BC-4F7D-8309-03738A4A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AEF-CDD4-449E-A0F4-1B8A5960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C11-D455-4918-A46B-E0A94952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B06-A2B2-407A-A5A2-0884F90A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C28-275A-4A6B-8BA5-85C31AF9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A89-6B29-4B24-8511-45E1082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BFA-A736-486A-9555-8BCEE1B6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EEF3-CD6B-4C1B-9545-C6701B5788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01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4:35:14Z</dcterms:created>
  <dc:creator>U Kyaw Naing</dc:creator>
  <dc:description/>
  <dc:language>en-US</dc:language>
  <cp:lastModifiedBy>U Kyaw Naing</cp:lastModifiedBy>
  <dcterms:modified xsi:type="dcterms:W3CDTF">2012-10-02T04:36:30Z</dcterms:modified>
  <cp:revision>1</cp:revision>
  <dc:subject/>
  <dc:title>Slide 1</dc:title>
</cp:coreProperties>
</file>