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225B-A05C-431E-B13F-E9D5F48D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17E-8C9E-4ECA-B055-DC8EA387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E21-1676-4D26-8171-FFF9F1DC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96D-CCBB-4D4A-9211-7B6F44A8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266-B7BD-4856-B6D2-47FCA8F3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B12-9F23-4E6B-BCF9-B1CFA073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576-9AD9-4465-874B-E4BB29E6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EEC-B7D8-4671-B948-48B7404C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4F5-DA99-440E-A6E0-54689E75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043-CA3A-4609-AA8C-4F9ABD6C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C00-4822-4708-A984-0B1E5B03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99B-34F4-470A-A61B-D1118BF8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BAF9-1CD0-4AE8-A292-C6BD6AD6E3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2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68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4:39:42Z</dcterms:created>
  <dc:creator>U Kyaw Naing</dc:creator>
  <dc:description/>
  <dc:language>en-US</dc:language>
  <cp:lastModifiedBy>U Kyaw Naing</cp:lastModifiedBy>
  <dcterms:modified xsi:type="dcterms:W3CDTF">2012-10-02T04:41:25Z</dcterms:modified>
  <cp:revision>1</cp:revision>
  <dc:subject/>
  <dc:title>Slide 1</dc:title>
</cp:coreProperties>
</file>