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4D4-D004-4923-81E9-F7D9E709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3CF-6857-4D38-9D41-09F5FE23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EE7-DA35-42F0-967E-BDBD0343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9BB-4974-4EC4-8727-BF8FC91E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2E1-406F-4227-945E-E8FC82BA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FE8-68D6-43DA-99C3-5369884F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0745-6AB0-4255-8CAB-BFA145BC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059-3DD2-4D64-9846-6E41D007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F27-F5B5-41F8-962B-93157F9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D2A-80C3-4D52-991F-7558DF8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D00-9461-4382-AEC9-ABCC882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9EA-A863-410F-8121-295EA69E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FBF7-3BDE-4633-B9BD-08CDF294BC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7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136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4:33Z</dcterms:created>
  <dc:creator>U Kyaw Naing</dc:creator>
  <dc:description/>
  <dc:language>en-US</dc:language>
  <cp:lastModifiedBy>U Kyaw Naing</cp:lastModifiedBy>
  <dcterms:modified xsi:type="dcterms:W3CDTF">2012-09-28T10:55:50Z</dcterms:modified>
  <cp:revision>1</cp:revision>
  <dc:subject/>
  <dc:title>Slide 1</dc:title>
</cp:coreProperties>
</file>