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CD1D-4A7D-4A58-BAB3-365C89849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293E-477D-43B6-A38B-69182F2C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32C0-E511-4646-B44D-4C7783A6F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88B5-47AD-4961-9B4D-F3000DBB1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8D7D-7733-4F79-8F09-CFA6F66C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3267-72CB-40B0-B011-081C76AC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9C54-6429-4017-B488-A6F0A8F8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5F2F-3204-4DE4-A82B-45F799F2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8EB3-ACED-4FE6-BF8F-8A949D8F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4C57-A024-43B6-A854-DEBF1411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8FBF-7F68-4A9A-AB90-695FE4D1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12D7-F721-48F4-B4FC-22F9E705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523F-08BB-40F4-ADE3-1295D13439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22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76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5020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0:55:57Z</dcterms:created>
  <dc:creator>U Kyaw Naing</dc:creator>
  <dc:description/>
  <dc:language>en-US</dc:language>
  <cp:lastModifiedBy>U Kyaw Naing</cp:lastModifiedBy>
  <dcterms:modified xsi:type="dcterms:W3CDTF">2012-09-28T10:56:29Z</dcterms:modified>
  <cp:revision>1</cp:revision>
  <dc:subject/>
  <dc:title>Slide 1</dc:title>
</cp:coreProperties>
</file>