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403-8AE3-4517-AE35-1A7FFDE5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01E-7097-4189-AD8D-C52D788A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D0E-462F-4DC4-A740-CDC51001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084-CB7E-41FD-9A4A-FD06541F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DE4-1A85-4F6D-AA72-F9E63351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A04-2414-41E0-A822-299C9588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2CF-03D7-49CF-AA22-7507885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B0F-34E8-4386-A32A-E14E68E3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CF2-B592-4848-B34E-399792CC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0C0-423E-4257-9A88-A435C9C5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B6B-C351-49A5-8708-B61A5580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1C5-B9FC-43BA-B2FF-BC0ED4ED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312-1C42-4ABD-A2BD-71BF2A78A6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97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4:33Z</dcterms:created>
  <dc:creator>U Kyaw Naing</dc:creator>
  <dc:description/>
  <dc:language>en-US</dc:language>
  <cp:lastModifiedBy>U Kyaw Naing</cp:lastModifiedBy>
  <dcterms:modified xsi:type="dcterms:W3CDTF">2012-09-28T11:15:35Z</dcterms:modified>
  <cp:revision>1</cp:revision>
  <dc:subject/>
  <dc:title>Slide 1</dc:title>
</cp:coreProperties>
</file>