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E49-22D0-4FBE-A57C-69AD6D1D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330-4A27-421D-9113-52652A76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591-C979-4AE1-A1E4-A20DE1B8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FE0-2337-4650-81FD-E92802CD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94E-8942-4C4A-81AE-DA90634F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F60-35BA-44E5-B948-7708B8C8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14A-9405-4AFA-9D95-65E6B49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22D-DD41-44C1-9489-F4BE881F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C36-83C0-4083-8D23-E333F28E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CAD-7C06-4F17-A65A-51F558E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CE0-8FB4-463A-A5E7-8E1F49F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FE8-0220-41D0-9E4F-430604A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78FA-197B-4A1C-AA0A-DBB2BD4D7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6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20:09Z</dcterms:created>
  <dc:creator>U Kyaw Naing</dc:creator>
  <dc:description/>
  <dc:language>en-US</dc:language>
  <cp:lastModifiedBy>U Kyaw Naing</cp:lastModifiedBy>
  <dcterms:modified xsi:type="dcterms:W3CDTF">2012-09-28T11:20:49Z</dcterms:modified>
  <cp:revision>1</cp:revision>
  <dc:subject/>
  <dc:title>Slide 1</dc:title>
</cp:coreProperties>
</file>