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AE4B-A718-42F0-98DE-24F03A6BB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318C-D0C7-4D65-8EAC-8C4D78DEC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1BF0-3A8B-4625-97FB-F6BCE91EA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4B81-CC27-4FB9-9192-8EE837DDB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2EE8-04CF-40D4-9613-8526E84E7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E422-746B-47E0-821B-803E3B2E5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1F9A-8E97-4CB3-A732-91373D659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AF40-88DE-4DCF-9897-8328181CA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47E1-3456-4DB8-903F-AF74CDAB5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559E-3283-4BE5-8AFD-56B9E889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87B0-99D7-417C-9C39-2D309E52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33A6-71A1-4D7E-AF16-E92331FF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12147-F248-4BC7-9EA6-632324D2FB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401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142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8T11:17:35Z</dcterms:created>
  <dc:creator>U Kyaw Naing</dc:creator>
  <dc:description/>
  <dc:language>en-US</dc:language>
  <cp:lastModifiedBy>U Kyaw Naing</cp:lastModifiedBy>
  <dcterms:modified xsi:type="dcterms:W3CDTF">2012-09-28T11:18:34Z</dcterms:modified>
  <cp:revision>1</cp:revision>
  <dc:subject/>
  <dc:title>Slide 1</dc:title>
</cp:coreProperties>
</file>