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7D6-4E74-48EA-A2B7-9C0EDF0F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0BF-441B-41CD-8B15-6EC50003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99D-E7B5-417C-B083-74E2359B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6E7-F433-4473-B911-49A0E46A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BD1-010F-4A87-9496-05E38CF5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C05-FFDC-45B6-ACFB-0DCB5DA0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093-62A2-40C5-99A7-71E05D70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858-486F-44D6-A9AD-2D0886D4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BCD-4AA3-4D20-9934-E801A408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B54-A594-4A0C-9F33-7DF0C01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5CE-B5AA-40DF-9CC9-D8A09BD2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E07-EE4D-42DE-B376-1C937FF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9B72-5D23-457D-BB76-4912AFB9F4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0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65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8:47Z</dcterms:created>
  <dc:creator>U Kyaw Naing</dc:creator>
  <dc:description/>
  <dc:language>en-US</dc:language>
  <cp:lastModifiedBy>U Kyaw Naing</cp:lastModifiedBy>
  <dcterms:modified xsi:type="dcterms:W3CDTF">2012-09-28T11:20:00Z</dcterms:modified>
  <cp:revision>1</cp:revision>
  <dc:subject/>
  <dc:title>Slide 1</dc:title>
</cp:coreProperties>
</file>