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847-3655-45E3-9EAC-BACA3458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0EC-1E88-4EBC-88DE-676EEB3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C19-862F-462C-8B60-89CFD93C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4C9-C3B6-475E-8FCD-DCF74FB9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226-8BB8-4DB8-A2B4-F1110DC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115-85E0-41D1-AF7F-DBD4C568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C00-3246-465F-95FF-D16E830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4DA-742B-4040-9F9A-DB1D567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21D-A26F-43CD-80CE-31F3664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24B-314B-42AC-811D-0EDF447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99D-26DE-4E52-8CB6-12E0661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973-1501-4527-8DDF-2CCBC02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307-0E1D-4A38-ACC0-6AE110C93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4:52Z</dcterms:created>
  <dc:creator>U Kyaw Naing</dc:creator>
  <dc:description/>
  <dc:language>en-US</dc:language>
  <cp:lastModifiedBy>U Kyaw Naing</cp:lastModifiedBy>
  <dcterms:modified xsi:type="dcterms:W3CDTF">2012-09-28T11:06:21Z</dcterms:modified>
  <cp:revision>1</cp:revision>
  <dc:subject/>
  <dc:title>Slide 1</dc:title>
</cp:coreProperties>
</file>