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FCF-273A-40FA-AE68-B94F611D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56D-03CA-4CB4-AC26-DA4E96F3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940-226F-4D13-A94F-23F580CE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DB9-29D1-4B25-AFF0-FE028B53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058-EF9D-494D-B149-FA14B15A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36B-1C9D-4DCC-AC3D-CB778D7F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3F7-7859-4243-93EA-C12731B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EAA-7AB2-49C6-88E1-043BB148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AB6-3AEC-4E0F-B2FC-686B5D1D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0CF-B73A-4BEB-BABD-0CF8B37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0C4-73A8-4C1C-ADCD-8DD7061B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AA6-334C-4BC7-B817-0923149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059F-061A-4339-A86A-167D974B32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9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0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7:17Z</dcterms:created>
  <dc:creator>U Kyaw Naing</dc:creator>
  <dc:description/>
  <dc:language>en-US</dc:language>
  <cp:lastModifiedBy>U Kyaw Naing</cp:lastModifiedBy>
  <dcterms:modified xsi:type="dcterms:W3CDTF">2012-09-28T11:08:13Z</dcterms:modified>
  <cp:revision>1</cp:revision>
  <dc:subject/>
  <dc:title>Slide 1</dc:title>
</cp:coreProperties>
</file>