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4E8C-B206-4C80-87C7-B2EC4A3B8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CBCB-17CD-4ED7-9C31-05891076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45B8-1B87-453A-AFA5-11ADD59FC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CC76-8217-477A-B698-97209A781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BC4B-35C1-45B6-84B1-B8FC36F3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9742-9EA9-4B92-9180-C35CE0FF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E849-CC76-4A55-B89E-94E248E3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BF2D-2854-4B9B-BA8B-ED99CC14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5C01-3F4F-4AAA-8B6D-D671FAC4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AC6C-3D9C-4B27-93DC-7B91F31E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0983-D8FF-4C81-8766-059CE9A7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722F-96B5-4306-8CC7-54A7D41A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2723-0EBC-42B9-8401-98162620D5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98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718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1:12:51Z</dcterms:created>
  <dc:creator>U Kyaw Naing</dc:creator>
  <dc:description/>
  <dc:language>en-US</dc:language>
  <cp:lastModifiedBy>U Kyaw Naing</cp:lastModifiedBy>
  <dcterms:modified xsi:type="dcterms:W3CDTF">2012-09-28T11:14:15Z</dcterms:modified>
  <cp:revision>1</cp:revision>
  <dc:subject/>
  <dc:title>Slide 1</dc:title>
</cp:coreProperties>
</file>