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C1E-240F-4913-9043-3FEE2FA2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C47-3E4F-4B26-B6F4-55707690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4B0-0452-443D-A18C-1609E682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FF3-B3B0-4449-982D-35AF80C2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553-3D7E-4177-BE7C-6F968EE3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BB4-9361-49D1-9B16-3417B6A2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6DF-D67B-4702-B466-37324372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E4C-7D94-4169-86CB-87DFCACF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DC7-55BB-4482-A4ED-7B0ADBA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48E-D00D-44C6-A34E-4FF916F3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7C2-E52B-4470-96F9-575CA539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5C0-0F64-4D13-8D79-32AF3E0D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62B4-370C-4183-86E3-54444CB273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21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1:02Z</dcterms:created>
  <dc:creator>U Kyaw Naing</dc:creator>
  <dc:description/>
  <dc:language>en-US</dc:language>
  <cp:lastModifiedBy>U Kyaw Naing</cp:lastModifiedBy>
  <dcterms:modified xsi:type="dcterms:W3CDTF">2012-09-28T11:12:35Z</dcterms:modified>
  <cp:revision>1</cp:revision>
  <dc:subject/>
  <dc:title>Slide 1</dc:title>
</cp:coreProperties>
</file>