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969-F661-46DF-8303-E85F2ACA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4BA-B753-44C0-A041-5155AB7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7CF-1AE6-445B-8866-2A661FBB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FF9-38B0-4EC7-8EE4-DEF32A18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B10-9454-4184-8543-07966EE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FA0-C425-4E7E-A710-B151A614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6C8-4D76-4FF9-B85E-96BE7D4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479-3D69-45C8-A972-4C54668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2CD-3F8D-4D22-9DAA-2282E1B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1EC-619B-4A9D-9741-BAD7AAB6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0A3-C01B-4D9F-AB8E-35AC881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09D-43A5-4B8D-8401-FE41FB2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B01F-C278-48D6-976B-3BB09FB9E6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4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8:21Z</dcterms:created>
  <dc:creator>U Kyaw Naing</dc:creator>
  <dc:description/>
  <dc:language>en-US</dc:language>
  <cp:lastModifiedBy>U Kyaw Naing</cp:lastModifiedBy>
  <dcterms:modified xsi:type="dcterms:W3CDTF">2012-09-28T11:09:26Z</dcterms:modified>
  <cp:revision>1</cp:revision>
  <dc:subject/>
  <dc:title>Slide 1</dc:title>
</cp:coreProperties>
</file>