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77E-F736-4C30-A9C9-9B13E1DB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705-A993-4F84-B8D9-A0E0F9A9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6DB-377D-4871-B3C7-53F6B193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FE8-D907-42B9-B67E-8940960E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487-4B66-4711-AF71-8F7ABC82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BFC-DFAC-4EA7-BFDB-D5C5F2F3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BAF-7794-41B2-91A9-00BF933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F9D-F931-4A35-B144-1633F53F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21B-C400-4954-BCAA-68128F38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471-A035-4736-BF5E-9A5ADEF9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657-27EE-45DC-B60B-30851437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44D-4EBB-4F41-83F5-A01733C1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DD2C-A9C1-4AE7-9036-0969EA11C6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0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6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20:09Z</dcterms:created>
  <dc:creator>U Kyaw Naing</dc:creator>
  <dc:description/>
  <dc:language>en-US</dc:language>
  <cp:lastModifiedBy>U Kyaw Naing</cp:lastModifiedBy>
  <dcterms:modified xsi:type="dcterms:W3CDTF">2012-09-28T11:20:49Z</dcterms:modified>
  <cp:revision>1</cp:revision>
  <dc:subject/>
  <dc:title>Slide 1</dc:title>
</cp:coreProperties>
</file>