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B17-1865-4140-BB8F-87F323B1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37CF-63C0-4910-8CB3-838012C6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D773-AFE9-47B8-A985-F980951B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952F-F1D5-4E02-8351-DCFAFC44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D115-27B9-4625-9512-9C14C5A0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FC9-A82E-406F-A057-4BD458AA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7760-7677-4760-8B22-7E6A14A4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F35-D3D5-433E-9FF3-287EB184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4DD-A407-4687-876E-085649AA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CF46-F876-4D2B-9759-C1F16A5F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BBC-B196-4892-A277-2B2AE03A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888-2032-47A9-B78B-27F0D4B0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B62D-4ED6-49B7-9099-DBA55E95C8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40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65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18:47Z</dcterms:created>
  <dc:creator>U Kyaw Naing</dc:creator>
  <dc:description/>
  <dc:language>en-US</dc:language>
  <cp:lastModifiedBy>U Kyaw Naing</cp:lastModifiedBy>
  <dcterms:modified xsi:type="dcterms:W3CDTF">2012-09-28T11:20:00Z</dcterms:modified>
  <cp:revision>1</cp:revision>
  <dc:subject/>
  <dc:title>Slide 1</dc:title>
</cp:coreProperties>
</file>