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99A-E412-46AA-AEC0-C4BDE42E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A70-0FF5-45EB-8AFC-A87AE01D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A73-69CA-44C1-9418-057CCEC5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C36-BBE3-4EFE-91E1-F2C848A3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542-9141-477A-8F69-97D8E101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BAB-00D6-4137-BDB9-E798A12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093-7C39-47CE-9075-6347DC77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9E7-ED5F-48E0-86E1-1F6A3196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30C-1A8C-453B-8075-A3A2314F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B5F-E2A3-40D1-A1EF-E8CE3BD2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044-D528-4F95-B822-003DD0E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86B-81C8-415D-8AEB-5EB040B4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96DD-50D3-4A1B-96A9-4283D03C2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0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7:17Z</dcterms:created>
  <dc:creator>U Kyaw Naing</dc:creator>
  <dc:description/>
  <dc:language>en-US</dc:language>
  <cp:lastModifiedBy>U Kyaw Naing</cp:lastModifiedBy>
  <dcterms:modified xsi:type="dcterms:W3CDTF">2012-09-28T11:08:13Z</dcterms:modified>
  <cp:revision>1</cp:revision>
  <dc:subject/>
  <dc:title>Slide 1</dc:title>
</cp:coreProperties>
</file>