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3AC-060A-4485-BE36-45AB7B19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989-67F0-4CB2-A050-3E7BA6C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59A-B9F5-4CB3-AEB6-1187765D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1DC-1F73-4FCC-BF33-E982DEBC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B6C-77C0-4BBE-B597-E8F43874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EE1-66B1-4F47-9B68-581F0360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837-A90E-4AC8-9BEB-322E441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6AA-7619-4ACC-97D8-66B4965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90B-8BEC-49BE-A09F-1D5F140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993-3F65-4719-8859-A293741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F12-DC50-4348-9CEE-C6DE67DF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8B3-0A97-43CB-B57C-3B84085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6CB0-1752-48FF-A6ED-A8EA4254C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6:33Z</dcterms:created>
  <dc:creator>U Kyaw Naing</dc:creator>
  <dc:description/>
  <dc:language>en-US</dc:language>
  <cp:lastModifiedBy>U Kyaw Naing</cp:lastModifiedBy>
  <dcterms:modified xsi:type="dcterms:W3CDTF">2012-09-28T11:07:11Z</dcterms:modified>
  <cp:revision>1</cp:revision>
  <dc:subject/>
  <dc:title>Slide 1</dc:title>
</cp:coreProperties>
</file>