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FEF-D1C1-435A-90B3-E7EACA60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085-D160-4707-9712-A9FF84DB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4361-1586-45D9-9B80-366ADE93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F0A-E555-4F9A-A902-C6F63E6C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EC5-D2A1-4718-8083-AB7EF0FF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B1E-96C2-4DBC-BFD3-716A1A49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FA8-6390-44DB-9A2E-ACF116EA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B87-D772-4D5B-9753-E105ADBB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0E8-2DAD-45AD-B086-9199DF27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420-E9D8-4400-898E-F74C173C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883-831B-4B85-AD73-40C26895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B88-0A2E-4F0F-BDA6-1092A94D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DB42-BB09-443A-BC62-6E9A777DFC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9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4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09:39Z</dcterms:created>
  <dc:creator>U Kyaw Naing</dc:creator>
  <dc:description/>
  <dc:language>en-US</dc:language>
  <cp:lastModifiedBy>U Kyaw Naing</cp:lastModifiedBy>
  <dcterms:modified xsi:type="dcterms:W3CDTF">2012-09-28T11:10:40Z</dcterms:modified>
  <cp:revision>1</cp:revision>
  <dc:subject/>
  <dc:title>Slide 1</dc:title>
</cp:coreProperties>
</file>