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A4D0-3A46-4AC8-BBEB-A6901824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E0CB-35A6-4078-9AF1-FCD2FAE5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6C2F-7701-42D3-9112-0625734CE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59A0-6E56-4C5E-9706-E977631E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8035-BB4A-484D-A162-10E83944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B0DA-2E04-4887-95AF-105DF9F5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245C-FAB0-4878-ABCC-2520EE45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DC3D-FAE9-4893-B879-478283EE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F50C-0DE7-4B77-8113-F7D1C418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F737-3491-40FD-9CDF-8E978F39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229-6B4D-4156-851A-EFDB408D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E54-D896-4D79-ACEB-F6D4A510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13E4-42BC-4AB7-B923-04DB422ED8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8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587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1:04:52Z</dcterms:created>
  <dc:creator>U Kyaw Naing</dc:creator>
  <dc:description/>
  <dc:language>en-US</dc:language>
  <cp:lastModifiedBy>U Kyaw Naing</cp:lastModifiedBy>
  <dcterms:modified xsi:type="dcterms:W3CDTF">2012-09-28T11:06:21Z</dcterms:modified>
  <cp:revision>1</cp:revision>
  <dc:subject/>
  <dc:title>Slide 1</dc:title>
</cp:coreProperties>
</file>