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F08-F5C9-4126-9521-7AF9D6D4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459-CB16-4F4F-BAC2-F036B180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019-D2D0-4C20-B7C7-AC89A52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C33-DACA-4AE3-9DBC-F667CAF3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9BA-AFE5-43E4-82A0-819E2D3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986-343F-4768-8B4F-B0FBC16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DDB-0805-4F83-B989-F590871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75E-D778-4E8D-B8F6-BC023FD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3C5-EA08-4A6B-911F-D57D159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74C-B533-4728-AF7C-55FC39F2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543-951F-4162-83BC-22EAAB1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FF6-25AE-4C52-A80F-22382E8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856-14B5-42E1-AA69-850BCE83B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5:51Z</dcterms:created>
  <dc:creator>U Kyaw Naing</dc:creator>
  <dc:description/>
  <dc:language>en-US</dc:language>
  <cp:lastModifiedBy>U Kyaw Naing</cp:lastModifiedBy>
  <dcterms:modified xsi:type="dcterms:W3CDTF">2012-09-28T11:17:15Z</dcterms:modified>
  <cp:revision>1</cp:revision>
  <dc:subject/>
  <dc:title>Slide 1</dc:title>
</cp:coreProperties>
</file>