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4E1-FF30-4C2E-ADD2-6BBE1139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705-C5AF-406C-9D95-3AE8F029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052-58EF-446F-8EAB-C51CFA61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8D1-8E63-45E4-9EBB-D5AB7DFF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E40-C96B-4F2C-8FD3-1B3340A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B1E-989E-43A7-A1B7-9E54ACE6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DFB-711C-44BB-9A34-9D41DA78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8A6-2AC7-4519-8D14-503EAE0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AC5-63F4-4AEB-85FA-0048D17B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7EF-7BA7-4060-9AE4-330A47E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9E7-ABE1-4791-A317-F0D4808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E42-9D5C-415E-9515-6745EE3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A3B-AEA1-4525-A4A8-9362DB6DD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22:41Z</dcterms:created>
  <dc:creator>U Kyaw Naing</dc:creator>
  <dc:description/>
  <dc:language>en-US</dc:language>
  <cp:lastModifiedBy>U Kyaw Naing</cp:lastModifiedBy>
  <dcterms:modified xsi:type="dcterms:W3CDTF">2012-09-28T11:25:08Z</dcterms:modified>
  <cp:revision>1</cp:revision>
  <dc:subject/>
  <dc:title>Slide 1</dc:title>
</cp:coreProperties>
</file>