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512-7E67-4571-ADAE-58F2389A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8C3-3A22-4063-8DAD-840C6D47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23C-15C8-44EE-9D7A-BC2025FA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BB9-4A00-43B2-934B-EF91E319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8C1-44BF-42E2-977F-E0537FF7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800-A03C-4023-96D6-ED4068BB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2F5-CCC3-47FD-AD30-386B8132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5DA-87B9-4758-B4D8-790FC9FB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9F1-3687-4492-BDD9-991BCB45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CE9A-0687-4D32-B12A-750B7CDE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B77-EACC-4989-B3C9-0211A120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854-559A-4A5B-9CA4-2CEE11E2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9230-7CAF-4D11-8FB2-4537E108C3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9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21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11:02Z</dcterms:created>
  <dc:creator>U Kyaw Naing</dc:creator>
  <dc:description/>
  <dc:language>en-US</dc:language>
  <cp:lastModifiedBy>U Kyaw Naing</cp:lastModifiedBy>
  <dcterms:modified xsi:type="dcterms:W3CDTF">2012-09-28T11:12:35Z</dcterms:modified>
  <cp:revision>1</cp:revision>
  <dc:subject/>
  <dc:title>Slide 1</dc:title>
</cp:coreProperties>
</file>