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4A2-A9B1-446E-9CC3-CF870CAD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9F4-C782-4350-9D7E-1B7A1825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A36-69BC-4927-9614-63765CAA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DF4-DCD5-4922-B7EB-396C5EEA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64F-7411-475E-A6F9-95D2BDB5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55B-2AFB-4B0F-9D68-F106D80E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AC2-FEE9-4ED0-B477-44A8217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213-E24A-40C6-B86B-D113346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E72-51B1-4D21-B859-5CDD0B18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421-A7F4-48BE-B9A9-E0CD05B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835-8092-4905-B27B-B984628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E4C-21B7-4A90-94E4-9A551F7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1A04-1A91-4776-B798-F499530E67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9:39Z</dcterms:created>
  <dc:creator>U Kyaw Naing</dc:creator>
  <dc:description/>
  <dc:language>en-US</dc:language>
  <cp:lastModifiedBy>U Kyaw Naing</cp:lastModifiedBy>
  <dcterms:modified xsi:type="dcterms:W3CDTF">2012-09-28T11:10:40Z</dcterms:modified>
  <cp:revision>1</cp:revision>
  <dc:subject/>
  <dc:title>Slide 1</dc:title>
</cp:coreProperties>
</file>