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71DC-E5ED-46C3-8BC9-D3CBA7EF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DE9-542F-466E-A28E-12E6C569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1EB6-FA5F-43FC-ACF1-09D1A6BB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F54-A0B1-4D1B-87FB-92546260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91D-7C71-40B7-9C67-67D39FDB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63B-E79E-4CDD-8ABA-AAFBBFEC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E48D-8CC1-4E26-93B7-6E2A4D31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E47-6626-4CA4-A6D7-7D93F752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B58E-03EB-4DF5-BBAC-CA253B7D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874C-0891-4FAC-A5DB-EBEC5B57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684-156B-4DE4-BE12-C40E2080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CCE-BFE2-44D4-9AFF-4DD3D11B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87F5-9E04-44E9-936C-49DD1A2C64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9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97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14:33Z</dcterms:created>
  <dc:creator>U Kyaw Naing</dc:creator>
  <dc:description/>
  <dc:language>en-US</dc:language>
  <cp:lastModifiedBy>U Kyaw Naing</cp:lastModifiedBy>
  <dcterms:modified xsi:type="dcterms:W3CDTF">2012-09-28T11:15:35Z</dcterms:modified>
  <cp:revision>1</cp:revision>
  <dc:subject/>
  <dc:title>Slide 1</dc:title>
</cp:coreProperties>
</file>