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EA3-16C1-4AF1-9989-0E9B9E5F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A6D-53E7-42D6-8A65-AE50053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ACA-79DF-46FC-9A47-E26F30A7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23D-DB56-48C8-804E-8B21C575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3C5-B408-431F-AB25-9D0C9D0A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023-6AD8-4841-9D5F-BFBBAE9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BE3-990A-4F05-AB28-7CB8F2B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5D5-E5B2-4502-AF2D-BC8713B6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D91-F752-4134-B6D1-AD556EC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F98-6395-4B82-8662-01424CD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1D9-A667-4C9A-8E7E-C4588DB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27F-5927-4143-8856-2F72D0A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9F9-166B-42A6-8630-C29151449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7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2:51Z</dcterms:created>
  <dc:creator>U Kyaw Naing</dc:creator>
  <dc:description/>
  <dc:language>en-US</dc:language>
  <cp:lastModifiedBy>U Kyaw Naing</cp:lastModifiedBy>
  <dcterms:modified xsi:type="dcterms:W3CDTF">2012-09-28T11:14:15Z</dcterms:modified>
  <cp:revision>1</cp:revision>
  <dc:subject/>
  <dc:title>Slide 1</dc:title>
</cp:coreProperties>
</file>