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9CF-E769-421C-8C45-0E7671B8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A47-911B-4471-AAD8-00B643AB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416-DC7B-4155-B9B6-BC3C81FF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5F7-A7A4-4664-8D04-67DE1C32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C97-B390-4FF5-A187-B172C0EE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26E-265A-4A8E-AB88-A88CD2E3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08A-8EDD-49A2-A9F1-14FA784F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E58-3461-4443-A0B6-9F8583D5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BF2-0435-45CF-95F2-4928A0FE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7DD8-61F2-4537-99AD-116968A0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7D3-8FA8-4153-A14D-8C32570C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0BE-F2B4-423B-8585-21E9A42D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6E67-40FE-4691-8381-03E9365C89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8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3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06:33Z</dcterms:created>
  <dc:creator>U Kyaw Naing</dc:creator>
  <dc:description/>
  <dc:language>en-US</dc:language>
  <cp:lastModifiedBy>U Kyaw Naing</cp:lastModifiedBy>
  <dcterms:modified xsi:type="dcterms:W3CDTF">2012-09-28T11:07:11Z</dcterms:modified>
  <cp:revision>1</cp:revision>
  <dc:subject/>
  <dc:title>Slide 1</dc:title>
</cp:coreProperties>
</file>