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DBAE-5785-4632-B628-20C585709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396A-91C1-4B61-9F8B-20FB17CFF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B2D0-EA8F-43AD-B315-6D6ED2B17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9531-A510-4306-A139-123761327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3A07-E10D-4013-9203-F5E48FF3C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A410-6054-4659-9C52-D504095D3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90FA-7707-4AE5-9E3E-81B47D580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CE54-9CFE-4121-B0E1-9A6B3571C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FB3E-D63E-4F5A-B00B-1C85BF5B5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9DB1-9884-4CB6-AC0B-047D12BF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B48B-9F22-4730-A357-1FFEFDF7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49BB-B20B-432B-A1BC-DA3B6F91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92C4E-12CB-42C8-8522-21C7D82D3D0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401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3142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8T11:17:35Z</dcterms:created>
  <dc:creator>U Kyaw Naing</dc:creator>
  <dc:description/>
  <dc:language>en-US</dc:language>
  <cp:lastModifiedBy>U Kyaw Naing</cp:lastModifiedBy>
  <dcterms:modified xsi:type="dcterms:W3CDTF">2012-09-28T11:18:34Z</dcterms:modified>
  <cp:revision>1</cp:revision>
  <dc:subject/>
  <dc:title>Slide 1</dc:title>
</cp:coreProperties>
</file>