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660-8DEC-4C04-9FCA-F1B03D39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ECDB-5BE1-445C-966C-72850DB4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ACA-D65F-4AE7-AC6D-9E4E48B6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357C-73F3-4009-B948-2E69449B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535-24F5-4BDE-8C97-E74AA709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3F0B-4BA5-43AE-B8BA-0116BD9E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E82-A997-4E71-A54A-ABE86126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DA4-C9E0-43EA-96DE-F76D3136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32B7-5A26-4B6E-AAB9-B16262E9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7B6-4278-490D-AA6D-BD2CF229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F786-B96F-4638-BB2F-560D2923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9055-483F-4BF2-8B1B-51DFA707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E9BA-2D2A-4D4D-A1B2-FC2A86AC51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40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4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15:51Z</dcterms:created>
  <dc:creator>U Kyaw Naing</dc:creator>
  <dc:description/>
  <dc:language>en-US</dc:language>
  <cp:lastModifiedBy>U Kyaw Naing</cp:lastModifiedBy>
  <dcterms:modified xsi:type="dcterms:W3CDTF">2012-09-28T11:17:15Z</dcterms:modified>
  <cp:revision>1</cp:revision>
  <dc:subject/>
  <dc:title>Slide 1</dc:title>
</cp:coreProperties>
</file>