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538-86A0-4178-86C1-C358008A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986-6F35-4EA8-B7D4-F69C6546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F06-48C7-4BDC-B497-01B8918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03E-E9DD-4D8A-BDCA-42C40C40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440-16CA-42E9-AABA-26E9271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836-F39A-44AA-B4FE-A133D509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C13-8FEB-424F-A1B6-1FC9811B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864-7F8E-43C1-940E-841395D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C19-AE64-442D-9D41-569685F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2F4-2B58-49FE-A40E-19337FB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D17-B71F-427B-90E3-2B36DC1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FFC-7174-4E99-90D3-FBF2BFB4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099-A0DA-45D4-9E5F-62B225C4B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4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8:21Z</dcterms:created>
  <dc:creator>U Kyaw Naing</dc:creator>
  <dc:description/>
  <dc:language>en-US</dc:language>
  <cp:lastModifiedBy>U Kyaw Naing</cp:lastModifiedBy>
  <dcterms:modified xsi:type="dcterms:W3CDTF">2012-09-28T11:09:26Z</dcterms:modified>
  <cp:revision>1</cp:revision>
  <dc:subject/>
  <dc:title>Slide 1</dc:title>
</cp:coreProperties>
</file>