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E1E-28CD-4C44-AF4E-D611CAB9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487-03B9-4E3F-BDA2-BC84164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47C-0B2B-467F-B4EE-4F8C2D47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8EB-F18D-4668-A42E-3A952599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DE3-4D36-40C4-BA9D-660C97D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360-E8F8-4A37-BED6-101F67CD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9D9-3D9A-4589-B72C-8AF9978F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FA2-7592-4ACC-BCD4-942252A7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E22-6819-431F-B784-848C924F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8F9-3EC8-4796-9B7C-80F4D62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8A6-5685-4AEB-8133-9BF8019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143-DEF0-4C51-A4E6-2505E472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092-F969-4D4F-863E-7C2943FDE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6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22:41Z</dcterms:created>
  <dc:creator>U Kyaw Naing</dc:creator>
  <dc:description/>
  <dc:language>en-US</dc:language>
  <cp:lastModifiedBy>U Kyaw Naing</cp:lastModifiedBy>
  <dcterms:modified xsi:type="dcterms:W3CDTF">2012-09-28T11:25:08Z</dcterms:modified>
  <cp:revision>1</cp:revision>
  <dc:subject/>
  <dc:title>Slide 1</dc:title>
</cp:coreProperties>
</file>