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DB95-FED0-450B-8156-9982909C5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E409-10CA-4F1B-9C07-FBC8A0E9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12F4-6FD4-46D5-BFD5-069893F68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B4AB-BA85-40D9-922F-AD24542B3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1407-FB0F-447A-BD87-90AB4E68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5ED1-C9CE-4245-A4D7-14BE43FE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50BF-E76B-4693-A384-84628718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066D-36A4-4AA9-B8CF-CA60F9AD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D101-B694-4483-9341-CA05A41C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4645-7669-4EAE-9333-71A99077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9E62-918F-403F-AAEC-6BF7CEBD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F647-8691-4C77-BEC1-51BB3AB6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3A81-A3F8-4B26-AA4B-D991EF0A15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42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830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9T12:51:40Z</dcterms:created>
  <dc:creator>U Kyaw Naing</dc:creator>
  <dc:description/>
  <dc:language>en-US</dc:language>
  <cp:lastModifiedBy>U Kyaw Naing</cp:lastModifiedBy>
  <dcterms:modified xsi:type="dcterms:W3CDTF">2012-09-29T12:52:45Z</dcterms:modified>
  <cp:revision>1</cp:revision>
  <dc:subject/>
  <dc:title>Slide 1</dc:title>
</cp:coreProperties>
</file>