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213-4684-48F5-BDDA-BA68B47A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F6D-6573-4DDC-9CE0-EF63C316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BD7-BFC1-43D8-A1F9-7AB4C499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167-5CF9-41B8-9185-EE748D51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578-8507-4119-92ED-C604F74C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56F-3002-47E4-BF19-79E30A97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4D2-A4D7-4C19-9DBA-72B30162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AC7-6BA3-4979-984A-A536532F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E5B-1118-49F2-A9DB-5A0AF493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9ED-1535-49A4-A693-E5B7C2A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237-08B4-4D7C-AFE4-16EF7A14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F08-CA50-405E-B56F-C54BDE0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9F4A-E5C5-4A3C-973C-26DD9BD9AD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3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9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7:40Z</dcterms:created>
  <dc:creator>U Kyaw Naing</dc:creator>
  <dc:description/>
  <dc:language>en-US</dc:language>
  <cp:lastModifiedBy>U Kyaw Naing</cp:lastModifiedBy>
  <dcterms:modified xsi:type="dcterms:W3CDTF">2012-09-29T12:48:19Z</dcterms:modified>
  <cp:revision>1</cp:revision>
  <dc:subject/>
  <dc:title>Slide 1</dc:title>
</cp:coreProperties>
</file>