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FD6-E8AD-4E76-8884-196C7271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769-DC81-44EF-9AAF-E52A3A02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DA7-EF19-4192-B83E-AA32F156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2FA-CE53-4AA8-B1A2-5647F0D9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B3E-8492-4694-8EA2-774708F5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F92-8688-43B1-8FC4-6FEE9F6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B6D-6F57-433A-BA52-FC116CE5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615-5074-4774-9846-A27597C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FD2-484A-4E62-BF3B-1F25B4E9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67D-0B08-4EA4-AB77-C3F4279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90E-B8CD-48F3-81E4-0718DDB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841-ED25-4A69-8543-7EC0144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284C-33C7-4A29-9C96-8C0C8A10A2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2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5:00Z</dcterms:created>
  <dc:creator>U Kyaw Naing</dc:creator>
  <dc:description/>
  <dc:language>en-US</dc:language>
  <cp:lastModifiedBy>U Kyaw Naing</cp:lastModifiedBy>
  <dcterms:modified xsi:type="dcterms:W3CDTF">2012-09-29T12:45:49Z</dcterms:modified>
  <cp:revision>1</cp:revision>
  <dc:subject/>
  <dc:title>Slide 1</dc:title>
</cp:coreProperties>
</file>