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967-C7EB-4594-B126-694189B7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8DE-CF17-4D8D-8E5B-EE3EE900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486-8AFF-4383-831A-DD65763A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3E0-27DB-4ED8-B380-0AA36F63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24C-F77B-4529-B519-37F5843E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97F-34F8-41BD-BC15-29209E3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FC4-314B-46AD-A400-393CB755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C65-210B-4840-B468-2A4298C8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E54-4709-4318-8CF4-79AE7111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AC3-5AD5-49A3-9B56-C56D99DD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15D-2624-424A-B44A-F570CB5F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023-38F2-4BA2-9853-FFA84E66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212A-53E5-48FE-ABDB-EFBC215914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3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10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45:58Z</dcterms:created>
  <dc:creator>U Kyaw Naing</dc:creator>
  <dc:description/>
  <dc:language>en-US</dc:language>
  <cp:lastModifiedBy>U Kyaw Naing</cp:lastModifiedBy>
  <dcterms:modified xsi:type="dcterms:W3CDTF">2012-09-29T12:46:39Z</dcterms:modified>
  <cp:revision>1</cp:revision>
  <dc:subject/>
  <dc:title>Slide 1</dc:title>
</cp:coreProperties>
</file>