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CB80-E065-4296-8FC8-96D06AC6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A739-73E0-4A7A-B898-3407727F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08B4-E2D6-4A3D-ADDE-B32915842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195F-3E87-4326-88A6-A5883BD8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39FA-7EED-4CC9-9BAD-00F82431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C759-7875-460A-AFDB-3A2FFE82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43B5-3FCE-4FF5-9398-1BF37A1A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C2E3-EC49-4AAF-8C52-F60B276B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71D7-A3A2-4D17-9B0F-042DEECD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F3A4-33E0-4A63-AD09-564BEDC7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EEB9-5FEA-40A8-8864-F77A40DD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970C-8E86-4965-878C-C00DE829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ADB7-AEFA-4AD0-B82E-F25A3610C8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4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05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2:50:54Z</dcterms:created>
  <dc:creator>U Kyaw Naing</dc:creator>
  <dc:description/>
  <dc:language>en-US</dc:language>
  <cp:lastModifiedBy>U Kyaw Naing</cp:lastModifiedBy>
  <dcterms:modified xsi:type="dcterms:W3CDTF">2012-09-29T12:51:31Z</dcterms:modified>
  <cp:revision>1</cp:revision>
  <dc:subject/>
  <dc:title>Slide 1</dc:title>
</cp:coreProperties>
</file>