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33D-91E7-43A0-9B53-2C8180CE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0D8-DA4D-4364-A716-50D857D8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192-E3D5-4DB0-A732-09FF2CE8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BF6-0B1A-4FA2-9649-8481F60D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73F-EBE2-43C4-8B33-FBCD68FA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803-4F68-4A76-B358-FFEF5030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047-1E65-4AD8-A448-72445EE0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6D1-4686-4E8C-9CFE-8DF94B9B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054-6A9E-46A1-82FB-5B72799D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F91-305D-44C3-BAEE-A900B124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B4B-B4CC-4018-AFA0-11C60EA9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C7A-45AA-46D1-939F-38F9CECA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950C-D656-4F90-AC8E-9F352F3C4B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3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15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48:27Z</dcterms:created>
  <dc:creator>U Kyaw Naing</dc:creator>
  <dc:description/>
  <dc:language>en-US</dc:language>
  <cp:lastModifiedBy>U Kyaw Naing</cp:lastModifiedBy>
  <dcterms:modified xsi:type="dcterms:W3CDTF">2012-09-29T12:49:25Z</dcterms:modified>
  <cp:revision>1</cp:revision>
  <dc:subject/>
  <dc:title>Slide 1</dc:title>
</cp:coreProperties>
</file>