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66F-CD5C-4D3D-AB81-FC66E89A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6FC-B661-42E6-80C2-C7B64E5A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E5AA-41ED-4399-8C75-917CE77C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7F75-BF52-4E97-A345-028E3A99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FD5-55EF-4408-8389-80311EB7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5B0-230F-41A2-82CA-31263A12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ABC-14A3-44A2-99C2-F2A19145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67A1-6589-48BE-942B-7349CE5F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4EA8-228A-4D28-A760-AA43BE17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E12-9D5C-4E5B-95E6-1AED90BE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361-CD4E-4FE8-A2AD-F6E58C11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00EE-ABA6-407D-BC7A-31B476FF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4179-9CFC-47CD-84B3-2DC1DCE75D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3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17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41:32Z</dcterms:created>
  <dc:creator>U Kyaw Naing</dc:creator>
  <dc:description/>
  <dc:language>en-US</dc:language>
  <cp:lastModifiedBy>U Kyaw Naing</cp:lastModifiedBy>
  <dcterms:modified xsi:type="dcterms:W3CDTF">2012-09-29T12:43:03Z</dcterms:modified>
  <cp:revision>1</cp:revision>
  <dc:subject/>
  <dc:title>Slide 1</dc:title>
</cp:coreProperties>
</file>