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902-56BD-442B-B7F4-2A52EAFE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AF6-ECD1-4C35-A3B5-74E4FB99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9D6-F9AA-4430-8228-B85981C7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63A-253C-42E8-8FF1-406D1D8A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8E1-384F-4C52-AC87-396718CC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971-0242-46A2-B969-E10AA657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5E3-547E-4E2C-BC32-D19FB2E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80E-EC6F-4501-B0CA-D31C37CF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877-7403-437A-81A8-1C3A161D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860-97D3-48BD-8460-9D0E0E7F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BED-3934-4006-8EF8-7C63C8DC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BAD-C55C-4E7D-A2D6-AA83AEB0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B770-504C-4D6E-BE41-4E8CA4371B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3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94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46:46Z</dcterms:created>
  <dc:creator>U Kyaw Naing</dc:creator>
  <dc:description/>
  <dc:language>en-US</dc:language>
  <cp:lastModifiedBy>U Kyaw Naing</cp:lastModifiedBy>
  <dcterms:modified xsi:type="dcterms:W3CDTF">2012-09-29T12:47:26Z</dcterms:modified>
  <cp:revision>1</cp:revision>
  <dc:subject/>
  <dc:title>Slide 1</dc:title>
</cp:coreProperties>
</file>