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2FF-F71A-4FF5-AF60-EAEDAFBB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6B9-E7F7-4687-BA11-8C2B170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30D-36B6-40F8-88E3-CEABB131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773-5589-4BF3-8F20-3EFCDFBD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3A1-1A0F-4E04-A8A3-31E0DAD6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501-A203-49E4-9658-9CF5059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D51-B2CB-464F-BD93-D25499A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07F-BDC9-4523-BF2F-3E64B8A8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BEA-B901-406F-A5F4-7C43FDA7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24C-33C4-4874-8C93-F3A2BEC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28D-F029-4F0E-9A1B-24D449A8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922-D6E0-44CE-A281-C071A5E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A2B-7C80-4497-ADBA-6B3B95E2F1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3:59Z</dcterms:created>
  <dc:creator>U Kyaw Naing</dc:creator>
  <dc:description/>
  <dc:language>en-US</dc:language>
  <cp:lastModifiedBy>U Kyaw Naing</cp:lastModifiedBy>
  <dcterms:modified xsi:type="dcterms:W3CDTF">2012-09-29T12:44:46Z</dcterms:modified>
  <cp:revision>1</cp:revision>
  <dc:subject/>
  <dc:title>Slide 1</dc:title>
</cp:coreProperties>
</file>