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337-8138-4A1C-ABBC-90244E5D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84D-E185-4B34-B143-CA33166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25A-E578-4D93-AEC8-B5391A2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0ED-3A60-4537-8584-14B1632D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EFA-F64F-4168-B8B8-58DE830E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119-EBD3-405E-9474-CDA0E875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06B-F710-43D1-8C7A-5C7CD2C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4AB-57AC-487E-BA19-040121F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6C1-BE40-499C-8A26-2ED45C1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58E-2D24-4B2E-94FB-9289BA2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D7D-73F8-4FC0-9823-1947961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FD0-1D86-40B5-9B1D-9A53A9A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4DC-E267-46ED-A4D8-B1FB941B8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5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3:11Z</dcterms:created>
  <dc:creator>U Kyaw Naing</dc:creator>
  <dc:description/>
  <dc:language>en-US</dc:language>
  <cp:lastModifiedBy>U Kyaw Naing</cp:lastModifiedBy>
  <dcterms:modified xsi:type="dcterms:W3CDTF">2012-09-29T12:43:51Z</dcterms:modified>
  <cp:revision>1</cp:revision>
  <dc:subject/>
  <dc:title>Slide 1</dc:title>
</cp:coreProperties>
</file>