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3B83A-786C-48DF-BB11-29CCF266B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C31B5-5F0C-4B92-9FCF-A692F7B97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54870-A616-46E2-BD6E-4014E0D84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5AE08-E9D5-41FF-9423-2379B0555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31275-66AA-4053-B0E4-316C359F0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EDAF5-96EE-4345-A154-13DE1D28E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8A8E7-A861-4D61-8334-C97E46FAA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A5AFB-A8C9-47E7-A0D8-AAD9438C1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9D434-75E1-4BA4-8F01-7F61ACF85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DD2C0-9E2C-482C-ACA3-B0AC8FF82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9D6DC-C2C6-4FA4-B3E0-F7A7BC423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9D25A-2C7E-430F-A315-C302C386D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2D7AD-34D5-4061-9FB4-0B2CBF019B2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SUNP002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age 340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712704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9T12:49:33Z</dcterms:created>
  <dc:creator>U Kyaw Naing</dc:creator>
  <dc:description/>
  <dc:language>en-US</dc:language>
  <cp:lastModifiedBy>U Kyaw Naing</cp:lastModifiedBy>
  <dcterms:modified xsi:type="dcterms:W3CDTF">2012-09-29T12:50:46Z</dcterms:modified>
  <cp:revision>1</cp:revision>
  <dc:subject/>
  <dc:title>Slide 1</dc:title>
</cp:coreProperties>
</file>