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80C-20D6-43D3-8692-A8C7083B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7A6-BB28-4B5F-AAEF-C4841DC6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8D1-2B46-4560-A7BF-64E7D22B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CDA-76A5-42B5-8F35-6634F642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D884-4A1C-411E-8A1C-4C46B49F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2A3-F01B-4B98-8F9D-E234772A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C77-6C01-4017-B60E-F3089DF4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FEC-9C6E-44D2-9C34-4DFBFBC6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923-A3B2-46FB-B5DC-1E566C29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A19-472C-4EA2-BF31-43C859E3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5B9-B571-46EA-A215-A22D6891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65A-2668-436A-9E28-38655D18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9D99-0EAA-4B7F-9B41-41C63B9724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1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13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09:42Z</dcterms:created>
  <dc:creator>U Kyaw Naing</dc:creator>
  <dc:description/>
  <dc:language>en-US</dc:language>
  <cp:lastModifiedBy>U Kyaw Naing</cp:lastModifiedBy>
  <dcterms:modified xsi:type="dcterms:W3CDTF">2012-09-29T12:10:21Z</dcterms:modified>
  <cp:revision>1</cp:revision>
  <dc:subject/>
  <dc:title>Slide 1</dc:title>
</cp:coreProperties>
</file>