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738-2C3A-4B04-AA32-0B5AA5A4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080-C9B4-48E2-B234-AC238B62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EDB-58DE-408E-9E1E-C1A2E08E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C53-9C9B-4DE5-8C9F-DC2BEBAB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551-E1A6-496B-93B8-0E4D704A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E75-B63B-41A5-8FBD-ECB0806F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7D2-489F-4DBB-81A1-245B6057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781-D023-43CB-BAAF-5B3973D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C84-4D29-4881-9798-3D51734D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F44-4B78-4352-8CAA-71693597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4D7-8EA0-43EB-8F5D-FEDE8BCC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D48-4BC6-4210-869B-582946D2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D7E2-2878-4EA3-A325-E847342FF0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1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5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2:04:32Z</dcterms:created>
  <dc:creator>U Kyaw Naing</dc:creator>
  <dc:description/>
  <dc:language>en-US</dc:language>
  <cp:lastModifiedBy>U Kyaw Naing</cp:lastModifiedBy>
  <dcterms:modified xsi:type="dcterms:W3CDTF">2012-09-29T12:08:48Z</dcterms:modified>
  <cp:revision>1</cp:revision>
  <dc:subject/>
  <dc:title>Slide 1</dc:title>
</cp:coreProperties>
</file>