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328-F36D-4FA8-BAAE-9605723E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CD9-E49B-4AAB-A626-4EAC4DA9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E778-F836-4773-8767-E8768EE6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0513-4F2E-48F6-A480-0D577C36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D28-115B-4F72-A523-D8A9B03C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FA32-6F5A-46A4-B987-D6595421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796C-FF5A-462C-BFBE-D582237B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82D7-34FE-46FB-81AF-81E8230D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112-C300-4652-8C7B-C1F8081A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744-D0B3-4D1D-BE58-6AA28734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FF0-3EA1-4F2C-B94F-6FB0B825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20F8-062C-44EF-847F-631F1958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FF7E-A10F-4E23-B4A7-C87F82F59D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1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17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11:13Z</dcterms:created>
  <dc:creator>U Kyaw Naing</dc:creator>
  <dc:description/>
  <dc:language>en-US</dc:language>
  <cp:lastModifiedBy>U Kyaw Naing</cp:lastModifiedBy>
  <dcterms:modified xsi:type="dcterms:W3CDTF">2012-09-29T12:12:15Z</dcterms:modified>
  <cp:revision>1</cp:revision>
  <dc:subject/>
  <dc:title>Slide 1</dc:title>
</cp:coreProperties>
</file>