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292-89CD-42C9-9769-4B7628EE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71A-CAC7-45EB-91CC-5FAE9FD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88C-3315-4FEB-A800-AAA2A47E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4AC-00D4-4341-86B4-81C2D0F6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854-9627-4870-AC81-C0A8C81B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3AB-1139-417B-A8BD-8F986B1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2CB-01B7-4BD6-B962-00941CA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589-7BDF-4AB3-87CB-2E4382E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4B5-23B9-4D7F-922E-3EE497E4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3B3-BAE9-4261-A6F3-3EBF12C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541-5D32-4480-B346-D6BE632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2AE-B15E-4C11-B86C-38B2E5D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8A08-176F-49D8-A4F5-333CF2A33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age 310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5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95616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956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8:40Z</dcterms:created>
  <dc:creator>U Kyaw Naing</dc:creator>
  <dc:description/>
  <dc:language>en-US</dc:language>
  <cp:lastModifiedBy>U Kyaw Naing</cp:lastModifiedBy>
  <dcterms:modified xsi:type="dcterms:W3CDTF">2012-09-29T12:36:30Z</dcterms:modified>
  <cp:revision>2</cp:revision>
  <dc:subject/>
  <dc:title>Slide 1</dc:title>
</cp:coreProperties>
</file>