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E2B-8614-4A5C-AD90-56E6E12F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34F-24FB-4319-BDCD-1A963B4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92B-9DE0-4F17-A20E-F27C7D0E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2FA-554B-4064-89D5-B3C67BDF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42B-DF30-4B02-B266-163C5C2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F13-2371-49AA-BE1F-565F990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60-D50F-48E4-9307-96C5553B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30C-4C84-4BD2-BD22-A226F6A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D0E-36FA-4628-B91B-895E9F76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6CD-4F8F-48C8-8379-687CBE8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0BC-AD8C-4D8B-A876-30060BC8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6DE-CD18-4246-9AB5-DE838E0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44A-7E96-41F8-A6F7-A23595F1F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3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2:24Z</dcterms:created>
  <dc:creator>U Kyaw Naing</dc:creator>
  <dc:description/>
  <dc:language>en-US</dc:language>
  <cp:lastModifiedBy>U Kyaw Naing</cp:lastModifiedBy>
  <dcterms:modified xsi:type="dcterms:W3CDTF">2012-09-29T12:13:04Z</dcterms:modified>
  <cp:revision>1</cp:revision>
  <dc:subject/>
  <dc:title>Slide 1</dc:title>
</cp:coreProperties>
</file>