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441E-EA00-415E-9712-D7BA2966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6300-7A6F-4720-BB8C-8BA83573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7233-544D-4E56-BFDB-C15FA56F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FA66-5310-437F-BCE2-40C99F4E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89D1-91D5-42CF-A1F8-58B36DB4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E02D-75F8-496E-A504-02B5E75F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7E7A-D106-4143-8D2C-CC4C79F8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7260-8CAA-42AE-BA45-09E81FCF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237B-75C0-4036-8620-C37CA608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4EF1-0535-4702-98F2-D93890F8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8CA2-65F0-4F2F-A3AD-8F7663CC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71CE-C12D-4CF2-A4BA-66632BE5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0696-F59C-408E-9932-6A91093966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2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00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2:16:31Z</dcterms:created>
  <dc:creator>U Kyaw Naing</dc:creator>
  <dc:description/>
  <dc:language>en-US</dc:language>
  <cp:lastModifiedBy>U Kyaw Naing</cp:lastModifiedBy>
  <dcterms:modified xsi:type="dcterms:W3CDTF">2012-09-29T12:17:13Z</dcterms:modified>
  <cp:revision>1</cp:revision>
  <dc:subject/>
  <dc:title>Slide 1</dc:title>
</cp:coreProperties>
</file>