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A0E1-13D2-43EA-B7B3-1C60E7E2D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98F5-9F1D-49DA-85B6-1C15E437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1458-8B33-4EED-A6A7-06346EAA6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5C72-FDC4-4509-A3F8-1AD3B1E77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6C65-1C3B-4AF7-950D-0DF0C171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4968-2C69-4783-BEE6-224F12EC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6A53-2194-4717-80B5-2B10CCF0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4C65-DEAE-4B75-8E5C-7131D888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ED23-C2AB-4BBE-B753-437C6396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1227-A8CA-43BC-9E74-49950BFB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00B3-FCB8-4085-A1EF-45BA3465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4C8B-E49C-414D-BAF1-F8CFC2AC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1A90-5B63-48E8-9156-9F78EA72EB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18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707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9T12:13:12Z</dcterms:created>
  <dc:creator>U Kyaw Naing</dc:creator>
  <dc:description/>
  <dc:language>en-US</dc:language>
  <cp:lastModifiedBy>U Kyaw Naing</cp:lastModifiedBy>
  <dcterms:modified xsi:type="dcterms:W3CDTF">2012-09-29T12:13:52Z</dcterms:modified>
  <cp:revision>1</cp:revision>
  <dc:subject/>
  <dc:title>Slide 1</dc:title>
</cp:coreProperties>
</file>