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7A4-47A2-4AD1-871E-490D214A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C9F-69E9-4F87-9B2B-65D8FA5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29D-42CD-4B1E-A048-A981CA98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72A-ED4C-4B35-891E-285CDB1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683-9F93-406A-80EC-557A7C2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771-9781-4588-9039-AF760341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D52-BF00-425F-BBAE-85FAC9B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00D-4886-47AF-A979-4926B50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242-6E94-4AAC-8B26-A637366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CA5-996C-49D3-8068-205B707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488-E887-497E-ABD4-4F8F66C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ECE-4AFF-48B5-9E0A-EA6C132E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1BA4-C82E-47A9-8EA1-4F76993A1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SUNP00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2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0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4:03Z</dcterms:created>
  <dc:creator>U Kyaw Naing</dc:creator>
  <dc:description/>
  <dc:language>en-US</dc:language>
  <cp:lastModifiedBy>U Kyaw Naing</cp:lastModifiedBy>
  <dcterms:modified xsi:type="dcterms:W3CDTF">2012-09-29T12:16:22Z</dcterms:modified>
  <cp:revision>1</cp:revision>
  <dc:subject/>
  <dc:title>Slide 1</dc:title>
</cp:coreProperties>
</file>