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070-5E1B-4309-9FB7-23048E7D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D53-EB8E-4FB6-975B-159035F3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62F-9B3A-4FDC-B042-BA1E6E1F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EBF-53E4-43ED-9494-0A803D14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5DE-6F95-4D52-909F-5B6FFBC4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FDF-8020-44CC-86A0-83FCD3B2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E17-F73F-46F0-964A-683C6467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FBD-4BFF-42A6-93CB-09ECA781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EF2-48C4-460A-9DB5-2FD035C9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67A-3C43-4C31-B81D-D7C65F09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423-B3B7-4AB7-AF90-A8A79BB4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52B-3B07-4796-97FB-A2B23120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E1F2-DD8B-4199-8E0D-6396F1C34A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1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2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08:54Z</dcterms:created>
  <dc:creator>U Kyaw Naing</dc:creator>
  <dc:description/>
  <dc:language>en-US</dc:language>
  <cp:lastModifiedBy>U Kyaw Naing</cp:lastModifiedBy>
  <dcterms:modified xsi:type="dcterms:W3CDTF">2012-09-29T12:09:34Z</dcterms:modified>
  <cp:revision>1</cp:revision>
  <dc:subject/>
  <dc:title>Slide 1</dc:title>
</cp:coreProperties>
</file>