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223D3-ACEA-40CC-9599-83C8C0229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85F85-3C04-4A72-8BB7-5AE8E6BFB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71DE1-4B6D-485B-A167-99E177277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BBABC-3C02-4D13-86A4-958F778A5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79E09-DDC1-4AFD-8B29-C1828BB99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E7198-4478-4566-97E4-5D5E7A17D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A1762-3E3C-4CC9-9C22-C64094AE7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0EB88-41FC-42C4-B37F-38BB7D523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DCC23-DF27-4A8E-8CBC-9DD65CA1B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8D555-E6A5-4B4D-8B04-3E07B5F0B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350ED-9F04-40CE-B704-C286922D6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08D6B-DB9D-47C3-8761-58B8217E9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65CB9-2B19-4C3B-BB2E-EA79CAB20C2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SUNP004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age 310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95616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9T12:18:40Z</dcterms:created>
  <dc:creator>U Kyaw Naing</dc:creator>
  <dc:description/>
  <dc:language>en-US</dc:language>
  <cp:lastModifiedBy>U Kyaw Naing</cp:lastModifiedBy>
  <dcterms:modified xsi:type="dcterms:W3CDTF">2012-09-29T12:19:36Z</dcterms:modified>
  <cp:revision>1</cp:revision>
  <dc:subject/>
  <dc:title>Slide 1</dc:title>
</cp:coreProperties>
</file>