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5D35-DED0-4E61-A6BE-C4922BB7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5D2-2571-4EFB-AA76-FE2273E6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8AE2-61A3-4D97-85C7-16007710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3673-26BB-4AED-A6A7-3E2F8F55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B9F9-0AD1-4015-9250-F12FF723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8046-3ADD-469B-B278-15C42063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0178-9BC1-4B47-B35F-F211DFC4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47E-9769-4563-9C58-046DB815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8C6D-EB1C-4076-8452-30CEACA2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C081-D803-480C-8578-CE9BE895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1683-06E5-4929-BBA6-CE1D38D5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2A0F-F107-4B9E-91AE-4DEECA06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F9E8-9244-4B3E-B152-2DEF5C04B0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UNP00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0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4067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03:00:38Z</dcterms:created>
  <dc:creator>U Kyaw Naing</dc:creator>
  <dc:description/>
  <dc:language>en-US</dc:language>
  <cp:lastModifiedBy>U Kyaw Naing</cp:lastModifiedBy>
  <dcterms:modified xsi:type="dcterms:W3CDTF">2012-10-02T03:01:45Z</dcterms:modified>
  <cp:revision>1</cp:revision>
  <dc:subject/>
  <dc:title>Slide 1</dc:title>
</cp:coreProperties>
</file>