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D09-FF78-4B85-899E-2A534CB3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39A-CC88-452B-9067-A2A0BBC0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A40-77E4-47FB-B519-00A24894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7A9-48AB-4B89-BA59-299D2920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0FF-4554-43D0-AB87-0E3C943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45A-1FC2-45F8-8FFA-F12F92A8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B66-395F-4134-95E3-36B10A86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90E-A044-4740-B4E5-565F2DD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3EE-0643-46D6-8717-BC9DA41C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0A7-0EA7-4ED2-987D-3BA453A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0CF-78B0-40EE-AB7E-56E286D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C19-B410-40D5-A010-D931116E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6D70-1058-4266-9CB7-7D2F59A17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70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10:31Z</dcterms:created>
  <dc:creator>U Kyaw Naing</dc:creator>
  <dc:description/>
  <dc:language>en-US</dc:language>
  <cp:lastModifiedBy>U Kyaw Naing</cp:lastModifiedBy>
  <dcterms:modified xsi:type="dcterms:W3CDTF">2012-09-29T12:11:06Z</dcterms:modified>
  <cp:revision>1</cp:revision>
  <dc:subject/>
  <dc:title>Slide 1</dc:title>
</cp:coreProperties>
</file>