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70DD-C87D-4E3F-8FF5-8F1CE913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945B-94DE-4664-B0CA-11EF97F3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12B6-3B5D-49AF-843D-9918DD7F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32D-5212-4DD7-B52B-91370C6E2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BDB3-B937-442E-8FB5-37865F89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51B7-DBC8-4242-80B0-6560DC60A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D6A-0880-4DCC-A411-0876D540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533-74D1-4179-9DC7-19066249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56F9-E46E-48A7-A451-8198E636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BE3-14DA-4237-A1DE-4AAEDD19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2C-8824-4587-873C-E8610C4D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31EA-CAC3-46A1-95E2-4FDBE24C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8612-B789-48E5-8E0C-74B6740856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2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8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864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3:46Z</dcterms:created>
  <dc:creator>U Kyaw Naing</dc:creator>
  <dc:description/>
  <dc:language>en-US</dc:language>
  <cp:lastModifiedBy>U Kyaw Naing</cp:lastModifiedBy>
  <dcterms:modified xsi:type="dcterms:W3CDTF">2012-10-01T14:24:27Z</dcterms:modified>
  <cp:revision>1</cp:revision>
  <dc:subject/>
  <dc:title>Slide 1</dc:title>
</cp:coreProperties>
</file>