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18CD-4274-4554-8CE7-3210FD04D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17E-340E-45F6-87A5-06C410A5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97C-4314-4473-814C-3EAA42F5D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A0F-304B-4F91-886E-D03C44022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821D-5D1C-47FE-960D-BCD1F2DD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F32-3456-43BB-B558-64E5B31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F29-1FB3-48CB-8133-1D8250DF1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2218-82CB-4C62-ABE4-F1B228B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E7E8-9E46-4B46-A7F7-73344BA7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60D-C641-428F-905B-82FA147E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430-BEF5-4BBB-943A-1C53DB9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B3B3-DEBE-4AF0-9FEA-8EE198DF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DF8E2-99EA-4520-A4D0-265DAE68BB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775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00:32Z</dcterms:created>
  <dc:creator>U Kyaw Naing</dc:creator>
  <dc:description/>
  <dc:language>en-US</dc:language>
  <cp:lastModifiedBy>U Kyaw Naing</cp:lastModifiedBy>
  <dcterms:modified xsi:type="dcterms:W3CDTF">2012-10-01T14:03:58Z</dcterms:modified>
  <cp:revision>1</cp:revision>
  <dc:subject/>
  <dc:title>Slide 1</dc:title>
</cp:coreProperties>
</file>