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72C-158D-4342-8FAD-352EE5C7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4D1E-FE0A-4AE6-B9F1-1D284ED1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169C-478C-4730-8150-887EFBBA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F2FC-35BE-48B4-9689-486EBCBAE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493-9863-4E48-A93C-CBC55AF2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F3D0-0CBF-48D9-9596-DDD978F0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716-4CD6-4B7D-86B3-765F8F59D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4787-7B55-49F9-90D7-4F25462B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77B-93DA-4102-A7CD-14296F7A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6842-B9EC-47ED-9062-D2D3DF5D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F022-957D-4819-8F4F-1B4F6AA6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205E-67C2-40AE-83ED-8F78D941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5D90-587C-4E6C-B7B4-609C20E6E5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1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5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46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21:49Z</dcterms:created>
  <dc:creator>U Kyaw Naing</dc:creator>
  <dc:description/>
  <dc:language>en-US</dc:language>
  <cp:lastModifiedBy>U Kyaw Naing</cp:lastModifiedBy>
  <dcterms:modified xsi:type="dcterms:W3CDTF">2012-10-01T14:22:45Z</dcterms:modified>
  <cp:revision>1</cp:revision>
  <dc:subject/>
  <dc:title>Slide 1</dc:title>
</cp:coreProperties>
</file>