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B20-E128-4746-B2BA-4C7C18ABF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9479-268F-41D5-AD6F-539D66AAE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3675-4188-4623-B33D-BE911A58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9D3-BF3F-483B-B6BA-74B3C6D6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FC00-BEA7-4539-A404-3D700032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E33-8433-4945-A633-D1AEA040E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ED08-A92F-46DD-AF6F-D4993EF4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3B0-C691-4E47-8133-23187D84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A0DA-F1F5-44FA-9289-67E83CB8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9B81-6860-408D-B06A-726C1452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2313-47CE-4633-83E9-0F6C398A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752B-D5EE-4241-911F-ECE39A3F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AB83-3061-4963-BBD7-293B319B0F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SUNP0019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1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3148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45:32Z</dcterms:created>
  <dc:creator>U Kyaw Naing</dc:creator>
  <dc:description/>
  <dc:language>en-US</dc:language>
  <cp:lastModifiedBy>U Kyaw Naing</cp:lastModifiedBy>
  <dcterms:modified xsi:type="dcterms:W3CDTF">2012-09-30T12:46:43Z</dcterms:modified>
  <cp:revision>1</cp:revision>
  <dc:subject/>
  <dc:title>Slide 1</dc:title>
</cp:coreProperties>
</file>