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4728-1E96-4867-898E-9671310E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6B81-5391-436E-96B6-9568A03D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2097-6B6D-477C-A4E2-E676F87A2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BAC5-87AE-4BCD-ACF5-DEAD7271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452F-F617-4CAE-AE45-EE78FCDE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3334-8338-424E-9112-D03E5A601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C85D-FD0E-4454-A334-2A0663DD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3880-759B-4A37-BCFB-9D7B7814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C2F7-2F30-4875-B84D-F72D61B5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6859-4991-474F-B42F-5B0DBCB4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E26-2578-462A-8A89-BD798BAC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C73-E837-4271-A875-90DA1EA7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EB63-8394-455E-B76C-42820105D3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1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6899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1:37Z</dcterms:created>
  <dc:creator>U Kyaw Naing</dc:creator>
  <dc:description/>
  <dc:language>en-US</dc:language>
  <cp:lastModifiedBy>U Kyaw Naing</cp:lastModifiedBy>
  <dcterms:modified xsi:type="dcterms:W3CDTF">2012-09-30T12:42:22Z</dcterms:modified>
  <cp:revision>1</cp:revision>
  <dc:subject/>
  <dc:title>Slide 1</dc:title>
</cp:coreProperties>
</file>