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1BF2-AD15-47DD-B999-26280C92B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2C9-CDD1-4FF6-A075-DFEA7BF0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A817-92AE-4A4E-9E49-CB653E463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4DBF-759D-4173-9CF8-DC870F96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FAD6-83B8-454F-B51B-9D51CD80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9B8-4A37-4F3B-985B-E45325A1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7206-1D23-4C63-A8A2-A974A68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77B-EB5C-4A20-A7CD-449E9F7E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8A4-2032-4AAA-BA3D-0C5AF73C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18E0-ABB2-48EB-B079-CF670803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0446-C239-4194-BD14-9D938EE6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D43-7735-454E-9463-231A1864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F6B0-CCCB-4582-858B-1F44289988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79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4:16Z</dcterms:created>
  <dc:creator>U Kyaw Naing</dc:creator>
  <dc:description/>
  <dc:language>en-US</dc:language>
  <cp:lastModifiedBy>U Kyaw Naing</cp:lastModifiedBy>
  <dcterms:modified xsi:type="dcterms:W3CDTF">2012-09-30T12:55:06Z</dcterms:modified>
  <cp:revision>1</cp:revision>
  <dc:subject/>
  <dc:title>Slide 1</dc:title>
</cp:coreProperties>
</file>