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FBD3-28DF-4982-A73E-BEA3417F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6BE1-0F3D-4E31-88E7-90A0D2F2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1740-74C7-4143-AE6F-E8ABEDD5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B2E1-9463-4802-8A2A-284502F6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6003-7BF9-4490-A174-AA9DD7DC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DC1A-142B-43DB-BF9D-B885F5F0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A19-B12A-4B48-9E03-AB107890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FC2E-3016-4318-BF0D-F7E79012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8241-B663-4284-A85F-FB3207E7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5118-2823-4489-A19A-6E4F132D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B08E-7A33-4D91-95E8-CECF40AD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21AB-C844-4C75-8F1C-13D9083E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669F-DB43-47DB-B002-2DE83D8A4D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04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10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4448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40:29Z</dcterms:created>
  <dc:creator>U Kyaw Naing</dc:creator>
  <dc:description/>
  <dc:language>en-US</dc:language>
  <cp:lastModifiedBy>U Kyaw Naing</cp:lastModifiedBy>
  <dcterms:modified xsi:type="dcterms:W3CDTF">2012-09-30T12:41:27Z</dcterms:modified>
  <cp:revision>1</cp:revision>
  <dc:subject/>
  <dc:title>Slide 1</dc:title>
</cp:coreProperties>
</file>