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52BB0-A600-422C-9D09-1EE84C5D3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DFD2A-57AB-4457-BE4F-567B5BA43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090A7-9329-442B-8A21-FF34776AC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CD6F4-128E-43F5-9841-F1398E471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B43F9-12B6-4070-9B7A-4A9BE1DFF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B56B2-F23A-4F51-AB93-438AD82D7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12F70-C4C1-402D-BFE7-CCA605265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154AF-3538-44E7-A519-61C47D33B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080BD-2790-4533-8AB7-B31E2D87A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18740-A3F3-4C00-9AA3-A7755E583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21CBF-FFE6-4E18-99C4-05E7974A0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E664A-B108-4E85-B555-C053CD8FD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40107-171B-444E-BA73-91EF8063932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SUNP0008.JPG"/>
          <p:cNvPicPr/>
          <p:nvPr/>
        </p:nvPicPr>
        <p:blipFill>
          <a:blip r:embed="rId1"/>
          <a:stretch/>
        </p:blipFill>
        <p:spPr>
          <a:xfrm>
            <a:off x="0" y="27000"/>
            <a:ext cx="9144000" cy="6804000"/>
          </a:xfrm>
          <a:prstGeom prst="rect">
            <a:avLst/>
          </a:prstGeom>
          <a:ln w="0">
            <a:noFill/>
          </a:ln>
        </p:spPr>
      </p:pic>
      <p:pic>
        <p:nvPicPr>
          <p:cNvPr id="42" name="Page 266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53600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1T14:37:56Z</dcterms:created>
  <dc:creator>U Kyaw Naing</dc:creator>
  <dc:description/>
  <dc:language>en-US</dc:language>
  <cp:lastModifiedBy>U Kyaw Naing</cp:lastModifiedBy>
  <dcterms:modified xsi:type="dcterms:W3CDTF">2012-10-01T14:39:26Z</dcterms:modified>
  <cp:revision>1</cp:revision>
  <dc:subject/>
  <dc:title>Slide 1</dc:title>
</cp:coreProperties>
</file>