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99B3-0EA5-41BA-9832-A804E33F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DEBB-26F8-4A1E-A2F5-A52BFBB5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E817-7493-452F-B906-162D2638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FDFC-7C09-4A21-9534-86A5BB553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0BB0-36B0-44A7-9579-A94AE2BD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D81F-7FF2-4C08-9E50-DCD9F374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8345-8311-49D8-BEA7-D1283E1D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0B8-EFCD-41EF-84E2-9EF737C3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7F3-864B-4CD5-B119-D6A13E48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FB37-3A27-4C19-B151-D8F21F3D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7BBD-1F44-4995-8948-631C7C42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33B-A482-47EB-84B7-573A542D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EE4F-FCA5-4A56-AF64-4276F2EC74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4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8777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04:10Z</dcterms:created>
  <dc:creator>U Kyaw Naing</dc:creator>
  <dc:description/>
  <dc:language>en-US</dc:language>
  <cp:lastModifiedBy>U Kyaw Naing</cp:lastModifiedBy>
  <dcterms:modified xsi:type="dcterms:W3CDTF">2012-10-01T14:05:18Z</dcterms:modified>
  <cp:revision>1</cp:revision>
  <dc:subject/>
  <dc:title>Slide 1</dc:title>
</cp:coreProperties>
</file>