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1353-A5DE-4E2D-A153-AF4870706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A632-6E2A-4F5E-9991-F214CFA9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1314-0B6A-4A10-932A-C9A57728F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B489-37E1-46FA-BB15-DD3D5EA1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E7D2-C45E-4853-B612-19556CB6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5EF4-E3BA-4A8A-AB6C-514284EC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DBCA-03AA-4E37-B050-C6CB13F3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8CB-2837-4667-8753-F30AC9ED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2B9-A008-420E-96F6-D2CCB3DA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0E3-26CD-4B71-80BA-07748029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B180-3EF6-436E-A4B4-32134437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61B-2517-41DE-B1DB-EEDE67A7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01991-56F3-47E4-B5BA-65C0235068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5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3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18:11Z</dcterms:created>
  <dc:creator>U Kyaw Naing</dc:creator>
  <dc:description/>
  <dc:language>en-US</dc:language>
  <cp:lastModifiedBy>U Kyaw Naing</cp:lastModifiedBy>
  <dcterms:modified xsi:type="dcterms:W3CDTF">2012-10-01T14:19:04Z</dcterms:modified>
  <cp:revision>1</cp:revision>
  <dc:subject/>
  <dc:title>Slide 1</dc:title>
</cp:coreProperties>
</file>