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6041-CFEF-43CF-B261-16B67313C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17C0-7F0E-4EAF-B78D-67182F4B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A535-B991-4F20-9652-14F560EB5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D845-6A4E-4C61-A338-6399CF039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401F-05BD-4A89-B250-5F84EF3C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5013-A56A-4D13-81C1-C8027578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FA9A-3128-49A7-92BA-E3781796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AB67-A7B3-4FAB-AA24-108F9384F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4789-ED72-479C-872D-330FFFAF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6480-E500-47C6-834D-6A03875A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A3BC-70AD-4467-B62A-6F01D0AE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4574-9F15-42D0-9725-CE609AC9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7CE6-D7DF-4F06-ADB0-081A4144C8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10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267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009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14:39:37Z</dcterms:created>
  <dc:creator>U Kyaw Naing</dc:creator>
  <dc:description/>
  <dc:language>en-US</dc:language>
  <cp:lastModifiedBy>U Kyaw Naing</cp:lastModifiedBy>
  <dcterms:modified xsi:type="dcterms:W3CDTF">2012-10-01T14:40:35Z</dcterms:modified>
  <cp:revision>1</cp:revision>
  <dc:subject/>
  <dc:title>Slide 1</dc:title>
</cp:coreProperties>
</file>