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367-673E-4252-8846-DF4455D10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662C-240E-4B7B-B6A8-75F58856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86D-073F-4DF2-BCA6-EA9F1DDE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C185-F5F2-4F7D-8064-FE2E078E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BEE7-6FEE-4AD5-9824-EA777C54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3F0-4707-4888-A9EA-8CD2E69A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3CC-C227-41C6-A141-4B3016D7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67A4-F264-4B61-8E9B-E80FAE11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21DD-5079-4545-AE8F-A2E18712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E7DE-5C41-46EB-82B8-21CE8D6C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8A02-980D-47BF-BF28-44D8385F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34A6-A370-4595-98AD-F3CC1C621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AB498-B801-4818-B41A-F9928E68E3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0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1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04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43:24Z</dcterms:created>
  <dc:creator>U Kyaw Naing</dc:creator>
  <dc:description/>
  <dc:language>en-US</dc:language>
  <cp:lastModifiedBy>U Kyaw Naing</cp:lastModifiedBy>
  <dcterms:modified xsi:type="dcterms:W3CDTF">2012-09-30T12:44:17Z</dcterms:modified>
  <cp:revision>1</cp:revision>
  <dc:subject/>
  <dc:title>Slide 1</dc:title>
</cp:coreProperties>
</file>