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15F8-BE09-4CCD-AF26-B61EEA3C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460-ECB5-457C-84C1-91512EEF6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FD6E-B5E1-40F2-8330-EE39C08DA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384-FF7C-4D3C-917E-E63B3E490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ADFB-BFBB-4283-9817-03AB1C2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0E23-EAA0-46D4-9988-A7611329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56AB-0ECA-4994-A671-39CE6680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149-93E7-4B57-892D-B4E286781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D4E-343D-4AB2-AEF3-1EFA5F2F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993E-2C4D-475F-BB99-5CAA7074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F7F4-AA9F-4A8E-8A7C-BF4552E6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0203-BE59-4545-928F-15659963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BD7C-04B2-41D6-B325-96AE72D599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38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3:22Z</dcterms:created>
  <dc:creator>U Kyaw Naing</dc:creator>
  <dc:description/>
  <dc:language>en-US</dc:language>
  <cp:lastModifiedBy>U Kyaw Naing</cp:lastModifiedBy>
  <dcterms:modified xsi:type="dcterms:W3CDTF">2012-09-30T12:54:09Z</dcterms:modified>
  <cp:revision>1</cp:revision>
  <dc:subject/>
  <dc:title>Slide 1</dc:title>
</cp:coreProperties>
</file>