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55E-9E75-45D0-ABBC-847534C6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283-C2A0-4A86-92AB-4028A355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CF5-21F5-4301-869E-97F89156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DBD8-4E9F-4EEC-A9A9-AA1EC17FC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517-C5E4-49E8-BAB3-25B5A694D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509C-A42B-40AD-A30F-23DC518D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271-8B10-4D38-9DDF-E7F5B0E85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A00-A81B-4C66-B7E2-C2FE7A378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CB1-6DBE-4776-B3F5-0C4BDD24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F167-81DB-44DB-8EB1-77AD8917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B340-5D3F-4887-B7BA-2AC362B7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E5CE-1B15-4B00-9DE4-677CE03E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4229-F208-4C08-828D-804CB9006D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1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2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18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55:16Z</dcterms:created>
  <dc:creator>U Kyaw Naing</dc:creator>
  <dc:description/>
  <dc:language>en-US</dc:language>
  <cp:lastModifiedBy>U Kyaw Naing</cp:lastModifiedBy>
  <dcterms:modified xsi:type="dcterms:W3CDTF">2012-09-30T13:06:40Z</dcterms:modified>
  <cp:revision>2</cp:revision>
  <dc:subject/>
  <dc:title>Slide 1</dc:title>
</cp:coreProperties>
</file>