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7A80-17BC-4D30-AF6B-73554345A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CD3A-F735-45BA-AF82-365C9E4A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FB55-5C0C-4A44-9CB9-BFB59F79B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1ACF-D931-4F7E-A458-D6FC6992B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253B-3D9C-4275-A217-BB8175C1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CCF8-848F-479F-9493-B6442643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CDB2-4065-45D9-95FD-F56361668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1B2-AD50-4309-BF32-04C4BBF0B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C282-6651-4723-95B2-C2FD895C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C6B0-3C28-4AB1-846B-E8C55D24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1DC7-3714-4C58-92EE-73EB6E1C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7A5D-1742-4171-B679-9B8B0CC8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A942-8E78-46FB-A797-59CEB49B23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3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552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51:26Z</dcterms:created>
  <dc:creator>U Kyaw Naing</dc:creator>
  <dc:description/>
  <dc:language>en-US</dc:language>
  <cp:lastModifiedBy>U Kyaw Naing</cp:lastModifiedBy>
  <dcterms:modified xsi:type="dcterms:W3CDTF">2012-09-30T12:52:22Z</dcterms:modified>
  <cp:revision>1</cp:revision>
  <dc:subject/>
  <dc:title>Slide 1</dc:title>
</cp:coreProperties>
</file>