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F37-CE5D-450B-85A1-89BC8F2A9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8393-A7D7-422B-8A5B-86C6AB5D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2B0A-12DE-4771-92E5-9069EA38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825F-FD64-4DB0-87C8-65810A91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6B8-8FA7-4FF5-93BC-ED14A2ED0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DBCB-0B88-445F-ADC0-353E02BF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BFE8-CE8E-4EFE-99A6-E81A8C85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1C7-32CD-4900-BBC5-16FE98E5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57B-2CEC-4120-AEF9-427BFC6E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2FDA-8F7F-41FC-8471-EF867860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7C8-7605-4C61-B099-0CB542EC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2364-0598-41DF-A0E1-F442D370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EA6-2BD9-4B2D-AF1E-7E06561FBB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7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3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46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3:57:18Z</dcterms:created>
  <dc:creator>U Kyaw Naing</dc:creator>
  <dc:description/>
  <dc:language>en-US</dc:language>
  <cp:lastModifiedBy>U Kyaw Naing</cp:lastModifiedBy>
  <dcterms:modified xsi:type="dcterms:W3CDTF">2012-10-01T13:58:49Z</dcterms:modified>
  <cp:revision>1</cp:revision>
  <dc:subject/>
  <dc:title>Slide 1</dc:title>
</cp:coreProperties>
</file>