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4D9B-0636-4F9D-ACA3-63DF1329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C5B-66FB-4B8E-952B-C2FD5C30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227E-DFFC-44F3-BB0C-110C1ECC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43EC-A920-498E-AEB8-2CF210CB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5B56-59B9-444A-BE21-DD89C2FF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70C-DC5A-40A9-824F-7CAA87C0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DD73-1B02-45D1-8D55-8AF943DF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64F9-2DC5-4468-B375-A650ADE6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6BEF-2BF2-4B11-91A4-6007DEBB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45A8-C488-4A58-976B-E050421E1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31B-6A4B-46B1-A9CF-F0F9C69C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6184-52DD-4274-BEF0-7834062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9C6E-950E-48B2-9EEB-79C39DE374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2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8198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2:30Z</dcterms:created>
  <dc:creator>U Kyaw Naing</dc:creator>
  <dc:description/>
  <dc:language>en-US</dc:language>
  <cp:lastModifiedBy>U Kyaw Naing</cp:lastModifiedBy>
  <dcterms:modified xsi:type="dcterms:W3CDTF">2012-09-30T12:43:15Z</dcterms:modified>
  <cp:revision>1</cp:revision>
  <dc:subject/>
  <dc:title>Slide 1</dc:title>
</cp:coreProperties>
</file>