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D2A-69B4-4D42-919A-1EE985E8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DD95-0246-4B06-A8CA-7E679FD1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0A10-C67A-4D9E-B0EC-2D9B502C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9943-8D30-4416-85FA-DE029F4F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BF1D-1F0E-4937-B0D3-0D50935E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D5E-92FB-433A-AECA-A07E4A2E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56F6-5E7F-4C52-B6E9-9A84F7B5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A7A-14E3-498E-A923-B812DE5E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C7A-2533-4775-9D14-27628626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F68F-4C41-471A-BAB5-09F85684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0E2-208E-4CA0-AC0A-8D20297B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B03F-059D-461E-A74C-C3E76D12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4E34-008D-40E9-B388-DC7A7783B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14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6:40Z</dcterms:created>
  <dc:creator>U Kyaw Naing</dc:creator>
  <dc:description/>
  <dc:language>en-US</dc:language>
  <cp:lastModifiedBy>U Kyaw Naing</cp:lastModifiedBy>
  <dcterms:modified xsi:type="dcterms:W3CDTF">2012-10-01T14:17:55Z</dcterms:modified>
  <cp:revision>1</cp:revision>
  <dc:subject/>
  <dc:title>Slide 1</dc:title>
</cp:coreProperties>
</file>