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4A8-37C1-4D87-ABCB-6C11DA428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06B-9F4B-43EB-90E4-073199AF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035C-291E-4C9F-831F-70F63C1F9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4D2D-697C-4527-A931-141FDE6C4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9AD2-B031-45D1-B7D6-E4DCBBCF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4164-E941-40A0-BE23-4EE454258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7B53-465A-4FD6-97EB-CB804031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93D-5A5C-40C1-B900-F4F40712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251-55D8-401A-ACC8-BB303B5B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FFE3-C100-4712-B7DD-4BFFC0DB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D2C-684C-4976-BC51-FDE83501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A98B-6CF8-4B14-947C-49901E37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BBD0-E9D9-4DAA-B3B9-76228544A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3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187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49:16Z</dcterms:created>
  <dc:creator>U Kyaw Naing</dc:creator>
  <dc:description/>
  <dc:language>en-US</dc:language>
  <cp:lastModifiedBy>U Kyaw Naing</cp:lastModifiedBy>
  <dcterms:modified xsi:type="dcterms:W3CDTF">2012-09-30T12:50:11Z</dcterms:modified>
  <cp:revision>1</cp:revision>
  <dc:subject/>
  <dc:title>Slide 1</dc:title>
</cp:coreProperties>
</file>