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19F8-3CD2-4726-84D9-D9D39A3A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66D9-5A73-47CD-A72C-B2F61514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5F3F-6A9C-42F5-9114-21B7A31EA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35EB-C4E3-4F87-AC7B-2616418F3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D45C-604C-4D1B-90CF-8DADB05AF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A0E7-93B7-4CE0-90A8-E529EE81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9A68-4C3F-46DF-B930-3D80A29C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225A-E5A2-4883-9322-A8A409B4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7EE5-CB58-45BF-A829-5A2F5FD9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2C84-049F-42FA-8CDB-E118A05B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51D0-B39D-4B16-86B4-3A555705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8D70-80D1-4AAE-8D6A-96ABF0EF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BD896-9EC9-4852-859C-35C7E9A84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4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380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13:41Z</dcterms:created>
  <dc:creator>U Kyaw Naing</dc:creator>
  <dc:description/>
  <dc:language>en-US</dc:language>
  <cp:lastModifiedBy>U Kyaw Naing</cp:lastModifiedBy>
  <dcterms:modified xsi:type="dcterms:W3CDTF">2012-10-01T14:15:43Z</dcterms:modified>
  <cp:revision>1</cp:revision>
  <dc:subject/>
  <dc:title>Slide 1</dc:title>
</cp:coreProperties>
</file>