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F6B6-A1B7-469D-86D5-936A18EB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AA34-1534-4471-97AF-35556D6E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AF34-A48C-450A-B3E3-2B0175115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D036-9248-4856-AC33-B1A8F5F7C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8DAD-E62F-4C4E-AE86-BF5D4CD0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4C36-0CB4-4047-BBDA-0530B06D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5F47-5358-4DB2-8342-4CE4C817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967B-A55B-472D-A86A-97D84C4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0335-2114-4F8D-A086-A9A4F273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87E-39BE-47E5-A575-3874A433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B387-5EFC-4149-B486-11F6FA33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1170-C733-4672-A3D8-3542BE78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C1E-58EE-4F6F-8433-E1C545CE06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4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420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03:40:56Z</dcterms:created>
  <dc:creator>U Kyaw Naing</dc:creator>
  <dc:description/>
  <dc:language>en-US</dc:language>
  <cp:lastModifiedBy>U Kyaw Naing</cp:lastModifiedBy>
  <dcterms:modified xsi:type="dcterms:W3CDTF">2012-10-02T03:43:11Z</dcterms:modified>
  <cp:revision>1</cp:revision>
  <dc:subject/>
  <dc:title>Slide 1</dc:title>
</cp:coreProperties>
</file>