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9022-BD0F-4BBE-BB62-3ED17160B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5944-6CD5-446B-B06D-6DBAD3360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66CC-71EC-41E8-938B-2056963D0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89ED-3097-4EDE-B1CF-B9B57E268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4F00-C306-4ABB-9720-698BD46C5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A0BF-E554-424B-ABA4-09907174A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4000-3F7B-496A-BB01-0888CBE53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5AFE-7F3B-4B0B-BFB8-E26C5C6FB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8483-7F22-4994-8228-7BB202E7F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B298-7866-4C31-AB41-DDA6F737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453D-A3C6-4005-BAD4-CD77DB39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F50F-D564-47A9-8DEB-6823FE60E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62CA6-DE06-4427-9E3A-BAEA242FD98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32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245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8403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1T14:12:36Z</dcterms:created>
  <dc:creator>U Kyaw Naing</dc:creator>
  <dc:description/>
  <dc:language>en-US</dc:language>
  <cp:lastModifiedBy>U Kyaw Naing</cp:lastModifiedBy>
  <dcterms:modified xsi:type="dcterms:W3CDTF">2012-10-01T14:13:34Z</dcterms:modified>
  <cp:revision>1</cp:revision>
  <dc:subject/>
  <dc:title>Slide 1</dc:title>
</cp:coreProperties>
</file>