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3492-29E9-483E-BC88-43227DE26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78AC-3E96-4A62-8C5D-353A618A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44FC-BD0E-4704-A12C-646395FA1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32BE-7F04-487D-9082-6B95F6F6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F01B-AFDC-4221-8296-684E09B9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9A06-18E8-49E2-A38F-41D4A7DE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B3D-C96D-4C36-88DC-0EFEF66B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3A9F-9417-4F59-A844-26B61A9F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854A-1387-4DDD-B309-83F41D5D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63F5-4770-4D5E-9EC7-E96A6B00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0CF0-A0BD-4D95-B2F4-1B9F6578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F7A-57DA-4989-B484-FFE885B5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4022-C8B4-478A-B957-C9C8BA0BDF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02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0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9952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39:15Z</dcterms:created>
  <dc:creator>U Kyaw Naing</dc:creator>
  <dc:description/>
  <dc:language>en-US</dc:language>
  <cp:lastModifiedBy>U Kyaw Naing</cp:lastModifiedBy>
  <dcterms:modified xsi:type="dcterms:W3CDTF">2012-09-30T12:40:14Z</dcterms:modified>
  <cp:revision>1</cp:revision>
  <dc:subject/>
  <dc:title>Slide 1</dc:title>
</cp:coreProperties>
</file>