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F4B7-0A03-40DB-B137-864072507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10C9-39EE-47A4-A0A6-2B092C6C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2AE-498C-45D6-986F-14ACA077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E56-7F47-48BA-A7A2-01B050787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BAF-CD3A-4CD2-BDD5-A6D7CA0C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F83-894A-4ED8-B3F2-239BDEFB1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7E41-31F7-4912-8754-29E4913D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EA46-3871-44EE-9CD6-8CE8F9B8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04E-A2B4-43DE-B15D-7D46993D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0842-0577-45C5-AA6A-CC826D80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C94-F69A-4A1F-BE15-9F7B9C9C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F43-324A-481D-97C0-D592C8A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FDB7-BC78-447A-A165-B9039637DE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SUNP0025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06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22656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36:15Z</dcterms:created>
  <dc:creator>U Kyaw Naing</dc:creator>
  <dc:description/>
  <dc:language>en-US</dc:language>
  <cp:lastModifiedBy>U Kyaw Naing</cp:lastModifiedBy>
  <dcterms:modified xsi:type="dcterms:W3CDTF">2012-09-30T12:38:13Z</dcterms:modified>
  <cp:revision>1</cp:revision>
  <dc:subject/>
  <dc:title>Slide 1</dc:title>
</cp:coreProperties>
</file>