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F575-33A3-424C-B784-FAE200DC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855-DDCF-4654-8632-104C7C00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438-1F07-496A-BFBF-1730689C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7DE0-90F0-4E66-AC40-F3297A56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7BB1-0E58-4544-85D7-47FA20FA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049-31A4-4BE8-B32D-D6375E18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BB38-9D5E-483D-B3FD-E185CB5CE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CFCF-8685-41CE-828A-5440F000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406-DA21-48CA-A907-736E33E9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5D63-6A0A-4685-BF0D-096DA730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1A8-D443-4336-AD3C-8A64BB76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C1B-86D0-4F20-A78A-0571DBFD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1D00-87AF-4614-AB9D-EA34DA78A3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74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19:13Z</dcterms:created>
  <dc:creator>U Kyaw Naing</dc:creator>
  <dc:description/>
  <dc:language>en-US</dc:language>
  <cp:lastModifiedBy>U Kyaw Naing</cp:lastModifiedBy>
  <dcterms:modified xsi:type="dcterms:W3CDTF">2012-10-01T14:20:01Z</dcterms:modified>
  <cp:revision>1</cp:revision>
  <dc:subject/>
  <dc:title>Slide 1</dc:title>
</cp:coreProperties>
</file>