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24F1-D772-4023-B999-3712F7DD5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63F5-1836-4BCE-A13C-6FCF6950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5FA9-7052-4BB4-837C-58EA3931B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70A3-9B64-4ACD-B653-BC687937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FC41-721E-4F0C-9D2B-58593273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1AFC-BBB7-4AA9-91EF-949DC8E3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65B0-3701-484A-BA46-853F0A53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858C-5F55-4DEE-A4FD-EC9E47DE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86C-DABF-4F23-9952-8547A888C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110-74E2-4E3B-94B3-B69A1018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6FB-101C-49AF-AD1D-B3A25649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C7AB-CFA1-44B2-B4D0-B749D5F9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0F67-06E8-447B-AA57-699B566549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371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5:51Z</dcterms:created>
  <dc:creator>U Kyaw Naing</dc:creator>
  <dc:description/>
  <dc:language>en-US</dc:language>
  <cp:lastModifiedBy>U Kyaw Naing</cp:lastModifiedBy>
  <dcterms:modified xsi:type="dcterms:W3CDTF">2012-10-01T14:16:33Z</dcterms:modified>
  <cp:revision>1</cp:revision>
  <dc:subject/>
  <dc:title>Slide 1</dc:title>
</cp:coreProperties>
</file>