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655F-155C-449C-8438-A3BC783B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F85-08BC-4311-9E7B-8662002E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BF1A-FDA2-44D7-A67B-C63A403E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43C-8FA4-4925-84F6-A983C2C2D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D985-AE4F-4F52-9023-1D22C0BB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37D0-FAE0-4824-A8B7-F4BA65E5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D61-126F-4AF2-9B00-947A433E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C2B8-BB72-459B-B24F-6FA6FF98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A474-86CB-4D6F-85F3-FF74B03E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2D0E-1FFF-4007-AF3F-258BFC0A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D94-CFC0-4055-B2C3-1536444F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E955-A8C9-4DF0-B990-57AE2723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2687-B135-4583-B8C3-4B63BDAA23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4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5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9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20:08Z</dcterms:created>
  <dc:creator>U Kyaw Naing</dc:creator>
  <dc:description/>
  <dc:language>en-US</dc:language>
  <cp:lastModifiedBy>U Kyaw Naing</cp:lastModifiedBy>
  <dcterms:modified xsi:type="dcterms:W3CDTF">2012-10-01T14:20:52Z</dcterms:modified>
  <cp:revision>1</cp:revision>
  <dc:subject/>
  <dc:title>Slide 1</dc:title>
</cp:coreProperties>
</file>