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7856-C425-4076-97B4-A76EAAB9D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472-8B76-40DE-B5E3-77D4F73B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7C2B-AABB-4249-8CC3-6C1B6986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A15-1BC9-42E4-B594-8E1E1898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55E8-CB5B-44A9-A978-C97EDF51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2345-2841-4756-9464-D20A1C0A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CD34-DB49-4711-ABDC-1B8811BE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BE1-284A-4E9A-9387-7C9C2F52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D17D-41D8-4D7C-89A0-7C13C555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3AA-76D5-4075-914E-760C2053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BFEF-F714-493F-8F91-83DDFF4D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7B8C-5778-46AF-B065-8C878847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1CC1-9624-469A-862C-4AD831A1C8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3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99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52:28Z</dcterms:created>
  <dc:creator>U Kyaw Naing</dc:creator>
  <dc:description/>
  <dc:language>en-US</dc:language>
  <cp:lastModifiedBy>U Kyaw Naing</cp:lastModifiedBy>
  <dcterms:modified xsi:type="dcterms:W3CDTF">2012-09-30T12:53:14Z</dcterms:modified>
  <cp:revision>1</cp:revision>
  <dc:subject/>
  <dc:title>Slide 1</dc:title>
</cp:coreProperties>
</file>