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A187-3070-491F-AEDD-63923EBE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07C-5BF1-4B93-A823-01BC911F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07AB-6D25-4222-A798-3E2A0C47C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F837-CCDE-4DB8-AF5A-F776532D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459-4098-4CC3-B8A1-1B0ADD22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CEB-8F3D-4622-A497-3967B4A0C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41A-6F88-474D-AD3B-027E3157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9CE0-31A3-4670-A35D-0FA7689C3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ECCF-D26B-4CCF-B1AF-E7D7AC81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4517-C61D-4B01-B16E-90C87782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2843-28CA-4783-B7E4-57A6CA8B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DE9D-D24B-4545-86D3-BF816D04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9AF4-DE58-4D9A-AA50-B145898C7E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4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59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4476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4:24:33Z</dcterms:created>
  <dc:creator>U Kyaw Naing</dc:creator>
  <dc:description/>
  <dc:language>en-US</dc:language>
  <cp:lastModifiedBy>U Kyaw Naing</cp:lastModifiedBy>
  <dcterms:modified xsi:type="dcterms:W3CDTF">2012-10-01T14:27:26Z</dcterms:modified>
  <cp:revision>1</cp:revision>
  <dc:subject/>
  <dc:title>Slide 1</dc:title>
</cp:coreProperties>
</file>