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0162-2331-4C26-BEEB-C36C0C43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9B3F-CCC5-49D3-BAF6-6B2D32D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03B4-8CAC-4079-A9A9-DCC5D1680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498-EF28-4D6F-A677-5188D67C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5B23-D541-4626-A2D4-C496C4DD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B9D-3EFE-41E1-B273-27BFE313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B87B-8CD3-404D-AC5C-836DAE01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944F-DD16-4EF8-9508-6E2FB03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5E98-6F7A-4BE7-AC57-15664AC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7EA-8D7A-42F9-8035-63F86E6E2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2E5-DCF1-4161-9DB7-13F04A81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5554-B075-4840-A66F-20E9CE88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EEF1-6446-4363-9F96-EFC7AE4E0F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59:44Z</dcterms:created>
  <dc:creator>U Kyaw Naing</dc:creator>
  <dc:description/>
  <dc:language>en-US</dc:language>
  <cp:lastModifiedBy>U Kyaw Naing</cp:lastModifiedBy>
  <dcterms:modified xsi:type="dcterms:W3CDTF">2012-10-01T14:00:25Z</dcterms:modified>
  <cp:revision>1</cp:revision>
  <dc:subject/>
  <dc:title>Slide 1</dc:title>
</cp:coreProperties>
</file>