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627-4AB5-46E9-A56A-E67C6B02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A75C-5E15-4AC9-BF9D-F4C08085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2A42-D0CB-4B2F-8572-1883DE7E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867B-F770-405C-926F-27225EDA9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92F-6A69-4688-84C2-2DAE7B6C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113-B3C9-4A86-970D-63CC492A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4F8-43AC-4C45-8260-E3A0677F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C5C-2168-4AFA-946E-5E4ADF5BA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7B9F-B8E8-4CA4-A8E6-F83D1D30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D7C-E079-41A1-B63F-52DDF78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C91A-0E7D-4617-9AE7-ED526377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7245-4832-421D-B534-BF93B22D1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51669-1C08-490D-870C-195638BAA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23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11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06:44Z</dcterms:created>
  <dc:creator>U Kyaw Naing</dc:creator>
  <dc:description/>
  <dc:language>en-US</dc:language>
  <cp:lastModifiedBy>U Kyaw Naing</cp:lastModifiedBy>
  <dcterms:modified xsi:type="dcterms:W3CDTF">2012-09-30T13:09:03Z</dcterms:modified>
  <cp:revision>1</cp:revision>
  <dc:subject/>
  <dc:title>Slide 1</dc:title>
</cp:coreProperties>
</file>