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BC40-306F-4F98-BC1C-ED90EFC8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9351-E956-409B-926F-C4C363A4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E6E-8CDB-49E1-9940-A77CE4F9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469A-BD1B-4EAB-AA75-9AA260BD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824C-E865-4616-8388-2E9EE11B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05A4-CF85-4D62-BD20-E514DDFD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7962-C0E6-42AB-85E6-6A41D0F0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F97-7BD1-4424-AFC8-3B21ED8E6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41C-186F-4649-B816-85198E78C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EB3-E23D-4C06-BBFF-F36E6C3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AA92-FEFD-4656-9B34-220794E8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E6BA-DB6E-4749-BF1F-73EA88C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3B18-EBE6-4EE9-B6E9-37D52D0A52B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4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7993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30:38Z</dcterms:created>
  <dc:creator>U Kyaw Naing</dc:creator>
  <dc:description/>
  <dc:language>en-US</dc:language>
  <cp:lastModifiedBy>U Kyaw Naing</cp:lastModifiedBy>
  <dcterms:modified xsi:type="dcterms:W3CDTF">2012-10-01T14:31:34Z</dcterms:modified>
  <cp:revision>1</cp:revision>
  <dc:subject/>
  <dc:title>Slide 1</dc:title>
</cp:coreProperties>
</file>