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AAA1-82C7-42BA-8BDA-269915F0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2B5-E6FB-4903-9B33-288575FF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23D-2967-4CFB-AD9E-60199D0C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640-8B81-425A-8FF8-8D7706707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AEEB-F16B-4BED-BDFF-7950E3B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F7A7-4EF0-4487-B293-091D6CD4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96C-0B77-418C-AE3F-AFA39C34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61C7-9B1A-46EC-9221-4C462AD9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F898-D287-4DA4-B8D9-02ED99DA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3286-5EBD-41BB-8962-C800FD87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8E7-31CA-4EA0-85FE-6D00DA95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56DD-155A-4FBC-9AA2-AE19E888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317-5616-4156-82C5-D2648FA781E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61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600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SUNP003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SUNP003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SUNP000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SUNP0008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31:41Z</dcterms:created>
  <dc:creator>U Kyaw Naing</dc:creator>
  <dc:description/>
  <dc:language>en-US</dc:language>
  <cp:lastModifiedBy>U Kyaw Naing</cp:lastModifiedBy>
  <dcterms:modified xsi:type="dcterms:W3CDTF">2012-10-01T14:37:39Z</dcterms:modified>
  <cp:revision>2</cp:revision>
  <dc:subject/>
  <dc:title>Slide 1</dc:title>
</cp:coreProperties>
</file>