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035-3EAE-4997-9BE8-5D11D0E7F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47A8-1951-4050-BC1E-E8C937B9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C6C0-446B-42E0-85CF-36FF27CE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954D-BDE6-40EF-AAC5-982F36FE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D67-164D-4DBB-B530-95D658D0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4790-DB51-4D45-A2A0-0298DCE5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6D9B-8E01-4333-A889-8FA8C5FF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8D34-9E20-423D-8A0D-D38ABAF8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D7C2-C6C4-4B63-B1FD-B3A403E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6DD-42C3-43C6-8A84-C963F5B3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29DD-0952-4271-B476-E7D1A836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54D6-FEE3-4F66-B25E-F06D018C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4B34-4A40-4064-8B05-24942C5F08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62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05:32Z</dcterms:created>
  <dc:creator>U Kyaw Naing</dc:creator>
  <dc:description/>
  <dc:language>en-US</dc:language>
  <cp:lastModifiedBy>U Kyaw Naing</cp:lastModifiedBy>
  <dcterms:modified xsi:type="dcterms:W3CDTF">2012-10-01T14:08:18Z</dcterms:modified>
  <cp:revision>1</cp:revision>
  <dc:subject/>
  <dc:title>Slide 1</dc:title>
</cp:coreProperties>
</file>