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CD6-A83B-4A32-AE54-7724984A3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3569-6202-4BD9-8D4E-41B77EF0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AA78-4332-49A8-A784-89038DF5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3C0B-DACE-433F-A9A3-C04EA4C97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8E94-E221-4A0A-A158-820BCEF7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12A6-68F4-4CEE-8058-C2D72DB9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08D2-154E-470D-8BB1-766D2659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BC2-FDDD-4E37-846B-D8B38416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8B84-1B82-43BA-A3F3-BF170EC5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33C-B23E-4322-826A-5345E423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474F-CB65-4D29-8EF3-292FAF3B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D51-03BD-422F-8ECC-922F7BDB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4BC14-B049-4F13-AB92-F855BC6EDB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6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5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334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21:01Z</dcterms:created>
  <dc:creator>U Kyaw Naing</dc:creator>
  <dc:description/>
  <dc:language>en-US</dc:language>
  <cp:lastModifiedBy>U Kyaw Naing</cp:lastModifiedBy>
  <dcterms:modified xsi:type="dcterms:W3CDTF">2012-10-01T14:21:42Z</dcterms:modified>
  <cp:revision>1</cp:revision>
  <dc:subject/>
  <dc:title>Slide 1</dc:title>
</cp:coreProperties>
</file>