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8CFD-4881-405C-A1D5-2F9211333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F777-4C65-4559-A025-79BB14A3F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1942-27AA-431C-8672-64E3722DC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53CE-B309-4420-A637-15A08E39A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FBC8-6BFD-49B0-AEF8-43DD042B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03C4-087F-4236-8FD0-774C299EF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AC6A-BEF5-4833-AFFF-71F31FA04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8297-E54E-4320-8953-891CF0E8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6904-97E9-4D07-B64B-5BD29BCF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A616-3043-4156-9694-B2F27571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0023-71C2-47D0-9FF7-B02DE008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5ACE-29A6-4859-B68C-9F034408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8FBB-3961-473E-9CB2-7ABD3270B5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UNP0002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28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9801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47:48Z</dcterms:created>
  <dc:creator>U Kyaw Naing</dc:creator>
  <dc:description/>
  <dc:language>en-US</dc:language>
  <cp:lastModifiedBy>U Kyaw Naing</cp:lastModifiedBy>
  <dcterms:modified xsi:type="dcterms:W3CDTF">2012-09-30T12:49:08Z</dcterms:modified>
  <cp:revision>1</cp:revision>
  <dc:subject/>
  <dc:title>Slide 1</dc:title>
</cp:coreProperties>
</file>