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9C92-798A-484D-B590-053155F6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FAC3-46FD-4FB1-8314-EFA2CEF0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60D-943A-491C-A3B1-216E9E2B0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FC56-BB4E-4BEB-BA6F-DF85CD45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2FC1-F804-4BB6-836A-2813F6ED3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2645-4A33-4FF3-8D11-99DAD6833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6D94-A876-42F2-A779-8CE0DFD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95B-143A-478B-9A28-37981F81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311B-D684-4969-9F19-4B9AF60F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687-AC94-4663-BC6D-069C32E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7C4A-3BA1-4B30-A21C-DB87A02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07E-2D75-471B-B486-EA01B833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E291-DCB9-472B-9468-88297F922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075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58:55Z</dcterms:created>
  <dc:creator>U Kyaw Naing</dc:creator>
  <dc:description/>
  <dc:language>en-US</dc:language>
  <cp:lastModifiedBy>U Kyaw Naing</cp:lastModifiedBy>
  <dcterms:modified xsi:type="dcterms:W3CDTF">2012-10-01T13:59:37Z</dcterms:modified>
  <cp:revision>1</cp:revision>
  <dc:subject/>
  <dc:title>Slide 1</dc:title>
</cp:coreProperties>
</file>