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4C26-228D-4EE7-81C2-9DE57DCD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8D2C-54F8-47C7-BB7D-3713C1E3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C6D-1BF7-4D78-8072-AE6BC6F7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6D1-5ABC-4C20-BCA1-03CBDF22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080F-4B4F-4784-B6CC-F1434EDB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833B-5535-483D-B903-CF1BC1E9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32D-84D5-42F4-B1E4-182D1FFD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1F4-FABF-4702-A133-4552AD4A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BD4-F05F-4285-BD05-000BD10A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7BB-C465-4DFA-8031-795F8228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4456-6F2D-4B27-9EBD-8BC5D813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0090-FD37-4A44-B85C-787B560E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13E9-44D2-4255-9A9E-32AE42CF19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6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07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498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38:24Z</dcterms:created>
  <dc:creator>U Kyaw Naing</dc:creator>
  <dc:description/>
  <dc:language>en-US</dc:language>
  <cp:lastModifiedBy>U Kyaw Naing</cp:lastModifiedBy>
  <dcterms:modified xsi:type="dcterms:W3CDTF">2012-09-30T12:39:07Z</dcterms:modified>
  <cp:revision>1</cp:revision>
  <dc:subject/>
  <dc:title>Slide 1</dc:title>
</cp:coreProperties>
</file>