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6179-9D92-406F-B514-A6ED07680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E73-FEDA-43CD-9AB9-3DF33C67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398-C6FF-4A1F-A2F5-800D8FCAA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5860-7595-4C6F-A8D3-EECE7EA5F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E662-BBAD-4768-BFD1-C5D1334A1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2465-07BD-43AC-ABAD-915BA8A1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063E-A70D-43D5-875E-FE867A73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AB9-F346-49B3-8CD1-F0974916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66E3-D0D7-4FD1-886A-D81497A0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E1DE-DE0B-465B-8B55-97950C8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AC8E-7ED7-4B90-8101-390D8379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69CC-E525-4EF9-87A9-418701F3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064D-A67B-48BF-A67A-BC7600B9B2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1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1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112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6:51Z</dcterms:created>
  <dc:creator>U Kyaw Naing</dc:creator>
  <dc:description/>
  <dc:language>en-US</dc:language>
  <cp:lastModifiedBy>U Kyaw Naing</cp:lastModifiedBy>
  <dcterms:modified xsi:type="dcterms:W3CDTF">2012-09-30T12:47:39Z</dcterms:modified>
  <cp:revision>1</cp:revision>
  <dc:subject/>
  <dc:title>Slide 1</dc:title>
</cp:coreProperties>
</file>