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6D5F-9100-4EC1-A2A9-3C738252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DE69-687A-41D2-BE52-48D29E052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D5F3-2E41-48D3-8FA5-B47DFB7C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C0B9-AF3D-4AA1-AC7E-40DD2C6D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8A20-8950-482E-900B-C783D09D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D048-3619-4AA9-8840-3D5C93E5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47E5-B92B-4899-AAF1-4921172C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F06-6164-4E5B-B0DA-D31CB40A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182-8F3F-4AF1-B1F3-E88007D1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FD0A-0180-490C-B03B-CF0CC0CA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E7F-0A7C-4644-9642-4479ECEB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69CB-1E2F-4EF5-8956-E7C42A1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E1C9-EA3E-449F-B027-24C8505ACF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UNP0023.JPG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04000"/>
          </a:xfrm>
          <a:prstGeom prst="rect">
            <a:avLst/>
          </a:prstGeom>
          <a:ln w="0">
            <a:noFill/>
          </a:ln>
        </p:spPr>
      </p:pic>
      <p:pic>
        <p:nvPicPr>
          <p:cNvPr id="42" name="Page 205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Page 205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30848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230848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23084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2:30:52Z</dcterms:created>
  <dc:creator>U Kyaw Naing</dc:creator>
  <dc:description/>
  <dc:language>en-US</dc:language>
  <cp:lastModifiedBy>U Kyaw Naing</cp:lastModifiedBy>
  <dcterms:modified xsi:type="dcterms:W3CDTF">2012-09-30T12:36:07Z</dcterms:modified>
  <cp:revision>1</cp:revision>
  <dc:subject/>
  <dc:title>Slide 1</dc:title>
</cp:coreProperties>
</file>