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A5F6-6ADA-4406-9E5A-98304DB9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2F13-CE08-4955-835C-1E8AC839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6EEF-69C3-4E9F-8BCA-5A5233D5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8C72-9F95-4B97-A7D7-A4614001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89C6-1081-4167-9F52-6BF2315D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9E0-95A5-4F9F-BC32-36910C8B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DC9-9938-4F16-B528-B363518A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EC51-AA98-4970-9F44-311E3D7A2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21D6-E412-40AE-B94B-3A9B5C56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A253-C29D-4261-81A9-CF30F09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B61-0166-4C6A-8B0F-89A585C2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71DF-9B00-44CB-8898-90796574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F3EA-A133-45CE-8521-AF41F9CAC9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0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5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561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4:22:52Z</dcterms:created>
  <dc:creator>U Kyaw Naing</dc:creator>
  <dc:description/>
  <dc:language>en-US</dc:language>
  <cp:lastModifiedBy>U Kyaw Naing</cp:lastModifiedBy>
  <dcterms:modified xsi:type="dcterms:W3CDTF">2012-10-01T14:23:38Z</dcterms:modified>
  <cp:revision>1</cp:revision>
  <dc:subject/>
  <dc:title>Slide 1</dc:title>
</cp:coreProperties>
</file>