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D468-2219-4C11-A7B1-D60D0552A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5A34-76F2-402C-94D2-7A10E602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102-5472-4476-98A5-C08A7D78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8E1-C15E-45A2-B10D-5538E107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C36-60AA-45F5-83CA-2C48419A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B17-B78F-4A14-ADA7-91479A36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44AC-A291-4C00-B697-7004A0D98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DBE-6C85-422C-940C-18997546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28B4-2FDF-46AE-9FF2-C25B86F0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385-3E6B-446E-800B-B7B48383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72C-A475-4381-A04F-EBEAC29E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16A-1C58-4CD0-A8A0-8E068BC4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22C1-2C84-40FE-A9CF-1C0BC37F9E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5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4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20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4:10:24Z</dcterms:created>
  <dc:creator>U Kyaw Naing</dc:creator>
  <dc:description/>
  <dc:language>en-US</dc:language>
  <cp:lastModifiedBy>U Kyaw Naing</cp:lastModifiedBy>
  <dcterms:modified xsi:type="dcterms:W3CDTF">2012-10-01T14:12:29Z</dcterms:modified>
  <cp:revision>1</cp:revision>
  <dc:subject/>
  <dc:title>Slide 1</dc:title>
</cp:coreProperties>
</file>