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4306-292C-4AB4-BCD8-C5734B430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306C-1C65-4A4C-A8B0-66042184A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46B3-A8FF-4EAC-8448-F9F4B2A4F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F2B2-D68A-4171-B0A6-119DBE9E5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6349-2149-4C9A-AB5E-E53F90F30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4BCC-B182-4E02-A1BF-F251165B9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C2AA-C1F7-418B-A32A-E07F91599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9E5B-7312-4267-AC8B-512088548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59DB-6E31-4FC8-A48A-D6995EB92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5F50-82C8-4EDA-A3D1-05282B94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AFA8-4AB3-4439-B22D-24E7C830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3AFB-9F10-42C0-AF44-F946AFF2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4FC55-66C7-4631-BFAF-3A14EEAF83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UNP0007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231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564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2:50:22Z</dcterms:created>
  <dc:creator>U Kyaw Naing</dc:creator>
  <dc:description/>
  <dc:language>en-US</dc:language>
  <cp:lastModifiedBy>U Kyaw Naing</cp:lastModifiedBy>
  <dcterms:modified xsi:type="dcterms:W3CDTF">2012-09-30T12:51:19Z</dcterms:modified>
  <cp:revision>1</cp:revision>
  <dc:subject/>
  <dc:title>Slide 1</dc:title>
</cp:coreProperties>
</file>