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471E-DBC3-4DB6-A96A-7ECC6F77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598-CDF2-4342-9961-370BD38E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7DB9-584E-4C5E-B0B3-3951BA2B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9525-2A04-4C83-94E5-22720FC6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A238-33F0-4227-BA2F-69DB3FEE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7C9E-01C9-437D-AAEB-E7E84837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3BED-46B7-49FC-B351-B7D0661A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950A-A137-4189-825F-218ABFE9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CB8E-99EC-483D-ACAF-9EAFDD24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A3A3-0612-4445-9EB6-300C9F0B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922F-A135-4662-A6C8-D779891F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2532-F667-4D9D-98CE-15AB7838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442E-9B0F-456D-A023-389695B78A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1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6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3622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23:04Z</dcterms:created>
  <dc:creator>U Kyaw Naing</dc:creator>
  <dc:description/>
  <dc:language>en-US</dc:language>
  <cp:lastModifiedBy>U Kyaw Naing</cp:lastModifiedBy>
  <dcterms:modified xsi:type="dcterms:W3CDTF">2012-09-30T12:23:52Z</dcterms:modified>
  <cp:revision>1</cp:revision>
  <dc:subject/>
  <dc:title>Slide 1</dc:title>
</cp:coreProperties>
</file>