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6FAC-5C2F-4559-A583-6C4B3838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1C2E-69BB-4346-A8AD-7B007AF7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453-4760-402A-ADDE-C86677B5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4941-A2DD-45FE-9D1F-E53AD27F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0AE6-9B1C-4154-9918-2569B6C0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0832-6947-476C-8058-92590889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3EFB-F27C-488D-A350-E82206A2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54E2-B4A3-4C64-9B08-6533B196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3F21-8420-4A98-842A-37EE6565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9DCE-0EBF-41A7-A26D-FA1CDCDB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BBA7-77B0-4C4F-B1C4-11EBEF3D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404D-86A0-4FAC-95AC-272F0265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D1F6-A941-44FD-9650-35D3971DCC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20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876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1:40:24Z</dcterms:created>
  <dc:creator>U Kyaw Naing</dc:creator>
  <dc:description/>
  <dc:language>en-US</dc:language>
  <cp:lastModifiedBy>U Kyaw Naing</cp:lastModifiedBy>
  <dcterms:modified xsi:type="dcterms:W3CDTF">2012-09-30T11:43:09Z</dcterms:modified>
  <cp:revision>1</cp:revision>
  <dc:subject/>
  <dc:title>Slide 1</dc:title>
</cp:coreProperties>
</file>