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892-A642-4DCB-95FB-70437DA8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64D-DF1B-4F34-AA9E-EB83FF6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A1C-95C0-4AA0-91D0-DC9F501E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547-F069-4E59-820F-68F1CF1F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753-76A2-4F7F-AB90-67BA8ECA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5DD-CEFD-4ABC-B148-28EBDE29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FF9-AC32-4F0E-8065-2EFA78C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7DE-F72B-46D5-AAF6-FA21EFE0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32F-4A51-429E-B59D-E1E4BE6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0A1-B7E9-45A3-B5A9-0C93719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ADF-2B44-4D80-B838-116468C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A83-B292-42A3-813F-E7AA930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4FDE-658A-40FA-AF20-A0B336F79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8:26Z</dcterms:created>
  <dc:creator>U Kyaw Naing</dc:creator>
  <dc:description/>
  <dc:language>en-US</dc:language>
  <cp:lastModifiedBy>U Kyaw Naing</cp:lastModifiedBy>
  <dcterms:modified xsi:type="dcterms:W3CDTF">2012-09-30T12:20:22Z</dcterms:modified>
  <cp:revision>1</cp:revision>
  <dc:subject/>
  <dc:title>Slide 1</dc:title>
</cp:coreProperties>
</file>