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8DF3-4FAB-4832-85B2-3AC4CA9E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86B1-2CEB-498D-B935-B521E6CE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D098-74F3-4B97-B65D-410D406BE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EFCB-9121-4069-9346-522A35C6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80F3-6DB3-41B6-8DA6-BDA11BFF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F41E-71BB-4C69-9BBD-230E1E2B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BA8B-4364-43C5-9011-DF60F365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1139-57DA-437C-82FA-D1B249AC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D480-20C0-4DCB-814C-3A59BDD4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8026-EFD8-4FD5-BD50-542CD90D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02B6-94BB-4F02-80CE-68744AFF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AF60-4FD6-4B30-8490-54F77172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E5D9-1635-4CBC-A186-80B4EBE032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9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67 Part 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35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22:21Z</dcterms:created>
  <dc:creator>U Kyaw Naing</dc:creator>
  <dc:description/>
  <dc:language>en-US</dc:language>
  <cp:lastModifiedBy>U Kyaw Naing</cp:lastModifiedBy>
  <dcterms:modified xsi:type="dcterms:W3CDTF">2012-09-30T12:22:58Z</dcterms:modified>
  <cp:revision>1</cp:revision>
  <dc:subject/>
  <dc:title>Slide 1</dc:title>
</cp:coreProperties>
</file>