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0EA-1682-451E-82D5-7A96AB6F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B17-F4E7-4879-8FA9-AC2514B1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99C-FC43-433D-8E86-BF915D2E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B29-E77C-4A0D-BB19-DD0AE549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187-F20E-486B-90C4-F9975EF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197-EE3B-4809-BA91-19E64D25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9C8-7A15-457C-A438-430B2BC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2ED-D3B8-4970-9D76-05E4CE5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BCF-3878-4AA4-B205-A94C9E9E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22F-0AF4-4BB0-9936-69B0D6A3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E01-9EEC-469D-81DD-0BCDA7B6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AFE-9956-4C52-BB0C-984984C2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2B59-A591-4796-9AFA-9E54D26675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04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4:11Z</dcterms:created>
  <dc:creator>U Kyaw Naing</dc:creator>
  <dc:description/>
  <dc:language>en-US</dc:language>
  <cp:lastModifiedBy>U Kyaw Naing</cp:lastModifiedBy>
  <dcterms:modified xsi:type="dcterms:W3CDTF">2012-09-30T11:45:32Z</dcterms:modified>
  <cp:revision>1</cp:revision>
  <dc:subject/>
  <dc:title>Slide 1</dc:title>
</cp:coreProperties>
</file>