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514-EA65-46C5-8D64-497AB303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E12-7EFF-47A6-A915-1C9E8E60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1F2-9B80-4E78-AC2E-DD6981E9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5DB-590B-42A9-BD54-43DE8AEB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E21-D5DA-437A-8631-5260C7E2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006-D6C5-4BA3-839E-A1BA17F6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2B8-F3AD-4A75-8A3E-F2438D96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9C2-305C-4CED-B35B-40099CDA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8B2-B2E1-4887-8E43-271979B4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0EE-D6FC-4429-8FBA-566508B8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DD2-B9BB-41CF-B413-97AB2AF7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8CD-6A56-4A55-89B4-A627A4C7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D8D6-9188-40C6-9DFE-20794A47C3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0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2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1:18Z</dcterms:created>
  <dc:creator>U Kyaw Naing</dc:creator>
  <dc:description/>
  <dc:language>en-US</dc:language>
  <cp:lastModifiedBy>U Kyaw Naing</cp:lastModifiedBy>
  <dcterms:modified xsi:type="dcterms:W3CDTF">2012-09-30T12:12:04Z</dcterms:modified>
  <cp:revision>1</cp:revision>
  <dc:subject/>
  <dc:title>Slide 1</dc:title>
</cp:coreProperties>
</file>