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6FD-024F-4A2B-94A9-EA5602CF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94A-BE95-4D11-826D-7647960B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DDF-2666-40BD-BB52-D795E6B7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6BB-D559-4446-ACDC-679AA78B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FA8-1175-45D6-BB1E-0FF0874E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4E3-DD2D-4DDC-BED6-6E3B418A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25B-06D9-4C2E-A8DC-948A4878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6F6-B88F-42DC-909B-239F9856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C85-7DA3-420C-AEDE-47A05EDF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966-5A21-4927-A0D9-7AA6520D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8E6-619B-4740-AC3F-6401F26A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07B-C574-48A6-AB35-FED6FBEA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779D-1903-4EB7-BF54-91049E5418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28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5:33Z</dcterms:created>
  <dc:creator>U Kyaw Naing</dc:creator>
  <dc:description/>
  <dc:language>en-US</dc:language>
  <cp:lastModifiedBy>U Kyaw Naing</cp:lastModifiedBy>
  <dcterms:modified xsi:type="dcterms:W3CDTF">2012-09-30T12:16:19Z</dcterms:modified>
  <cp:revision>1</cp:revision>
  <dc:subject/>
  <dc:title>Slide 1</dc:title>
</cp:coreProperties>
</file>