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147-B118-499B-8A87-8D2E09AD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A3E-5DFD-41F2-A83F-AC1E0CF9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CBC-F997-4348-92D0-A602BEEE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8E5-FEA2-460D-AD3B-74FEFB06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844-B515-40E6-BCCF-4AD20768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64E-7B53-4933-89E4-FDD7D021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CBB-6B88-4FD9-82E3-CACD6E50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2CB-194B-4FEF-BFBD-4546326F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5C8-9C91-456B-90E4-2B298BC4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6A3-3F3F-4FE6-BB51-EFF7FCA4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814-338D-4B30-976F-BE8F93B4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EA6-6031-40BE-B34F-3FB63891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63B6-2DC5-4E43-A12F-16F9DFB884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18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6:27Z</dcterms:created>
  <dc:creator>U Kyaw Naing</dc:creator>
  <dc:description/>
  <dc:language>en-US</dc:language>
  <cp:lastModifiedBy>U Kyaw Naing</cp:lastModifiedBy>
  <dcterms:modified xsi:type="dcterms:W3CDTF">2012-09-30T12:17:17Z</dcterms:modified>
  <cp:revision>1</cp:revision>
  <dc:subject/>
  <dc:title>Slide 1</dc:title>
</cp:coreProperties>
</file>