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8CD-1D50-40BF-8098-919594A9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963-7E67-4849-B3EF-8E257715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A48-BD10-4843-814C-4F99F725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59A-BD25-4585-8D2D-143A8A5F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7BE-FE40-4D0C-9C64-D1DB1F80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6E3-E3CA-4B7A-8AE9-92F58B24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846-F256-4D17-AE14-12980E58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1A0-6663-423F-B343-62F1B521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9D0-281F-48E2-9058-14764845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DCB-D83A-4D37-8CA2-D935F6B9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0AB-0932-4BDA-8FB9-8BE7154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80F-304D-4100-9FE5-9C033E59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75A1-13E3-4B51-9C51-8CF2350B5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6:55Z</dcterms:created>
  <dc:creator>U Kyaw Naing</dc:creator>
  <dc:description/>
  <dc:language>en-US</dc:language>
  <cp:lastModifiedBy>U Kyaw Naing</cp:lastModifiedBy>
  <dcterms:modified xsi:type="dcterms:W3CDTF">2012-09-30T12:10:57Z</dcterms:modified>
  <cp:revision>3</cp:revision>
  <dc:subject/>
  <dc:title>Slide 1</dc:title>
</cp:coreProperties>
</file>