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3B5-2C07-46C0-A00A-D6FA6BCD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27D-52F8-4883-BA00-771FFE2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337-0469-405A-B28E-B54B6E8D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C29-DF8E-4BB9-977F-143C0BD3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E85-F140-48B4-B308-D21BBA8F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7AC-EA38-4F50-BFCA-3CEB53C1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AC5-A3C3-4190-A215-EFC7C86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199-E47D-45A2-992B-52E5DD48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026-8531-490D-B683-3DC1D7E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CC7-B66C-4101-825C-9E9C799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18A-61DB-472E-B386-D6E9F6E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92B-EEB5-4E61-8FB8-66B19BF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564-9780-40BD-89A5-C3652E47B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2:12Z</dcterms:created>
  <dc:creator>U Kyaw Naing</dc:creator>
  <dc:description/>
  <dc:language>en-US</dc:language>
  <cp:lastModifiedBy>U Kyaw Naing</cp:lastModifiedBy>
  <dcterms:modified xsi:type="dcterms:W3CDTF">2012-09-30T12:13:15Z</dcterms:modified>
  <cp:revision>1</cp:revision>
  <dc:subject/>
  <dc:title>Slide 1</dc:title>
</cp:coreProperties>
</file>