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7D08-CB0D-4FB7-AADD-F91946854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5C85-140B-4E14-B608-13C3D082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FFFC-B653-4C2A-A61E-3A619ACF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FEBE-CB9E-4D70-8161-AAC2016B1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77F6-8707-4871-A0C7-796AC66C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72D7-F704-4E37-BA63-B0D4E43F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B118-54B3-4F97-8742-D3C61749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DF01-FC91-4F16-BBA6-2BAAD255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AA7E-7621-4F8B-A11E-AC2B76ED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987F-3C04-45B3-9B35-8BB08A4E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9992-C330-48F7-BB23-F812729C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CD23-B351-4C38-B762-D3BB051C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68FE-983D-4449-9297-32C51BB57F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26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78 Part 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779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1:45:44Z</dcterms:created>
  <dc:creator>U Kyaw Naing</dc:creator>
  <dc:description/>
  <dc:language>en-US</dc:language>
  <cp:lastModifiedBy>U Kyaw Naing</cp:lastModifiedBy>
  <dcterms:modified xsi:type="dcterms:W3CDTF">2012-09-30T11:46:47Z</dcterms:modified>
  <cp:revision>1</cp:revision>
  <dc:subject/>
  <dc:title>Slide 1</dc:title>
</cp:coreProperties>
</file>