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82B-C76A-411D-B629-54E654F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846-D15C-4578-8F7A-CFBB97E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DB5-5203-4F11-B3BC-FC1E9287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596-21CF-434F-93B5-934438D8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566-7E2A-429B-9A49-151E674B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AD8-81E7-4E5D-80CE-87F54E9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A5B-F49E-4C45-A281-B71F815B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CF9-9A98-4408-8CEC-6CCB587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37B-1449-434C-B8EE-2BD8312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F8A-BF5C-450E-A156-51321AB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F56-0B86-4868-83D5-44AF42D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316-1C2B-45A9-A476-7374F54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65A-5146-4124-8DC8-1A681ACE9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7:31Z</dcterms:created>
  <dc:creator>U Kyaw Naing</dc:creator>
  <dc:description/>
  <dc:language>en-US</dc:language>
  <cp:lastModifiedBy>U Kyaw Naing</cp:lastModifiedBy>
  <dcterms:modified xsi:type="dcterms:W3CDTF">2012-09-30T12:18:18Z</dcterms:modified>
  <cp:revision>1</cp:revision>
  <dc:subject/>
  <dc:title>Slide 1</dc:title>
</cp:coreProperties>
</file>