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3BE-89EC-4AD3-B6C5-CE385CAC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271-C589-4BC7-9E29-B6EE09F7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DA3-4435-4846-B306-CA5115E0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F06-D7E4-486E-BCD8-9EE7042C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3EB6-40D5-45D6-882D-4F68EEE1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7149-C2D7-488E-9873-4EADEA35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4E1F-85A0-45EF-B16D-E90CA3F3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AD31-9591-49E7-971B-1E651FC1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0CA4-F022-465D-94C9-3701F0E1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E174-398B-4CE7-9F9B-C7313BF1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7CA7-BC7C-4AF7-B644-11EB53F3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DB6-C80D-4B1A-8E8F-948B7D01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0FE1-702A-4FD3-9A85-C0CDF684B8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8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14:15Z</dcterms:created>
  <dc:creator>U Kyaw Naing</dc:creator>
  <dc:description/>
  <dc:language>en-US</dc:language>
  <cp:lastModifiedBy>U Kyaw Naing</cp:lastModifiedBy>
  <dcterms:modified xsi:type="dcterms:W3CDTF">2012-09-30T12:15:24Z</dcterms:modified>
  <cp:revision>1</cp:revision>
  <dc:subject/>
  <dc:title>Slide 1</dc:title>
</cp:coreProperties>
</file>