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879-0A44-4417-A251-C1657A56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087-E0CB-4044-9C70-E7E9E2E1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E7A-30A9-4C05-AD3A-9DF0F092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552-CB3A-4ABB-9EEF-3C6F4C98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3DB-1FB8-44E4-8CEF-6B2F6EF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4F8-CB03-409D-986C-31C0EC31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298-AFEB-4044-842E-42E0EDD6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5F1-A87A-4154-B876-69221C28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9A4-38CB-4E1C-8389-09DFEAE8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2F9-9982-4BC9-A11B-AE7C68B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4C7-588E-4EC1-881C-DC15571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7B4-4CC2-4F46-9914-6D457A34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BDE3-1BB8-48F7-B994-1A4D7BE1A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1:26Z</dcterms:created>
  <dc:creator>U Kyaw Naing</dc:creator>
  <dc:description/>
  <dc:language>en-US</dc:language>
  <cp:lastModifiedBy>U Kyaw Naing</cp:lastModifiedBy>
  <dcterms:modified xsi:type="dcterms:W3CDTF">2012-09-30T12:21:59Z</dcterms:modified>
  <cp:revision>1</cp:revision>
  <dc:subject/>
  <dc:title>Slide 1</dc:title>
</cp:coreProperties>
</file>