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686-4FBE-4A82-AAD0-07CF78C0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E7-C72B-4405-8A7F-650B6203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DCB-3281-49E9-A6C7-17A75986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8D2-85C0-4C94-B67F-6D2D560D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4C5-5A05-4DC1-8F2D-D06881A8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C58-BCC3-44E6-9B11-8E130C12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A68-72B9-494C-A85F-0F8E46A6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F15-BA34-4E52-96D9-F820B4A5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327-D123-4EE0-92ED-EA11863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45E-5BE7-4CF7-B6C1-87F61601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BF7-FB22-476B-B003-8200D4D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9E5-9D33-49F8-A5A1-E294B339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CC7E-2CC8-4F84-95D6-EFC94DC4C6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5:58Z</dcterms:created>
  <dc:creator>U Kyaw Naing</dc:creator>
  <dc:description/>
  <dc:language>en-US</dc:language>
  <cp:lastModifiedBy>U Kyaw Naing</cp:lastModifiedBy>
  <dcterms:modified xsi:type="dcterms:W3CDTF">2012-09-30T12:26:41Z</dcterms:modified>
  <cp:revision>1</cp:revision>
  <dc:subject/>
  <dc:title>Slide 1</dc:title>
</cp:coreProperties>
</file>