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F8DA-4F77-4DB8-A9B6-92EB003A8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7EEB-D6AF-4EAA-BFA9-04C3D5B4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E85B-757E-4931-9DBC-1006453E4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6800-D2C8-4A63-A0CF-A6BAA0A13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986D-49BE-4011-8257-D5E9485D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235D-4941-4915-8859-50E28FA9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666B-8464-436F-A6E3-E74F9E97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F3DC-7831-498E-A579-698F8712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E2E8-48AA-4961-ADE4-D8838697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2D80-EC9A-481C-B05A-A811CF25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73F2-7E40-4C75-B4E4-563C7BF1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E059-2FE1-42ED-A392-0C318A1B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38ED-C296-4F5A-BECA-8D87FE56BA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3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69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249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23:58Z</dcterms:created>
  <dc:creator>U Kyaw Naing</dc:creator>
  <dc:description/>
  <dc:language>en-US</dc:language>
  <cp:lastModifiedBy>U Kyaw Naing</cp:lastModifiedBy>
  <dcterms:modified xsi:type="dcterms:W3CDTF">2012-09-30T12:24:39Z</dcterms:modified>
  <cp:revision>1</cp:revision>
  <dc:subject/>
  <dc:title>Slide 1</dc:title>
</cp:coreProperties>
</file>