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870-0A00-468C-BF89-97FAE9AB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7C5-AC08-44A1-85E8-0411C6ED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947-947A-4B97-8667-F0A0B7F9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BAD-37D7-4BEA-A98F-430369F3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AE3-A712-48EF-A04F-FAE16B43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188-785D-4C18-B9EB-6B263E39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163-4FE6-4162-8E6C-106F575D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7C0-C61B-497D-85AC-DBBB1426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F88-5081-4E91-937A-FB30F28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FAB-09E7-426C-9AA0-31C6E71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C18-1A0C-44A7-A6A8-AD948CCF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E1C-8607-4F00-9885-D1EC635A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3587-FE66-466E-891E-96E8626F06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2 Part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7:50Z</dcterms:created>
  <dc:creator>U Kyaw Naing</dc:creator>
  <dc:description/>
  <dc:language>en-US</dc:language>
  <cp:lastModifiedBy>U Kyaw Naing</cp:lastModifiedBy>
  <dcterms:modified xsi:type="dcterms:W3CDTF">2012-09-30T12:28:29Z</dcterms:modified>
  <cp:revision>1</cp:revision>
  <dc:subject/>
  <dc:title>Slide 1</dc:title>
</cp:coreProperties>
</file>