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2EC0-73A3-4B68-8C46-B8C010D2C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7CBA-2519-4360-9191-9B4AC251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1678-D856-47A3-B940-C3D23F31B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7A7F-8117-4B22-848E-577BB94A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E2C4-78DB-4669-B838-B0B1F78D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CBEE-7CA4-4774-B9D9-86C2125E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D1A2-B9CD-443D-90B7-B21121C5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37C1-ED3E-489D-8917-B34177BE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AB12-BC31-4992-8D0B-9109ABC9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13B5-D558-4FFA-BDEB-B234F26D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567C-87C6-4243-BB12-8E4E49A8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C47E-7DFD-4EC1-8202-367F6661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3FC0-AF1E-46B9-9E81-6DF9674DCB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29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72 Part 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395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26:49Z</dcterms:created>
  <dc:creator>U Kyaw Naing</dc:creator>
  <dc:description/>
  <dc:language>en-US</dc:language>
  <cp:lastModifiedBy>U Kyaw Naing</cp:lastModifiedBy>
  <dcterms:modified xsi:type="dcterms:W3CDTF">2012-09-30T12:27:42Z</dcterms:modified>
  <cp:revision>1</cp:revision>
  <dc:subject/>
  <dc:title>Slide 1</dc:title>
</cp:coreProperties>
</file>