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D0E1-B638-48F2-80FC-4DCAAAEC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5D9-FE87-4D39-A951-1FB44BB6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C6CF-EF6B-43ED-AB38-C55A7C6C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7340-C941-4969-80BD-63D15983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3959-2BE1-4F80-830A-46561A78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F8CB-26FC-49F5-8507-3DF095BC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089F-1149-48D1-B747-D6067B0B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3A60-CE8B-456C-911C-46BD09B2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853A-E266-4E22-BD3B-FF94CE93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C605-3710-480B-B98F-31E14A3F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3EDB-C92B-45EF-9BBE-DD600F44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D8E1-666B-4FB5-A8EA-30521607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6663-A67B-4C3E-9424-40725E0BF0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7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81 Part 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836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13:24Z</dcterms:created>
  <dc:creator>U Kyaw Naing</dc:creator>
  <dc:description/>
  <dc:language>en-US</dc:language>
  <cp:lastModifiedBy>U Kyaw Naing</cp:lastModifiedBy>
  <dcterms:modified xsi:type="dcterms:W3CDTF">2012-09-30T12:14:04Z</dcterms:modified>
  <cp:revision>1</cp:revision>
  <dc:subject/>
  <dc:title>Slide 1</dc:title>
</cp:coreProperties>
</file>