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A92-301A-4199-B74A-E1AD0006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34B-B62B-42B1-B869-B973AD2E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C914-6181-40EC-9662-FEA62B84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7C4-A205-4C98-9DC7-2D6E4F20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54A-2F7D-4476-B03F-9AB838F2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CB67-A384-411B-9C1F-E9D65DEF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BD2-9941-4980-8853-74D611CA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280D-0077-4A27-AD61-307D0898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252C-F112-4469-BD5E-9777E3CC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ED6-71E7-44D5-AB9D-FDF75CFC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10A-7725-4933-9A6E-B449DE69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8B4-9EEE-4EA5-A429-D9AFC31D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4E06-B98A-43CF-81F6-8434713B6B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2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40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1:43:18Z</dcterms:created>
  <dc:creator>U Kyaw Naing</dc:creator>
  <dc:description/>
  <dc:language>en-US</dc:language>
  <cp:lastModifiedBy>U Kyaw Naing</cp:lastModifiedBy>
  <dcterms:modified xsi:type="dcterms:W3CDTF">2012-09-30T11:44:03Z</dcterms:modified>
  <cp:revision>1</cp:revision>
  <dc:subject/>
  <dc:title>Slide 1</dc:title>
</cp:coreProperties>
</file>