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70D-AAAD-43C0-B34B-9C21929B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0EE-2F2F-48F5-8849-33775470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991-5270-4FC8-9A7E-F23534F5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A5F-4F45-4128-9A71-E02AD54A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3EC-CC07-4D7B-A865-4BD4B721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341-C686-4FB1-8209-1FA791CD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3E8-1D88-4CB8-BCD9-BFDF2C54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698-8B3C-4E6F-9994-1E41E7B1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134-C7C7-4800-9D98-CFBA694D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FBC-7B29-4B9D-8720-BF789F4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49F-4C4F-497D-AEC3-423C6438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3D7-A2EF-43BA-82FB-4F1E8E64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403D-FED6-4F7F-8EBF-07F9AA44E4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39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4:48Z</dcterms:created>
  <dc:creator>U Kyaw Naing</dc:creator>
  <dc:description/>
  <dc:language>en-US</dc:language>
  <cp:lastModifiedBy>U Kyaw Naing</cp:lastModifiedBy>
  <dcterms:modified xsi:type="dcterms:W3CDTF">2012-09-30T12:25:44Z</dcterms:modified>
  <cp:revision>1</cp:revision>
  <dc:subject/>
  <dc:title>Slide 1</dc:title>
</cp:coreProperties>
</file>