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7C0-53A4-40AA-92E2-3C0641AC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1B-8E04-4F77-A3F0-1DE57B1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143-FF1F-41E6-BF81-6BF8CE8A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538-D122-4A25-8228-A4466B75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0E6-81F9-4138-81BE-C063846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04F-A9BB-4554-8903-063322DB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F91-A5E0-4A3A-BA0A-AACD738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01C-DD4E-4B68-BF7B-2AEEB79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AE4-83CE-4340-93E1-38EE9D30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9F4-FEBE-4E9F-A259-35B2B02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850-5ED8-4EFB-8731-9DB9C81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EA7-CA40-422E-82B0-A6664CD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4AF9-A4D1-4B93-8A45-DE921F4D95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8:39Z</dcterms:created>
  <dc:creator>U Kyaw Naing</dc:creator>
  <dc:description/>
  <dc:language>en-US</dc:language>
  <cp:lastModifiedBy>U Kyaw Naing</cp:lastModifiedBy>
  <dcterms:modified xsi:type="dcterms:W3CDTF">2012-09-30T12:30:34Z</dcterms:modified>
  <cp:revision>1</cp:revision>
  <dc:subject/>
  <dc:title>Slide 1</dc:title>
</cp:coreProperties>
</file>