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73E-222C-42BE-949F-4537CCF6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083-34CE-419D-A00A-DB1617DF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E92-B61B-425B-B5D8-82BD880E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548-AB7F-4B5F-8D50-43729AC0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5BC-0817-4B80-B4EC-AD6FEEE3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83E-6E03-4091-85CB-CEED2DA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B54-FB07-4660-A8E0-A6757987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5DC5-20B6-41DC-B564-4B595DB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C81-4D03-4BD5-AD54-C2B331E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A56-9E0C-42AC-AADF-388DD7E3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9DA-2B61-44EB-939D-8E6AC33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A26-14D6-4DF9-B27A-9BA2659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D05-8690-4019-8C18-5CD231986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2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6:30Z</dcterms:created>
  <dc:creator>U Kyaw Naing</dc:creator>
  <dc:description/>
  <dc:language>en-US</dc:language>
  <cp:lastModifiedBy>U Kyaw Naing</cp:lastModifiedBy>
  <dcterms:modified xsi:type="dcterms:W3CDTF">2012-09-26T12:18:26Z</dcterms:modified>
  <cp:revision>2</cp:revision>
  <dc:subject/>
  <dc:title>Slide 1</dc:title>
</cp:coreProperties>
</file>