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6CC-107B-42EB-ABDA-22D934D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46E-3926-4E0B-AE56-694590C0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3AE-59A6-4575-8979-C0ACA4D0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FB2-A383-4706-BF20-2956A3C9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F9D-EECD-49AE-B7D3-EABFE6E0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902-F1D6-4914-B5BD-9B3FA703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086-878F-4810-AD51-DA5B879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B52-50F0-4F93-B892-20997C5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87F9-CE5E-412D-BCA7-BE5563B8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7E7-E465-45E4-82BF-B7D5123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9E5-D98B-459D-8B79-7CCF690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5E1-78CE-4151-AEBF-E48D0138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1A58-8090-4B0F-B52A-81529121F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5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1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06:24Z</dcterms:created>
  <dc:creator>U Kyaw Naing</dc:creator>
  <dc:description/>
  <dc:language>en-US</dc:language>
  <cp:lastModifiedBy>U Kyaw Naing</cp:lastModifiedBy>
  <dcterms:modified xsi:type="dcterms:W3CDTF">2012-09-26T12:07:12Z</dcterms:modified>
  <cp:revision>2</cp:revision>
  <dc:subject/>
  <dc:title>Slide 1</dc:title>
</cp:coreProperties>
</file>