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231-E98B-461D-B81A-EABA9F8C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CBC-420B-4C0D-AEE3-388A037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1B2-A309-4D38-BDFF-C8347332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5DE-7981-4B75-B0C3-55556891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0F1-8F12-43FC-A0D0-A865442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978-75DD-443A-9D63-454CE681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B1A-4E21-46E6-A703-D2FC279D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017-7402-4CAD-9030-E1C1B516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E03-C97B-407C-B5FB-09DB71CF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8CC-DD8E-4D12-9EC3-672E6BE5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667-1F95-4C18-8677-6280E39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39E-1737-494E-BD56-BF93A58F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2D4-A027-4653-B4E0-74ECCBEE9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62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22:35Z</dcterms:created>
  <dc:creator>U Kyaw Naing</dc:creator>
  <dc:description/>
  <dc:language>en-US</dc:language>
  <cp:lastModifiedBy>U Kyaw Naing</cp:lastModifiedBy>
  <dcterms:modified xsi:type="dcterms:W3CDTF">2012-09-26T12:26:14Z</dcterms:modified>
  <cp:revision>1</cp:revision>
  <dc:subject/>
  <dc:title>Slide 1</dc:title>
</cp:coreProperties>
</file>