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2761-DE56-4EA7-BC4F-2658AC36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0090-6969-4006-971A-B8E463AB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939-916A-4DC1-BAC8-1DC566C3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8D0A-2D45-4CB9-8EDF-891E7E79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EC9D-6E9D-43BF-BFB9-3C0323A3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1BFC-A253-4ACF-845A-1A7D78C2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240-7142-4EEF-8A20-D5EB3462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70B-7643-42C9-B237-7F733E22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B36-4598-4C1C-B70B-9330FA3B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FC1-A028-4E33-A238-0F67E101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D46-F3C8-4438-9CEB-9B3D3088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BEFA-2ABB-4ED2-B9E7-6D804F56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7852-75CF-4605-BB65-A72801C642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6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98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2:26:25Z</dcterms:created>
  <dc:creator>U Kyaw Naing</dc:creator>
  <dc:description/>
  <dc:language>en-US</dc:language>
  <cp:lastModifiedBy>U Kyaw Naing</cp:lastModifiedBy>
  <dcterms:modified xsi:type="dcterms:W3CDTF">2012-09-26T12:28:24Z</dcterms:modified>
  <cp:revision>1</cp:revision>
  <dc:subject/>
  <dc:title>Slide 1</dc:title>
</cp:coreProperties>
</file>