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BD2D-AA26-4F28-8D96-6601443B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F27C-8443-45A4-9F19-FDA194DB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B2D-08C1-49E5-AD1D-570707A6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2DE-8C2D-4597-90BE-E0AA5B41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CE0-A959-47A3-97B2-09D62806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3E66-53D7-461E-889B-9C4CF474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046E-269E-4A0B-8270-E2F7BA5B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B68-49F5-4BC8-B32E-A4F11FD9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113E-4CA1-4F0B-BFD6-9A7D7806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4A12-AF71-4344-B3FB-50DD8CD1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F7A-166C-4FC4-AAC9-F96AF783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F67-F129-4CB9-B8C5-E576A5BC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D669-EBC5-4FCC-A68B-DB6DA56CA1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5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" name="Page 354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64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7648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27648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2:13:55Z</dcterms:created>
  <dc:creator>U Kyaw Naing</dc:creator>
  <dc:description/>
  <dc:language>en-US</dc:language>
  <cp:lastModifiedBy>U Kyaw Naing</cp:lastModifiedBy>
  <dcterms:modified xsi:type="dcterms:W3CDTF">2012-09-26T12:15:37Z</dcterms:modified>
  <cp:revision>2</cp:revision>
  <dc:subject/>
  <dc:title>Slide 1</dc:title>
</cp:coreProperties>
</file>