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76B9-AC55-4BB1-B721-3E6A8B8D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DAF-7B4B-4740-8E6E-7EDFE833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792B-E2CD-4846-820A-455E7815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DED-3670-4319-B7B2-26938BA7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D1DA-DFDB-42E5-866B-ED2CF930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3E1-AA52-48C8-970E-587710AB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450-02F8-4676-A110-940C2822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1C2-8EDE-4E02-9FB2-11FC1655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BD4A-5E4A-4345-B449-16F30FFF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C80-5BAC-4641-B3E4-2B487012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A58-27C8-43BF-8D32-73CF01C8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D2D-8FBE-4BAD-9010-DE4FBC0C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2A44-824A-4BAD-8DA5-96F8509658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6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08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2:29:18Z</dcterms:created>
  <dc:creator>U Kyaw Naing</dc:creator>
  <dc:description/>
  <dc:language>en-US</dc:language>
  <cp:lastModifiedBy>U Kyaw Naing</cp:lastModifiedBy>
  <dcterms:modified xsi:type="dcterms:W3CDTF">2012-09-26T12:30:48Z</dcterms:modified>
  <cp:revision>1</cp:revision>
  <dc:subject/>
  <dc:title>Slide 1</dc:title>
</cp:coreProperties>
</file>