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4856-081A-4622-B520-9B69BA63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188C-7B7D-411D-9F0E-A5AB9236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3C4D-0B53-4D7F-A152-C77FC16B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E68D-4CE4-4A73-92D7-690F8021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56F1-A308-4D09-AF81-F89FB6BB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A13E-C609-40A2-B804-8A01C4BF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62DD-B323-42A2-9EC5-6BB99EB9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9124-FE59-4D6A-A91B-80D92EA3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D64D-7BC5-4BFF-A6C2-B8F51421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B02-1A66-4D6C-8663-14CF1125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8E06-130D-43AD-8C3B-78AB74AC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FA81-74BD-424D-95EC-1CD11917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6CEE-DCEB-44A3-AFE2-F4CFBDA317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4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77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1:48:36Z</dcterms:created>
  <dc:creator>U Kyaw Naing</dc:creator>
  <dc:description/>
  <dc:language>en-US</dc:language>
  <cp:lastModifiedBy>U Kyaw Naing</cp:lastModifiedBy>
  <dcterms:modified xsi:type="dcterms:W3CDTF">2012-09-26T12:03:49Z</dcterms:modified>
  <cp:revision>3</cp:revision>
  <dc:subject/>
  <dc:title>Slide 1</dc:title>
</cp:coreProperties>
</file>