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E90-C2D6-461A-8100-84561330C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E1B-C247-4F86-896F-F0EB3EA0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28C-0197-4996-8B19-7C257152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35C-B913-4FCF-A5C8-C0497DB7F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971-EE98-4B2C-B1B4-FA4BF60C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195-42F2-451E-8E55-BB462C29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406-A0E7-4413-8F95-139D8544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6BE-8E85-4A49-995F-0F37A6CB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8063-9673-4F01-9B34-3A9C8C80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347-F851-4C99-8CB9-9ABB6EEE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4A9-E50B-4694-AC84-210DABC2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5DF-CD85-458A-B291-D6614EA3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A441-FFFF-4EDA-B212-BE9A0C2C56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5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81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09:20Z</dcterms:created>
  <dc:creator>U Kyaw Naing</dc:creator>
  <dc:description/>
  <dc:language>en-US</dc:language>
  <cp:lastModifiedBy>U Kyaw Naing</cp:lastModifiedBy>
  <dcterms:modified xsi:type="dcterms:W3CDTF">2012-09-26T12:10:26Z</dcterms:modified>
  <cp:revision>1</cp:revision>
  <dc:subject/>
  <dc:title>Slide 1</dc:title>
</cp:coreProperties>
</file>