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1BB-B83F-4092-851E-3AD9A4A5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139-9EAB-4AF9-8E42-CDA665FB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C6B-42D0-4940-93B8-28D5FFF2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D41-5E9A-40EB-A1C1-B497B0F0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3C0-71F6-4856-9CBE-B8C14D52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AEB-7873-45F4-9DF6-6970BD23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28C-B120-4B6B-BB20-886C9CB6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C5F-1753-4B21-938F-D7D1AFE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B3C-46ED-4F33-8CDF-F47A2E40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AA6-01C0-4FC6-95C2-416AE3B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C37-62B9-4E33-A2C7-2234DDD9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09F-873F-4407-B80F-F0630444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0E39-9393-4CD1-BBAA-6C80EC504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5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1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07:31Z</dcterms:created>
  <dc:creator>U Kyaw Naing</dc:creator>
  <dc:description/>
  <dc:language>en-US</dc:language>
  <cp:lastModifiedBy>U Kyaw Naing</cp:lastModifiedBy>
  <dcterms:modified xsi:type="dcterms:W3CDTF">2012-09-26T12:08:30Z</dcterms:modified>
  <cp:revision>1</cp:revision>
  <dc:subject/>
  <dc:title>Slide 1</dc:title>
</cp:coreProperties>
</file>