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E66-1403-46E0-9A63-0826D4CE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E84-0D31-41B8-9FB8-36F91E5C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006-7901-4711-BB51-1F624F38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091-4D08-4148-A0F4-8CAA72D3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655-1168-482F-A3AC-C2197DA5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886-790F-4255-8F3F-CA80A97B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B7C-5A12-4324-A908-6FDB11A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FE1-F754-4C48-87DD-B231200C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5A3-CCF6-44DD-936F-33FA54C8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86D0-776F-434C-9DF3-D5B5DABD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E82-948C-4A31-B4FC-14CEF24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95B-50A3-458B-9EE7-671F377F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420B-A665-4C0F-89EB-927ADB9011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19:27Z</dcterms:created>
  <dc:creator>U Kyaw Naing</dc:creator>
  <dc:description/>
  <dc:language>en-US</dc:language>
  <cp:lastModifiedBy>U Kyaw Naing</cp:lastModifiedBy>
  <dcterms:modified xsi:type="dcterms:W3CDTF">2012-09-26T12:22:22Z</dcterms:modified>
  <cp:revision>1</cp:revision>
  <dc:subject/>
  <dc:title>Slide 1</dc:title>
</cp:coreProperties>
</file>