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1EBA-EC2D-4CBC-8066-65015349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A5AA-5616-414B-99AE-65A506B5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AD15-E82D-4651-8506-BB9D9824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6925-D323-4BFD-A71E-F9BF7366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9E3F-6482-4BF1-A575-2CB7C229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B01F-BF07-48A4-8BE9-4BD4F146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6834-B9BD-4EFC-918C-2CAD2F20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E802-C975-4FE5-BF61-D36F5E6D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02E8-68E0-489D-8A49-BE809CB1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8B3C-47E3-49B6-BCE0-BB30C610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94B4-3B20-4666-A650-BA4317A6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C7BE-5A79-465A-B936-3FC14826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93E5-52BE-4EB3-98A1-E25713DC67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5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718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2:11:21Z</dcterms:created>
  <dc:creator>U Kyaw Naing</dc:creator>
  <dc:description/>
  <dc:language>en-US</dc:language>
  <cp:lastModifiedBy>U Kyaw Naing</cp:lastModifiedBy>
  <dcterms:modified xsi:type="dcterms:W3CDTF">2012-09-26T12:12:42Z</dcterms:modified>
  <cp:revision>1</cp:revision>
  <dc:subject/>
  <dc:title>Slide 1</dc:title>
</cp:coreProperties>
</file>