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BCB6-2B7D-4EA4-8535-3D3E1FD71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070F-F2E6-4425-AFCD-9E29AACFA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ABD0-1EC1-4FBE-9E82-3FC3BA3DF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7AFF-9100-41B2-A2CA-2A0F3E57A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DD10-3AA7-40B9-9BC5-51389C0EA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CA14-D7E0-42D0-A6FD-F7A866E09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5071-3126-4F56-AF59-714024CDA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DAD6-EAB3-4A48-B621-56E0E088A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8EAA-3A01-46CA-B2B3-B22D1F710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293A-277D-483B-A300-137D8BE56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3A86-6736-497E-A45C-886A17F3E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5B23-B14D-4269-AA4D-5D96919A6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F2C32-8157-488C-848D-BDD1A4709D7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9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4921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9T14:09:03Z</dcterms:created>
  <dc:creator>U Kyaw Naing</dc:creator>
  <dc:description/>
  <dc:language>en-US</dc:language>
  <cp:lastModifiedBy>U Kyaw Naing</cp:lastModifiedBy>
  <dcterms:modified xsi:type="dcterms:W3CDTF">2012-09-20T14:19:04Z</dcterms:modified>
  <cp:revision>2</cp:revision>
  <dc:subject/>
  <dc:title>Slide 1</dc:title>
</cp:coreProperties>
</file>