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DF3-1D8A-4860-9E22-59CAF769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DA3-54F6-4C1E-B820-8A4CFCF8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70F-80E8-4F59-AABE-AE8E9067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34A-436A-46B7-AAA8-71ECE192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BCBB-5FCB-4D89-92D1-3011731D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49D-ECBC-4E9A-8069-8EAB9CD7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97B-ED6F-43E8-85FD-6863C0B9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FCF-ABE8-4E32-940B-146B6AF3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8EF-81D0-4FD4-88E8-6B6D6556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EB9-BDBB-4636-AE48-68E76B72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594-12A3-443C-BF53-6BEA8FE8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B72-5A4F-45B0-85B8-BCBC4C01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128D-8928-424F-8065-203E08D10F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75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10:29Z</dcterms:created>
  <dc:creator>U Kyaw Naing</dc:creator>
  <dc:description/>
  <dc:language>en-US</dc:language>
  <cp:lastModifiedBy>U Kyaw Naing</cp:lastModifiedBy>
  <dcterms:modified xsi:type="dcterms:W3CDTF">2012-09-20T14:20:08Z</dcterms:modified>
  <cp:revision>2</cp:revision>
  <dc:subject/>
  <dc:title>Slide 1</dc:title>
</cp:coreProperties>
</file>