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7D4-214D-45F0-AA01-2E32DF7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AAB-BDAD-4C05-ACBC-9BC7E34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1D4-FA8B-47FF-817B-EE7658E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6D0-6A28-4B98-A1EF-11E80E4A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76-1F25-430B-8A30-B79ADD1A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413-CACF-4F24-AFA6-1149E04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AF1-DDC7-4AF2-8ABA-9996B8A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6D8-C847-4612-98F1-ED35BA25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791-216B-49AC-A28D-B1E4719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1DA-EA39-4BE7-AECD-C1ECBE9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9C5-74B3-4E86-B6F8-53AB81D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F3-2619-494A-ABDE-774A35B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285-41AE-459D-BA2A-B23B20969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9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1:04Z</dcterms:created>
  <dc:creator>U Kyaw Naing</dc:creator>
  <dc:description/>
  <dc:language>en-US</dc:language>
  <cp:lastModifiedBy>U Kyaw Naing</cp:lastModifiedBy>
  <dcterms:modified xsi:type="dcterms:W3CDTF">2012-09-20T14:20:45Z</dcterms:modified>
  <cp:revision>2</cp:revision>
  <dc:subject/>
  <dc:title>Slide 1</dc:title>
</cp:coreProperties>
</file>