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C4E-75B3-4870-BF71-5C5EC666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83B-AAA9-4377-A738-5E97687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A83-C157-4329-B895-876CE34A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CC8-7067-4888-8CF5-21E2A4A7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227-41AB-435B-A774-8CB7430B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9A2-18CB-49D2-A4E7-D392FBB5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879-0E49-498A-B170-53E9DFFE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65F-D4B9-496F-92FF-4D7BAC7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7CE-F0FD-4834-879D-118582EB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583-BD45-465D-B050-94B3DE3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4C2-400F-4CB8-BDC2-9D6D984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4F6-D09D-4E5C-AA2A-7CFA66A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3DBA-4B7E-4C4E-B832-AE2028927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1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9:51Z</dcterms:created>
  <dc:creator>U Kyaw Naing</dc:creator>
  <dc:description/>
  <dc:language>en-US</dc:language>
  <cp:lastModifiedBy>U Kyaw Naing</cp:lastModifiedBy>
  <dcterms:modified xsi:type="dcterms:W3CDTF">2012-09-20T14:19:37Z</dcterms:modified>
  <cp:revision>2</cp:revision>
  <dc:subject/>
  <dc:title>Slide 1</dc:title>
</cp:coreProperties>
</file>