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2E58-17CD-4D0F-810E-4AE9E386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6870-8775-4AA8-87D2-2E5B70EE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FE2-2468-4CB3-A173-1D40102E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B3A-C242-4CDC-A0BD-67E912BA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855-E222-4716-A453-A64A9FCE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3F1-21A3-450D-BBE0-292401D5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4A7-6BE0-4146-A34C-B7A81BDE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546-47DE-4129-A951-6E3F61D0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06C-2E89-4A08-8422-EC2BAA4A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F63-F89C-4213-A10B-A0A93B19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BEA-D60A-46BB-9BF4-79E79009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5B3-9EF3-4B84-9336-07A3E586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A615-86AE-4882-9951-BDEB62B7F6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12:11Z</dcterms:created>
  <dc:creator>U Kyaw Naing</dc:creator>
  <dc:description/>
  <dc:language>en-US</dc:language>
  <cp:lastModifiedBy>U Kyaw Naing</cp:lastModifiedBy>
  <dcterms:modified xsi:type="dcterms:W3CDTF">2012-09-19T14:12:43Z</dcterms:modified>
  <cp:revision>1</cp:revision>
  <dc:subject/>
  <dc:title>Slide 1</dc:title>
</cp:coreProperties>
</file>