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EF7-F72C-4CA8-B1BE-99126413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926-3D3D-403A-ADE9-B682F1E4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B9C-1CA8-4179-9FA7-D4EB6C10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39A-744B-459C-AFDD-3F5A8184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2CF-4F78-4CA9-9E05-5A6CA83D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8A4-8B2A-41D2-B89F-8F732046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AE1-DE09-4809-8411-DFE4E744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AC1-8F07-44FA-91CB-64BEB34A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062-4E18-4CFE-9031-52CCAA82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C92-2BBC-443C-9173-FC21E404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036-A19C-4E56-AEA2-52FA9B29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BEE-EC36-426E-A061-F6F94AA2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4487-BE20-4F14-89C5-73BDCD637A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144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6:13:40Z</dcterms:created>
  <dc:creator>U Kyaw Naing</dc:creator>
  <dc:description/>
  <dc:language>en-US</dc:language>
  <cp:lastModifiedBy>U Kyaw Naing</cp:lastModifiedBy>
  <dcterms:modified xsi:type="dcterms:W3CDTF">2012-09-21T16:14:27Z</dcterms:modified>
  <cp:revision>1</cp:revision>
  <dc:subject/>
  <dc:title>Slide 1</dc:title>
</cp:coreProperties>
</file>