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4CA-664B-4B4B-A403-10874061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6F7-4252-4588-8A61-DE45F305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70C-F535-4FD0-8F67-2853C9A1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B30-0E2A-46CA-B5BB-BBF8380E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7C1-8892-4211-B332-A070FD21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8AD-0EEF-4A2D-A9A4-E408E760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43A-41D4-4771-B990-BBDF724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D8B-2F6C-4544-B473-A0D8A87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371-65B0-4145-85C5-1FFBBA1C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5D0-6599-40F4-8193-D13E494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54C-28A9-46C4-A9A5-17BA310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F4E-EC5D-4C89-8E0C-B1B4EB7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FF7-CE12-40BE-B4F0-C89622FBD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09:11Z</dcterms:created>
  <dc:creator>U Kyaw Naing</dc:creator>
  <dc:description/>
  <dc:language>en-US</dc:language>
  <cp:lastModifiedBy>U Kyaw Naing</cp:lastModifiedBy>
  <dcterms:modified xsi:type="dcterms:W3CDTF">2012-09-21T16:10:00Z</dcterms:modified>
  <cp:revision>1</cp:revision>
  <dc:subject/>
  <dc:title>Slide 1</dc:title>
</cp:coreProperties>
</file>