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E05-F815-4131-8484-8D146612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9DD-028E-41D5-A090-C70854C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124-0664-46D3-88F5-B6938F63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155-C439-4E5B-BDF8-3DB2D144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0C4-89C3-47E3-B33E-20413A4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A36-E3E1-4819-A78C-50C2153A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335-B69C-44E9-A5F2-B316DEC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D0C-7F05-47EE-9093-E973D9F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0EE-0F48-48DD-829B-F8BF5C21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2D0-DBC3-4E92-9F91-127495D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743-0FAB-4ED0-BE6F-958E598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05F-033F-4776-A062-E8B3458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D09-BDA1-4C53-9A30-D5377D4F2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0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6:06:03Z</dcterms:created>
  <dc:creator>U Kyaw Naing</dc:creator>
  <dc:description/>
  <dc:language>en-US</dc:language>
  <cp:lastModifiedBy>U Kyaw Naing</cp:lastModifiedBy>
  <dcterms:modified xsi:type="dcterms:W3CDTF">2012-09-21T16:09:03Z</dcterms:modified>
  <cp:revision>1</cp:revision>
  <dc:subject/>
  <dc:title>Slide 1</dc:title>
</cp:coreProperties>
</file>