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9A3B-A589-46BD-BD47-4009CEBCC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37B2-6C2F-4554-8DA4-A8F4E126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4EBE-724E-48A8-A2D8-7DF9DE92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BF8B-9677-4A5C-A346-FDCAFAEE7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A37B-32D8-450C-B568-7D09EEF8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11E3-CDD9-4E1E-B344-1E82378C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73C0-C4CF-4137-8F42-81F8D1BC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B637-932C-42A3-B7C0-5B9D678A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CE64-8842-43F8-BA01-6EA4D481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10B1-469D-483F-B877-C70E9100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2195-0D94-4D80-8B67-1FBDA679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FD9A-1B0D-4B89-8981-701B6CD4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642A-C610-43C1-BFB7-26621289FB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47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648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6:11:04Z</dcterms:created>
  <dc:creator>U Kyaw Naing</dc:creator>
  <dc:description/>
  <dc:language>en-US</dc:language>
  <cp:lastModifiedBy>U Kyaw Naing</cp:lastModifiedBy>
  <dcterms:modified xsi:type="dcterms:W3CDTF">2012-09-21T16:11:56Z</dcterms:modified>
  <cp:revision>1</cp:revision>
  <dc:subject/>
  <dc:title>Slide 1</dc:title>
</cp:coreProperties>
</file>