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160-C8B1-4CCA-9212-9AFF366A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E18-F0D2-452F-905E-5B8FC2D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423-C501-441F-864A-8A47F8D3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E07-CA5B-4A5E-9775-450E9EE7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F5F-5C2F-4734-AFBC-CC60D066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C54-39F7-4BCF-AF59-911B616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BB9-91C4-458C-8BCD-B156E484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7A9-A59A-4287-9362-1710F5B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DB1-D8AA-4729-B64F-2CD70B3C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5A8-C8CF-486D-BF7A-69949DA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3A3-CBB1-4918-BBA7-A33BEA3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A32-6825-4843-81D9-32173DC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5BE7-F746-4DF2-AD46-96C5558C3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03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10:10Z</dcterms:created>
  <dc:creator>U Kyaw Naing</dc:creator>
  <dc:description/>
  <dc:language>en-US</dc:language>
  <cp:lastModifiedBy>U Kyaw Naing</cp:lastModifiedBy>
  <dcterms:modified xsi:type="dcterms:W3CDTF">2012-09-21T16:10:56Z</dcterms:modified>
  <cp:revision>1</cp:revision>
  <dc:subject/>
  <dc:title>Slide 1</dc:title>
</cp:coreProperties>
</file>