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847-46BA-4D03-BBF8-818C2AAC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846-59E9-4A9A-810E-6ADA8B87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5E4-23B4-424B-93AD-82B00418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B60-1916-47D1-B729-562A0A6D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D7D-A02B-42B5-9D91-39BCEE2A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BEA-6C03-43F9-B936-48054405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A00-2E8B-4AA6-9804-323ECA09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A73-0A92-444D-8801-0EA0756C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0F9-0251-40F6-8AFE-D09DF3AD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429-9659-40A2-87E6-9AC3CD38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153-E63D-43A1-BD88-80AF30E3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D8FD-7FF2-4C4E-A4EA-B7172BE6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7B68-0508-4131-9238-4D09F31653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4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81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6:12:38Z</dcterms:created>
  <dc:creator>U Kyaw Naing</dc:creator>
  <dc:description/>
  <dc:language>en-US</dc:language>
  <cp:lastModifiedBy>U Kyaw Naing</cp:lastModifiedBy>
  <dcterms:modified xsi:type="dcterms:W3CDTF">2012-09-21T16:13:28Z</dcterms:modified>
  <cp:revision>1</cp:revision>
  <dc:subject/>
  <dc:title>Slide 1</dc:title>
</cp:coreProperties>
</file>