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4665-A3BF-4C7F-BE6D-769A1512E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1A41-37F5-4B19-97B2-F3B997AA2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1A68-1295-471C-9520-6B98CB8BC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4CD0-B069-45D9-8F13-914304FEE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38BB-DF9B-4A60-91BD-DDB0A393C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DE20-486B-40F7-8764-D09E61758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99F5-3AA8-4D80-B675-EB3EEEAAC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1E28-2477-47C2-ADB1-F5B90DCC7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A4EC-88FE-4E3B-9A00-58D656C79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EA68-C1B6-46CF-9B2D-4C56744D1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B069-9C61-4838-B1F7-41A8957F7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21CD-B7D0-470B-A37B-35498BB92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87B35-60B3-49CB-959F-5A878E66FCD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SUNP002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age 347 Part 2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26336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16:12:04Z</dcterms:created>
  <dc:creator>U Kyaw Naing</dc:creator>
  <dc:description/>
  <dc:language>en-US</dc:language>
  <cp:lastModifiedBy>U Kyaw Naing</cp:lastModifiedBy>
  <dcterms:modified xsi:type="dcterms:W3CDTF">2012-09-21T16:12:32Z</dcterms:modified>
  <cp:revision>1</cp:revision>
  <dc:subject/>
  <dc:title>Slide 1</dc:title>
</cp:coreProperties>
</file>