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2CD-0B74-49E0-B526-42BC3863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F17-AAC6-4E25-B687-057A146F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A2D-27B3-4969-B327-CA9AAD7A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27A-3C23-4FCE-8FA3-50D72A41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F14-F6F9-411A-BC48-FEDB8FF2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9B7-8CEE-40DB-BA09-831D380C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B22-154C-4AAC-A4B5-95CFC541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DF1-1CA8-42EF-A84F-C80B2586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B20-DA31-4B81-B840-BA42DEE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85C-23C2-41C4-AF0B-593E8F09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200-3316-4AB3-9974-31DB8208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D32-8A7C-4AD1-B89C-2F0258F0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1218-C072-49D9-8E80-645EE45F91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1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58:46Z</dcterms:created>
  <dc:creator>U Kyaw Naing</dc:creator>
  <dc:description/>
  <dc:language>en-US</dc:language>
  <cp:lastModifiedBy>U Kyaw Naing</cp:lastModifiedBy>
  <dcterms:modified xsi:type="dcterms:W3CDTF">2012-09-21T14:59:36Z</dcterms:modified>
  <cp:revision>1</cp:revision>
  <dc:subject/>
  <dc:title>Slide 1</dc:title>
</cp:coreProperties>
</file>