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8E6-8D7D-4E6D-AF30-E42C6BDA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762-9692-4687-93C7-738ACFDB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9AB-C677-46DC-965C-3E66DFE8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06E-1C5E-460F-9835-8D3061BD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7D1-A9CE-4D8C-AE16-B46F1C9C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470-F73A-43F1-B45D-BB3C685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4E6-5D77-4C02-98F2-E60F3C1E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CF9-4B0C-406C-91F2-7960AF13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EF3-A8F5-4695-B25C-5F1A37BA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718-37E0-4C4A-BBEB-90949510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F2E-1A98-4397-AC85-07BD279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7E6-4E2C-4AD3-860C-9E13A42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B83-5E79-4226-85C2-B4A5A00C91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10:11Z</dcterms:created>
  <dc:creator>U Kyaw Naing</dc:creator>
  <dc:description/>
  <dc:language>en-US</dc:language>
  <cp:lastModifiedBy>U Kyaw Naing</cp:lastModifiedBy>
  <dcterms:modified xsi:type="dcterms:W3CDTF">2012-09-21T14:11:33Z</dcterms:modified>
  <cp:revision>1</cp:revision>
  <dc:subject/>
  <dc:title>Slide 1</dc:title>
</cp:coreProperties>
</file>