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1D27-59CB-4A4A-B486-D857FAAC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3D3D-2CF7-4AB4-A91E-22594BF6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6317-EB64-40AE-A9E7-54D595B7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4332-0B9A-449E-B767-A7A15038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63D2-8A1E-46FC-B71D-C62905C0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ECB7-757B-4EEA-B4D6-259548AB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0A65-D7DC-4E39-8D9B-3FE24A75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C593-BE96-416E-B651-5BAC5060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7D01-8176-46A7-AB8B-FCC9FA83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BECF-163B-4257-B37D-0388588D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8019-C2D1-4ADF-9CF1-EBCAD92A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FDB1-CC7B-4E66-9F72-8FF44A96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E148-70CF-4DA5-9FB2-506E973416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4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0422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4:54:55Z</dcterms:created>
  <dc:creator>U Kyaw Naing</dc:creator>
  <dc:description/>
  <dc:language>en-US</dc:language>
  <cp:lastModifiedBy>U Kyaw Naing</cp:lastModifiedBy>
  <dcterms:modified xsi:type="dcterms:W3CDTF">2012-09-21T14:57:24Z</dcterms:modified>
  <cp:revision>1</cp:revision>
  <dc:subject/>
  <dc:title>Slide 1</dc:title>
</cp:coreProperties>
</file>