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C67-2D21-4469-978E-1E39EC6C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747-5472-4BF5-8861-5F3007D8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8DB-EB91-4E69-AEE4-F8395FBD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2B0-8DC1-4A92-AC33-63A7A175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6DD-556D-4BD3-BAD3-2330D7DB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A80-64DE-4837-9A16-338D1053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874-A4C6-43CF-BBDC-0A1D5B09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A584-53AC-4115-96D0-2C5BF80F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382-342F-4F43-9255-3C4945AE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00B-FB67-4902-AF96-1B715EAC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E2F-B755-43A8-A582-1521E0EF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93F-EC24-4E0C-8B89-C78E7DE2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BE87-FE69-42A1-AE2D-51A324D901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26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17:08Z</dcterms:created>
  <dc:creator>U Kyaw Naing</dc:creator>
  <dc:description/>
  <dc:language>en-US</dc:language>
  <cp:lastModifiedBy>U Kyaw Naing</cp:lastModifiedBy>
  <dcterms:modified xsi:type="dcterms:W3CDTF">2012-09-21T14:18:11Z</dcterms:modified>
  <cp:revision>1</cp:revision>
  <dc:subject/>
  <dc:title>Slide 1</dc:title>
</cp:coreProperties>
</file>