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09B-2474-42F7-AA0B-972C48A4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0E1-5DB7-4393-9A23-386D8D8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37E-6F4A-4BCF-B66A-A445215A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986-14EF-4A82-B4D4-B00ECE5E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7B7-8BF2-4205-9BC8-CAED4AB7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05A-A1AA-4EA7-9F90-EB5B941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C71-ADE1-413D-8E23-C52788C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3E0-363F-4A43-8B12-A603DD0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DED-366D-4797-ACB2-9211E352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B79-8E63-4C7C-99C2-DADAAA9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8EE-93B2-4489-96E9-D2CC098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A03-FC79-4DD5-A453-99BCD23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28E-645D-42A5-BEB0-8F6F151D3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7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9:48Z</dcterms:created>
  <dc:creator>U Kyaw Naing</dc:creator>
  <dc:description/>
  <dc:language>en-US</dc:language>
  <cp:lastModifiedBy>U Kyaw Naing</cp:lastModifiedBy>
  <dcterms:modified xsi:type="dcterms:W3CDTF">2012-09-21T15:00:57Z</dcterms:modified>
  <cp:revision>1</cp:revision>
  <dc:subject/>
  <dc:title>Slide 1</dc:title>
</cp:coreProperties>
</file>