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373-AB04-4E5F-9436-3B4377E1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705-6A17-4877-BDAB-19013F20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3AA-67C6-464E-B6AB-FA9B5419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FCA-B447-49B6-997E-B51F92C9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B41-42BB-45F1-8413-6F57A005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C53-2F75-4336-8A7F-EFB41B6A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4D8-B633-40B4-AFE0-737BC713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A5C-F2F6-4E81-8C57-F3ADFAC9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F1A-3DDA-45FF-AE8C-39B3106B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8F0-35B4-44C0-A4A1-5C13C84B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EA2-DF82-41A1-88F1-3C91313E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1AA-F690-41DD-9F58-E93E1A10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7728-6670-42FC-B6A4-21E67A1EDE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4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0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02:31Z</dcterms:created>
  <dc:creator>U Kyaw Naing</dc:creator>
  <dc:description/>
  <dc:language>en-US</dc:language>
  <cp:lastModifiedBy>U Kyaw Naing</cp:lastModifiedBy>
  <dcterms:modified xsi:type="dcterms:W3CDTF">2012-09-21T15:03:17Z</dcterms:modified>
  <cp:revision>1</cp:revision>
  <dc:subject/>
  <dc:title>Slide 1</dc:title>
</cp:coreProperties>
</file>