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382-D2AC-4028-8F5D-6DB18C5A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714-B4C8-4C89-A16C-29C7572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9DE-C4B6-4824-A873-651A904A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601-3200-4EE2-B90F-3D15637E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38A-ABFD-45DF-9D34-80C18C7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59F-0D5B-471F-991A-F3DBDDA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E9F-31F7-494E-9C95-C9F1A68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EE2-45D4-4863-B903-9312E899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C4F-8DD2-4AFC-879F-DC0634BC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C7E-0585-435B-B483-F5DD1C0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C16-D78D-43D6-8FEC-5480BF8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8A0-7AC6-4CC6-A48E-6F5DEE5A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9270-D4B3-4F94-BD59-B9E7E72F9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1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57:33Z</dcterms:created>
  <dc:creator>U Kyaw Naing</dc:creator>
  <dc:description/>
  <dc:language>en-US</dc:language>
  <cp:lastModifiedBy>U Kyaw Naing</cp:lastModifiedBy>
  <dcterms:modified xsi:type="dcterms:W3CDTF">2012-09-21T14:58:30Z</dcterms:modified>
  <cp:revision>1</cp:revision>
  <dc:subject/>
  <dc:title>Slide 1</dc:title>
</cp:coreProperties>
</file>