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98A-DDC3-454E-BA64-F198C4D5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D3C-E955-4E5B-865F-7416FB95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557-CC1D-435B-BBEA-DB683BD6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3EA-8D76-4521-B5E5-AE09F66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57E-8D5F-4460-8E14-82882041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3A7-1E32-4F46-ACA8-54A1511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A83-AFBF-43F5-8388-7D353B1D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A54-5DCF-44D4-AE7B-6E77F77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DF5-93DE-4433-A80D-475DEE3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9E3-8B9E-41F4-A08A-44DB297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605-8B36-41D9-A97D-76DF046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44B-9E6C-4A68-8EB7-A9CE64BD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2DB-2243-4100-B441-077D302CD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21:36Z</dcterms:created>
  <dc:creator>U Kyaw Naing</dc:creator>
  <dc:description/>
  <dc:language>en-US</dc:language>
  <cp:lastModifiedBy>U Kyaw Naing</cp:lastModifiedBy>
  <dcterms:modified xsi:type="dcterms:W3CDTF">2012-09-21T14:23:20Z</dcterms:modified>
  <cp:revision>1</cp:revision>
  <dc:subject/>
  <dc:title>Slide 1</dc:title>
</cp:coreProperties>
</file>