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BC2D-8E53-4234-B8FA-CB9F510EE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ED62-7BD4-444F-B0B7-BE6A2111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1C71-34B0-4430-B467-385646139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CDA2-6A0A-4C42-8695-FB7721188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4AB3-D612-4F02-9C4B-1CD14D39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16A9-CCB6-4F99-9DAF-A11E1F22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B785-1801-4F65-847E-7F290A75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73A2-4070-4F14-A150-E9281DCD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F610-1425-4F30-907C-3AF2AAF1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5541-C460-4EA6-A931-CEA2FC81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9CD0-5BE1-453A-8F3A-B39A74AC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772B-D4C9-4957-BED9-380C3AC6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9ACD-5A54-4B4A-A4C5-ED749DA89F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54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5740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4:23:32Z</dcterms:created>
  <dc:creator>U Kyaw Naing</dc:creator>
  <dc:description/>
  <dc:language>en-US</dc:language>
  <cp:lastModifiedBy>U Kyaw Naing</cp:lastModifiedBy>
  <dcterms:modified xsi:type="dcterms:W3CDTF">2012-09-21T14:24:56Z</dcterms:modified>
  <cp:revision>1</cp:revision>
  <dc:subject/>
  <dc:title>Slide 1</dc:title>
</cp:coreProperties>
</file>