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CB82-3E56-4FD7-A7DB-C4DA300C3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DD6E-B35A-4A5A-A45C-904636E9E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A29C-4233-4660-8622-967F0114E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CAF6-E86F-4850-B80B-B964D002A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8A51-A668-4132-892F-0E1B2F60B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1474-6783-4D1D-B4EC-63E1B6A88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5F00-3BD8-418B-87BB-8686091F5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C5CE-AFED-4881-89CB-413120EC9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E7A8-3C56-411E-920D-C4D2F0260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CE8A-A4EC-4E2F-A7EB-72936310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14A8-7DF2-48CA-A8E6-D06BB690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DB39-FA5C-4B42-A652-1B02B470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4F498-A02B-4742-A32B-CCC8994A70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58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0656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14:13:21Z</dcterms:created>
  <dc:creator>U Kyaw Naing</dc:creator>
  <dc:description/>
  <dc:language>en-US</dc:language>
  <cp:lastModifiedBy>U Kyaw Naing</cp:lastModifiedBy>
  <dcterms:modified xsi:type="dcterms:W3CDTF">2012-09-21T14:14:30Z</dcterms:modified>
  <cp:revision>1</cp:revision>
  <dc:subject/>
  <dc:title>Slide 1</dc:title>
</cp:coreProperties>
</file>