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0856-246B-4E34-BD2E-8861B4C9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487-4C36-45B0-89A2-D7BF7C45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7EB0-EDF0-4368-9892-76AF99E1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AF4C-D64B-4CBA-AB1F-0B74A41C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FD5-BFFF-4C81-BD52-0E1BCAF3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19B-3B6A-41FE-9EF8-1A6CA615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88E8-4633-421A-A3CC-0ADBF55B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839F-A0D4-41E5-817D-1E843695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9F69-A3DB-4D7A-8F11-BD70DC0D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4525-FA2E-4BE4-AC24-C15787EE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F7D-FE5A-48D0-AE18-3FBD6717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D6D8-26F0-4C4F-B267-B99E391C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0F9D-DAFC-4E07-A106-4DB2654358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4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53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5:01:12Z</dcterms:created>
  <dc:creator>U Kyaw Naing</dc:creator>
  <dc:description/>
  <dc:language>en-US</dc:language>
  <cp:lastModifiedBy>U Kyaw Naing</cp:lastModifiedBy>
  <dcterms:modified xsi:type="dcterms:W3CDTF">2012-09-21T15:02:22Z</dcterms:modified>
  <cp:revision>1</cp:revision>
  <dc:subject/>
  <dc:title>Slide 1</dc:title>
</cp:coreProperties>
</file>