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883-454E-4CB2-A926-E7E0BCCC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DCD-EF2C-44CB-A2DE-EC49EED1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2AA-5F14-4906-8641-958DE3E1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B7B-2085-4265-AA8C-3F38C1BE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29A-6220-4913-8F67-F67ACD05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24A-E0A7-4EE5-80C8-598C0D0E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0FE-CEFE-491B-A1B2-F155A5A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209-9C0A-43A0-8B3B-6CA2449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826-1784-41D2-8489-800315A5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ADF-065C-429D-A54D-35D44729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E00-E9EA-41C7-B3D8-8126851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E46-3A01-44FA-8939-019C149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27B6-C152-4E7C-94B8-37CCD6B7D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16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06:58Z</dcterms:created>
  <dc:creator>U Kyaw Naing</dc:creator>
  <dc:description/>
  <dc:language>en-US</dc:language>
  <cp:lastModifiedBy>U Kyaw Naing</cp:lastModifiedBy>
  <dcterms:modified xsi:type="dcterms:W3CDTF">2012-09-21T14:08:58Z</dcterms:modified>
  <cp:revision>1</cp:revision>
  <dc:subject/>
  <dc:title>Slide 1</dc:title>
</cp:coreProperties>
</file>