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8C2-ED7A-47F7-9E51-EB59223B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4A78-D908-4B15-8A1F-B643E209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D7E-BC04-4A11-A322-BFF60833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8629-BD08-49EC-AD48-F7CD337D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FC9-C2A2-4782-B86A-E8F4BB89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31B-6646-4A48-A5BC-A93D29D3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116F-C8B3-4135-9AA6-F0BEC167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8F67-A66D-4D2A-9BCB-05239457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377F-4D08-4645-B6B8-9F558C1A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5BF-B021-43ED-963A-045ADA6A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ADE4-0115-4602-BB5E-A18CB6D3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02B-EF37-4AD3-B85C-76CD5E01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2072-BBFA-4B35-B0F8-6F0E85A7BE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6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232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4:18:32Z</dcterms:created>
  <dc:creator>U Kyaw Naing</dc:creator>
  <dc:description/>
  <dc:language>en-US</dc:language>
  <cp:lastModifiedBy>U Kyaw Naing</cp:lastModifiedBy>
  <dcterms:modified xsi:type="dcterms:W3CDTF">2012-09-21T14:19:31Z</dcterms:modified>
  <cp:revision>1</cp:revision>
  <dc:subject/>
  <dc:title>Slide 1</dc:title>
</cp:coreProperties>
</file>