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0F3-9C39-4329-8D87-A8E26E7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CC5-98C9-46EE-A089-27690B88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D4E-AC2C-43A0-A9D4-5825768F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410-663E-477C-82B2-30C62037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B80-02C9-4294-8C42-F37BAD63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46E-850A-4E64-B847-74247649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D6F-F754-4325-AFB8-1268BF99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497-CCD8-4414-A7C0-28BBF467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D4D-B065-40F5-BDD0-AEE0965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DC1-4884-46DE-90F9-B4C7BA2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B68-78EE-40C8-92AE-0F7F72DA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5ED-E7DD-4B55-9F3F-87CAE23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939-52DC-4C3E-B4DA-581438FC2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1:47Z</dcterms:created>
  <dc:creator>U Kyaw Naing</dc:creator>
  <dc:description/>
  <dc:language>en-US</dc:language>
  <cp:lastModifiedBy>U Kyaw Naing</cp:lastModifiedBy>
  <dcterms:modified xsi:type="dcterms:W3CDTF">2012-09-21T14:13:10Z</dcterms:modified>
  <cp:revision>1</cp:revision>
  <dc:subject/>
  <dc:title>Slide 1</dc:title>
</cp:coreProperties>
</file>