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0BA-DD7D-441C-BDED-1F91D7C8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25E-11A3-4A27-8826-EA93A9E1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227-8645-4AF5-8296-9C643B6D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B47-6D88-492D-A563-92FB138D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18C-F17A-4785-B86A-E0C94904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58C-3924-40E3-AD57-0E10D88E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487-DAE7-4DB7-846E-259CF697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89A-F58D-4CCD-9A77-876CBC6C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129-C3DB-4440-BB96-12688DEC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B10-A8C1-4654-ACBC-5782A8C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AFD-FCC9-4CA5-A73E-CC8C7F5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B2C-6A2E-43E4-9558-A767241D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316C-409D-48C0-A4DD-D52B2DC61A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47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19:40Z</dcterms:created>
  <dc:creator>U Kyaw Naing</dc:creator>
  <dc:description/>
  <dc:language>en-US</dc:language>
  <cp:lastModifiedBy>U Kyaw Naing</cp:lastModifiedBy>
  <dcterms:modified xsi:type="dcterms:W3CDTF">2012-09-21T14:21:26Z</dcterms:modified>
  <cp:revision>1</cp:revision>
  <dc:subject/>
  <dc:title>Slide 1</dc:title>
</cp:coreProperties>
</file>