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475-1340-4F32-8E22-A2C45FD7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089-FE08-4EF9-9C0C-BA57FAA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0DD-008D-4E0F-A335-0199506E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285-0762-4E4B-ABE5-4CA542FF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B10-0438-4432-B248-4C6CC3E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7BD-2DF9-4D45-9F87-90D5A43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FE2-DBA9-4433-9D15-6DC0BCF7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B2B-661E-42C7-976E-548ADE9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EC6-0C85-4891-A47C-B079965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8CD-289D-4454-B106-DBC18B4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B20-3E4F-43F0-96C8-7527144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2E0-A108-4A9B-9026-F285781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AFFA-BA88-4674-A9B6-F2B8DCA69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63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48:51Z</dcterms:created>
  <dc:creator>U Kyaw Naing</dc:creator>
  <dc:description/>
  <dc:language>en-US</dc:language>
  <cp:lastModifiedBy>U Kyaw Naing</cp:lastModifiedBy>
  <dcterms:modified xsi:type="dcterms:W3CDTF">2012-09-21T14:50:53Z</dcterms:modified>
  <cp:revision>1</cp:revision>
  <dc:subject/>
  <dc:title>Slide 1</dc:title>
</cp:coreProperties>
</file>