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C33-2DD9-4ABE-8A08-4B5EFC22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481-15A7-4EB2-AB92-DB6EAC83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F40-DDF3-40FD-A71E-431D9532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EF8-42A0-46FE-A783-DBAE93B3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1CD-35A6-4E49-8E80-58DF671C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036-5C81-4D22-A00C-F2B05BAB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16A-DD96-4D9D-B394-7FCFF46F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CD1-D89B-4076-8854-E73F3612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BED-1B24-48B0-9EB9-DCB3F62D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253-11FC-4478-BA52-97BAA92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B9B-C78E-425F-9173-F85712F7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18F-5292-47B8-B1D6-8982D9E7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CDD6-6578-438F-8813-604FE0A47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8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41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45:03Z</dcterms:created>
  <dc:creator>U Kyaw Naing</dc:creator>
  <dc:description/>
  <dc:language>en-US</dc:language>
  <cp:lastModifiedBy>U Kyaw Naing</cp:lastModifiedBy>
  <dcterms:modified xsi:type="dcterms:W3CDTF">2012-09-21T15:46:16Z</dcterms:modified>
  <cp:revision>1</cp:revision>
  <dc:subject/>
  <dc:title>Slide 1</dc:title>
</cp:coreProperties>
</file>