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1D5E2-0A31-400E-B575-48DBC1DA7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19564-BA92-4477-BD40-F0A5339B2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606F9-986E-4375-A2C0-6C5A52D23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57C16-8097-4F51-8478-0775FB37E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16979-3114-4DB3-A5A6-FB285E47C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ADAD7-D9EB-48CA-86CD-7765CD3AD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43198-A7BF-4217-9E98-12464E7A5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791F0-0D26-4931-967F-6C26C7679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F607D-013F-4B4F-8BE1-77A4C1698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97CDA-B45E-4B80-930D-C67D6F323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9AA16-AF58-4C4A-ADF9-6227A98BF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C592C-B719-4B56-A478-A0B8A5889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4320B-AE1E-40BE-B7EE-0927F2565D2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SUNP000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age 141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64544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14:51:03Z</dcterms:created>
  <dc:creator>U Kyaw Naing</dc:creator>
  <dc:description/>
  <dc:language>en-US</dc:language>
  <cp:lastModifiedBy>U Kyaw Naing</cp:lastModifiedBy>
  <dcterms:modified xsi:type="dcterms:W3CDTF">2012-09-21T14:51:56Z</dcterms:modified>
  <cp:revision>1</cp:revision>
  <dc:subject/>
  <dc:title>Slide 1</dc:title>
</cp:coreProperties>
</file>