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5E5-D538-4509-B629-92DD8145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AFC-9BF5-4600-8C7F-5B9F71F9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BFC-66C8-4BF4-8E5E-42CAF87E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AC7-9550-4384-9D7F-D75FC7B1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379-C3E6-468D-B0C0-DB0E2226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B6B-2827-4E06-B381-52E7A819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28C-1867-4A27-88B5-3C359B37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4A1-AF2E-43B7-9BBE-B7B1C37B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665-5EA5-4B5C-9E20-741E6682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BD9-7865-43C7-A4BA-2E1DC40E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4A8-7A15-4828-A3CC-CB3F345B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0CC-062B-4A05-95D1-BDDBF602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AFED-73E2-49FB-A9FB-4CCBD2F1E5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84 (Part 1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4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48:50Z</dcterms:created>
  <dc:creator>U Kyaw Naing</dc:creator>
  <dc:description/>
  <dc:language>en-US</dc:language>
  <cp:lastModifiedBy>U Kyaw Naing</cp:lastModifiedBy>
  <dcterms:modified xsi:type="dcterms:W3CDTF">2012-09-21T15:50:23Z</dcterms:modified>
  <cp:revision>1</cp:revision>
  <dc:subject/>
  <dc:title>Slide 1</dc:title>
</cp:coreProperties>
</file>