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D5E-0AE8-45F5-8C5C-4B3A63EC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415-03B4-4FC0-97CD-B8B32743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451-AB7D-486B-8530-A51ED6DC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443-8FD6-4BE6-9D98-F5884E35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449-DF42-4952-86D5-135574C2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C0C-02F6-416A-93D8-4FFD9431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8A6-12AF-4D38-829D-FAA39CB0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729-71C8-458F-A89C-B5815BA2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F32-E3EC-4235-8386-980E3FFE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D4D-531D-4D1E-89EA-45CFC8A1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C68-7609-4D9F-82E2-CFD5FED7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256-A456-440F-A281-CAEA167F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E598-56E1-4D3A-BEB7-C66C05B08A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84 (Part 2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52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48:50Z</dcterms:created>
  <dc:creator>U Kyaw Naing</dc:creator>
  <dc:description/>
  <dc:language>en-US</dc:language>
  <cp:lastModifiedBy>U Kyaw Naing</cp:lastModifiedBy>
  <dcterms:modified xsi:type="dcterms:W3CDTF">2012-09-21T15:50:57Z</dcterms:modified>
  <cp:revision>2</cp:revision>
  <dc:subject/>
  <dc:title>Slide 1</dc:title>
</cp:coreProperties>
</file>