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38A-3F1B-4834-855E-3EDB66DE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C48-EE89-4B51-9D62-BC53F76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151-4B07-49F0-8FAF-2C7FC17F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966-103D-4106-9E95-D041F697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DB8-D90B-4C34-ABAE-7A77B40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0B6-2EA3-4407-9E6B-7124EEC7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C1D-782C-45AD-B9DE-18701BD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0A0-7D50-41E1-A29E-00B77C65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95F-570D-4FA6-B53C-66240B60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3FA-A790-4EA1-8607-FAC6E6CF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BD8-4798-4399-BC7C-08370EF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3E9-F612-4169-854B-BC475EE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F67-E174-43CB-BBE8-7A8016492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3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44:59Z</dcterms:created>
  <dc:creator>U Kyaw Naing</dc:creator>
  <dc:description/>
  <dc:language>en-US</dc:language>
  <cp:lastModifiedBy>U Kyaw Naing</cp:lastModifiedBy>
  <dcterms:modified xsi:type="dcterms:W3CDTF">2012-09-21T14:46:38Z</dcterms:modified>
  <cp:revision>1</cp:revision>
  <dc:subject/>
  <dc:title>Slide 1</dc:title>
</cp:coreProperties>
</file>