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A16-A501-4B21-9E84-6978F5F2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DF9-09E5-4FA1-89A4-314D3AA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9A0-6B02-40D2-A116-808D259A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B03-71E6-485B-8477-28D932F6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375-910B-4572-B669-C71910F8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AA0-BF54-4029-9FBD-DE88F5C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B0F-EC07-4323-8FFC-AFF0472E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359-1D2C-485C-B602-B9F0A54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E8F-A3F4-4E4E-A445-31839BCA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CA8-0AA6-46BB-91EF-F08D09E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6B3-74E2-4068-8965-4799FA6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E13-B236-48BA-9ADF-35D3C8B9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747-EA98-43AA-A98F-CFABAF3AD5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0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52:06Z</dcterms:created>
  <dc:creator>U Kyaw Naing</dc:creator>
  <dc:description/>
  <dc:language>en-US</dc:language>
  <cp:lastModifiedBy>U Kyaw Naing</cp:lastModifiedBy>
  <dcterms:modified xsi:type="dcterms:W3CDTF">2012-09-21T14:54:21Z</dcterms:modified>
  <cp:revision>1</cp:revision>
  <dc:subject/>
  <dc:title>Slide 1</dc:title>
</cp:coreProperties>
</file>