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F03-CBAD-48A5-B24F-1E34036D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03A9-4F1B-438F-BA30-21204D50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9C7-0F16-4718-A195-A1F1EC58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E34-FB01-4133-B272-B507C18C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1F5-D4AB-491C-B2A0-C9802F8F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1C1-FFD3-48B1-94E7-1A4B628C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0CB-8ADB-4B74-9713-76E82415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E8E-38A1-4F9B-95E8-00EAA2B0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3CC4-E5FE-47EB-90A7-5339645A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EFF-2481-44BF-A65F-7D8AD311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B6C-D467-4CA7-A65D-8324E01E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1F19-B47F-4619-8F4C-EE133362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BDF6-CE92-45D3-BB79-B737009D52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8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06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51:05Z</dcterms:created>
  <dc:creator>U Kyaw Naing</dc:creator>
  <dc:description/>
  <dc:language>en-US</dc:language>
  <cp:lastModifiedBy>U Kyaw Naing</cp:lastModifiedBy>
  <dcterms:modified xsi:type="dcterms:W3CDTF">2012-09-21T15:52:54Z</dcterms:modified>
  <cp:revision>1</cp:revision>
  <dc:subject/>
  <dc:title>Slide 1</dc:title>
</cp:coreProperties>
</file>