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D54D-AABD-4C1B-BDC3-7AB4FF403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1907-3BBF-43DE-8241-4B16E5AD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467A-424A-42CC-8803-69531917E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8E6C-F5AF-44E6-A310-F8A06E1DF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8D8E-400D-4D3F-BFD2-43BDD556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BE61-C156-4AA0-8AF7-A90773B7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7EFD-D22E-4136-BD07-294CB61D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EACD-81ED-4B8F-AE2E-5D5FE74F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FA6D-DBE0-4BFB-A356-0A34D6D7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F1E0-A1D6-4621-8FF2-68E848E0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CB1C-C847-48E1-8703-27C89DA9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0BCD-BCD7-4D07-A77E-1B4B85E4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61E0-5297-46E3-9496-24D712BB16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38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521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4:46:45Z</dcterms:created>
  <dc:creator>U Kyaw Naing</dc:creator>
  <dc:description/>
  <dc:language>en-US</dc:language>
  <cp:lastModifiedBy>U Kyaw Naing</cp:lastModifiedBy>
  <dcterms:modified xsi:type="dcterms:W3CDTF">2012-09-21T14:48:44Z</dcterms:modified>
  <cp:revision>1</cp:revision>
  <dc:subject/>
  <dc:title>Slide 1</dc:title>
</cp:coreProperties>
</file>