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3FB-4525-427F-B3BB-011C4EB4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DDC-EDE6-427D-9469-9D5AF13F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F10-416E-4022-92D5-B7B9CD97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35E-3638-46B6-BA4E-E3E1E91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784-027D-4E6A-B179-4086A7B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74C-7333-4B5B-8F20-D2663F6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37C-048B-4C9C-ACA2-0FB6F872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3B8-F659-476F-B684-2B24BA0F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22F-96C3-4A07-8DCA-FF7D3D9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098-09E1-4588-99A5-30741E5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A07-635D-43FF-A7C7-FB7CBE5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6E2-D9DD-4658-8E94-F4C84BC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AD9-9668-43F7-B17E-2B309255D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99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7:22Z</dcterms:created>
  <dc:creator>U Kyaw Naing</dc:creator>
  <dc:description/>
  <dc:language>en-US</dc:language>
  <cp:lastModifiedBy>U Kyaw Naing</cp:lastModifiedBy>
  <dcterms:modified xsi:type="dcterms:W3CDTF">2012-09-21T15:48:31Z</dcterms:modified>
  <cp:revision>1</cp:revision>
  <dc:subject/>
  <dc:title>Slide 1</dc:title>
</cp:coreProperties>
</file>