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EC6-A34C-432C-9106-654601BF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3DA-968A-4AF2-8459-839EB495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2D3-B183-412B-9F1F-0A6975F8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C60-5226-400E-9292-C38AF0C0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ADC-6904-42EC-855B-36743DD9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7E5-5A66-4F57-B657-66A9BD73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C14-D96C-414F-8A3E-BDB18485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E8D-B337-4AD8-9275-54CABA1D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236-4D26-43A5-9E21-870CC143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665-46DB-4E49-98CA-DAEA3192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4F9-C51B-4AC5-8E27-D77BEDB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CCC-2AFF-4DF0-8AFD-E981E432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661-141A-4A6D-B6AE-51D9A21C45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8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57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46:25Z</dcterms:created>
  <dc:creator>U Kyaw Naing</dc:creator>
  <dc:description/>
  <dc:language>en-US</dc:language>
  <cp:lastModifiedBy>U Kyaw Naing</cp:lastModifiedBy>
  <dcterms:modified xsi:type="dcterms:W3CDTF">2012-09-21T15:47:15Z</dcterms:modified>
  <cp:revision>1</cp:revision>
  <dc:subject/>
  <dc:title>Slide 1</dc:title>
</cp:coreProperties>
</file>