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AE9-1047-406D-AF7D-9C354E63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16E-A9A9-4FC4-8C5A-F9FF637E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093-9732-40C8-ADB4-EEEB613E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171-512E-4AEE-B111-7F7798DD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E34-EB02-4E0B-BD4F-9D7C8268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807-2662-4416-A496-EB9A7E91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EFB-9AB1-4BD7-9265-2C007D80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3B2-4695-4F67-B751-A17BBEFB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9CB-C986-4821-84C3-FA3E7A2D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6EF-EEC5-4F27-9823-C90B9429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9B5-681D-47C0-8E7D-3C2AB488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570-6766-489E-A388-3819906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10E9-2D46-40F7-9C77-B88A9C01E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6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15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31:46Z</dcterms:created>
  <dc:creator>U Kyaw Naing</dc:creator>
  <dc:description/>
  <dc:language>en-US</dc:language>
  <cp:lastModifiedBy>U Kyaw Naing</cp:lastModifiedBy>
  <dcterms:modified xsi:type="dcterms:W3CDTF">2012-09-21T15:32:56Z</dcterms:modified>
  <cp:revision>1</cp:revision>
  <dc:subject/>
  <dc:title>Slide 1</dc:title>
</cp:coreProperties>
</file>