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B19-0CDE-4B3D-8308-F024D292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A6A-507E-4F4B-AA73-EF0728A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FCF-CD1D-4CFA-8C92-DA3EA88B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DA9-027D-4793-9A62-617CAA7D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8B5-E450-4B6C-9F06-BE14B24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F54-6A29-4E24-8404-819D25CD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2AF-5D18-41D3-9E34-05567FF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492-BF09-4EA4-97AB-6885CDA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B58-6213-4EF7-B06A-41FDA19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A7D-75F9-4FDF-9920-0EE5016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783-3075-4093-8FB8-35801CD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C14-9BD4-459D-9CF8-469FAC7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6CB-09C8-498B-92BD-041B233AC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5877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26:39Z</dcterms:created>
  <dc:creator>U Kyaw Naing</dc:creator>
  <dc:description/>
  <dc:language>en-US</dc:language>
  <cp:lastModifiedBy>U Kyaw Naing</cp:lastModifiedBy>
  <dcterms:modified xsi:type="dcterms:W3CDTF">2012-09-21T15:27:52Z</dcterms:modified>
  <cp:revision>1</cp:revision>
  <dc:subject/>
  <dc:title>Slide 1</dc:title>
</cp:coreProperties>
</file>