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D68-6725-49F2-A2D7-C7FCE84D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3A02-6827-457B-B10F-D86F165D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1F7F-EC3D-4318-ABF7-9A026F65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68D-DC02-44CC-A1C9-0E77E625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8C0-72A5-49A1-9FF5-721295BB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689A-DFB8-4B37-8084-820E23B8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1F3C-8854-4B22-8F3A-E08E7619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C53-BDB6-447A-94B4-B9411BE0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FE06-D3A3-4051-AA4B-0F167188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480-5D64-4BAD-ABB8-2CEECA97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3022-6F29-4489-80B7-EF9AFC70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FBE4-8EED-4EF8-B4DF-D049E78F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96E7-D752-49DC-B5F0-C837BAE9FE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6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836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28:48Z</dcterms:created>
  <dc:creator>U Kyaw Naing</dc:creator>
  <dc:description/>
  <dc:language>en-US</dc:language>
  <cp:lastModifiedBy>U Kyaw Naing</cp:lastModifiedBy>
  <dcterms:modified xsi:type="dcterms:W3CDTF">2012-09-21T15:30:28Z</dcterms:modified>
  <cp:revision>1</cp:revision>
  <dc:subject/>
  <dc:title>Slide 1</dc:title>
</cp:coreProperties>
</file>