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2CB-5E3A-4F48-9CA4-A405BD29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29E-0BF3-4B05-8D78-2166AB40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C1F-1590-45F8-9A9B-AA4E55A4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A83-1369-465D-8BCA-18B4FC41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F31-26C3-4FD7-B906-BA50F38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E9C-1998-4B6A-BEF1-83E6560E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5E2-79D6-4A4E-AFE5-698D4949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B0D-7650-4A68-9388-42640E81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F70-10AF-4EA6-A0CA-D44C773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C0A-F0DC-4A4B-9124-CDE185B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AF9-F6FB-4762-9CE1-AEB0A6A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A9D-42E8-4CA6-834E-AFBE7B6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FC27-096A-4248-AE1E-A4FAE0998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70+17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2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5:26Z</dcterms:created>
  <dc:creator>U Kyaw Naing</dc:creator>
  <dc:description/>
  <dc:language>en-US</dc:language>
  <cp:lastModifiedBy>U Kyaw Naing</cp:lastModifiedBy>
  <dcterms:modified xsi:type="dcterms:W3CDTF">2012-09-21T15:39:02Z</dcterms:modified>
  <cp:revision>1</cp:revision>
  <dc:subject/>
  <dc:title>Slide 1</dc:title>
</cp:coreProperties>
</file>