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D6B-0CEC-4240-90EC-349F6B91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05C-591F-4CE4-AE75-A73CCCFC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29F-8D76-4DCE-BF4B-D8EEEB7F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E0B-BD88-4863-8EAD-278838DA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7CA-EA8C-4603-BFF0-B615D304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DA4-96B6-49FA-806E-6A96E4FF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8A6-FF96-409E-AC1B-98A8DEE9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44D-F131-4DBE-8372-513DED44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396-689C-47FD-A722-F1461A4F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02C-8F66-4A39-AD81-13BC32C5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B0C-7881-42E9-9B48-B3354453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E80-004A-493C-AF1E-34CFCA8B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6A53-5602-4FA4-BF6C-E91FCD17C6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6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1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14:59Z</dcterms:created>
  <dc:creator>U Kyaw Naing</dc:creator>
  <dc:description/>
  <dc:language>en-US</dc:language>
  <cp:lastModifiedBy>U Kyaw Naing</cp:lastModifiedBy>
  <dcterms:modified xsi:type="dcterms:W3CDTF">2012-09-21T15:16:20Z</dcterms:modified>
  <cp:revision>1</cp:revision>
  <dc:subject/>
  <dc:title>Slide 1</dc:title>
</cp:coreProperties>
</file>