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C26-E683-46A1-80BC-EE182743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652-98FC-49C3-A6DD-50A19EAE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926-428F-4F9E-8D60-A81CB731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9D7-FAA9-421B-A77B-FAFC8422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7BA-878D-40DF-B3DF-F14DCE3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8E5-0563-4810-98E4-51419280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3A6-7094-4713-B4EC-7796C6AE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F00-EB1B-47F9-8C75-A1649B7C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B0F-0B7A-49F9-A6E2-31D1F02C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F14-C30A-4AF1-AD2F-F7584D63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F9B-DAEF-466C-8648-804372B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201-20CE-436F-8C3C-9FD8359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EC9B-D74E-4D6F-87B0-0B56E22E3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35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04:59Z</dcterms:created>
  <dc:creator>U Kyaw Naing</dc:creator>
  <dc:description/>
  <dc:language>en-US</dc:language>
  <cp:lastModifiedBy>U Kyaw Naing</cp:lastModifiedBy>
  <dcterms:modified xsi:type="dcterms:W3CDTF">2012-09-21T15:06:50Z</dcterms:modified>
  <cp:revision>1</cp:revision>
  <dc:subject/>
  <dc:title>Slide 1</dc:title>
</cp:coreProperties>
</file>