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C1C-E600-444A-AC51-0A1C2141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298-4C61-450B-8D36-8CD557A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2C4-82B1-431F-A605-E015C5E9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EFD-C891-4B3D-A816-B14C036C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1C6-CCD4-4B1E-A81A-5005F75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706-BC57-42C9-AB85-F3B1863D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2B0-B51A-4C8A-98C8-9E3BAE9D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51A-3144-4454-9CD7-BCDB4E9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798-4382-48BD-833B-58A0758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030-5CF0-4BCF-B74A-5629174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163-D34A-49E2-AF91-180AC8E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AD4-8C9A-425F-BFE2-073633A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E8F-4DDE-44E2-8F3C-49883F79C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7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10:04Z</dcterms:created>
  <dc:creator>U Kyaw Naing</dc:creator>
  <dc:description/>
  <dc:language>en-US</dc:language>
  <cp:lastModifiedBy>U Kyaw Naing</cp:lastModifiedBy>
  <dcterms:modified xsi:type="dcterms:W3CDTF">2012-09-21T15:11:08Z</dcterms:modified>
  <cp:revision>1</cp:revision>
  <dc:subject/>
  <dc:title>Slide 1</dc:title>
</cp:coreProperties>
</file>