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DC4-9340-4B3D-BFAB-DF916F76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585-BEFC-47E4-B8EA-A83A9D8E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D43-4270-44CB-A26B-2436FD32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12F-0EC3-4295-9335-071B3462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43D-DBAD-4AED-8E77-B7B50A2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638-99C3-4DC5-A95D-B3E59981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0AF-F569-4CB8-AFF0-2A5AE0D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1A7-44D7-4EC9-8CD1-DA6B190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7A8-65E4-4D81-93F8-8D81EBD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A32-E0A4-450F-8E0E-B7E168D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D8F-24C2-4F01-917D-B5B2F15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CBF-CDD7-4216-BA5B-F5AD8FB6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5C2B-0D3E-472F-BA9A-D8EE248F8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5950080"/>
          </a:xfrm>
          <a:prstGeom prst="rect">
            <a:avLst/>
          </a:prstGeom>
          <a:ln w="0">
            <a:noFill/>
          </a:ln>
        </p:spPr>
      </p:pic>
      <p:pic>
        <p:nvPicPr>
          <p:cNvPr id="42" name="Page 15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6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23:58Z</dcterms:created>
  <dc:creator>U Kyaw Naing</dc:creator>
  <dc:description/>
  <dc:language>en-US</dc:language>
  <cp:lastModifiedBy>U Kyaw Naing</cp:lastModifiedBy>
  <dcterms:modified xsi:type="dcterms:W3CDTF">2012-09-21T15:26:30Z</dcterms:modified>
  <cp:revision>1</cp:revision>
  <dc:subject/>
  <dc:title>Slide 1</dc:title>
</cp:coreProperties>
</file>