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3B5-363D-4B41-B2B2-54F654BB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5BC-727E-4537-8A5B-B3C0CEE7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6BF-E47E-47F4-B306-FA24C390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F84-6A65-4BAB-A464-355573C1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2CA0-EA92-4B4D-AE33-3E44B49C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A47D-04AD-4002-8FDA-032165B4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EAE-7B28-41D8-9C8C-574B0198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FE51-25EA-4F58-9860-6595F453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6F0D-7B95-41D8-9B2D-D30E3ED9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BB73-75C4-4945-ACE9-6347CA7B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ECCB-672A-4F41-9AF2-9362BC21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540-CBF8-4048-938E-8F87F5AF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6326-42DB-4683-A3E1-085971DD01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5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22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08:14Z</dcterms:created>
  <dc:creator>U Kyaw Naing</dc:creator>
  <dc:description/>
  <dc:language>en-US</dc:language>
  <cp:lastModifiedBy>U Kyaw Naing</cp:lastModifiedBy>
  <dcterms:modified xsi:type="dcterms:W3CDTF">2012-09-21T15:09:08Z</dcterms:modified>
  <cp:revision>1</cp:revision>
  <dc:subject/>
  <dc:title>Slide 1</dc:title>
</cp:coreProperties>
</file>