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46BA-AE64-4FF0-AD57-EFA48CF5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3D16-BFC0-448A-A6B9-B76F4B55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9B13-17ED-4134-973F-E41718C3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CBB9-7F21-4FB1-A0A1-584DC847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3D6A-9EAA-4514-A4FC-4372846D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7BD8-1670-4FC6-8441-29020209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6B70-7759-4538-93CC-DAC9BA31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E688-AF9D-4889-A2A6-A7B917CD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C5F9-DF87-4392-9F86-1B7D762F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1A44-A846-49C2-BE96-F792AA07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4794-8D4A-43BD-8E09-D7AF6CBC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0352-6253-4025-8A06-55060A2D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F8D9-B2A9-4205-93BF-6BEE685D4D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6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2364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5:30:36Z</dcterms:created>
  <dc:creator>U Kyaw Naing</dc:creator>
  <dc:description/>
  <dc:language>en-US</dc:language>
  <cp:lastModifiedBy>U Kyaw Naing</cp:lastModifiedBy>
  <dcterms:modified xsi:type="dcterms:W3CDTF">2012-09-21T15:31:38Z</dcterms:modified>
  <cp:revision>1</cp:revision>
  <dc:subject/>
  <dc:title>Slide 1</dc:title>
</cp:coreProperties>
</file>