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0F4-8BEF-4F11-AA34-0D16B3D2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5A4-23EE-497A-80EB-EEA2B0D3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A31-1E06-4414-86C6-3C3F0FED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FD7-B73E-49EF-ABE5-7FB4F69C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C87-F018-4B5B-8051-0DE1BAF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739-CE92-43EA-8B3E-EED458FF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F97-54A6-4DA7-9535-2D12726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9C9-6A64-40AA-A94E-6E14595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CDB-C818-4865-B9C6-D1513B96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E4F-AB65-48F3-B615-CF17F98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D0E-2248-46F8-8F57-543381E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883-AF3C-4ED5-A1EA-D61F50F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DAE-22A2-4740-A33C-DCF343BF1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76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3:04Z</dcterms:created>
  <dc:creator>U Kyaw Naing</dc:creator>
  <dc:description/>
  <dc:language>en-US</dc:language>
  <cp:lastModifiedBy>U Kyaw Naing</cp:lastModifiedBy>
  <dcterms:modified xsi:type="dcterms:W3CDTF">2012-09-21T15:34:12Z</dcterms:modified>
  <cp:revision>1</cp:revision>
  <dc:subject/>
  <dc:title>Slide 1</dc:title>
</cp:coreProperties>
</file>