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F1A-2CF0-4C43-AE8C-3C001D67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5FE-575B-4F13-AAB3-E6F6F085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C8D-EF87-44F9-A03A-D3A10D7B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A7D-1207-4560-87F1-7C0D5F91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3F9-CAE7-430F-8FE0-A3F1103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AF0-DD53-444F-806B-B3A9A0E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3D6-28A1-4847-9F0E-CF67C786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BA7-DA67-4714-81C7-9A2ABEC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01E-D493-46E2-B16C-DD50B757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949-E80D-4BE4-8339-E060D622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F6F-DC44-4EDC-801D-5CAD9C63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86E-6465-4AED-81EB-55C8248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227C-966F-4D6A-9F6C-6A6A03E10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0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11:20Z</dcterms:created>
  <dc:creator>U Kyaw Naing</dc:creator>
  <dc:description/>
  <dc:language>en-US</dc:language>
  <cp:lastModifiedBy>U Kyaw Naing</cp:lastModifiedBy>
  <dcterms:modified xsi:type="dcterms:W3CDTF">2012-09-21T15:12:27Z</dcterms:modified>
  <cp:revision>1</cp:revision>
  <dc:subject/>
  <dc:title>Slide 1</dc:title>
</cp:coreProperties>
</file>