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27A-F495-4829-AAE6-BE72FE94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CEA-304C-44F0-A2C9-56245331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B21-69C1-4473-8F76-7F2926DE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75B-65CF-4E94-8AC9-98FECD17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EAE-4F80-401D-AC6D-448C4E56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B5B-85FC-4FEB-B912-320286CE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7A6-55E7-41D5-B980-FB83AF10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A95-DCD5-4D6F-B8E8-ABEC1DC6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7E8-0873-45F7-B5CF-E6A5038E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002-101A-4FD3-AF03-068D7EBD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CBD-FF00-4513-BE01-AC6ECD4A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BAD-F184-4ED1-827F-6CDDB78B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1591-E585-4B8A-AD48-9B4F3DF515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6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56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12:36Z</dcterms:created>
  <dc:creator>U Kyaw Naing</dc:creator>
  <dc:description/>
  <dc:language>en-US</dc:language>
  <cp:lastModifiedBy>U Kyaw Naing</cp:lastModifiedBy>
  <dcterms:modified xsi:type="dcterms:W3CDTF">2012-09-21T15:14:45Z</dcterms:modified>
  <cp:revision>1</cp:revision>
  <dc:subject/>
  <dc:title>Slide 1</dc:title>
</cp:coreProperties>
</file>