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ACFC-59D7-429A-8D68-4BA61479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8645-5749-475E-9FAA-54D053A9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AA8-BF97-476E-9947-DCB63DAB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4D2-4F54-4CDA-BD9B-80D2A6A5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D5B-0073-49CB-99A4-EC41B4A9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B1E-52F7-4676-A1DA-3101553C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476-90C0-40D2-995C-ACED502C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135-296A-4EA2-888D-5D9EA059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0C1-1D1A-4C80-865F-A04EFF1F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D5B5-9334-40ED-871B-426AEC79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EBD-DCDC-4FEB-BBC5-B87FDAA7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C97A-48F6-438D-8D58-081A08BD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FDB0-E994-4B2B-BDA1-FEAFF6F418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6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270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34:22Z</dcterms:created>
  <dc:creator>U Kyaw Naing</dc:creator>
  <dc:description/>
  <dc:language>en-US</dc:language>
  <cp:lastModifiedBy>U Kyaw Naing</cp:lastModifiedBy>
  <dcterms:modified xsi:type="dcterms:W3CDTF">2012-09-21T15:35:16Z</dcterms:modified>
  <cp:revision>1</cp:revision>
  <dc:subject/>
  <dc:title>Slide 1</dc:title>
</cp:coreProperties>
</file>