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0921-D7B6-47DE-AA79-7A378A6C4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5620-20E6-46FE-B03F-5F17AF58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334C-22E3-4DC4-95AB-C8C6C3A91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EA99-A325-4B4B-BF29-5CBEBBE82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B0F3-ED3F-4E6A-8F6E-74A40BBB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93AA-6406-49E0-A3FB-C6063809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C427-88FD-4E48-8D77-00E63C65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6F08-E856-429C-9101-C7047B08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5CFE-11F4-45F2-AC60-078BEB08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0FC4-B89E-4349-A566-E0DF4BE2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6115-6C38-4881-8B70-F9BEEE1E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EC01-381C-4B85-BD96-2AF9F338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566A-2CA3-4BB6-B941-907B6E90F4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UNP00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81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176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5:42:24Z</dcterms:created>
  <dc:creator>U Kyaw Naing</dc:creator>
  <dc:description/>
  <dc:language>en-US</dc:language>
  <cp:lastModifiedBy>U Kyaw Naing</cp:lastModifiedBy>
  <dcterms:modified xsi:type="dcterms:W3CDTF">2012-09-21T15:44:00Z</dcterms:modified>
  <cp:revision>1</cp:revision>
  <dc:subject/>
  <dc:title>Slide 1</dc:title>
</cp:coreProperties>
</file>