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4F5-984D-4431-A988-CFB9B543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7FC-AD4E-455F-83D2-C9234A58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670-C4C6-4BE7-AE1E-BA404B37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E66-80CF-4507-ADC0-69131218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052-5356-42BF-BEF8-D794FCD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B40-D6AE-4E45-B068-5E44A277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95A-343C-4291-8A79-A00DF999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847-2922-419A-8F5F-1FBE82EA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992-FF70-4295-8F5C-576E026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613-35EF-4EBE-8C9C-FA1705B6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C3E-B9C6-4A57-9E6D-C0A2D77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BDB-F71E-4A5A-8FF4-9487463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8E94-6DA6-47F0-AA40-2069C03B2C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5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0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09:17Z</dcterms:created>
  <dc:creator>U Kyaw Naing</dc:creator>
  <dc:description/>
  <dc:language>en-US</dc:language>
  <cp:lastModifiedBy>U Kyaw Naing</cp:lastModifiedBy>
  <dcterms:modified xsi:type="dcterms:W3CDTF">2012-09-21T15:09:55Z</dcterms:modified>
  <cp:revision>1</cp:revision>
  <dc:subject/>
  <dc:title>Slide 1</dc:title>
</cp:coreProperties>
</file>