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FCB-657F-4B8F-A870-9F0D476C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6A4-A3E4-40BD-8379-404D031B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85A-D025-455F-A2E9-6E195C94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680-9810-4D85-B3E2-5D443BA3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7CD-951B-4321-8352-8B294A3D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C2B-E14B-4911-8A49-E599C69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35E-D2A0-4D84-93EF-FFB5922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F2F-4B95-43EA-A5AD-1844CFF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AEB-5FC6-45D9-BA5C-7CDCACBE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5ED-53D6-4C99-A33F-A97BDE8A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25C-F755-4DCE-A0C9-8D0FF15B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69E-B7FA-4126-97E2-1FE458EA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52ED-C97A-4C8A-A332-45C30C933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UNP0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7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3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39:55Z</dcterms:created>
  <dc:creator>U Kyaw Naing</dc:creator>
  <dc:description/>
  <dc:language>en-US</dc:language>
  <cp:lastModifiedBy>U Kyaw Naing</cp:lastModifiedBy>
  <dcterms:modified xsi:type="dcterms:W3CDTF">2012-09-21T15:42:15Z</dcterms:modified>
  <cp:revision>1</cp:revision>
  <dc:subject/>
  <dc:title>Slide 1</dc:title>
</cp:coreProperties>
</file>