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BE22-0657-47F4-A2AE-7692FB4A9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604C-16C8-44CE-926C-2CBDDD86C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FA36-511C-4F7E-9A9F-777DE80F1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52BB-8E5F-44D0-8A18-49C4585D5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0FBB-484F-41A8-925A-63DC52353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752F-F4E1-4E1D-9682-C04E74329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9D14-F37B-415C-A647-A5BDCDF7F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0E95-4060-4760-A835-04C360564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6056-A2FE-4757-8E15-D11F9B19F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71C3-8631-442A-B233-E6782F09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509B-D312-441E-84CE-91A33244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6C4A-8D33-426A-995F-FA537CB4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6B557-8F8D-4590-A9D8-2A1E5DE4A9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0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150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4886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15:06:59Z</dcterms:created>
  <dc:creator>U Kyaw Naing</dc:creator>
  <dc:description/>
  <dc:language>en-US</dc:language>
  <cp:lastModifiedBy>U Kyaw Naing</cp:lastModifiedBy>
  <dcterms:modified xsi:type="dcterms:W3CDTF">2012-09-21T15:08:03Z</dcterms:modified>
  <cp:revision>1</cp:revision>
  <dc:subject/>
  <dc:title>Slide 1</dc:title>
</cp:coreProperties>
</file>