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0547-77D6-4E6C-9659-0FEE253B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ADD-A8AA-44D3-9EA6-D6695313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421-FFEE-42F4-8370-2CE40C69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0E2-EF49-4E2C-9F45-C50B57C2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05C-E712-43B8-ABA1-C0C3608C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1A0-891D-4364-961B-AC165035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543-4E63-41DC-9C4F-75591183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0D1-D115-4B84-9FCC-DC2AEE3C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422-A338-4332-A8D5-5CCD8441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401-4C0B-4674-A05B-B094C264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346-6EC3-486C-9E7D-0FADD14A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7C4-C15B-4F80-A503-2B9E3D7E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91C6-15DB-4B0F-B372-FC780A2B6C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70+17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21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39:11Z</dcterms:created>
  <dc:creator>U Kyaw Naing</dc:creator>
  <dc:description/>
  <dc:language>en-US</dc:language>
  <cp:lastModifiedBy>U Kyaw Naing</cp:lastModifiedBy>
  <dcterms:modified xsi:type="dcterms:W3CDTF">2012-09-21T15:39:49Z</dcterms:modified>
  <cp:revision>1</cp:revision>
  <dc:subject/>
  <dc:title>Slide 1</dc:title>
</cp:coreProperties>
</file>