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C1F-E724-46AB-BBF6-14F2F6F3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18B-0BFB-4BB5-928E-82FF2260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EDC-4E6F-442D-9095-88A2BC70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37E-D391-4294-ABDC-C44B20F5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CC2-EDEA-4F27-970D-CA776136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0E9-C1F7-4F45-957F-1C4ED6E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2AF-B44E-42B1-84C9-9670CCAC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E9D-486D-42D1-BF32-93CE9025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81C-80C7-485B-840B-197B53CB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766-3E69-41C2-A058-C0D0B963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51F-2B11-4FB4-9732-81D24F8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C6C-5C33-4D50-A200-1354955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ED6B-D782-4E7E-B2B4-57C0763FC4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3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3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31:18Z</dcterms:created>
  <dc:creator>U Kyaw Naing</dc:creator>
  <dc:description/>
  <dc:language>en-US</dc:language>
  <cp:lastModifiedBy>U Kyaw Naing</cp:lastModifiedBy>
  <dcterms:modified xsi:type="dcterms:W3CDTF">2012-09-20T14:32:15Z</dcterms:modified>
  <cp:revision>1</cp:revision>
  <dc:subject/>
  <dc:title>Slide 1</dc:title>
</cp:coreProperties>
</file>