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3EA0-E7E7-426C-8D18-0E3CE07E2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B43D-3B23-4B79-9D47-51CC6769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E259-CA51-4759-A203-42B937929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9298-CA17-4183-9728-E9DDE0D56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2719-60F9-477E-AFAE-8B5E8CA9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9EEE-6D10-4000-A82D-26825BD6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5DB5-5D37-417D-8C04-4D5A4E25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D503-7EC0-4EB2-8CAC-DCA7EDD8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DCEB-ECA9-49E5-BA30-10614399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9CEE-484B-4E32-B394-D02D753C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B115-8D48-4A84-968D-63F02348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2D0A-9320-4113-8769-FA67BD0F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4295-62B0-43A8-A1AB-3461D8213C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35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924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0T14:38:30Z</dcterms:created>
  <dc:creator>U Kyaw Naing</dc:creator>
  <dc:description/>
  <dc:language>en-US</dc:language>
  <cp:lastModifiedBy>U Kyaw Naing</cp:lastModifiedBy>
  <dcterms:modified xsi:type="dcterms:W3CDTF">2012-09-20T14:39:48Z</dcterms:modified>
  <cp:revision>1</cp:revision>
  <dc:subject/>
  <dc:title>Slide 1</dc:title>
</cp:coreProperties>
</file>