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CDB-FE9D-46E0-ABEC-50AE0071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9E1-7C75-49C4-ABD9-62DF35BC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A1C-844C-4668-9173-049F3EC5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C1D-E06B-4DD3-9BCC-17924CF6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E33-58DC-4345-A15F-A27A7BA4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87A-6FB5-486D-B02D-75CF843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313-69CB-4600-A258-2F919342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43B-4F3A-4993-9618-0C52CED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F93-CB3D-4090-9AD1-0EFE63C9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B4E-9295-4D74-96C0-EBFD36AC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D78-B04D-4550-8376-7FC3E30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73C-85CF-463E-8BB9-04E9FEF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F11-D4A7-4C9D-97DC-6ADC38A19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1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33:57Z</dcterms:created>
  <dc:creator>U Kyaw Naing</dc:creator>
  <dc:description/>
  <dc:language>en-US</dc:language>
  <cp:lastModifiedBy>U Kyaw Naing</cp:lastModifiedBy>
  <dcterms:modified xsi:type="dcterms:W3CDTF">2012-09-20T14:34:58Z</dcterms:modified>
  <cp:revision>1</cp:revision>
  <dc:subject/>
  <dc:title>Slide 1</dc:title>
</cp:coreProperties>
</file>