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F9D-AF74-479E-A83A-4C061CA3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92F-717E-48A0-AB30-08239D3C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689-E4AF-4713-98DD-62E03F94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58C-0EAA-4FF8-9B3D-50D45CF9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8CC-7656-4B31-A81A-CB64FB49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BF8-A702-4036-BD65-F1F359C1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DE2-C0ED-4FC3-8AD1-0331C882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2A1-DA61-4352-AB33-8A6EB89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42E-7594-417B-A60E-1212890F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DC3-C2BE-41C0-AF0B-2EF64CF3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315-C36D-46D4-922E-0135B704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19D-4DAB-4A2E-A61C-77350C8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7EE0-A883-4CD4-8389-DE100456ED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2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278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4:24:17Z</dcterms:created>
  <dc:creator>U Kyaw Naing</dc:creator>
  <dc:description/>
  <dc:language>en-US</dc:language>
  <cp:lastModifiedBy>U Kyaw Naing</cp:lastModifiedBy>
  <dcterms:modified xsi:type="dcterms:W3CDTF">2012-09-20T14:28:10Z</dcterms:modified>
  <cp:revision>2</cp:revision>
  <dc:subject/>
  <dc:title>Slide 1</dc:title>
</cp:coreProperties>
</file>