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52-79F7-4DE4-AC15-C8FFF1ED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A4C-237E-4752-B001-BDFC7696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22C-D3DA-4DA7-994A-8D3E837D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1A4-E7CF-4C05-9CFF-7712F386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CA1-4658-4FEA-89E6-7F4B972C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5A8-9A0D-4CAD-8650-1846AAD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0EC-2A03-4BEE-87C2-DA70B362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534-56A4-4438-9FD9-A2EFFC83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144-A7D3-41D0-886E-EB279B6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1FC-EA5D-4543-A2E3-C871DA9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AAC-EA6F-4825-B2F8-A650FF9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AE7-10FC-4A1F-830D-4E3768D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CA0D-BE0B-47F9-A1D8-D1D1B5BFF3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97800" cy="6048360"/>
          </a:xfrm>
          <a:prstGeom prst="rect">
            <a:avLst/>
          </a:prstGeom>
          <a:ln w="0">
            <a:noFill/>
          </a:ln>
        </p:spPr>
      </p:pic>
      <p:pic>
        <p:nvPicPr>
          <p:cNvPr id="42" name="Page 13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40:38Z</dcterms:created>
  <dc:creator>U Kyaw Naing</dc:creator>
  <dc:description/>
  <dc:language>en-US</dc:language>
  <cp:lastModifiedBy>U Kyaw Naing</cp:lastModifiedBy>
  <dcterms:modified xsi:type="dcterms:W3CDTF">2012-09-20T14:41:21Z</dcterms:modified>
  <cp:revision>1</cp:revision>
  <dc:subject/>
  <dc:title>Slide 1</dc:title>
</cp:coreProperties>
</file>