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04B-480A-40BF-A6C4-38EC5279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4FC-4A66-4765-A0AA-948C98FE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F61B-F15F-4252-B7E2-0BB6ECCA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975E-1E02-4113-AD2D-0F04B23A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FCE-93AC-4726-8B94-FA851650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ABFE-A1D8-4F6E-AECB-C525C435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1FC-3070-4D02-8DC5-BA36A79F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0E7-3843-439C-9900-16747420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6B8-94B3-4096-9A9F-D99DDD96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D4D-6FE8-4973-9A04-BBB63DF7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09E-A038-474D-A4A8-8BEB8DE8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42F-00E3-4304-83D6-07CD283A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5E36-A936-4195-A3F5-1B146973A4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UNP0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3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4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4:35:05Z</dcterms:created>
  <dc:creator>U Kyaw Naing</dc:creator>
  <dc:description/>
  <dc:language>en-US</dc:language>
  <cp:lastModifiedBy>U Kyaw Naing</cp:lastModifiedBy>
  <dcterms:modified xsi:type="dcterms:W3CDTF">2012-09-20T14:38:25Z</dcterms:modified>
  <cp:revision>1</cp:revision>
  <dc:subject/>
  <dc:title>Slide 1</dc:title>
</cp:coreProperties>
</file>