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0FE-AE75-4251-99DB-74F0045F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79A-B7A1-40FF-8B47-7F4E8BA1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EBD-78DD-44DE-8A9D-63999129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185-6DD8-4524-A2BC-9AD80266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8D6-1D60-4667-831A-72D66CCC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FB6-F224-4916-8B0A-C768A3AF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9BE-477B-45AB-85A2-497B0B6D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2BA-BB74-45D9-9EDE-E1DA0960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7AD-394B-4C2B-B71A-D8711D38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05D-84D3-470D-9B95-949D921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D02-2AC9-46DA-A066-D6CE6435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762-F0DE-4ED9-B4A3-1785A16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D7B1-7FEA-44DE-8E45-AFBB6682D7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29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1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29:34Z</dcterms:created>
  <dc:creator>U Kyaw Naing</dc:creator>
  <dc:description/>
  <dc:language>en-US</dc:language>
  <cp:lastModifiedBy>U Kyaw Naing</cp:lastModifiedBy>
  <dcterms:modified xsi:type="dcterms:W3CDTF">2012-09-20T14:31:12Z</dcterms:modified>
  <cp:revision>1</cp:revision>
  <dc:subject/>
  <dc:title>Slide 1</dc:title>
</cp:coreProperties>
</file>