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6A0-5EA6-4E30-A2A3-7069E11C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6A9-0EB4-4807-9625-D3835878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ABD-C617-4930-B035-9E0236A7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FD8-2467-4919-AF3B-A6033BBB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2A7-6DCB-42DC-8BE6-FED7D97E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38E-37E8-4F7D-9C42-E14D09F6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7D0-EA4B-4D48-9670-6EE52F39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77E-7742-4368-9E69-A7E13189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B53-5C3E-4C50-9B33-6C57A0CB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57C-43FD-42B1-B6C0-39DCCAC8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792-BDC1-4C49-B5E8-0B519750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52C-DB74-406B-86AA-9986799C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F949-E32C-4D8F-BFD2-C7D728ACFC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29 Part 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29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28:15Z</dcterms:created>
  <dc:creator>U Kyaw Naing</dc:creator>
  <dc:description/>
  <dc:language>en-US</dc:language>
  <cp:lastModifiedBy>U Kyaw Naing</cp:lastModifiedBy>
  <dcterms:modified xsi:type="dcterms:W3CDTF">2012-09-20T14:29:27Z</dcterms:modified>
  <cp:revision>1</cp:revision>
  <dc:subject/>
  <dc:title>Slide 1</dc:title>
</cp:coreProperties>
</file>