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8AE-D5DC-437F-A682-1C7CD96A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A9E-CE04-4706-B195-C65304D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A66-3422-425F-89CB-53B09A68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E9A-B603-4A94-B9CE-3DE4493C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7F0-A39A-4979-B9A7-A9CA0E8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718-ECC4-4A8D-909A-7B585744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F74-DE40-4DB9-BC8C-90EE6D46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2F0-A2E5-4C80-9C8A-2B7CDB2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481-CE6A-412E-9CF9-1626E882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1EC-9409-478C-A248-448A8B26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23C-16A9-4B6C-81FC-A4F1040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D9D-37AB-4337-87B9-AFDA19D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3F1-5AF5-4A61-9B41-DCB0938F34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1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32:22Z</dcterms:created>
  <dc:creator>U Kyaw Naing</dc:creator>
  <dc:description/>
  <dc:language>en-US</dc:language>
  <cp:lastModifiedBy>U Kyaw Naing</cp:lastModifiedBy>
  <dcterms:modified xsi:type="dcterms:W3CDTF">2012-09-20T14:33:53Z</dcterms:modified>
  <cp:revision>1</cp:revision>
  <dc:subject/>
  <dc:title>Slide 1</dc:title>
</cp:coreProperties>
</file>