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8261D-D349-432D-B2DD-E1B69C434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58464-ECBF-4B78-8C61-F9C13830C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88F5C-D3E5-4FD3-BD81-C5E6072C5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41143-A6C2-429B-B823-D2294D35F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B97FF-BFA5-4622-AEAC-59ACA22FC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0FFC0-AB1C-4276-819C-41C05081E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A0201-B860-45F1-8444-1FE0C5CD3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AEA93-7AA3-4B1C-A9A4-5A0BAD1B4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724EF-9CB5-43CE-B280-4A77F3882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AC6D8-7EB2-4BF3-80BB-D74C0BE9A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65894-06FC-48F9-8F07-22AFE1793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8452D-969F-4130-B05E-6B3AEF760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1C43C-C19C-4F0E-A5C3-8057960E7CD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8424720" cy="6408720"/>
          </a:xfrm>
          <a:prstGeom prst="rect">
            <a:avLst/>
          </a:prstGeom>
          <a:ln w="0">
            <a:noFill/>
          </a:ln>
        </p:spPr>
      </p:pic>
      <p:pic>
        <p:nvPicPr>
          <p:cNvPr id="42" name="Page 154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91520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0T14:48:26Z</dcterms:created>
  <dc:creator>U Kyaw Naing</dc:creator>
  <dc:description/>
  <dc:language>en-US</dc:language>
  <cp:lastModifiedBy>U Kyaw Naing</cp:lastModifiedBy>
  <dcterms:modified xsi:type="dcterms:W3CDTF">2012-09-20T14:52:49Z</dcterms:modified>
  <cp:revision>2</cp:revision>
  <dc:subject/>
  <dc:title>Slide 1</dc:title>
</cp:coreProperties>
</file>