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3FFA-A4A8-4072-B49F-70BBC44F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422-7EF4-4E47-B478-01753522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6215-2DF6-453D-B486-884CF74E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ACE8-EDE2-4E19-A4C5-8D40CF5D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42A-AA9B-4363-81A9-D65498AC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C4E-341F-41A7-96AC-4033F7C7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961E-CA81-4FAA-8547-0070F3C1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AC3-DDDB-4A58-9ECF-85D0F461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531E-73AC-44D0-A5FB-5E634CC3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951-1782-4463-BCA0-368C2799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EFEA-7B5C-46B7-8D9C-85B49B93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7D8-7475-4D46-9984-AD5484CA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A612-950C-4D61-A31F-3FD60A5918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540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5:26Z</dcterms:created>
  <dc:creator>U Kyaw Naing</dc:creator>
  <dc:description/>
  <dc:language>en-US</dc:language>
  <cp:lastModifiedBy>U Kyaw Naing</cp:lastModifiedBy>
  <dcterms:modified xsi:type="dcterms:W3CDTF">2012-09-23T11:23:07Z</dcterms:modified>
  <cp:revision>4</cp:revision>
  <dc:subject/>
  <dc:title>Slide 1</dc:title>
</cp:coreProperties>
</file>