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6A1-DAEA-4B57-8F45-BEA1A6D4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58E-7D3E-409C-B7E5-7D1C61A1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A23-70B9-40B2-8E01-1F36ACFD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B5A-8059-4A34-B59A-44CE957B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284-FDEE-4FDD-AFD2-08F0B4A3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6A2-D3BF-44F9-881F-E743A0C3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F38-D1F9-4713-A050-E646DBC4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921-81B8-4E77-946C-6CFF1B86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D5A-4079-497A-9293-F831EDA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683-93EC-4CB7-A379-94275696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28D-7FB0-4A7D-99A4-407E5D75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906-1F5A-400F-9AC8-9EE2ACB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7D59-D150-4B45-9FA4-DEE677970A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1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4:06Z</dcterms:created>
  <dc:creator>U Kyaw Naing</dc:creator>
  <dc:description/>
  <dc:language>en-US</dc:language>
  <cp:lastModifiedBy>U Kyaw Naing</cp:lastModifiedBy>
  <dcterms:modified xsi:type="dcterms:W3CDTF">2012-09-23T11:03:58Z</dcterms:modified>
  <cp:revision>2</cp:revision>
  <dc:subject/>
  <dc:title>Slide 1</dc:title>
</cp:coreProperties>
</file>