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3E0-97F7-482F-9ADD-2C2C422C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219-B76F-46F9-818A-689536C5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04F1-8178-4C94-87EB-A32779FC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51F-F112-4550-9916-F4B8583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FE0-48A7-48FD-94FA-0A8DE783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B380-6446-4292-A82D-E92E7C44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ED2-12B4-4F01-921E-5DA939D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097-DCCF-4D82-8055-C253ECCC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AB1-B36E-4012-90C3-0CBE805C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4F9-CF57-4BBF-8C3A-9C172EC7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FB8-E56E-4A52-AA50-BFC96EA0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9BE-BD3D-48E1-AFFB-4BBF01E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FB05-540D-4A11-A2BB-10A316571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09080" cy="6335640"/>
          </a:xfrm>
          <a:prstGeom prst="rect">
            <a:avLst/>
          </a:prstGeom>
          <a:ln w="0">
            <a:noFill/>
          </a:ln>
        </p:spPr>
      </p:pic>
      <p:pic>
        <p:nvPicPr>
          <p:cNvPr id="42" name="Page 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8:32Z</dcterms:created>
  <dc:creator>U Kyaw Naing</dc:creator>
  <dc:description/>
  <dc:language>en-US</dc:language>
  <cp:lastModifiedBy>U Kyaw Naing</cp:lastModifiedBy>
  <dcterms:modified xsi:type="dcterms:W3CDTF">2012-09-23T11:08:35Z</dcterms:modified>
  <cp:revision>2</cp:revision>
  <dc:subject/>
  <dc:title>Slide 1</dc:title>
</cp:coreProperties>
</file>