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26E-46E6-4601-AC91-0DE4AC24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155-63C7-4AD8-82F9-A63DAE4E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BFB-8904-4643-90F9-FF409610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9BF-1149-4F4C-90D0-0D58EC33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CD4-B9F5-40E5-999A-1BA76F80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A99-A441-4F14-B320-9DDEA59C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F65-D5AB-4982-86B7-65A401F2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A08-B612-4D26-BB0E-8D98C371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5FD-ACD3-4A5C-B473-BFBA29FA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34A-9FDC-4BCB-888B-BA27F12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82D-FA00-44F3-BC25-B1E77A8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A55-82EF-47C5-8DDD-133A7949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EE2B-036A-400F-8430-32BB8ACED0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11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2:37Z</dcterms:created>
  <dc:creator>U Kyaw Naing</dc:creator>
  <dc:description/>
  <dc:language>en-US</dc:language>
  <cp:lastModifiedBy>U Kyaw Naing</cp:lastModifiedBy>
  <dcterms:modified xsi:type="dcterms:W3CDTF">2012-09-23T11:03:37Z</dcterms:modified>
  <cp:revision>2</cp:revision>
  <dc:subject/>
  <dc:title>Slide 1</dc:title>
</cp:coreProperties>
</file>