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9B20-2806-483C-BFBC-5C079C738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BEE4-51D3-4202-B3B4-E736134C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0D1A-52FC-4B0F-9916-6362AAE95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D91B-53D5-4D62-9E73-F10F17637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92ED-7A42-4C90-9C46-518FCCCB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BF3F-A492-4C90-9DC5-C46F5979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8E28-696A-4EE5-826A-671FE275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D5A5-F95F-4CD9-8F31-B182975B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86EB-E0C9-4AC5-B879-215FA065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3A03-2B27-4385-823C-4F99A534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CB9C-B34C-4DB1-8C00-4C10FDAE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15AF-238D-4746-B11A-E5CED340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73EF-4214-45B0-BB0B-A3A93271F9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5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5401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14:06:03Z</dcterms:created>
  <dc:creator>U Kyaw Naing</dc:creator>
  <dc:description/>
  <dc:language>en-US</dc:language>
  <cp:lastModifiedBy>U Kyaw Naing</cp:lastModifiedBy>
  <dcterms:modified xsi:type="dcterms:W3CDTF">2012-09-23T11:05:36Z</dcterms:modified>
  <cp:revision>2</cp:revision>
  <dc:subject/>
  <dc:title>Slide 1</dc:title>
</cp:coreProperties>
</file>