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0095E-0AA1-4269-AB23-3F09879F2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F84AC-ECD3-48C7-988A-062F624FA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09C7D-A230-4275-94EE-B12BBEBDD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A2E0C-94FD-4908-AE78-D36F03EEF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AA27B-6C1E-4205-B658-975AF42E0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A70D4-EDC2-49F1-B150-EE76EA2BC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AEE89-4354-48B5-A52D-0BF1CDB5E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72C0F-6894-44E0-832A-C62009C01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06626-2F74-4CC4-B0B8-288894A8C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BDAC5-AA6D-4661-83E6-BC3012319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C386A-081A-405C-8D0C-82B6B65DB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0C31D-7FB2-4046-899F-50EE15249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89736-7656-45D3-ABAC-329CF293117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SUNP001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age 7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876544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9T14:07:18Z</dcterms:created>
  <dc:creator>U Kyaw Naing</dc:creator>
  <dc:description/>
  <dc:language>en-US</dc:language>
  <cp:lastModifiedBy>U Kyaw Naing</cp:lastModifiedBy>
  <dcterms:modified xsi:type="dcterms:W3CDTF">2012-09-23T11:20:45Z</dcterms:modified>
  <cp:revision>2</cp:revision>
  <dc:subject/>
  <dc:title>Slide 1</dc:title>
</cp:coreProperties>
</file>