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B29-4945-4348-80D8-49E345B1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C6E-EE6C-4B4F-ACDA-C66DA08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781-557E-46A3-B067-A8251201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C69-F10B-4B7E-AB6B-3B3C76D1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532-3AA7-482F-8D59-1EE5A7F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662-F2BD-4E89-81C8-416EE2A1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945-55A4-45E4-A013-B40E76B7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0ED-F0B6-4C06-A45E-73D245E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EF3-A969-466E-B030-F53131F1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1F8-7A48-4F99-94DE-3493086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A13-84FD-4180-9FD6-4086051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7AF-02E6-4916-81B1-FE8E4A5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BF3-988A-4DF6-807A-1F52EBB43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75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50Z</dcterms:created>
  <dc:creator>U Kyaw Naing</dc:creator>
  <dc:description/>
  <dc:language>en-US</dc:language>
  <cp:lastModifiedBy>U Kyaw Naing</cp:lastModifiedBy>
  <dcterms:modified xsi:type="dcterms:W3CDTF">2012-09-23T11:04:18Z</dcterms:modified>
  <cp:revision>2</cp:revision>
  <dc:subject/>
  <dc:title>Slide 1</dc:title>
</cp:coreProperties>
</file>