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D28-CDA7-40EB-B8E7-73D40F95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2FF-45A9-4A32-AF41-A0FA8FA0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F70-90D1-48E7-A525-A39A8815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F75-18D1-4605-A83A-71BDB059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DBC-EB6B-40F3-84ED-33612398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5DE-6E15-4084-802C-2722E3DC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081-FEEC-4A04-BA83-D593541B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F1C-2EB8-461C-B24F-6455487A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F7B-566A-4837-86B3-8211702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87E-2267-4B16-9FF1-B38C2A88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C9D-625E-4E77-8587-FAFEBB0F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CF3-D029-4860-B2ED-65D75973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2B2A-D484-4133-AF79-2CD2C325C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93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40Z</dcterms:created>
  <dc:creator>U Kyaw Naing</dc:creator>
  <dc:description/>
  <dc:language>en-US</dc:language>
  <cp:lastModifiedBy>U Kyaw Naing</cp:lastModifiedBy>
  <dcterms:modified xsi:type="dcterms:W3CDTF">2012-09-23T11:05:59Z</dcterms:modified>
  <cp:revision>2</cp:revision>
  <dc:subject/>
  <dc:title>Slide 1</dc:title>
</cp:coreProperties>
</file>