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424-ACFF-4C0D-A776-7C4F77E2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1CC-067D-4E4B-A228-D3F2305D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8B1-1DC0-4FA1-99D7-7816D1F3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563-3B91-440F-B350-15A0A98D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0953-E6AA-430B-8D94-3E96F437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5ADF-CB29-4C95-9C63-62AFB4A1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8867-A90F-4AFC-992B-9B8FC0F7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ED87-B163-4187-8E51-2FA2CF90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B9F4-E1D0-47D0-B666-A77DF813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AC89-12F3-40A9-8CD9-544594E8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D9B7-39E8-4E74-8AAB-ADF4A33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831-29F5-4F46-881B-BA388B1B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292A-6924-4035-AE5A-F314C33F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3F09-15AC-4FF2-A97F-C9F80426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D8D9-601F-4FA2-A237-A1535C36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58EE-33A0-4A32-A2FA-25A87B04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A546-AF33-49A5-8DAF-4C2C584C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F33-8AD2-45C5-8134-E7FBA3AE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7F3-BA20-4C3F-B0EF-FA1282AA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72E-2C2E-4A05-A5EE-D37A905A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449-3E26-4922-99F3-3F657096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FEC-06E1-4D52-B480-3253FE04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737-6F6E-4C89-8400-5BB84B7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9A2-ECD3-4A53-AB99-25609B32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1BF3-EF7F-49A9-AD20-11332B8353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86A9-D270-42A6-B508-3D1B724876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d.uno.edu/faculty/joescher/EDFR6700/resources/r2/ph.app2.html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ucational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to Educational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y, Mills, and Airasi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ations of the scientific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ability to answer value-based questions involving “shoul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ability to capture the full richness and complexities of the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 of our measurement instr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ical and legal responsi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6324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ucational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pplication of the scientific method to study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educa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oal is to explain, predict, and/or control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educational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enom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60958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1.5 &amp; 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ucational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s for conducting educational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specific research procedures to design and collec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 of conclusions based on the results of the data analy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s the steps in the scientific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96080" y="6248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1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ucational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ies conducting educational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human beings and the complexities associated with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ies generalizing from specific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hen imposing sufficient controls to conduct research in educational sett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ications when observing in educational sett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measurement of the variables being stud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6324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1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ifying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helpful ways to view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gree of direct applicability of research to educational practices and sett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verall strategies followed to collect and analyze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1, 3.2 &amp;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urposes of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categ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and development (R &amp;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7724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urposes of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and analysis of data to develop or enhance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 related t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earning the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a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v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y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rdner’s multiple intellig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7924680" y="6172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urposes of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e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and analysis of data to examine the usefulness of theory in solving practical educational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ing a seventh grade social studies curriculum around a problem-solving approach to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ining the effectiveness of a computer-based algebra program developed around a mastery learning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ommodating varied learning styles when teaching lessons in modern liter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6095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urposes of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action of basic and applied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research provides the theory that produces the concepts for solving educational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ed research provides the data to help support, guide, and revise the development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6019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urposes of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llection and analysis of data to make decisions related to the merit or worth of a specific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it relates to a program accomplishing what it was supposed to accomp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th relates to the value attached to a program by those using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848720" y="60199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sections of this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verview of the scientific method and educational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lassification of types of research by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lassification of types of research by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 of types of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urposes of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ive evaluation is designed to inform and improve a program while it is being developed or implem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tive evaluation is designed to make decisions regarding the overall quality of the program being evaluat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7620120" y="5867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urposes of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ized algebra program being used in Williams Middle School has been installed properly, is being used properly, and student achievement is increasing as a result of its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ized algebra program being used in Williams Middle School is perceived to be an efficient and effective expenditure of district f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6095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urposes of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an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velopment of effective products for use in sch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velopment of the software to create a computerized algebra program that incorporates an individualized mastery learning approach to teaching basic algebraic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velopment of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mart 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enhance a teacher’s use of technology in the classr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6248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urposes of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llection and analysis of data to provide a solution to the practical, valued problems of educators within their own school or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our college move to a performance based model for undergraduate teacher preparation program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disciplinary policies be enforced consistently in our schoo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59436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24680" y="62485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arch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general categories of methods currently being used in educational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594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itative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purpo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and analyze data to explain, predict, or control phenomena of inte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current 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stigate relationshi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y causes and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s of the resear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live in a stable, uniform, and coherent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easure, understand, and generalize about our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regarded a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vis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ersp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63244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6 &amp; 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itative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ic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formally stated hypotheses and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controls to minimize the effects of factors that could interfere with the outcome of th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numbers of participating su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ive, detached researc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pencil and paper tests, questionnaire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6248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6 &amp; 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itative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basic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5943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itative De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 – to describe the current status of a variable of interest to the researc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students drop out of school in Louisian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the attitudes of parents, students, and teachers concerning an extended school yea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kinds of activities typically occur in sixth-grade art classes, and how frequently does each occu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what extent are elementary teachers using math manipulativ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6172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7 &amp;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itative De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l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 – to ascertain the extent to which two or more variables are statistically 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the relationship between ACT scores and freshman grad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a teacher’s sense of efficacy related to his/her effectivenes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 significant relationships exist between the types of activities used in math classrooms and student achievement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esign do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y cau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7 &amp;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ys of Kn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ways we c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n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ts and auth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tific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62485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itative De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al-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 – to explore relationships among variables that cannot be actively manipulated or controlled by the researc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the effect of part-time employment on the achievement of high school student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characteristics differentiate students who drop out from those who do not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the effect of attending a magnet school on student attitud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mportant characteristic is that the independent variable has already been manipu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400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7 &amp;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itative De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 – to establish cause and effect relationships between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effect of teaching with (1) a co-operative groups strategy or (2) a traditional lecture approach on students’ achievem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effect of teaching with manipulatives vs. a traditional algorithm approach on students’ test scor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mportant characteristics are that the researcher manipulates the independent variable and controls extrane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63244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7 &amp;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itative De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 – to investigate cause and effect relationships with samples of one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effect of a behavior modification program on John’s conduct in clas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effect of a behavioral training program on Joan’s ability to complete her performance task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mportant characteristic is the use of specific interventions to cause behavioral changes in low incidence populations (e.g., special edu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6248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7 &amp;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itative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probe deeply into the research setting to obtain in-depth understandings about the way things are, why they are like that, and how participants perceive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need to create a sustained, in-depth, in context study that allows the researcher to uncover subtle, less overt personal understanding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s of the resear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meaning is situated in a particular perspective or co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people and groups often have different perspectives and contexts, so there are many different meanings in the wor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regarded as a post-positivistic persp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77724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8 &amp; 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itative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no hypotheses guiding the researcher, rather a general issue known as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oreshadowed probl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ggests the general issues of conc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s and methods tend to evolve over the course of the study as understanding of the research context and participants deep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enomena are examined as they exist in a natural context, and they are viewed from the participants’ perspec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few participants involved in the stu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analysis is interpretative in n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earcher interacts extensively with the participa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63244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8 &amp; 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itative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basic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7391520" y="5867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itative De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 – focus on studying a single person and gathering data through the collection of stories that are used to construct a narrative about the individual’s experience and the meanings he/she attributes to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the experiences of a veteran teacher who has been moved into an administrative position in her schoo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does “inclusion” mean to a special needs child who is placed in a regular education classroo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7315200" y="63244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9 &amp; 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itative De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n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 – to obtain an understanding of the shared beliefs and practices of a particular group or cul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nature of the problems teachers encounter when they begin using a constructivist approach to instruction after having taught using a very traditional approach for ten year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oes a sense of failure permeate everything about this particular high school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6172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9 &amp; 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itative and Qualitative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mentary nature of quantitative and qualitative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urposes of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ator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ation of the strengths and weaknesses of different approaches for specific purpo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Quantitative versus Qualitative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60199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3.11 &amp; 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itative and Qualitative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ltimate goal when choosing a design is to produce a credible answer to the research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earch question drives the choice of a research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haracteristics of specific designs suggest they will produce more credible answers to specific types of research questions than other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purpo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procedures and analyses for each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ys of Kn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ing on one’s knowledge of prior experi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one is affected by an event depends on who one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frequently needs to know something that cannot by learned through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6400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Your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the following studies and categorize them as quantitative or quali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quantitative, categorize them as descriptive, correlational, causal-comparative, experimental, or single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qualitative, categorize them as narrative or ethn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Your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ing about Brown and Walberg’s article as well as Wolfe’s articl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would you consider the first a quantitative study and the second a qualitative stud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ould you suggest is the purpose of each article using the five categories described by the authors of the tex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ys of Kn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things as they have always been d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itions are often based on an idealized p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itions can be distant from current realities and the complexities associated with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ts or auth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ying on the expertise or authority of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ts can be wro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ts can disagree among themselves, as in a “second opini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63244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ys of Kn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ctive rea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oning from the specific to the gen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be certain of a conclusion one must observe all 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amples can be observed only in very limited situations where there are few members of the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6248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ys of Know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uctive rea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oning from the general to the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begin with true premises in order to arrive at true 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tive reasoning only organizes what is already 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6172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oal of the scientific method is to explain, predict, and/or control phenom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nvolves the acquisition of knowledge and the development and testing of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 of the scientific method is more efficient and reliable than any other source of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. 1.1 &amp; 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steps in the scientific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and definition of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tion of hypo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ng 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0:50:58Z</dcterms:created>
  <dc:creator>Jeffery Oescher</dc:creator>
  <dc:description/>
  <dc:language>en-US</dc:language>
  <cp:lastModifiedBy>Becky Bobb</cp:lastModifiedBy>
  <dcterms:modified xsi:type="dcterms:W3CDTF">2005-08-26T16:07:11Z</dcterms:modified>
  <cp:revision>61</cp:revision>
  <dc:subject/>
  <dc:title>Educational Research</dc:title>
</cp:coreProperties>
</file>