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10.gif" ContentType="image/gif"/>
  <Override PartName="/ppt/media/image8.wmf" ContentType="image/x-wmf"/>
  <Override PartName="/ppt/media/image13.png" ContentType="image/png"/>
  <Override PartName="/ppt/media/image11.gif" ContentType="image/gif"/>
  <Override PartName="/ppt/media/image6.gif" ContentType="image/gif"/>
  <Override PartName="/ppt/media/image5.jpeg" ContentType="image/jpeg"/>
  <Override PartName="/ppt/media/image26.jpeg" ContentType="image/jpeg"/>
  <Override PartName="/ppt/media/image12.wmf" ContentType="image/x-wmf"/>
  <Override PartName="/ppt/media/image7.wmf" ContentType="image/x-wmf"/>
  <Override PartName="/ppt/media/image20.jpeg" ContentType="image/jpeg"/>
  <Override PartName="/ppt/media/image4.gif" ContentType="image/gif"/>
  <Override PartName="/ppt/media/image2.wmf" ContentType="image/x-wmf"/>
  <Override PartName="/ppt/media/image27.jpeg" ContentType="image/jpeg"/>
  <Override PartName="/ppt/media/image25.jpeg" ContentType="image/jpeg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26280"/>
            <a:ext cx="822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2628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2628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2628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2628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26280"/>
            <a:ext cx="264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2628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2628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6280"/>
            <a:ext cx="8229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ctinedtoolkit.sonjara.com/usere/login.php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e80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8915400" y="0"/>
            <a:ext cx="228600" cy="4343400"/>
          </a:xfrm>
          <a:prstGeom prst="rect">
            <a:avLst/>
          </a:prstGeom>
          <a:solidFill>
            <a:srgbClr val="e57d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ICT in Education Toolk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5791320"/>
            <a:ext cx="28954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hyperlink" Target="http://store1.yimg.com/I/campingsurvival_1761_7400640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305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7d28"/>
                </a:solidFill>
                <a:latin typeface="Trebuchet MS"/>
              </a:rPr>
              <a:t>ICT fo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248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80a5"/>
                </a:solidFill>
                <a:latin typeface="Trebuchet MS"/>
              </a:rPr>
              <a:t>An Overvie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7315200" y="608184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Prepar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Wadi D. Had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00800" y="6019920"/>
          <a:ext cx="8380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019920"/>
                    <a:ext cx="838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533412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2. Increasing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Dual Shift Sys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Multigrade Scho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Small Urban or Rural Scho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Flexibility in Learning Schedu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1911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600200"/>
            <a:ext cx="3429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rebuchet MS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Interactive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Educational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Virtual Online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3. Enhancing Quality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Motivate and engage learn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Bring life to concepts and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Foster inqui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Provide flexibi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Allow application of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Provide access to world of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Bring the world into the classro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Offer collaborative opportunities and commun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rebuchet MS"/>
              </a:rPr>
              <a:t>Offer tutored and individualized lear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rebuchet MS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rebuchet MS"/>
              </a:rPr>
              <a:t>Radio and T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rebuchet MS"/>
              </a:rPr>
              <a:t>Multimedia Learning Mod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rebuchet MS"/>
              </a:rPr>
              <a:t>Virtual Lab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rebuchet MS"/>
              </a:rPr>
              <a:t>Connecting to the Worl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rebuchet MS"/>
              </a:rPr>
              <a:t>Designing and Creating Thing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4. Enhancing Quality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35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rebuchet MS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rebuchet MS"/>
              </a:rPr>
              <a:t>Difficult Profess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rebuchet MS"/>
              </a:rPr>
              <a:t>No One-Shot Tra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rebuchet MS"/>
              </a:rPr>
              <a:t>Continuu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Initial Train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Lifelong Upgrad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Connec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5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rebuchet MS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rebuchet MS"/>
              </a:rPr>
              <a:t>Multimedia Training and Support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rebuchet MS"/>
              </a:rPr>
              <a:t>Training Vide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rebuchet MS"/>
              </a:rPr>
              <a:t>Teacher Development Port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rebuchet MS"/>
              </a:rPr>
              <a:t>Internet Resources for Teach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5. Facilitating Skil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New Workplace Real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E-Train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Just-in-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Convenient Pl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Up-to-P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User-centr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7520" y="1523520"/>
            <a:ext cx="4035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Competency-based multi-med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Video and Interactive med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rebuchet MS"/>
              </a:rPr>
              <a:t>Workplace Train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6. Sustaining 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5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rebuchet MS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Workers need to learn new skil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Modern societies demand constant upda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The “educated” can become obsol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Life-cycle pattern is chan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adio and TV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ultimedia Pack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nline Cour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pen Univers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Age” Univers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7. Improving Policy Planning &amp;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 of Institutions and Sys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9933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School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Admissions, student flow, personnel, staff development, facilities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9933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System: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 School mapping, personnel payroll, MIS, communication, information, . .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 of Policy Mak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8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Storage and analysis of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8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Construction and assessment of policy scenar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8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Tracer studies and tracking sys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8. Advancing Community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owth in ICT Acc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48520" cy="384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3880" y="1828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Mill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8. Advancing Community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lephones, Cellular phones and PCs per 1,000 inhabit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52040" y="2039760"/>
            <a:ext cx="8030160" cy="3466080"/>
            <a:chOff x="752040" y="2039760"/>
            <a:chExt cx="8030160" cy="3466080"/>
          </a:xfrm>
        </p:grpSpPr>
        <p:sp>
          <p:nvSpPr>
            <p:cNvPr id="132" name=""/>
            <p:cNvSpPr/>
            <p:nvPr/>
          </p:nvSpPr>
          <p:spPr>
            <a:xfrm>
              <a:off x="999360" y="2088000"/>
              <a:ext cx="5193720" cy="3155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9360" y="4791240"/>
              <a:ext cx="519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9360" y="434232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9360" y="3890520"/>
              <a:ext cx="519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9360" y="343944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9360" y="298908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9360" y="253872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99360" y="208800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9360" y="2088000"/>
              <a:ext cx="5193720" cy="31550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1040" y="5038200"/>
              <a:ext cx="164880" cy="2048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080" y="4432680"/>
              <a:ext cx="165240" cy="810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7480" y="2649960"/>
              <a:ext cx="162720" cy="259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48720" y="4589280"/>
              <a:ext cx="162720" cy="6537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9240" y="3079800"/>
              <a:ext cx="165240" cy="2163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0480" y="3102120"/>
              <a:ext cx="167400" cy="2140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75680" y="4342320"/>
              <a:ext cx="163440" cy="900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85920" y="5107680"/>
              <a:ext cx="167760" cy="1353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29680" y="4748040"/>
              <a:ext cx="164880" cy="4953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70560" y="4046760"/>
              <a:ext cx="167400" cy="11966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11440" y="4904280"/>
              <a:ext cx="167400" cy="3391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54840" y="4003200"/>
              <a:ext cx="165240" cy="12398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880" y="4026240"/>
              <a:ext cx="162720" cy="12171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39120" y="4770360"/>
              <a:ext cx="167400" cy="4726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4040" y="5219280"/>
              <a:ext cx="162720" cy="237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4560" y="5085360"/>
              <a:ext cx="165240" cy="1580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7960" y="3822480"/>
              <a:ext cx="163440" cy="14205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9200" y="5128560"/>
              <a:ext cx="165240" cy="1144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440" y="4770360"/>
              <a:ext cx="164880" cy="4726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60960" y="4295520"/>
              <a:ext cx="167400" cy="947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06880" y="5017320"/>
              <a:ext cx="162720" cy="2257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9360" y="2088000"/>
              <a:ext cx="2160" cy="315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66240" y="524340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6240" y="4791240"/>
              <a:ext cx="3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66240" y="434232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6240" y="3890520"/>
              <a:ext cx="3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66240" y="343944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66240" y="298908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66240" y="253872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66240" y="2088000"/>
              <a:ext cx="32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9360" y="5243400"/>
              <a:ext cx="519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999360" y="5243040"/>
              <a:ext cx="216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740600" y="5243040"/>
              <a:ext cx="18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483640" y="5243040"/>
              <a:ext cx="18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224880" y="5243040"/>
              <a:ext cx="18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65760" y="5243040"/>
              <a:ext cx="216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07000" y="5243040"/>
              <a:ext cx="18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52200" y="5243040"/>
              <a:ext cx="216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93440" y="5243040"/>
              <a:ext cx="18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4000" y="519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7840" y="47422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7840" y="42940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7840" y="38415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7840" y="33912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040" y="294048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2040" y="24901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040" y="2039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3800" y="531324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66520" y="5313240"/>
              <a:ext cx="54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 w/o U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99720" y="5414040"/>
              <a:ext cx="340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&amp; Canad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7760" y="5313240"/>
              <a:ext cx="544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S and Canad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2800" y="5313240"/>
              <a:ext cx="14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83920" y="5313240"/>
              <a:ext cx="247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01400" y="5313240"/>
              <a:ext cx="28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cean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3280" y="5313240"/>
              <a:ext cx="28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6360" y="3046680"/>
              <a:ext cx="2535840" cy="627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69840" y="3123360"/>
              <a:ext cx="72360" cy="5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81440" y="3097080"/>
              <a:ext cx="1514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 subscribers/100 Inhabita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9840" y="3331800"/>
              <a:ext cx="72360" cy="572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80000" y="3305880"/>
              <a:ext cx="1398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llular subscribers/100 Inhabita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9840" y="3537000"/>
              <a:ext cx="72360" cy="590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6040" y="3512880"/>
              <a:ext cx="78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s/100 inhabita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8. Advancing Community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et hosts and users per 10,000 inhabit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35080" y="1953360"/>
            <a:ext cx="7388640" cy="3700440"/>
            <a:chOff x="1135080" y="1953360"/>
            <a:chExt cx="7388640" cy="3700440"/>
          </a:xfrm>
        </p:grpSpPr>
        <p:sp>
          <p:nvSpPr>
            <p:cNvPr id="206" name=""/>
            <p:cNvSpPr/>
            <p:nvPr/>
          </p:nvSpPr>
          <p:spPr>
            <a:xfrm>
              <a:off x="1412640" y="2004840"/>
              <a:ext cx="5208120" cy="337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12640" y="4817160"/>
              <a:ext cx="520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12640" y="4253400"/>
              <a:ext cx="520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12640" y="3692880"/>
              <a:ext cx="5208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12640" y="3129480"/>
              <a:ext cx="520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12640" y="2568960"/>
              <a:ext cx="5208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2640" y="2004840"/>
              <a:ext cx="5208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2640" y="2004840"/>
              <a:ext cx="5208120" cy="3373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71400" y="5375160"/>
              <a:ext cx="214920" cy="3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14800" y="5316120"/>
              <a:ext cx="214920" cy="62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000" y="5292000"/>
              <a:ext cx="214920" cy="867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3760" y="5349600"/>
              <a:ext cx="212760" cy="291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7520" y="5221800"/>
              <a:ext cx="214560" cy="1569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0560" y="5327280"/>
              <a:ext cx="214920" cy="51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36120" y="5327280"/>
              <a:ext cx="214920" cy="51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86680" y="5293800"/>
              <a:ext cx="212760" cy="849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9720" y="4911120"/>
              <a:ext cx="213120" cy="4676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5280" y="2340000"/>
              <a:ext cx="213120" cy="30387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16520" y="5000040"/>
              <a:ext cx="213120" cy="3787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62080" y="4043880"/>
              <a:ext cx="210960" cy="1334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05840" y="3262320"/>
              <a:ext cx="212760" cy="21164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51040" y="4757400"/>
              <a:ext cx="210960" cy="6210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12640" y="2004840"/>
              <a:ext cx="2160" cy="33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2400" y="5378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400" y="481716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82400" y="42534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82400" y="3692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82400" y="31294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82400" y="2568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2400" y="2004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12640" y="5378760"/>
              <a:ext cx="5208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412640" y="5378760"/>
              <a:ext cx="216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157840" y="5378760"/>
              <a:ext cx="216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901600" y="5378760"/>
              <a:ext cx="180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647160" y="5378760"/>
              <a:ext cx="180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388400" y="5378760"/>
              <a:ext cx="216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32160" y="5378760"/>
              <a:ext cx="180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877720" y="5378760"/>
              <a:ext cx="180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620760" y="5378760"/>
              <a:ext cx="216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7360" y="53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35080" y="47671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35080" y="420336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35080" y="364104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35080" y="30790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35080" y="25171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35080" y="195336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5360" y="545292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8520" y="5452920"/>
              <a:ext cx="54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 w/o U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7400" y="5562000"/>
              <a:ext cx="340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&amp; Canad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50560" y="5452920"/>
              <a:ext cx="544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S and Canad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29040" y="5452920"/>
              <a:ext cx="14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15920" y="5452920"/>
              <a:ext cx="247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8440" y="5452920"/>
              <a:ext cx="28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cean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72120" y="5452920"/>
              <a:ext cx="28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10600" y="2922120"/>
              <a:ext cx="2013120" cy="55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6680" y="2964600"/>
              <a:ext cx="76320" cy="68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66120" y="293688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net Hosts/1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65760" y="306432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habita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680" y="3240000"/>
              <a:ext cx="76320" cy="66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67200" y="3210480"/>
              <a:ext cx="150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net Users/10,000 inhabita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Advancing Community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T access varies within coun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parities is magnified by gender fac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T access contributes to escape from pover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T access for all requires attention 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ws and regul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CTs in Education – Dilemmas and Reali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le and Nature of ICTs in Edu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tential of IC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om Potential to Effectiven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Stations and Receiv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962520"/>
            <a:ext cx="3124080" cy="1761840"/>
            <a:chOff x="5105520" y="3962520"/>
            <a:chExt cx="3124080" cy="176184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5105520" y="3962520"/>
              <a:ext cx="17715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858000" y="44290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atel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0" y="990720"/>
            <a:ext cx="308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886200" y="1828800"/>
            <a:ext cx="1828800" cy="1523880"/>
            <a:chOff x="3886200" y="1828800"/>
            <a:chExt cx="182880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18288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rank 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Crank Radio"/>
            <p:cNvPicPr/>
            <p:nvPr/>
          </p:nvPicPr>
          <p:blipFill>
            <a:blip r:embed="rId2"/>
            <a:stretch/>
          </p:blipFill>
          <p:spPr>
            <a:xfrm>
              <a:off x="4869000" y="2176560"/>
              <a:ext cx="769680" cy="11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3133800" y="187164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943600" y="1219320"/>
            <a:ext cx="2590920" cy="2095560"/>
            <a:chOff x="5943600" y="1219320"/>
            <a:chExt cx="2590920" cy="2095560"/>
          </a:xfrm>
        </p:grpSpPr>
        <p:pic>
          <p:nvPicPr>
            <p:cNvPr id="278" name="" descr="Click to enlarge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38960" y="1219320"/>
              <a:ext cx="20955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943600" y="121932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rebuchet MS"/>
                </a:rPr>
                <a:t>Crank/So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rebuchet MS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304920" y="3459240"/>
            <a:ext cx="3809880" cy="20448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457200" y="838080"/>
            <a:ext cx="2857680" cy="2390760"/>
            <a:chOff x="457200" y="838080"/>
            <a:chExt cx="2857680" cy="2390760"/>
          </a:xfrm>
        </p:grpSpPr>
        <p:sp>
          <p:nvSpPr>
            <p:cNvPr id="282" name=""/>
            <p:cNvSpPr/>
            <p:nvPr/>
          </p:nvSpPr>
          <p:spPr>
            <a:xfrm>
              <a:off x="457200" y="83808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rebuchet MS"/>
                </a:rPr>
                <a:t>Suitcase Radio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533520" y="1295280"/>
              <a:ext cx="2781360" cy="193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ele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715000" cy="26971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238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omen-Friendly Tele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358092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in accepted culture; fosters harmo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omen do not have to travel f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meets needs of men and wom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childcare probl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ace is roomy and provides priva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ff is well integra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44956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429000" y="533520"/>
            <a:ext cx="33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4703760"/>
            <a:ext cx="342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295280"/>
            <a:ext cx="403848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57d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Arial"/>
              </a:rPr>
              <a:t>Prerequi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Arial"/>
              </a:rPr>
              <a:t>Corequi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2040" y="304920"/>
            <a:ext cx="3951360" cy="2133360"/>
            <a:chOff x="392040" y="304920"/>
            <a:chExt cx="3951360" cy="21333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392040" y="304920"/>
              <a:ext cx="174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PlaceHolder 1"/>
            <p:cNvSpPr>
              <a:spLocks noGrp="1"/>
            </p:cNvSpPr>
            <p:nvPr>
              <p:ph type="title"/>
            </p:nvPr>
          </p:nvSpPr>
          <p:spPr>
            <a:xfrm>
              <a:off x="1981080" y="456840"/>
              <a:ext cx="23623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Autofit/>
            </a:bodyPr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ebuchet MS"/>
                </a:rPr>
                <a:t>Poten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3520" y="3048120"/>
            <a:ext cx="7543800" cy="2895480"/>
            <a:chOff x="533520" y="3048120"/>
            <a:chExt cx="7543800" cy="289548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3795840" y="3048120"/>
              <a:ext cx="4281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33520" y="4683240"/>
              <a:ext cx="298116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ebuchet MS"/>
                </a:rPr>
                <a:t>Effect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rom Potential to 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roach to IC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CT-Enhanced Cont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itted and Trained Personn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nancial Resourc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loting and Evalu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Infopage">
            <a:hlinkClick r:id="rId1" action="ppaction://hlinksldjump"/>
          </p:cNvPr>
          <p:cNvSpPr/>
          <p:nvPr/>
        </p:nvSpPr>
        <p:spPr>
          <a:xfrm>
            <a:off x="4572000" y="1752480"/>
            <a:ext cx="457200" cy="414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Infopage">
            <a:hlinkClick r:id="rId2" action="ppaction://hlinksldjump"/>
          </p:cNvPr>
          <p:cNvSpPr/>
          <p:nvPr/>
        </p:nvSpPr>
        <p:spPr>
          <a:xfrm>
            <a:off x="4038480" y="2286000"/>
            <a:ext cx="457200" cy="447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Infopage">
            <a:hlinkClick r:id="rId3" action="ppaction://hlinksldjump"/>
          </p:cNvPr>
          <p:cNvSpPr/>
          <p:nvPr/>
        </p:nvSpPr>
        <p:spPr>
          <a:xfrm>
            <a:off x="5029200" y="3809880"/>
            <a:ext cx="457200" cy="371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771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0923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 </a:t>
            </a:r>
            <a:r>
              <a:rPr b="0" lang="en-US" sz="2800" spc="-1" strike="noStrike">
                <a:solidFill>
                  <a:srgbClr val="009999"/>
                </a:solidFill>
                <a:latin typeface="Trebuchet MS"/>
              </a:rPr>
              <a:t>Tech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 not to </a:t>
            </a:r>
            <a:r>
              <a:rPr b="0" lang="en-US" sz="2800" spc="-1" strike="noStrike">
                <a:solidFill>
                  <a:srgbClr val="009999"/>
                </a:solidFill>
                <a:latin typeface="Trebuchet MS"/>
              </a:rPr>
              <a:t>Tech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CT  ――►Education More Effective an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                    Respons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562720" y="4114800"/>
          <a:ext cx="198108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19810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523880" y="4648320"/>
            <a:ext cx="3733920" cy="838080"/>
          </a:xfrm>
          <a:prstGeom prst="rightArrow">
            <a:avLst>
              <a:gd name="adj1" fmla="val 50000"/>
              <a:gd name="adj2" fmla="val 11138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8129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438280" y="4114800"/>
          <a:ext cx="1752840" cy="12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1752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22860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Wingdings"/>
                <a:ea typeface="Wingdings"/>
              </a:rPr>
              <a:t>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19320" y="45720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We do not think anymore of the spectacle of printing every time we read a book, the phenomenon of TV every time we watch a movie, or the miracle of the telephone every time we make a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35268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The ultimate success of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ICTs for learning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 will be attained when we stop marveling about the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ICTs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 and apply our minds and emotions to the wonders of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lear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2301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62320" y="1828800"/>
            <a:ext cx="3657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05740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be0e3"/>
                </a:solidFill>
                <a:latin typeface="Impact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562040" y="1676520"/>
            <a:ext cx="5372280" cy="2963520"/>
            <a:chOff x="1562040" y="1676520"/>
            <a:chExt cx="5372280" cy="2963520"/>
          </a:xfrm>
        </p:grpSpPr>
        <p:sp>
          <p:nvSpPr>
            <p:cNvPr id="319" name=""/>
            <p:cNvSpPr/>
            <p:nvPr/>
          </p:nvSpPr>
          <p:spPr>
            <a:xfrm>
              <a:off x="4307760" y="2930400"/>
              <a:ext cx="10742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Levels of I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30400" y="4070520"/>
              <a:ext cx="262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949560" y="2360160"/>
              <a:ext cx="2268360" cy="15958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830400" y="2131920"/>
              <a:ext cx="0" cy="19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62040" y="1676520"/>
              <a:ext cx="537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97600" y="2018160"/>
              <a:ext cx="131292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tructing or design of 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torage or disp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947880" y="2979000"/>
              <a:ext cx="18237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30400" y="4184280"/>
              <a:ext cx="2745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assive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ACTIVE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LEARNER’S 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0"/>
            <a:ext cx="716292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vels of ICTs for Different Learning Objectives and Roles of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1600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EARNING 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2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vels of ICTs for Different Teaching Uses and Roles of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95280" y="1600200"/>
            <a:ext cx="5562720" cy="3047760"/>
            <a:chOff x="1295280" y="1600200"/>
            <a:chExt cx="5562720" cy="3047760"/>
          </a:xfrm>
        </p:grpSpPr>
        <p:sp>
          <p:nvSpPr>
            <p:cNvPr id="331" name=""/>
            <p:cNvSpPr/>
            <p:nvPr/>
          </p:nvSpPr>
          <p:spPr>
            <a:xfrm>
              <a:off x="4138560" y="2889720"/>
              <a:ext cx="11124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Trebuchet MS"/>
                </a:rPr>
                <a:t>Levels of I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43920" y="4062240"/>
              <a:ext cx="271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67400" y="2303280"/>
              <a:ext cx="2348640" cy="16412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643920" y="2068920"/>
              <a:ext cx="0" cy="199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5280" y="1600200"/>
              <a:ext cx="556272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360" y="1951560"/>
              <a:ext cx="1359720" cy="23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nagement of Student 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laboration/Commun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nimation/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Drill &amp; Prac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Demon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666000" y="2938680"/>
              <a:ext cx="187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920" y="4179240"/>
              <a:ext cx="2843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Provider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Facilitator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TEACHER’S ROLE</a:t>
              </a: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Impact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905120" y="16765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EACHING 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7772400" y="6095880"/>
            <a:ext cx="1066680" cy="609840"/>
          </a:xfrm>
          <a:prstGeom prst="leftArrow">
            <a:avLst>
              <a:gd name="adj1" fmla="val 50000"/>
              <a:gd name="adj2" fmla="val 43728"/>
            </a:avLst>
          </a:prstGeom>
          <a:solidFill>
            <a:srgbClr val="ffffff"/>
          </a:solidFill>
          <a:ln w="9360">
            <a:solidFill>
              <a:srgbClr val="e57d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Go 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0800000">
            <a:off x="1143000" y="990360"/>
            <a:ext cx="3581280" cy="4647960"/>
          </a:xfrm>
          <a:prstGeom prst="flowChartDelay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0574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7339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e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336200">
            <a:off x="1828440" y="1752120"/>
            <a:ext cx="2666880" cy="831960"/>
          </a:xfrm>
          <a:prstGeom prst="rightArrow">
            <a:avLst>
              <a:gd name="adj1" fmla="val 50000"/>
              <a:gd name="adj2" fmla="val 801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rebuchet MS"/>
              </a:rPr>
              <a:t>Qs about Value of 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89548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rebuchet MS"/>
              </a:rPr>
              <a:t>My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594800">
            <a:off x="2114640" y="4203360"/>
            <a:ext cx="2514600" cy="914400"/>
          </a:xfrm>
          <a:prstGeom prst="rightArrow">
            <a:avLst>
              <a:gd name="adj1" fmla="val 50000"/>
              <a:gd name="adj2" fmla="val 68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rebuchet MS"/>
              </a:rPr>
              <a:t>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590920"/>
            <a:ext cx="1752480" cy="13262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l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u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362320"/>
            <a:ext cx="1752480" cy="17899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nolit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362320"/>
            <a:ext cx="1752480" cy="17899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n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88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0800000">
            <a:off x="4951800" y="990360"/>
            <a:ext cx="3581640" cy="464796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1523880"/>
            <a:ext cx="304776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alyze Educational objectiv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termine Objective for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nderstand Potential of 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xamine suitability of 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lan program of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lement prerequisites and corequi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valuate and adjust 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2666880"/>
            <a:ext cx="838080" cy="1295640"/>
            <a:chOff x="4419720" y="2666880"/>
            <a:chExt cx="838080" cy="12956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4419720" y="3170160"/>
              <a:ext cx="8380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419720" y="2666880"/>
              <a:ext cx="838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Impact"/>
                </a:rPr>
                <a:t>Decis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Impact"/>
                </a:rPr>
                <a:t>Ma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343400" y="3048120"/>
            <a:ext cx="3962520" cy="2332080"/>
            <a:chOff x="4343400" y="3048120"/>
            <a:chExt cx="3962520" cy="233208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4343400" y="3048120"/>
              <a:ext cx="396252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629400" y="312408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Namibia School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447920" y="3276720"/>
            <a:ext cx="1904760" cy="2085840"/>
            <a:chOff x="1447920" y="3276720"/>
            <a:chExt cx="1904760" cy="20858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447920" y="3657600"/>
              <a:ext cx="189504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447920" y="32767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Pedal Power 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1066680"/>
            <a:ext cx="2352960" cy="2009520"/>
            <a:chOff x="609480" y="1066680"/>
            <a:chExt cx="2352960" cy="2009520"/>
          </a:xfrm>
        </p:grpSpPr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609480" y="1066680"/>
              <a:ext cx="235296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914400" y="12189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Impact"/>
                </a:rPr>
                <a:t>Solar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800600" y="685800"/>
            <a:ext cx="3600360" cy="2224080"/>
            <a:chOff x="4800600" y="685800"/>
            <a:chExt cx="3600360" cy="2224080"/>
          </a:xfrm>
        </p:grpSpPr>
        <p:pic>
          <p:nvPicPr>
            <p:cNvPr id="352" name="" descr=""/>
            <p:cNvPicPr/>
            <p:nvPr/>
          </p:nvPicPr>
          <p:blipFill>
            <a:blip r:embed="rId4"/>
            <a:stretch/>
          </p:blipFill>
          <p:spPr>
            <a:xfrm>
              <a:off x="4800600" y="685800"/>
              <a:ext cx="360036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171840" y="914400"/>
              <a:ext cx="205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Impact"/>
                </a:rPr>
                <a:t>Wind Power 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>
            <a:hlinkClick r:id="rId5" action="ppaction://hlinksldjump"/>
          </p:cNvPr>
          <p:cNvSpPr/>
          <p:nvPr/>
        </p:nvSpPr>
        <p:spPr>
          <a:xfrm>
            <a:off x="7772400" y="6095880"/>
            <a:ext cx="1066680" cy="609840"/>
          </a:xfrm>
          <a:prstGeom prst="leftArrow">
            <a:avLst>
              <a:gd name="adj1" fmla="val 50000"/>
              <a:gd name="adj2" fmla="val 43728"/>
            </a:avLst>
          </a:prstGeom>
          <a:solidFill>
            <a:srgbClr val="ffffff"/>
          </a:solidFill>
          <a:ln w="9360">
            <a:solidFill>
              <a:srgbClr val="e57d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Go 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5. Costing and Budg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tal Cost of Ownersh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quisition - hardware and soft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stallation and configu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rebuchet MS"/>
              </a:rPr>
              <a:t>Maintenance :          15-20% of initial inves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rebuchet MS"/>
              </a:rPr>
              <a:t>Supplies:                  8-1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rebuchet MS"/>
              </a:rPr>
              <a:t>Utilities:                  4-8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rebuchet MS"/>
              </a:rPr>
              <a:t>Computer training    5-1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trofitting of physical facil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placement costs (5-7 year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ditional Cos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quisition and creation of content materia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ientation and training of staf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sting, evaluation and adjus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3352680"/>
            <a:ext cx="182880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Arial"/>
              </a:rPr>
              <a:t>31-4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7772400" y="6095880"/>
            <a:ext cx="1066680" cy="609840"/>
          </a:xfrm>
          <a:prstGeom prst="leftArrow">
            <a:avLst>
              <a:gd name="adj1" fmla="val 50000"/>
              <a:gd name="adj2" fmla="val 43728"/>
            </a:avLst>
          </a:prstGeom>
          <a:solidFill>
            <a:srgbClr val="ffffff"/>
          </a:solidFill>
          <a:ln w="9360">
            <a:solidFill>
              <a:srgbClr val="e57d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Go 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Necessity  of 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733920" y="2590920"/>
          <a:ext cx="1490400" cy="114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590920"/>
                    <a:ext cx="149040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8080" y="1523880"/>
            <a:ext cx="2667240" cy="3505320"/>
          </a:xfrm>
          <a:prstGeom prst="rightArrowCallout">
            <a:avLst>
              <a:gd name="adj1" fmla="val 32858"/>
              <a:gd name="adj2" fmla="val 32855"/>
              <a:gd name="adj3" fmla="val 16667"/>
              <a:gd name="adj4" fmla="val 803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Globaliz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ech Inno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Knowledge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scalating Dem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r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62720" y="1447920"/>
            <a:ext cx="3047760" cy="847440"/>
            <a:chOff x="5562720" y="1447920"/>
            <a:chExt cx="3047760" cy="847440"/>
          </a:xfrm>
        </p:grpSpPr>
        <p:sp>
          <p:nvSpPr>
            <p:cNvPr id="72" name=""/>
            <p:cNvSpPr/>
            <p:nvPr/>
          </p:nvSpPr>
          <p:spPr>
            <a:xfrm>
              <a:off x="5562720" y="1676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</a:rPr>
                <a:t>Effective Le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7391520" y="1447920"/>
              <a:ext cx="1218960" cy="84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5562720" y="1676520"/>
            <a:ext cx="2450880" cy="1628640"/>
            <a:chOff x="5562720" y="1676520"/>
            <a:chExt cx="2450880" cy="1628640"/>
          </a:xfrm>
        </p:grpSpPr>
        <p:sp>
          <p:nvSpPr>
            <p:cNvPr id="75" name=""/>
            <p:cNvSpPr/>
            <p:nvPr/>
          </p:nvSpPr>
          <p:spPr>
            <a:xfrm>
              <a:off x="5562720" y="27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</a:rPr>
                <a:t>For 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400800" y="1676520"/>
              <a:ext cx="1612800" cy="162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5562720" y="3581280"/>
            <a:ext cx="1828800" cy="774720"/>
            <a:chOff x="5562720" y="3581280"/>
            <a:chExt cx="1828800" cy="774720"/>
          </a:xfrm>
        </p:grpSpPr>
        <p:sp>
          <p:nvSpPr>
            <p:cNvPr id="78" name=""/>
            <p:cNvSpPr/>
            <p:nvPr/>
          </p:nvSpPr>
          <p:spPr>
            <a:xfrm>
              <a:off x="5562720" y="3809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</a:rPr>
                <a:t>Any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53080" y="3581280"/>
              <a:ext cx="83844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5562720" y="4648320"/>
            <a:ext cx="2438280" cy="823680"/>
            <a:chOff x="5562720" y="4648320"/>
            <a:chExt cx="2438280" cy="823680"/>
          </a:xfrm>
        </p:grpSpPr>
        <p:sp>
          <p:nvSpPr>
            <p:cNvPr id="81" name=""/>
            <p:cNvSpPr/>
            <p:nvPr/>
          </p:nvSpPr>
          <p:spPr>
            <a:xfrm>
              <a:off x="5562720" y="49528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</a:rPr>
                <a:t>Any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781680" y="4648320"/>
              <a:ext cx="1219320" cy="82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5257800" y="17524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5400" y="10677"/>
                  <a:pt x="0" y="10677"/>
                </a:cubicBezTo>
                <a:cubicBezTo>
                  <a:pt x="54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CTs for Learning Objec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1722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CTs for What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43000" y="1911240"/>
          <a:ext cx="7010280" cy="3225960"/>
        </p:xfrm>
        <a:graphic>
          <a:graphicData uri="http://schemas.openxmlformats.org/drawingml/2006/table">
            <a:tbl>
              <a:tblPr/>
              <a:tblGrid>
                <a:gridCol w="2411280"/>
                <a:gridCol w="922320"/>
                <a:gridCol w="916200"/>
                <a:gridCol w="919080"/>
                <a:gridCol w="901800"/>
                <a:gridCol w="9396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Learning 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Compu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orage or dis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xpl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nstructing or design of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722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CTs for What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CTs for Teaching Objectiv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68320"/>
            <a:ext cx="9144000" cy="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1752480"/>
          <a:ext cx="7391520" cy="3467160"/>
        </p:xfrm>
        <a:graphic>
          <a:graphicData uri="http://schemas.openxmlformats.org/drawingml/2006/table">
            <a:tbl>
              <a:tblPr/>
              <a:tblGrid>
                <a:gridCol w="2541600"/>
                <a:gridCol w="969840"/>
                <a:gridCol w="970200"/>
                <a:gridCol w="969840"/>
                <a:gridCol w="949320"/>
                <a:gridCol w="990720"/>
              </a:tblGrid>
              <a:tr h="28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aching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Compu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sent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mon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ill and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.g., Language la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nimation and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llaboration/ 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twor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agement of student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CTs and the Scho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97120"/>
            <a:ext cx="9144000" cy="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828800"/>
          <a:ext cx="6400800" cy="340524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chnologies on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00"/>
                          </a:solidFill>
                          <a:latin typeface="Trebuchet MS"/>
                          <a:ea typeface="Times New Roman"/>
                        </a:rPr>
                        <a:t>Technologies at a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nted 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rrespo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lides, transpar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can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gital notepads and white bo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diota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lms and vid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V broadca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gital boo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Web p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Web: Internet, 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uter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Web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0" y="0"/>
            <a:ext cx="61722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CTs for What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17440" y="2258280"/>
            <a:ext cx="1509120" cy="9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838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572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kill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098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ife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14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Planning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ommunity Lin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rebuchet MS"/>
              </a:rPr>
              <a:t>Potential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. Expanding Educational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adio Broadca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active Radio Instru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rtual Schoo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rtual Univers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20:13:54Z</dcterms:created>
  <dc:creator>Wadi D. Haddad</dc:creator>
  <dc:description/>
  <dc:language>en-US</dc:language>
  <cp:lastModifiedBy>Wadi Haddad</cp:lastModifiedBy>
  <dcterms:modified xsi:type="dcterms:W3CDTF">2007-01-22T20:29:00Z</dcterms:modified>
  <cp:revision>28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88919244</vt:r8>
  </property>
  <property fmtid="{D5CDD505-2E9C-101B-9397-08002B2CF9AE}" pid="3" name="_AuthorEmail">
    <vt:lpwstr>whaddad@KnowledgeEnterprise.org</vt:lpwstr>
  </property>
  <property fmtid="{D5CDD505-2E9C-101B-9397-08002B2CF9AE}" pid="4" name="_AuthorEmailDisplayName">
    <vt:lpwstr>Wadi D. Haddad</vt:lpwstr>
  </property>
  <property fmtid="{D5CDD505-2E9C-101B-9397-08002B2CF9AE}" pid="5" name="_EmailSubject">
    <vt:lpwstr>Revised 1.1 PPT</vt:lpwstr>
  </property>
  <property fmtid="{D5CDD505-2E9C-101B-9397-08002B2CF9AE}" pid="6" name="_ReviewingToolsShownOnce">
    <vt:lpwstr/>
  </property>
</Properties>
</file>