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6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26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178-ECBF-4F9C-BDAA-B88FDECA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E7B-99F0-4984-897B-8C656515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036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31E-29E4-440B-AA1E-7D365909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19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848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19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848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D50-2FDD-4DF4-B9BC-EAD460E2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E20-990A-492A-9EE3-B2AF763E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D2C-3E78-444D-A0EC-4FAEAA89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036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325-5AFE-4579-9C47-3A91338C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471-47B9-49C6-B890-7F11D826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D11-F2C6-4BD7-8D85-65023A18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036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BAA-A874-4714-94BC-91D06914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036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036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CFD-04E7-4A9A-AA8B-EE4E839F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036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383-C1C2-493A-9BF3-999599D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99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783B-DD9F-440B-9462-C1F04DA9F368}" type="datetime3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E-learning: Its applications in schoo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1920" y="6248520"/>
            <a:ext cx="381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AB83-E5C7-4DE2-B009-D3CB7B2689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248520"/>
            <a:ext cx="2116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MEDIA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1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9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4360" y="1208160"/>
            <a:ext cx="7949880" cy="2235240"/>
            <a:chOff x="684360" y="1208160"/>
            <a:chExt cx="7949880" cy="22352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84360" y="1208160"/>
              <a:ext cx="7949880" cy="22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777960" y="1417680"/>
              <a:ext cx="7588080" cy="19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E-learning for Edu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370160" y="3722760"/>
            <a:ext cx="6706800" cy="2372760"/>
            <a:chOff x="1370160" y="3722760"/>
            <a:chExt cx="6706800" cy="237276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1370160" y="3722760"/>
              <a:ext cx="6706800" cy="23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465560" y="3980160"/>
              <a:ext cx="633816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Multimedia Univers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National ICT Agenda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2895480"/>
            <a:ext cx="4114800" cy="21337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KNOWLEDG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78360" y="1676520"/>
            <a:ext cx="1355760" cy="104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5415840" y="1600200"/>
            <a:ext cx="1715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Work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ICT Skill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Knowledge 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Learning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United, moral &amp; eth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523880" y="4419720"/>
            <a:ext cx="924120" cy="12096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1920" y="3809880"/>
            <a:ext cx="160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Communica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Fibre-Optic Cab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Gigabit 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Transport/Log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54320" y="3733920"/>
            <a:ext cx="1412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ICATIO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Smart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e-gov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Smart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Tele-medi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629400" y="4508640"/>
            <a:ext cx="9954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990720" y="914400"/>
            <a:ext cx="7086600" cy="5334120"/>
            <a:chOff x="990720" y="914400"/>
            <a:chExt cx="7086600" cy="5334120"/>
          </a:xfrm>
        </p:grpSpPr>
        <p:sp>
          <p:nvSpPr>
            <p:cNvPr id="267" name=""/>
            <p:cNvSpPr/>
            <p:nvPr/>
          </p:nvSpPr>
          <p:spPr>
            <a:xfrm>
              <a:off x="990720" y="914400"/>
              <a:ext cx="7086600" cy="5334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141200" y="1197000"/>
              <a:ext cx="6576120" cy="4718160"/>
              <a:chOff x="1141200" y="1197000"/>
              <a:chExt cx="6576120" cy="4718160"/>
            </a:xfrm>
          </p:grpSpPr>
          <p:sp>
            <p:nvSpPr>
              <p:cNvPr id="269" name=""/>
              <p:cNvSpPr/>
              <p:nvPr/>
            </p:nvSpPr>
            <p:spPr>
              <a:xfrm flipV="1">
                <a:off x="1523880" y="1218960"/>
                <a:ext cx="0" cy="4647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8960" y="5486400"/>
                <a:ext cx="6324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6213200">
                <a:off x="806040" y="2166480"/>
                <a:ext cx="95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ECONOM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64720" y="5562360"/>
                <a:ext cx="552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0138400">
                <a:off x="1798200" y="4255560"/>
                <a:ext cx="2362320" cy="1066320"/>
              </a:xfrm>
              <a:prstGeom prst="rightArrow">
                <a:avLst>
                  <a:gd name="adj1" fmla="val 50000"/>
                  <a:gd name="adj2" fmla="val 5538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669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Times New Roman"/>
                  </a:rPr>
                  <a:t>INFORMATION SOCIE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0311800">
                <a:off x="3622680" y="2887200"/>
                <a:ext cx="2361960" cy="1066320"/>
              </a:xfrm>
              <a:prstGeom prst="rightArrow">
                <a:avLst>
                  <a:gd name="adj1" fmla="val 50000"/>
                  <a:gd name="adj2" fmla="val 55376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00ff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Times New Roman"/>
                  </a:rPr>
                  <a:t>KNOWLEDGE SOCIE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0311800">
                <a:off x="5146560" y="1592280"/>
                <a:ext cx="2362320" cy="1066320"/>
              </a:xfrm>
              <a:prstGeom prst="rightArrow">
                <a:avLst>
                  <a:gd name="adj1" fmla="val 50000"/>
                  <a:gd name="adj2" fmla="val 55385"/>
                </a:avLst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Times New Roman"/>
                  </a:rPr>
                  <a:t>COMPETITIVE SOCIE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44640" y="563868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Times New Roman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49960" y="563868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Times New Roman"/>
                  </a:rPr>
                  <a:t>20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21160" y="563868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Times New Roman"/>
                  </a:rPr>
                  <a:t>20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03800" y="4114800"/>
                <a:ext cx="1432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ICT based Econom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03280" y="2819160"/>
                <a:ext cx="1648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Knowledge Products &amp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ervi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80520" y="1523880"/>
                <a:ext cx="1712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ompetitive Knowledg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Econom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1752480" y="304920"/>
            <a:ext cx="59436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Times New Roman"/>
              </a:rPr>
              <a:t>NATION’s ICT EDUCATION 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MMU Objectives</a:t>
            </a: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828800" y="1295280"/>
            <a:ext cx="4952520" cy="5181480"/>
            <a:chOff x="1828800" y="1295280"/>
            <a:chExt cx="4952520" cy="5181480"/>
          </a:xfrm>
        </p:grpSpPr>
        <p:sp>
          <p:nvSpPr>
            <p:cNvPr id="285" name=""/>
            <p:cNvSpPr/>
            <p:nvPr/>
          </p:nvSpPr>
          <p:spPr>
            <a:xfrm>
              <a:off x="3040560" y="2862000"/>
              <a:ext cx="2583720" cy="255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828800" y="1295280"/>
              <a:ext cx="4952520" cy="5181480"/>
              <a:chOff x="1828800" y="1295280"/>
              <a:chExt cx="4952520" cy="5181480"/>
            </a:xfrm>
          </p:grpSpPr>
          <p:sp>
            <p:nvSpPr>
              <p:cNvPr id="287" name=""/>
              <p:cNvSpPr/>
              <p:nvPr/>
            </p:nvSpPr>
            <p:spPr>
              <a:xfrm>
                <a:off x="2602800" y="4241880"/>
                <a:ext cx="4178520" cy="2234880"/>
              </a:xfrm>
              <a:custGeom>
                <a:avLst/>
                <a:gdLst/>
                <a:ahLst/>
                <a:rect l="l" t="t" r="r" b="b"/>
                <a:pathLst>
                  <a:path w="2872" h="1511">
                    <a:moveTo>
                      <a:pt x="1443" y="1493"/>
                    </a:moveTo>
                    <a:lnTo>
                      <a:pt x="1473" y="1488"/>
                    </a:lnTo>
                    <a:lnTo>
                      <a:pt x="1512" y="1482"/>
                    </a:lnTo>
                    <a:lnTo>
                      <a:pt x="1552" y="1474"/>
                    </a:lnTo>
                    <a:lnTo>
                      <a:pt x="1580" y="1467"/>
                    </a:lnTo>
                    <a:lnTo>
                      <a:pt x="1613" y="1459"/>
                    </a:lnTo>
                    <a:lnTo>
                      <a:pt x="1646" y="1449"/>
                    </a:lnTo>
                    <a:lnTo>
                      <a:pt x="1678" y="1441"/>
                    </a:lnTo>
                    <a:lnTo>
                      <a:pt x="1708" y="1431"/>
                    </a:lnTo>
                    <a:lnTo>
                      <a:pt x="1741" y="1418"/>
                    </a:lnTo>
                    <a:lnTo>
                      <a:pt x="1782" y="1403"/>
                    </a:lnTo>
                    <a:lnTo>
                      <a:pt x="1817" y="1388"/>
                    </a:lnTo>
                    <a:lnTo>
                      <a:pt x="1850" y="1373"/>
                    </a:lnTo>
                    <a:lnTo>
                      <a:pt x="1887" y="1357"/>
                    </a:lnTo>
                    <a:lnTo>
                      <a:pt x="1924" y="1339"/>
                    </a:lnTo>
                    <a:lnTo>
                      <a:pt x="1957" y="1322"/>
                    </a:lnTo>
                    <a:lnTo>
                      <a:pt x="1986" y="1302"/>
                    </a:lnTo>
                    <a:lnTo>
                      <a:pt x="2014" y="1286"/>
                    </a:lnTo>
                    <a:lnTo>
                      <a:pt x="2042" y="1266"/>
                    </a:lnTo>
                    <a:lnTo>
                      <a:pt x="2073" y="1248"/>
                    </a:lnTo>
                    <a:lnTo>
                      <a:pt x="2108" y="1225"/>
                    </a:lnTo>
                    <a:lnTo>
                      <a:pt x="2139" y="1202"/>
                    </a:lnTo>
                    <a:lnTo>
                      <a:pt x="2169" y="1179"/>
                    </a:lnTo>
                    <a:lnTo>
                      <a:pt x="2195" y="1159"/>
                    </a:lnTo>
                    <a:lnTo>
                      <a:pt x="2241" y="1123"/>
                    </a:lnTo>
                    <a:lnTo>
                      <a:pt x="2282" y="1087"/>
                    </a:lnTo>
                    <a:lnTo>
                      <a:pt x="2324" y="1046"/>
                    </a:lnTo>
                    <a:lnTo>
                      <a:pt x="2366" y="998"/>
                    </a:lnTo>
                    <a:lnTo>
                      <a:pt x="2396" y="963"/>
                    </a:lnTo>
                    <a:lnTo>
                      <a:pt x="2429" y="924"/>
                    </a:lnTo>
                    <a:lnTo>
                      <a:pt x="2465" y="881"/>
                    </a:lnTo>
                    <a:lnTo>
                      <a:pt x="2496" y="838"/>
                    </a:lnTo>
                    <a:lnTo>
                      <a:pt x="2526" y="792"/>
                    </a:lnTo>
                    <a:lnTo>
                      <a:pt x="2562" y="739"/>
                    </a:lnTo>
                    <a:lnTo>
                      <a:pt x="2872" y="920"/>
                    </a:lnTo>
                    <a:lnTo>
                      <a:pt x="2569" y="0"/>
                    </a:lnTo>
                    <a:lnTo>
                      <a:pt x="1586" y="175"/>
                    </a:lnTo>
                    <a:lnTo>
                      <a:pt x="1917" y="362"/>
                    </a:lnTo>
                    <a:lnTo>
                      <a:pt x="1889" y="402"/>
                    </a:lnTo>
                    <a:lnTo>
                      <a:pt x="1859" y="437"/>
                    </a:lnTo>
                    <a:lnTo>
                      <a:pt x="1830" y="471"/>
                    </a:lnTo>
                    <a:lnTo>
                      <a:pt x="1800" y="504"/>
                    </a:lnTo>
                    <a:lnTo>
                      <a:pt x="1776" y="529"/>
                    </a:lnTo>
                    <a:lnTo>
                      <a:pt x="1749" y="557"/>
                    </a:lnTo>
                    <a:lnTo>
                      <a:pt x="1720" y="580"/>
                    </a:lnTo>
                    <a:lnTo>
                      <a:pt x="1687" y="604"/>
                    </a:lnTo>
                    <a:lnTo>
                      <a:pt x="1647" y="631"/>
                    </a:lnTo>
                    <a:lnTo>
                      <a:pt x="1614" y="652"/>
                    </a:lnTo>
                    <a:lnTo>
                      <a:pt x="1586" y="669"/>
                    </a:lnTo>
                    <a:lnTo>
                      <a:pt x="1545" y="692"/>
                    </a:lnTo>
                    <a:lnTo>
                      <a:pt x="1509" y="706"/>
                    </a:lnTo>
                    <a:lnTo>
                      <a:pt x="1478" y="716"/>
                    </a:lnTo>
                    <a:lnTo>
                      <a:pt x="1445" y="728"/>
                    </a:lnTo>
                    <a:lnTo>
                      <a:pt x="1397" y="741"/>
                    </a:lnTo>
                    <a:lnTo>
                      <a:pt x="1349" y="748"/>
                    </a:lnTo>
                    <a:lnTo>
                      <a:pt x="1302" y="753"/>
                    </a:lnTo>
                    <a:lnTo>
                      <a:pt x="1231" y="756"/>
                    </a:lnTo>
                    <a:lnTo>
                      <a:pt x="1139" y="758"/>
                    </a:lnTo>
                    <a:lnTo>
                      <a:pt x="1068" y="748"/>
                    </a:lnTo>
                    <a:lnTo>
                      <a:pt x="1004" y="733"/>
                    </a:lnTo>
                    <a:lnTo>
                      <a:pt x="930" y="711"/>
                    </a:lnTo>
                    <a:lnTo>
                      <a:pt x="864" y="683"/>
                    </a:lnTo>
                    <a:lnTo>
                      <a:pt x="798" y="651"/>
                    </a:lnTo>
                    <a:lnTo>
                      <a:pt x="739" y="613"/>
                    </a:lnTo>
                    <a:lnTo>
                      <a:pt x="681" y="562"/>
                    </a:lnTo>
                    <a:lnTo>
                      <a:pt x="0" y="955"/>
                    </a:lnTo>
                    <a:lnTo>
                      <a:pt x="28" y="988"/>
                    </a:lnTo>
                    <a:lnTo>
                      <a:pt x="67" y="1026"/>
                    </a:lnTo>
                    <a:lnTo>
                      <a:pt x="100" y="1059"/>
                    </a:lnTo>
                    <a:lnTo>
                      <a:pt x="133" y="1090"/>
                    </a:lnTo>
                    <a:lnTo>
                      <a:pt x="166" y="1121"/>
                    </a:lnTo>
                    <a:lnTo>
                      <a:pt x="205" y="1154"/>
                    </a:lnTo>
                    <a:lnTo>
                      <a:pt x="242" y="1182"/>
                    </a:lnTo>
                    <a:lnTo>
                      <a:pt x="278" y="1209"/>
                    </a:lnTo>
                    <a:lnTo>
                      <a:pt x="319" y="1235"/>
                    </a:lnTo>
                    <a:lnTo>
                      <a:pt x="359" y="1263"/>
                    </a:lnTo>
                    <a:lnTo>
                      <a:pt x="400" y="1289"/>
                    </a:lnTo>
                    <a:lnTo>
                      <a:pt x="438" y="1311"/>
                    </a:lnTo>
                    <a:lnTo>
                      <a:pt x="475" y="1332"/>
                    </a:lnTo>
                    <a:lnTo>
                      <a:pt x="512" y="1350"/>
                    </a:lnTo>
                    <a:lnTo>
                      <a:pt x="561" y="1373"/>
                    </a:lnTo>
                    <a:lnTo>
                      <a:pt x="607" y="1393"/>
                    </a:lnTo>
                    <a:lnTo>
                      <a:pt x="660" y="1413"/>
                    </a:lnTo>
                    <a:lnTo>
                      <a:pt x="699" y="1427"/>
                    </a:lnTo>
                    <a:lnTo>
                      <a:pt x="737" y="1442"/>
                    </a:lnTo>
                    <a:lnTo>
                      <a:pt x="781" y="1455"/>
                    </a:lnTo>
                    <a:lnTo>
                      <a:pt x="824" y="1467"/>
                    </a:lnTo>
                    <a:lnTo>
                      <a:pt x="867" y="1477"/>
                    </a:lnTo>
                    <a:lnTo>
                      <a:pt x="916" y="1487"/>
                    </a:lnTo>
                    <a:lnTo>
                      <a:pt x="966" y="1495"/>
                    </a:lnTo>
                    <a:lnTo>
                      <a:pt x="1017" y="1502"/>
                    </a:lnTo>
                    <a:lnTo>
                      <a:pt x="1070" y="1506"/>
                    </a:lnTo>
                    <a:lnTo>
                      <a:pt x="1109" y="1508"/>
                    </a:lnTo>
                    <a:lnTo>
                      <a:pt x="1163" y="1511"/>
                    </a:lnTo>
                    <a:lnTo>
                      <a:pt x="1218" y="1511"/>
                    </a:lnTo>
                    <a:lnTo>
                      <a:pt x="1260" y="1510"/>
                    </a:lnTo>
                    <a:lnTo>
                      <a:pt x="1306" y="1508"/>
                    </a:lnTo>
                    <a:lnTo>
                      <a:pt x="1358" y="1505"/>
                    </a:lnTo>
                    <a:lnTo>
                      <a:pt x="1404" y="1498"/>
                    </a:lnTo>
                    <a:lnTo>
                      <a:pt x="1443" y="149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28800" y="1863000"/>
                <a:ext cx="2120400" cy="3985560"/>
              </a:xfrm>
              <a:custGeom>
                <a:avLst/>
                <a:gdLst/>
                <a:ahLst/>
                <a:rect l="l" t="t" r="r" b="b"/>
                <a:pathLst>
                  <a:path w="1457" h="2695">
                    <a:moveTo>
                      <a:pt x="1457" y="0"/>
                    </a:moveTo>
                    <a:lnTo>
                      <a:pt x="1426" y="5"/>
                    </a:lnTo>
                    <a:lnTo>
                      <a:pt x="1394" y="10"/>
                    </a:lnTo>
                    <a:lnTo>
                      <a:pt x="1352" y="20"/>
                    </a:lnTo>
                    <a:lnTo>
                      <a:pt x="1320" y="26"/>
                    </a:lnTo>
                    <a:lnTo>
                      <a:pt x="1287" y="36"/>
                    </a:lnTo>
                    <a:lnTo>
                      <a:pt x="1256" y="46"/>
                    </a:lnTo>
                    <a:lnTo>
                      <a:pt x="1223" y="54"/>
                    </a:lnTo>
                    <a:lnTo>
                      <a:pt x="1192" y="64"/>
                    </a:lnTo>
                    <a:lnTo>
                      <a:pt x="1159" y="78"/>
                    </a:lnTo>
                    <a:lnTo>
                      <a:pt x="1119" y="92"/>
                    </a:lnTo>
                    <a:lnTo>
                      <a:pt x="1087" y="107"/>
                    </a:lnTo>
                    <a:lnTo>
                      <a:pt x="1052" y="122"/>
                    </a:lnTo>
                    <a:lnTo>
                      <a:pt x="1016" y="138"/>
                    </a:lnTo>
                    <a:lnTo>
                      <a:pt x="980" y="157"/>
                    </a:lnTo>
                    <a:lnTo>
                      <a:pt x="947" y="173"/>
                    </a:lnTo>
                    <a:lnTo>
                      <a:pt x="915" y="193"/>
                    </a:lnTo>
                    <a:lnTo>
                      <a:pt x="887" y="209"/>
                    </a:lnTo>
                    <a:lnTo>
                      <a:pt x="859" y="229"/>
                    </a:lnTo>
                    <a:lnTo>
                      <a:pt x="828" y="247"/>
                    </a:lnTo>
                    <a:lnTo>
                      <a:pt x="794" y="270"/>
                    </a:lnTo>
                    <a:lnTo>
                      <a:pt x="762" y="295"/>
                    </a:lnTo>
                    <a:lnTo>
                      <a:pt x="733" y="318"/>
                    </a:lnTo>
                    <a:lnTo>
                      <a:pt x="705" y="338"/>
                    </a:lnTo>
                    <a:lnTo>
                      <a:pt x="659" y="375"/>
                    </a:lnTo>
                    <a:lnTo>
                      <a:pt x="613" y="420"/>
                    </a:lnTo>
                    <a:lnTo>
                      <a:pt x="576" y="453"/>
                    </a:lnTo>
                    <a:lnTo>
                      <a:pt x="534" y="501"/>
                    </a:lnTo>
                    <a:lnTo>
                      <a:pt x="504" y="535"/>
                    </a:lnTo>
                    <a:lnTo>
                      <a:pt x="471" y="575"/>
                    </a:lnTo>
                    <a:lnTo>
                      <a:pt x="435" y="619"/>
                    </a:lnTo>
                    <a:lnTo>
                      <a:pt x="405" y="660"/>
                    </a:lnTo>
                    <a:lnTo>
                      <a:pt x="376" y="708"/>
                    </a:lnTo>
                    <a:lnTo>
                      <a:pt x="346" y="754"/>
                    </a:lnTo>
                    <a:lnTo>
                      <a:pt x="316" y="803"/>
                    </a:lnTo>
                    <a:lnTo>
                      <a:pt x="292" y="846"/>
                    </a:lnTo>
                    <a:lnTo>
                      <a:pt x="269" y="899"/>
                    </a:lnTo>
                    <a:lnTo>
                      <a:pt x="246" y="950"/>
                    </a:lnTo>
                    <a:lnTo>
                      <a:pt x="226" y="1003"/>
                    </a:lnTo>
                    <a:lnTo>
                      <a:pt x="206" y="1060"/>
                    </a:lnTo>
                    <a:lnTo>
                      <a:pt x="181" y="1131"/>
                    </a:lnTo>
                    <a:lnTo>
                      <a:pt x="165" y="1197"/>
                    </a:lnTo>
                    <a:lnTo>
                      <a:pt x="148" y="1264"/>
                    </a:lnTo>
                    <a:lnTo>
                      <a:pt x="140" y="1330"/>
                    </a:lnTo>
                    <a:lnTo>
                      <a:pt x="129" y="1408"/>
                    </a:lnTo>
                    <a:lnTo>
                      <a:pt x="120" y="1503"/>
                    </a:lnTo>
                    <a:lnTo>
                      <a:pt x="119" y="1579"/>
                    </a:lnTo>
                    <a:lnTo>
                      <a:pt x="120" y="1653"/>
                    </a:lnTo>
                    <a:lnTo>
                      <a:pt x="127" y="1724"/>
                    </a:lnTo>
                    <a:lnTo>
                      <a:pt x="135" y="1789"/>
                    </a:lnTo>
                    <a:lnTo>
                      <a:pt x="144" y="1859"/>
                    </a:lnTo>
                    <a:lnTo>
                      <a:pt x="158" y="1929"/>
                    </a:lnTo>
                    <a:lnTo>
                      <a:pt x="178" y="2005"/>
                    </a:lnTo>
                    <a:lnTo>
                      <a:pt x="203" y="2082"/>
                    </a:lnTo>
                    <a:lnTo>
                      <a:pt x="227" y="2155"/>
                    </a:lnTo>
                    <a:lnTo>
                      <a:pt x="255" y="2226"/>
                    </a:lnTo>
                    <a:lnTo>
                      <a:pt x="288" y="2295"/>
                    </a:lnTo>
                    <a:lnTo>
                      <a:pt x="328" y="2361"/>
                    </a:lnTo>
                    <a:lnTo>
                      <a:pt x="0" y="2547"/>
                    </a:lnTo>
                    <a:lnTo>
                      <a:pt x="999" y="2695"/>
                    </a:lnTo>
                    <a:lnTo>
                      <a:pt x="1366" y="1776"/>
                    </a:lnTo>
                    <a:lnTo>
                      <a:pt x="983" y="1982"/>
                    </a:lnTo>
                    <a:lnTo>
                      <a:pt x="945" y="1923"/>
                    </a:lnTo>
                    <a:lnTo>
                      <a:pt x="922" y="1870"/>
                    </a:lnTo>
                    <a:lnTo>
                      <a:pt x="901" y="1816"/>
                    </a:lnTo>
                    <a:lnTo>
                      <a:pt x="886" y="1761"/>
                    </a:lnTo>
                    <a:lnTo>
                      <a:pt x="876" y="1709"/>
                    </a:lnTo>
                    <a:lnTo>
                      <a:pt x="873" y="1658"/>
                    </a:lnTo>
                    <a:lnTo>
                      <a:pt x="868" y="1607"/>
                    </a:lnTo>
                    <a:lnTo>
                      <a:pt x="868" y="1556"/>
                    </a:lnTo>
                    <a:lnTo>
                      <a:pt x="871" y="1495"/>
                    </a:lnTo>
                    <a:lnTo>
                      <a:pt x="878" y="1436"/>
                    </a:lnTo>
                    <a:lnTo>
                      <a:pt x="891" y="1370"/>
                    </a:lnTo>
                    <a:lnTo>
                      <a:pt x="906" y="1317"/>
                    </a:lnTo>
                    <a:lnTo>
                      <a:pt x="929" y="1258"/>
                    </a:lnTo>
                    <a:lnTo>
                      <a:pt x="948" y="1207"/>
                    </a:lnTo>
                    <a:lnTo>
                      <a:pt x="976" y="1157"/>
                    </a:lnTo>
                    <a:lnTo>
                      <a:pt x="999" y="1119"/>
                    </a:lnTo>
                    <a:lnTo>
                      <a:pt x="1022" y="1088"/>
                    </a:lnTo>
                    <a:lnTo>
                      <a:pt x="1045" y="1057"/>
                    </a:lnTo>
                    <a:lnTo>
                      <a:pt x="1072" y="1026"/>
                    </a:lnTo>
                    <a:lnTo>
                      <a:pt x="1100" y="993"/>
                    </a:lnTo>
                    <a:lnTo>
                      <a:pt x="1124" y="970"/>
                    </a:lnTo>
                    <a:lnTo>
                      <a:pt x="1152" y="940"/>
                    </a:lnTo>
                    <a:lnTo>
                      <a:pt x="1180" y="917"/>
                    </a:lnTo>
                    <a:lnTo>
                      <a:pt x="1213" y="892"/>
                    </a:lnTo>
                    <a:lnTo>
                      <a:pt x="1253" y="866"/>
                    </a:lnTo>
                    <a:lnTo>
                      <a:pt x="1286" y="845"/>
                    </a:lnTo>
                    <a:lnTo>
                      <a:pt x="1314" y="828"/>
                    </a:lnTo>
                    <a:lnTo>
                      <a:pt x="1355" y="805"/>
                    </a:lnTo>
                    <a:lnTo>
                      <a:pt x="1394" y="789"/>
                    </a:lnTo>
                    <a:lnTo>
                      <a:pt x="1457" y="770"/>
                    </a:lnTo>
                    <a:lnTo>
                      <a:pt x="1457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22960" y="1295280"/>
                <a:ext cx="3150360" cy="3606120"/>
              </a:xfrm>
              <a:custGeom>
                <a:avLst/>
                <a:gdLst/>
                <a:ahLst/>
                <a:rect l="l" t="t" r="r" b="b"/>
                <a:pathLst>
                  <a:path w="2165" h="2439">
                    <a:moveTo>
                      <a:pt x="825" y="357"/>
                    </a:moveTo>
                    <a:lnTo>
                      <a:pt x="855" y="362"/>
                    </a:lnTo>
                    <a:lnTo>
                      <a:pt x="894" y="368"/>
                    </a:lnTo>
                    <a:lnTo>
                      <a:pt x="934" y="378"/>
                    </a:lnTo>
                    <a:lnTo>
                      <a:pt x="962" y="385"/>
                    </a:lnTo>
                    <a:lnTo>
                      <a:pt x="994" y="393"/>
                    </a:lnTo>
                    <a:lnTo>
                      <a:pt x="1026" y="403"/>
                    </a:lnTo>
                    <a:lnTo>
                      <a:pt x="1059" y="413"/>
                    </a:lnTo>
                    <a:lnTo>
                      <a:pt x="1088" y="421"/>
                    </a:lnTo>
                    <a:lnTo>
                      <a:pt x="1123" y="434"/>
                    </a:lnTo>
                    <a:lnTo>
                      <a:pt x="1162" y="451"/>
                    </a:lnTo>
                    <a:lnTo>
                      <a:pt x="1197" y="464"/>
                    </a:lnTo>
                    <a:lnTo>
                      <a:pt x="1230" y="479"/>
                    </a:lnTo>
                    <a:lnTo>
                      <a:pt x="1268" y="495"/>
                    </a:lnTo>
                    <a:lnTo>
                      <a:pt x="1304" y="513"/>
                    </a:lnTo>
                    <a:lnTo>
                      <a:pt x="1337" y="530"/>
                    </a:lnTo>
                    <a:lnTo>
                      <a:pt x="1368" y="549"/>
                    </a:lnTo>
                    <a:lnTo>
                      <a:pt x="1396" y="566"/>
                    </a:lnTo>
                    <a:lnTo>
                      <a:pt x="1424" y="586"/>
                    </a:lnTo>
                    <a:lnTo>
                      <a:pt x="1455" y="604"/>
                    </a:lnTo>
                    <a:lnTo>
                      <a:pt x="1490" y="627"/>
                    </a:lnTo>
                    <a:lnTo>
                      <a:pt x="1521" y="650"/>
                    </a:lnTo>
                    <a:lnTo>
                      <a:pt x="1551" y="673"/>
                    </a:lnTo>
                    <a:lnTo>
                      <a:pt x="1579" y="694"/>
                    </a:lnTo>
                    <a:lnTo>
                      <a:pt x="1623" y="732"/>
                    </a:lnTo>
                    <a:lnTo>
                      <a:pt x="1669" y="775"/>
                    </a:lnTo>
                    <a:lnTo>
                      <a:pt x="1705" y="808"/>
                    </a:lnTo>
                    <a:lnTo>
                      <a:pt x="1748" y="856"/>
                    </a:lnTo>
                    <a:lnTo>
                      <a:pt x="1778" y="890"/>
                    </a:lnTo>
                    <a:lnTo>
                      <a:pt x="1811" y="930"/>
                    </a:lnTo>
                    <a:lnTo>
                      <a:pt x="1847" y="974"/>
                    </a:lnTo>
                    <a:lnTo>
                      <a:pt x="1877" y="1017"/>
                    </a:lnTo>
                    <a:lnTo>
                      <a:pt x="1906" y="1065"/>
                    </a:lnTo>
                    <a:lnTo>
                      <a:pt x="1938" y="1111"/>
                    </a:lnTo>
                    <a:lnTo>
                      <a:pt x="1964" y="1160"/>
                    </a:lnTo>
                    <a:lnTo>
                      <a:pt x="1990" y="1203"/>
                    </a:lnTo>
                    <a:lnTo>
                      <a:pt x="2015" y="1256"/>
                    </a:lnTo>
                    <a:lnTo>
                      <a:pt x="2038" y="1307"/>
                    </a:lnTo>
                    <a:lnTo>
                      <a:pt x="2058" y="1359"/>
                    </a:lnTo>
                    <a:lnTo>
                      <a:pt x="2077" y="1417"/>
                    </a:lnTo>
                    <a:lnTo>
                      <a:pt x="2102" y="1488"/>
                    </a:lnTo>
                    <a:lnTo>
                      <a:pt x="2119" y="1554"/>
                    </a:lnTo>
                    <a:lnTo>
                      <a:pt x="2135" y="1621"/>
                    </a:lnTo>
                    <a:lnTo>
                      <a:pt x="2143" y="1687"/>
                    </a:lnTo>
                    <a:lnTo>
                      <a:pt x="2155" y="1764"/>
                    </a:lnTo>
                    <a:lnTo>
                      <a:pt x="2163" y="1860"/>
                    </a:lnTo>
                    <a:lnTo>
                      <a:pt x="2165" y="1934"/>
                    </a:lnTo>
                    <a:lnTo>
                      <a:pt x="2163" y="2008"/>
                    </a:lnTo>
                    <a:lnTo>
                      <a:pt x="2156" y="2079"/>
                    </a:lnTo>
                    <a:lnTo>
                      <a:pt x="2148" y="2145"/>
                    </a:lnTo>
                    <a:lnTo>
                      <a:pt x="2140" y="2214"/>
                    </a:lnTo>
                    <a:lnTo>
                      <a:pt x="2125" y="2284"/>
                    </a:lnTo>
                    <a:lnTo>
                      <a:pt x="2105" y="2360"/>
                    </a:lnTo>
                    <a:lnTo>
                      <a:pt x="2081" y="2439"/>
                    </a:lnTo>
                    <a:lnTo>
                      <a:pt x="1939" y="1998"/>
                    </a:lnTo>
                    <a:lnTo>
                      <a:pt x="1399" y="2090"/>
                    </a:lnTo>
                    <a:lnTo>
                      <a:pt x="1411" y="2013"/>
                    </a:lnTo>
                    <a:lnTo>
                      <a:pt x="1416" y="1963"/>
                    </a:lnTo>
                    <a:lnTo>
                      <a:pt x="1416" y="1911"/>
                    </a:lnTo>
                    <a:lnTo>
                      <a:pt x="1413" y="1850"/>
                    </a:lnTo>
                    <a:lnTo>
                      <a:pt x="1404" y="1792"/>
                    </a:lnTo>
                    <a:lnTo>
                      <a:pt x="1393" y="1726"/>
                    </a:lnTo>
                    <a:lnTo>
                      <a:pt x="1378" y="1674"/>
                    </a:lnTo>
                    <a:lnTo>
                      <a:pt x="1355" y="1615"/>
                    </a:lnTo>
                    <a:lnTo>
                      <a:pt x="1334" y="1563"/>
                    </a:lnTo>
                    <a:lnTo>
                      <a:pt x="1307" y="1514"/>
                    </a:lnTo>
                    <a:lnTo>
                      <a:pt x="1284" y="1476"/>
                    </a:lnTo>
                    <a:lnTo>
                      <a:pt x="1261" y="1445"/>
                    </a:lnTo>
                    <a:lnTo>
                      <a:pt x="1238" y="1414"/>
                    </a:lnTo>
                    <a:lnTo>
                      <a:pt x="1212" y="1382"/>
                    </a:lnTo>
                    <a:lnTo>
                      <a:pt x="1182" y="1349"/>
                    </a:lnTo>
                    <a:lnTo>
                      <a:pt x="1157" y="1326"/>
                    </a:lnTo>
                    <a:lnTo>
                      <a:pt x="1129" y="1298"/>
                    </a:lnTo>
                    <a:lnTo>
                      <a:pt x="1101" y="1274"/>
                    </a:lnTo>
                    <a:lnTo>
                      <a:pt x="1069" y="1249"/>
                    </a:lnTo>
                    <a:lnTo>
                      <a:pt x="1029" y="1224"/>
                    </a:lnTo>
                    <a:lnTo>
                      <a:pt x="996" y="1201"/>
                    </a:lnTo>
                    <a:lnTo>
                      <a:pt x="968" y="1187"/>
                    </a:lnTo>
                    <a:lnTo>
                      <a:pt x="927" y="1162"/>
                    </a:lnTo>
                    <a:lnTo>
                      <a:pt x="891" y="1149"/>
                    </a:lnTo>
                    <a:lnTo>
                      <a:pt x="860" y="1137"/>
                    </a:lnTo>
                    <a:lnTo>
                      <a:pt x="827" y="1126"/>
                    </a:lnTo>
                    <a:lnTo>
                      <a:pt x="777" y="1114"/>
                    </a:lnTo>
                    <a:lnTo>
                      <a:pt x="731" y="1106"/>
                    </a:lnTo>
                    <a:lnTo>
                      <a:pt x="683" y="1101"/>
                    </a:lnTo>
                    <a:lnTo>
                      <a:pt x="636" y="1098"/>
                    </a:lnTo>
                    <a:lnTo>
                      <a:pt x="609" y="1096"/>
                    </a:lnTo>
                    <a:lnTo>
                      <a:pt x="609" y="1493"/>
                    </a:lnTo>
                    <a:lnTo>
                      <a:pt x="0" y="757"/>
                    </a:lnTo>
                    <a:lnTo>
                      <a:pt x="608" y="0"/>
                    </a:lnTo>
                    <a:lnTo>
                      <a:pt x="608" y="340"/>
                    </a:lnTo>
                    <a:lnTo>
                      <a:pt x="641" y="342"/>
                    </a:lnTo>
                    <a:lnTo>
                      <a:pt x="688" y="344"/>
                    </a:lnTo>
                    <a:lnTo>
                      <a:pt x="738" y="347"/>
                    </a:lnTo>
                    <a:lnTo>
                      <a:pt x="785" y="352"/>
                    </a:lnTo>
                    <a:lnTo>
                      <a:pt x="825" y="35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 rot="20517000">
            <a:off x="3839040" y="5199840"/>
            <a:ext cx="229068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umanst521BT,Bold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BT,Bold"/>
              </a:rPr>
              <a:t>Leading-edge Resear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BT,Bold"/>
              </a:rPr>
              <a:t>Best Staff and Studen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BT,Bold"/>
              </a:rPr>
              <a:t>Good Facilities &amp; Services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2776800">
            <a:off x="4673160" y="2412360"/>
            <a:ext cx="21117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Humanst521BT,Bold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Humanst521BT,Bold"/>
              </a:rPr>
              <a:t>Market driven course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Humanst521BT,Bold"/>
              </a:rPr>
              <a:t>Research, Collabo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Humanst521BT,Bold"/>
              </a:rPr>
              <a:t>with industri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Humanst521BT,Bold"/>
              </a:rPr>
              <a:t>Prudent Spending, etc</a:t>
            </a:r>
            <a:r>
              <a:rPr b="0" lang="en-US" sz="1200" spc="-1" strike="noStrike">
                <a:solidFill>
                  <a:srgbClr val="ffff66"/>
                </a:solidFill>
                <a:latin typeface="Humanst521BT,Bold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7570400">
            <a:off x="1415880" y="3000240"/>
            <a:ext cx="2898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Humanst521BT,Bold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Humanst521BT,Bold"/>
              </a:rPr>
              <a:t>Responsive to chang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Humanst521BT,Bold"/>
              </a:rPr>
              <a:t>shorter time to achieve world-clas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Humanst521BT,Bold"/>
              </a:rPr>
              <a:t>Application of technolog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Arial"/>
              </a:rPr>
              <a:t>Good Information System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03960" y="3716280"/>
            <a:ext cx="15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umanst521BT,Bold"/>
              </a:rPr>
              <a:t>MM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380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Framework of MMU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562720"/>
            <a:ext cx="6553440" cy="609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622Mbps ATM, Gigabit Ethernet, Wireless Access Points, Satellite, e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447920" y="4572000"/>
            <a:ext cx="6095880" cy="838080"/>
            <a:chOff x="1447920" y="4572000"/>
            <a:chExt cx="6095880" cy="838080"/>
          </a:xfrm>
        </p:grpSpPr>
        <p:sp>
          <p:nvSpPr>
            <p:cNvPr id="297" name=""/>
            <p:cNvSpPr/>
            <p:nvPr/>
          </p:nvSpPr>
          <p:spPr>
            <a:xfrm>
              <a:off x="1447920" y="4572000"/>
              <a:ext cx="914400" cy="838080"/>
            </a:xfrm>
            <a:prstGeom prst="can">
              <a:avLst>
                <a:gd name="adj" fmla="val 25000"/>
              </a:avLst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imes New Roman"/>
                </a:rPr>
                <a:t>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43200" y="4572000"/>
              <a:ext cx="914400" cy="838080"/>
            </a:xfrm>
            <a:prstGeom prst="can">
              <a:avLst>
                <a:gd name="adj" fmla="val 25000"/>
              </a:avLst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imes New Roman"/>
                </a:rPr>
                <a:t>STU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4572000"/>
              <a:ext cx="914400" cy="838080"/>
            </a:xfrm>
            <a:prstGeom prst="can">
              <a:avLst>
                <a:gd name="adj" fmla="val 25000"/>
              </a:avLst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imes New Roman"/>
                </a:rPr>
                <a:t>LIBR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29400" y="4572000"/>
              <a:ext cx="914400" cy="838080"/>
            </a:xfrm>
            <a:prstGeom prst="can">
              <a:avLst>
                <a:gd name="adj" fmla="val 25000"/>
              </a:avLst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34120" y="4572000"/>
              <a:ext cx="914400" cy="838080"/>
            </a:xfrm>
            <a:prstGeom prst="can">
              <a:avLst>
                <a:gd name="adj" fmla="val 25000"/>
              </a:avLst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imes New Roman"/>
                </a:rPr>
                <a:t>CONT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500480" y="2739600"/>
            <a:ext cx="5758920" cy="1835640"/>
            <a:chOff x="1500480" y="2739600"/>
            <a:chExt cx="5758920" cy="1835640"/>
          </a:xfrm>
        </p:grpSpPr>
        <p:sp>
          <p:nvSpPr>
            <p:cNvPr id="303" name=""/>
            <p:cNvSpPr/>
            <p:nvPr/>
          </p:nvSpPr>
          <p:spPr>
            <a:xfrm rot="16111200">
              <a:off x="762840" y="3505320"/>
              <a:ext cx="182700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C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111200">
              <a:off x="1216800" y="3505320"/>
              <a:ext cx="182700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MARTC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111200">
              <a:off x="1673640" y="3504240"/>
              <a:ext cx="182736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M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111200">
              <a:off x="2130840" y="3504240"/>
              <a:ext cx="182736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GITAL  LI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111200">
              <a:off x="2588040" y="3504240"/>
              <a:ext cx="182736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111200">
              <a:off x="2972520" y="3505320"/>
              <a:ext cx="182700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6111200">
              <a:off x="3426480" y="3505680"/>
              <a:ext cx="18270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111200">
              <a:off x="3883680" y="3504240"/>
              <a:ext cx="182736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V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111200">
              <a:off x="4340880" y="3504240"/>
              <a:ext cx="182736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OC.  MG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111200">
              <a:off x="4798080" y="3504240"/>
              <a:ext cx="182736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PER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111200">
              <a:off x="5258520" y="3505320"/>
              <a:ext cx="182700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NLINE  AP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111200">
              <a:off x="5712480" y="3505680"/>
              <a:ext cx="18270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ADIO M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111200">
              <a:off x="6169680" y="3504240"/>
              <a:ext cx="182736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-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600200" y="2209680"/>
            <a:ext cx="5638680" cy="380880"/>
            <a:chOff x="1600200" y="2209680"/>
            <a:chExt cx="5638680" cy="380880"/>
          </a:xfrm>
        </p:grpSpPr>
        <p:sp>
          <p:nvSpPr>
            <p:cNvPr id="317" name=""/>
            <p:cNvSpPr/>
            <p:nvPr/>
          </p:nvSpPr>
          <p:spPr>
            <a:xfrm>
              <a:off x="1600200" y="2209680"/>
              <a:ext cx="1828800" cy="380880"/>
            </a:xfrm>
            <a:prstGeom prst="rect">
              <a:avLst/>
            </a:prstGeom>
            <a:solidFill>
              <a:srgbClr val="cc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05320" y="2209680"/>
              <a:ext cx="1828800" cy="38088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WIRELESS  DE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10080" y="2209680"/>
              <a:ext cx="1828800" cy="380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LIENT/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981080" y="990720"/>
            <a:ext cx="914400" cy="9144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990720"/>
            <a:ext cx="914400" cy="9144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LECTUR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990720"/>
            <a:ext cx="914400" cy="9144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ADM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990720"/>
            <a:ext cx="914400" cy="9144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MMU: Preparing students for lifelong learning</a:t>
            </a:r>
            <a:endParaRPr b="0" lang="en-US" sz="20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85800" y="1676520"/>
            <a:ext cx="8153280" cy="4038480"/>
            <a:chOff x="685800" y="1676520"/>
            <a:chExt cx="8153280" cy="4038480"/>
          </a:xfrm>
        </p:grpSpPr>
        <p:sp>
          <p:nvSpPr>
            <p:cNvPr id="326" name=""/>
            <p:cNvSpPr/>
            <p:nvPr/>
          </p:nvSpPr>
          <p:spPr>
            <a:xfrm>
              <a:off x="685800" y="1905120"/>
              <a:ext cx="1828800" cy="365760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GLOBALI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LEAR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ORGANI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ECONOM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IMPACT OF I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KNOWLEDG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WOR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COMPET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971800" y="1676520"/>
              <a:ext cx="2590920" cy="3886200"/>
              <a:chOff x="2971800" y="1676520"/>
              <a:chExt cx="2590920" cy="3886200"/>
            </a:xfrm>
          </p:grpSpPr>
          <p:sp>
            <p:nvSpPr>
              <p:cNvPr id="328" name=""/>
              <p:cNvSpPr/>
              <p:nvPr/>
            </p:nvSpPr>
            <p:spPr>
              <a:xfrm>
                <a:off x="2971800" y="1676520"/>
                <a:ext cx="2590920" cy="914400"/>
              </a:xfrm>
              <a:prstGeom prst="rightArrow">
                <a:avLst>
                  <a:gd name="adj1" fmla="val 50000"/>
                  <a:gd name="adj2" fmla="val 7083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Satellite-based Edu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71800" y="2666880"/>
                <a:ext cx="2590920" cy="914400"/>
              </a:xfrm>
              <a:prstGeom prst="rightArrow">
                <a:avLst>
                  <a:gd name="adj1" fmla="val 50000"/>
                  <a:gd name="adj2" fmla="val 7083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E-Lear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71800" y="3657600"/>
                <a:ext cx="2590920" cy="914400"/>
              </a:xfrm>
              <a:prstGeom prst="rightArrow">
                <a:avLst>
                  <a:gd name="adj1" fmla="val 50000"/>
                  <a:gd name="adj2" fmla="val 7083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Industrial Trai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71800" y="4648320"/>
                <a:ext cx="2590920" cy="914400"/>
              </a:xfrm>
              <a:prstGeom prst="rightArrow">
                <a:avLst>
                  <a:gd name="adj1" fmla="val 50000"/>
                  <a:gd name="adj2" fmla="val 7083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lassroom Lectu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5867280" y="1752480"/>
              <a:ext cx="2971800" cy="3962520"/>
            </a:xfrm>
            <a:prstGeom prst="upDownArrow">
              <a:avLst>
                <a:gd name="adj1" fmla="val 50000"/>
                <a:gd name="adj2" fmla="val 26544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LEAR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LEAR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COMMUN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LEAR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FAMIL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LEAR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INDIVID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Learning models will need to change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990720" y="2590920"/>
            <a:ext cx="6705360" cy="1371600"/>
            <a:chOff x="990720" y="2590920"/>
            <a:chExt cx="6705360" cy="1371600"/>
          </a:xfrm>
        </p:grpSpPr>
        <p:sp>
          <p:nvSpPr>
            <p:cNvPr id="335" name=""/>
            <p:cNvSpPr/>
            <p:nvPr/>
          </p:nvSpPr>
          <p:spPr>
            <a:xfrm>
              <a:off x="990720" y="2590920"/>
              <a:ext cx="2438280" cy="1371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INDUSTRIAL  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LEARNING 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57800" y="2590920"/>
              <a:ext cx="2438280" cy="1371600"/>
            </a:xfrm>
            <a:prstGeom prst="rect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DIGITAL  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LEARNING 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33920" y="3124440"/>
              <a:ext cx="1295280" cy="22860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86120" y="4572000"/>
            <a:ext cx="372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ow do people learn in a digital environmen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s e-learning effectiv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re learners read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learning model are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raditional &amp; E-learning Approach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38080" y="1828800"/>
          <a:ext cx="7696440" cy="3895560"/>
        </p:xfrm>
        <a:graphic>
          <a:graphicData uri="http://schemas.openxmlformats.org/drawingml/2006/table">
            <a:tbl>
              <a:tblPr/>
              <a:tblGrid>
                <a:gridCol w="1676520"/>
                <a:gridCol w="2971800"/>
                <a:gridCol w="304812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raditional and E-learning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c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ditional Class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-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lass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hysical – limite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nchro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ytime, anyw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werPoint/transparency/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extbooks/lib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id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llab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ultimedia / sim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gital lib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n de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n &amp; Asyn. 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ersona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ne learning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earning path and pace determined by lear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Delivery mode will change</a:t>
            </a:r>
            <a:endParaRPr b="0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4952880"/>
            <a:ext cx="281952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ck of facilitie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4235400"/>
            <a:ext cx="281952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crease in tuition 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549600"/>
            <a:ext cx="281952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wing student 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1812960" cy="16495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2438280" cy="17510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105520" y="4844880"/>
            <a:ext cx="24382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vatisation of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4159080"/>
            <a:ext cx="2438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effectiv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e.g. e-learn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7240" y="3473280"/>
            <a:ext cx="336132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re virtual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21337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4191120"/>
            <a:ext cx="1371600" cy="30456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23623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live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0 : 0 (F/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0 : 20 (F/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0 : 80 (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134000">
            <a:off x="2971800" y="259308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R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6134000">
            <a:off x="5029200" y="259308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eaching aids will change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lack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V/V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8800" y="32004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32004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32004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684360" y="446040"/>
            <a:ext cx="7797600" cy="1015920"/>
            <a:chOff x="684360" y="446040"/>
            <a:chExt cx="7797600" cy="1015920"/>
          </a:xfrm>
        </p:grpSpPr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684360" y="446040"/>
              <a:ext cx="779760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777960" y="655560"/>
              <a:ext cx="74358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66"/>
                  </a:solidFill>
                  <a:latin typeface="Times New Roman"/>
                </a:rPr>
                <a:t>E-learn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60" y="1589040"/>
            <a:ext cx="7797600" cy="4292640"/>
            <a:chOff x="684360" y="1589040"/>
            <a:chExt cx="7797600" cy="429264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684360" y="1589040"/>
              <a:ext cx="77976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77960" y="1798560"/>
              <a:ext cx="7435800" cy="40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In an on-line multimedia learning environment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teaching &amp; learning is ‘one-to-one’ </a:t>
              </a:r>
              <a:r>
                <a:rPr b="0" lang="en-US" sz="2000" spc="-1" strike="noStrike">
                  <a:solidFill>
                    <a:srgbClr val="ccccff"/>
                  </a:solidFill>
                  <a:latin typeface="Times New Roman"/>
                </a:rPr>
                <a:t>(individu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more interactivity </a:t>
              </a:r>
              <a:r>
                <a:rPr b="0" lang="en-US" sz="2000" spc="-1" strike="noStrike">
                  <a:solidFill>
                    <a:srgbClr val="ccccff"/>
                  </a:solidFill>
                  <a:latin typeface="Times New Roman"/>
                </a:rPr>
                <a:t>(in normal classroom, it varies with the class siz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learner-centr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Learner monitoring &amp; grading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at is E-learning?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627280"/>
            <a:ext cx="3200400" cy="15609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002f00"/>
              </a:gs>
              <a:gs pos="100000">
                <a:srgbClr val="00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use of Internet technologies to deliver a broad array of solutions that enhance knowledge and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senberg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2763720"/>
            <a:ext cx="3200400" cy="1194840"/>
          </a:xfrm>
          <a:prstGeom prst="rect">
            <a:avLst/>
          </a:prstGeom>
          <a:gradFill rotWithShape="0">
            <a:gsLst>
              <a:gs pos="0">
                <a:srgbClr val="620043"/>
              </a:gs>
              <a:gs pos="50000">
                <a:srgbClr val="d60093"/>
              </a:gs>
              <a:gs pos="100000">
                <a:srgbClr val="6200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-learning is Internet-enabled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cisc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684360" y="446040"/>
            <a:ext cx="7797600" cy="1015920"/>
            <a:chOff x="684360" y="446040"/>
            <a:chExt cx="7797600" cy="101592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tretch/>
          </p:blipFill>
          <p:spPr>
            <a:xfrm>
              <a:off x="684360" y="446040"/>
              <a:ext cx="779760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77960" y="655560"/>
              <a:ext cx="74358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66"/>
                  </a:solidFill>
                  <a:latin typeface="Times New Roman"/>
                </a:rPr>
                <a:t>Benefi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84360" y="1589040"/>
            <a:ext cx="7797600" cy="4292640"/>
            <a:chOff x="684360" y="1589040"/>
            <a:chExt cx="7797600" cy="4292640"/>
          </a:xfrm>
        </p:grpSpPr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684360" y="1589040"/>
              <a:ext cx="77976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77960" y="1798560"/>
              <a:ext cx="7435800" cy="40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Conveni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self-service </a:t>
              </a: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mix and match</a:t>
              </a: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on-demand (</a:t>
              </a: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anytime, anywhere</a:t>
              </a: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private lear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self-pac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Flexibility: </a:t>
              </a: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(modular packag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buClr>
                  <a:srgbClr val="cccc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29847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73200" y="1600200"/>
            <a:ext cx="7797600" cy="4292640"/>
            <a:chOff x="673200" y="1600200"/>
            <a:chExt cx="7797600" cy="429264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673200" y="1600200"/>
              <a:ext cx="77976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66800" y="1809720"/>
              <a:ext cx="7435800" cy="40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Cost-effecti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Virtual learning environ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Share lessons among schoo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Reduce material co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Reduce travel/accommodation cos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84360" y="446040"/>
            <a:ext cx="7797600" cy="1015920"/>
            <a:chOff x="684360" y="446040"/>
            <a:chExt cx="7797600" cy="1015920"/>
          </a:xfrm>
        </p:grpSpPr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684360" y="446040"/>
              <a:ext cx="779760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77960" y="655560"/>
              <a:ext cx="74358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66"/>
                  </a:solidFill>
                  <a:latin typeface="Times New Roman"/>
                </a:rPr>
                <a:t>Benefi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715000" y="3886200"/>
            <a:ext cx="2908440" cy="20574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85800" y="4952880"/>
            <a:ext cx="115416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684360" y="446040"/>
            <a:ext cx="7797600" cy="1015920"/>
            <a:chOff x="684360" y="446040"/>
            <a:chExt cx="7797600" cy="1015920"/>
          </a:xfrm>
        </p:grpSpPr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684360" y="446040"/>
              <a:ext cx="779760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777960" y="655560"/>
              <a:ext cx="74358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66"/>
                  </a:solidFill>
                  <a:latin typeface="Times New Roman"/>
                </a:rPr>
                <a:t>Benefi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84360" y="1589040"/>
            <a:ext cx="7797600" cy="4292640"/>
            <a:chOff x="684360" y="1589040"/>
            <a:chExt cx="7797600" cy="4292640"/>
          </a:xfrm>
        </p:grpSpPr>
        <p:pic>
          <p:nvPicPr>
            <p:cNvPr id="388" name="" descr=""/>
            <p:cNvPicPr/>
            <p:nvPr/>
          </p:nvPicPr>
          <p:blipFill>
            <a:blip r:embed="rId2"/>
            <a:stretch/>
          </p:blipFill>
          <p:spPr>
            <a:xfrm>
              <a:off x="684360" y="1589040"/>
              <a:ext cx="77976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777960" y="1798560"/>
              <a:ext cx="7435800" cy="40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Consist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Central control of cont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Same quality of content for a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Same quality of education for a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5486400" y="4572000"/>
            <a:ext cx="2832120" cy="15890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6324480" y="1143000"/>
            <a:ext cx="19940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684360" y="446040"/>
            <a:ext cx="7797600" cy="1015920"/>
            <a:chOff x="684360" y="446040"/>
            <a:chExt cx="7797600" cy="101592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684360" y="446040"/>
              <a:ext cx="779760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777960" y="655560"/>
              <a:ext cx="74358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66"/>
                  </a:solidFill>
                  <a:latin typeface="Times New Roman"/>
                </a:rPr>
                <a:t>Benefi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84360" y="1589040"/>
            <a:ext cx="7797600" cy="4292640"/>
            <a:chOff x="684360" y="1589040"/>
            <a:chExt cx="7797600" cy="4292640"/>
          </a:xfrm>
        </p:grpSpPr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684360" y="1589040"/>
              <a:ext cx="77976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77960" y="1798560"/>
              <a:ext cx="7435800" cy="40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media-ric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Easier to understand &amp; more enga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repeatab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s many times as you lik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easier to monitor prog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less administrative wor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can be more preci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ff99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eacher’s Obligation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553120" y="1866960"/>
            <a:ext cx="3733560" cy="3733920"/>
            <a:chOff x="2553120" y="1866960"/>
            <a:chExt cx="3733560" cy="3733920"/>
          </a:xfrm>
        </p:grpSpPr>
        <p:sp>
          <p:nvSpPr>
            <p:cNvPr id="400" name="_s144396"/>
            <p:cNvSpPr/>
            <p:nvPr/>
          </p:nvSpPr>
          <p:spPr>
            <a:xfrm flipH="1">
              <a:off x="3485880" y="373536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_s144395"/>
            <p:cNvSpPr/>
            <p:nvPr/>
          </p:nvSpPr>
          <p:spPr>
            <a:xfrm>
              <a:off x="2553120" y="3268800"/>
              <a:ext cx="933120" cy="933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ncorpo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‘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old’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‘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new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_s144399"/>
            <p:cNvSpPr/>
            <p:nvPr/>
          </p:nvSpPr>
          <p:spPr>
            <a:xfrm>
              <a:off x="4421520" y="4200480"/>
              <a:ext cx="0" cy="4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_s144398"/>
            <p:cNvSpPr/>
            <p:nvPr/>
          </p:nvSpPr>
          <p:spPr>
            <a:xfrm>
              <a:off x="3954600" y="4667400"/>
              <a:ext cx="933480" cy="933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La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found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f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Lifelo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lear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_s144394"/>
            <p:cNvSpPr/>
            <p:nvPr/>
          </p:nvSpPr>
          <p:spPr>
            <a:xfrm>
              <a:off x="4886640" y="3732120"/>
              <a:ext cx="46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_s144393"/>
            <p:cNvSpPr/>
            <p:nvPr/>
          </p:nvSpPr>
          <p:spPr>
            <a:xfrm>
              <a:off x="5353200" y="3265560"/>
              <a:ext cx="933480" cy="933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Encourag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ollaborativ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ear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_s144392"/>
            <p:cNvSpPr/>
            <p:nvPr/>
          </p:nvSpPr>
          <p:spPr>
            <a:xfrm flipV="1">
              <a:off x="4419720" y="2800440"/>
              <a:ext cx="0" cy="46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_s144391"/>
            <p:cNvSpPr/>
            <p:nvPr/>
          </p:nvSpPr>
          <p:spPr>
            <a:xfrm>
              <a:off x="3953160" y="1866960"/>
              <a:ext cx="933480" cy="933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use 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vail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_s144390"/>
            <p:cNvSpPr/>
            <p:nvPr/>
          </p:nvSpPr>
          <p:spPr>
            <a:xfrm>
              <a:off x="3953160" y="3267000"/>
              <a:ext cx="933480" cy="933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Teacher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Oblig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Building an e-learning culture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2743200"/>
            <a:ext cx="2057400" cy="1371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Learn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lf-dir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lf-motiv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lf-regul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felong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600200"/>
            <a:ext cx="2514600" cy="1371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Teac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velop knowledge &amp;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derstand learning and its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acilitat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reate learning 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4572000"/>
            <a:ext cx="2057400" cy="1371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Administ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reate Learn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ovide ICT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ources for lifelong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3124080"/>
            <a:ext cx="1218960" cy="121932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Building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E-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971800" y="34290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9717200">
            <a:off x="4572000" y="29718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13601400">
            <a:off x="4476240" y="4209840"/>
            <a:ext cx="495360" cy="30492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-learning tools: E-mail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99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ry teacher should have an e-mail accou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municate with studen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municate with paren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udents can submit assign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n have attachmen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eate a paperless environ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mple but effec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fficient and cost effec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-learning tools: Chat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99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ynchronous communication too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municate with studen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municate with paren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 students participat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llaborative learn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-learning tools: Online Forum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99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synchronous discussion for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cher can create discussion group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cher could post a question and request students to com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udents can post their commen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n encourage community particip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llaborative learning can be foster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eedback from diverse cultu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-learning Tools: Web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99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ide range of materials availab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cher will need to narrow dow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t is a resource cent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aring of resourc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pported by images, audio, simulation and multimed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ruth of e-learning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42400" y="1981080"/>
            <a:ext cx="5240520" cy="703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ternet has started reshaping edu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ducation will not be the same in the next 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63920" y="3200400"/>
            <a:ext cx="5315040" cy="1008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no going back.  The traditional class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s to be transform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eb-based Education Commission,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26440" y="4648320"/>
            <a:ext cx="4624560" cy="703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any universities/colleges may not surv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y the end of this 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-learning tools: Video Conference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99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n conduct a live lectu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munication with studen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munication with paren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pport by audio, chat and whiteboar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pport sharing of applicat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n be recorded and later be used for on demand lectur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mo…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ools: Learning Management System (LMS)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99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anagement of cont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racking studen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dministrative featur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tegration with various tools such as chat, forum, e-mail, etc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port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mo... of  Multimedia Learning System (MML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re to start?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99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ditional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Pen and paper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Personal presentation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MS Word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Use Kid pictures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eginning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Use MS Publisher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Use MS Powerpoint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Use creative writing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Regularly access the Internet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Students can navigate your Network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Students frequently use a Digital Camera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Evolving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I.C.T. is formally taught to every student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Students manage the school Internet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Students and teachers use a wide range of CD ROM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Student can craft web pages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re to start?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99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onsolidating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School website is current and reflects school culture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School website has educational value for students and the wider community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Students can use multi media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dvanced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Teacher use the Intranet to display and initiate learning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Teachers can design web pages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Students submit learning using floppy, Network, Print format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Use selected software to source knowledge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Use the Internet to compliment learning outcomes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Use of personal web pages to link to a variety of program 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e-learning / digital classroom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Teacher use the Intranet to initiate and measure learning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E Mail is a focal educational exchange medium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Students are able to manage and produce digitally edited movies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Multimedia visual literacy is a valued learning focus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Teachers can comfortably use digital multimedia to enhance learning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99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CT and e-learning offers opportunity to raise educational standards in school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range of ICT tools are available for teaching and lear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s the gap of  “Digital Divide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volvement of teachers and parents is importa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hools will need funding, access and trai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-business in e-learning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99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666880"/>
            <a:ext cx="2743200" cy="1600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800000"/>
              </a:gs>
              <a:gs pos="100000">
                <a:srgbClr val="ff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E-learning market will swe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from US$2.2 billion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US$11.4 bill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y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Cushing Anderson of Framingham, I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2666880"/>
            <a:ext cx="2743200" cy="17528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Only about 1%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population ha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taken an on-line cou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800600"/>
            <a:ext cx="1523880" cy="914400"/>
          </a:xfrm>
          <a:prstGeom prst="ellipse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E-learning is st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-learning is going to be big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828800"/>
            <a:ext cx="3733560" cy="190512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ducation and training forms on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largest sectors of the econo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most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828800"/>
            <a:ext cx="3733920" cy="1905120"/>
          </a:xfrm>
          <a:prstGeom prst="ellipse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ver the last decade, the numb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porate universities gr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400 to 1,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 Narrow"/>
              </a:rPr>
              <a:t>                           </a:t>
            </a:r>
            <a:r>
              <a:rPr b="0" lang="en-US" sz="1200" spc="-1" strike="noStrike">
                <a:solidFill>
                  <a:srgbClr val="ffff00"/>
                </a:solidFill>
                <a:latin typeface="Arial Narrow"/>
              </a:rPr>
              <a:t>Meister, Jeanne op. cit., endnote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962520"/>
            <a:ext cx="3733920" cy="1904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% of Fortune 500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e established corpo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 Narrow"/>
              </a:rPr>
              <a:t>Moe and Blodgett, op. cit., endnote 21, p. 230</a:t>
            </a:r>
            <a:r>
              <a:rPr b="0" lang="en-US" sz="1200" spc="-1" strike="noStrike">
                <a:solidFill>
                  <a:srgbClr val="ccccff"/>
                </a:solidFill>
                <a:latin typeface="Arial Narro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962520"/>
            <a:ext cx="3733920" cy="190476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Skilled jobs now represent 8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of all jobs in US, in contras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20% in 195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 Narrow"/>
              </a:rPr>
              <a:t>              </a:t>
            </a:r>
            <a:r>
              <a:rPr b="0" lang="en-US" sz="1200" spc="-1" strike="noStrike">
                <a:solidFill>
                  <a:srgbClr val="ffff00"/>
                </a:solidFill>
                <a:latin typeface="Arial Narrow"/>
              </a:rPr>
              <a:t>http://www.webcommission.org/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Education Market will be big</a:t>
            </a:r>
            <a:endParaRPr b="0" lang="en-US" sz="2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0574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big growth is expected in the educatio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240" y="2925720"/>
            <a:ext cx="3728520" cy="10087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udent population in US colle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crease from 232,000 at the tu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the century to 13 million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2000" y="2925720"/>
            <a:ext cx="3486240" cy="10087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 Malaysia, with on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 1957 to over 21 public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iv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76920" y="4114800"/>
            <a:ext cx="2422440" cy="403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81560" y="4724280"/>
            <a:ext cx="2603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US Army has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online educational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d hope to enroll 15,000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,000 of its army perso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 a degree 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9720" y="4724280"/>
            <a:ext cx="207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The future soldiers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not be carry guns 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ompu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4419720"/>
            <a:ext cx="106668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ternet Users will continue to grow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905120" y="1676520"/>
            <a:ext cx="4800240" cy="3833640"/>
            <a:chOff x="1905120" y="1676520"/>
            <a:chExt cx="4800240" cy="3833640"/>
          </a:xfrm>
        </p:grpSpPr>
        <p:grpSp>
          <p:nvGrpSpPr>
            <p:cNvPr id="75" name=""/>
            <p:cNvGrpSpPr/>
            <p:nvPr/>
          </p:nvGrpSpPr>
          <p:grpSpPr>
            <a:xfrm>
              <a:off x="1909800" y="1678320"/>
              <a:ext cx="4790160" cy="3830040"/>
              <a:chOff x="1909800" y="1678320"/>
              <a:chExt cx="4790160" cy="38300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1909800" y="1678320"/>
                <a:ext cx="4790160" cy="250560"/>
                <a:chOff x="1909800" y="1678320"/>
                <a:chExt cx="4790160" cy="2505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909800" y="1678320"/>
                  <a:ext cx="479016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1909800" y="1678320"/>
                  <a:ext cx="4789800" cy="250560"/>
                  <a:chOff x="1909800" y="1678320"/>
                  <a:chExt cx="4789800" cy="25056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1980360" y="1678320"/>
                    <a:ext cx="4649040" cy="2505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00"/>
                        </a:solidFill>
                        <a:latin typeface="Humanst521BT,Bold"/>
                      </a:rPr>
                      <a:t>Table:  Internet Users in Asia (2000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909800" y="1678320"/>
                    <a:ext cx="4789800" cy="250560"/>
                  </a:xfrm>
                  <a:prstGeom prst="rect">
                    <a:avLst/>
                  </a:prstGeom>
                  <a:noFill/>
                  <a:ln w="0">
                    <a:solidFill>
                      <a:srgbClr val="ffff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" name=""/>
              <p:cNvGrpSpPr/>
              <p:nvPr/>
            </p:nvGrpSpPr>
            <p:grpSpPr>
              <a:xfrm>
                <a:off x="1909800" y="1928880"/>
                <a:ext cx="1320840" cy="318240"/>
                <a:chOff x="1909800" y="1928880"/>
                <a:chExt cx="1320840" cy="3182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909800" y="1928880"/>
                  <a:ext cx="1320840" cy="31824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" name=""/>
                <p:cNvGrpSpPr/>
                <p:nvPr/>
              </p:nvGrpSpPr>
              <p:grpSpPr>
                <a:xfrm>
                  <a:off x="1909800" y="1928880"/>
                  <a:ext cx="1320480" cy="318240"/>
                  <a:chOff x="1909800" y="1928880"/>
                  <a:chExt cx="1320480" cy="3182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1980360" y="1928880"/>
                    <a:ext cx="1179720" cy="3182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100" spc="-1" strike="noStrike">
                        <a:solidFill>
                          <a:srgbClr val="ffcccc"/>
                        </a:solidFill>
                        <a:latin typeface="Humanst521BT,Bold"/>
                      </a:rPr>
                      <a:t>Country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909800" y="1928880"/>
                    <a:ext cx="1320480" cy="318240"/>
                  </a:xfrm>
                  <a:prstGeom prst="rect">
                    <a:avLst/>
                  </a:prstGeom>
                  <a:noFill/>
                  <a:ln w="0">
                    <a:solidFill>
                      <a:srgbClr val="ffff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3231000" y="1928880"/>
                <a:ext cx="2088360" cy="318240"/>
                <a:chOff x="3231000" y="1928880"/>
                <a:chExt cx="2088360" cy="3182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231000" y="1928880"/>
                  <a:ext cx="2088360" cy="31824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3231000" y="1928880"/>
                  <a:ext cx="2088000" cy="318240"/>
                  <a:chOff x="3231000" y="1928880"/>
                  <a:chExt cx="2088000" cy="3182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301560" y="1928880"/>
                    <a:ext cx="1947240" cy="3182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100" spc="-1" strike="noStrike">
                        <a:solidFill>
                          <a:srgbClr val="ffcccc"/>
                        </a:solidFill>
                        <a:latin typeface="Humanst521BT,Bold"/>
                      </a:rPr>
                      <a:t>Number of Internet User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231000" y="1928880"/>
                    <a:ext cx="2088000" cy="318240"/>
                  </a:xfrm>
                  <a:prstGeom prst="rect">
                    <a:avLst/>
                  </a:prstGeom>
                  <a:noFill/>
                  <a:ln w="0">
                    <a:solidFill>
                      <a:srgbClr val="ffff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" name=""/>
              <p:cNvGrpSpPr/>
              <p:nvPr/>
            </p:nvGrpSpPr>
            <p:grpSpPr>
              <a:xfrm>
                <a:off x="5320080" y="1928880"/>
                <a:ext cx="1379880" cy="318240"/>
                <a:chOff x="5320080" y="1928880"/>
                <a:chExt cx="1379880" cy="3182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5320080" y="1928880"/>
                  <a:ext cx="1379880" cy="31824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" name=""/>
                <p:cNvGrpSpPr/>
                <p:nvPr/>
              </p:nvGrpSpPr>
              <p:grpSpPr>
                <a:xfrm>
                  <a:off x="5320080" y="1928880"/>
                  <a:ext cx="1379520" cy="318240"/>
                  <a:chOff x="5320080" y="1928880"/>
                  <a:chExt cx="1379520" cy="31824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5390640" y="1928880"/>
                    <a:ext cx="1238760" cy="3182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100" spc="-1" strike="noStrike">
                        <a:solidFill>
                          <a:srgbClr val="ffcccc"/>
                        </a:solidFill>
                        <a:latin typeface="Humanst521BT,Bold"/>
                      </a:rPr>
                      <a:t>% populatio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5320080" y="1928880"/>
                    <a:ext cx="1379520" cy="318240"/>
                  </a:xfrm>
                  <a:prstGeom prst="rect">
                    <a:avLst/>
                  </a:prstGeom>
                  <a:noFill/>
                  <a:ln w="0">
                    <a:solidFill>
                      <a:srgbClr val="ffff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" name=""/>
              <p:cNvGrpSpPr/>
              <p:nvPr/>
            </p:nvGrpSpPr>
            <p:grpSpPr>
              <a:xfrm>
                <a:off x="1909800" y="2247120"/>
                <a:ext cx="1320840" cy="250920"/>
                <a:chOff x="1909800" y="2247120"/>
                <a:chExt cx="1320840" cy="2509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980360" y="2247120"/>
                  <a:ext cx="118008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Hong Ko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909800" y="2247120"/>
                  <a:ext cx="132084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231000" y="2247120"/>
                <a:ext cx="2088360" cy="250920"/>
                <a:chOff x="3231000" y="2247120"/>
                <a:chExt cx="2088360" cy="2509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301560" y="2247120"/>
                  <a:ext cx="194760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3,46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231000" y="2247120"/>
                  <a:ext cx="208836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320080" y="2247120"/>
                <a:ext cx="1379880" cy="250920"/>
                <a:chOff x="5320080" y="2247120"/>
                <a:chExt cx="1379880" cy="2509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90640" y="2247120"/>
                  <a:ext cx="123912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48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20080" y="2247120"/>
                  <a:ext cx="137988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909800" y="2498040"/>
                <a:ext cx="1320840" cy="250560"/>
                <a:chOff x="1909800" y="2498040"/>
                <a:chExt cx="1320840" cy="250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980360" y="2498040"/>
                  <a:ext cx="118008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Indonesi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909800" y="2498040"/>
                  <a:ext cx="132084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231000" y="2498040"/>
                <a:ext cx="2088360" cy="250560"/>
                <a:chOff x="3231000" y="2498040"/>
                <a:chExt cx="2088360" cy="2505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301560" y="2498040"/>
                  <a:ext cx="194760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40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231000" y="2498040"/>
                  <a:ext cx="208836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5320080" y="2498040"/>
                <a:ext cx="1379880" cy="250560"/>
                <a:chOff x="5320080" y="2498040"/>
                <a:chExt cx="1379880" cy="2505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390640" y="2498040"/>
                  <a:ext cx="123912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0.18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320080" y="2498040"/>
                  <a:ext cx="137988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909800" y="2748960"/>
                <a:ext cx="1320840" cy="250920"/>
                <a:chOff x="1909800" y="2748960"/>
                <a:chExt cx="1320840" cy="2509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980360" y="2748960"/>
                  <a:ext cx="118008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Chin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909800" y="2748960"/>
                  <a:ext cx="132084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231000" y="2748960"/>
                <a:ext cx="2088360" cy="250920"/>
                <a:chOff x="3231000" y="2748960"/>
                <a:chExt cx="2088360" cy="250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301560" y="2748960"/>
                  <a:ext cx="194760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17,00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31000" y="2748960"/>
                  <a:ext cx="208836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320080" y="2748960"/>
                <a:ext cx="1379880" cy="250920"/>
                <a:chOff x="5320080" y="2748960"/>
                <a:chExt cx="1379880" cy="2509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390640" y="2748960"/>
                  <a:ext cx="123912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1.3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320080" y="2748960"/>
                  <a:ext cx="137988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909800" y="2999880"/>
                <a:ext cx="1320840" cy="250560"/>
                <a:chOff x="1909800" y="2999880"/>
                <a:chExt cx="1320840" cy="2505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980360" y="2999880"/>
                  <a:ext cx="118008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Indi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09800" y="2999880"/>
                  <a:ext cx="132084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231000" y="2999880"/>
                <a:ext cx="2088360" cy="250560"/>
                <a:chOff x="3231000" y="2999880"/>
                <a:chExt cx="2088360" cy="2505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301560" y="2999880"/>
                  <a:ext cx="194760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4,50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31000" y="2999880"/>
                  <a:ext cx="208836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320080" y="2999880"/>
                <a:ext cx="1379880" cy="250560"/>
                <a:chOff x="5320080" y="2999880"/>
                <a:chExt cx="1379880" cy="2505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390640" y="2999880"/>
                  <a:ext cx="123912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0.45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320080" y="2999880"/>
                  <a:ext cx="137988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909800" y="3250800"/>
                <a:ext cx="1320840" cy="250560"/>
                <a:chOff x="1909800" y="3250800"/>
                <a:chExt cx="1320840" cy="2505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980360" y="3250800"/>
                  <a:ext cx="118008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Japa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909800" y="3250800"/>
                  <a:ext cx="132084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231000" y="3250800"/>
                <a:ext cx="2088360" cy="250560"/>
                <a:chOff x="3231000" y="3250800"/>
                <a:chExt cx="2088360" cy="2505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301560" y="3250800"/>
                  <a:ext cx="194760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38,00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231000" y="3250800"/>
                  <a:ext cx="208836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320080" y="3250800"/>
                <a:ext cx="1379880" cy="250560"/>
                <a:chOff x="5320080" y="3250800"/>
                <a:chExt cx="1379880" cy="2505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390640" y="3250800"/>
                  <a:ext cx="123912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30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320080" y="3250800"/>
                  <a:ext cx="137988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909800" y="3501360"/>
                <a:ext cx="1320840" cy="250920"/>
                <a:chOff x="1909800" y="3501360"/>
                <a:chExt cx="1320840" cy="2509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980360" y="3501360"/>
                  <a:ext cx="118008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Malaysi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09800" y="3501360"/>
                  <a:ext cx="132084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231000" y="3501360"/>
                <a:ext cx="2088360" cy="250920"/>
                <a:chOff x="3231000" y="3501360"/>
                <a:chExt cx="2088360" cy="2509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301560" y="3501360"/>
                  <a:ext cx="194760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1,50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231000" y="3501360"/>
                  <a:ext cx="208836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320080" y="3501360"/>
                <a:ext cx="1379880" cy="250920"/>
                <a:chOff x="5320080" y="3501360"/>
                <a:chExt cx="1379880" cy="2509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90640" y="3501360"/>
                  <a:ext cx="123912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7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20080" y="3501360"/>
                  <a:ext cx="137988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909800" y="3752280"/>
                <a:ext cx="1320840" cy="250560"/>
                <a:chOff x="1909800" y="3752280"/>
                <a:chExt cx="1320840" cy="2505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980360" y="3752280"/>
                  <a:ext cx="118008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Philippin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09800" y="3752280"/>
                  <a:ext cx="132084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31000" y="3752280"/>
                <a:ext cx="2088360" cy="250560"/>
                <a:chOff x="3231000" y="3752280"/>
                <a:chExt cx="2088360" cy="2505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01560" y="3752280"/>
                  <a:ext cx="194760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50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31000" y="3752280"/>
                  <a:ext cx="208836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320080" y="3752280"/>
                <a:ext cx="1379880" cy="250560"/>
                <a:chOff x="5320080" y="3752280"/>
                <a:chExt cx="1379880" cy="2505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390640" y="3752280"/>
                  <a:ext cx="123912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0.6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20080" y="3752280"/>
                  <a:ext cx="137988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909800" y="4003200"/>
                <a:ext cx="1320840" cy="250920"/>
                <a:chOff x="1909800" y="4003200"/>
                <a:chExt cx="1320840" cy="2509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980360" y="4003200"/>
                  <a:ext cx="118008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Singapor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909800" y="4003200"/>
                  <a:ext cx="132084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231000" y="4003200"/>
                <a:ext cx="2088360" cy="250920"/>
                <a:chOff x="3231000" y="4003200"/>
                <a:chExt cx="2088360" cy="2509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01560" y="4003200"/>
                  <a:ext cx="194760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1,85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231000" y="4003200"/>
                  <a:ext cx="208836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320080" y="4003200"/>
                <a:ext cx="1379880" cy="250920"/>
                <a:chOff x="5320080" y="4003200"/>
                <a:chExt cx="1379880" cy="2509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390640" y="4003200"/>
                  <a:ext cx="123912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44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320080" y="4003200"/>
                  <a:ext cx="137988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909800" y="4254120"/>
                <a:ext cx="1320840" cy="250560"/>
                <a:chOff x="1909800" y="4254120"/>
                <a:chExt cx="1320840" cy="2505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980360" y="4254120"/>
                  <a:ext cx="118008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South Kore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909800" y="4254120"/>
                  <a:ext cx="132084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31000" y="4254120"/>
                <a:ext cx="2088360" cy="250560"/>
                <a:chOff x="3231000" y="4254120"/>
                <a:chExt cx="2088360" cy="250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01560" y="4254120"/>
                  <a:ext cx="194760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16,00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31000" y="4254120"/>
                  <a:ext cx="208836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320080" y="4254120"/>
                <a:ext cx="1379880" cy="250560"/>
                <a:chOff x="5320080" y="4254120"/>
                <a:chExt cx="1379880" cy="2505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90640" y="4254120"/>
                  <a:ext cx="123912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34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20080" y="4254120"/>
                  <a:ext cx="137988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909800" y="4505040"/>
                <a:ext cx="1320840" cy="250920"/>
                <a:chOff x="1909800" y="4505040"/>
                <a:chExt cx="1320840" cy="2509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980360" y="4505040"/>
                  <a:ext cx="118008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Taiwa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909800" y="4505040"/>
                  <a:ext cx="132084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231000" y="4505040"/>
                <a:ext cx="2088360" cy="250920"/>
                <a:chOff x="3231000" y="4505040"/>
                <a:chExt cx="2088360" cy="250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301560" y="4505040"/>
                  <a:ext cx="194760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6,40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231000" y="4505040"/>
                  <a:ext cx="208836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320080" y="4505040"/>
                <a:ext cx="1379880" cy="250920"/>
                <a:chOff x="5320080" y="4505040"/>
                <a:chExt cx="1379880" cy="2509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390640" y="4505040"/>
                  <a:ext cx="123912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29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20080" y="4505040"/>
                  <a:ext cx="137988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909800" y="4755960"/>
                <a:ext cx="1320840" cy="250560"/>
                <a:chOff x="1909800" y="4755960"/>
                <a:chExt cx="1320840" cy="2505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980360" y="4755960"/>
                  <a:ext cx="118008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Thailan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909800" y="4755960"/>
                  <a:ext cx="132084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231000" y="4755960"/>
                <a:ext cx="2088360" cy="250560"/>
                <a:chOff x="3231000" y="4755960"/>
                <a:chExt cx="2088360" cy="2505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301560" y="4755960"/>
                  <a:ext cx="194760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1,00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31000" y="4755960"/>
                  <a:ext cx="208836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320080" y="4755960"/>
                <a:ext cx="1379880" cy="250560"/>
                <a:chOff x="5320080" y="4755960"/>
                <a:chExt cx="1379880" cy="2505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390640" y="4755960"/>
                  <a:ext cx="123912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1.6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320080" y="4755960"/>
                  <a:ext cx="137988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909800" y="5006520"/>
                <a:ext cx="1320840" cy="250560"/>
                <a:chOff x="1909800" y="5006520"/>
                <a:chExt cx="1320840" cy="2505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980360" y="5006520"/>
                  <a:ext cx="118008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Vietn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909800" y="5006520"/>
                  <a:ext cx="132084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231000" y="5006520"/>
                <a:ext cx="2088360" cy="250560"/>
                <a:chOff x="3231000" y="5006520"/>
                <a:chExt cx="2088360" cy="2505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301560" y="5006520"/>
                  <a:ext cx="194760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10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231000" y="5006520"/>
                  <a:ext cx="208836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320080" y="5006520"/>
                <a:ext cx="1379880" cy="250560"/>
                <a:chOff x="5320080" y="5006520"/>
                <a:chExt cx="1379880" cy="2505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390640" y="5006520"/>
                  <a:ext cx="1239120" cy="25056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Humanst521BT,Bold"/>
                    </a:rPr>
                    <a:t>0.13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320080" y="5006520"/>
                  <a:ext cx="1379880" cy="25056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909800" y="5257440"/>
                <a:ext cx="4790160" cy="250920"/>
                <a:chOff x="1909800" y="5257440"/>
                <a:chExt cx="4790160" cy="2509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980360" y="5257440"/>
                  <a:ext cx="4649400" cy="25092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ccccff"/>
                      </a:solidFill>
                      <a:latin typeface="Humanst521BT,Bold"/>
                    </a:rPr>
                    <a:t>Source: http://www.nua.i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909800" y="5257440"/>
                  <a:ext cx="4790160" cy="250920"/>
                </a:xfrm>
                <a:prstGeom prst="rect">
                  <a:avLst/>
                </a:prstGeom>
                <a:noFill/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1905120" y="1676520"/>
              <a:ext cx="4800240" cy="38336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volution of Education Technology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371600" y="1828800"/>
            <a:ext cx="0" cy="3200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4724280"/>
            <a:ext cx="716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47920" y="3657600"/>
            <a:ext cx="1218960" cy="1052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1528920" cy="1041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886200" y="3200400"/>
            <a:ext cx="1371600" cy="1193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324480" y="2057400"/>
            <a:ext cx="839880" cy="85896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4952880" y="2514600"/>
            <a:ext cx="1447200" cy="1447560"/>
            <a:chOff x="4952880" y="2514600"/>
            <a:chExt cx="1447200" cy="1447560"/>
          </a:xfrm>
        </p:grpSpPr>
        <p:sp>
          <p:nvSpPr>
            <p:cNvPr id="216" name=""/>
            <p:cNvSpPr/>
            <p:nvPr/>
          </p:nvSpPr>
          <p:spPr>
            <a:xfrm>
              <a:off x="4952880" y="2535840"/>
              <a:ext cx="1405800" cy="1426320"/>
            </a:xfrm>
            <a:custGeom>
              <a:avLst/>
              <a:gdLst/>
              <a:ahLst/>
              <a:rect l="l" t="t" r="r" b="b"/>
              <a:pathLst>
                <a:path w="2405" h="2275">
                  <a:moveTo>
                    <a:pt x="484" y="0"/>
                  </a:moveTo>
                  <a:lnTo>
                    <a:pt x="0" y="455"/>
                  </a:lnTo>
                  <a:lnTo>
                    <a:pt x="556" y="2255"/>
                  </a:lnTo>
                  <a:lnTo>
                    <a:pt x="1069" y="2275"/>
                  </a:lnTo>
                  <a:lnTo>
                    <a:pt x="1516" y="2275"/>
                  </a:lnTo>
                  <a:lnTo>
                    <a:pt x="2028" y="2153"/>
                  </a:lnTo>
                  <a:lnTo>
                    <a:pt x="2007" y="2038"/>
                  </a:lnTo>
                  <a:lnTo>
                    <a:pt x="1990" y="2041"/>
                  </a:lnTo>
                  <a:lnTo>
                    <a:pt x="1944" y="2050"/>
                  </a:lnTo>
                  <a:lnTo>
                    <a:pt x="1912" y="2056"/>
                  </a:lnTo>
                  <a:lnTo>
                    <a:pt x="1874" y="2063"/>
                  </a:lnTo>
                  <a:lnTo>
                    <a:pt x="1832" y="2071"/>
                  </a:lnTo>
                  <a:lnTo>
                    <a:pt x="1785" y="2079"/>
                  </a:lnTo>
                  <a:lnTo>
                    <a:pt x="1735" y="2088"/>
                  </a:lnTo>
                  <a:lnTo>
                    <a:pt x="1684" y="2096"/>
                  </a:lnTo>
                  <a:lnTo>
                    <a:pt x="1630" y="2106"/>
                  </a:lnTo>
                  <a:lnTo>
                    <a:pt x="1575" y="2114"/>
                  </a:lnTo>
                  <a:lnTo>
                    <a:pt x="1519" y="2123"/>
                  </a:lnTo>
                  <a:lnTo>
                    <a:pt x="1464" y="2131"/>
                  </a:lnTo>
                  <a:lnTo>
                    <a:pt x="1410" y="2139"/>
                  </a:lnTo>
                  <a:lnTo>
                    <a:pt x="1358" y="2147"/>
                  </a:lnTo>
                  <a:lnTo>
                    <a:pt x="1305" y="2152"/>
                  </a:lnTo>
                  <a:lnTo>
                    <a:pt x="1247" y="2156"/>
                  </a:lnTo>
                  <a:lnTo>
                    <a:pt x="1125" y="2156"/>
                  </a:lnTo>
                  <a:lnTo>
                    <a:pt x="879" y="2139"/>
                  </a:lnTo>
                  <a:lnTo>
                    <a:pt x="823" y="2132"/>
                  </a:lnTo>
                  <a:lnTo>
                    <a:pt x="772" y="2127"/>
                  </a:lnTo>
                  <a:lnTo>
                    <a:pt x="726" y="2120"/>
                  </a:lnTo>
                  <a:lnTo>
                    <a:pt x="686" y="2115"/>
                  </a:lnTo>
                  <a:lnTo>
                    <a:pt x="628" y="2106"/>
                  </a:lnTo>
                  <a:lnTo>
                    <a:pt x="607" y="2103"/>
                  </a:lnTo>
                  <a:lnTo>
                    <a:pt x="160" y="543"/>
                  </a:lnTo>
                  <a:lnTo>
                    <a:pt x="2383" y="499"/>
                  </a:lnTo>
                  <a:lnTo>
                    <a:pt x="2405" y="426"/>
                  </a:lnTo>
                  <a:lnTo>
                    <a:pt x="203" y="420"/>
                  </a:lnTo>
                  <a:lnTo>
                    <a:pt x="550" y="87"/>
                  </a:lnTo>
                  <a:lnTo>
                    <a:pt x="2079" y="79"/>
                  </a:lnTo>
                  <a:lnTo>
                    <a:pt x="2093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013360" y="2514600"/>
              <a:ext cx="1386720" cy="1384920"/>
              <a:chOff x="5013360" y="2514600"/>
              <a:chExt cx="1386720" cy="1384920"/>
            </a:xfrm>
          </p:grpSpPr>
          <p:sp>
            <p:nvSpPr>
              <p:cNvPr id="218" name=""/>
              <p:cNvSpPr/>
              <p:nvPr/>
            </p:nvSpPr>
            <p:spPr>
              <a:xfrm>
                <a:off x="5015520" y="2793960"/>
                <a:ext cx="1346040" cy="1105560"/>
              </a:xfrm>
              <a:custGeom>
                <a:avLst/>
                <a:gdLst/>
                <a:ahLst/>
                <a:rect l="l" t="t" r="r" b="b"/>
                <a:pathLst>
                  <a:path w="2303" h="1764">
                    <a:moveTo>
                      <a:pt x="0" y="14"/>
                    </a:moveTo>
                    <a:lnTo>
                      <a:pt x="2303" y="0"/>
                    </a:lnTo>
                    <a:lnTo>
                      <a:pt x="1861" y="1660"/>
                    </a:lnTo>
                    <a:lnTo>
                      <a:pt x="1132" y="1764"/>
                    </a:lnTo>
                    <a:lnTo>
                      <a:pt x="469" y="17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5013360" y="2514600"/>
                <a:ext cx="1386720" cy="1339920"/>
                <a:chOff x="5013360" y="2514600"/>
                <a:chExt cx="1386720" cy="13399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755320" y="277524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00"/>
                      </a:solidFill>
                      <a:latin typeface="Times New Roman"/>
                    </a:rPr>
                    <a:t>TI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486760" y="3215160"/>
                  <a:ext cx="521280" cy="398520"/>
                </a:xfrm>
                <a:custGeom>
                  <a:avLst/>
                  <a:gdLst/>
                  <a:ahLst/>
                  <a:rect l="l" t="t" r="r" b="b"/>
                  <a:pathLst>
                    <a:path w="891" h="636">
                      <a:moveTo>
                        <a:pt x="4" y="572"/>
                      </a:moveTo>
                      <a:lnTo>
                        <a:pt x="0" y="184"/>
                      </a:lnTo>
                      <a:lnTo>
                        <a:pt x="121" y="58"/>
                      </a:lnTo>
                      <a:lnTo>
                        <a:pt x="396" y="0"/>
                      </a:lnTo>
                      <a:lnTo>
                        <a:pt x="721" y="76"/>
                      </a:lnTo>
                      <a:lnTo>
                        <a:pt x="815" y="194"/>
                      </a:lnTo>
                      <a:lnTo>
                        <a:pt x="891" y="550"/>
                      </a:lnTo>
                      <a:lnTo>
                        <a:pt x="575" y="636"/>
                      </a:lnTo>
                      <a:lnTo>
                        <a:pt x="116" y="604"/>
                      </a:lnTo>
                      <a:lnTo>
                        <a:pt x="4" y="572"/>
                      </a:lnTo>
                      <a:lnTo>
                        <a:pt x="4" y="5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013360" y="2517120"/>
                  <a:ext cx="1332000" cy="272880"/>
                </a:xfrm>
                <a:custGeom>
                  <a:avLst/>
                  <a:gdLst/>
                  <a:ahLst/>
                  <a:rect l="l" t="t" r="r" b="b"/>
                  <a:pathLst>
                    <a:path w="2280" h="437">
                      <a:moveTo>
                        <a:pt x="365" y="19"/>
                      </a:moveTo>
                      <a:lnTo>
                        <a:pt x="1937" y="0"/>
                      </a:lnTo>
                      <a:lnTo>
                        <a:pt x="2280" y="429"/>
                      </a:lnTo>
                      <a:lnTo>
                        <a:pt x="0" y="437"/>
                      </a:lnTo>
                      <a:lnTo>
                        <a:pt x="365" y="19"/>
                      </a:lnTo>
                      <a:lnTo>
                        <a:pt x="365" y="19"/>
                      </a:lnTo>
                      <a:close/>
                    </a:path>
                  </a:pathLst>
                </a:custGeom>
                <a:solidFill>
                  <a:srgbClr val="d199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31840" y="2972160"/>
                  <a:ext cx="228960" cy="364680"/>
                </a:xfrm>
                <a:custGeom>
                  <a:avLst/>
                  <a:gdLst/>
                  <a:ahLst/>
                  <a:rect l="l" t="t" r="r" b="b"/>
                  <a:pathLst>
                    <a:path w="392" h="583">
                      <a:moveTo>
                        <a:pt x="149" y="0"/>
                      </a:moveTo>
                      <a:lnTo>
                        <a:pt x="0" y="127"/>
                      </a:lnTo>
                      <a:lnTo>
                        <a:pt x="77" y="492"/>
                      </a:lnTo>
                      <a:lnTo>
                        <a:pt x="171" y="583"/>
                      </a:lnTo>
                      <a:lnTo>
                        <a:pt x="271" y="515"/>
                      </a:lnTo>
                      <a:lnTo>
                        <a:pt x="392" y="150"/>
                      </a:lnTo>
                      <a:lnTo>
                        <a:pt x="306" y="28"/>
                      </a:lnTo>
                      <a:lnTo>
                        <a:pt x="149" y="0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ffc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68640" y="2929320"/>
                  <a:ext cx="407880" cy="635040"/>
                </a:xfrm>
                <a:custGeom>
                  <a:avLst/>
                  <a:gdLst/>
                  <a:ahLst/>
                  <a:rect l="l" t="t" r="r" b="b"/>
                  <a:pathLst>
                    <a:path w="699" h="1016">
                      <a:moveTo>
                        <a:pt x="0" y="6"/>
                      </a:moveTo>
                      <a:lnTo>
                        <a:pt x="563" y="0"/>
                      </a:lnTo>
                      <a:lnTo>
                        <a:pt x="699" y="164"/>
                      </a:lnTo>
                      <a:lnTo>
                        <a:pt x="563" y="704"/>
                      </a:lnTo>
                      <a:lnTo>
                        <a:pt x="478" y="979"/>
                      </a:lnTo>
                      <a:lnTo>
                        <a:pt x="393" y="1016"/>
                      </a:lnTo>
                      <a:lnTo>
                        <a:pt x="315" y="636"/>
                      </a:lnTo>
                      <a:lnTo>
                        <a:pt x="266" y="555"/>
                      </a:lnTo>
                      <a:lnTo>
                        <a:pt x="37" y="461"/>
                      </a:lnTo>
                      <a:lnTo>
                        <a:pt x="144" y="249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5e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81200" y="2934360"/>
                  <a:ext cx="458280" cy="648000"/>
                </a:xfrm>
                <a:custGeom>
                  <a:avLst/>
                  <a:gdLst/>
                  <a:ahLst/>
                  <a:rect l="l" t="t" r="r" b="b"/>
                  <a:pathLst>
                    <a:path w="783" h="1033">
                      <a:moveTo>
                        <a:pt x="324" y="0"/>
                      </a:moveTo>
                      <a:lnTo>
                        <a:pt x="108" y="58"/>
                      </a:lnTo>
                      <a:lnTo>
                        <a:pt x="0" y="252"/>
                      </a:lnTo>
                      <a:lnTo>
                        <a:pt x="148" y="974"/>
                      </a:lnTo>
                      <a:lnTo>
                        <a:pt x="400" y="1033"/>
                      </a:lnTo>
                      <a:lnTo>
                        <a:pt x="346" y="771"/>
                      </a:lnTo>
                      <a:lnTo>
                        <a:pt x="442" y="537"/>
                      </a:lnTo>
                      <a:lnTo>
                        <a:pt x="662" y="478"/>
                      </a:lnTo>
                      <a:lnTo>
                        <a:pt x="662" y="351"/>
                      </a:lnTo>
                      <a:lnTo>
                        <a:pt x="608" y="202"/>
                      </a:lnTo>
                      <a:lnTo>
                        <a:pt x="693" y="54"/>
                      </a:lnTo>
                      <a:lnTo>
                        <a:pt x="783" y="14"/>
                      </a:lnTo>
                      <a:lnTo>
                        <a:pt x="324" y="0"/>
                      </a:lnTo>
                      <a:lnTo>
                        <a:pt x="324" y="0"/>
                      </a:lnTo>
                      <a:close/>
                    </a:path>
                  </a:pathLst>
                </a:custGeom>
                <a:solidFill>
                  <a:srgbClr val="e5e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084360" y="2514600"/>
                  <a:ext cx="315720" cy="1339920"/>
                </a:xfrm>
                <a:custGeom>
                  <a:avLst/>
                  <a:gdLst/>
                  <a:ahLst/>
                  <a:rect l="l" t="t" r="r" b="b"/>
                  <a:pathLst>
                    <a:path w="542" h="2138">
                      <a:moveTo>
                        <a:pt x="58" y="27"/>
                      </a:moveTo>
                      <a:lnTo>
                        <a:pt x="440" y="469"/>
                      </a:lnTo>
                      <a:lnTo>
                        <a:pt x="0" y="2109"/>
                      </a:lnTo>
                      <a:lnTo>
                        <a:pt x="72" y="2138"/>
                      </a:lnTo>
                      <a:lnTo>
                        <a:pt x="542" y="454"/>
                      </a:lnTo>
                      <a:lnTo>
                        <a:pt x="144" y="0"/>
                      </a:lnTo>
                      <a:lnTo>
                        <a:pt x="58" y="27"/>
                      </a:lnTo>
                      <a:lnTo>
                        <a:pt x="58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614200" y="2948040"/>
                  <a:ext cx="253800" cy="321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89" y="477"/>
                      </a:moveTo>
                      <a:lnTo>
                        <a:pt x="89" y="366"/>
                      </a:lnTo>
                      <a:lnTo>
                        <a:pt x="69" y="345"/>
                      </a:lnTo>
                      <a:lnTo>
                        <a:pt x="52" y="322"/>
                      </a:lnTo>
                      <a:lnTo>
                        <a:pt x="33" y="290"/>
                      </a:lnTo>
                      <a:lnTo>
                        <a:pt x="4" y="213"/>
                      </a:lnTo>
                      <a:lnTo>
                        <a:pt x="0" y="170"/>
                      </a:lnTo>
                      <a:lnTo>
                        <a:pt x="9" y="124"/>
                      </a:lnTo>
                      <a:lnTo>
                        <a:pt x="19" y="102"/>
                      </a:lnTo>
                      <a:lnTo>
                        <a:pt x="31" y="82"/>
                      </a:lnTo>
                      <a:lnTo>
                        <a:pt x="47" y="65"/>
                      </a:lnTo>
                      <a:lnTo>
                        <a:pt x="65" y="51"/>
                      </a:lnTo>
                      <a:lnTo>
                        <a:pt x="76" y="44"/>
                      </a:lnTo>
                      <a:lnTo>
                        <a:pt x="85" y="38"/>
                      </a:lnTo>
                      <a:lnTo>
                        <a:pt x="97" y="32"/>
                      </a:lnTo>
                      <a:lnTo>
                        <a:pt x="107" y="27"/>
                      </a:lnTo>
                      <a:lnTo>
                        <a:pt x="129" y="18"/>
                      </a:lnTo>
                      <a:lnTo>
                        <a:pt x="153" y="12"/>
                      </a:lnTo>
                      <a:lnTo>
                        <a:pt x="176" y="6"/>
                      </a:lnTo>
                      <a:lnTo>
                        <a:pt x="199" y="2"/>
                      </a:lnTo>
                      <a:lnTo>
                        <a:pt x="243" y="0"/>
                      </a:lnTo>
                      <a:lnTo>
                        <a:pt x="282" y="1"/>
                      </a:lnTo>
                      <a:lnTo>
                        <a:pt x="312" y="8"/>
                      </a:lnTo>
                      <a:lnTo>
                        <a:pt x="336" y="22"/>
                      </a:lnTo>
                      <a:lnTo>
                        <a:pt x="361" y="44"/>
                      </a:lnTo>
                      <a:lnTo>
                        <a:pt x="383" y="73"/>
                      </a:lnTo>
                      <a:lnTo>
                        <a:pt x="403" y="106"/>
                      </a:lnTo>
                      <a:lnTo>
                        <a:pt x="430" y="179"/>
                      </a:lnTo>
                      <a:lnTo>
                        <a:pt x="434" y="243"/>
                      </a:lnTo>
                      <a:lnTo>
                        <a:pt x="426" y="273"/>
                      </a:lnTo>
                      <a:lnTo>
                        <a:pt x="412" y="307"/>
                      </a:lnTo>
                      <a:lnTo>
                        <a:pt x="403" y="324"/>
                      </a:lnTo>
                      <a:lnTo>
                        <a:pt x="394" y="343"/>
                      </a:lnTo>
                      <a:lnTo>
                        <a:pt x="383" y="361"/>
                      </a:lnTo>
                      <a:lnTo>
                        <a:pt x="373" y="378"/>
                      </a:lnTo>
                      <a:lnTo>
                        <a:pt x="361" y="395"/>
                      </a:lnTo>
                      <a:lnTo>
                        <a:pt x="349" y="411"/>
                      </a:lnTo>
                      <a:lnTo>
                        <a:pt x="326" y="439"/>
                      </a:lnTo>
                      <a:lnTo>
                        <a:pt x="303" y="460"/>
                      </a:lnTo>
                      <a:lnTo>
                        <a:pt x="293" y="467"/>
                      </a:lnTo>
                      <a:lnTo>
                        <a:pt x="284" y="471"/>
                      </a:lnTo>
                      <a:lnTo>
                        <a:pt x="238" y="472"/>
                      </a:lnTo>
                      <a:lnTo>
                        <a:pt x="187" y="462"/>
                      </a:lnTo>
                      <a:lnTo>
                        <a:pt x="163" y="454"/>
                      </a:lnTo>
                      <a:lnTo>
                        <a:pt x="145" y="449"/>
                      </a:lnTo>
                      <a:lnTo>
                        <a:pt x="128" y="442"/>
                      </a:lnTo>
                      <a:lnTo>
                        <a:pt x="190" y="437"/>
                      </a:lnTo>
                      <a:lnTo>
                        <a:pt x="243" y="418"/>
                      </a:lnTo>
                      <a:lnTo>
                        <a:pt x="294" y="381"/>
                      </a:lnTo>
                      <a:lnTo>
                        <a:pt x="315" y="352"/>
                      </a:lnTo>
                      <a:lnTo>
                        <a:pt x="335" y="319"/>
                      </a:lnTo>
                      <a:lnTo>
                        <a:pt x="353" y="284"/>
                      </a:lnTo>
                      <a:lnTo>
                        <a:pt x="365" y="247"/>
                      </a:lnTo>
                      <a:lnTo>
                        <a:pt x="375" y="180"/>
                      </a:lnTo>
                      <a:lnTo>
                        <a:pt x="370" y="153"/>
                      </a:lnTo>
                      <a:lnTo>
                        <a:pt x="356" y="131"/>
                      </a:lnTo>
                      <a:lnTo>
                        <a:pt x="345" y="123"/>
                      </a:lnTo>
                      <a:lnTo>
                        <a:pt x="332" y="115"/>
                      </a:lnTo>
                      <a:lnTo>
                        <a:pt x="318" y="108"/>
                      </a:lnTo>
                      <a:lnTo>
                        <a:pt x="301" y="102"/>
                      </a:lnTo>
                      <a:lnTo>
                        <a:pt x="284" y="98"/>
                      </a:lnTo>
                      <a:lnTo>
                        <a:pt x="265" y="94"/>
                      </a:lnTo>
                      <a:lnTo>
                        <a:pt x="227" y="90"/>
                      </a:lnTo>
                      <a:lnTo>
                        <a:pt x="190" y="90"/>
                      </a:lnTo>
                      <a:lnTo>
                        <a:pt x="155" y="97"/>
                      </a:lnTo>
                      <a:lnTo>
                        <a:pt x="125" y="108"/>
                      </a:lnTo>
                      <a:lnTo>
                        <a:pt x="103" y="127"/>
                      </a:lnTo>
                      <a:lnTo>
                        <a:pt x="90" y="153"/>
                      </a:lnTo>
                      <a:lnTo>
                        <a:pt x="85" y="186"/>
                      </a:lnTo>
                      <a:lnTo>
                        <a:pt x="93" y="259"/>
                      </a:lnTo>
                      <a:lnTo>
                        <a:pt x="101" y="293"/>
                      </a:lnTo>
                      <a:lnTo>
                        <a:pt x="108" y="322"/>
                      </a:lnTo>
                      <a:lnTo>
                        <a:pt x="118" y="348"/>
                      </a:lnTo>
                      <a:lnTo>
                        <a:pt x="110" y="514"/>
                      </a:lnTo>
                      <a:lnTo>
                        <a:pt x="89" y="477"/>
                      </a:lnTo>
                      <a:lnTo>
                        <a:pt x="89" y="4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73800" y="3202560"/>
                  <a:ext cx="203400" cy="373320"/>
                </a:xfrm>
                <a:custGeom>
                  <a:avLst/>
                  <a:gdLst/>
                  <a:ahLst/>
                  <a:rect l="l" t="t" r="r" b="b"/>
                  <a:pathLst>
                    <a:path w="347" h="597">
                      <a:moveTo>
                        <a:pt x="347" y="0"/>
                      </a:moveTo>
                      <a:lnTo>
                        <a:pt x="330" y="4"/>
                      </a:lnTo>
                      <a:lnTo>
                        <a:pt x="286" y="13"/>
                      </a:lnTo>
                      <a:lnTo>
                        <a:pt x="256" y="21"/>
                      </a:lnTo>
                      <a:lnTo>
                        <a:pt x="221" y="29"/>
                      </a:lnTo>
                      <a:lnTo>
                        <a:pt x="185" y="40"/>
                      </a:lnTo>
                      <a:lnTo>
                        <a:pt x="167" y="45"/>
                      </a:lnTo>
                      <a:lnTo>
                        <a:pt x="148" y="51"/>
                      </a:lnTo>
                      <a:lnTo>
                        <a:pt x="130" y="58"/>
                      </a:lnTo>
                      <a:lnTo>
                        <a:pt x="113" y="66"/>
                      </a:lnTo>
                      <a:lnTo>
                        <a:pt x="99" y="76"/>
                      </a:lnTo>
                      <a:lnTo>
                        <a:pt x="85" y="87"/>
                      </a:lnTo>
                      <a:lnTo>
                        <a:pt x="63" y="109"/>
                      </a:lnTo>
                      <a:lnTo>
                        <a:pt x="47" y="131"/>
                      </a:lnTo>
                      <a:lnTo>
                        <a:pt x="27" y="172"/>
                      </a:lnTo>
                      <a:lnTo>
                        <a:pt x="21" y="189"/>
                      </a:lnTo>
                      <a:lnTo>
                        <a:pt x="10" y="245"/>
                      </a:lnTo>
                      <a:lnTo>
                        <a:pt x="0" y="369"/>
                      </a:lnTo>
                      <a:lnTo>
                        <a:pt x="10" y="508"/>
                      </a:lnTo>
                      <a:lnTo>
                        <a:pt x="17" y="579"/>
                      </a:lnTo>
                      <a:lnTo>
                        <a:pt x="83" y="597"/>
                      </a:lnTo>
                      <a:lnTo>
                        <a:pt x="78" y="570"/>
                      </a:lnTo>
                      <a:lnTo>
                        <a:pt x="66" y="503"/>
                      </a:lnTo>
                      <a:lnTo>
                        <a:pt x="58" y="355"/>
                      </a:lnTo>
                      <a:lnTo>
                        <a:pt x="68" y="304"/>
                      </a:lnTo>
                      <a:lnTo>
                        <a:pt x="81" y="258"/>
                      </a:lnTo>
                      <a:lnTo>
                        <a:pt x="97" y="216"/>
                      </a:lnTo>
                      <a:lnTo>
                        <a:pt x="106" y="197"/>
                      </a:lnTo>
                      <a:lnTo>
                        <a:pt x="116" y="177"/>
                      </a:lnTo>
                      <a:lnTo>
                        <a:pt x="130" y="159"/>
                      </a:lnTo>
                      <a:lnTo>
                        <a:pt x="153" y="139"/>
                      </a:lnTo>
                      <a:lnTo>
                        <a:pt x="167" y="129"/>
                      </a:lnTo>
                      <a:lnTo>
                        <a:pt x="181" y="119"/>
                      </a:lnTo>
                      <a:lnTo>
                        <a:pt x="197" y="110"/>
                      </a:lnTo>
                      <a:lnTo>
                        <a:pt x="211" y="102"/>
                      </a:lnTo>
                      <a:lnTo>
                        <a:pt x="227" y="95"/>
                      </a:lnTo>
                      <a:lnTo>
                        <a:pt x="241" y="88"/>
                      </a:lnTo>
                      <a:lnTo>
                        <a:pt x="254" y="81"/>
                      </a:lnTo>
                      <a:lnTo>
                        <a:pt x="266" y="76"/>
                      </a:lnTo>
                      <a:lnTo>
                        <a:pt x="282" y="68"/>
                      </a:lnTo>
                      <a:lnTo>
                        <a:pt x="288" y="66"/>
                      </a:lnTo>
                      <a:lnTo>
                        <a:pt x="297" y="63"/>
                      </a:lnTo>
                      <a:lnTo>
                        <a:pt x="316" y="57"/>
                      </a:lnTo>
                      <a:lnTo>
                        <a:pt x="334" y="47"/>
                      </a:lnTo>
                      <a:lnTo>
                        <a:pt x="343" y="37"/>
                      </a:lnTo>
                      <a:lnTo>
                        <a:pt x="347" y="0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653080" y="3200040"/>
                  <a:ext cx="163440" cy="150120"/>
                </a:xfrm>
                <a:custGeom>
                  <a:avLst/>
                  <a:gdLst/>
                  <a:ahLst/>
                  <a:rect l="l" t="t" r="r" b="b"/>
                  <a:pathLst>
                    <a:path w="278" h="240">
                      <a:moveTo>
                        <a:pt x="0" y="33"/>
                      </a:moveTo>
                      <a:lnTo>
                        <a:pt x="11" y="108"/>
                      </a:lnTo>
                      <a:lnTo>
                        <a:pt x="19" y="137"/>
                      </a:lnTo>
                      <a:lnTo>
                        <a:pt x="30" y="167"/>
                      </a:lnTo>
                      <a:lnTo>
                        <a:pt x="44" y="191"/>
                      </a:lnTo>
                      <a:lnTo>
                        <a:pt x="61" y="211"/>
                      </a:lnTo>
                      <a:lnTo>
                        <a:pt x="70" y="218"/>
                      </a:lnTo>
                      <a:lnTo>
                        <a:pt x="81" y="224"/>
                      </a:lnTo>
                      <a:lnTo>
                        <a:pt x="91" y="228"/>
                      </a:lnTo>
                      <a:lnTo>
                        <a:pt x="102" y="233"/>
                      </a:lnTo>
                      <a:lnTo>
                        <a:pt x="124" y="239"/>
                      </a:lnTo>
                      <a:lnTo>
                        <a:pt x="146" y="240"/>
                      </a:lnTo>
                      <a:lnTo>
                        <a:pt x="191" y="229"/>
                      </a:lnTo>
                      <a:lnTo>
                        <a:pt x="211" y="219"/>
                      </a:lnTo>
                      <a:lnTo>
                        <a:pt x="231" y="203"/>
                      </a:lnTo>
                      <a:lnTo>
                        <a:pt x="259" y="157"/>
                      </a:lnTo>
                      <a:lnTo>
                        <a:pt x="273" y="101"/>
                      </a:lnTo>
                      <a:lnTo>
                        <a:pt x="278" y="33"/>
                      </a:lnTo>
                      <a:lnTo>
                        <a:pt x="270" y="53"/>
                      </a:lnTo>
                      <a:lnTo>
                        <a:pt x="261" y="72"/>
                      </a:lnTo>
                      <a:lnTo>
                        <a:pt x="248" y="96"/>
                      </a:lnTo>
                      <a:lnTo>
                        <a:pt x="230" y="118"/>
                      </a:lnTo>
                      <a:lnTo>
                        <a:pt x="209" y="139"/>
                      </a:lnTo>
                      <a:lnTo>
                        <a:pt x="197" y="147"/>
                      </a:lnTo>
                      <a:lnTo>
                        <a:pt x="184" y="154"/>
                      </a:lnTo>
                      <a:lnTo>
                        <a:pt x="170" y="157"/>
                      </a:lnTo>
                      <a:lnTo>
                        <a:pt x="155" y="160"/>
                      </a:lnTo>
                      <a:lnTo>
                        <a:pt x="104" y="157"/>
                      </a:lnTo>
                      <a:lnTo>
                        <a:pt x="74" y="146"/>
                      </a:lnTo>
                      <a:lnTo>
                        <a:pt x="60" y="126"/>
                      </a:lnTo>
                      <a:lnTo>
                        <a:pt x="54" y="99"/>
                      </a:lnTo>
                      <a:lnTo>
                        <a:pt x="49" y="66"/>
                      </a:lnTo>
                      <a:lnTo>
                        <a:pt x="41" y="34"/>
                      </a:lnTo>
                      <a:lnTo>
                        <a:pt x="32" y="0"/>
                      </a:lnTo>
                      <a:lnTo>
                        <a:pt x="0" y="3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686920" y="3318120"/>
                  <a:ext cx="88560" cy="229320"/>
                </a:xfrm>
                <a:custGeom>
                  <a:avLst/>
                  <a:gdLst/>
                  <a:ahLst/>
                  <a:rect l="l" t="t" r="r" b="b"/>
                  <a:pathLst>
                    <a:path w="152" h="365">
                      <a:moveTo>
                        <a:pt x="43" y="0"/>
                      </a:moveTo>
                      <a:lnTo>
                        <a:pt x="0" y="365"/>
                      </a:lnTo>
                      <a:lnTo>
                        <a:pt x="152" y="365"/>
                      </a:lnTo>
                      <a:lnTo>
                        <a:pt x="113" y="4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816520" y="3216600"/>
                  <a:ext cx="211320" cy="359280"/>
                </a:xfrm>
                <a:custGeom>
                  <a:avLst/>
                  <a:gdLst/>
                  <a:ahLst/>
                  <a:rect l="l" t="t" r="r" b="b"/>
                  <a:pathLst>
                    <a:path w="364" h="574">
                      <a:moveTo>
                        <a:pt x="17" y="0"/>
                      </a:moveTo>
                      <a:lnTo>
                        <a:pt x="36" y="7"/>
                      </a:lnTo>
                      <a:lnTo>
                        <a:pt x="55" y="17"/>
                      </a:lnTo>
                      <a:lnTo>
                        <a:pt x="67" y="22"/>
                      </a:lnTo>
                      <a:lnTo>
                        <a:pt x="79" y="27"/>
                      </a:lnTo>
                      <a:lnTo>
                        <a:pt x="92" y="32"/>
                      </a:lnTo>
                      <a:lnTo>
                        <a:pt x="105" y="36"/>
                      </a:lnTo>
                      <a:lnTo>
                        <a:pt x="132" y="47"/>
                      </a:lnTo>
                      <a:lnTo>
                        <a:pt x="157" y="53"/>
                      </a:lnTo>
                      <a:lnTo>
                        <a:pt x="181" y="57"/>
                      </a:lnTo>
                      <a:lnTo>
                        <a:pt x="219" y="66"/>
                      </a:lnTo>
                      <a:lnTo>
                        <a:pt x="250" y="91"/>
                      </a:lnTo>
                      <a:lnTo>
                        <a:pt x="278" y="132"/>
                      </a:lnTo>
                      <a:lnTo>
                        <a:pt x="300" y="191"/>
                      </a:lnTo>
                      <a:lnTo>
                        <a:pt x="309" y="231"/>
                      </a:lnTo>
                      <a:lnTo>
                        <a:pt x="319" y="285"/>
                      </a:lnTo>
                      <a:lnTo>
                        <a:pt x="331" y="342"/>
                      </a:lnTo>
                      <a:lnTo>
                        <a:pt x="342" y="401"/>
                      </a:lnTo>
                      <a:lnTo>
                        <a:pt x="351" y="456"/>
                      </a:lnTo>
                      <a:lnTo>
                        <a:pt x="357" y="502"/>
                      </a:lnTo>
                      <a:lnTo>
                        <a:pt x="364" y="545"/>
                      </a:lnTo>
                      <a:lnTo>
                        <a:pt x="296" y="574"/>
                      </a:lnTo>
                      <a:lnTo>
                        <a:pt x="292" y="518"/>
                      </a:lnTo>
                      <a:lnTo>
                        <a:pt x="287" y="458"/>
                      </a:lnTo>
                      <a:lnTo>
                        <a:pt x="278" y="388"/>
                      </a:lnTo>
                      <a:lnTo>
                        <a:pt x="266" y="314"/>
                      </a:lnTo>
                      <a:lnTo>
                        <a:pt x="258" y="278"/>
                      </a:lnTo>
                      <a:lnTo>
                        <a:pt x="249" y="244"/>
                      </a:lnTo>
                      <a:lnTo>
                        <a:pt x="238" y="214"/>
                      </a:lnTo>
                      <a:lnTo>
                        <a:pt x="227" y="187"/>
                      </a:lnTo>
                      <a:lnTo>
                        <a:pt x="213" y="163"/>
                      </a:lnTo>
                      <a:lnTo>
                        <a:pt x="198" y="147"/>
                      </a:lnTo>
                      <a:lnTo>
                        <a:pt x="165" y="123"/>
                      </a:lnTo>
                      <a:lnTo>
                        <a:pt x="157" y="117"/>
                      </a:lnTo>
                      <a:lnTo>
                        <a:pt x="149" y="113"/>
                      </a:lnTo>
                      <a:lnTo>
                        <a:pt x="132" y="104"/>
                      </a:lnTo>
                      <a:lnTo>
                        <a:pt x="115" y="96"/>
                      </a:lnTo>
                      <a:lnTo>
                        <a:pt x="98" y="90"/>
                      </a:lnTo>
                      <a:lnTo>
                        <a:pt x="83" y="83"/>
                      </a:lnTo>
                      <a:lnTo>
                        <a:pt x="67" y="78"/>
                      </a:lnTo>
                      <a:lnTo>
                        <a:pt x="41" y="72"/>
                      </a:lnTo>
                      <a:lnTo>
                        <a:pt x="19" y="68"/>
                      </a:lnTo>
                      <a:lnTo>
                        <a:pt x="0" y="65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338440" y="3690000"/>
                  <a:ext cx="211320" cy="60120"/>
                </a:xfrm>
                <a:custGeom>
                  <a:avLst/>
                  <a:gdLst/>
                  <a:ahLst/>
                  <a:rect l="l" t="t" r="r" b="b"/>
                  <a:pathLst>
                    <a:path w="361" h="96">
                      <a:moveTo>
                        <a:pt x="4" y="0"/>
                      </a:moveTo>
                      <a:lnTo>
                        <a:pt x="361" y="51"/>
                      </a:lnTo>
                      <a:lnTo>
                        <a:pt x="281" y="96"/>
                      </a:lnTo>
                      <a:lnTo>
                        <a:pt x="0" y="47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338440" y="3746520"/>
                  <a:ext cx="211320" cy="60120"/>
                </a:xfrm>
                <a:custGeom>
                  <a:avLst/>
                  <a:gdLst/>
                  <a:ahLst/>
                  <a:rect l="l" t="t" r="r" b="b"/>
                  <a:pathLst>
                    <a:path w="361" h="97">
                      <a:moveTo>
                        <a:pt x="4" y="0"/>
                      </a:moveTo>
                      <a:lnTo>
                        <a:pt x="361" y="51"/>
                      </a:lnTo>
                      <a:lnTo>
                        <a:pt x="281" y="97"/>
                      </a:lnTo>
                      <a:lnTo>
                        <a:pt x="0" y="47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208480" y="2865600"/>
                  <a:ext cx="415080" cy="132480"/>
                </a:xfrm>
                <a:custGeom>
                  <a:avLst/>
                  <a:gdLst/>
                  <a:ahLst/>
                  <a:rect l="l" t="t" r="r" b="b"/>
                  <a:pathLst>
                    <a:path w="711" h="210">
                      <a:moveTo>
                        <a:pt x="0" y="22"/>
                      </a:moveTo>
                      <a:lnTo>
                        <a:pt x="711" y="0"/>
                      </a:lnTo>
                      <a:lnTo>
                        <a:pt x="207" y="82"/>
                      </a:lnTo>
                      <a:lnTo>
                        <a:pt x="158" y="158"/>
                      </a:lnTo>
                      <a:lnTo>
                        <a:pt x="132" y="210"/>
                      </a:lnTo>
                      <a:lnTo>
                        <a:pt x="0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346720" y="3543480"/>
                  <a:ext cx="703800" cy="141840"/>
                </a:xfrm>
                <a:custGeom>
                  <a:avLst/>
                  <a:gdLst/>
                  <a:ahLst/>
                  <a:rect l="l" t="t" r="r" b="b"/>
                  <a:pathLst>
                    <a:path w="1204" h="227">
                      <a:moveTo>
                        <a:pt x="68" y="0"/>
                      </a:moveTo>
                      <a:lnTo>
                        <a:pt x="0" y="151"/>
                      </a:lnTo>
                      <a:lnTo>
                        <a:pt x="508" y="227"/>
                      </a:lnTo>
                      <a:lnTo>
                        <a:pt x="1177" y="121"/>
                      </a:lnTo>
                      <a:lnTo>
                        <a:pt x="1204" y="8"/>
                      </a:lnTo>
                      <a:lnTo>
                        <a:pt x="836" y="87"/>
                      </a:lnTo>
                      <a:lnTo>
                        <a:pt x="271" y="72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358240" y="3598920"/>
                  <a:ext cx="684000" cy="93600"/>
                </a:xfrm>
                <a:custGeom>
                  <a:avLst/>
                  <a:gdLst/>
                  <a:ahLst/>
                  <a:rect l="l" t="t" r="r" b="b"/>
                  <a:pathLst>
                    <a:path w="1169" h="149">
                      <a:moveTo>
                        <a:pt x="0" y="59"/>
                      </a:moveTo>
                      <a:lnTo>
                        <a:pt x="603" y="92"/>
                      </a:lnTo>
                      <a:lnTo>
                        <a:pt x="1136" y="0"/>
                      </a:lnTo>
                      <a:lnTo>
                        <a:pt x="1169" y="44"/>
                      </a:lnTo>
                      <a:lnTo>
                        <a:pt x="765" y="123"/>
                      </a:lnTo>
                      <a:lnTo>
                        <a:pt x="480" y="149"/>
                      </a:lnTo>
                      <a:lnTo>
                        <a:pt x="0" y="59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022440" y="3360600"/>
                  <a:ext cx="94680" cy="265680"/>
                </a:xfrm>
                <a:custGeom>
                  <a:avLst/>
                  <a:gdLst/>
                  <a:ahLst/>
                  <a:rect l="l" t="t" r="r" b="b"/>
                  <a:pathLst>
                    <a:path w="163" h="423">
                      <a:moveTo>
                        <a:pt x="163" y="0"/>
                      </a:moveTo>
                      <a:lnTo>
                        <a:pt x="33" y="423"/>
                      </a:lnTo>
                      <a:lnTo>
                        <a:pt x="0" y="377"/>
                      </a:lnTo>
                      <a:lnTo>
                        <a:pt x="79" y="188"/>
                      </a:lnTo>
                      <a:lnTo>
                        <a:pt x="163" y="0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856480" y="2870280"/>
                  <a:ext cx="389520" cy="144360"/>
                </a:xfrm>
                <a:custGeom>
                  <a:avLst/>
                  <a:gdLst/>
                  <a:ahLst/>
                  <a:rect l="l" t="t" r="r" b="b"/>
                  <a:pathLst>
                    <a:path w="665" h="229">
                      <a:moveTo>
                        <a:pt x="0" y="0"/>
                      </a:moveTo>
                      <a:lnTo>
                        <a:pt x="665" y="15"/>
                      </a:lnTo>
                      <a:lnTo>
                        <a:pt x="658" y="79"/>
                      </a:lnTo>
                      <a:lnTo>
                        <a:pt x="563" y="229"/>
                      </a:lnTo>
                      <a:lnTo>
                        <a:pt x="421" y="12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03800" y="2900520"/>
                  <a:ext cx="1044000" cy="730800"/>
                </a:xfrm>
                <a:custGeom>
                  <a:avLst/>
                  <a:gdLst/>
                  <a:ahLst/>
                  <a:rect l="l" t="t" r="r" b="b"/>
                  <a:pathLst>
                    <a:path w="1785" h="1164">
                      <a:moveTo>
                        <a:pt x="0" y="4"/>
                      </a:moveTo>
                      <a:lnTo>
                        <a:pt x="263" y="1157"/>
                      </a:lnTo>
                      <a:lnTo>
                        <a:pt x="320" y="1078"/>
                      </a:lnTo>
                      <a:lnTo>
                        <a:pt x="333" y="1082"/>
                      </a:lnTo>
                      <a:lnTo>
                        <a:pt x="370" y="1091"/>
                      </a:lnTo>
                      <a:lnTo>
                        <a:pt x="396" y="1098"/>
                      </a:lnTo>
                      <a:lnTo>
                        <a:pt x="427" y="1105"/>
                      </a:lnTo>
                      <a:lnTo>
                        <a:pt x="463" y="1113"/>
                      </a:lnTo>
                      <a:lnTo>
                        <a:pt x="501" y="1121"/>
                      </a:lnTo>
                      <a:lnTo>
                        <a:pt x="542" y="1129"/>
                      </a:lnTo>
                      <a:lnTo>
                        <a:pt x="588" y="1137"/>
                      </a:lnTo>
                      <a:lnTo>
                        <a:pt x="635" y="1145"/>
                      </a:lnTo>
                      <a:lnTo>
                        <a:pt x="684" y="1151"/>
                      </a:lnTo>
                      <a:lnTo>
                        <a:pt x="735" y="1157"/>
                      </a:lnTo>
                      <a:lnTo>
                        <a:pt x="786" y="1160"/>
                      </a:lnTo>
                      <a:lnTo>
                        <a:pt x="891" y="1164"/>
                      </a:lnTo>
                      <a:lnTo>
                        <a:pt x="993" y="1159"/>
                      </a:lnTo>
                      <a:lnTo>
                        <a:pt x="1088" y="1147"/>
                      </a:lnTo>
                      <a:lnTo>
                        <a:pt x="1133" y="1138"/>
                      </a:lnTo>
                      <a:lnTo>
                        <a:pt x="1174" y="1129"/>
                      </a:lnTo>
                      <a:lnTo>
                        <a:pt x="1214" y="1119"/>
                      </a:lnTo>
                      <a:lnTo>
                        <a:pt x="1250" y="1108"/>
                      </a:lnTo>
                      <a:lnTo>
                        <a:pt x="1284" y="1098"/>
                      </a:lnTo>
                      <a:lnTo>
                        <a:pt x="1314" y="1088"/>
                      </a:lnTo>
                      <a:lnTo>
                        <a:pt x="1341" y="1078"/>
                      </a:lnTo>
                      <a:lnTo>
                        <a:pt x="1362" y="1070"/>
                      </a:lnTo>
                      <a:lnTo>
                        <a:pt x="1380" y="1062"/>
                      </a:lnTo>
                      <a:lnTo>
                        <a:pt x="1392" y="1057"/>
                      </a:lnTo>
                      <a:lnTo>
                        <a:pt x="1403" y="1052"/>
                      </a:lnTo>
                      <a:lnTo>
                        <a:pt x="1385" y="1056"/>
                      </a:lnTo>
                      <a:lnTo>
                        <a:pt x="1338" y="1062"/>
                      </a:lnTo>
                      <a:lnTo>
                        <a:pt x="1265" y="1070"/>
                      </a:lnTo>
                      <a:lnTo>
                        <a:pt x="1222" y="1075"/>
                      </a:lnTo>
                      <a:lnTo>
                        <a:pt x="1174" y="1081"/>
                      </a:lnTo>
                      <a:lnTo>
                        <a:pt x="1072" y="1088"/>
                      </a:lnTo>
                      <a:lnTo>
                        <a:pt x="965" y="1095"/>
                      </a:lnTo>
                      <a:lnTo>
                        <a:pt x="856" y="1096"/>
                      </a:lnTo>
                      <a:lnTo>
                        <a:pt x="757" y="1092"/>
                      </a:lnTo>
                      <a:lnTo>
                        <a:pt x="664" y="1081"/>
                      </a:lnTo>
                      <a:lnTo>
                        <a:pt x="621" y="1071"/>
                      </a:lnTo>
                      <a:lnTo>
                        <a:pt x="578" y="1062"/>
                      </a:lnTo>
                      <a:lnTo>
                        <a:pt x="537" y="1052"/>
                      </a:lnTo>
                      <a:lnTo>
                        <a:pt x="499" y="1041"/>
                      </a:lnTo>
                      <a:lnTo>
                        <a:pt x="482" y="1036"/>
                      </a:lnTo>
                      <a:lnTo>
                        <a:pt x="464" y="1030"/>
                      </a:lnTo>
                      <a:lnTo>
                        <a:pt x="447" y="1024"/>
                      </a:lnTo>
                      <a:lnTo>
                        <a:pt x="431" y="1019"/>
                      </a:lnTo>
                      <a:lnTo>
                        <a:pt x="401" y="1007"/>
                      </a:lnTo>
                      <a:lnTo>
                        <a:pt x="375" y="997"/>
                      </a:lnTo>
                      <a:lnTo>
                        <a:pt x="351" y="988"/>
                      </a:lnTo>
                      <a:lnTo>
                        <a:pt x="332" y="980"/>
                      </a:lnTo>
                      <a:lnTo>
                        <a:pt x="316" y="972"/>
                      </a:lnTo>
                      <a:lnTo>
                        <a:pt x="304" y="967"/>
                      </a:lnTo>
                      <a:lnTo>
                        <a:pt x="295" y="962"/>
                      </a:lnTo>
                      <a:lnTo>
                        <a:pt x="291" y="942"/>
                      </a:lnTo>
                      <a:lnTo>
                        <a:pt x="280" y="890"/>
                      </a:lnTo>
                      <a:lnTo>
                        <a:pt x="272" y="852"/>
                      </a:lnTo>
                      <a:lnTo>
                        <a:pt x="263" y="810"/>
                      </a:lnTo>
                      <a:lnTo>
                        <a:pt x="244" y="714"/>
                      </a:lnTo>
                      <a:lnTo>
                        <a:pt x="235" y="663"/>
                      </a:lnTo>
                      <a:lnTo>
                        <a:pt x="226" y="611"/>
                      </a:lnTo>
                      <a:lnTo>
                        <a:pt x="209" y="508"/>
                      </a:lnTo>
                      <a:lnTo>
                        <a:pt x="193" y="337"/>
                      </a:lnTo>
                      <a:lnTo>
                        <a:pt x="200" y="277"/>
                      </a:lnTo>
                      <a:lnTo>
                        <a:pt x="206" y="252"/>
                      </a:lnTo>
                      <a:lnTo>
                        <a:pt x="215" y="229"/>
                      </a:lnTo>
                      <a:lnTo>
                        <a:pt x="227" y="208"/>
                      </a:lnTo>
                      <a:lnTo>
                        <a:pt x="240" y="190"/>
                      </a:lnTo>
                      <a:lnTo>
                        <a:pt x="256" y="173"/>
                      </a:lnTo>
                      <a:lnTo>
                        <a:pt x="272" y="158"/>
                      </a:lnTo>
                      <a:lnTo>
                        <a:pt x="280" y="152"/>
                      </a:lnTo>
                      <a:lnTo>
                        <a:pt x="289" y="145"/>
                      </a:lnTo>
                      <a:lnTo>
                        <a:pt x="298" y="140"/>
                      </a:lnTo>
                      <a:lnTo>
                        <a:pt x="306" y="135"/>
                      </a:lnTo>
                      <a:lnTo>
                        <a:pt x="324" y="125"/>
                      </a:lnTo>
                      <a:lnTo>
                        <a:pt x="344" y="118"/>
                      </a:lnTo>
                      <a:lnTo>
                        <a:pt x="362" y="111"/>
                      </a:lnTo>
                      <a:lnTo>
                        <a:pt x="380" y="106"/>
                      </a:lnTo>
                      <a:lnTo>
                        <a:pt x="414" y="98"/>
                      </a:lnTo>
                      <a:lnTo>
                        <a:pt x="482" y="93"/>
                      </a:lnTo>
                      <a:lnTo>
                        <a:pt x="611" y="89"/>
                      </a:lnTo>
                      <a:lnTo>
                        <a:pt x="964" y="84"/>
                      </a:lnTo>
                      <a:lnTo>
                        <a:pt x="1317" y="89"/>
                      </a:lnTo>
                      <a:lnTo>
                        <a:pt x="1444" y="97"/>
                      </a:lnTo>
                      <a:lnTo>
                        <a:pt x="1511" y="110"/>
                      </a:lnTo>
                      <a:lnTo>
                        <a:pt x="1560" y="154"/>
                      </a:lnTo>
                      <a:lnTo>
                        <a:pt x="1585" y="226"/>
                      </a:lnTo>
                      <a:lnTo>
                        <a:pt x="1593" y="320"/>
                      </a:lnTo>
                      <a:lnTo>
                        <a:pt x="1587" y="430"/>
                      </a:lnTo>
                      <a:lnTo>
                        <a:pt x="1576" y="501"/>
                      </a:lnTo>
                      <a:lnTo>
                        <a:pt x="1568" y="542"/>
                      </a:lnTo>
                      <a:lnTo>
                        <a:pt x="1559" y="587"/>
                      </a:lnTo>
                      <a:lnTo>
                        <a:pt x="1549" y="634"/>
                      </a:lnTo>
                      <a:lnTo>
                        <a:pt x="1536" y="683"/>
                      </a:lnTo>
                      <a:lnTo>
                        <a:pt x="1524" y="733"/>
                      </a:lnTo>
                      <a:lnTo>
                        <a:pt x="1511" y="780"/>
                      </a:lnTo>
                      <a:lnTo>
                        <a:pt x="1499" y="827"/>
                      </a:lnTo>
                      <a:lnTo>
                        <a:pt x="1487" y="870"/>
                      </a:lnTo>
                      <a:lnTo>
                        <a:pt x="1477" y="909"/>
                      </a:lnTo>
                      <a:lnTo>
                        <a:pt x="1466" y="943"/>
                      </a:lnTo>
                      <a:lnTo>
                        <a:pt x="1452" y="994"/>
                      </a:lnTo>
                      <a:lnTo>
                        <a:pt x="1447" y="1013"/>
                      </a:lnTo>
                      <a:lnTo>
                        <a:pt x="1515" y="922"/>
                      </a:lnTo>
                      <a:lnTo>
                        <a:pt x="1785" y="12"/>
                      </a:lnTo>
                      <a:lnTo>
                        <a:pt x="1666" y="170"/>
                      </a:lnTo>
                      <a:lnTo>
                        <a:pt x="1669" y="152"/>
                      </a:lnTo>
                      <a:lnTo>
                        <a:pt x="1665" y="132"/>
                      </a:lnTo>
                      <a:lnTo>
                        <a:pt x="1660" y="120"/>
                      </a:lnTo>
                      <a:lnTo>
                        <a:pt x="1652" y="107"/>
                      </a:lnTo>
                      <a:lnTo>
                        <a:pt x="1640" y="94"/>
                      </a:lnTo>
                      <a:lnTo>
                        <a:pt x="1623" y="81"/>
                      </a:lnTo>
                      <a:lnTo>
                        <a:pt x="1614" y="74"/>
                      </a:lnTo>
                      <a:lnTo>
                        <a:pt x="1602" y="69"/>
                      </a:lnTo>
                      <a:lnTo>
                        <a:pt x="1590" y="63"/>
                      </a:lnTo>
                      <a:lnTo>
                        <a:pt x="1576" y="56"/>
                      </a:lnTo>
                      <a:lnTo>
                        <a:pt x="1562" y="51"/>
                      </a:lnTo>
                      <a:lnTo>
                        <a:pt x="1545" y="44"/>
                      </a:lnTo>
                      <a:lnTo>
                        <a:pt x="1526" y="39"/>
                      </a:lnTo>
                      <a:lnTo>
                        <a:pt x="1505" y="35"/>
                      </a:lnTo>
                      <a:lnTo>
                        <a:pt x="1460" y="26"/>
                      </a:lnTo>
                      <a:lnTo>
                        <a:pt x="1407" y="20"/>
                      </a:lnTo>
                      <a:lnTo>
                        <a:pt x="1343" y="13"/>
                      </a:lnTo>
                      <a:lnTo>
                        <a:pt x="1271" y="9"/>
                      </a:lnTo>
                      <a:lnTo>
                        <a:pt x="1104" y="1"/>
                      </a:lnTo>
                      <a:lnTo>
                        <a:pt x="731" y="0"/>
                      </a:lnTo>
                      <a:lnTo>
                        <a:pt x="554" y="6"/>
                      </a:lnTo>
                      <a:lnTo>
                        <a:pt x="401" y="17"/>
                      </a:lnTo>
                      <a:lnTo>
                        <a:pt x="287" y="34"/>
                      </a:lnTo>
                      <a:lnTo>
                        <a:pt x="249" y="43"/>
                      </a:lnTo>
                      <a:lnTo>
                        <a:pt x="226" y="55"/>
                      </a:lnTo>
                      <a:lnTo>
                        <a:pt x="200" y="82"/>
                      </a:lnTo>
                      <a:lnTo>
                        <a:pt x="179" y="114"/>
                      </a:lnTo>
                      <a:lnTo>
                        <a:pt x="154" y="180"/>
                      </a:lnTo>
                      <a:lnTo>
                        <a:pt x="140" y="258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878800" y="2865600"/>
                  <a:ext cx="392760" cy="39960"/>
                </a:xfrm>
                <a:custGeom>
                  <a:avLst/>
                  <a:gdLst/>
                  <a:ahLst/>
                  <a:rect l="l" t="t" r="r" b="b"/>
                  <a:pathLst>
                    <a:path w="672" h="66">
                      <a:moveTo>
                        <a:pt x="0" y="12"/>
                      </a:moveTo>
                      <a:lnTo>
                        <a:pt x="672" y="0"/>
                      </a:lnTo>
                      <a:lnTo>
                        <a:pt x="636" y="66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73320" y="3712680"/>
                  <a:ext cx="67680" cy="72720"/>
                </a:xfrm>
                <a:custGeom>
                  <a:avLst/>
                  <a:gdLst/>
                  <a:ahLst/>
                  <a:rect l="l" t="t" r="r" b="b"/>
                  <a:pathLst>
                    <a:path w="115" h="115">
                      <a:moveTo>
                        <a:pt x="10" y="16"/>
                      </a:moveTo>
                      <a:lnTo>
                        <a:pt x="26" y="9"/>
                      </a:lnTo>
                      <a:lnTo>
                        <a:pt x="43" y="4"/>
                      </a:lnTo>
                      <a:lnTo>
                        <a:pt x="61" y="0"/>
                      </a:lnTo>
                      <a:lnTo>
                        <a:pt x="97" y="4"/>
                      </a:lnTo>
                      <a:lnTo>
                        <a:pt x="110" y="13"/>
                      </a:lnTo>
                      <a:lnTo>
                        <a:pt x="115" y="33"/>
                      </a:lnTo>
                      <a:lnTo>
                        <a:pt x="114" y="54"/>
                      </a:lnTo>
                      <a:lnTo>
                        <a:pt x="107" y="73"/>
                      </a:lnTo>
                      <a:lnTo>
                        <a:pt x="97" y="89"/>
                      </a:lnTo>
                      <a:lnTo>
                        <a:pt x="82" y="101"/>
                      </a:lnTo>
                      <a:lnTo>
                        <a:pt x="76" y="106"/>
                      </a:lnTo>
                      <a:lnTo>
                        <a:pt x="68" y="110"/>
                      </a:lnTo>
                      <a:lnTo>
                        <a:pt x="52" y="115"/>
                      </a:lnTo>
                      <a:lnTo>
                        <a:pt x="25" y="113"/>
                      </a:lnTo>
                      <a:lnTo>
                        <a:pt x="8" y="100"/>
                      </a:lnTo>
                      <a:lnTo>
                        <a:pt x="1" y="83"/>
                      </a:lnTo>
                      <a:lnTo>
                        <a:pt x="0" y="64"/>
                      </a:lnTo>
                      <a:lnTo>
                        <a:pt x="46" y="64"/>
                      </a:lnTo>
                      <a:lnTo>
                        <a:pt x="63" y="29"/>
                      </a:lnTo>
                      <a:lnTo>
                        <a:pt x="10" y="16"/>
                      </a:lnTo>
                      <a:lnTo>
                        <a:pt x="1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876280" y="3701520"/>
                  <a:ext cx="66600" cy="71280"/>
                </a:xfrm>
                <a:custGeom>
                  <a:avLst/>
                  <a:gdLst/>
                  <a:ahLst/>
                  <a:rect l="l" t="t" r="r" b="b"/>
                  <a:pathLst>
                    <a:path w="113" h="114">
                      <a:moveTo>
                        <a:pt x="10" y="14"/>
                      </a:moveTo>
                      <a:lnTo>
                        <a:pt x="26" y="8"/>
                      </a:lnTo>
                      <a:lnTo>
                        <a:pt x="41" y="2"/>
                      </a:lnTo>
                      <a:lnTo>
                        <a:pt x="61" y="0"/>
                      </a:lnTo>
                      <a:lnTo>
                        <a:pt x="96" y="2"/>
                      </a:lnTo>
                      <a:lnTo>
                        <a:pt x="108" y="13"/>
                      </a:lnTo>
                      <a:lnTo>
                        <a:pt x="113" y="31"/>
                      </a:lnTo>
                      <a:lnTo>
                        <a:pt x="112" y="54"/>
                      </a:lnTo>
                      <a:lnTo>
                        <a:pt x="106" y="72"/>
                      </a:lnTo>
                      <a:lnTo>
                        <a:pt x="95" y="88"/>
                      </a:lnTo>
                      <a:lnTo>
                        <a:pt x="82" y="101"/>
                      </a:lnTo>
                      <a:lnTo>
                        <a:pt x="74" y="105"/>
                      </a:lnTo>
                      <a:lnTo>
                        <a:pt x="66" y="108"/>
                      </a:lnTo>
                      <a:lnTo>
                        <a:pt x="51" y="114"/>
                      </a:lnTo>
                      <a:lnTo>
                        <a:pt x="23" y="111"/>
                      </a:lnTo>
                      <a:lnTo>
                        <a:pt x="6" y="98"/>
                      </a:lnTo>
                      <a:lnTo>
                        <a:pt x="0" y="82"/>
                      </a:lnTo>
                      <a:lnTo>
                        <a:pt x="0" y="63"/>
                      </a:lnTo>
                      <a:lnTo>
                        <a:pt x="44" y="63"/>
                      </a:lnTo>
                      <a:lnTo>
                        <a:pt x="61" y="29"/>
                      </a:lnTo>
                      <a:lnTo>
                        <a:pt x="10" y="14"/>
                      </a:lnTo>
                      <a:lnTo>
                        <a:pt x="1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979240" y="3688920"/>
                  <a:ext cx="67680" cy="71280"/>
                </a:xfrm>
                <a:custGeom>
                  <a:avLst/>
                  <a:gdLst/>
                  <a:ahLst/>
                  <a:rect l="l" t="t" r="r" b="b"/>
                  <a:pathLst>
                    <a:path w="115" h="114">
                      <a:moveTo>
                        <a:pt x="10" y="15"/>
                      </a:moveTo>
                      <a:lnTo>
                        <a:pt x="26" y="8"/>
                      </a:lnTo>
                      <a:lnTo>
                        <a:pt x="42" y="4"/>
                      </a:lnTo>
                      <a:lnTo>
                        <a:pt x="60" y="0"/>
                      </a:lnTo>
                      <a:lnTo>
                        <a:pt x="97" y="3"/>
                      </a:lnTo>
                      <a:lnTo>
                        <a:pt x="108" y="13"/>
                      </a:lnTo>
                      <a:lnTo>
                        <a:pt x="115" y="32"/>
                      </a:lnTo>
                      <a:lnTo>
                        <a:pt x="112" y="54"/>
                      </a:lnTo>
                      <a:lnTo>
                        <a:pt x="106" y="74"/>
                      </a:lnTo>
                      <a:lnTo>
                        <a:pt x="95" y="89"/>
                      </a:lnTo>
                      <a:lnTo>
                        <a:pt x="82" y="101"/>
                      </a:lnTo>
                      <a:lnTo>
                        <a:pt x="74" y="106"/>
                      </a:lnTo>
                      <a:lnTo>
                        <a:pt x="67" y="110"/>
                      </a:lnTo>
                      <a:lnTo>
                        <a:pt x="52" y="114"/>
                      </a:lnTo>
                      <a:lnTo>
                        <a:pt x="23" y="113"/>
                      </a:lnTo>
                      <a:lnTo>
                        <a:pt x="6" y="98"/>
                      </a:lnTo>
                      <a:lnTo>
                        <a:pt x="0" y="83"/>
                      </a:lnTo>
                      <a:lnTo>
                        <a:pt x="0" y="64"/>
                      </a:lnTo>
                      <a:lnTo>
                        <a:pt x="44" y="64"/>
                      </a:lnTo>
                      <a:lnTo>
                        <a:pt x="63" y="29"/>
                      </a:lnTo>
                      <a:lnTo>
                        <a:pt x="10" y="15"/>
                      </a:lnTo>
                      <a:lnTo>
                        <a:pt x="1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6858000" y="1523880"/>
            <a:ext cx="1122480" cy="8938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rot="159600">
            <a:off x="1980720" y="1523520"/>
            <a:ext cx="5105520" cy="3035520"/>
          </a:xfrm>
          <a:custGeom>
            <a:avLst/>
            <a:gdLst/>
            <a:ahLst/>
            <a:rect l="l" t="t" r="r" b="b"/>
            <a:pathLst>
              <a:path w="3216" h="1912">
                <a:moveTo>
                  <a:pt x="0" y="1872"/>
                </a:moveTo>
                <a:cubicBezTo>
                  <a:pt x="288" y="1892"/>
                  <a:pt x="576" y="1912"/>
                  <a:pt x="864" y="1872"/>
                </a:cubicBezTo>
                <a:cubicBezTo>
                  <a:pt x="1152" y="1832"/>
                  <a:pt x="1416" y="1800"/>
                  <a:pt x="1728" y="1632"/>
                </a:cubicBezTo>
                <a:cubicBezTo>
                  <a:pt x="2040" y="1464"/>
                  <a:pt x="2488" y="1136"/>
                  <a:pt x="2736" y="864"/>
                </a:cubicBezTo>
                <a:cubicBezTo>
                  <a:pt x="2984" y="592"/>
                  <a:pt x="3100" y="296"/>
                  <a:pt x="3216" y="0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01520" y="483696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600" y="190512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162920" y="2286000"/>
            <a:ext cx="1296720" cy="1828800"/>
            <a:chOff x="7162920" y="2286000"/>
            <a:chExt cx="1296720" cy="1828800"/>
          </a:xfrm>
        </p:grpSpPr>
        <p:pic>
          <p:nvPicPr>
            <p:cNvPr id="249" name="" descr=""/>
            <p:cNvPicPr/>
            <p:nvPr/>
          </p:nvPicPr>
          <p:blipFill>
            <a:blip r:embed="rId6"/>
            <a:stretch/>
          </p:blipFill>
          <p:spPr>
            <a:xfrm>
              <a:off x="7162920" y="2286000"/>
              <a:ext cx="12967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319520" y="2590920"/>
              <a:ext cx="973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Interne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Greates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imp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684360" y="446040"/>
            <a:ext cx="7797600" cy="1015920"/>
            <a:chOff x="684360" y="446040"/>
            <a:chExt cx="7797600" cy="1015920"/>
          </a:xfrm>
        </p:grpSpPr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684360" y="446040"/>
              <a:ext cx="779760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77960" y="655560"/>
              <a:ext cx="74358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66"/>
                  </a:solidFill>
                  <a:latin typeface="Times New Roman"/>
                </a:rPr>
                <a:t>E-learning: Blended mo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2451240" cy="2439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105520" y="1676520"/>
            <a:ext cx="2911320" cy="24541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3520" y="43430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lk-and-board has lo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uled the classroo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will not be eliminat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Less emphasi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4267080"/>
            <a:ext cx="3886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active Digital Cont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more emph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on demand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inter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RENCE</cp:lastModifiedBy>
  <cp:lastPrinted>2003-02-24T01:42:29Z</cp:lastPrinted>
  <dcterms:modified xsi:type="dcterms:W3CDTF">2004-01-26T14:18:05Z</dcterms:modified>
  <cp:revision>75</cp:revision>
  <dc:subject/>
  <dc:title>PowerPoint Presentation</dc:title>
</cp:coreProperties>
</file>