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3A6-5994-47F2-BE28-F2A5F864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2F1-CEF1-462E-9BF6-72C3C1A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61C-38BB-4144-B3DD-3F0B3F78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81D-A28D-413D-9406-5DC26454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DA8-32F5-4920-A582-24A17F9A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9DB3-D8B5-4434-AF4A-AAB13A1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2148-2DBF-44C6-801A-75E9EC91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EC85-3E28-4B65-86C1-045CD6D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5F27-CFCE-46EB-B6A9-B0846FFB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1E6A-0851-43A0-B647-70573FBA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7F8-1534-4DA4-B9D9-9EA5FD2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C75-1042-40CF-ACCA-263D7BD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6EDC-8924-4564-AE45-BE42234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AA68-FC4D-40AA-9351-B4D99E2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3232-7F1B-4D27-8863-3EF5AE83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8D4-96B0-4EDF-AC4A-ED87EB85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0671-2FAB-4BD0-A725-1B783DF0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820-0C7E-4AD0-B017-FF392329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1D0-B63E-4A30-B9BF-9EF7166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574-2EDF-45A7-A8EE-4B1D4D2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156-52B9-4A68-9D9D-B659DE1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5B9-7523-4CB1-9487-7EF609E1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529-13E7-47D5-A1F0-22DC6B4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472-4079-4D89-81FA-0F7283C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440" y="3286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23760" y="32868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5280" y="7509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35000" y="7509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77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5960" y="2206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6640" y="1011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E51-A3EF-4184-96A4-24EA1702DD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546-8970-47D1-BE9B-E2BA987C3A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88960" y="1828800"/>
            <a:ext cx="629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2560" y="4952880"/>
            <a:ext cx="38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. Florina G. Don-Sa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52960" y="27288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3160" y="152388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mplementing Rules an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58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ity of the IRR of EO 366 –               4 Octo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960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e a Change Management Team with a union or rank and file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97360" y="25236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35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oposed Organizational Structure of DIS – Library Service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4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 Mandates/Key Results Areas/ Function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2309760"/>
            <a:ext cx="7467480" cy="2712240"/>
            <a:chOff x="304920" y="2309760"/>
            <a:chExt cx="7467480" cy="2712240"/>
          </a:xfrm>
        </p:grpSpPr>
        <p:sp>
          <p:nvSpPr>
            <p:cNvPr id="149" name=""/>
            <p:cNvSpPr/>
            <p:nvPr/>
          </p:nvSpPr>
          <p:spPr>
            <a:xfrm>
              <a:off x="304920" y="2386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00000" y="2309760"/>
              <a:ext cx="15584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8720" y="2946600"/>
              <a:ext cx="1590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1400" y="4013280"/>
              <a:ext cx="172584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ublic Relations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4013280"/>
              <a:ext cx="18288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ultimedia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4013280"/>
              <a:ext cx="198108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Knowledge Resource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440" y="2718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440" y="332748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784680"/>
              <a:ext cx="5105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4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20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440" y="3556080"/>
              <a:ext cx="1143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7280" y="3327480"/>
              <a:ext cx="20462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pport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9072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63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Justification for the Proposed Knowledge Resource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346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intains the NEDA Knowledg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s not just the ordinary librar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26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ablishes a network of libraries and information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engthens coordinative work with the NEDA Region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784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vely pursues its digitiz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kes charge of distribution program of NEDA publications and informatio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00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s on knowledg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14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sessment of Knowledge Resource Divi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ysfunctions, gaps and problems of its presen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682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ents/beneficiaries of outputs/service, e.g. Internal/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368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asures by which Office/Staff can create added value for its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054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re functions presently performed and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740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ggested ways to improve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512136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levance of the NEDA Knowledge Center in th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ions and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petency Job 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78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lifications (CSC QS and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489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b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75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ti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861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enc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546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ication of interventions:  training needs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676520"/>
          <a:ext cx="8610480" cy="478764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ss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wede na”, “Good enough”, “Bole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ntum leaps in pro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ic incrementa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quo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est value added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est cost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knowledge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non-thinking fol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not my jo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ching and lead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recting and controll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676520"/>
          <a:ext cx="8610480" cy="46893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n (3-4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archial (5-15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 business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eaucratic congiome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 directed work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job de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ss functional/enrich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/simplify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ve training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ring lectures or no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 information – IT lin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ileged information – grapevine n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engineering of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cy of presen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er-linked to customers and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auto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st-in-time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p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1523880"/>
          <a:ext cx="8610480" cy="52527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DIG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ow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 and vision 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ation and disconnecte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u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r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st – welcome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ar – resistant t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e best 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t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s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gen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ed human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stomer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ion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chial – 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ence-base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is externally im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4724280"/>
            <a:ext cx="1143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sponsibility 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962520" y="2614680"/>
            <a:ext cx="188640" cy="18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51160" y="2614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2840" y="2425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1840" y="2425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43520" y="2236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32520" y="2236680"/>
            <a:ext cx="30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3520" y="1859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2840" y="2048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33840" y="2048040"/>
            <a:ext cx="189000" cy="188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925960" y="1858680"/>
            <a:ext cx="18756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25160" y="263520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81360" y="24382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el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240" y="22543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wn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0280" y="2057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lv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3960" y="18730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hiev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16640" y="1519200"/>
            <a:ext cx="26352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838080"/>
            <a:ext cx="1904760" cy="83844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eleb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bove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Below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35812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3657600"/>
            <a:ext cx="1447560" cy="99072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4114800"/>
            <a:ext cx="1523880" cy="914400"/>
          </a:xfrm>
          <a:custGeom>
            <a:avLst/>
            <a:gdLst>
              <a:gd name="textAreaLeft" fmla="*/ 347760 w 1523880"/>
              <a:gd name="textAreaRight" fmla="*/ 1176120 w 15238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4038480"/>
            <a:ext cx="1752840" cy="9144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334120"/>
            <a:ext cx="1524240" cy="9144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867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867280"/>
            <a:ext cx="1676160" cy="914400"/>
          </a:xfrm>
          <a:custGeom>
            <a:avLst/>
            <a:gdLst>
              <a:gd name="textAreaLeft" fmla="*/ 382680 w 1676160"/>
              <a:gd name="textAreaRight" fmla="*/ 1293480 w 16761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09040" y="390204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Bl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8480" y="4222800"/>
            <a:ext cx="134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time/ I’m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559440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t’s Not My 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8280" y="597528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gnore/ De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6051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money/ No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6040" y="5578560"/>
            <a:ext cx="11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Wait &amp; S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4054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ver My Tail/Protect My Tu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3705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nfusion/ Tell Me What To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05520" y="4863960"/>
            <a:ext cx="582480" cy="77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947520" cy="990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46483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ian” Victim Cycle (DV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596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BE THE CHANGE YOU WANT TO SEE HAPPEN, INSTEAD OF TRYING TO CHANGE EVERYONE 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6520" y="42670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56560" y="3049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2080" y="1638360"/>
            <a:ext cx="56304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K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anc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DA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erforming vs. Tra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ibility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14480"/>
            <a:ext cx="7788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idges, Willi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.  Managing trans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making the most of change.  Reading Massachusetts: Addison-Wesley Publishing Company, Inc.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gan, Gerard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Change-agent skills B;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innovation and change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 /Diego, California: University ASSOCIATES, Inc.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ve Learning International (Phils.), Inc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uilding high perform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arning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Quezon City: n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agement of change in Scientific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Los Banos:  Southeast Asian Regional Center for Graduate Studies and Research in Agriculture and the Research Management Center of the College of Economics and Management, UPLB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posed Rationalization Plan of the National Economic and Development Author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Pasig City: [2005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set of processes that is employed to ensure that  significant changes  are implemented in an orderly, controlled and systematic fashion to effect 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7772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 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responsible for conducting a strategic review of its respective operations and organization to identify functions, programs and project which can be scaled down, phased out or abolished, or those which need to be strength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7724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velopment Information Sta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sked to develop an effective NEDA communication and advocacy program; produce and implement a client-oriented publications distribution program; coordinate an effective media relations program and maintain the NEDA Knowledg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3290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ional Economic and Development Autho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ountry’s highest socioeconomic development planning and policy-making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539720"/>
            <a:ext cx="7772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ationalization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move to transform the Executive Branch into a more effective and efficient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78144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si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n expected reaction of any organization to some changes especially if the change introduced from the outside.  This reaction can be pre-empted if we know the casual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0440" y="41112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THE ADK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371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276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5334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i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32880" y="30492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CHANGE MANAGEMENT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pons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3276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267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33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pport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64920" y="34920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RESISTANCE TO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1430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ack of info about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6765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otect vested interest and for conven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105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osing group affil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743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no particip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ime is too sh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962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oo compl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525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reminded of past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7150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eel inadequate with the requirements of 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360" y="114300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Rationalization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tegic shift in its mandate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711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ational structure – recommends the creation of a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D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581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O structure – concentrates on reorienting decision-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 staffing pattern – vacant funded positions and filled up positions be used as basis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683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ulation of Implementation Plan/ Mitigation Plan/Communic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59:59Z</dcterms:created>
  <dc:creator>mtmaputi</dc:creator>
  <dc:description/>
  <dc:language>en-US</dc:language>
  <cp:lastModifiedBy>User</cp:lastModifiedBy>
  <dcterms:modified xsi:type="dcterms:W3CDTF">2008-11-13T12:56:14Z</dcterms:modified>
  <cp:revision>15</cp:revision>
  <dc:subject/>
  <dc:title>PowerPoint Presentation</dc:title>
</cp:coreProperties>
</file>