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869238" cy="10393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A4CAE-9B34-46D7-94EE-0BC0E3133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FCED-4021-4EAE-8D50-AB934239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5D47E-621B-49B7-8F7B-4888BCE77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63190-C760-4C0D-A1D9-26BE8F8E6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4B2F5-8282-4674-A1DA-93E30BE9E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2EE28-3A08-4FE9-A3CF-DBACAC9B0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74255-4BDD-429C-B09D-F294BA401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170A7-4848-4A49-A6DD-97AC18454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DD42C-CD10-4BA4-8291-A918E344D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30AD6-7C63-4808-8864-6197900EA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26DE6-5D3B-4274-B718-E4C60C0D1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E6D1C-0576-441C-AA8F-C2335C81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3882B-0B9C-4F71-A47F-EED888036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8A5F9-539B-48D8-8A5E-25AF89742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A439F-7B82-47AE-8560-65F2DCB19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FF88E-1E9F-4B52-B09B-D974E3C44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1326F-6FA5-4F9A-BED6-6E88B664E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022A-F2E2-4AE5-9CCB-5BF48C1C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31C0-D8A3-48B7-B858-070C3D048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45BD3-B545-44A9-B71B-A7963CA8B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7EAF-5BF1-4C11-BB35-3C57AA51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49B0-D1C9-4316-9FD9-BB655620C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5BA6-0FD2-4271-83EF-E2BDADB0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8EC5-E9D2-4C2D-B005-ECB81F4F8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7920"/>
            <a:ext cx="17543160" cy="13690440"/>
            <a:chOff x="-8410320" y="792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A184-053D-4BE3-9661-B822E34A86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ff"/>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87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50080" y="1471680"/>
            <a:ext cx="16894080" cy="10794600"/>
            <a:chOff x="-7750080" y="1471680"/>
            <a:chExt cx="1689408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50080" y="1471680"/>
              <a:ext cx="13452120" cy="10794600"/>
            </a:xfrm>
            <a:custGeom>
              <a:avLst/>
              <a:gdLst/>
              <a:ahLst/>
              <a:rect l="l" t="t" r="r" b="b"/>
              <a:pathLst>
                <a:path stroke="0" w="21600" h="21600">
                  <a:moveTo>
                    <a:pt x="12788" y="185"/>
                  </a:moveTo>
                  <a:arcTo wR="10800" hR="10800" stAng="-4763526" swAng="4763526"/>
                  <a:lnTo>
                    <a:pt x="10800" y="10800"/>
                  </a:lnTo>
                  <a:close/>
                </a:path>
                <a:path fill="none" w="21600" h="21600">
                  <a:moveTo>
                    <a:pt x="12788" y="185"/>
                  </a:moveTo>
                  <a:arcTo wR="10800" hR="10800" stAng="-4763526" swAng="4763526"/>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BC9B-D407-463B-B874-C255FB8D23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56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2640" y="1978200"/>
            <a:ext cx="7731000" cy="79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Organizational Change</a:t>
            </a:r>
            <a:br>
              <a:rPr sz="4800"/>
            </a:br>
            <a:r>
              <a:rPr b="1" lang="en-US" sz="3600" spc="-1" strike="noStrike">
                <a:solidFill>
                  <a:srgbClr val="ffcc66"/>
                </a:solidFill>
                <a:latin typeface="Arial"/>
              </a:rPr>
              <a:t>Dr. Gary J. Evans, PMP</a:t>
            </a:r>
            <a:endParaRPr b="0" lang="en-US" sz="3600" spc="-1" strike="noStrike">
              <a:solidFill>
                <a:srgbClr val="ffcc66"/>
              </a:solidFill>
              <a:latin typeface="Arial"/>
            </a:endParaRPr>
          </a:p>
        </p:txBody>
      </p:sp>
      <p:sp>
        <p:nvSpPr>
          <p:cNvPr id="89" name=""/>
          <p:cNvSpPr/>
          <p:nvPr/>
        </p:nvSpPr>
        <p:spPr>
          <a:xfrm>
            <a:off x="5316480" y="3684600"/>
            <a:ext cx="2760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VR/IT Consulting</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0960"/>
            <a:ext cx="7772400" cy="82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7" name="PlaceHolder 2"/>
          <p:cNvSpPr>
            <a:spLocks noGrp="1"/>
          </p:cNvSpPr>
          <p:nvPr>
            <p:ph/>
          </p:nvPr>
        </p:nvSpPr>
        <p:spPr>
          <a:xfrm>
            <a:off x="685800" y="1125000"/>
            <a:ext cx="7772400" cy="4970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rovokes Organizational Change?  Examples:</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ment adopts a strategy to accomplish some overall go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provoked by some major outside driving force, e.g., substantial cuts in fund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rganization may wish to evolve to a different level in their life cycle, e.g. from traditional government to e-governmen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to a new chief executive can provoke organization-wide change when his or her new and unique personality pervades the entire organ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9360"/>
            <a:ext cx="7772400" cy="108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9" name="PlaceHolder 2"/>
          <p:cNvSpPr>
            <a:spLocks noGrp="1"/>
          </p:cNvSpPr>
          <p:nvPr>
            <p:ph/>
          </p:nvPr>
        </p:nvSpPr>
        <p:spPr>
          <a:xfrm>
            <a:off x="685800" y="1456920"/>
            <a:ext cx="7772400" cy="46386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a moment to think of an example of organizational change that you have experienced.</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it successful?  Did it go smooth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ere your feelings early on?  Later?</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id the people around you say about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9240"/>
            <a:ext cx="7772400" cy="103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1" name="PlaceHolder 2"/>
          <p:cNvSpPr>
            <a:spLocks noGrp="1"/>
          </p:cNvSpPr>
          <p:nvPr>
            <p:ph/>
          </p:nvPr>
        </p:nvSpPr>
        <p:spPr>
          <a:xfrm>
            <a:off x="685800" y="1389240"/>
            <a:ext cx="7772400" cy="47066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Organization-wide Change difficult to accomplish?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s go through four stages on the way to achieving their strategic objectiv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ial</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ation</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ewa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36160"/>
            <a:ext cx="7772400" cy="95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3"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rganization works its way through these stages, there can be a negative impact on Productivity.  This is referred to as the Productivity Dip and is portrayed on the next sli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rganizational Change Management</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1"/>
          <a:stretch/>
        </p:blipFill>
        <p:spPr>
          <a:xfrm>
            <a:off x="0" y="0"/>
            <a:ext cx="9232920" cy="6451560"/>
          </a:xfrm>
          <a:prstGeom prst="rect">
            <a:avLst/>
          </a:prstGeom>
          <a:ln w="0">
            <a:noFill/>
          </a:ln>
        </p:spPr>
      </p:pic>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95120"/>
            <a:ext cx="777240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8" name="PlaceHolder 2"/>
          <p:cNvSpPr>
            <a:spLocks noGrp="1"/>
          </p:cNvSpPr>
          <p:nvPr>
            <p:ph/>
          </p:nvPr>
        </p:nvSpPr>
        <p:spPr>
          <a:xfrm>
            <a:off x="685800" y="1176120"/>
            <a:ext cx="7772400" cy="4919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izing the size and duration of this Productivity Dip is dependent upon quickly creating acceptance to the strategic plan and all that it entails.</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gaining that acceptance is often a difficult process, as some employees will, for various reasons, seek to block the chan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332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0" name="PlaceHolder 2"/>
          <p:cNvSpPr>
            <a:spLocks noGrp="1"/>
          </p:cNvSpPr>
          <p:nvPr>
            <p:ph/>
          </p:nvPr>
        </p:nvSpPr>
        <p:spPr>
          <a:xfrm>
            <a:off x="685800" y="1193400"/>
            <a:ext cx="7772400" cy="49021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orts by employees to block the intended change is referred to as Resistance to Chang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to Change has been defined as:</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ehavior which is intended to protect an individual from the effects of real or imagined change"  - Alvin Sander, 1950</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ny conduct that serves to maintain the status quo in the face of pressure to alter the status quo“ – Zaltman and Duncan, 1974</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304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2"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a natural and inevitable reaction in an organization.  You can expect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sometimes hidden, so it may be necessary to take active steps to fi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reasons for resistance; it is important to understa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manage resistance by working with people, and helping them deal with their concer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ways to build acceptance.  It is important to be flexible.  But persi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61720"/>
            <a:ext cx="7772400" cy="87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4"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y to successful management of organizational change lies in the peopl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the agents for successful transformation of the organization.  </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determine the Return on Investment from this proces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let’s have a look at where Resistance to Change comes from and how to best manage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6" name="PlaceHolder 2"/>
          <p:cNvSpPr>
            <a:spLocks noGrp="1"/>
          </p:cNvSpPr>
          <p:nvPr>
            <p:ph/>
          </p:nvPr>
        </p:nvSpPr>
        <p:spPr>
          <a:xfrm>
            <a:off x="685800" y="1261800"/>
            <a:ext cx="7772400" cy="48337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istance to change can be a </a:t>
            </a:r>
            <a:r>
              <a:rPr b="1" lang="en-US" sz="2000" spc="-1" strike="noStrike">
                <a:solidFill>
                  <a:srgbClr val="ffffff"/>
                </a:solidFill>
                <a:latin typeface="Times New Roman"/>
              </a:rPr>
              <a:t>defense mechanism</a:t>
            </a:r>
            <a:r>
              <a:rPr b="0" lang="en-US" sz="2000" spc="-1" strike="noStrike">
                <a:solidFill>
                  <a:srgbClr val="ffffff"/>
                </a:solidFill>
                <a:latin typeface="Times New Roman"/>
              </a:rPr>
              <a:t> caused by frustration and anxiety </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viduals may not be resisting the change as much as they are </a:t>
            </a:r>
            <a:r>
              <a:rPr b="1" lang="en-US" sz="2000" spc="-1" strike="noStrike">
                <a:solidFill>
                  <a:srgbClr val="ffffff"/>
                </a:solidFill>
                <a:latin typeface="Times New Roman"/>
              </a:rPr>
              <a:t>resisting a potential loss</a:t>
            </a:r>
            <a:r>
              <a:rPr b="0" lang="en-US" sz="2000" spc="-1" strike="noStrike">
                <a:solidFill>
                  <a:srgbClr val="ffffff"/>
                </a:solidFill>
                <a:latin typeface="Times New Roman"/>
              </a:rPr>
              <a:t> of status, pay, comfort, or power that arises from expertis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 there is not a disagreement with the benefits of the new process, but rather a </a:t>
            </a:r>
            <a:r>
              <a:rPr b="1" lang="en-US" sz="2000" spc="-1" strike="noStrike">
                <a:solidFill>
                  <a:srgbClr val="ffffff"/>
                </a:solidFill>
                <a:latin typeface="Times New Roman"/>
              </a:rPr>
              <a:t>fear of the unknown future</a:t>
            </a:r>
            <a:r>
              <a:rPr b="0" lang="en-US" sz="2000" spc="-1" strike="noStrike">
                <a:solidFill>
                  <a:srgbClr val="ffffff"/>
                </a:solidFill>
                <a:latin typeface="Times New Roman"/>
              </a:rPr>
              <a:t> and about their ability to adapt to it, e.g. fear that one will not be able to develop new skills and behaviors that are required in a new work sett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3240"/>
            <a:ext cx="7772400" cy="1058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esentation Outline</a:t>
            </a:r>
            <a:endParaRPr b="0" lang="en-US" sz="3200" spc="-1" strike="noStrike">
              <a:solidFill>
                <a:srgbClr val="ffcc66"/>
              </a:solidFill>
              <a:latin typeface="Arial"/>
            </a:endParaRPr>
          </a:p>
        </p:txBody>
      </p:sp>
      <p:sp>
        <p:nvSpPr>
          <p:cNvPr id="91" name="PlaceHolder 2"/>
          <p:cNvSpPr>
            <a:spLocks noGrp="1"/>
          </p:cNvSpPr>
          <p:nvPr>
            <p:ph/>
          </p:nvPr>
        </p:nvSpPr>
        <p:spPr>
          <a:xfrm>
            <a:off x="685800" y="1617480"/>
            <a:ext cx="7772400" cy="44780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Organizational Chang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re to mana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ging Organizational 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5400"/>
            <a:ext cx="77724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8"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may be</a:t>
            </a:r>
            <a:r>
              <a:rPr b="1" lang="en-US" sz="2000" spc="-1" strike="noStrike">
                <a:solidFill>
                  <a:srgbClr val="ffffff"/>
                </a:solidFill>
                <a:latin typeface="Times New Roman"/>
              </a:rPr>
              <a:t> resentment</a:t>
            </a:r>
            <a:r>
              <a:rPr b="0" lang="en-US" sz="2000" spc="-1" strike="noStrike">
                <a:solidFill>
                  <a:srgbClr val="ffffff"/>
                </a:solidFill>
                <a:latin typeface="Times New Roman"/>
              </a:rPr>
              <a:t> in disgruntled employees due to a  perceived unfairness of the change.  This can be strong enough to lead to sabotag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employees may see the change as a </a:t>
            </a:r>
            <a:r>
              <a:rPr b="1" lang="en-US" sz="2000" spc="-1" strike="noStrike">
                <a:solidFill>
                  <a:srgbClr val="ffffff"/>
                </a:solidFill>
                <a:latin typeface="Times New Roman"/>
              </a:rPr>
              <a:t>violation of "personal compacts"</a:t>
            </a:r>
            <a:r>
              <a:rPr b="0" lang="en-US" sz="2000" spc="-1" strike="noStrike">
                <a:solidFill>
                  <a:srgbClr val="ffffff"/>
                </a:solidFill>
                <a:latin typeface="Times New Roman"/>
              </a:rPr>
              <a:t> management has with their employees.  This can involve elements of mutual trust, loyalty and commitment and go very deep</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have a “</a:t>
            </a:r>
            <a:r>
              <a:rPr b="1" lang="en-US" sz="2000" spc="-1" strike="noStrike">
                <a:solidFill>
                  <a:srgbClr val="ffffff"/>
                </a:solidFill>
                <a:latin typeface="Times New Roman"/>
              </a:rPr>
              <a:t>competing commitment</a:t>
            </a:r>
            <a:r>
              <a:rPr b="0" lang="en-US" sz="2000" spc="-1" strike="noStrike">
                <a:solidFill>
                  <a:srgbClr val="ffffff"/>
                </a:solidFill>
                <a:latin typeface="Times New Roman"/>
              </a:rPr>
              <a:t>” that is incompatible with the desired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92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be operating on the basis of a </a:t>
            </a:r>
            <a:r>
              <a:rPr b="1" lang="en-US" sz="2000" spc="-1" strike="noStrike">
                <a:solidFill>
                  <a:srgbClr val="ffffff"/>
                </a:solidFill>
                <a:latin typeface="Times New Roman"/>
              </a:rPr>
              <a:t>desire to protect what they feel is the best interests of the organization</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provoke insightful and well-intended debate, criticism, or disagreement in order to </a:t>
            </a:r>
            <a:r>
              <a:rPr b="1" lang="en-US" sz="2000" spc="-1" strike="noStrike">
                <a:solidFill>
                  <a:srgbClr val="ffffff"/>
                </a:solidFill>
                <a:latin typeface="Times New Roman"/>
              </a:rPr>
              <a:t>produce better understanding</a:t>
            </a:r>
            <a:r>
              <a:rPr b="0" lang="en-US" sz="2000" spc="-1" strike="noStrike">
                <a:solidFill>
                  <a:srgbClr val="ffffff"/>
                </a:solidFill>
                <a:latin typeface="Times New Roman"/>
              </a:rPr>
              <a:t> as well as additional options and solu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2680"/>
            <a:ext cx="7772400" cy="87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2" name="PlaceHolder 2"/>
          <p:cNvSpPr>
            <a:spLocks noGrp="1"/>
          </p:cNvSpPr>
          <p:nvPr>
            <p:ph/>
          </p:nvPr>
        </p:nvSpPr>
        <p:spPr>
          <a:xfrm>
            <a:off x="685800" y="1211400"/>
            <a:ext cx="7772400" cy="48844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ke-home message from all this is that there is no simple explanation for Resistance to Change, and therefore no simple way to circumvent it.</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ed, there are instances where an employees “resistance”, although not in the plan, could result in beneficial consequ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0304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4" name="PlaceHolder 2"/>
          <p:cNvSpPr>
            <a:spLocks noGrp="1"/>
          </p:cNvSpPr>
          <p:nvPr>
            <p:ph/>
          </p:nvPr>
        </p:nvSpPr>
        <p:spPr>
          <a:xfrm>
            <a:off x="685800" y="1253880"/>
            <a:ext cx="7772400" cy="48416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prevalent is Resistance to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acknowledged that in an average organization, when the intention for change is announced:</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eager to accep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dead set agains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0% is sitting on the fence, waiting to see what happe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02680"/>
            <a:ext cx="7772400" cy="924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6" name="PlaceHolder 2"/>
          <p:cNvSpPr>
            <a:spLocks noGrp="1"/>
          </p:cNvSpPr>
          <p:nvPr>
            <p:ph/>
          </p:nvPr>
        </p:nvSpPr>
        <p:spPr>
          <a:xfrm>
            <a:off x="685800" y="1380600"/>
            <a:ext cx="77724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our interest here is in Management of Organizational-wide Change, it can be helpful to re-define Resistance to Change as “employees are not wholeheartedly embracing a change that management wants to implement"  </a:t>
            </a:r>
            <a:r>
              <a:rPr b="0" lang="en-US" sz="2000" spc="-1" strike="noStrike">
                <a:solidFill>
                  <a:srgbClr val="ffffff"/>
                </a:solidFill>
                <a:latin typeface="Times New Roman"/>
              </a:rPr>
              <a:t>(Dent &amp; Goldberg, 1999)</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llows us to focus on gaining acceptance (a positive) rather than on breaking down resistance (a nega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3616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8" name="PlaceHolder 2"/>
          <p:cNvSpPr>
            <a:spLocks noGrp="1"/>
          </p:cNvSpPr>
          <p:nvPr>
            <p:ph/>
          </p:nvPr>
        </p:nvSpPr>
        <p:spPr>
          <a:xfrm>
            <a:off x="685800" y="1338120"/>
            <a:ext cx="7772400" cy="475776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The high-level view:</a:t>
            </a:r>
            <a:endParaRPr b="0" lang="en-US" sz="28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senior management agreement (i.e. conflicting goals can kill the projec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y a champion who can articulate the reasons for and advantages of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e the vision for change into a realistic plan and then carry out the pla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volve people from every area of the organizati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nicate.  Communicate.  Educate.  Educate.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organizational buy-in to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ify organizational structures so that they will sustain the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87200"/>
            <a:ext cx="7772400" cy="72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0" name="PlaceHolder 2"/>
          <p:cNvSpPr>
            <a:spLocks noGrp="1"/>
          </p:cNvSpPr>
          <p:nvPr>
            <p:ph/>
          </p:nvPr>
        </p:nvSpPr>
        <p:spPr>
          <a:xfrm>
            <a:off x="685800" y="1074600"/>
            <a:ext cx="7772400" cy="502128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dely communicate the potential need for change</a:t>
            </a:r>
            <a:r>
              <a:rPr b="0" lang="en-US" sz="2000" spc="-1" strike="noStrike">
                <a:solidFill>
                  <a:srgbClr val="ffffff"/>
                </a:solidFill>
                <a:latin typeface="Times New Roman"/>
              </a:rPr>
              <a:t>. Communicate what you're doing about it. Communicate what was done and how it worked out.  Communicate that Senior Management backs this strategy unanimously.</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t as much feedback as practical from employees</a:t>
            </a:r>
            <a:r>
              <a:rPr b="0" lang="en-US" sz="2000" spc="-1" strike="noStrike">
                <a:solidFill>
                  <a:srgbClr val="ffffff"/>
                </a:solidFill>
                <a:latin typeface="Times New Roman"/>
              </a:rPr>
              <a:t>, including what they think the problems are and what should be done to resolve them. If possible, work with a team of employees to manage the change.</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get wrapped up in doing change for the sake of change</a:t>
            </a:r>
            <a:r>
              <a:rPr b="0" lang="en-US" sz="2000" spc="-1" strike="noStrike">
                <a:solidFill>
                  <a:srgbClr val="ffffff"/>
                </a:solidFill>
                <a:latin typeface="Times New Roman"/>
              </a:rPr>
              <a:t>. Know why you're making the change. What goal(s) do you hope to accomplish?  Communicate the goa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9160"/>
            <a:ext cx="7772400" cy="85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2" name="PlaceHolder 2"/>
          <p:cNvSpPr>
            <a:spLocks noGrp="1"/>
          </p:cNvSpPr>
          <p:nvPr>
            <p:ph/>
          </p:nvPr>
        </p:nvSpPr>
        <p:spPr>
          <a:xfrm>
            <a:off x="685800" y="1133640"/>
            <a:ext cx="7772400" cy="496224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3" marL="1638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 the change</a:t>
            </a:r>
            <a:r>
              <a:rPr b="0" lang="en-US" sz="2000" spc="-1" strike="noStrike">
                <a:solidFill>
                  <a:srgbClr val="ffffff"/>
                </a:solidFill>
                <a:latin typeface="Times New Roman"/>
              </a:rPr>
              <a:t>. How do you plan to reach the goals, what will you need to reach the goals, how long might it take and how will you know when you've reached your goals or not? Focus on the coordination of the departments/programs in your organization, not on each part by itself. Have someone in charge of the plan.</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legate decisions to employees as much as possible</a:t>
            </a:r>
            <a:r>
              <a:rPr b="0" lang="en-US" sz="2000" spc="-1" strike="noStrike">
                <a:solidFill>
                  <a:srgbClr val="ffffff"/>
                </a:solidFill>
                <a:latin typeface="Times New Roman"/>
              </a:rPr>
              <a:t>. This includes granting them the authority and responsibility to get the job done. As much as possible, let them decide how to do the project.</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cess won't be an "aha!"</a:t>
            </a:r>
            <a:r>
              <a:rPr b="0" lang="en-US" sz="2000" spc="-1" strike="noStrike">
                <a:solidFill>
                  <a:srgbClr val="ffffff"/>
                </a:solidFill>
                <a:latin typeface="Times New Roman"/>
              </a:rPr>
              <a:t> It will take longer than you think.</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ep perspective.</a:t>
            </a:r>
            <a:r>
              <a:rPr b="0" lang="en-US" sz="2000" spc="-1" strike="noStrike">
                <a:solidFill>
                  <a:srgbClr val="ffffff"/>
                </a:solidFill>
                <a:latin typeface="Times New Roman"/>
              </a:rPr>
              <a:t> Keep focused on meeting the needs of your customer or cli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44000"/>
            <a:ext cx="7772400" cy="754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4" name="PlaceHolder 2"/>
          <p:cNvSpPr>
            <a:spLocks noGrp="1"/>
          </p:cNvSpPr>
          <p:nvPr>
            <p:ph/>
          </p:nvPr>
        </p:nvSpPr>
        <p:spPr>
          <a:xfrm>
            <a:off x="685800" y="1031400"/>
            <a:ext cx="7772400" cy="506412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ke care of yourself.</a:t>
            </a:r>
            <a:r>
              <a:rPr b="0" lang="en-US" sz="2000" spc="-1" strike="noStrike">
                <a:solidFill>
                  <a:srgbClr val="ffffff"/>
                </a:solidFill>
                <a:latin typeface="Times New Roman"/>
              </a:rPr>
              <a:t> Organization-wide change can be highly stressful.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seek to control change,</a:t>
            </a:r>
            <a:r>
              <a:rPr b="0" lang="en-US" sz="2000" spc="-1" strike="noStrike">
                <a:solidFill>
                  <a:srgbClr val="ffffff"/>
                </a:solidFill>
                <a:latin typeface="Times New Roman"/>
              </a:rPr>
              <a:t> but rather expect it, understand it and manage it.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lude closure in the plan.</a:t>
            </a:r>
            <a:r>
              <a:rPr b="0" lang="en-US" sz="2000" spc="-1" strike="noStrike">
                <a:solidFill>
                  <a:srgbClr val="ffffff"/>
                </a:solidFill>
                <a:latin typeface="Times New Roman"/>
              </a:rPr>
              <a:t> Acknowledge and celebrate your accomplishment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 some resources about organizational change</a:t>
            </a:r>
            <a:r>
              <a:rPr b="0" lang="en-US" sz="2000" spc="-1" strike="noStrike">
                <a:solidFill>
                  <a:srgbClr val="ffffff"/>
                </a:solidFill>
                <a:latin typeface="Times New Roman"/>
              </a:rPr>
              <a:t>, including new forms and structure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ider using a consultant.</a:t>
            </a:r>
            <a:r>
              <a:rPr b="0" lang="en-US" sz="2000" spc="-1" strike="noStrike">
                <a:solidFill>
                  <a:srgbClr val="ffffff"/>
                </a:solidFill>
                <a:latin typeface="Times New Roman"/>
              </a:rPr>
              <a:t> Ensure the consultant is highly experienced in organization-wide chang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332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6" name="PlaceHolder 2"/>
          <p:cNvSpPr>
            <a:spLocks noGrp="1"/>
          </p:cNvSpPr>
          <p:nvPr>
            <p:ph/>
          </p:nvPr>
        </p:nvSpPr>
        <p:spPr>
          <a:xfrm>
            <a:off x="685800" y="1353960"/>
            <a:ext cx="7772400" cy="4741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al Change Management is “all of the actions required for an organization to understand, prepare for, implement and take full advantage of significant chang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oals of Change Management ar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uccessful design, implementation, measurement and maintenance of an organization’s change initiativ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hancement of their on-going capacity for managing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3" name="PlaceHolder 2"/>
          <p:cNvSpPr>
            <a:spLocks noGrp="1"/>
          </p:cNvSpPr>
          <p:nvPr>
            <p:ph/>
          </p:nvPr>
        </p:nvSpPr>
        <p:spPr>
          <a:xfrm>
            <a:off x="685800" y="1641240"/>
            <a:ext cx="7772400" cy="44542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uncommon for an organization to choose to conduct a project that will have impact on the organization itself.  Examp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ime and Attendance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email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from paper to electronic Requisition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from primarily print to primarily electronic medi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 of a new technology (e.g. EDM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bution of workers in new office sp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2560"/>
            <a:ext cx="7772400" cy="7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8"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prise Transformation is driven by an underlying strategy that organizes and energizes People to understand, embrace and make full use of new Process and Technology</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gree of success of this endeavor is measured by the level and nature of the Business Impact achiev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280"/>
            <a:ext cx="777240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50"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home message:</a:t>
            </a:r>
            <a:endParaRPr b="0" lang="en-US" sz="3200" spc="-1" strike="noStrike">
              <a:solidFill>
                <a:srgbClr val="ffffff"/>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dequate attention to the human side of technology projects and you will eliminate one of the greatest causes of technology project failur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Appendix</a:t>
            </a:r>
            <a:endParaRPr b="0" lang="en-US" sz="5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784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3" name="PlaceHolder 2"/>
          <p:cNvSpPr>
            <a:spLocks noGrp="1"/>
          </p:cNvSpPr>
          <p:nvPr>
            <p:ph/>
          </p:nvPr>
        </p:nvSpPr>
        <p:spPr>
          <a:xfrm>
            <a:off x="685800" y="1252440"/>
            <a:ext cx="7772400" cy="4843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ing the Caterpillar to fly </a:t>
            </a:r>
            <a:r>
              <a:rPr b="0" lang="en-US" sz="2800" spc="-1" strike="noStrike">
                <a:solidFill>
                  <a:srgbClr val="ffffff"/>
                </a:solidFill>
                <a:latin typeface="Times New Roman"/>
              </a:rPr>
              <a:t>by by Scott J. Simmerman, Ph.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quarewheels.com/content/teaching.html</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ple Organizational Change Management Pla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hhs.gov/ufms/ufmscmpfinal.pdf</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5760"/>
            <a:ext cx="777240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5" name="PlaceHolder 2"/>
          <p:cNvSpPr>
            <a:spLocks noGrp="1"/>
          </p:cNvSpPr>
          <p:nvPr>
            <p:ph/>
          </p:nvPr>
        </p:nvSpPr>
        <p:spPr>
          <a:xfrm>
            <a:off x="685800" y="1033560"/>
            <a:ext cx="7772400" cy="506232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ployee Resistance to Organizational Change </a:t>
            </a:r>
            <a:br>
              <a:rPr sz="2800"/>
            </a:br>
            <a:r>
              <a:rPr b="0" lang="en-US" sz="2800" spc="-1" strike="noStrike">
                <a:solidFill>
                  <a:srgbClr val="ffffff"/>
                </a:solidFill>
                <a:latin typeface="Times New Roman"/>
              </a:rPr>
              <a:t>©2002 by Albert F. Bolognese</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newfoundations.com/OrgTheory/Bolognese721.html</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ic Context for Organizational Change</a:t>
            </a:r>
            <a:br>
              <a:rPr sz="2800"/>
            </a:br>
            <a:r>
              <a:rPr b="0" lang="en-US" sz="2800" spc="-1" strike="noStrike">
                <a:solidFill>
                  <a:srgbClr val="ffffff"/>
                </a:solidFill>
                <a:latin typeface="Times New Roman"/>
              </a:rPr>
              <a:t>Written by Carter McNamara, PhD | </a:t>
            </a:r>
            <a:r>
              <a:rPr b="0" lang="en-US" sz="2000" spc="-1" strike="noStrike">
                <a:solidFill>
                  <a:srgbClr val="ffffff"/>
                </a:solidFill>
                <a:latin typeface="Times New Roman"/>
              </a:rPr>
              <a:t>Applies to nonprofits and for-profits unless not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mapnp.org/library/mgmnt/orgchnge.ht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per Management undertakes these projects because they believe that there is sufficient gain to the organization to warrant the expense.</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Upper Management usually moves forward on the basis that since it is in everyone’s best interest, those individuals affected will of course endorse the project and work to make it a success.</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ll too often Upper Management receives a rude shoc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504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7"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very difficult to introduce change to an organization.  Failure to recognize and deal with this fact has been the cause of many project failur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ger &amp; Skarlicki (1999) - "organizational change can generate skepticism and resistance in employees, making it sometimes difficult or impossible to implement organizational improvements" (p. 2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36520"/>
            <a:ext cx="7772400" cy="118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9" name="PlaceHolder 2"/>
          <p:cNvSpPr>
            <a:spLocks noGrp="1"/>
          </p:cNvSpPr>
          <p:nvPr>
            <p:ph/>
          </p:nvPr>
        </p:nvSpPr>
        <p:spPr>
          <a:xfrm>
            <a:off x="685800" y="1531800"/>
            <a:ext cx="7772400" cy="45640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Management Team, you must be aware of the extent to which your projects may introduce organizational change, and then you must deal with this issu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etsee (1999) states "management's ability to achieve maximum benefits from change depends in part on how effectively they create and maintain a climate that minimizes resistant behavior and encourages acceptance and support" (p. 205).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2080"/>
            <a:ext cx="7772400" cy="110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1" name="PlaceHolder 2"/>
          <p:cNvSpPr>
            <a:spLocks noGrp="1"/>
          </p:cNvSpPr>
          <p:nvPr>
            <p:ph/>
          </p:nvPr>
        </p:nvSpPr>
        <p:spPr>
          <a:xfrm>
            <a:off x="685800" y="1498680"/>
            <a:ext cx="7772400" cy="4597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MBOK makes scant reference to organizational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ay be deliberate, since the PMBOK is designed to address those aspects of Project Management that are common to most or all projects, and there are many types of projects for which Organizational Change is not a significant factor (e.g. Construction of a new build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61720"/>
            <a:ext cx="7772400" cy="108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3" name="PlaceHolder 2"/>
          <p:cNvSpPr>
            <a:spLocks noGrp="1"/>
          </p:cNvSpPr>
          <p:nvPr>
            <p:ph/>
          </p:nvPr>
        </p:nvSpPr>
        <p:spPr>
          <a:xfrm>
            <a:off x="685800" y="1438200"/>
            <a:ext cx="7772400" cy="46576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etheless, Organizational Change Management can be of serious concern to any organization whose projects will require change either in its customers or within the organization itself.</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we will focus on Organizational Change here, in an effort to give you some insight on how to more effectively manage the People side of technology  projec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3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5"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Organizational Change? </a:t>
            </a:r>
            <a:endParaRPr b="0" lang="en-US" sz="2800" spc="-1" strike="noStrike">
              <a:solidFill>
                <a:srgbClr val="ffffff"/>
              </a:solidFill>
              <a:latin typeface="Times New Roman"/>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28296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considered to be an organization-wide change, as opposed to smaller changes such as adding a new person.  </a:t>
            </a:r>
            <a:r>
              <a:rPr b="0" lang="en-US" sz="1800" spc="-1" strike="noStrike">
                <a:solidFill>
                  <a:srgbClr val="ffffff"/>
                </a:solidFill>
                <a:latin typeface="Times New Roman"/>
              </a:rPr>
              <a:t>(See first slide of this section for examples)</a:t>
            </a:r>
            <a:endParaRPr b="0" lang="en-US" sz="1800" spc="-1" strike="noStrike">
              <a:solidFill>
                <a:srgbClr val="ffffff"/>
              </a:solidFill>
              <a:latin typeface="Times New Roman"/>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ncludes the management of changes to the organizational culture, business processes, physical environment, job design / responsibilities, staff skills / knowledge and policies / procedures.</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change is fundamental and radical, one might call it organizational transform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18:52:21Z</dcterms:created>
  <dc:creator>Dr. Gary J. Evans, PMP</dc:creator>
  <dc:description>Copyright 2004 CVR/IT Consulting LLC.  All Rights Reserved.  No portion of this document may be reproduced  or distributed without the explicit permission of the author.  For  license to use this document see www.cvr-it.com or contact info@cvr -it.com</dc:description>
  <dc:language>en-US</dc:language>
  <cp:lastModifiedBy>Kim Beall</cp:lastModifiedBy>
  <cp:lastPrinted>2002-09-05T16:05:35Z</cp:lastPrinted>
  <dcterms:modified xsi:type="dcterms:W3CDTF">2008-03-31T16:17:56Z</dcterms:modified>
  <cp:revision>299</cp:revision>
  <dc:subject/>
  <dc:title>Organizational Change Management</dc:title>
</cp:coreProperties>
</file>