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40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Technology to Enhance Teaching and Lear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Approaches That 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nercomp_200" descr=""/>
          <p:cNvPicPr/>
          <p:nvPr/>
        </p:nvPicPr>
        <p:blipFill>
          <a:blip r:embed="rId2"/>
          <a:stretch/>
        </p:blipFill>
        <p:spPr>
          <a:xfrm>
            <a:off x="0" y="6419880"/>
            <a:ext cx="190512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vine@stevens-tech.edu" TargetMode="External"/><Relationship Id="rId2" Type="http://schemas.openxmlformats.org/officeDocument/2006/relationships/hyperlink" Target="http://attila.stevens-tech.edu/~llevine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ttila.stevens-tech.edu/~llevine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lletproof.org/math/default.asp" TargetMode="External"/><Relationship Id="rId2" Type="http://schemas.openxmlformats.org/officeDocument/2006/relationships/hyperlink" Target="http://golem.math.stevens-tech.edu/card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ttila.stevens-tech.edu/~llevin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Technology to Enhance Teaching and Learn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Approaches That Wor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rence E. Lev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vens Institute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 Military Academy, West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levine@stevens-tech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attila.stevens-tech.edu/~llevin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aching with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subject matter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rporate demonstrations in the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 students how to us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t be 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great deal of good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ase for Laptops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ulty must have lap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s in classrooms not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everything before on lap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be able to come in, plug in laptop and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lly just a little more difficult than using chalk and a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se for Laptops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lab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bring lab to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ming student has state of the art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ly use technology while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portunity for interaction with and engagement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aching Linear Algebra in a Laptop Classroo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ear algebra with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s with networked lap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classrooms in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ptop covers down – ordinary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ptop covers up – computer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written work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SNB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 some material – laptops d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aching Linear Algebra in a Laptop Classroo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ppropriate points have students do exercises using SN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were homework problems to be turn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 problem under consi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je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reens of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this alternating format – lecture/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veats About Teaching in a Laptop Classr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do this only with small clas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 to 30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45 with an Assi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questions not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ulty involved in design of class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s great deal of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ct a good deal of frustration at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lly should be able to walk in, plug in laptop, turn on projector and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aching Linear Algebra in a Laptop Classroo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mathematics behind the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just a course in cli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ing matrices to echel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parts – written and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load computer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technical issue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hematica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Shows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ttila.stevens-tech.edu/~llevin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use stream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er Point good for creating sl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can easily add nar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 media add-on to conve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er Point not good for writing 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hematica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Shows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NB is good for writing m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 does not read tex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math using SN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ture portions of file as graphic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 these graphics files into Power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narration, convert to real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covering Things Using Technolog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nomial solutions of 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equations have a polynomial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homogeneous Hermit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SNB to investigat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rapolate general results form specific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vine’s Technology Theore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rything works either at home or in my office, and nothing works when I presen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ld is cha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will become more prev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s must be fluent with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opens new horiz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good, some not so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y new approaches, identify good ones, develop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mall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y 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ed as an applied mathemat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Stevens since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id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turba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 Head for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 not a computer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ed Some F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ematician trading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bulletproof.org/math/default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ry Lev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golem.math.stevens-tech.edu/card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rds of Cau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cture/teaching model still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will not put us out of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technology only where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add new dimensions to the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add new dimensions to student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tions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force its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Uses of Technology as a Learning/Teaching T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rse Web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Not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ing with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ing in a laptop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al slide 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ing things using techn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urse Web Si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e important information about the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ework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d Exams with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ttila.stevens-tech.edu/~llevin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b Site Cau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considerations in creating a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considerations in maintaining a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 support a m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graduates or gradu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ver, deal with technical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325"/>
            </a:gs>
            <a:gs pos="100000">
              <a:srgbClr val="0808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tific Note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processing package with Maple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user friendly front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no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s with We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8:53:32Z</dcterms:created>
  <dc:creator>L. E. Levine</dc:creator>
  <dc:description/>
  <dc:language>en-US</dc:language>
  <cp:lastModifiedBy>ckeller</cp:lastModifiedBy>
  <dcterms:modified xsi:type="dcterms:W3CDTF">2001-04-02T20:19:26Z</dcterms:modified>
  <cp:revision>49</cp:revision>
  <dc:subject/>
  <dc:title>Using Technology as a Teaching/Learning Tool</dc:title>
</cp:coreProperties>
</file>