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C6973-5C55-4406-8A26-80F066205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E3C7-CB31-4685-8F09-3B34501B6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DFE99-D703-41D8-B429-E5576B570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016E9-2F7D-4E32-9C09-4979CA7F1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1712A-946A-42B5-AC91-1EBFD468A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49952-4193-4213-9DF6-3BB294B5C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3A269-CCF7-4774-AB6D-C0FF6181B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F6A93-6EAC-4C36-88AC-B876CE17F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D21AD-6411-420D-B09C-B1B7F448E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20041-4225-42A9-87F2-42772B45F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348F1-E1B8-4C49-955A-87FCCE2C4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A7CC6-1963-47E3-8EBC-DFD60519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C791C-6287-4C77-A6EA-6D6D46063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FB123-7694-47D3-8F54-98C3D8044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15637-9946-47E9-97A0-0710E5BF9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04FAD-7680-4300-8DD0-DD5CF0AE8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E4AC0-5B5E-4EA5-A8B8-FF3A9DAA6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C07D2-0973-4337-AA67-7953F94F5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9604E-29F0-4243-93D1-4F1B6628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30CB-0C1B-4A80-B733-92DA849B8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30A7-9DCA-42B5-A185-DF857985C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BE56-1092-40E8-8560-F3B9B2A2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D0E8-E592-405C-BB60-9990453BE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178F-8762-4549-9AF3-EDB1B1CDF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1871-2DBA-45FD-88CF-94D6567C2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549F-1800-4F40-853B-7935979FF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d.gov/pubs/promisin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3" name=""/>
          <p:cNvSpPr/>
          <p:nvPr/>
        </p:nvSpPr>
        <p:spPr>
          <a:xfrm>
            <a:off x="2328480" y="6172200"/>
            <a:ext cx="453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2003 COABE Conference   ----   Portland, OR</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es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7617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DA Uses in Public School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University High School</a:t>
            </a:r>
            <a:r>
              <a:rPr b="0" lang="en-US" sz="1600" spc="-1" strike="noStrike">
                <a:solidFill>
                  <a:srgbClr val="000000"/>
                </a:solidFill>
                <a:latin typeface="Times New Roman"/>
              </a:rPr>
              <a:t> (Irvine, CA) --- Part of a national pilot program for the first handheld device specifically designed for use in ongoing classroom testing - the Classroom Wizard from Scantron Corp. This technology allowed teachers to administer pop quizzes at any time. The answers are scored instantaneously and posted on the student's desktop computer in realtime, while class is in session. In a glance, the instructor can immediately identify and follow the comprehension level of each individual in the entire class, make necessary adjustments to the lesson or assist individual students who need a little extra help.</a:t>
            </a:r>
            <a:r>
              <a:rPr b="0" lang="en-US" sz="1000" spc="-1" strike="noStrike">
                <a:solidFill>
                  <a:srgbClr val="000000"/>
                </a:solidFill>
                <a:latin typeface="Times New Roman"/>
              </a:rPr>
              <a:t> </a:t>
            </a:r>
            <a:r>
              <a:rPr b="0" i="1" lang="en-US" sz="1200" spc="-1" strike="noStrike">
                <a:solidFill>
                  <a:srgbClr val="000000"/>
                </a:solidFill>
                <a:latin typeface="Times New Roman"/>
              </a:rPr>
              <a:t>Hudgins, B. (2001)</a:t>
            </a:r>
            <a:r>
              <a:rPr b="1" lang="en-US" sz="1200" spc="-1" strike="noStrike">
                <a:solidFill>
                  <a:srgbClr val="000000"/>
                </a:solidFill>
                <a:latin typeface="Times New Roman"/>
              </a:rPr>
              <a:t> </a:t>
            </a:r>
            <a:r>
              <a:rPr b="0" lang="en-US" sz="1200" spc="-1" strike="noStrike">
                <a:solidFill>
                  <a:srgbClr val="000000"/>
                </a:solidFill>
                <a:latin typeface="Times New Roman"/>
              </a:rPr>
              <a:t>T.H.E. Journal,29 (5), p. 46.</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Smithtown School District</a:t>
            </a:r>
            <a:r>
              <a:rPr b="0" lang="en-US" sz="1600" spc="-1" strike="noStrike">
                <a:solidFill>
                  <a:srgbClr val="000000"/>
                </a:solidFill>
                <a:latin typeface="Times New Roman"/>
              </a:rPr>
              <a:t> (Smithtown, NY) --- In a partnership with local vendor Symbol Technologies Inc. and education reseller SchoolSoft, Santa Monica, CA, the school district has  begun to use handhelds in the classroom to collect grades, take attendance and keep track of student records.</a:t>
            </a:r>
            <a:r>
              <a:rPr b="0" lang="en-US" sz="2000" spc="-1" strike="noStrike">
                <a:solidFill>
                  <a:srgbClr val="000000"/>
                </a:solidFill>
                <a:latin typeface="Arial"/>
              </a:rPr>
              <a:t> </a:t>
            </a:r>
            <a:r>
              <a:rPr b="0" lang="en-US" sz="1000" spc="-1" strike="noStrike">
                <a:solidFill>
                  <a:srgbClr val="000000"/>
                </a:solidFill>
                <a:latin typeface="Times New Roman"/>
              </a:rPr>
              <a:t> </a:t>
            </a:r>
            <a:r>
              <a:rPr b="0" lang="en-US" sz="1200" spc="-1" strike="noStrike">
                <a:solidFill>
                  <a:srgbClr val="000000"/>
                </a:solidFill>
                <a:latin typeface="Times New Roman"/>
              </a:rPr>
              <a:t>Pepe, M. (1999, Nov. 15). School district uses handhelds in class to wirelessly record grades,  attendance data. </a:t>
            </a:r>
            <a:r>
              <a:rPr b="0" i="1" lang="en-US" sz="1200" spc="-1" strike="noStrike">
                <a:solidFill>
                  <a:srgbClr val="000000"/>
                </a:solidFill>
                <a:latin typeface="Times New Roman"/>
              </a:rPr>
              <a:t>Computer Reseller News. 869, p.28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The Children’s Technology Workshop (</a:t>
            </a:r>
            <a:r>
              <a:rPr b="0" lang="en-US" sz="1600" spc="-1" strike="noStrike">
                <a:solidFill>
                  <a:srgbClr val="000000"/>
                </a:solidFill>
                <a:latin typeface="Times New Roman"/>
              </a:rPr>
              <a:t>Toronto, Ontario, Canada).</a:t>
            </a: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rPr>
              <a:t>The Children’s Technology Workshop uses handheld computers with children to view step-by-step directions and plans for the robots they are building. They also use the handhelds to watch AVI movies that are created as a part of the mission-based projects. An example might be a student-created video simulating an emergency transmission from Mars to Earth from stranded colonists. </a:t>
            </a:r>
            <a:r>
              <a:rPr b="0" lang="en-US" sz="1200" spc="-1" strike="noStrike">
                <a:solidFill>
                  <a:srgbClr val="000000"/>
                </a:solidFill>
                <a:latin typeface="Times New Roman"/>
              </a:rPr>
              <a:t>http://www.k12handhelds.com/casestu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2"/>
          <p:cNvSpPr>
            <a:spLocks noGrp="1"/>
          </p:cNvSpPr>
          <p:nvPr>
            <p:ph type="title"/>
          </p:nvPr>
        </p:nvSpPr>
        <p:spPr>
          <a:xfrm>
            <a:off x="457200" y="12240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66680" y="762120"/>
            <a:ext cx="7772400" cy="452592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 in Higher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ble Satellite Internet System</a:t>
            </a:r>
            <a:r>
              <a:rPr b="0" lang="en-US" sz="1600" spc="-1" strike="noStrike">
                <a:solidFill>
                  <a:srgbClr val="000000"/>
                </a:solidFill>
                <a:latin typeface="Times New Roman"/>
              </a:rPr>
              <a:t> (TSIS) – Provides local wireless capabilities to geographically remote locations and other sites lacking terrestrial connectivity. Developed by OARnet, ITEC-Ohio, the Ohio State University and a partnership with American Distance Education Consortium (ADEC)</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Applications in Adult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Smar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phaSmart 3000</a:t>
            </a:r>
            <a:r>
              <a:rPr b="0" lang="en-US" sz="1600" spc="-1" strike="noStrike">
                <a:solidFill>
                  <a:srgbClr val="000000"/>
                </a:solidFill>
                <a:latin typeface="Times New Roman"/>
              </a:rPr>
              <a:t> allows adult learners to enter and edit text, then send it to any computer for formatting or directly to a printer. Its portability allows adult learners to use it anywhere and anytime - in the classroom, at home, or on field trips. Its low cost provides technology access to an entire classroom of 30 students for the price of three to four computers. The AlphaSmart 3000 extends technology dollars, to increase technology access, and to alleviate the equity issues at school.</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na</a:t>
            </a:r>
            <a:r>
              <a:rPr b="0" lang="en-US" sz="1600" spc="-1" strike="noStrike">
                <a:solidFill>
                  <a:srgbClr val="000000"/>
                </a:solidFill>
                <a:latin typeface="Times New Roman"/>
              </a:rPr>
              <a:t> is a true alternative to the laptop. It combines the affordability of a handheld with the ergonomic benefits of a notebook computer.  Adult learners can: print directly to many USB or IrDA-enabled printers; add MultiMediaCard or SD (Secure Digital) cards; and easily exchange files with many popular PC applications like Microsoft Word and Excel.</a:t>
            </a:r>
            <a:r>
              <a:rPr b="0" lang="en-US" sz="1600" spc="-1" strike="noStrike">
                <a:solidFill>
                  <a:srgbClr val="000000"/>
                </a:solidFill>
                <a:latin typeface="Arial"/>
              </a:rPr>
              <a:t> </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457200" y="76320"/>
            <a:ext cx="822960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8" name="" descr=""/>
          <p:cNvPicPr/>
          <p:nvPr/>
        </p:nvPicPr>
        <p:blipFill>
          <a:blip r:embed="rId1"/>
          <a:stretch/>
        </p:blipFill>
        <p:spPr>
          <a:xfrm>
            <a:off x="304920" y="3733920"/>
            <a:ext cx="1593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20" name=""/>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Education Teach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teachers incorporating use of education technology as a regular part of their instructional techn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teach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22" name=""/>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Learn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learners incorporating use of education technology as a regular part of their learning and parenting appli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learn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children and spouses of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6" name=""/>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rPr>
              <a:t>What does this terminology mean for you?</a:t>
            </a:r>
            <a:r>
              <a:rPr b="0" lang="en-US" sz="3200" spc="-1" strike="noStrike">
                <a:solidFill>
                  <a:srgbClr val="000000"/>
                </a:solidFill>
                <a:latin typeface="Arial"/>
              </a:rPr>
              <a:t> </a:t>
            </a:r>
            <a:endParaRPr b="0" lang="en-US" sz="3200" spc="-1" strike="noStrike">
              <a:solidFill>
                <a:srgbClr val="000000"/>
              </a:solidFill>
              <a:latin typeface="Arial"/>
            </a:endParaRPr>
          </a:p>
          <a:p>
            <a:pPr marL="116640" indent="-11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88440" indent="-77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388440" indent="-77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304920" y="2590920"/>
            <a:ext cx="8076960" cy="6094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should the goals for </a:t>
            </a:r>
            <a:r>
              <a:rPr b="0" i="1" lang="en-US" sz="2600" spc="-1" strike="noStrike">
                <a:solidFill>
                  <a:srgbClr val="ffff99"/>
                </a:solidFill>
                <a:latin typeface="Times New Roman"/>
              </a:rPr>
              <a:t>Integrating Internet-based Technology into Teaching/Learning include</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133560" indent="-13356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445680" indent="-88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445680" indent="-88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04920" y="4114800"/>
            <a:ext cx="8076960" cy="6094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are some reasons for </a:t>
            </a:r>
            <a:r>
              <a:rPr b="0" i="1" lang="en-US" sz="2600" spc="-1" strike="noStrike">
                <a:solidFill>
                  <a:srgbClr val="ffff99"/>
                </a:solidFill>
                <a:latin typeface="Times New Roman"/>
              </a:rPr>
              <a:t>Integrating Internet-based Technology into Teaching/Learning</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133560" indent="-13356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445680" indent="-88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445680" indent="-88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0"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technology is to: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hose factors that determine learning outcomes and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the teaching and learning proces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rge and Roberts 1993; Ehrmann 1997, 1998; Whitesel 1998).</a:t>
            </a:r>
            <a:endParaRPr b="0" lang="en-US" sz="1400" spc="-1" strike="noStrike">
              <a:solidFill>
                <a:srgbClr val="000000"/>
              </a:solidFill>
              <a:latin typeface="Arial"/>
            </a:endParaRPr>
          </a:p>
        </p:txBody>
      </p:sp>
      <p:pic>
        <p:nvPicPr>
          <p:cNvPr id="91" name="" descr=""/>
          <p:cNvPicPr/>
          <p:nvPr/>
        </p:nvPicPr>
        <p:blipFill>
          <a:blip r:embed="rId1"/>
          <a:stretch/>
        </p:blipFill>
        <p:spPr>
          <a:xfrm>
            <a:off x="6019920" y="1523880"/>
            <a:ext cx="2270160" cy="2186280"/>
          </a:xfrm>
          <a:prstGeom prst="rect">
            <a:avLst/>
          </a:prstGeom>
          <a:ln w="0">
            <a:noFill/>
          </a:ln>
        </p:spPr>
      </p:pic>
      <p:pic>
        <p:nvPicPr>
          <p:cNvPr id="92" name="" descr=""/>
          <p:cNvPicPr/>
          <p:nvPr/>
        </p:nvPicPr>
        <p:blipFill>
          <a:blip r:embed="rId2"/>
          <a:stretch/>
        </p:blipFill>
        <p:spPr>
          <a:xfrm>
            <a:off x="5943600" y="4600440"/>
            <a:ext cx="2314440" cy="177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792080"/>
            <a:ext cx="7010280" cy="3763800"/>
          </a:xfrm>
          <a:prstGeom prst="rect">
            <a:avLst/>
          </a:prstGeom>
          <a:noFill/>
          <a:ln w="0">
            <a:noFill/>
          </a:ln>
        </p:spPr>
        <p:txBody>
          <a:bodyPr lIns="90000" rIns="90000" tIns="46800" bIns="46800" anchor="t">
            <a:normAutofit/>
          </a:bodyPr>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vides opportunities for more learner-centered instruction;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rmits instruction to be contextualize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llows students to explore, make mistakes, and learn from their error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ds to more active and interactive modes of instruction; an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sults naturally in greater collaboration, cooperation, and small group work</a:t>
            </a:r>
            <a:endParaRPr b="0" lang="en-US" sz="2300" spc="-1" strike="noStrike">
              <a:solidFill>
                <a:srgbClr val="000000"/>
              </a:solidFill>
              <a:latin typeface="Arial"/>
            </a:endParaRPr>
          </a:p>
        </p:txBody>
      </p:sp>
      <p:sp>
        <p:nvSpPr>
          <p:cNvPr id="94" name="PlaceHolder 2"/>
          <p:cNvSpPr>
            <a:spLocks noGrp="1"/>
          </p:cNvSpPr>
          <p:nvPr>
            <p:ph type="title"/>
          </p:nvPr>
        </p:nvSpPr>
        <p:spPr>
          <a:xfrm>
            <a:off x="457200" y="2282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5" name=""/>
          <p:cNvSpPr/>
          <p:nvPr/>
        </p:nvSpPr>
        <p:spPr>
          <a:xfrm>
            <a:off x="1044720" y="6058080"/>
            <a:ext cx="63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illespie 1998; Kearsley and Shneiderman 1998; Petraglia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1"/>
          <a:stretch/>
        </p:blipFill>
        <p:spPr>
          <a:xfrm>
            <a:off x="6705720" y="3429000"/>
            <a:ext cx="1473120" cy="2143080"/>
          </a:xfrm>
          <a:prstGeom prst="rect">
            <a:avLst/>
          </a:prstGeom>
          <a:ln w="0">
            <a:noFill/>
          </a:ln>
        </p:spPr>
      </p:pic>
      <p:sp>
        <p:nvSpPr>
          <p:cNvPr id="97" name=""/>
          <p:cNvSpPr/>
          <p:nvPr/>
        </p:nvSpPr>
        <p:spPr>
          <a:xfrm>
            <a:off x="304920" y="1371600"/>
            <a:ext cx="5502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using technology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66760" y="761760"/>
            <a:ext cx="861048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99"/>
                </a:solidFill>
                <a:latin typeface="Times New Roman"/>
              </a:rPr>
              <a:t>Billions of dollars have been spent to bring computer technology into K-16 classrooms.</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Tomorrow's Teachers to Use Technology Program (PT3).</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ce 1999, Congress has devoted over $275 million. Ninety-five Grants (($48 million) were awarded, in June 2000 to address the challenge of developing technology proficient future educators; and to transform teacher preparation programs into 21st-century learning environments.</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i="1" lang="en-US" sz="1800" spc="-1" strike="noStrike">
                <a:solidFill>
                  <a:srgbClr val="000000"/>
                </a:solidFill>
                <a:latin typeface="Times New Roman"/>
              </a:rPr>
              <a:t>AACTE-Microsoft Innovative Teachers Program</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early $50 million in software licenses and online community-building tools have been awarded under the program to SCDEs that partner with local school districts to provide technology-related professional development opportunities to faculty members, prospective teachers, and practicing teachers.</a:t>
            </a:r>
            <a:endParaRPr b="0" lang="en-US" sz="16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pite these investments only 20 percent of the 2.5 million teachers currently working in our public schools feel comfortable using these technologies in their classrooms (U.S. Department of Education, 1999).</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2"/>
          <p:cNvSpPr>
            <a:spLocks noGrp="1"/>
          </p:cNvSpPr>
          <p:nvPr>
            <p:ph type="title"/>
          </p:nvPr>
        </p:nvSpPr>
        <p:spPr>
          <a:xfrm>
            <a:off x="457200" y="0"/>
            <a:ext cx="82296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0" name="" descr=""/>
          <p:cNvPicPr/>
          <p:nvPr/>
        </p:nvPicPr>
        <p:blipFill>
          <a:blip r:embed="rId1"/>
          <a:stretch/>
        </p:blipFill>
        <p:spPr>
          <a:xfrm>
            <a:off x="7531200" y="5029200"/>
            <a:ext cx="1336680" cy="1600200"/>
          </a:xfrm>
          <a:prstGeom prst="rect">
            <a:avLst/>
          </a:prstGeom>
          <a:ln w="0">
            <a:noFill/>
          </a:ln>
        </p:spPr>
      </p:pic>
      <p:sp>
        <p:nvSpPr>
          <p:cNvPr id="101" name=""/>
          <p:cNvSpPr/>
          <p:nvPr/>
        </p:nvSpPr>
        <p:spPr>
          <a:xfrm>
            <a:off x="2165760" y="6095880"/>
            <a:ext cx="48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lang="en-US" sz="1400" spc="-1" strike="noStrike" u="sng">
                <a:solidFill>
                  <a:srgbClr val="009999"/>
                </a:solidFill>
                <a:uFillTx/>
                <a:latin typeface="Times New Roman"/>
                <a:hlinkClick r:id="rId2"/>
              </a:rPr>
              <a:t>http://www.ed.gov/pubs/promising</a:t>
            </a:r>
            <a:r>
              <a:rPr b="0" lang="en-US" sz="1400" spc="-1" strike="noStrike">
                <a:solidFill>
                  <a:srgbClr val="000000"/>
                </a:solidFill>
                <a:latin typeface="Times New Roman"/>
              </a:rPr>
              <a:t>initiatives/pt3.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02" name=""/>
          <p:cNvSpPr/>
          <p:nvPr/>
        </p:nvSpPr>
        <p:spPr>
          <a:xfrm>
            <a:off x="685800" y="2362320"/>
            <a:ext cx="7772400" cy="13716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How many dollars have been spent to bring computer</a:t>
            </a:r>
            <a:endParaRPr b="0" lang="en-US" sz="26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technology into adult education classrooms?</a:t>
            </a:r>
            <a:r>
              <a:rPr b="0" lang="en-US" sz="3200" spc="-1" strike="noStrike">
                <a:solidFill>
                  <a:srgbClr val="000000"/>
                </a:solidFill>
                <a:latin typeface="Arial"/>
              </a:rPr>
              <a:t> </a:t>
            </a: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720000" indent="-144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720000" indent="-1440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4" name="" descr=""/>
          <p:cNvPicPr/>
          <p:nvPr/>
        </p:nvPicPr>
        <p:blipFill>
          <a:blip r:embed="rId1"/>
          <a:stretch/>
        </p:blipFill>
        <p:spPr>
          <a:xfrm>
            <a:off x="6172200" y="4114800"/>
            <a:ext cx="1903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based Technolog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net-based</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e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ail</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servs/discussion 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deo-conferencing</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te-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rsonal Digital Assistants (PDAs)</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7" name="" descr=""/>
          <p:cNvPicPr/>
          <p:nvPr/>
        </p:nvPicPr>
        <p:blipFill>
          <a:blip r:embed="rId1"/>
          <a:stretch/>
        </p:blipFill>
        <p:spPr>
          <a:xfrm>
            <a:off x="5791320" y="2286000"/>
            <a:ext cx="189540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680" y="1219320"/>
            <a:ext cx="7772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chieve the desired outcomes of integrating technology into the adult education classroom, teachers must encourage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shift the emphasis from themselves to the adult learner in teaching and learning;</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that technology should be integral to the teaching and learning proces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at technology enables the instructor to becomes a facilitator of learning as well as a planner, guide, and mentor; an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move the focus away from low-level cognitive tasks to higher-order thinking skill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PlaceHolder 2"/>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0" name="" descr=""/>
          <p:cNvPicPr/>
          <p:nvPr/>
        </p:nvPicPr>
        <p:blipFill>
          <a:blip r:embed="rId1"/>
          <a:stretch/>
        </p:blipFill>
        <p:spPr>
          <a:xfrm>
            <a:off x="228600" y="2819520"/>
            <a:ext cx="1639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0104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95360" y="685440"/>
            <a:ext cx="8153280" cy="571500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 Uses in Higher Educ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1, University of South Dakota started requiring its freshmen to bring Palm hand-held computers to class, along with their notebooks and tex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ke Forest University programmers are working on software that would let professors use their PDA's to control PowerPoint presentations, turn on VCR's from across the room, and quiz students on course material.</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exel University has installed a wireless Web service that allows students to pick up class schedules, grades, and campus news on their PDA'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 law students participated in a study, supported by West Publishing, that examines the effectiveness of putting legal-study materials on PD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students at Bentley College have used their PDA's as clipboards during market-research assignment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rtmouth College, the University of Iowa's business college, and Duke and Brigham Young Universities all require students to have hand-held devices for some classe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CU is  implementing infrared kiosks around campus so that mobile PDA users can easily HotSync to the network to use email and download web clipping content. Other projects are under discussion such as the possibility of hosting a higher education PDA conference at which presentations can be made and ideas shar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ulty members in Counseling and Human Development Services (CHDS) at Kent State University have conducted research and training using some of the most current PDA technology. An analysis of how such technology can be integrated into the role and function of Counselor Educators and Health Educators is currently being analyz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1516680" y="6491160"/>
            <a:ext cx="76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lson, s. (2002, October 11). Are Personal Digital Assistants the Next Must-Have Tool? </a:t>
            </a:r>
            <a:r>
              <a:rPr b="0" i="1" lang="en-US" sz="1000" spc="-1" strike="noStrike">
                <a:solidFill>
                  <a:srgbClr val="000000"/>
                </a:solidFill>
                <a:latin typeface="Times New Roman"/>
              </a:rPr>
              <a:t>The Chronicle of Higher Education</a:t>
            </a:r>
            <a:r>
              <a:rPr b="0" lang="en-US" sz="1000" spc="-1" strike="noStrike">
                <a:solidFill>
                  <a:srgbClr val="000000"/>
                </a:solidFill>
                <a:latin typeface="Times New Roman"/>
              </a:rPr>
              <a:t>. 49,  (7), p. A33</a:t>
            </a:r>
            <a:r>
              <a:rPr b="0" lang="en-US" sz="1800" spc="-1" strike="noStrike">
                <a:solidFill>
                  <a:srgbClr val="000000"/>
                </a:solidFill>
                <a:latin typeface="Arial"/>
              </a:rPr>
              <a:t> </a:t>
            </a:r>
            <a:r>
              <a:rPr b="0" lang="en-US" sz="10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type="title"/>
          </p:nvPr>
        </p:nvSpPr>
        <p:spPr>
          <a:xfrm>
            <a:off x="457200" y="12240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9:56Z</dcterms:created>
  <dc:creator>Chas Durant</dc:creator>
  <dc:description/>
  <dc:language>en-US</dc:language>
  <cp:lastModifiedBy>Beth Ann Fredrick</cp:lastModifiedBy>
  <dcterms:modified xsi:type="dcterms:W3CDTF">2003-05-06T18:24:02Z</dcterms:modified>
  <cp:revision>61</cp:revision>
  <dc:subject/>
  <dc:title>Slide 1</dc:title>
</cp:coreProperties>
</file>