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F7826-ACA5-439E-BC81-25D9087A3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56A5-0612-4FAC-A8EA-ED120319F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968B6-AE59-4BEA-8DE0-E79B42803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F1569-61FC-489F-9532-AA25065F4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92B85-6220-4304-BE54-2221A33A2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98192-B149-481D-933F-B5710729F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484E4-5046-4DBB-A3E1-80C88CB2D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7CD21-08DD-438C-A736-29667338C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F9BB6-BC0B-4D01-B23E-9DFA27290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650BE-7606-49FB-ADAE-BD3BCAAAB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86818-ADA8-4BD9-82F3-40C95D4BC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6C000-1450-4A33-8A31-95E64C3B3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F0584-6B69-4FED-B98B-1184162B8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3F0AF-2E77-4E95-AF4D-4BE0706E8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E9F9F-E382-4628-8DB9-3AAA1B6C9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745D3-CC53-4773-9446-E02721101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57FA1-C194-457E-8412-6049462A9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2FAFC7-A9BB-4295-B35A-7374CDE72B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EAC34E-098F-431F-9946-AE58EA93E7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0E71A-6756-48C2-AA85-C9E6AA0E1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090B9B-A7F3-47E1-BF35-4A90600F54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59D83C-DBA3-43A9-BDB7-BCB9CE44C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31D38-B74B-479D-AC04-0104F8DA7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17E38-A02A-4F13-8229-D12E82E14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161AC-D75C-477F-BCF1-063B0C2E6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A76D9D-CCD0-4CDB-9C4D-5F91035B1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825C7-F4AF-4895-B041-BE7953DB7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294FA1-2D1F-4D12-A1FD-7F7134AA3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C39D9A-91FB-4E20-BED7-939062ECC4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A8DCCA-DE1A-43B6-826D-CED5662C0D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5DF99B-16D6-4206-9EBB-5D9DD5657F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A54530-D2A2-48F9-9E45-27ADCFF3A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C8815B-710D-4C4D-A4C0-7240855824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A76B5-3380-4B14-A9B1-8625977AA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A6D630-567C-46A4-B426-C73DEC4B20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9F45A7-0AE4-4100-AEBF-BAF07148B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ED6877-DA54-4D2B-936B-F9BE65FB5B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F6DE8-1778-491B-92BB-D1C1239F0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B2F3CE-659A-4CBD-8F3D-63D9E474C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EA427-45B9-4A5D-8A71-7AE9B32D8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234667-7444-4FA5-9064-449422620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7FE158-6414-4D5C-AB5C-2339B24D0A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5511AF-9041-4B95-80FC-3F617F16F8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68A1E-C3C0-47C5-B9DB-8FEC92AA7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5DC03-BC63-40DB-9619-C5B799F25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A66C8-F25E-4EEE-9DEF-C5F8ADC7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D197D-038F-48A2-B30D-6C34285A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77D6-77CA-4E51-8E90-927946AC4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72C6-A002-414A-A539-8000006B4C3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86EC-D45B-4BC6-9A9A-631BB6A8A423}"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8F54-C052-4BBC-BF25-2C2EF2905F4B}"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1F62-DEF6-46D6-87B1-430723AD770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ducation-2020.wikispaces.com/About+EDUCATION+2020"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mathematicallysane.com/ted-talks-teaching-kids-real-math-with-computers/"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dMdTBep3W9c&amp;feature=relate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eaching</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nstantia"/>
              </a:rPr>
              <a:t>What is it?</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Learner focused</a:t>
            </a:r>
            <a:br>
              <a:rPr sz="3200"/>
            </a:br>
            <a:endParaRPr b="0" lang="en-US" sz="32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cuses on learner’s personal construction of mathematical knowledge (Manouchehri &amp; Enderson, 200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tructivist view of mathematics learning(Cobb &amp; Bauserfeld, 199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er is actively involved in constructing meaning from experiences by “doing mathematics” (DeJong &amp; Brinkman, 199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blem solving or inquiry perspectiv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Content focused with emphasis on conceptual understanding</a:t>
            </a:r>
            <a:br>
              <a:rPr sz="3200"/>
            </a:br>
            <a:endParaRPr b="0" lang="en-US" sz="32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iven by content that is focused on conceptual understanding (Thompson, 199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rnest labels this view as “Platonist” (Ernest, 198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instruction, content is the focus with emphasis on student understanding and process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Content focused with an emphasis on performance</a:t>
            </a:r>
            <a:br>
              <a:rPr sz="4500"/>
            </a:br>
            <a:endParaRPr b="0" lang="en-US" sz="32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 performance, mastery of mathematical rules and procedures, combined with use of exact, rigorous, mathematical language(Leung, 1995)</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an instrumentalist view(Ernest, 1989)</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sed on following premise:</a:t>
            </a:r>
            <a:endParaRPr b="0" lang="en-US" sz="24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ules are basic building blocks of all math knowledge</a:t>
            </a:r>
            <a:endParaRPr b="0" lang="en-US" sz="22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Knowledge of math is demonstrated by correctly answering and solving problems using learned rules</a:t>
            </a:r>
            <a:endParaRPr b="0" lang="en-US" sz="22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mputational procedures should be automatic</a:t>
            </a:r>
            <a:endParaRPr b="0" lang="en-US" sz="22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t important to understand reason for student errors further instruction will result in appropriate learning(Kuhs and Ball as quoted by Thompson, 1992, p. 136)</a:t>
            </a:r>
            <a:endParaRPr b="0" lang="en-US" sz="22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Classroom focused with mathematical teaching based on knowledge about effective classrooms</a:t>
            </a:r>
            <a:br>
              <a:rPr sz="4500"/>
            </a:br>
            <a:endParaRPr b="0" lang="en-US" sz="32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room activity must be well structure and efficiently organized according to effective teacher behaviors identified in process-product studies on teaching effectiveness (Thompson, 1992)</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an you share your thoughts on other models that you have seen in your classrooms?</a:t>
            </a:r>
            <a:endParaRPr b="0" lang="en-US" sz="3600" spc="-1" strike="noStrike">
              <a:solidFill>
                <a:srgbClr val="04617b"/>
              </a:solidFill>
              <a:latin typeface="Calibri"/>
            </a:endParaRPr>
          </a:p>
        </p:txBody>
      </p:sp>
      <p:pic>
        <p:nvPicPr>
          <p:cNvPr id="222"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Your Thoughts on What is Important to Teaching?</a:t>
            </a:r>
            <a:endParaRPr b="0" lang="en-US" sz="4500" spc="-1" strike="noStrike">
              <a:solidFill>
                <a:srgbClr val="04617b"/>
              </a:solidFill>
              <a:latin typeface="Calibri"/>
            </a:endParaRPr>
          </a:p>
        </p:txBody>
      </p:sp>
      <p:pic>
        <p:nvPicPr>
          <p:cNvPr id="224"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ther Factors Teaching</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Attitud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Knowled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Belief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liefs about the learning of mathematic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as learn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attitu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titude towards stud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al contex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What should a 21</a:t>
            </a:r>
            <a:r>
              <a:rPr b="0" lang="en-US" sz="3200" spc="-1" strike="noStrike" baseline="30000">
                <a:solidFill>
                  <a:srgbClr val="04617b"/>
                </a:solidFill>
                <a:latin typeface="Calibri"/>
              </a:rPr>
              <a:t>st</a:t>
            </a:r>
            <a:r>
              <a:rPr b="0" lang="en-US" sz="3200" spc="-1" strike="noStrike">
                <a:solidFill>
                  <a:srgbClr val="04617b"/>
                </a:solidFill>
                <a:latin typeface="Calibri"/>
              </a:rPr>
              <a:t> Century Teacher Look Like?</a:t>
            </a: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http://education-2020.wikispaces.com/About+EDUCATION+2020</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eaching</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onstantia"/>
              </a:rPr>
              <a:t>How should mathematics be taugh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 as a teacher what does research tell us: What is most important?</a:t>
            </a:r>
            <a:endParaRPr b="0" lang="en-US" sz="45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dagog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chnolog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D Talks: Teaching Kids Real Math with Computers » Mathematically Sane</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http://mathematicallysane.com/ted-talks-teaching-kids-real-math-with-comput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 you think?</a:t>
            </a:r>
            <a:endParaRPr b="0" lang="en-US" sz="5000" spc="-1" strike="noStrike">
              <a:solidFill>
                <a:srgbClr val="04617b"/>
              </a:solidFill>
              <a:latin typeface="Calibri"/>
            </a:endParaRPr>
          </a:p>
        </p:txBody>
      </p:sp>
      <p:pic>
        <p:nvPicPr>
          <p:cNvPr id="204"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Goofy - Teachers Are People</a:t>
            </a:r>
            <a:br>
              <a:rPr sz="4500"/>
            </a:br>
            <a:endParaRPr b="0" lang="en-US" sz="45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http://www.youtube.com/watch?v=dMdTBep3W9c&amp;feature=rela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does research tell us about pedagogy? Call it what you would like!</a:t>
            </a:r>
            <a:br>
              <a:rPr sz="4500"/>
            </a:br>
            <a:endParaRPr b="0" lang="en-US" sz="4500" spc="-1" strike="noStrike">
              <a:solidFill>
                <a:srgbClr val="04617b"/>
              </a:solidFill>
              <a:latin typeface="Calibri"/>
            </a:endParaRPr>
          </a:p>
        </p:txBody>
      </p:sp>
      <p:pic>
        <p:nvPicPr>
          <p:cNvPr id="208" name="Content Placeholder 3" descr=""/>
          <p:cNvPicPr/>
          <p:nvPr/>
        </p:nvPicPr>
        <p:blipFill>
          <a:blip r:embed="rId1"/>
          <a:stretch/>
        </p:blipFill>
        <p:spPr>
          <a:xfrm>
            <a:off x="378000" y="1127160"/>
            <a:ext cx="8242200" cy="529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odels of Mathematics Teaching</a:t>
            </a:r>
            <a:endParaRPr b="0" lang="en-US" sz="45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sed on review of literature in mathematics education, the philosophy of mathematics, the philosophy of education and research on Teaching and Learning, Kuhs and Ball (1986) identified “at least four dominant and distinctive views of how mathematics should be taugh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odels of Mathematics Teaching</a:t>
            </a:r>
            <a:endParaRPr b="0" lang="en-US" sz="45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earner focus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ntent focused with emphasis on conceptual understand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ntent focused with an emphasis on perform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lassroom focus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0T18:15:02Z</dcterms:created>
  <dc:creator>Maria</dc:creator>
  <dc:description/>
  <dc:language>en-US</dc:language>
  <cp:lastModifiedBy>Maria Mitchell</cp:lastModifiedBy>
  <dcterms:modified xsi:type="dcterms:W3CDTF">2011-02-14T15:41:02Z</dcterms:modified>
  <cp:revision>24</cp:revision>
  <dc:subject/>
  <dc:title>Models of Mathematics Teaching</dc:title>
</cp:coreProperties>
</file>