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4B0-1CC3-4EEC-881C-2CFB26C7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1BF-222A-4291-B47A-0E51A51C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9EE-59C3-4276-8F6D-EB4D36CA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EC0-87B2-4662-9D7F-C774E5A6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D43-7011-41FC-9C5A-D34BE44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A82-75F3-4881-9E65-91C7B849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A72-276C-43E9-BFA1-4107ED23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79C-E0EB-4D21-A0BA-08B49E3A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5084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B3E-AC3B-435A-8D1E-DDE6A9D7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EED-46A9-40F4-A046-3E79F2B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AC3-F614-4672-B84F-FC9310E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83F-BD0F-4B7E-8EC1-38B70896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51"/>
              </a:spcAft>
              <a:buClr>
                <a:srgbClr val="d5c7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751"/>
              </a:spcAft>
              <a:buClr>
                <a:srgbClr val="d5c7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751"/>
              </a:spcAft>
              <a:buClr>
                <a:srgbClr val="d5c7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90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200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808A-2BE6-4533-AD72-3E802CEE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509720" y="1059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362320"/>
            <a:ext cx="1447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e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e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e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e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-BoldMS"/>
              </a:rPr>
              <a:t>Playing board for the game Crooked Rul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18921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46320" indent="-346320"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dr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18921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46320" indent="-346320"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18921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46320" indent="-346320"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1.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would you tackle these calcul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4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–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4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7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4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+ 843 + 2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4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3.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ing how you did the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 work out each calc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did it another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the easiest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d you jot down to help you? How did this help and how might you encourage pupils to use jott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3.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ng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you surprised by any of the methods others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you taught to use any of these methods a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 you think you use them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you use the same method for both additions?  If not,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having to explain your method help you in an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hearing any other person’s method help you in any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3.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would you tackle these calculation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out tot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Aft>
                <a:spcPts val="901"/>
              </a:spcAft>
              <a:buClr>
                <a:srgbClr val="d5c72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+ 8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Aft>
                <a:spcPts val="901"/>
              </a:spcAft>
              <a:buClr>
                <a:srgbClr val="d5c727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+ 7 + 8 + 6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Aft>
                <a:spcPts val="901"/>
              </a:spcAft>
              <a:buClr>
                <a:srgbClr val="d5c727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+ 17 + 16 + 12 +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e274"/>
                </a:solidFill>
                <a:latin typeface="Arial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£2.54 + £2.67 + £1.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3.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al and horizontal recor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2400" y="1978200"/>
            <a:ext cx="7242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5 –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3.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ree-part les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l and mental activ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l and mental calculation for the whole class to rehearse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en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part of the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teaching input and pupils’ activities including work as a whole class, in groups, in pairs or indivi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Aft>
                <a:spcPts val="675"/>
              </a:spcAft>
              <a:buClr>
                <a:srgbClr val="d5c72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upils involv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up any misunderstandings and identify prog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se and reinforce the key learning points and what pupils should remember and discuss 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4.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and mathema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 talking and listening to each other and to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 listening to pupils’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kinds of ques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4.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ing the role of the TA in the vide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as the girl encouraged to test her answers on the 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important that she is encouraged to do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best seating position during whole-class interactive mental and oral activities?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 encourages the girl to use the fraction wall.  What problem do you think she migh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fraction wall hel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know of any other resources that could be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ould the TA have helped he two pupils before the Follow Me card activity beg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the TA used these activities for assessment for learning purpo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4.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ole of the TA in the oral and mental activity (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responsible for a small group of pupils to ensure they take part in the lesson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819520"/>
            <a:ext cx="69343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62440" indent="-26244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ing them to join in count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440" indent="-26244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ing them to sit still and take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440" indent="-26244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them to repeat in a whisper what they 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440" indent="-26244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a smaller version of the resource used by the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440" indent="-26244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ing pupils to use resources such as ‘fan’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4.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ole of the TA in the oral and mental activity (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responsible for a small group of pupils to ensure they take part in the lesson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819520"/>
            <a:ext cx="693432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ing discreetly questions the teacher asks and helping the pupils find an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ing the teacher if a pupil has an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ing questions that will help pupils to think when they are discussing in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ing pupils and making notes about their responses to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4.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features of mathematics within the Primary National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rategy invol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uctured, daily mathematics lesson of 45–60 minutes, depending on the pupils’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hasis on mental calculation with oral and mental work in each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, interactive teaching of the whole class, with as many pupils as possible taking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work in which pupils in three or four groups work at different levels on the same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activities for pupils to do out of class and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ary Framework offers teachers guidance on planning and teaching to help all children to learn mathematics and make good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1.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the TA in the vid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19224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main differences in the way the TA supports pupils during whole-class interactive teaching and during group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19224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is it important for the TA to be present during the direct teaching that takes place before the group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19224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the teacher and the TA help pupils when they have difficulties without simply telling them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19224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dvantage does the TA have over the teacher while she is involved in direct teac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5.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a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upport a group of pupils playing a game li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in the wa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r role differ if pupils were carrying out a practice exercise or solving mathematical word problems rather than playing a g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ind of feedback do you think you might g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5.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A’s role when working with a group (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129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upils are playing a g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y all understand the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force social skills such as taking turns and not interrupting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pupils to describe the mental strategies they used and help them to refine these, using jottings on the empty number line where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them to work out and consider carefully any options available to them in the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for the teacher any number facts the pupils find hard to remember and any observations about pupils who have found the task difficult or who have been particularly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5.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3152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A’s role when working with a group (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pupils are carrying out practice exercises or solving word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Aft>
                <a:spcPts val="60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 they understand what they have to do and then moni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they are performing the task cor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Aft>
                <a:spcPts val="60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questions or give them clues when they are stuck but don’t let them become too dependent on adult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Aft>
                <a:spcPts val="60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to keep them on task and remind them how much time the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to complete the exerc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Aft>
                <a:spcPts val="60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them to learn, read and use mathematical words and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to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Aft>
                <a:spcPts val="60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sure that they check answers for ‘reasonablenes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Aft>
                <a:spcPts val="60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e them to tell you how they tackled certain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Aft>
                <a:spcPts val="60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what pupils have learned or any mathematics they need more help with so you can share it with the 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5.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ing feedb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ion any misunderstandings pupils had in relation to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how far pupils got with th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what they found easy and/or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ion a pupil who has done particularly well or who has found the work particularly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‘support’ and ‘next steps in learning’ with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5.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ing in the Early Years Foundation Stage (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on practical, active, imaginative and enjoyabl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 are given many opportunities to develop their speaking and listening skills and to use mathematical language during play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vironment, daily routines and activities will be planned to give pupils opportunities for mathematic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 will be given opportunities to practise and talk about their developing understanding in a broad range of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6.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ing in the Early Years Foundation Stag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s put greater emphasis on using stories, songs, rhymes and finger games to help with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al activities will be planned for both indoors and outdo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 are encouraged to explore problems, to make patterns and to match and coun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s plan from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riculum guidance for the Foundation S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objectives in the renewed framework for teaching mathematics, which are in line with the early learning goals for the Early Years Foundation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6.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50480" y="685440"/>
            <a:ext cx="64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the daily mathematics experience at Early Years Foundation S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tivity with a group or all pupils, often involving some counting, songs or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-led activities for smaller groups of pupils, focusing on the main topic of the day or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activities, initiated either by the teacher or by the pupils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learning when the activities have ended, not necessarily every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6.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6854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 clip: working with children in the Early Years Foundation S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he TAs involve the pup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rt of questions do they 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y help the pupils to work and play together in any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hey develop mathematical vocabul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Aft>
                <a:spcPts val="751"/>
              </a:spcAft>
              <a:buClr>
                <a:srgbClr val="d5c72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are they in helping the pupils learn new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70b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at else could they do to help the pupils with their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6.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individuals and small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684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children talking about what they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hem understand what they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hem to work and play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se them with the rules of mathematical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hem to develop, learn and use new mathematic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hem use mathematic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them open questions to get them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840" indent="-276840">
              <a:spcAft>
                <a:spcPts val="751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and talk to them to find out what they have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6.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aching assistant’s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ning the lesson with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pupil’s progress and difficu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learning resources and classroom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ting the class ready to begi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ing our lear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ing pupils with correct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1.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 nice th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828800"/>
            <a:ext cx="0" cy="4495680"/>
          </a:xfrm>
          <a:prstGeom prst="line">
            <a:avLst/>
          </a:prstGeom>
          <a:ln w="25560">
            <a:solidFill>
              <a:srgbClr val="d6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2640" y="2590920"/>
            <a:ext cx="7467480" cy="0"/>
          </a:xfrm>
          <a:prstGeom prst="line">
            <a:avLst/>
          </a:prstGeom>
          <a:ln w="25560">
            <a:solidFill>
              <a:srgbClr val="d6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981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A’s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198108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B’s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6.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aching assistant’s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ing pupils use mental, informal or formal methods of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new mathematics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ing pupils read and understand what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ing pupils questions to probe and secure their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pupils in their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d5c7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ing pupils see the links with other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1.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out the 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762120" cy="762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057400"/>
            <a:ext cx="5335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057400"/>
            <a:ext cx="5335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057400"/>
            <a:ext cx="5335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722680"/>
            <a:ext cx="53352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722680"/>
            <a:ext cx="53352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2722680"/>
            <a:ext cx="53352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387600"/>
            <a:ext cx="5335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387600"/>
            <a:ext cx="5335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387600"/>
            <a:ext cx="5335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057400"/>
            <a:ext cx="609480" cy="527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2057400"/>
            <a:ext cx="609480" cy="527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743200"/>
            <a:ext cx="609480" cy="527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352680"/>
            <a:ext cx="609480" cy="527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352680"/>
            <a:ext cx="609480" cy="527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343400"/>
            <a:ext cx="8380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343400"/>
            <a:ext cx="8384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5008680"/>
            <a:ext cx="8380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5008680"/>
            <a:ext cx="8384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2.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out the 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057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038480"/>
            <a:ext cx="8380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124080"/>
            <a:ext cx="533160" cy="533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3809880"/>
            <a:ext cx="533160" cy="533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495680"/>
            <a:ext cx="533160" cy="533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3809880"/>
            <a:ext cx="533160" cy="533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809880"/>
            <a:ext cx="533160" cy="533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2057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057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2666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276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3276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276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648320"/>
            <a:ext cx="8380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5257800"/>
            <a:ext cx="8380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2.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 for the tea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objectives for the lesson (year 1, block B, unit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simple patterns and relationships involving numbers or shapes; decide whether examples satisfy give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an use numbers or shapes to make patterns of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an describe their pattern so that others can mak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Aft>
                <a:spcPts val="675"/>
              </a:spcAft>
              <a:buClr>
                <a:srgbClr val="d5c727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pee and Paul can tell each other how to continue their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2.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50840" y="685800"/>
            <a:ext cx="778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e’s 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1981080"/>
            <a:ext cx="7162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calculation Marie was asked to do:</a:t>
            </a:r>
            <a:r>
              <a:rPr b="0" lang="en-US" sz="2000" spc="-1" strike="noStrike" baseline="2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7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r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 + 47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86280" y="2540160"/>
            <a:ext cx="4572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2.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5084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ie’s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your purse you have lots of 5p, 10p and 20p co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ould you pay for some fruit costing 45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slide 2.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2:56:01Z</dcterms:created>
  <dc:creator>Shuk Chang</dc:creator>
  <dc:description/>
  <dc:language>en-US</dc:language>
  <cp:lastModifiedBy>keehnb</cp:lastModifiedBy>
  <dcterms:modified xsi:type="dcterms:W3CDTF">2007-08-31T19:00:29Z</dcterms:modified>
  <cp:revision>66</cp:revision>
  <dc:subject/>
  <dc:title>PowerPoint Presentation</dc:title>
</cp:coreProperties>
</file>