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D22-48B1-40EA-AD48-416F4C8E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FDA-407C-458E-84CA-8C3BDB1A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EBD-6D72-41EF-8AF1-B88C15E4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238-BE27-446C-B850-5F50B8F6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DA89-4B12-4064-9A1E-2AB676E9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7522-A6C7-475C-B60E-93E83212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E635-8C52-4F06-81F9-CF23F532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934C-790A-4C76-9B2E-BBB8C6FA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AB06-769A-4F74-9E1F-18B5412F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F535-AE8C-439F-83EF-7DE2233D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9ED0-3976-4A91-9FCE-6044CCF1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9DD-7502-40AD-ACA6-6603E4BE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56DA-CBAD-40D6-9ABF-24147ACF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9194-5CF1-4B3D-A0B9-29AA8F49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ED0C-2EAC-48EB-9CDE-D611128F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52C5-2C44-49E6-BAE4-83198526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7B0A-1A1E-44C0-B92B-E06CFAE9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EE6-8749-47B0-8A44-0FEB78A4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803-165B-44B8-A9F4-A589106E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A27-541A-481F-A2F0-84454C44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81D-248D-468F-9BFF-E2AB7A32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BDD-3F8E-49D0-83DD-9BDA259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0EF-6823-46C4-871C-27FCC2AA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E34-3AC9-4888-AAD2-9D6BFE1B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4A77-6312-4B47-937E-3C64BE880DC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5902-BA80-4EAE-A9A8-ADDBE4CF63F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48000" y="262080"/>
            <a:ext cx="53294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4c3aa"/>
                </a:solidFill>
                <a:latin typeface="Arial"/>
              </a:rPr>
              <a:t>Creating a </a:t>
            </a:r>
            <a:br>
              <a:rPr sz="4000"/>
            </a:br>
            <a:r>
              <a:rPr b="0" lang="en-AU" sz="4000" spc="-1" strike="noStrike">
                <a:solidFill>
                  <a:srgbClr val="c4c3aa"/>
                </a:solidFill>
                <a:latin typeface="Arial"/>
              </a:rPr>
              <a:t>Learning Environmen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716000" y="2707920"/>
            <a:ext cx="4427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Managem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hallenges Confer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May 200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292720" y="2593800"/>
            <a:ext cx="1081080" cy="6177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867280" y="6222960"/>
            <a:ext cx="3353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Dr Susan La Marc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lanning informed by policy 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We don’t have that nice little lounge room bit – we can’t put it in and the bit we have is disappearing as we put in more computers.’  (Teacher-Libraria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La Marca, 2003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exible, responsive spaces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exible, responsive spaces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flexibility puts control in the hands of the educator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Davidson, 200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exible, responsive spaces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Radiant streams of sunlight...Window seats, balconies, triple story atriums, curved passageways, upholstered furniture, multifunction meeting rooms, huge closets and rooftop gardens.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Davidson, 200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exible, responsive spaces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Design principle 7 – consider home a template for school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Design principle 12 -  allow for different size learning group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Design principle 23 – weave together virtual and physical learning sp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Lackney, 2003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exible, responsive spaces 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A library needs architectural authority to sell the idea that learning is culture’s hot zone. It has to offer retreats for solitary study and forums for active engagement.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Hackett, 200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cess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cess 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Space as a social and political constru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cess 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Learning for all.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VELS Overview, p.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cess 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Equal access to facil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Equal access to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476000" y="1557360"/>
            <a:ext cx="29624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Verdana"/>
              </a:rPr>
              <a:t>VELS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4503600" y="4106880"/>
            <a:ext cx="32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Verdana"/>
              </a:rPr>
              <a:t>The Design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Verdana"/>
              </a:rPr>
              <a:t>Library Sp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4618440" y="1332360"/>
            <a:ext cx="1800360" cy="288108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2881080"/>
              <a:gd name="textAreaBottom" fmla="*/ 288144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bience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bience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‘…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.it’s got to be an environment that’s exciting, interesting and challenging…So if she can break down the barriers, which she has done, I think it then opens up so many more avenues for the students.’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(Vice Principal)’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La Marca, 2003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bience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The need to be noticed.’  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Hackett, 200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bience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olor is not decoration; it is a teaching tool, an alphabet of light.’ 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Myerberg, 2002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bience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Task orientated ligh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Natural ligh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bience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Comfortable seating, carpets, quiet corners and private niches are hallmarks of rooms where students get down to work.’  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Davidson, 2001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ole of students and the wider school community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tudents appreciate a library media center where professionals and staff welcome them and allow them 'ownership' privileges.</a:t>
            </a: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Doll, 1992, p 22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ole of students and the wider school community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Involve community support based on sound educational princip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010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Verdana"/>
              </a:rPr>
              <a:t>Implications for desig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Verdana"/>
              </a:rPr>
              <a:t>Planning informed by poli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Verdana"/>
              </a:rPr>
              <a:t>Flexible, responsive spa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Verdana"/>
              </a:rPr>
              <a:t>Ambi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Verdana"/>
              </a:rPr>
              <a:t>The role of students and the school commun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80880"/>
            <a:ext cx="296244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Verdana"/>
              </a:rPr>
              <a:t>VEL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5400000">
            <a:off x="2855880" y="115560"/>
            <a:ext cx="1741320" cy="288144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4c3aa"/>
                </a:solidFill>
                <a:latin typeface="Arial"/>
              </a:rPr>
              <a:t>Building the futur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‘…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ropose that students need to develop a set of knowledge, skills and behaviours which will prepare them for success in a world which is complex, rapidly changing, rich in information and communications technology, demanding high-order knowledge and understanding and increasingly global in its outlook and influences.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VELS Overview, p. 4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udents need to develop the capacities to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Manage themselves as individuals and in relation to oth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Understand the world in which they live 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ct effectively in that world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VELS Overview, p. 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derpinning VELS is a ‘clear set of educational principles which reflect the community’s expectations for schooling’. These are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Learning for 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ursuit of excell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Engagement and eff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Respect for evid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penness of mi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Verdana"/>
              </a:rPr>
              <a:t>(VELS Overview, p. 4 - 5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and - Interdisciplinary Learning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Communic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Design, Creativity and Technolo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Information and Communications Technolo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ink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Verdana"/>
              </a:rPr>
              <a:t>(VELS Overview, p. 7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der implications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library mission stat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policy docu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ll submis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ny future design or refurbishment project brief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mplications for design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Planning informed by poli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Flexible, responsive spa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c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Amb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he role of the student and the school commun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lanning informed by policy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06:39:14Z</dcterms:created>
  <dc:creator>mlamarca</dc:creator>
  <dc:description/>
  <dc:language>en-US</dc:language>
  <cp:lastModifiedBy>SLM</cp:lastModifiedBy>
  <dcterms:modified xsi:type="dcterms:W3CDTF">2005-05-05T11:15:49Z</dcterms:modified>
  <cp:revision>26</cp:revision>
  <dc:subject/>
  <dc:title>Creating a Learning Environment</dc:title>
</cp:coreProperties>
</file>