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D5D-CEE2-4DE1-96BD-2C1B883C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49F-88EE-4E0E-8F06-4651F168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5CE-B7DB-4000-82D8-CDFFBE34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B94-FB3B-49F1-A15F-AE0461D0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98BE-1358-46B1-A3DF-804151CC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3940-089C-4BC2-9CE7-B3FB69BF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ACDD-EFA3-4492-A423-BE7B7C09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6D23-F0CC-4683-B422-0865422F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DD12-4895-4377-8A2B-8C7E2633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2B5D-4AB0-4752-9853-67501057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DC14-7DEB-42EC-AF94-BB9B0D9A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EB9-44DA-487E-BC64-BAE1658B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82ED-915A-4853-A173-16E72777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4213-0259-4A03-9EB4-AF35EF23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2ABA-3C3D-4963-B151-4266ED32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E033-0EBA-4ADB-9EFF-12383D92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085F-90E1-41E5-8BB9-1B83C145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6A07-AD06-4F52-AAD3-418EB7A4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997D-0735-4FD9-8D8F-409CEF23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C5696-E180-42EE-81C3-89FD67EA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3D33-ED0C-46E4-8B6B-B5568EB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6447-3C33-4680-921D-E5F94DDE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753-2977-4D24-B463-8654F5B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D25A-1D7B-4D89-9AAD-3C88A271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7FA2-C05E-4745-8DCB-095BE06B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F659-B6F2-4627-BA88-021577F6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072C-5DBB-4D12-9F4C-AFCA778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3720B-80B3-4DEC-AB42-19C40EB4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3493-FF6C-4ED3-8365-B77D15B1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712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9640" y="175212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712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9640" y="4020840"/>
            <a:ext cx="220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F579-7B6A-4F1B-B602-A898E1F1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C60-A4D2-4EFA-A119-425C1B3F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3B0-4BA8-4440-AF36-D0FDF1ED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858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FEC-57ED-49EF-A4BE-7800E724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566-5180-4509-8096-EA945FF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6800" y="402084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1A6-BD0C-43A9-A391-C06708DD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6800" y="1752120"/>
            <a:ext cx="334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020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17E-B54B-4169-BEB1-3E5A30D9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D49D-45C2-4869-843D-1371B06AC0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F9D9-106C-4D8E-B351-AFDD3BF5F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5228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09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409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C60F-9216-42C7-BD03-105B1F633B29}" type="slidenum">
              <a:rPr b="1" lang="en-US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54100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57C6-6044-4371-BEB7-A0C796EC40C2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5334120" cy="390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Creating Productive Learning Environments</a:t>
            </a:r>
            <a:br>
              <a:rPr sz="4800"/>
            </a:br>
            <a:endParaRPr b="0" lang="en-US" sz="48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5640" y="4190760"/>
            <a:ext cx="5715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ED 1010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DE23-1701-439E-939A-863B9EB35E9C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Personal Teaching Efficacy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elief that you can make a difference as a teach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rnal locus of contro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ansfers to stud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E64B-2066-4EC3-B479-5A257DFE3DE9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Positive Teacher Expectation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eachers’ beliefs in students’ capabilities to lear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ays that teachers communicate positive expect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motional sup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eacher effort and demand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eractive question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edback and evalu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8A90-D86C-449E-B39B-7CCD539F9277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Modeling and Enthusiasm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tendency of people to observe and imitate others’ behaviors and attitud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monstrate interest and enthusiasm in topic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el appropriate behavio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9D60-DBF9-4D80-A62C-A888D90A7D7B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Classroom Management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mpact does classroom management have on learning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s you have observed, have you seen good and bad examples of classroom management?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made it “good”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made it “bad”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57CE-9E2D-42BC-AE59-14F850BDA181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assroom Management Goal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6858000" cy="28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veloping learner respons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eating a positive classroom climate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ximizing opportunities for learning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4A16-E385-4743-ACAE-33F2A3BF2536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Dimensions of Classroom Time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llocated time: amount designated for a particular topic or subjec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structional time: amount left for teaching after routine management and administrative tasks are complete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gaged time: time students actually spend actively involved in learning activ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cademic learning time: amount of time students are both engaged and successfu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386B-7C2D-4BD6-9A9E-CEBDD6AD0E17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g11_00100"/>
          <p:cNvPicPr/>
          <p:nvPr/>
        </p:nvPicPr>
        <p:blipFill>
          <a:blip r:embed="rId1"/>
          <a:stretch/>
        </p:blipFill>
        <p:spPr>
          <a:xfrm>
            <a:off x="1295280" y="6480"/>
            <a:ext cx="693432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E90B-59F8-4E30-B6BF-5F61022B4196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Elements of </a:t>
            </a:r>
            <a:br>
              <a:rPr sz="3600"/>
            </a:b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Successful Management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52480" y="1922040"/>
            <a:ext cx="6858000" cy="38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venting problems through plann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cedur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rvening effectivel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andling serious management problem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E971-FAD5-48E1-A6A4-3960FC6DF512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62c"/>
                </a:solidFill>
                <a:latin typeface="Arial Black"/>
              </a:rPr>
              <a:t>Common Classroom Activities Requiring Procedures</a:t>
            </a: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tering and leaving the classro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anding in and returning pap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ccessing materials such as scissors and pap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harpening pencil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king trips to the bathro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king up work after an absen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F76D-F20D-43CF-9807-62BFC19F86F1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Guidelines for </a:t>
            </a:r>
            <a:br>
              <a:rPr sz="4000"/>
            </a:b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Effective Rule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52480" y="2410920"/>
            <a:ext cx="68580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te rules positivel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mphasize rationales for rul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inimize the number of rul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nitor rules throughout the school year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8C8-19A4-441D-BA1D-D7B0111FC3CE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Characteristics of Productive Learning Environments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focus on learning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ffective schools: Academic focu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focus on learners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ssrooms as learning commun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rsonal and social develop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sitive classroom clima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6F0-5F01-4A73-9650-942F42CEA3BA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Guidelines for </a:t>
            </a:r>
            <a:br>
              <a:rPr sz="3600"/>
            </a:b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Effective Interventions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480" y="2922120"/>
            <a:ext cx="6858000" cy="24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rvene immediatel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rect the intervention at the correct student(s)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se the least intrusive interven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F048-7F33-4F77-8D79-D6BC29F02373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62c"/>
                </a:solidFill>
                <a:latin typeface="Arial Black"/>
              </a:rPr>
              <a:t>Serious Management Problems: Violence and Aggression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st management problems are minor and involve day-to-day logistical and cooperation issu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eps to follow when serious problems aris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op the inciden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tect the victi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 help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eachers are legally required to intervene when problems occur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ek the advice of administrators and veteran teacher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91E9-7695-430C-8839-55B5970B9214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62c"/>
                </a:solidFill>
                <a:latin typeface="Arial Black"/>
              </a:rPr>
              <a:t>Effective Classroom Management in Urban Schools</a:t>
            </a:r>
            <a:endParaRPr b="0" lang="en-US" sz="28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re challenging because of student diversity and large class siz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sential components for effective management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aring and supportive teache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ear standards for acceptable behavior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tructure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ffective instruc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172200" y="5943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de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5AED-E986-4250-B7D7-734C6829162E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Benefits of Involving Parent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52480" y="2046240"/>
            <a:ext cx="6858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reater willingness to do homework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igher long-term achieve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re positive attitudes and behavior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etter attendance and graduation rates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reater enrollment in postsecondary education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75E9-EA50-466B-8BCC-3F9DE196E1BB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Strategies for Involving Parent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mmunicate early, positively, and ofte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y email communica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Get to know stud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Use newsletters and individual notes to emphasize positive student accomplishment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E10B-D728-44FB-833C-0284B470C60E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Communicating with Parents </a:t>
            </a:r>
            <a:br>
              <a:rPr sz="3600"/>
            </a:b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from Diverse Backgrounds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ultural diversity, SES, and caregivers for whom English is not the first language all pose communication challenge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ffective teachers make a special effort to reach out to these parent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nding home homework guidelines and suggestions are effective in involving parents in their children’s educa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50D1-8C39-4BC2-9C28-87FBAC56F8AE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lassroom as </a:t>
            </a:r>
            <a:br>
              <a:rPr sz="4000"/>
            </a:b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Learning Communities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lusiveness: all students participate and believe they can succee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pect for others: students respect the teacher and other student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afety and security: students feel safe and protecte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rust and connectedness: students count on each other for help and assistanc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648320" y="41148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lind Caterpillar:  Team Buil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572000" y="55627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ke a Machi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5CFA-ABBC-439A-B29B-5115E05CF4F6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Personal Developmen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1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lf-discipline and motivation to lear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ganizational skills and goal sett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sonal and moral responsibilit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trol of personal impuls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lf-awareness in terms of personal strengths, needs, and valu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64FE-EB7D-4B58-96EF-08A6919BACE7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Social Development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udents’ ability to interact with and get along with oth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spective taking: the ability to understand the thoughts and feelings of oth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cial problem solving: the ability to resolve conflicts in ways that are beneficial to all involv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3505320" y="60958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flict Resolution Scenari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0C6D-5FD0-4C42-90BA-C2B3BB94A747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415440"/>
            <a:ext cx="762012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62c"/>
                </a:solidFill>
                <a:latin typeface="Arial Black"/>
              </a:rPr>
              <a:t>Social Skills That Develop in Productive Learning Environments</a:t>
            </a:r>
            <a:endParaRPr b="0" lang="en-US" sz="32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2263680"/>
            <a:ext cx="68580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spective tak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cial problem solv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spect for other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orking cooperatively with classmat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mpathy and compas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ppreciation of diversit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4447-C62E-4ECD-A5D1-FA7419A6957B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Positive Classroom Climate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motional and physical environment of a classro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leasant surrounding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splays respect stud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cedures for a safe and orderly classroom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pectful and friendl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EABF-4F26-4BB2-8EEF-2E2CB34D868D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462c"/>
                </a:solidFill>
                <a:latin typeface="Arial Black"/>
              </a:rPr>
              <a:t>Essential Human Elements of Productive Learning Environments</a:t>
            </a:r>
            <a:endParaRPr b="0" lang="en-US" sz="36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480" y="2630160"/>
            <a:ext cx="6858000" cy="26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r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ersonal teaching efficacy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sitive expect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eling and enthusia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19FA-ED78-4BCF-AAF9-95EFD241C45A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8462c"/>
                </a:solidFill>
                <a:latin typeface="Arial Black"/>
              </a:rPr>
              <a:t>Communicating Caring</a:t>
            </a:r>
            <a:endParaRPr b="0" lang="en-US" sz="4000" spc="-1" strike="noStrike">
              <a:solidFill>
                <a:srgbClr val="98462c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earning students’ names quickly and calling on students by their first nam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reeting students daily and getting to know them as individua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ing effective nonverbal communication such as making eye contact and smil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sing “we” and “our” in reference to class activities and assignm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pending time with studen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monstrating respect for students as individuals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4191120" y="61722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ma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d</cp:lastModifiedBy>
  <dcterms:modified xsi:type="dcterms:W3CDTF">2010-03-15T18:22:32Z</dcterms:modified>
  <cp:revision>13</cp:revision>
  <dc:subject/>
  <dc:title>Chapter 11 Creating Productive Learning Environments</dc:title>
</cp:coreProperties>
</file>