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FF0-0445-4845-BDB6-00D5483F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CAF1-B6D0-4FCD-8232-E5A034CF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ECB-D8C7-4F4F-B347-5C881BD2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9EA1-037D-45D2-8679-4F8A01F9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1242-08E2-4E98-BB04-F37A4F35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5EB3-2745-43E6-97BC-4DD21D98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3748-73B7-4DD5-B6D0-3C680617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6FD0-022A-4446-802E-D054BEEB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70BE-6CDE-4D3A-ADD6-BC950542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8C4B-C66E-44D0-AED4-85E48273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C936-8408-462E-9B4E-B101AEA7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7D7-C0D5-4EC1-842D-F0E4D22A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164A-9947-44B6-BD15-64B8975F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7577-6295-4862-9F1D-30D7AA0A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0DE5-4C10-4111-826A-1A9AD100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D707-09D3-4A5C-9569-74A22EA6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8264-D505-4745-9D86-B739C73C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1C83C-26C1-4FD2-A645-191F40A6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ED4BC-69CF-449B-B8C4-039461D1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0FD6B-E45A-48F7-91C0-5CDEF098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A8A1B-2400-4BF2-839F-247308E4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F92EE-F793-4275-9DE4-056AABD6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B9BD-7F80-4194-9D5A-FC7298C6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FAA22-CE7A-46AF-85C8-90DA2EA0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2FE52-AFE1-4E8B-9A81-422FB414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39770-9A5D-432D-9EA4-EA8746D3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F2F18-13CA-48AA-AF63-5193CE93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8130B-BC1B-4A72-82A0-49F86397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57CFF-502C-4ADF-BEAD-CC990AF5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C106E-C19A-449F-ADC4-9850C479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1DE63-F94A-41FE-92E8-F855CE3F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F3722-75F5-429D-A5C5-14E74967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B4642-B961-42BF-9B3B-259934D4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B59-6784-4C8B-9640-43A8435F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9B130-221F-4EDD-98DB-37F63182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E7834-54E7-474E-BE1D-1DE444A3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86EF4-94E7-47C4-9321-1C3E062B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DF8CF-B465-4179-ACD5-C80F1EBE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1563E-6D12-4F68-8114-C569F8DE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873AA-D463-4DA6-922E-3CE79114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472D7-320B-4FC6-A6E5-716A9C97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DDF47-E5EC-4E32-B7DE-69AB2FA9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FFB76-6E15-4A7B-AE88-24C71696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5E8E5-375F-441E-865B-5B8FC55F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E3E-917A-4153-BBC8-8D006FB0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E8EF2-4136-4503-853D-29FFDCB3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E3B90-93E6-4BA3-8771-702C0044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57052-3D6B-49CE-93A3-7E31EDEC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C05A8-1A60-4ACF-A3CE-09CAE16C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55BDB-CC94-4545-A753-19CF2EDD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BBAAA-557C-4398-9EB9-956945E2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F2BFA-39E6-4861-BEBF-FB453A21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37C27-5258-457C-AF0B-C38B1051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D2A84-ABAA-4182-B1DD-BEC2393D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A4E5E-39AA-4FEF-94EC-DA2FDC73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3D26-59C4-4E96-BA52-9D49EE35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D4543-2F08-4DAC-9F38-285F6FE9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AC3-ECAB-4BA9-AB47-AA349C41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98D-1889-485A-8D61-CD9EA7D5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EAFA-F7C8-4828-B8E6-6E2CC48A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8D3B-49F4-403C-91BA-7F190BA623AE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3737-9702-4086-8A6B-B445688C0E20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CA6F-AEE0-4C57-AF1A-860D0401A0D4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94EB-26E7-47A0-AAB6-A35EA94DE8CD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D064-F541-4383-9B29-271C13C91C4E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HzTUYAOkP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4885e9"/>
                </a:solidFill>
                <a:latin typeface="Verdana"/>
              </a:rPr>
              <a:t>The Classroom Learning Environment</a:t>
            </a:r>
            <a:endParaRPr b="1" lang="en-US" sz="45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8386"/>
                </a:solidFill>
                <a:latin typeface="Verdana"/>
              </a:rPr>
              <a:t>Chapter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anter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rtive Discip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have professional rights as an educ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will choose how to behave in your 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early state expectation in firm voice and explain bounda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 a system of positive consequ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sitive call/letter/e-mail h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ertificates of awar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pecial privile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throu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Dreikurs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879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gical Consequ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 fair, firm and friend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olve students in developing and implementing ru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gical consequences for misbehavi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ffit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er pres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w respect for self and oth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son to belo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/encourage student achie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, but do not reward, students seeking attention, power or reven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Glasser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lity Therap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s of the present rul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have a responsibility to learn while at school and to maintain appropriate behavi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can make appropriate choi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 meet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need to feel like they belong, are loved, in control, have freedom, can have fu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y do not, they will fai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Ginot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ion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d messages about the situation, not about the chil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 the behavior you wa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d positive messa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ress feelings appropriatel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knowledge student feeling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ive appropriate direc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ite cooper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Jones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nes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erly structure your classroom so that students understand the rule and procedu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control by selecting appropriate instructional strateg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ild patterns of cooperative 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backup methods for dealing with inappropriate student behavi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Verdana"/>
                <a:hlinkClick r:id="rId1"/>
              </a:rPr>
              <a:t>http://www.youtube.com/watch?v=gHzTUYAOkP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Become an Effective Teacher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um of Classroom Distr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y your knowledge of your students to create a pleasant classroom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, practice and develop model behaviors that facilitate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a conducive learning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ed on what you have lear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ed on what you pref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ed on school/district man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ed on educational ethics and la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85e9"/>
                </a:solidFill>
                <a:latin typeface="Verdana"/>
              </a:rPr>
              <a:t>Conducive Classroom Learning Environment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otionally saf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content and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e content and particip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, most important factor influencing student lear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Perceptions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879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lieve in yoursel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lieve in your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you think they cannot learn, they will no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 good teachers d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ow, when given support that all students can lea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ct the b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n environment that motivates stud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effici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Perceptions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much you know will not matter unless students perceive th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lassroom environment is supportiv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re about their learn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respect them as human being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are welcome in your cla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ctations are challenging but not impossi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comes are worthy of their time and effor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assroom Control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00’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ipline, punish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 finished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ory assumed that all children were ba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appropriate behavior was students’ fault and must be punish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assroom Control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00’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s still misbeha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nitive measures did not 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a of progressive behavi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ildren learn through play, experimentation, inqui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ildren should have a voice in what they lear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’ job was to provide rich learning experi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assroom Control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room control, not discip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st teachers are in control of the events taking place in the classroo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room management and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vent inappropriate 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lp students develop self contro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ave procedures in place to take care of mis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lectic philosop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B. F. Skinner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havior Mod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behavior to be modif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 how often and when that behavior occ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ge by reinforcing desired behavior with positive reinforc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oose appropriate reinforc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of computers for creativity (monitored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90000"/>
              </a:lnSpc>
              <a:spcBef>
                <a:spcPts val="224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 PowerPoint instead of a pap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oices of how to use free ti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sses for missed homework, extra point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21:55:34Z</dcterms:created>
  <dc:creator>jbutler</dc:creator>
  <dc:description/>
  <dc:language>en-US</dc:language>
  <cp:lastModifiedBy>jbutler</cp:lastModifiedBy>
  <dcterms:modified xsi:type="dcterms:W3CDTF">2009-02-08T22:59:10Z</dcterms:modified>
  <cp:revision>8</cp:revision>
  <dc:subject/>
  <dc:title>The Classroom Learning Environment</dc:title>
</cp:coreProperties>
</file>