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ct" ContentType="image/x-pict"/>
  <Override PartName="/ppt/media/image2.png" ContentType="image/png"/>
  <Override PartName="/ppt/media/image14.pct" ContentType="image/x-pict"/>
  <Override PartName="/ppt/media/image1.png" ContentType="image/png"/>
  <Override PartName="/ppt/media/image3.jpeg" ContentType="image/jpeg"/>
  <Override PartName="/ppt/media/image9.jpeg" ContentType="image/jpeg"/>
  <Override PartName="/ppt/media/image15.pct" ContentType="image/x-pict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ct" ContentType="image/x-pict"/>
  <Override PartName="/ppt/media/image7.pct" ContentType="image/x-pict"/>
  <Override PartName="/ppt/media/image11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6F7-EC10-43E9-95ED-6DB56F70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0EF-678D-420D-8605-24BB0749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54B-B591-42EC-AB15-7CBA52CB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C2B-9406-4FAF-B1C1-E9805019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5B3E-A660-47A5-A525-8FE1B89C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955D-F74A-43C2-9564-FD45F39F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992C-3B43-4494-93FA-201F8084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BFDE-EF33-4AD8-A1AA-B5F9B7F5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6820-1EF9-48F9-8408-9F2E4DE5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E1E4-B4F7-4905-915A-BDF4F008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2199-6E32-4393-9BFD-008E47E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AB5-ED9F-4736-8476-7B4FB3FB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2321-0D67-476F-A81F-74C0E955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6209-EF0E-4E8B-93E6-D8597C0A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F2D8-BB89-4DFD-B0B3-2754FD12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E4BF-2752-47C7-8F91-D8850E24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5B7B-22E0-4620-A358-833A83D9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824-1FDF-493C-98D2-16C04FBC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218-B681-4923-B249-72F9923F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292-CE28-42F4-9F0B-2432C51C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7A0-049D-4C26-9553-6CAB5D7B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FA5-922E-47CB-BCF5-07A1CD0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FCC-90FC-4D42-B222-1254C74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9AE-A7F1-4AD6-A49D-77DBFB5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EACD-9166-4A0C-9453-D1B0F8FB25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68C7-59F5-4A64-B05C-46EF1B1370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2120" y="228600"/>
            <a:ext cx="759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1960" y="5334120"/>
            <a:ext cx="39283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C. McK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7960" y="5334120"/>
            <a:ext cx="42469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on Wal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Dela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126684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7520" y="533520"/>
            <a:ext cx="802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assroom Enviro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61200">
            <a:off x="2819160" y="2525400"/>
            <a:ext cx="358128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fff"/>
                </a:solidFill>
                <a:latin typeface="Arial"/>
              </a:rPr>
              <a:t>Tips for Creating a Literacy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the size of the center varies with the classroom and that in smaller classrooms the center may simply house materials, which are taken elsewhere to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“quiet” centers away from “active”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urniture to create a sense of privacy and physical defin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including a “private spot” (but one that is always visible to y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children’s writing prominent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posters that promote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row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6160" y="5318280"/>
            <a:ext cx="557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adget"/>
              </a:rPr>
              <a:t>READ!  (or else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762120"/>
            <a:ext cx="6172200" cy="57909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06440" y="20016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a1fff"/>
                </a:solidFill>
                <a:latin typeface="Arial"/>
              </a:rPr>
              <a:t>Such posters can feature your student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1133640" cy="2438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762120"/>
            <a:ext cx="3047760" cy="1523880"/>
          </a:xfrm>
          <a:prstGeom prst="wedgeRoundRectCallout">
            <a:avLst>
              <a:gd name="adj1" fmla="val -18435"/>
              <a:gd name="adj2" fmla="val 14239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609480"/>
            <a:ext cx="3962520" cy="4496040"/>
          </a:xfrm>
          <a:prstGeom prst="wedgeRoundRectCallout">
            <a:avLst>
              <a:gd name="adj1" fmla="val -91148"/>
              <a:gd name="adj2" fmla="val 2404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225440" cy="2438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920" y="10350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at poster of Tahi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18000" y="1135080"/>
            <a:ext cx="409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82080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yourself if it contributes to literacy growth.  It’s better to prominently display posters that accompany your core, such reminders about comprehension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fff"/>
                </a:solidFill>
                <a:latin typeface="Arial"/>
              </a:rPr>
              <a:t>More Ti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reate a homelike environment (include pillows, rugs, rockers, beanbag chairs, stuffed animal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oth fiction and nonfiction books, labeled by type, topic, and/or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the class to new additions to the center throughout the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manipulatives (puppets, props, felt board, headsets and tape players, word study materia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functional print,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s (“Books about Science”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s (“Quiet please,” “Please put materials away after using them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environmental print (e.g., word walls) and give children chances to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row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1fff"/>
                </a:solidFill>
                <a:latin typeface="Arial"/>
              </a:rPr>
              <a:t>Types of Book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shelves with spines facing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-faced shelves to show covers of featured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bs, crates, stacked cubbies, “cereal box”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 racks (stationary or swi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1fff"/>
                </a:solidFill>
                <a:latin typeface="Arial"/>
              </a:rPr>
              <a:t>Two Safety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void using furniture to create blind spots that prevent you from monitoring all children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693432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1fff"/>
                </a:solidFill>
                <a:latin typeface="Arial"/>
              </a:rPr>
              <a:t>Two Safety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void stacking heavy materials on top of shelves – especially materials that children might try to ob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05320" y="4267080"/>
            <a:ext cx="2160360" cy="1873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707760" cy="6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a1fff"/>
                </a:solidFill>
                <a:latin typeface="Arial"/>
              </a:rPr>
              <a:t>Possible Activities in a Literacy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ing in writing to what has been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to recorded or electronic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eading previous selections for differ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oral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graphic organizers to selections that have been read i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to a small-group teacher read-a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1fff"/>
                </a:solidFill>
                <a:latin typeface="Arial"/>
              </a:rPr>
              <a:t>Some GARF assumptions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ing children to large amounts of high-quality literature is a Reading First prio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lassroom must also facilitate whole-class and small-group instruction plus independent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room design must allow smooth transitions between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the best way to arrange a classroom environment can be useful to coaches and tea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research provides some clear less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600200"/>
            <a:ext cx="8915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9960" y="180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4880" y="180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a1fff"/>
                </a:solidFill>
                <a:latin typeface="Arial"/>
                <a:ea typeface="ＭＳ Ｐゴシック"/>
              </a:rPr>
              <a:t>Today’s 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how classroom environment affects literacy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about suggestions for improving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checklist for ensuring a positiv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971800" y="4114800"/>
          <a:ext cx="32767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114800"/>
                    <a:ext cx="32767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1fff"/>
                </a:solidFill>
                <a:latin typeface="Arial"/>
              </a:rPr>
              <a:t>Coaches’ Co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dvice can you offer other coaches based on your attempts to prompt changes in the way classrooms are set up in your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row, L. M. (2002)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literacy center: Contexts for reading and wri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nd ed.). Portland, ME: Sten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4495680"/>
            <a:ext cx="1827360" cy="1820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86200" y="3886200"/>
            <a:ext cx="4724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hapter 2 of Morrow’s book.  In it, she focuses on the literacy center but in the process reviews the logic of the entire room set-up and ends with specific suggestions and a check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1fff"/>
                </a:solidFill>
                <a:latin typeface="Arial"/>
              </a:rPr>
              <a:t>What have we lear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judge Morrow’s design for K-1 classrooms?  (See Figure 2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ideas here for improvements at your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her design for grades 2 and 3? (See Figure 2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rrow, the books a teacher includes and how they are stored are part of the classroom design.  In what ways is th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orrow’s checklist (Figure 2.4) likely to be useful in your school?  Could you adap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1fff"/>
                </a:solidFill>
                <a:latin typeface="Arial"/>
              </a:rPr>
              <a:t>Let’s Plan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critically about Morrow’s check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whether and how to modify it for use in you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1fff"/>
                </a:solidFill>
                <a:latin typeface="Arial"/>
              </a:rPr>
              <a:t>Back at School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54160"/>
            <a:ext cx="8229600" cy="35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stock of classroom environments using Morrow’s checklist (possibly modifi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grade-level presentations on effective enviro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 action plan for how individual classrooms might be impr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prepared to share your exper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2480" y="228600"/>
            <a:ext cx="995400" cy="1473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2016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1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row, L. M. (1990).  Preparing the classroom environment to promote literacy during play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rly Childhood Research Quarter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537-55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row, L. M. (2002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iteracy center: Contexts for reading and wri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2nd ed.). Portland, ME: Sten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man, S. B., &amp; Roskos, K. (1992).  Literacy objects as cultural tools: Effects on children’s literacy behaviors in play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ing Research Quarter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2-2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tzel, D. R., &amp; Wolfersberger, M. E. (1996). An environmental impact statement: Designing supportive literacy classrooms for young childre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ing Horiz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66-28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lfersberger, M. E., Reutzel, D. R., Sudweeks, R., Fawson, P. C. (2004). Developing and validating the Classroom Literacy Environmental Profile (CLEP): A tool for examining the “print richness” of early childhood and elementary classrooms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urnal of Literacy Re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11-27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a1fff"/>
                </a:solidFill>
                <a:latin typeface="Arial"/>
              </a:rPr>
              <a:t>Back in School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n informal survey of classroom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 action plan for how individual classrooms might be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grade-level presentations on effective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4880" y="533520"/>
            <a:ext cx="75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chitects’ initial visits to Cohort 1 schools this year have revealed vast differences, both within and between schools, in the neatness and organization of classrooms and in the quality of classroom libr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92708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6920" y="3024360"/>
            <a:ext cx="2286000" cy="2157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5257800"/>
            <a:ext cx="725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act, the Architects have added classroom environment to the characteristics they will ask coaches to observ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681120"/>
            <a:ext cx="8839440" cy="57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1133640" cy="2438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762120"/>
            <a:ext cx="4190760" cy="1523880"/>
          </a:xfrm>
          <a:prstGeom prst="wedgeRoundRectCallout">
            <a:avLst>
              <a:gd name="adj1" fmla="val -27046"/>
              <a:gd name="adj2" fmla="val 14239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609480"/>
            <a:ext cx="3962520" cy="3048120"/>
          </a:xfrm>
          <a:prstGeom prst="wedgeRoundRectCallout">
            <a:avLst>
              <a:gd name="adj1" fmla="val -91148"/>
              <a:gd name="adj2" fmla="val 5921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1225440" cy="2438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8380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the classroom environment really affect achiev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18000" y="1135080"/>
            <a:ext cx="409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820800"/>
            <a:ext cx="3657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.  The physical layout can exert a surprisingly powerful influence on literacy learning.  Let’s find out h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fff"/>
                </a:solidFill>
                <a:latin typeface="Arial"/>
              </a:rPr>
              <a:t>What does research tell u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749240"/>
            <a:ext cx="74678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has clearly linked the quality of the classroom environment to literacy learning (Neuman &amp; Roskos, 199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read more when more print is available inside the classroom (Morrow, 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rsion in a print-rich environment is conducive to literacy growth (e.g., Reutzel &amp; Wolfersberger, 199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fff"/>
                </a:solidFill>
                <a:latin typeface="Arial"/>
              </a:rPr>
              <a:t>4 Classroom Design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4924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has shown that children’s literacy learning is affec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ce or absence of literacy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rangement of space and the placement of literacy tools within the arranged sp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interaction among children as they use the literacy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881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thenticity of the context into which the literacy tools are pla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tzel and Wolfersberger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fff"/>
                </a:solidFill>
                <a:latin typeface="Arial"/>
              </a:rPr>
              <a:t>These principles sugges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49240"/>
            <a:ext cx="74678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ing the classroom with print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ng most literacy materials in one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a variety of writing utensils and su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literacy tools and displays fr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81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a library corner (literacy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tzel and Wolfersberger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 McKenna</cp:lastModifiedBy>
  <cp:lastPrinted>2006-07-27T18:31:27Z</cp:lastPrinted>
  <dcterms:modified xsi:type="dcterms:W3CDTF">2006-10-08T02:36:26Z</dcterms:modified>
  <cp:revision>136</cp:revision>
  <dc:subject/>
  <dc:title>PowerPoint Presentation</dc:title>
</cp:coreProperties>
</file>