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3.pct" ContentType="image/x-pict"/>
  <Override PartName="/ppt/media/image26.pct" ContentType="image/x-pict"/>
  <Override PartName="/ppt/media/image27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29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media/image30.jpeg" ContentType="image/jpeg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media/HORNPRTY.WAV" ContentType="audio/x-wav"/>
  <Override PartName="/ppt/media/image13.pct" ContentType="image/x-pict"/>
  <Override PartName="/ppt/media/image14.pct" ContentType="image/x-pict"/>
  <Override PartName="/ppt/media/image15.pct" ContentType="image/x-pict"/>
  <Override PartName="/ppt/media/image28.jpeg" ContentType="image/jpeg"/>
  <Override PartName="/ppt/media/image17.pct" ContentType="image/x-pict"/>
  <Override PartName="/ppt/media/image16.pct" ContentType="image/x-pict"/>
  <Override PartName="/ppt/media/image19.png" ContentType="image/png"/>
  <Override PartName="/ppt/media/image21.pct" ContentType="image/x-pict"/>
  <Override PartName="/ppt/media/JEOPARD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3E9A-8787-43DF-967B-36A9AA4062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63634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-144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E83-F67B-4C5C-8C4F-9212441C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8DF-8A2D-448C-BDA6-E48DDABB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09A-626C-4AAC-9A3F-45FE1EE5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999-18C7-48E7-954F-F4897623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119A-CC3E-4691-AADA-54B3116F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B2DB-9301-466B-B32F-B3F3DABC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E8A3-8537-4858-9CB4-6FB0D59D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BD44-2CBC-4060-8B39-1C31FA9C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B7B1-81FF-4E0B-A980-8C117565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D01B-6FD3-4C80-8A09-8971CF2C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5027-31C4-43C1-B5F0-63B49BD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AD0-471E-46BD-AB5E-4FAF646B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EEE0-7549-46D9-A8D7-B6D94EB9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2FFF-FFF8-4A81-89BD-9FD9CC9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023D-75C8-4D17-837B-CA7B0CFD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3099-DC91-4713-9F10-835974F1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F50E-4517-4B88-B299-F89694B6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B7C-DB53-4E66-8E29-8573AD93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A1E-F1C5-41E0-AA9A-47348B46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EE2-8A4D-4B02-90FD-423BDB9C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33C-F26B-4A35-8C87-1BEF8F8D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315-9A53-4885-AC26-AA9DD9C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79A-EC57-4C39-8AC5-7562DBE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6DC-186F-421C-BBC0-26CDDFA5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4495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22896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1460-F988-4B1B-8A76-BE7E4F666C7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8C09-88B4-4C59-9AAB-03F4CD202F8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audio" Target="../media/HORNPRTY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ORNPRTY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audio" Target="../media/HORNPRTY.WAV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audio" Target="../media/HORNPRTY.WAV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audio" Target="../media/HORNPRTY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ct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ct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ct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audio" Target="../media/HORNPRTY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ct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ct"/><Relationship Id="rId4" Type="http://schemas.openxmlformats.org/officeDocument/2006/relationships/audio" Target="../media/HORNPRT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ORNPRTY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ORNPRTY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reating Learning Environments</a:t>
            </a:r>
            <a:br>
              <a:rPr sz="44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hapter 11</a:t>
            </a:r>
            <a:br>
              <a:rPr sz="44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Professor Bauer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496960" y="2438280"/>
          <a:ext cx="4148280" cy="41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6960" y="2438280"/>
                    <a:ext cx="41482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reating a Positive Learning Enviro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35240" y="1828800"/>
            <a:ext cx="4672080" cy="46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PR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trategies from Research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Rules and procedures are required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lan spaces for learning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lan for effective classroom managemen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Get off to a good star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666880"/>
          <a:ext cx="485640" cy="4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6880"/>
                    <a:ext cx="485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85800" y="3429000"/>
          <a:ext cx="485640" cy="41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3429000"/>
                    <a:ext cx="485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5800" y="4038480"/>
          <a:ext cx="485640" cy="41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4038480"/>
                    <a:ext cx="485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85800" y="4724280"/>
          <a:ext cx="485640" cy="41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724280"/>
                    <a:ext cx="485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assroom Procedur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dministrative routin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udent movemen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ousekeeping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Lesson routin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eacher-student interac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udent-student interac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4520" y="609588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ee Guidelines, Woolfolk, p. 44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4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Rules for Making Rul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Do’s and don’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Often written down and posted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t the atmospher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Consistent with school rul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Consistent with principles of learning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Make a few, good rul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216400" y="1371600"/>
          <a:ext cx="2957760" cy="42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6400" y="1371600"/>
                    <a:ext cx="29577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Rules for Elementary School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Be polite and helpful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Respect other’s property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Listen when others are speaking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Do not hit, shove, or hurt others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Obey school rules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0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Rules for Secondary School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Bring required materials to class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Seated and ready at the bell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Respect and be polite to everyone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Respect other people’s property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Sit and listen while others speak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Obey all school rules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3526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ee Table 12.1, Woolfolk, p. 443, and Table 12.2, p. 444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onsequences of Breaking Rul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Plan ahea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Bill of Rights”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Reasons for appropriate behavior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Self-management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Penalties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978440" y="1981080"/>
            <a:ext cx="31478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4" dur="1" fill="hold"/>
                                  <p:tgtEl>
                                    <p:spTgt spid="1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72400" y="0"/>
            <a:ext cx="439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Categories of Penaltie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7360" y="768240"/>
            <a:ext cx="3720960" cy="596880"/>
          </a:xfrm>
          <a:prstGeom prst="rect">
            <a:avLst/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1606680"/>
            <a:ext cx="3340080" cy="596880"/>
          </a:xfrm>
          <a:prstGeom prst="rect">
            <a:avLst/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63880" y="2521080"/>
            <a:ext cx="3340080" cy="596880"/>
          </a:xfrm>
          <a:prstGeom prst="rect">
            <a:avLst/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8280" y="3435480"/>
            <a:ext cx="3340080" cy="596880"/>
          </a:xfrm>
          <a:prstGeom prst="rect">
            <a:avLst/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16360" y="4273560"/>
            <a:ext cx="3340080" cy="596880"/>
          </a:xfrm>
          <a:prstGeom prst="rect">
            <a:avLst/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8480" y="5111640"/>
            <a:ext cx="3492360" cy="596880"/>
          </a:xfrm>
          <a:prstGeom prst="rect">
            <a:avLst/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6560" y="5950080"/>
            <a:ext cx="3340080" cy="596880"/>
          </a:xfrm>
          <a:prstGeom prst="rect">
            <a:avLst/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Contact parent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822240"/>
            <a:ext cx="332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Express disappointmen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3440" y="166068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Lose privileg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69080" y="2575080"/>
            <a:ext cx="281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Exclude from group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3960" y="3489480"/>
            <a:ext cx="2568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Write a reflection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07720" y="4327560"/>
            <a:ext cx="145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Detentio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52200" y="5165640"/>
            <a:ext cx="355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Visit the principal’s offic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Planning Spaces for Learn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Interest area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ersonal territori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ction zon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ating arrangement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e Guidelines, Woolfolk, p. 446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2552760"/>
            <a:ext cx="38098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8" dur="1" fill="hold"/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Room Arrangement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Be aware of the action zon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orizontal rows: whole group present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usters or circle: student interac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shbowl or stack: close up demonstr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235240" y="4572000"/>
            <a:ext cx="4672080" cy="19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6" dur="1" fill="hold"/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Overview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e Need for Organiza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reating a Positive Learning Environmen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reating a Learning Comm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Maintaining a Good Environment for Learning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e Need for Communica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PR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Getting Started : Elementar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First day well planned &amp; organiz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Deal with student’s main concern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Teach rules &amp; procedure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Whole group focu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Appeal to student interest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Monitor the whole group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Stop misbehavior quickly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2" dur="1" fill="hold"/>
                                  <p:tgtEl>
                                    <p:spTgt spid="18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Getting Started : Secondar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Establish rules, procedures, and 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early communicate standards for wor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nsistently enforce expect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Monitor students closel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eal with rule infractions quickl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horter work cycles for lower ability student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Monitor student progress carefull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2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4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8" dur="1" fill="hold"/>
                                  <p:tgtEl>
                                    <p:spTgt spid="18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reating a Learning Comm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671720" cy="426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PR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Three ‘C’s’ of Classroom Manage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operative comm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nstructive conflict resolu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ivic valu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1520" y="3429000"/>
            <a:ext cx="138096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3800" y="3581280"/>
            <a:ext cx="1381320" cy="19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186080" y="3733920"/>
            <a:ext cx="138132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988920" y="5943600"/>
            <a:ext cx="42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ee Table 12.3, Woolfolk, p. 450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Maintaining a Good Environment for Learn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981080" y="1839960"/>
            <a:ext cx="4672080" cy="501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PR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Maintaining a Good Environment for Learn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Busy students are better behav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Supervise students closely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Include cues for desired behavior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Clear steps for activitie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Provide necessary material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Engage students in authentic task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Employ curiosity, interest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5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5" dur="1" fill="hold"/>
                                  <p:tgtEl>
                                    <p:spTgt spid="1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Prevention Is the Best Medicin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Withitness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Overlapping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Group focus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Movement management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63634"/>
                </a:solidFill>
                <a:uFillTx/>
                <a:latin typeface="Times New Roman"/>
              </a:rPr>
              <a:t>Monitor!!!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85800" y="2351160"/>
            <a:ext cx="3809880" cy="33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5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9" dur="1" fill="hold"/>
                                  <p:tgtEl>
                                    <p:spTgt spid="2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Dealing with </a:t>
            </a:r>
            <a:br>
              <a:rPr sz="44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Discipline Problem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Make eye contac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Verbal hints : name dropping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Ask students if they are aware of the consequences of their behavio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Remind students of the relative rule or procedur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Ask the student to state the correct rule or procedure and follow i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Assertively tell the student to stop the misbehavio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Offer a choic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55" dur="1" fill="hold"/>
                                  <p:tgtEl>
                                    <p:spTgt spid="2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pecial Problems with </a:t>
            </a:r>
            <a:br>
              <a:rPr sz="44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econdary Student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ork not completed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each students how to use a daily plann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Keep accurate recor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Enforce established consequenc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Do not grade on ‘the benefit of the doubt’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ntinue to break rules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at student away from other stud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Catch them before they break the rul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Enforce established consequenc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Don’t accept promis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1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3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5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9" dur="1" fill="hold"/>
                                  <p:tgtEl>
                                    <p:spTgt spid="21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pecial Problems: </a:t>
            </a:r>
            <a:br>
              <a:rPr sz="44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Hostile Behavior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Get out of the situation as soon as possibl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Give the student the choice to cooperat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llow a short cool down period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alk privately in the hal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nd another student for the assistant principa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nference with a counselor, parents, other teacher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Keep a record of the inciden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9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1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5" dur="1" fill="hold"/>
                                  <p:tgtEl>
                                    <p:spTgt spid="2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823760" y="471960"/>
            <a:ext cx="54964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oncept Map for </a:t>
            </a: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hapter 12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3886200"/>
            <a:ext cx="2895480" cy="1960560"/>
          </a:xfrm>
          <a:prstGeom prst="ellipse">
            <a:avLst/>
          </a:prstGeom>
          <a:noFill/>
          <a:ln w="28440">
            <a:solidFill>
              <a:srgbClr val="393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Creating 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Positive Learning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Environmen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295280"/>
            <a:ext cx="2819160" cy="1828800"/>
          </a:xfrm>
          <a:prstGeom prst="ellipse">
            <a:avLst/>
          </a:prstGeom>
          <a:noFill/>
          <a:ln w="28440">
            <a:solidFill>
              <a:srgbClr val="393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The Need fo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Communicatio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952880"/>
            <a:ext cx="2590560" cy="1600200"/>
          </a:xfrm>
          <a:prstGeom prst="ellipse">
            <a:avLst/>
          </a:prstGeom>
          <a:noFill/>
          <a:ln w="28440">
            <a:solidFill>
              <a:srgbClr val="393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Creating a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Learning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Commun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295280"/>
            <a:ext cx="2743200" cy="1828800"/>
          </a:xfrm>
          <a:prstGeom prst="ellipse">
            <a:avLst/>
          </a:prstGeom>
          <a:noFill/>
          <a:ln w="28440">
            <a:solidFill>
              <a:srgbClr val="393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Need fo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Organizatio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2971800"/>
            <a:ext cx="2933640" cy="1523880"/>
          </a:xfrm>
          <a:prstGeom prst="ellipse">
            <a:avLst/>
          </a:prstGeom>
          <a:noFill/>
          <a:ln w="28440">
            <a:solidFill>
              <a:srgbClr val="393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Creating Learning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Environment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448240" y="2778120"/>
            <a:ext cx="419040" cy="387360"/>
          </a:xfrm>
          <a:prstGeom prst="line">
            <a:avLst/>
          </a:prstGeom>
          <a:ln w="38160">
            <a:solidFill>
              <a:srgbClr val="393a1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4267080"/>
            <a:ext cx="457200" cy="338400"/>
          </a:xfrm>
          <a:prstGeom prst="line">
            <a:avLst/>
          </a:prstGeom>
          <a:ln w="38160">
            <a:solidFill>
              <a:srgbClr val="393a1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099240" y="4187160"/>
            <a:ext cx="338040" cy="255600"/>
          </a:xfrm>
          <a:prstGeom prst="line">
            <a:avLst/>
          </a:prstGeom>
          <a:ln w="38160">
            <a:solidFill>
              <a:srgbClr val="393a1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177360" y="2766240"/>
            <a:ext cx="488880" cy="411120"/>
          </a:xfrm>
          <a:prstGeom prst="line">
            <a:avLst/>
          </a:prstGeom>
          <a:ln w="38160">
            <a:solidFill>
              <a:srgbClr val="393a1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840" y="3830760"/>
            <a:ext cx="3103560" cy="1884240"/>
          </a:xfrm>
          <a:prstGeom prst="ellipse">
            <a:avLst/>
          </a:prstGeom>
          <a:noFill/>
          <a:ln w="28440">
            <a:solidFill>
              <a:srgbClr val="393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Maintaining a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Good Enviro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95241"/>
                </a:solidFill>
                <a:latin typeface="Tahoma"/>
              </a:rPr>
              <a:t>for Learning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495680"/>
            <a:ext cx="0" cy="457200"/>
          </a:xfrm>
          <a:prstGeom prst="line">
            <a:avLst/>
          </a:prstGeom>
          <a:ln w="38160">
            <a:solidFill>
              <a:srgbClr val="393a18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pecial Problems: Violence or Destruction of Proper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nd for help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Get the names of all participant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isperse any crowd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o NOT try to break up a fight without help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Inform the school office of the inciden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llow the school polic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257800" y="5067360"/>
            <a:ext cx="3886200" cy="17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1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5" dur="1" fill="hold"/>
                                  <p:tgtEl>
                                    <p:spTgt spid="2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The Need for Communica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54000" y="1981080"/>
          <a:ext cx="7216920" cy="409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0" y="1981080"/>
                    <a:ext cx="72169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PR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Message Sent = Message Received?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Hidden message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Body language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Choice of word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Paraphrase rule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653000" y="2422440"/>
          <a:ext cx="3800520" cy="27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3000" y="2422440"/>
                    <a:ext cx="38005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0" dur="1" fill="hold"/>
                                  <p:tgtEl>
                                    <p:spTgt spid="2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Who’s Problem Is It?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Does this affect my role as teacher?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Student owned: actively listen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Teacher owned: problem solve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909880" y="4572000"/>
            <a:ext cx="1684440" cy="2057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876920" y="4572000"/>
            <a:ext cx="17701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2" dur="1" fill="hold"/>
                                  <p:tgtEl>
                                    <p:spTgt spid="2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ounseling: </a:t>
            </a:r>
            <a:br>
              <a:rPr sz="4400"/>
            </a:b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The Student’s Problem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Empathetic listening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Block out external stimul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Listen carefu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Differentiate between intellectual and emotional messag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Make inferences about the speaker’s feeling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189160" cy="4114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2666880" y="2057400"/>
            <a:ext cx="16225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2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6" dur="1" fill="hold"/>
                                  <p:tgtEl>
                                    <p:spTgt spid="22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onfrontation and Assertive Disciplin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Use of “I” mess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ssive or hostile respons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are enough to confron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early stated expectations with eye contac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o not debate ‘fairness’ of the rul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Expect changes - not promises or excus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e Point</a:t>
            </a:r>
            <a:r>
              <a:rPr b="1" lang="en-US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▼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unterpoint, Woolfolk, p. 461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6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2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8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2" dur="1" fill="hold"/>
                                  <p:tgtEl>
                                    <p:spTgt spid="2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onfrontation and Negotia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eacher imposes a solu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eacher gives in to student deman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Gordon’s “no-lose method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Define the probl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Generate many possible solutio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Evaluate each solutio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Make a decision on a solutio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Determine how to implement the solutio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Evaluate the success of the solutio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19200" y="5943600"/>
            <a:ext cx="611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Remember IDEAL? See Woolfolk, pp. 290-296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4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8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4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0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6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0" dur="1" fill="hold"/>
                                  <p:tgtEl>
                                    <p:spTgt spid="23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tudent Conflicts and Confront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nflicts: goals and needs clash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Violence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revention is the best c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gh academic expect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Genuine care for student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Mentoring, peer mediation, conflict resolution, social skills, relevance, community involvement program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781680" y="5410080"/>
          <a:ext cx="91440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410080"/>
                    <a:ext cx="9144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7772400" y="5500800"/>
          <a:ext cx="939960" cy="13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5500800"/>
                    <a:ext cx="9399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6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0" dur="1" fill="hold"/>
                                  <p:tgtEl>
                                    <p:spTgt spid="2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teps in Peer Media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ointly define conflic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Exchange positions and inter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Reverse perspectiv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Invent  3 arguments that allow mutual gai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Reach an integrative agreem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2365200"/>
          <a:ext cx="3790800" cy="332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365200"/>
                    <a:ext cx="379080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8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4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0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4" dur="1" fill="hold"/>
                                  <p:tgtEl>
                                    <p:spTgt spid="2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Respect &amp; Protect Program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Respect &amp; protect the rights of other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Violence is not acceptabl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arget violence-enabling behavior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early define violenc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ully/victim violenc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Normal conflict violenc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dult-centered and student-centered interven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e Table 12.5, Woolfolk, p. 465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4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0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6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2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6" dur="1" fill="hold"/>
                                  <p:tgtEl>
                                    <p:spTgt spid="24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The Need for Organiza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55680" y="1981080"/>
          <a:ext cx="6613560" cy="409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1981080"/>
                    <a:ext cx="661356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PR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Families and Classroom Manage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98600" y="3124080"/>
          <a:ext cx="1330200" cy="219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8600" y="3124080"/>
                    <a:ext cx="133020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90760" y="2589120"/>
            <a:ext cx="4647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rents as partner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ear classroom expect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mmunicat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e Family &amp; Community Partnerships, Woolfolk, p. 466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55800" y="3200400"/>
          <a:ext cx="1330200" cy="21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55800" y="3200400"/>
                    <a:ext cx="1330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2971800" y="2895480"/>
          <a:ext cx="1143000" cy="250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2895480"/>
                    <a:ext cx="114300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54" dur="1" fill="hold"/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Management Scenario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90480" y="2346480"/>
          <a:ext cx="7763040" cy="338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0480" y="2346480"/>
                    <a:ext cx="776304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PR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Reflection Ques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58912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nsider the following scenarios.  Decide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you would do in each situation.  Don’t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op with an initial response to the situation.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me up with a ‘Plan B’ just in case ‘Plan A’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ould not work.  Consider multiple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erspectives for each scenario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Elementary: Ar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Kent, Kari, and Krista are working together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an art project.  Kent needs the tangerine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rayon to finish the trim on an Indian blanket.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Kari really needs the tangerine crayon to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ouch up the sunset.  Krista really REALLY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eeds the tangerine crayon to do the tree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leaves.  A major conflict is about to erupt!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ow will you use this as a learning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pportunity to teach the concept ‘sharing’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Elementary: Cheat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It is achievement test time, and you have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nsistently encouraged your students to do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eir own best work.  However, during the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reading comprehension test, you notice that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Melissa is exhibiting ‘severe diagonal vision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isorder’ (cheating).  At least two other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udents have noticed, also!  What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rescription would you recommend to treat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er malady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econdary: Defianc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You have just handed back the exam results.  Sean is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NOT one of your outstanding students, and is no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appy with his grade. You ask, “Sean, do you hav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any questions on the exam?”  His retort challenges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validity of your test, compares your IQ to you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hoe size, states his opinion about your heritage, and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uggests a place for you to take an extended vacation.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an uses descriptive language and explicit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adjectives. Your response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econdary: Vandalism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a crisp, September morning, you go to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chool early.  As you enter the building, you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otice a white haze in the halls, but no smell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f smoke.  Suddenly you hear glass breaking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nd see three students with fire extinguishers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burst out of the chemistry lab, spraying white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every where, running toward you.  Nex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Back Stag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It is after school on a nice day in May.  You have to make copies of a test for your class tomorrow morning. You decide to take a shortcut to the teachers’ workroom through the back of the stage.  You hear unusual but intriguing sounds coming from a dim corner of the stage and decide to investigate.  You discover two students engaged in active and intimate physical contact.  Now what?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a2e"/>
                </a:solidFill>
                <a:latin typeface="Times New Roman"/>
              </a:rPr>
              <a:t>Reflection Ti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55640" cy="18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Summar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e Need for Organiza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reating a Positive Learning Environmen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reating a Learning Comm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Maintaining a Good Environment for Learning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e Need for Communica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PR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5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1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5" dur="1" fill="hold"/>
                                  <p:tgtEl>
                                    <p:spTgt spid="2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Ecology of Classroom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haracteristics of Classrooms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Multidimensiona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imultaneou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Immediat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Unpredictabl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Public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istori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1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Review Ques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are the challenges of classroom managemen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are the goals of good classroom managemen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istinguish between rule and procedures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istinguish between personal territories and interest-area spatial arrangements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PR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2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8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8" dur="1" fill="hold"/>
                                  <p:tgtEl>
                                    <p:spTgt spid="2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Review Ques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ntrast the first school week of effective and ineffective managers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are Johnson and Johnson’s three C’s of establishing a classroom community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ow can teachers encourage engagemen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Explain the factors identified by Kounin that prevent management problems in the classroom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0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6" dur="1" fill="hold"/>
                                  <p:tgtEl>
                                    <p:spTgt spid="2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Review Ques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escribe seven levels of intervention in misbehavior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is meant by “empathetic listening”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Distinguish among assertive, passive, and hostile response styles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are some options for dealing with student-student and student-teacher conflicts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4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0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4" dur="1" fill="hold"/>
                                  <p:tgtEl>
                                    <p:spTgt spid="2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217880" y="5105520"/>
            <a:ext cx="376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nd Chapter 12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Basic Management Tas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Gain &amp; maintain cooperati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Motivate &amp; engag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djust management to ages of student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810400" y="1986120"/>
          <a:ext cx="1485720" cy="41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10400" y="1986120"/>
                    <a:ext cx="148572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Age Related Need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Early elementary: teach rules &amp; procedur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Middle elementary: monitor &amp; maintai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Late elementary &amp; beginning high school: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Diplomatically deal with defianc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Motivate those immersed in social lif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nior high school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Manage curriculum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Adapt academics to student needs &amp; interest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each self-managemen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2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Goals for Classroom Manage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Time for learning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llocated tim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Engaged time or time on tas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Academic learning tim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Access to learning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Participation structures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3634"/>
                </a:solidFill>
                <a:latin typeface="Times New Roman"/>
              </a:rPr>
              <a:t>Self-management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1" dur="1" fill="hold"/>
                                  <p:tgtEl>
                                    <p:spTgt spid="12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524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Where Does the Time Go?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946680" y="5699160"/>
            <a:ext cx="106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Arial"/>
              </a:rPr>
              <a:t>Hour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1 by Allyn and Bacon</a:t>
            </a: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1T22:43:28Z</dcterms:created>
  <dc:creator>Lawrence R. Rogien</dc:creator>
  <dc:description/>
  <dc:language>en-US</dc:language>
  <cp:lastModifiedBy>Education Department</cp:lastModifiedBy>
  <cp:lastPrinted>1997-02-10T17:37:54Z</cp:lastPrinted>
  <dcterms:modified xsi:type="dcterms:W3CDTF">2003-09-30T17:05:34Z</dcterms:modified>
  <cp:revision>23796</cp:revision>
  <dc:subject/>
  <dc:title>PowerPoint Presentation  -  Classroom Management Chapter 11</dc:title>
</cp:coreProperties>
</file>