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86F-2F92-4759-94D3-29377415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74A-FD68-47DE-98FC-C0118345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02E-A7AF-4E53-AE87-8A82857A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6AC-AC91-4067-9D22-09A8A917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43BDF-8BA5-4BC0-973C-EBCB5AAB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E0F17-C329-4959-A8E8-E8B80BA5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7B2CA-A72C-465F-A386-827EE72A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1CB41-47E2-458A-ADD8-B3599AFC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0EE6E-8146-46B8-B2FC-72E1F9E8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D3EAF-7644-445E-94C9-50DEBDF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BFFDF-8250-431D-8874-3CB7A805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864-DE6C-4C13-A6BA-E20748C0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460AF-4EEC-4121-9E7D-AD6DF880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12E46-0EF3-4F1E-845B-6EDFE590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7C7AA-2F4A-4D55-AE04-3058DD84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D49E4-D4DA-42ED-9D83-712F7F1A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608DC-7F58-4E5F-9DFA-1E0CF7DF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F29-28DE-47D0-9001-45B6355C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65E-CB85-412C-817F-8FB1E2A2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764-EE5D-49D3-BD67-CB20C288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E3A-2D1D-44AA-89BB-AB50B359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734-08DB-4055-93A7-A045DE84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0C2-3FCD-474B-AECF-D238BA4C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35D-6DAE-44F8-9EE6-C522EE3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A3B8-C92A-42F4-AC0E-66CD7E77B870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9244-69C1-4A8E-9EFE-D02D6000E700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Principles of Exercise Prescrip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71640" y="4473720"/>
            <a:ext cx="612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r. Cheng Yuk Chuen, Josh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Director of Training Program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ong Kong Physical Fitness Assoc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ahoma"/>
              </a:rPr>
              <a:t>Exercise Mo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8760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ny form of physical activity which uses large muscle group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xamples: walking, jogging, running, biking, stepping, rowing, et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Exercise Intensit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ow to Mode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RPE 2-5 (weak to stro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R Formula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R = HRmax X (35% - 69%)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ere    HRmax = 220 –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HR Formula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00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THR = HRR X (20% - 59%) + Resting H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where    HRR = HRmax – Resting HR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ahoma"/>
              </a:rPr>
              <a:t>Rating of Perceived Exertion (RP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9000"/>
            <a:ext cx="8039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Rating          Perception                  Level of Inten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0                Nothing at all               No inten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1                Very weak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               Weak                          L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3                                                  Mode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4                Somewhat strong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5                Strong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          Heav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6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7                Very Strong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10                Extremely Strong          Strongest Intens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Exercise Dur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9032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20-60 minutes/ses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Continuous or intermitt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(10 min. each bout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Exercise Frequenc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60720"/>
            <a:ext cx="8229600" cy="38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For moderate intensity, at least 3 days/wee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For lower intensity, more than 3 days/week is requir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Progress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7280" y="1449360"/>
          <a:ext cx="8459640" cy="4721040"/>
        </p:xfrm>
        <a:graphic>
          <a:graphicData uri="http://schemas.openxmlformats.org/drawingml/2006/table">
            <a:tbl>
              <a:tblPr/>
              <a:tblGrid>
                <a:gridCol w="1774800"/>
                <a:gridCol w="2124000"/>
                <a:gridCol w="2273400"/>
                <a:gridCol w="2287440"/>
              </a:tblGrid>
              <a:tr h="47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Init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Improv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Minimal  muscle soreness, discomfort and inju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Gradual increase stimulus, increase in CR fit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Long term CR fitness develop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Intens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40-60% HR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50-85% HR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70-85% HR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5-30 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5-40 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-60 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4 wee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-24 wee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 weeks on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4 session/we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5 session/we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5 session/we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Rate of Progr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e rap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Guidelines for aerobic 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oal: reach 50th percentile in fitness 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inimal threshold (20% HRR or 50% HRmax) may sufficient for low areobic fitness adult (V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Tahoma"/>
              </a:rPr>
              <a:t>2max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&lt;30 mL/kg/m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60-80% HRR or 77-90% HRmax are sufficient for improvements in most adults’ CR fit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RR method is more accurately for prescribing inten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150-400kcal exercise energy expenditure per d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640" y="15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Muscular Exercise Pr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5481720"/>
            <a:ext cx="6400800" cy="1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ff"/>
                </a:solidFill>
                <a:latin typeface="Tahoma"/>
              </a:rPr>
              <a:t>Muscular </a:t>
            </a:r>
            <a:r>
              <a:rPr b="1" lang="en-US" sz="4000" spc="-1" strike="noStrike">
                <a:solidFill>
                  <a:srgbClr val="ff00ff"/>
                </a:solidFill>
                <a:latin typeface="Tahoma"/>
              </a:rPr>
              <a:t>training</a:t>
            </a:r>
            <a:r>
              <a:rPr b="1" lang="en-US" sz="4400" spc="-1" strike="noStrike">
                <a:solidFill>
                  <a:srgbClr val="ff00ff"/>
                </a:solidFill>
                <a:latin typeface="Tahoma"/>
              </a:rPr>
              <a:t> princi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665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rength Training Exercise 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sistance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hythm brea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ll range of 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peed of lif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ance of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Resistance mode: machine weights, free weight, rubber band or body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7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Exercise Intensit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00960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eights that are heavy enough to   be lifted for 8 – 12 repetitions (reps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Principles of trai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Overload-stimulus greater than norm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daptation-level of train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pecificity-specific to system and musc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Progression-increase intensity and design the training sequ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Exercise Dur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357280"/>
            <a:ext cx="8229600" cy="36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8-10 exercise for body major muscle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Each exercise lifts 8-12 reps.(1 Set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10-20 minutes per se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Exercise Frequenc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715840"/>
            <a:ext cx="822960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t least 2 training sessions per we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Progress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5864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tart with low intensity with 1 set per se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Gradually build up every 10-12 wee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Flexibilty Exercise Pr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5408280"/>
            <a:ext cx="6400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ahoma"/>
              </a:rPr>
              <a:t>Exercise Mo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3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atic muscle stretching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’-10’ low-intensity large muscle activity (eg. Brisk walking, jog slow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Can be a specific flexibility training s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be combined into the warm up and cool down 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ynamic or Proprioceptive Neuromuscular Facilitation as progressive m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Exercise Intensit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946240"/>
            <a:ext cx="822960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tretch the muscle to feel mild discomfort or feel tight but no pa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PNF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bin and Lindsey (1997) p.8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8920" y="1125360"/>
            <a:ext cx="8532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1640" y="6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Exercise Dur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53760"/>
            <a:ext cx="8229600" cy="35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Hold each muscle stretch for 10-30 seco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Do it for all major muscle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87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Exercise Frequenc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6360" y="288900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t least 3 times per we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Stretch before and after 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Progress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ot required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An Exercise Sess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Warm-up Period (5’-10’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onditioning Period(20’-60’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Aerobic Exercise (Optional recreational gam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Muscular Strength &amp; Endur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Stretching Exerci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ool-down Period(5’-10’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Art of Exercise Pr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0280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ercise prescriptions require individual modification, Individual difference: physiologic and perceptual responses vary among individ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ercise intensity, duration and training progression should be adjusted with monitoring BP, HR and R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dividual interests, abilities and limitations should be addressed on preparing desired program outco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Practicu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ir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Fill up the first page of the information and questionnaire provided for your part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se on the information provided by your partner, try to write the exercise prescription (page 2) to him/h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Follow the exercise prescription from your partner and fill up the exercise record (page 3&amp;4) for 1 mo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rite the overall comment for your part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                                         </a:t>
            </a: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Exercise Prescription Training Course</a:t>
            </a:r>
            <a:br>
              <a:rPr sz="1600"/>
            </a:b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                                                                Practicum</a:t>
            </a:r>
            <a:br>
              <a:rPr sz="1600"/>
            </a:b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Consultant’s Name: 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Patient’s Name:  </a:t>
            </a:r>
            <a:r>
              <a:rPr b="0" lang="en-US" sz="1600" spc="-1" strike="noStrike" u="sng">
                <a:solidFill>
                  <a:srgbClr val="ff00ff"/>
                </a:solidFill>
                <a:uFillTx/>
                <a:latin typeface="Tahoma"/>
              </a:rPr>
              <a:t>                            </a:t>
            </a: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     Age:</a:t>
            </a:r>
            <a:r>
              <a:rPr b="0" lang="en-US" sz="1600" spc="-1" strike="noStrike" u="sng">
                <a:solidFill>
                  <a:srgbClr val="ff00ff"/>
                </a:solidFill>
                <a:uFillTx/>
                <a:latin typeface="Tahoma"/>
              </a:rPr>
              <a:t>                 </a:t>
            </a: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   Date : </a:t>
            </a:r>
            <a:r>
              <a:rPr b="0" lang="en-US" sz="1600" spc="-1" strike="noStrike" u="sng">
                <a:solidFill>
                  <a:srgbClr val="ff00ff"/>
                </a:solidFill>
                <a:uFillTx/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     </a:t>
            </a:r>
            <a:br>
              <a:rPr sz="1600"/>
            </a:b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Gender:  </a:t>
            </a:r>
            <a:r>
              <a:rPr b="0" lang="en-US" sz="1600" spc="-1" strike="noStrike" u="sng">
                <a:solidFill>
                  <a:srgbClr val="ff00ff"/>
                </a:solidFill>
                <a:uFillTx/>
                <a:latin typeface="Tahoma"/>
              </a:rPr>
              <a:t>                       </a:t>
            </a: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             Weight: </a:t>
            </a:r>
            <a:r>
              <a:rPr b="0" lang="en-US" sz="1600" spc="-1" strike="noStrike" u="sng">
                <a:solidFill>
                  <a:srgbClr val="ff00ff"/>
                </a:solidFill>
                <a:uFillTx/>
                <a:latin typeface="Tahoma"/>
              </a:rPr>
              <a:t>                       </a:t>
            </a: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 kg                      Height: </a:t>
            </a:r>
            <a:r>
              <a:rPr b="0" lang="en-US" sz="1600" spc="-1" strike="noStrike" u="sng">
                <a:solidFill>
                  <a:srgbClr val="ff00ff"/>
                </a:solidFill>
                <a:uFillTx/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  cm</a:t>
            </a:r>
            <a:br>
              <a:rPr sz="1600"/>
            </a:b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ahoma"/>
              </a:rPr>
              <a:t>PAR-Q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是   否                                                 問            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1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醫生曾否說過你的心臟有問題，以及只可進行醫生建議的體能活動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你進行體能活動時，是否感到胸口痛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過去一個月，你曾否在沒有進行體能活動時也感到胸口痛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4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你曾否因感到暈眩而失去平衡，或曾否失去知覺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5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你的骨骼或關節是否有毛病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?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且會因改變體能活動而惡化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6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醫生現時是否有給你一些有關血壓或心臟藥物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例如去水丸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給你服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7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是否有其他理由令你不應進行體能活動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ahoma"/>
              </a:rPr>
              <a:t>Risk Factors Identifica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zh-TW" sz="1200" spc="-1" strike="noStrike">
                <a:solidFill>
                  <a:srgbClr val="ffcc00"/>
                </a:solidFill>
                <a:latin typeface="Tahoma"/>
              </a:rPr>
              <a:t>是   否                             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Risk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1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Family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Smo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Hyperten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4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Hypercholestrolem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5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Obe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6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Inac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7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High blood 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8.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High HDL (negative risk factor)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Total Score of Risk: ____________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Risk Classification: __________________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Other History and Considera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5095440"/>
            <a:ext cx="154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70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5095440"/>
            <a:ext cx="154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87280" y="225360"/>
            <a:ext cx="8640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ff"/>
                </a:solidFill>
                <a:latin typeface="Tahoma"/>
              </a:rPr>
              <a:t>整體評語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03280" y="404640"/>
            <a:ext cx="0" cy="568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04640"/>
            <a:ext cx="813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75640" y="404640"/>
            <a:ext cx="0" cy="565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3280" y="6093000"/>
            <a:ext cx="81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3280" y="1413000"/>
            <a:ext cx="81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ahoma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Purpose of Warm-up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9376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Prepare body for more strenuous exerci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Facilitates the transition from rest to exerci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Improve blood circ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crease the metabolic 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crease body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issociates more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Stretch postural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duce risk of musculo-skeletal inj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Purpose of Condit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evelop cardiorespiratory fi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Improve heart health and weight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aintain and improve muscle tone, strength and muscle m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Maintain and improve muscle elasticity and joint mo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evention of musculo-skeletal disorder such as low back pain and shoulder osteo-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Purpose of Cool-dow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Gradual recovery from the endurance phas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Adjust the circulatory response (e.g.   HR and B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mprove venous return         risk of post-exercise hypotension and dizz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Reduce risk of cardiovascular complications(e.g. sudden cardiac deat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885080" y="3068640"/>
            <a:ext cx="0" cy="2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80000" y="4184640"/>
            <a:ext cx="324000" cy="109440"/>
          </a:xfrm>
          <a:prstGeom prst="rightArrow">
            <a:avLst>
              <a:gd name="adj1" fmla="val 50000"/>
              <a:gd name="adj2" fmla="val 7401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64360" y="4113360"/>
            <a:ext cx="0" cy="25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</a:rPr>
              <a:t>Components of Exercise Prescrip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1640" y="216828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xercise Mode (Type of exercis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Exercise Intens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xercise Du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Exercise Frequenc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rogression of Exercise Program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Aerobic Exercise Pr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544500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Typical Aerobic Exercise se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SM (2006) p.13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3280" y="1592280"/>
            <a:ext cx="79563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MA</cp:lastModifiedBy>
  <dcterms:modified xsi:type="dcterms:W3CDTF">2006-06-02T03:17:2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