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F8C-48C8-4F81-948C-3554865C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8B7-9E05-4A9A-A206-780F096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59D-5D17-4AA9-9916-3345AF6F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129-B3A6-428F-A47D-FC7E7505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F29F-5B36-4F2A-A67F-07530F6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9477-0DCA-4DB7-AA82-62EA1F1C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04B3-BC3F-47C9-9FA0-CE14A67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935-BF2B-4008-A7CD-F8E4D401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4BF-54A6-42FB-AF3D-DCF5C93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9AF3-94EE-41F6-8698-958054E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69AA-FDC8-4607-A8A1-C0900E8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ADD-0DEA-4EF2-9691-0920267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A9BF-71B1-4F02-9BEB-25BCD5C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6C1D-B9E6-4F9E-BBAC-8E79C20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70F-31DC-4A38-9569-42F59E2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BF5-8D45-4C4B-B6CF-57488989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D16A-D1F7-47BB-9036-3CC33819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D98-57FB-43CC-8661-EAC6667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342-10C3-404B-B37D-BECB4E2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52F-54BA-4FF9-B615-287957B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084-ECFE-4080-8A7E-62C82AD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357-4208-4682-A554-9174B8E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12C-74A4-41CC-9F5E-266B37A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2B5-B110-4B07-98BA-34E5074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E9F-5672-4806-A27B-D2F5A6497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B0E8-20C2-4C87-B6CE-36EDA52F5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RAINING PRINCIPL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05320" y="3174840"/>
            <a:ext cx="5638680" cy="368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essive Overlo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body responds to stress caused by physical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tly, it adapts to cope with this stress or increased work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in maximum benefit  from training, workloads must be gradually adjusted upwards as adaptation to stress takes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gressive ov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ying Progressive Overlo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to successful overloa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d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one factor needs to be ___________ to achieve progressive ov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 to apply progressive ov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of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epet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of s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377676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ying Progressive Overlo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6934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: recreational jog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increased by 10% each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3200400"/>
          <a:ext cx="7848360" cy="2590920"/>
        </p:xfrm>
        <a:graphic>
          <a:graphicData uri="http://schemas.openxmlformats.org/drawingml/2006/table">
            <a:tbl>
              <a:tblPr/>
              <a:tblGrid>
                <a:gridCol w="1121760"/>
                <a:gridCol w="1120320"/>
                <a:gridCol w="1122120"/>
                <a:gridCol w="1119960"/>
                <a:gridCol w="1122120"/>
                <a:gridCol w="1119960"/>
                <a:gridCol w="11221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gressive Overload - Periodis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sation of training is by dividing a large period of time (eg: full season) into smaller blocks of training (eg: 3-6 wee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block of training is separated by short, lighter training cycles (often 1 w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lows recovery from one block of training before undertaking a new, overloaded training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ity is the process of replicating the characteristics of physical activity in training to ensure it benefits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ity must focu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system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ness component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le group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ity does not necessarily mean that participating in the sport is the best form of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216920" y="2971800"/>
            <a:ext cx="192708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Princi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mportant considerations when planning a training program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nishing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aining and re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24560" y="4505400"/>
            <a:ext cx="361944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Principle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the ___________ of the training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ularly important for aerobic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inimum session time of 20-30mins a 70-85% max HR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nishing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thlete’s fitness improves and gets closer to their maximal fitness level, the rate of improvement less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_______ gains on the effort put in to get fit will gradually dim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Principle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aining and re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raining (reversibility) refers to a loss of fitness when training is sto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ose fitness more quickly than we gai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 fitness gains are lost more quickly than 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train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re is a myth that someone who has previously participated in training will see improvements in fitness more quickly than someone who has not participated in a prior training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fitness benefits have been achieved, they can be maintained effectively with a reduction in training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ntensity must remain at the sam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Principle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the major principle of specificity is not ignored, there is no harm in introducing some variety into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help maintain ___________ and 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eneral training program for all athletes on a team is unlikely to be suitable for all team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may need different programs depending on position, energy systems required, fitness components utilised and their individual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you need to know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 understanding of each of the training principles and how they are applied to a training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essive over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ough understanding of the additional train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inishing retu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raining and re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nd applying the primary training principles are critical for gaining ____________ from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guidelines that should be followed to allow for maximum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4222800"/>
            <a:ext cx="388620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aining Princi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gressive ov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cif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0600" y="3730680"/>
            <a:ext cx="434340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u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can either refer to the length of time of each training ___________ (ie: minutes or hours) or the length of the training ___________ (ie: weeks or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bic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6 weeks, but most likely 12 week program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erobic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8 week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y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s made after a small number of s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0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refers to the ___________ of training sessions needed per ___________ to ensure improvements in the desired fitness components and energ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___________ time needed is a vital consi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mportant factors include the nature of the activity (eg: triathlon v. golf) and the fitness level of the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equency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bic fitness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3 sessions, but 5-6 would be considered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erobic fitness increases the ___________ of training can also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 activities are at a lower intensity than anaerobic, therefore muscle damage is less and the individual recovers more 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: Steve Moneghetti – 6 days per week, 2 sessions per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equency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erobic fitness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3 sessions, but with 4 sessions being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intensity activities, therefore ___________ recovery is mor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eginners may need to start with 1-2 sessions per week to allow full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n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ty refers to how ___________ the individual is working in a training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is the most critical factor in guaranteeing maximal fitness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v. qua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generally measured through heart rate (beats per minute: bp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this is then interpreted into a percentage value of maximum hear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HR = 220 –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: 220 – 18 = 202b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0960" y="0"/>
            <a:ext cx="137304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2:20:22Z</dcterms:created>
  <dc:creator>User</dc:creator>
  <dc:description/>
  <dc:language>en-US</dc:language>
  <cp:lastModifiedBy>User</cp:lastModifiedBy>
  <dcterms:modified xsi:type="dcterms:W3CDTF">2008-07-20T22:17:20Z</dcterms:modified>
  <cp:revision>44</cp:revision>
  <dc:subject/>
  <dc:title>TRAINING PRINCIPLES</dc:title>
</cp:coreProperties>
</file>