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17.png" ContentType="image/png"/>
  <Override PartName="/ppt/media/image32.jpeg" ContentType="image/jpeg"/>
  <Override PartName="/ppt/media/image40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E943-FAF2-4DDC-A954-459C0183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AE43-21BE-4B47-83B6-EC16B0A1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65E4-1247-4E6F-A8E1-A85D48EF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BCCB-C223-4BE6-9369-7D2ED47F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8B53-182D-47AB-A730-0C247D7F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FA2D-B61F-4C32-B535-2CE1144D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436D-7065-4FAE-B038-DD557375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34B3-0ED7-4D0D-A2F6-EEE01570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60BD-409A-409A-A3F6-BAC5DDDD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3F7C-3FBD-4132-A658-8234F363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75E5-46E0-4ADB-A1BB-52A3311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C234-FB50-453B-B953-F6A50A9B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C05A-5A59-4A9C-8924-A9536F15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04C4-21C3-4977-A701-B5F8F21B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28FE-B070-46B9-86D3-66A625B5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772D-DE24-4168-920D-9F53F2E0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DB4B-6D8C-4669-8C35-8619EF38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654C-97CB-4967-853C-13281CB6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9090-2A1D-4B9F-B97C-F0919DDE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753B-CE0B-4C15-B57D-DA1262DB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47C6-C0F3-4CE4-92F9-7760B733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2728-5089-4635-86D0-0D9E0A4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D311-02E5-4A43-9408-145CE18E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5AFF-4CE9-4108-B30A-0796950D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C3ED-DA26-4C57-97E3-FA6386E79C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E461-4804-4B8C-AE3E-0422DF7C21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asic Concepts of Training Theor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Underperformance1"/>
          <p:cNvPicPr/>
          <p:nvPr/>
        </p:nvPicPr>
        <p:blipFill>
          <a:blip r:embed="rId1"/>
          <a:stretch/>
        </p:blipFill>
        <p:spPr>
          <a:xfrm>
            <a:off x="141120" y="3495600"/>
            <a:ext cx="4050000" cy="303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FAC Weight Room"/>
          <p:cNvPicPr/>
          <p:nvPr/>
        </p:nvPicPr>
        <p:blipFill>
          <a:blip r:embed="rId2"/>
          <a:stretch/>
        </p:blipFill>
        <p:spPr>
          <a:xfrm>
            <a:off x="4419720" y="3495600"/>
            <a:ext cx="45529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igure 1.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330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gravitational force between two objects is proportional to the product of their masses and inversely proportional to the square of the distance between them. (Universal Gravitation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Content Placeholder 3" descr="Curved Spacetime.gif"/>
          <p:cNvPicPr/>
          <p:nvPr/>
        </p:nvPicPr>
        <p:blipFill>
          <a:blip r:embed="rId1"/>
          <a:stretch/>
        </p:blipFill>
        <p:spPr>
          <a:xfrm>
            <a:off x="1295280" y="1671480"/>
            <a:ext cx="57913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 Individualiz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6781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one is diffe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onders and non-respond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program must be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ndividualiz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use others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s are pros and we’re not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t1_tiger"/>
          <p:cNvPicPr/>
          <p:nvPr/>
        </p:nvPicPr>
        <p:blipFill>
          <a:blip r:embed="rId1"/>
          <a:stretch/>
        </p:blipFill>
        <p:spPr>
          <a:xfrm>
            <a:off x="6897600" y="3429000"/>
            <a:ext cx="1903680" cy="319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547596"/>
          <p:cNvPicPr/>
          <p:nvPr/>
        </p:nvPicPr>
        <p:blipFill>
          <a:blip r:embed="rId2"/>
          <a:stretch/>
        </p:blipFill>
        <p:spPr>
          <a:xfrm>
            <a:off x="7162920" y="762120"/>
            <a:ext cx="1428480" cy="2381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franco"/>
          <p:cNvPicPr/>
          <p:nvPr/>
        </p:nvPicPr>
        <p:blipFill>
          <a:blip r:embed="rId3"/>
          <a:stretch/>
        </p:blipFill>
        <p:spPr>
          <a:xfrm>
            <a:off x="1828800" y="4149720"/>
            <a:ext cx="35812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neralized Theories of Trai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095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all programs and not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specif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ve as a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mode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or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for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planni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are simple and pract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5" descr="Training"/>
          <p:cNvPicPr/>
          <p:nvPr/>
        </p:nvPicPr>
        <p:blipFill>
          <a:blip r:embed="rId1"/>
          <a:stretch/>
        </p:blipFill>
        <p:spPr>
          <a:xfrm>
            <a:off x="5181480" y="4062240"/>
            <a:ext cx="3610080" cy="26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rogressive-Training"/>
          <p:cNvPicPr/>
          <p:nvPr/>
        </p:nvPicPr>
        <p:blipFill>
          <a:blip r:embed="rId2"/>
          <a:stretch/>
        </p:blipFill>
        <p:spPr>
          <a:xfrm>
            <a:off x="228600" y="4106880"/>
            <a:ext cx="39625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ne-factor Theory (Supercompensatio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s a depletion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ounts for athletic preparedness (how muc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cle glycogen deple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Restor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level returns to nor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Supercompensation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he increase over nor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 is the forgotten variable (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FIV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igure 1.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7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ns Selye, MD, PhD 1907-198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6" descr="http://web.mst.edu/~pfyc212b/stress1.gif"/>
          <p:cNvPicPr/>
          <p:nvPr/>
        </p:nvPicPr>
        <p:blipFill>
          <a:blip r:embed="rId1"/>
          <a:stretch/>
        </p:blipFill>
        <p:spPr>
          <a:xfrm>
            <a:off x="152280" y="1828800"/>
            <a:ext cx="5315040" cy="484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ecx.images-amazon.com/images/I/51Om2-ThwOL._SL500_AA300_.jpg"/>
          <p:cNvPicPr/>
          <p:nvPr/>
        </p:nvPicPr>
        <p:blipFill>
          <a:blip r:embed="rId2"/>
          <a:stretch/>
        </p:blipFill>
        <p:spPr>
          <a:xfrm>
            <a:off x="5676840" y="3429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t Interv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tim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st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equent workouts coincide with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supercompens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ing is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The timing of the event may be more important than the event it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5" descr="rest"/>
          <p:cNvPicPr/>
          <p:nvPr/>
        </p:nvPicPr>
        <p:blipFill>
          <a:blip r:embed="rId1"/>
          <a:stretch/>
        </p:blipFill>
        <p:spPr>
          <a:xfrm>
            <a:off x="6419880" y="762120"/>
            <a:ext cx="251604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taran%20lion%20sleeps%20in%20tree%20cropped"/>
          <p:cNvPicPr/>
          <p:nvPr/>
        </p:nvPicPr>
        <p:blipFill>
          <a:blip r:embed="rId2"/>
          <a:stretch/>
        </p:blipFill>
        <p:spPr>
          <a:xfrm>
            <a:off x="5302080" y="4048200"/>
            <a:ext cx="36896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igure 1.5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1523880"/>
            <a:ext cx="2666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a) Too lit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b) Just r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c) Too mu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5499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loading Micro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short rest periods followed by long 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Supercompens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enhan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rition must also be inclu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hydrate loading for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supercompens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ycogen stores are enhanced   but ATP appears unaffe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5" descr="overtraining"/>
          <p:cNvPicPr/>
          <p:nvPr/>
        </p:nvPicPr>
        <p:blipFill>
          <a:blip r:embed="rId1"/>
          <a:stretch/>
        </p:blipFill>
        <p:spPr>
          <a:xfrm>
            <a:off x="5299200" y="3886200"/>
            <a:ext cx="384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i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ves strength and speed and all a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rehensiv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dapt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adjustment of an organism to its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ptation is ever cha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mediate vs. delayed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ining should induce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specifi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daptations to improve sports performance (</a:t>
            </a: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SAID princip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igure 1.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wo-Factor Theory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fitness-fatigue theory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edness is both slow and fast cha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ysical Fitnes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slo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a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formance is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fa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a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st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ck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fore, following a workou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tness is enhanc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ance is diminished (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fatigu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5" descr="7629"/>
          <p:cNvPicPr/>
          <p:nvPr/>
        </p:nvPicPr>
        <p:blipFill>
          <a:blip r:embed="rId1"/>
          <a:stretch/>
        </p:blipFill>
        <p:spPr>
          <a:xfrm>
            <a:off x="6019920" y="2911320"/>
            <a:ext cx="30067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pared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llowing a work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paredness improves due to fitness g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paredness decreases due to fatig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tion of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quals outc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tness is moderate but long la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tigue is greater but short la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5" descr="male-fitness-models-03"/>
          <p:cNvPicPr/>
          <p:nvPr/>
        </p:nvPicPr>
        <p:blipFill>
          <a:blip r:embed="rId1"/>
          <a:stretch/>
        </p:blipFill>
        <p:spPr>
          <a:xfrm>
            <a:off x="6357960" y="4114800"/>
            <a:ext cx="2709720" cy="2649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IS085-038"/>
          <p:cNvPicPr/>
          <p:nvPr/>
        </p:nvPicPr>
        <p:blipFill>
          <a:blip r:embed="rId2"/>
          <a:stretch/>
        </p:blipFill>
        <p:spPr>
          <a:xfrm>
            <a:off x="6858000" y="1143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igure 1.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600120" y="990720"/>
            <a:ext cx="7781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ining Mod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organiz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rocess rather than cha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eak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aching your ma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Taper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 the number of sessions or the load (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ffor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-factor uses regular interv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t intervals are s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-factor uses rest to determine next workou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xt workout should come after negative effects lea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5" descr="image026"/>
          <p:cNvPicPr/>
          <p:nvPr/>
        </p:nvPicPr>
        <p:blipFill>
          <a:blip r:embed="rId1"/>
          <a:stretch/>
        </p:blipFill>
        <p:spPr>
          <a:xfrm>
            <a:off x="5867280" y="2133720"/>
            <a:ext cx="312444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ining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cut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during exerc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mmediat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right after exerc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umul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fter continued exerc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elay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chronic) – after a given time fra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Parti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single exercise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Residu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retention after adap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Ruler%20Steel%2012in%20Painted"/>
          <p:cNvPicPr/>
          <p:nvPr/>
        </p:nvPicPr>
        <p:blipFill>
          <a:blip r:embed="rId1"/>
          <a:stretch/>
        </p:blipFill>
        <p:spPr>
          <a:xfrm>
            <a:off x="33480" y="4800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female-bodybuilder"/>
          <p:cNvPicPr/>
          <p:nvPr/>
        </p:nvPicPr>
        <p:blipFill>
          <a:blip r:embed="rId2"/>
          <a:stretch/>
        </p:blipFill>
        <p:spPr>
          <a:xfrm>
            <a:off x="7238880" y="76320"/>
            <a:ext cx="1838520" cy="289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200px-Dsc0047"/>
          <p:cNvPicPr/>
          <p:nvPr/>
        </p:nvPicPr>
        <p:blipFill>
          <a:blip r:embed="rId3"/>
          <a:stretch/>
        </p:blipFill>
        <p:spPr>
          <a:xfrm>
            <a:off x="7064280" y="3352680"/>
            <a:ext cx="1970280" cy="342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Urlacher"/>
          <p:cNvPicPr/>
          <p:nvPr/>
        </p:nvPicPr>
        <p:blipFill>
          <a:blip r:embed="rId4"/>
          <a:stretch/>
        </p:blipFill>
        <p:spPr>
          <a:xfrm>
            <a:off x="3886200" y="4495680"/>
            <a:ext cx="1644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ce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dap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 athletic perform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ength must impr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ining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loa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ust be above normal (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ffor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lo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y over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dividualized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ple training mod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Supercompen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-fa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toration and incr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-fa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tness and prepared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ining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ute to res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6" descr="022504"/>
          <p:cNvPicPr/>
          <p:nvPr/>
        </p:nvPicPr>
        <p:blipFill>
          <a:blip r:embed="rId1"/>
          <a:stretch/>
        </p:blipFill>
        <p:spPr>
          <a:xfrm>
            <a:off x="4800600" y="4952880"/>
            <a:ext cx="2590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xt Cla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b tonight on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torque &amp; power/veloc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ur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gle leg velocity spectrum (60, 180, 300, 400, 5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 graphs and expla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 on AV Hill arti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ntrate on pgs 177-178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xt week Chapter 2 and l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5" descr="f-v"/>
          <p:cNvPicPr/>
          <p:nvPr/>
        </p:nvPicPr>
        <p:blipFill>
          <a:blip r:embed="rId1"/>
          <a:stretch/>
        </p:blipFill>
        <p:spPr>
          <a:xfrm>
            <a:off x="5857920" y="3324240"/>
            <a:ext cx="32097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v8jvu73g"/>
          <p:cNvPicPr/>
          <p:nvPr/>
        </p:nvPicPr>
        <p:blipFill>
          <a:blip r:embed="rId1"/>
          <a:stretch/>
        </p:blipFill>
        <p:spPr>
          <a:xfrm>
            <a:off x="533520" y="457200"/>
            <a:ext cx="3276360" cy="302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Body-Solid-Cable-Crossover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aptation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 featu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Overlo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mmod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Specifi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vidualiz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are of primary importance for sport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7" descr="leg-press"/>
          <p:cNvPicPr/>
          <p:nvPr/>
        </p:nvPicPr>
        <p:blipFill>
          <a:blip r:embed="rId1"/>
          <a:stretch/>
        </p:blipFill>
        <p:spPr>
          <a:xfrm>
            <a:off x="3429000" y="487692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://faculty.weber.edu/molpin/healthclasses/1110/bookchapters/introductionchapter_files/image002.jpg"/>
          <p:cNvPicPr/>
          <p:nvPr/>
        </p:nvPicPr>
        <p:blipFill>
          <a:blip r:embed="rId2"/>
          <a:stretch/>
        </p:blipFill>
        <p:spPr>
          <a:xfrm>
            <a:off x="4800600" y="1219320"/>
            <a:ext cx="39052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. Overload (pg 4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t be above the habitu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 intensity or volume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or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new drills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ria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ad must be manipulated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Progress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sistance exerc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statistics"/>
          <p:cNvPicPr/>
          <p:nvPr/>
        </p:nvPicPr>
        <p:blipFill>
          <a:blip r:embed="rId1"/>
          <a:stretch/>
        </p:blipFill>
        <p:spPr>
          <a:xfrm>
            <a:off x="6400800" y="1295280"/>
            <a:ext cx="2666880" cy="1803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xt-mt-320-283820&amp;size=320x320_mb"/>
          <p:cNvPicPr/>
          <p:nvPr/>
        </p:nvPicPr>
        <p:blipFill>
          <a:blip r:embed="rId2"/>
          <a:stretch/>
        </p:blipFill>
        <p:spPr>
          <a:xfrm>
            <a:off x="5715000" y="4114800"/>
            <a:ext cx="332892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powerlifting"/>
          <p:cNvPicPr/>
          <p:nvPr/>
        </p:nvPicPr>
        <p:blipFill>
          <a:blip r:embed="rId3"/>
          <a:stretch/>
        </p:blipFill>
        <p:spPr>
          <a:xfrm>
            <a:off x="685800" y="4729320"/>
            <a:ext cx="35053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igure 1.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77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Accommo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 exercises over long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formance gains decre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longed stimul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nciple of diminishing returns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pon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ining long periods may show accommodation (gain decreas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t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specific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variable vs. stable?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k10383-1i"/>
          <p:cNvPicPr/>
          <p:nvPr/>
        </p:nvPicPr>
        <p:blipFill>
          <a:blip r:embed="rId1"/>
          <a:stretch/>
        </p:blipFill>
        <p:spPr>
          <a:xfrm>
            <a:off x="6637320" y="1143000"/>
            <a:ext cx="2259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owerlifting_profile"/>
          <p:cNvPicPr/>
          <p:nvPr/>
        </p:nvPicPr>
        <p:blipFill>
          <a:blip r:embed="rId2"/>
          <a:stretch/>
        </p:blipFill>
        <p:spPr>
          <a:xfrm>
            <a:off x="5867280" y="4889520"/>
            <a:ext cx="31053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igure 1.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838080" y="1020600"/>
            <a:ext cx="6858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Specifi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Transf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training 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exercise to s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exercise to exerc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ryover eff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ining a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fitness-longsdorf"/>
          <p:cNvPicPr/>
          <p:nvPr/>
        </p:nvPicPr>
        <p:blipFill>
          <a:blip r:embed="rId1"/>
          <a:stretch/>
        </p:blipFill>
        <p:spPr>
          <a:xfrm>
            <a:off x="6477120" y="457200"/>
            <a:ext cx="214776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IMG_0412"/>
          <p:cNvPicPr/>
          <p:nvPr/>
        </p:nvPicPr>
        <p:blipFill>
          <a:blip r:embed="rId2"/>
          <a:stretch/>
        </p:blipFill>
        <p:spPr>
          <a:xfrm>
            <a:off x="3733920" y="4038480"/>
            <a:ext cx="2019240" cy="2695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MG_0417"/>
          <p:cNvPicPr/>
          <p:nvPr/>
        </p:nvPicPr>
        <p:blipFill>
          <a:blip r:embed="rId3"/>
          <a:stretch/>
        </p:blipFill>
        <p:spPr>
          <a:xfrm>
            <a:off x="6384960" y="4067280"/>
            <a:ext cx="1996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6:31Z</dcterms:created>
  <dc:creator>Fullerton</dc:creator>
  <dc:description/>
  <dc:language>en-US</dc:language>
  <cp:lastModifiedBy>Lee E. Brown</cp:lastModifiedBy>
  <dcterms:modified xsi:type="dcterms:W3CDTF">2010-09-01T20:30:59Z</dcterms:modified>
  <cp:revision>113</cp:revision>
  <dc:subject/>
  <dc:title>Basic Concepts of Training Theory</dc:title>
</cp:coreProperties>
</file>