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926-2E48-4639-B5EE-8159A2F9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368-C9DA-4FF8-BD91-77A5EA3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490-05B3-4C5E-9EDB-5BDC0246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7D0-4015-4A36-8768-E982D6FE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CDBC-4EBF-4854-8DB4-12B68B97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265-EC88-4876-9015-FF03F891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804-7549-41F2-AEBB-65FFDBBB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576E-1A62-4B54-A426-5D511D1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FAB-D269-4DC9-8ACD-2F171EE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AD8-72DC-4EFD-8E37-A22E80A5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B44-B3C5-4646-B0C3-496223A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961-06B9-4917-BAF8-047C391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873-8B0F-476C-9C48-F61E34F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31E-B375-49C1-AF63-C3DA49E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D186-C892-41CC-86BA-EAEF3657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F9CD-A3BE-4AA2-9F16-D13BB1D2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78C-5BE3-481B-9883-98D90B6A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4AB-7523-4CB9-9FC6-AD7A0BB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FC6-2D7C-4B5E-AB67-9150D1A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A1F-F197-4A44-973D-7861C5A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3F2-10A7-4250-B70C-62C8DD0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A38-D2BB-4BCE-A148-F569BEB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B31-7B3D-41F6-84F6-4A8A294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65-4552-4C18-B7F3-C942833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6E8-B3AF-4B53-BA26-407EAF4A72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0F6-8033-4162-AAD0-D53379FF73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p.uconn.edu/~yian/frl/43mood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inciples of Train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. Mor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S 55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dnesday 10/26/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229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ficity Princ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Physiological adaptations are specific to the muscles trained, intensity of exercise and metabolic demands of exer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Carryover Eff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</a:rPr>
              <a:t>Ex</a:t>
            </a: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: resistance training program supplements most sport trai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100% carryover NOT possi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esistance exercise sele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Verdana"/>
              </a:rPr>
              <a:t>Similar NM coordin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Verdana"/>
              </a:rPr>
              <a:t>Recruitment of correctly-targeted muscl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5867280"/>
            <a:ext cx="785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aching Article: "Considering All Angles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load Princ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adaptations to occur then the demand of the exercise mu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xce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at the body is normally accustomed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akovlev’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505320"/>
            <a:ext cx="7086600" cy="251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800600"/>
            <a:ext cx="70866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Norm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886200"/>
            <a:ext cx="0" cy="91440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505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Wor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8006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4572000"/>
            <a:ext cx="228600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572000"/>
            <a:ext cx="182880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490600">
            <a:off x="3276000" y="511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3000">
            <a:off x="49528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42000" y="3962520"/>
            <a:ext cx="189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1" i="1" lang="en-US" sz="1600" spc="-1" strike="noStrike">
                <a:solidFill>
                  <a:srgbClr val="006666"/>
                </a:solidFill>
                <a:latin typeface="Verdana"/>
              </a:rPr>
              <a:t>Super”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5715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(da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62625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V of workout, outside variables (sleep, nutrition), effect recovery time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load Principle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41162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r. Hans Sely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93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s model to describe the biological reaction of an organism to sustained and unrelenting stress; there are several stages, culminating in death in extreme circumsta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e St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.)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larm reaction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initial response to stimulus and consists of both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hock and soren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.)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daptation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improvement in performance is noted during this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)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xhaustion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unable to make further improvements and chronic fatigue is a possibil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72040" y="1827360"/>
            <a:ext cx="1841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010280" cy="4756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6880" y="5638680"/>
            <a:ext cx="121932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yle’s General Adaptation Syndro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803920"/>
            <a:ext cx="121932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arm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715000"/>
            <a:ext cx="1600200" cy="785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715000"/>
            <a:ext cx="1600200" cy="785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ession Princ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aptations will occur as a result of a training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training intensity does not change (progress), then overall intensity will get easier for the athle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often is it necessary to change training intens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viduality Princ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 athletes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same training stimulus = 20 different responses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hletes respond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DIFFERENTL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o training progra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) pretraining (training a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) genet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) gen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Diminishing Retur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gains are related to the level of training experienc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raining 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raining continues, strength and performance gains are more difficult to achie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tic cei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int of frus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rgogenic aids (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Diminishing Return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Hoffman et al. (1991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termine effectiveness of in-season weight training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wo groups (group 1: previous strength training experience; group 2: minimal strength train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no strength improvements in group 1 but 4% increase in upper-body strength in group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800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nderstanding training age is crucial for interpreting performance gains OR lack of gai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Diminishing Returns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44792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019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58400" y="39686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Streng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6095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Duration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2286000"/>
            <a:ext cx="5486400" cy="380880"/>
            <a:chOff x="1447920" y="2286000"/>
            <a:chExt cx="5486400" cy="380880"/>
          </a:xfrm>
        </p:grpSpPr>
        <p:sp>
          <p:nvSpPr>
            <p:cNvPr id="153" name=""/>
            <p:cNvSpPr/>
            <p:nvPr/>
          </p:nvSpPr>
          <p:spPr>
            <a:xfrm>
              <a:off x="1447920" y="2666880"/>
              <a:ext cx="5486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2286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Genetic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>
            <a:off x="1676520" y="4495320"/>
            <a:ext cx="990360" cy="129564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666880" y="2971440"/>
            <a:ext cx="2362320" cy="15238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029200" y="2895480"/>
            <a:ext cx="1676520" cy="763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Reversibi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ce a training stimulus is removed the performance gains will revert back to their original state (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etrain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quickly will this occur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yle et al. (1979): 4-6% reduction in VO2 max after 2 weeks of inactiv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yle et al. (1986): 12% decrease in SV is evident after 2-4 weeks of detrai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maining Lec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/26/05 – Principles of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/2/05 – Resistance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/9/05 – Endurance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/16/05 – Anaerobic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/23/05 – No cla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/30/05 – Plyometrics/Flexi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/7/05 – Class Present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iokinetic Swim Bench and Strength Chang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Detrai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4320" y="1828800"/>
            <a:ext cx="4539600" cy="4692960"/>
            <a:chOff x="184320" y="1828800"/>
            <a:chExt cx="4539600" cy="46929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11291" t="0" r="19444" b="0"/>
            <a:stretch/>
          </p:blipFill>
          <p:spPr>
            <a:xfrm>
              <a:off x="290520" y="1828800"/>
              <a:ext cx="4433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84320" y="612288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905360" y="1741320"/>
            <a:ext cx="3882960" cy="4665960"/>
            <a:chOff x="4905360" y="1741320"/>
            <a:chExt cx="3882960" cy="46659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986360" y="1741320"/>
              <a:ext cx="3801960" cy="42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905360" y="60084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ologic Effects of De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8223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ecreased performance may be related to losses in cardiorespiratory end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4780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xidative enzyme activity in muscles decreases (up to 6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480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Glycolytic enzymes remain unchanged with up to 84 days of de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7500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uscle glycogen content (and thus storage capacity) de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103720"/>
            <a:ext cx="632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cid-base balance becomes distur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5990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uscle capillary supply and fiber type may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Reversibility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54400" y="1752480"/>
            <a:ext cx="471312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094360" cy="4759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Reversibility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990720" y="2209680"/>
            <a:ext cx="8001000" cy="1797840"/>
            <a:chOff x="990720" y="2209680"/>
            <a:chExt cx="8001000" cy="1797840"/>
          </a:xfrm>
        </p:grpSpPr>
        <p:sp>
          <p:nvSpPr>
            <p:cNvPr id="179" name=""/>
            <p:cNvSpPr/>
            <p:nvPr/>
          </p:nvSpPr>
          <p:spPr>
            <a:xfrm>
              <a:off x="990720" y="2209680"/>
              <a:ext cx="8001000" cy="17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66"/>
                  </a:solidFill>
                  <a:latin typeface="Arial"/>
                </a:rPr>
                <a:t>You can prevent rapid losses to your cardiorespiratory endurance with a minimum of three training sessions per week at an intensity of at least 70% VO</a:t>
              </a:r>
              <a:r>
                <a:rPr b="0" lang="en-US" sz="2400" spc="-1" strike="noStrike" baseline="-25000">
                  <a:solidFill>
                    <a:srgbClr val="00666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666"/>
                  </a:solidFill>
                  <a:latin typeface="Arial"/>
                </a:rPr>
                <a:t>max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0960" y="2671560"/>
              <a:ext cx="1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le of Reversibility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3962520"/>
            <a:ext cx="8001000" cy="1386360"/>
            <a:chOff x="914400" y="3962520"/>
            <a:chExt cx="8001000" cy="1386360"/>
          </a:xfrm>
        </p:grpSpPr>
        <p:sp>
          <p:nvSpPr>
            <p:cNvPr id="183" name=""/>
            <p:cNvSpPr/>
            <p:nvPr/>
          </p:nvSpPr>
          <p:spPr>
            <a:xfrm>
              <a:off x="914400" y="3962520"/>
              <a:ext cx="80010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66ff"/>
                  </a:solidFill>
                  <a:uFillTx/>
                  <a:latin typeface="Arial"/>
                </a:rPr>
                <a:t>Research Arti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Specificity and Reversibility of Inspiratory Muscle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ff"/>
                  </a:solidFill>
                  <a:latin typeface="Arial"/>
                </a:rPr>
                <a:t>Romer &amp; McConnell (200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94640" y="4424400"/>
              <a:ext cx="1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733920" y="5105520"/>
            <a:ext cx="1181160" cy="11905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igning Training Programs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en is enough, enough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92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ing Training Programs: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0020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cessive train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well above what is needed for peak performance, but does not strictly meet the criteria for overreaching or overtraining. It can lead to chronic fatigue and decrements in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08772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verreach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a brief period of heavy overload without adequate recovery, thus exceeding the athlete’s adaptive capacity. There is a performance decrement, but it is relatively short-term, lasting several days to several weeks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57668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vertrain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that point at which an athlete starts to experience physiological maladaptations and chronic performance decrements, lasting weeks, months or longer.  Up and exceeding 6 months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(Kreider et al.,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reaching VS Over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13360" cy="3533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38600" y="2057400"/>
            <a:ext cx="4113360" cy="35337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143000" y="2666880"/>
            <a:ext cx="3124080" cy="3507840"/>
            <a:chOff x="1143000" y="2666880"/>
            <a:chExt cx="3124080" cy="3507840"/>
          </a:xfrm>
        </p:grpSpPr>
        <p:sp>
          <p:nvSpPr>
            <p:cNvPr id="196" name=""/>
            <p:cNvSpPr/>
            <p:nvPr/>
          </p:nvSpPr>
          <p:spPr>
            <a:xfrm>
              <a:off x="1143000" y="57150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Verdana"/>
                </a:rPr>
                <a:t>OVERREAC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219320" y="2666880"/>
              <a:ext cx="2819160" cy="1524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0080" y="3048120"/>
            <a:ext cx="3124440" cy="3126600"/>
            <a:chOff x="5410080" y="3048120"/>
            <a:chExt cx="3124440" cy="3126600"/>
          </a:xfrm>
        </p:grpSpPr>
        <p:sp>
          <p:nvSpPr>
            <p:cNvPr id="199" name=""/>
            <p:cNvSpPr/>
            <p:nvPr/>
          </p:nvSpPr>
          <p:spPr>
            <a:xfrm>
              <a:off x="5410080" y="5715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OVER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3048120"/>
              <a:ext cx="25909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r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hletes may plateau or see a decrease in perform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ical response: frust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itial symptom of overreach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duced stimulus provo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compens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roved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training (O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Produces an autonomic nervous system imba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Results in a sympathetic system and/or parasympathetic system dominance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(Israel, 197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Sympathetic overdrive during re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Restlessnes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Weight los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Increase in resting H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Parasympathetic overdrive during exerci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Fatigu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Depress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Reduction in resting H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Parasympathetic overtraining more severe case of 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66"/>
                </a:solidFill>
                <a:latin typeface="Verdana"/>
              </a:rPr>
              <a:t>Associated with exhaustion of neuroendocrine syste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53080" y="155520"/>
            <a:ext cx="21528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tting Instructions for Pap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aft due before Thanksgi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s New Roman (font 1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ustify tex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ne Numb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tecting Over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2864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ecline in physical performance with continu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117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ss in muscular strength, coordination, and maximal work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93040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General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41316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hange in appetite and body weigh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95560"/>
            <a:ext cx="632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leep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3783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Irritable, restless, excitable, anxious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48610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oss of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53434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ack of mental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58276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Feelings of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training Marker: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Resting H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032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Reversal of Runner's Bradycardia with Training Overst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Dressendorfer et al. (2000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Verdana"/>
              </a:rPr>
              <a:t>Bradycardia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 = slowness of the hearbeat, usually defined (by convention) as a rate under 60 beats per minute.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006666"/>
                </a:solidFill>
                <a:latin typeface="Verdana"/>
              </a:rPr>
              <a:t>PDR Medical Dictionary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3686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docrine System Disturb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Testosterone/Cortisol ratio has been proposed as a monitor of training 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Anabolic to catabolic relations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If T/C decreases 30%, then recovery i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Day 1: T/C = 1/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Day 5: T/C = 12/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Day 10: T/C = 22/-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54640" y="1757520"/>
            <a:ext cx="4689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sychological Disturb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od states are sensitive to training volume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Morgan et al., 199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s a monitoring tool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file of Mood States (POMS; 197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lf-report inventor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50+ research articles have used PO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ceberg Profile”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trained athletes exhibit lower confidence in their ability to succe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of POMS in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port/exercise liter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029200" y="2087640"/>
            <a:ext cx="3790800" cy="25891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tential Causes of Over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876560" cy="35766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tential Causes of Over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22960" y="1981080"/>
            <a:ext cx="2768760" cy="37339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914400" y="2666880"/>
            <a:ext cx="4876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) Periods of excessive training and/or emotional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276720"/>
            <a:ext cx="5334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) Abnormal responses in the autonomic nervous system—sympathetic and parasympath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962520"/>
            <a:ext cx="4800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) Disturbances in endocrin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419720"/>
            <a:ext cx="533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) Depressed immun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209680"/>
            <a:ext cx="4876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MULTIFA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952880"/>
            <a:ext cx="533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5.) Psychological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5486400"/>
            <a:ext cx="533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6.)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60199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ingle factor may push an athlete over the t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eatment of Over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 to avoid by detecting signs of over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eatment: rest &amp; reco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ove stimulus to allow a full recovery to normal val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covery can take many months to be compl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s for Scientific Wri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rt with outline of se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pic sent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ke sure the entire paragraph relates to main ide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ition between paragraph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tations (Moran et al., 200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oid “sloppy referenc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not cite a review article citing the research studies that actually completed the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ypically avoid direct quotations from stud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asionally it is OK but it is better to paraphr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oid writing “the author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ep sentences simple, avoid long run-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ronyms – be sure to identify initial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 understand training theor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92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ltimately it is to improve athletic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ary Objectiv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ent inju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imize human potent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ys to developing successful training paradig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KEEP RECOR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ery importa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relevant research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open to new techniques/id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ining Program E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Goal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proper goals are necessary for a training program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s common to training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ing muscle streng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ing aerobic capac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ing sports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ing body composi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ute Program Variab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training components that can be altered from workout to work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oice of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der of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nsity of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 of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ining frequen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 interv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leck &amp; Kramer (1997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ute Program Variables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021040"/>
            <a:ext cx="8153280" cy="376380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sic Training Princip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6707160" cy="38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ficity Princi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verload Princi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dividuality Princi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le of Diminishing Retur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le of Reversib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train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ditional Top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vertrain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2133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12:15Z</dcterms:created>
  <dc:creator> </dc:creator>
  <dc:description/>
  <dc:language>en-US</dc:language>
  <cp:lastModifiedBy> </cp:lastModifiedBy>
  <dcterms:modified xsi:type="dcterms:W3CDTF">2005-10-26T22:52:32Z</dcterms:modified>
  <cp:revision>28</cp:revision>
  <dc:subject/>
  <dc:title>Principles of Training</dc:title>
</cp:coreProperties>
</file>