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F30-C77D-4C80-8172-253B9457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4F3-2EBC-45D7-B92B-CD33FD30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5A6-CD76-4D9A-A659-912D5386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3EB-0AF4-4320-9C41-3BEA98BE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E376-9391-43D1-90F9-522A0685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B327-3721-428F-AFEA-84EACD1E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5DB4-B8CB-4BC2-9FD4-4ADF3281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2342-1966-4932-BC9A-DAA763BE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F954-E607-43A2-B732-C696739F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189F-5D53-4722-8479-AEE529CF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3CAC-F649-46A2-9BED-9990823B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4F38-7052-4F87-A2B5-B288344C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04E1-7C8B-41D2-9868-37A49757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55C5-B79C-442F-94CC-A9DF6434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A3B3-71F6-4C13-9728-2DF36DED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AC13-C6E0-47FF-9BF6-07AD7C33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5E0F-1749-410F-B054-3C09C04A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AEA9-CA59-4EF3-B74A-D4BDEF9F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07C-6BBF-4139-B896-45DBF48C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589-C3C2-4335-AC74-47E42737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9DD6-DEEE-4780-8370-D15A98EF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138E-D4DF-4C4A-8033-94AFF79F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9E3-83D6-4339-9AFE-9849C894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70E5-7BAE-42AC-9CBB-47207437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D552-023F-4E65-8974-2394CFC83F4E}" type="slidenum">
              <a:rPr b="0" lang="en-A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AC48-D2DF-4BA5-BF6B-5523CDA2E37E}" type="slidenum">
              <a:rPr b="0" lang="en-A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cc"/>
                </a:solidFill>
                <a:latin typeface="Arial"/>
              </a:rPr>
              <a:t>Principles of Training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aeaea"/>
                </a:solidFill>
                <a:latin typeface="Verdana"/>
              </a:rPr>
              <a:t>Yr 12 Phys Ed Studie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aeaea"/>
                </a:solidFill>
                <a:latin typeface="Verdana"/>
              </a:rPr>
              <a:t>Unit 2A / 2B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5. REVERSIBIL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raining effects are reversi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f training stops, is done irregularly or with no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ough intensity then adaptations will be reversed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This process is also referred to as 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detrain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ES OF TRAIN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1. ANAEROBIC TRAIN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 improve anaerobic capacity we need to overloa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ATP-CP &amp; Lactic Acid energy system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ATP-CP Syste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gage specific muscles in repeated 5-10 second bursts of activ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activity must use the specific muscles required for the particular s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Lactic Acid Syste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mproving the capacity requires repeated bouts of up to 1 minute max effort, stop 30 seconds prior to exhaustion. Repeat after 3-5 minutes recovery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s causes lactic acid build-up which overloads the muscles and increases lactic acid toleranc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ctivities chosen must engage the specific muscle group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3789360"/>
            <a:ext cx="504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2. AEROBIC TRAIN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aerobic energy system provides energy fo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longed activities by producing ATP from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lycogen, with oxyg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 main goals of aerobic training are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crease capacity of cardiorespiratory system (cardiac output/ stroke volume) &amp; efficiency of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spiratory syste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hance capacity of specific muscles to process oxyg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*brief bouts of repeated exercise &amp; long-duration efforts develop aerobic capacity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99ff"/>
                </a:solidFill>
                <a:latin typeface="Verdana"/>
              </a:rPr>
              <a:t>3. STRENGTH TRAIN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ree types of muscular action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eaeaea"/>
                </a:solidFill>
                <a:latin typeface="Verdana"/>
              </a:rPr>
              <a:t>Concentric action – </a:t>
            </a: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muscle shortens, joint move’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occurs as tension develops eg raising dumbel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eaeaea"/>
                </a:solidFill>
                <a:latin typeface="Verdana"/>
              </a:rPr>
              <a:t>Eccentric action – </a:t>
            </a: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external resistance &gt; muscle force &amp; muscle lengthens while developing tension eg lowering dumbell (bicep lengthen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n-AU" sz="2400" spc="-1" strike="noStrike">
                <a:solidFill>
                  <a:srgbClr val="eaeaea"/>
                </a:solidFill>
                <a:latin typeface="Verdana"/>
              </a:rPr>
              <a:t>Isometric action – </a:t>
            </a: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when muscle generates force &amp; attempts to contract but can’t overcome external force eg pressing against a wal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asic principles of strength training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overloa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progressive resistance (reps or weight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specific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largest muscle groups firs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warm-u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breathe when lift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techniqu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99ff"/>
                </a:solidFill>
                <a:latin typeface="Verdana"/>
              </a:rPr>
              <a:t>4. SPEED TRAIN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Training methods best suited to improving speed are circuit and interval train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Progressive overload achieved by decreasing the duration but increasing the rep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99ff"/>
                </a:solidFill>
                <a:latin typeface="Verdana"/>
              </a:rPr>
              <a:t>5. POWER TRAIN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Power is combo of speed and strengt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Training methods best suited to improving it are resistance training, interval &amp; circuit training &amp; plyometric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99ff"/>
                </a:solidFill>
                <a:latin typeface="Verdana"/>
              </a:rPr>
              <a:t>FLEXIBILITY TRAIN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There are 2 types of flexibility – static &amp; dynamic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Training should be specific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- static exercises eg hold quad stretch for 20sec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- dynamic exercises that involve movement during the stretch eg side bend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Best training methods to improve flexibility are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- static &amp; dynamic stretching, slow active stretching (SAS) &amp; Proprioreceptive neuromuscular facilitation (PNF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ETHODS OF TRAIN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Verdana"/>
              </a:rPr>
              <a:t>Continuous Train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Verdana"/>
              </a:rPr>
              <a:t>Fartlek Train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Verdana"/>
              </a:rPr>
              <a:t>Interval Train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Verdana"/>
              </a:rPr>
              <a:t>Circuit Train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Verdana"/>
              </a:rPr>
              <a:t>Resistance Strength Train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Verdana"/>
              </a:rPr>
              <a:t>Isometric Strength Train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Verdana"/>
              </a:rPr>
              <a:t>Flexibility Train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Verdana"/>
              </a:rPr>
              <a:t>Plyometric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1. CONTINUOUS TRAIN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volves sustained activity for between 20 – 60 minut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mproves cardio-respiratory endurance and muscular endura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order to develop aerobic capacity throug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uous training the following variables must b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ed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itness is transitory – it increases with activity an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creases with inactivity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All training has some common feature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t produces constant physical chan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t takes time for these changes to occur, so training must take place over a period of tim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training response is directly related to the types of training us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Intensity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 strenuous the exercise must b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tween 70-85% of maximum heart r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Duration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ength of the training session (at least 20 min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Frequency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umber of training sessions per week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Type of Activity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pends on individual interests and objectives of training progra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2. FARTLEK TRAIN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odified form of continuous training involv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gular changes of pa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changes of pace increase the involvement of the anaerobic energy systems while primarily using the aerobic syste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3. INTERVAL TRAIN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mprises a series of repeated short bouts of exercise interrupted by periods of relief (rest or light exercis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signed to improve speed, power, agility and anaerobic capac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Key Variables in Interval Train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Work Interval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fers to the exercise phase at a prescribed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tens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Recovery Interval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fers to the time between work bouts, and th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ype of activity during the recove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rt rate should drop to 120 beats per minu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recovery interval is expresses in relation to the work interval as a ratio eg a 1:2 ratio means the recovery interval is twice as long as the work interv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Set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fers to a series of work-recovery interva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Repetition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fers to the number of work intervals in a giv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e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4. CIRCUIT TRAIN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number of exercise stations that are consecutively arranged in a given area, to be completed in as short a time as possi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as potential to develop aerobic capacity, anaerobic capacity, strength, power, agility, flexibility and muscular strengt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ctivities included in circuit depend on objectives of the training progra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0 to 15 stations requiring 8 – 12 minutes to comple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ually repeated 2 or 3 times during a sess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Verdana"/>
              </a:rPr>
              <a:t>5. RESISTANCE STRENGTH TRAIN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Involves performing a series of exercises with resistance, using either free or machine weigh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Produces improvements in muscular strength and muscular endura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3 types – Isotonic, Isometric, Isokineti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ERMS TO KNOW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99ff"/>
                </a:solidFill>
                <a:latin typeface="Verdana"/>
              </a:rPr>
              <a:t>Repetition (rep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99ff"/>
                </a:solidFill>
                <a:latin typeface="Verdana"/>
              </a:rPr>
              <a:t>Se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99ff"/>
                </a:solidFill>
                <a:latin typeface="Verdana"/>
              </a:rPr>
              <a:t>Repetition Maximum (RM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Verdana"/>
              </a:rPr>
              <a:t>6. ISOMETRIC STRENGTH TRAIN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Involves contracting a muscle against an immovable resistance, wherey a muscle exerts force but there is no joint movem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Limited in its applic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Useful in sports like Judo and Gymnastic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7. PLYOMETRIC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very specialised form of power train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apid eccentric contraction (muscle lengthen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ollowed by a rapid concentric contraction (muscle shorten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Training programs should be developed to meet th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needs of the individual. However, the basi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principles and guidelines for achieving a desired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level of fitness are the same for everyon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99ff"/>
                </a:solidFill>
                <a:latin typeface="Verdana"/>
              </a:rPr>
              <a:t>SPECIFIC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What you train for is what you get” ie different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forms of exercise produce different effect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The outcomes of training don’t automatical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translate from one activity to anoth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** </a:t>
            </a:r>
            <a:r>
              <a:rPr b="0" i="1" lang="en-AU" sz="2400" spc="-1" strike="noStrike">
                <a:solidFill>
                  <a:srgbClr val="eaeaea"/>
                </a:solidFill>
                <a:latin typeface="Verdana"/>
              </a:rPr>
              <a:t>Peripheral training effects</a:t>
            </a: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 – those occuring at the muscl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** </a:t>
            </a:r>
            <a:r>
              <a:rPr b="0" i="1" lang="en-AU" sz="2400" spc="-1" strike="noStrike">
                <a:solidFill>
                  <a:srgbClr val="eaeaea"/>
                </a:solidFill>
                <a:latin typeface="Verdana"/>
              </a:rPr>
              <a:t>Central training effects</a:t>
            </a: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 – those occuring in th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cardiorespiratory system, may transfer more quickly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Training MUST include the physiological capaciti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Verdana"/>
              </a:rPr>
              <a:t>that need maintenance or improvemen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2. PROGRESSIVE OVERLOA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body systems must be continually loaded with progressively higher levels of work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body adapts physiologically when training load is &gt; it’s used t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loading can be achieved by varying 3 facto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creasing INTENSITY of exercis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increasing FREQUENCY of activ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increasing DURATION of exercise or numb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f REPETI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method used to achieve overload is dependent on the specific fitness desired and th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im of the training program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3. TRAINING THRESHOLD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minimum intensity and duration of stress must b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ceeded before adaptations in physiological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pacities are triggered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erobic Threshol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level of intensity that allows you to exercis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ing the aerobic energy syste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mprovements can be achieved by training at 60 –85% max HR for at least 30 minut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n be increased by training at higher end of training zon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Anaerobic Threshol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orking above aerobic threshold you will feel out of breath, possibly nausea and cramping. At thi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int you have reached 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anaerobic threshold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n be increased by using short bursts of high intensity activity, interspersed with aerobic workou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* If you are able to have a conversation during your workout you are working in the aerobic zon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ciples of Trai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4. INDIVIDUAL DIFFERENC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dividuals will respond to the same training i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fferent way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tors affecting physiological responses t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genetic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fitness leve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heart size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muscle ma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fibre type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fat distribu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joint flexibil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ptimal benefits result from programs geared t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individual needs &amp; capabilities of the athle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1:27:58Z</dcterms:created>
  <dc:creator>DET</dc:creator>
  <dc:description/>
  <dc:language>en-US</dc:language>
  <cp:lastModifiedBy>DET</cp:lastModifiedBy>
  <dcterms:modified xsi:type="dcterms:W3CDTF">2009-03-26T03:15:45Z</dcterms:modified>
  <cp:revision>35</cp:revision>
  <dc:subject/>
  <dc:title>Principles of Training </dc:title>
</cp:coreProperties>
</file>