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dt" idx="22"/>
          </p:nvPr>
        </p:nvSpPr>
        <p:spPr>
          <a:xfrm>
            <a:off x="377820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ftr" idx="23"/>
          </p:nvPr>
        </p:nvSpPr>
        <p:spPr>
          <a:xfrm>
            <a:off x="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 type="sldNum" idx="24"/>
          </p:nvPr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5957-59F8-4100-95B2-9FD103F7B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44C7-BDCB-43ED-B96A-A940B34D9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6"/>
          <p:cNvSpPr/>
          <p:nvPr/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raft and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66E8-CAA2-4032-A8BE-FF3BC3C42C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8FEA-C4DC-456E-82D6-65ECC37D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1D64-8165-4981-A8D1-D9BADC7E5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6"/>
          <p:cNvSpPr/>
          <p:nvPr/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raft and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C8BB-0F16-44D0-A22C-6ECDE23D168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raft and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776760" y="942984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0F14-9D4A-4FE9-AE02-85C14081014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88480" y="4716000"/>
            <a:ext cx="48913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778200" y="9431280"/>
            <a:ext cx="2890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5FF7-A136-450A-9602-9F33CDBC6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5780-2DEC-421D-AF3F-23AEEDD8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3A0-5EEB-4C0B-A776-57A0AC9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C549B-8199-4817-BD37-E07AD63C0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943-EEF3-4405-8C85-955490121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B6E11-6C38-47C2-AADA-2A0F1983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715C1-B9CC-41C0-82AE-29ED1C49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59874-611F-404D-90CE-8A6E7936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8465D-DB74-4149-8DA2-D38679A6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2A477-C972-4564-8A93-CB55F3F8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AD4A-7602-4C7F-9430-ED4D2F4C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A8E34-683F-4261-B8DC-B61CA1C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5D008-1953-4DCC-A4C7-1019C98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5343F-E1B9-4892-A783-66FEEF53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857CE-5460-4FDE-A030-D707D0B8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94C-FF86-4335-89E5-CF9DA35C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207C6-7081-4B30-9293-29FB313C4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4FDD-CBF9-4FED-86C3-B59D1DD1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E598-9B2A-411C-B056-B939CA3A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AF53-62D8-4C20-A043-A8EAC36E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1615C-C512-4A1C-B60D-851F22D8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3CB5-DD45-4D44-B096-4CA22B1E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FE42-1E59-431F-802F-41F8CE1B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16EE-E3CE-4CFC-BAB4-BBFA9433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B5D0-D823-422E-A4B0-2C85BD0F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4B8A-9D01-41B9-A441-8FDB2BE3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F55F-B261-402A-BBF2-0B1614E3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1BD-75B1-4F22-9C91-0EE3EEE6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9131-DAAF-42A7-A32B-FF64795E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B8EC-F682-467E-BF3E-EE21B6A92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6F4AC-F384-4023-AB58-3F05CB71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41F75-14AF-46CA-9721-6E17086E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0EDB-6682-485F-9E2F-46E6ACA8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3469B-89F2-4CB6-96BB-954A0E98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8B058-AC2E-42CA-BB93-7BA876C2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6D84-A9DA-4300-953C-8EF84421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68672-74CA-412B-8FA4-AFE42EC5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99C3F-0E6E-4B55-AF4E-A6125273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49D8D-694A-4EEA-98E0-45C6314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4D326-FC3A-4F95-BAEC-65E50DCC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11F4-A5BF-493D-9690-43176196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4B31C-8DD4-4EC0-A8BB-51E1DEE3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E4D2E-472F-452A-BC8B-C1850A05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9165-E877-40AF-B42D-35C35B27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766C-3E73-460C-BC73-11C29A1A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1FEE9-4477-478E-B7AF-862ADE03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EF2F-8B99-4783-970D-9C0D326B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9323A-E54F-4CE1-B3F7-04D99C6D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7EFD9-17C9-4723-8DB8-59AC835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F5FBB-3E64-406E-B512-884C4160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435E-9C17-49FC-9A53-976FA811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680B-9154-4BA0-BCBF-11F6C6D4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AE27D-0EDC-4B6C-93AE-0ED08B36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C8B4F-0D80-449A-80EB-B91A3400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66A7C-4645-47E2-A793-3B083827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0E3E2-7A47-44D4-A202-B8800BE99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6DBCC-8D3B-4374-A1AF-F2F53F61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6EA-3B21-42E8-B980-805E16C6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ECA29-B05F-424F-BCB5-BA11D72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3AF7-EBC2-492B-9198-5B7AE74D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BF90E-F678-49A1-9F46-88E23E76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55038-D78C-40F2-8443-33427470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B06AF-0AD6-4047-9DFB-D33C9FBE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7C936-6FEB-4157-90C4-5516E6E3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FD051-6616-4596-8BCD-D6C7AA08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60682-EC9D-479B-8AF6-262E213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28EC8-5BFB-42DC-8CE6-6B8A2A28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456FC-31BB-43D0-B6D6-EB2BD8C9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F62E-A759-4F41-A0B8-A86C62B0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6A76F-2656-4A1A-B8A2-20D0E857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D57-1ED8-4B6A-B229-E5181982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C698-56A2-488B-9806-3E8F74DB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1AC10-917B-4E6C-9505-601A1F5C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DC4EE-9A63-4A1C-AC0D-BB579814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4A455-2B48-43B9-ACD5-BDE00D46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D1ECB-C21A-4B63-8BB9-C457079A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F49D4-0649-4F90-9356-7792BC48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5D1-685F-4773-BBCB-FC17A08F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6D3A4-9A75-41BD-8703-D62B888F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56E2-D5B0-4205-87BD-3538B9A2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D9179-5F96-4E3F-B940-781D69A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E055C-EB4D-48AB-B09C-A695DC1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85800" y="4268880"/>
            <a:ext cx="77724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5653B-714A-4652-9C2F-A25F246D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8480" y="243792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580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8480" y="4268880"/>
            <a:ext cx="3792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980C3-FC7D-4512-9C1B-24F24209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1380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41440" y="243792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85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1380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41440" y="4268880"/>
            <a:ext cx="250236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D7673-7B2E-4DE9-A7D3-74216DA0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DF46-5113-48F9-85B8-60E0BD7AF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DETE powerpoint title screen1.jpg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9F3D-3595-4FF2-ACD6-4C78B1F46D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DETE powerpoint title screen1.jpg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ETE powerpoint title screen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80E1-CA62-4597-8411-3D986740CA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331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6C0-C707-473C-A2A7-0C5C3BD42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5331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89512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B2FE-89AA-4612-B11B-6186D57FA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331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400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00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0A29-EF42-470E-9459-CF2EB6FABE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8" descr="DETE powerpoint title screen1.jpg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50B0-AC0E-4AE3-9BCD-4A9BADF67A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1" descr="DETE powerpoint content screen1.jpg"/>
          <p:cNvPicPr/>
          <p:nvPr/>
        </p:nvPicPr>
        <p:blipFill>
          <a:blip r:embed="rId2"/>
          <a:stretch/>
        </p:blipFill>
        <p:spPr>
          <a:xfrm>
            <a:off x="0" y="0"/>
            <a:ext cx="9159840" cy="1442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" descr="Crest footer.jpg"/>
          <p:cNvPicPr/>
          <p:nvPr/>
        </p:nvPicPr>
        <p:blipFill>
          <a:blip r:embed="rId3"/>
          <a:stretch/>
        </p:blipFill>
        <p:spPr>
          <a:xfrm>
            <a:off x="6058080" y="5884920"/>
            <a:ext cx="3085920" cy="9730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11"/>
          <p:cNvSpPr/>
          <p:nvPr/>
        </p:nvSpPr>
        <p:spPr>
          <a:xfrm>
            <a:off x="468360" y="60930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alibri"/>
              </a:rPr>
              <a:t>Februar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"/>
          <p:cNvSpPr/>
          <p:nvPr/>
        </p:nvSpPr>
        <p:spPr>
          <a:xfrm>
            <a:off x="0" y="1989000"/>
            <a:ext cx="8893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ffffff"/>
                </a:solidFill>
                <a:latin typeface="Arial"/>
              </a:rPr>
              <a:t>National Quality Framework </a:t>
            </a:r>
            <a:br>
              <a:rPr sz="3000"/>
            </a:br>
            <a:br>
              <a:rPr sz="3000"/>
            </a:br>
            <a:r>
              <a:rPr b="1" lang="en-AU" sz="4500" spc="-1" strike="noStrike">
                <a:solidFill>
                  <a:srgbClr val="ffffff"/>
                </a:solidFill>
                <a:latin typeface="Arial"/>
              </a:rPr>
              <a:t>Educational leadership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AU" sz="3000" spc="-1" strike="noStrike">
                <a:solidFill>
                  <a:srgbClr val="ffffff"/>
                </a:solidFill>
                <a:latin typeface="Arial"/>
              </a:rPr>
              <a:t>Podcast Series: 5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24000" y="1366920"/>
            <a:ext cx="871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9528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24000" y="1366920"/>
            <a:ext cx="8424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33"/>
                </a:solidFill>
                <a:latin typeface="Calibri"/>
              </a:rPr>
              <a:t>Ideas to support educator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b0f0"/>
                </a:solidFill>
                <a:latin typeface="Calibri"/>
              </a:rPr>
              <a:t>Recognising the learning opportunities in routin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know and understand policies an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b0f0"/>
                </a:solidFill>
                <a:latin typeface="Calibri"/>
              </a:rPr>
              <a:t>Be the conduit for new information and contemporary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Find and sha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Break down each quality area of the N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b0f0"/>
                </a:solidFill>
                <a:latin typeface="Calibri"/>
              </a:rPr>
              <a:t>Support educators to reflect on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. Educational leadership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24000" y="1366920"/>
            <a:ext cx="871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39528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324000" y="1366920"/>
            <a:ext cx="8424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1280" y="2276640"/>
            <a:ext cx="785016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500" spc="-1" strike="noStrike">
                <a:solidFill>
                  <a:srgbClr val="333333"/>
                </a:solidFill>
                <a:latin typeface="Calibri"/>
              </a:rPr>
              <a:t>What could </a:t>
            </a:r>
            <a:br>
              <a:rPr sz="5500"/>
            </a:br>
            <a:r>
              <a:rPr b="1" lang="en-AU" sz="5500" spc="-1" strike="noStrike">
                <a:solidFill>
                  <a:srgbClr val="333333"/>
                </a:solidFill>
                <a:latin typeface="Calibri"/>
              </a:rPr>
              <a:t>educational leadership </a:t>
            </a:r>
            <a:br>
              <a:rPr sz="5500"/>
            </a:br>
            <a:r>
              <a:rPr b="1" lang="en-AU" sz="5500" spc="-1" strike="noStrike">
                <a:solidFill>
                  <a:srgbClr val="333333"/>
                </a:solidFill>
                <a:latin typeface="Calibri"/>
              </a:rPr>
              <a:t>look like at your service?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84360" y="1484280"/>
            <a:ext cx="82803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79280" y="2295360"/>
            <a:ext cx="86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Calibri"/>
              </a:rPr>
              <a:t>Supporting the </a:t>
            </a:r>
            <a:br>
              <a:rPr sz="6000"/>
            </a:br>
            <a:r>
              <a:rPr b="1" lang="en-AU" sz="6000" spc="-1" strike="noStrike">
                <a:solidFill>
                  <a:srgbClr val="ffffff"/>
                </a:solidFill>
                <a:latin typeface="Calibri"/>
              </a:rPr>
              <a:t>educational lead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5796000" y="5661000"/>
            <a:ext cx="334800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. Supporting the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100080" y="1166760"/>
            <a:ext cx="3046320" cy="32180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cccccc">
                <a:alpha val="56000"/>
              </a:srgbClr>
            </a:outerShdw>
          </a:effectLst>
        </p:spPr>
      </p:pic>
      <p:pic>
        <p:nvPicPr>
          <p:cNvPr id="516" name="Picture 4" descr=""/>
          <p:cNvPicPr/>
          <p:nvPr/>
        </p:nvPicPr>
        <p:blipFill>
          <a:blip r:embed="rId2"/>
          <a:stretch/>
        </p:blipFill>
        <p:spPr>
          <a:xfrm>
            <a:off x="2919240" y="2003400"/>
            <a:ext cx="3165480" cy="337968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cccccc">
                <a:alpha val="56000"/>
              </a:srgbClr>
            </a:outerShdw>
          </a:effectLst>
        </p:spPr>
      </p:pic>
      <p:sp>
        <p:nvSpPr>
          <p:cNvPr id="517" name="TextBox 1"/>
          <p:cNvSpPr/>
          <p:nvPr/>
        </p:nvSpPr>
        <p:spPr>
          <a:xfrm>
            <a:off x="190440" y="459108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1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workforce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.org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8"/>
          <p:cNvSpPr/>
          <p:nvPr/>
        </p:nvSpPr>
        <p:spPr>
          <a:xfrm>
            <a:off x="2919240" y="5583240"/>
            <a:ext cx="25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1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acecqa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.gov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9"/>
          <p:cNvSpPr/>
          <p:nvPr/>
        </p:nvSpPr>
        <p:spPr>
          <a:xfrm>
            <a:off x="5762520" y="6435720"/>
            <a:ext cx="327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www.</a:t>
            </a:r>
            <a:r>
              <a:rPr b="1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earlychildhoodaustralia</a:t>
            </a:r>
            <a:r>
              <a:rPr b="0" lang="en-AU" sz="1600" spc="-1" strike="noStrike">
                <a:solidFill>
                  <a:srgbClr val="000000"/>
                </a:solidFill>
                <a:latin typeface="Calibri"/>
                <a:ea typeface="Calibri"/>
              </a:rPr>
              <a:t>.org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3"/>
          <a:stretch/>
        </p:blipFill>
        <p:spPr>
          <a:xfrm>
            <a:off x="5807160" y="2867040"/>
            <a:ext cx="3228840" cy="3392640"/>
          </a:xfrm>
          <a:prstGeom prst="rect">
            <a:avLst/>
          </a:prstGeom>
          <a:ln w="0">
            <a:noFill/>
          </a:ln>
          <a:effectLst>
            <a:outerShdw dist="101823" dir="2700000" blurRad="0" rotWithShape="0">
              <a:srgbClr val="cccccc">
                <a:alpha val="56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5796000" y="5661000"/>
            <a:ext cx="3348000" cy="11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3"/>
          <p:cNvSpPr/>
          <p:nvPr/>
        </p:nvSpPr>
        <p:spPr>
          <a:xfrm>
            <a:off x="395280" y="1703520"/>
            <a:ext cx="259236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 to Z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-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d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FA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Regulation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olicies and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3132000" y="1954080"/>
            <a:ext cx="5451480" cy="3819600"/>
          </a:xfrm>
          <a:prstGeom prst="rect">
            <a:avLst/>
          </a:prstGeom>
          <a:ln w="0">
            <a:noFill/>
          </a:ln>
        </p:spPr>
      </p:pic>
      <p:sp>
        <p:nvSpPr>
          <p:cNvPr id="524" name="AutoShape 10"/>
          <p:cNvSpPr/>
          <p:nvPr/>
        </p:nvSpPr>
        <p:spPr>
          <a:xfrm>
            <a:off x="2843280" y="3973680"/>
            <a:ext cx="504720" cy="71280"/>
          </a:xfrm>
          <a:prstGeom prst="rightArrow">
            <a:avLst>
              <a:gd name="adj1" fmla="val 50000"/>
              <a:gd name="adj2" fmla="val 1770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1"/>
          <p:cNvSpPr/>
          <p:nvPr/>
        </p:nvSpPr>
        <p:spPr>
          <a:xfrm>
            <a:off x="2843280" y="3757680"/>
            <a:ext cx="504720" cy="71280"/>
          </a:xfrm>
          <a:prstGeom prst="rightArrow">
            <a:avLst>
              <a:gd name="adj1" fmla="val 50000"/>
              <a:gd name="adj2" fmla="val 1770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3"/>
          <p:cNvSpPr/>
          <p:nvPr/>
        </p:nvSpPr>
        <p:spPr>
          <a:xfrm>
            <a:off x="431640" y="59220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</a:rPr>
              <a:t>www.dete.qld.gov.au / earlychild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24000" y="144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3. DET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0" y="24782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>
                <a:solidFill>
                  <a:srgbClr val="00b7e2"/>
                </a:solidFill>
                <a:latin typeface="Calibri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2"/>
          <p:cNvSpPr/>
          <p:nvPr/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"/>
          <p:cNvSpPr/>
          <p:nvPr/>
        </p:nvSpPr>
        <p:spPr>
          <a:xfrm>
            <a:off x="685800" y="2276640"/>
            <a:ext cx="84582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What is an educational leader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Educational leadership in practice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upporting the lea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3"/>
          <p:cNvSpPr/>
          <p:nvPr/>
        </p:nvSpPr>
        <p:spPr>
          <a:xfrm>
            <a:off x="684360" y="1484280"/>
            <a:ext cx="82803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2"/>
          <p:cNvSpPr/>
          <p:nvPr/>
        </p:nvSpPr>
        <p:spPr>
          <a:xfrm>
            <a:off x="179280" y="2492280"/>
            <a:ext cx="86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Calibri"/>
              </a:rPr>
              <a:t>What is an </a:t>
            </a:r>
            <a:br>
              <a:rPr sz="6000"/>
            </a:br>
            <a:r>
              <a:rPr b="1" lang="en-AU" sz="6000" spc="-1" strike="noStrike">
                <a:solidFill>
                  <a:srgbClr val="ffffff"/>
                </a:solidFill>
                <a:latin typeface="Calibri"/>
              </a:rPr>
              <a:t>educational lead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1"/>
          <p:cNvSpPr/>
          <p:nvPr/>
        </p:nvSpPr>
        <p:spPr>
          <a:xfrm>
            <a:off x="34920" y="2789280"/>
            <a:ext cx="9109080" cy="194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324000" y="1366920"/>
            <a:ext cx="871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39528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324000" y="3032280"/>
            <a:ext cx="8424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Element 7.1.4 – provision is made to ensure a </a:t>
            </a:r>
            <a:r>
              <a:rPr b="1" i="1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suitably qualified and experienced educator </a:t>
            </a:r>
            <a:r>
              <a:rPr b="1" lang="en-AU" sz="2400" spc="-1" strike="noStrike">
                <a:solidFill>
                  <a:srgbClr val="ffffff"/>
                </a:solidFill>
                <a:latin typeface="Calibri"/>
                <a:ea typeface="Calibri"/>
              </a:rPr>
              <a:t>or co-ordinator leads the development of the curriculum and ensures the establishment of clear goals and expectations for teaching and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 What is an educational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3"/>
          <p:cNvSpPr/>
          <p:nvPr/>
        </p:nvSpPr>
        <p:spPr>
          <a:xfrm>
            <a:off x="324000" y="1366920"/>
            <a:ext cx="871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39528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"/>
          <p:cNvSpPr/>
          <p:nvPr/>
        </p:nvSpPr>
        <p:spPr>
          <a:xfrm>
            <a:off x="324000" y="1366920"/>
            <a:ext cx="8424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33"/>
                </a:solidFill>
                <a:latin typeface="Calibri"/>
              </a:rPr>
              <a:t>Choosing the educational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Are they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suitably qualifi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able to make time for the rol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approachable and well resp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knowledgeable and eager to learn mo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skilled to support educators of varying abilities and learning sty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</a:rPr>
              <a:t>passionate about improving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Wingdings" charset="2"/>
              <a:buChar char="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 What is an educational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3"/>
          <p:cNvSpPr/>
          <p:nvPr/>
        </p:nvSpPr>
        <p:spPr>
          <a:xfrm>
            <a:off x="324000" y="1366920"/>
            <a:ext cx="871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39528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324000" y="1366920"/>
            <a:ext cx="8424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33"/>
                </a:solidFill>
                <a:latin typeface="Calibri"/>
              </a:rPr>
              <a:t>Choosing the educational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3333"/>
                </a:solidFill>
                <a:latin typeface="Calibri"/>
              </a:rPr>
              <a:t>The educational leader may not necessarily b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the most quali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working full time to be effective</a:t>
            </a:r>
            <a:br>
              <a:rPr sz="3000"/>
            </a:br>
            <a:r>
              <a:rPr b="0" lang="en-AU" sz="3000" spc="-1" strike="noStrike">
                <a:solidFill>
                  <a:srgbClr val="333333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333333"/>
                </a:solidFill>
                <a:latin typeface="Calibri"/>
              </a:rPr>
              <a:t>The role requires leader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1. What is an educational lea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3"/>
          <p:cNvSpPr/>
          <p:nvPr/>
        </p:nvSpPr>
        <p:spPr>
          <a:xfrm>
            <a:off x="684360" y="1484280"/>
            <a:ext cx="82803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"/>
          <p:cNvSpPr/>
          <p:nvPr/>
        </p:nvSpPr>
        <p:spPr>
          <a:xfrm>
            <a:off x="179280" y="2492280"/>
            <a:ext cx="861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>
                <a:solidFill>
                  <a:srgbClr val="ffffff"/>
                </a:solidFill>
                <a:latin typeface="Calibri"/>
              </a:rPr>
              <a:t>Educational leadership </a:t>
            </a:r>
            <a:br>
              <a:rPr sz="6000"/>
            </a:br>
            <a:r>
              <a:rPr b="1" lang="en-AU" sz="6000" spc="-1" strike="noStrike">
                <a:solidFill>
                  <a:srgbClr val="ffffff"/>
                </a:solidFill>
                <a:latin typeface="Calibri"/>
              </a:rPr>
              <a:t>in prac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92160" y="3336840"/>
            <a:ext cx="2665440" cy="3405240"/>
          </a:xfrm>
          <a:prstGeom prst="rect">
            <a:avLst/>
          </a:prstGeom>
          <a:solidFill>
            <a:srgbClr val="3e6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"/>
          <p:cNvSpPr/>
          <p:nvPr/>
        </p:nvSpPr>
        <p:spPr>
          <a:xfrm>
            <a:off x="395280" y="3645000"/>
            <a:ext cx="208764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  <a:ea typeface="Calibri"/>
              </a:rPr>
              <a:t>..the educational leader working with other educators and co-ordinators to observe, support and extend children’s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324000" y="1366920"/>
            <a:ext cx="8424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33333"/>
                </a:solidFill>
                <a:latin typeface="Calibri"/>
              </a:rPr>
              <a:t>Assessors m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"/>
          <p:cNvPicPr/>
          <p:nvPr/>
        </p:nvPicPr>
        <p:blipFill>
          <a:blip r:embed="rId1"/>
          <a:stretch/>
        </p:blipFill>
        <p:spPr>
          <a:xfrm>
            <a:off x="7269120" y="2060640"/>
            <a:ext cx="723960" cy="77148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9" descr=""/>
          <p:cNvPicPr/>
          <p:nvPr/>
        </p:nvPicPr>
        <p:blipFill>
          <a:blip r:embed="rId2"/>
          <a:stretch/>
        </p:blipFill>
        <p:spPr>
          <a:xfrm>
            <a:off x="4143240" y="2090880"/>
            <a:ext cx="723960" cy="6667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0" descr=""/>
          <p:cNvPicPr/>
          <p:nvPr/>
        </p:nvPicPr>
        <p:blipFill>
          <a:blip r:embed="rId3"/>
          <a:stretch/>
        </p:blipFill>
        <p:spPr>
          <a:xfrm>
            <a:off x="1020600" y="2081160"/>
            <a:ext cx="723960" cy="67644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3"/>
          <p:cNvSpPr/>
          <p:nvPr/>
        </p:nvSpPr>
        <p:spPr>
          <a:xfrm>
            <a:off x="293760" y="2717640"/>
            <a:ext cx="84247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e6320"/>
                </a:solidFill>
                <a:latin typeface="Calibri"/>
              </a:rPr>
              <a:t>   </a:t>
            </a:r>
            <a:r>
              <a:rPr b="1" lang="en-AU" sz="3200" spc="-1" strike="noStrike">
                <a:solidFill>
                  <a:srgbClr val="3e6320"/>
                </a:solidFill>
                <a:latin typeface="Calibri"/>
              </a:rPr>
              <a:t>OBSERVE                  DISCUSS                    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3203640" y="3336840"/>
            <a:ext cx="2663640" cy="3405240"/>
          </a:xfrm>
          <a:prstGeom prst="rect">
            <a:avLst/>
          </a:prstGeom>
          <a:solidFill>
            <a:srgbClr val="3e6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6299280" y="3336840"/>
            <a:ext cx="2663640" cy="3405240"/>
          </a:xfrm>
          <a:prstGeom prst="rect">
            <a:avLst/>
          </a:prstGeom>
          <a:solidFill>
            <a:srgbClr val="3e63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. Educational leadership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3564000" y="3645000"/>
            <a:ext cx="2087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  <a:ea typeface="Calibri"/>
              </a:rPr>
              <a:t>..what strategies and processes the educational leader uses to lead the development of the curriculum and set goals for teaching an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6659640" y="3645000"/>
            <a:ext cx="2089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alibri"/>
                <a:ea typeface="Calibri"/>
              </a:rPr>
              <a:t>..evidence of a curriculum at the service and the designation of the educational leader in the staff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3"/>
          <p:cNvSpPr/>
          <p:nvPr/>
        </p:nvSpPr>
        <p:spPr>
          <a:xfrm>
            <a:off x="324000" y="1366920"/>
            <a:ext cx="871200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0" indent="-4428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39528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324000" y="1366920"/>
            <a:ext cx="84247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3333"/>
                </a:solidFill>
                <a:latin typeface="Calibri"/>
              </a:rPr>
              <a:t>Ideas to support educators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b0f0"/>
                </a:solidFill>
                <a:latin typeface="Calibri"/>
              </a:rPr>
              <a:t>Find creative ways to bring everyone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hold the next staff meeting outdoors or off-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look at the service through the eyes of the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b0f0"/>
                </a:solidFill>
                <a:latin typeface="Calibri"/>
              </a:rPr>
              <a:t>Empower educators to support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0000" indent="-442800">
              <a:lnSpc>
                <a:spcPct val="100000"/>
              </a:lnSpc>
              <a:spcBef>
                <a:spcPts val="1001"/>
              </a:spcBef>
              <a:buClr>
                <a:srgbClr val="333333"/>
              </a:buClr>
              <a:buFont typeface="Calibri"/>
              <a:buChar char="•"/>
              <a:tabLst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333333"/>
                </a:solidFill>
                <a:latin typeface="Calibri"/>
                <a:ea typeface="ＭＳ Ｐゴシック"/>
              </a:rPr>
              <a:t>ask educators to share their strengths with the group e.g. how would they handle a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"/>
          <p:cNvSpPr/>
          <p:nvPr/>
        </p:nvSpPr>
        <p:spPr>
          <a:xfrm>
            <a:off x="32400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2. Educational leadership in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09:10:06Z</dcterms:created>
  <dc:creator>John Pennisi</dc:creator>
  <dc:description/>
  <cp:keywords>DETE; PowerPoint;</cp:keywords>
  <dc:language>en-US</dc:language>
  <cp:lastModifiedBy>COLLINS, Tara</cp:lastModifiedBy>
  <cp:lastPrinted>2013-01-20T23:27:23Z</cp:lastPrinted>
  <dcterms:modified xsi:type="dcterms:W3CDTF">2013-01-29T05:51:16Z</dcterms:modified>
  <cp:revision>517</cp:revision>
  <dc:subject/>
  <dc:title>DET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OnePortal Document</vt:lpwstr>
  </property>
  <property fmtid="{D5CDD505-2E9C-101B-9397-08002B2CF9AE}" pid="3" name="Creator and publisher">
    <vt:lpwstr>Department of Education and Training, Queensland</vt:lpwstr>
  </property>
  <property fmtid="{D5CDD505-2E9C-101B-9397-08002B2CF9AE}" pid="4" name="Document Subject">
    <vt:lpwstr>Other</vt:lpwstr>
  </property>
  <property fmtid="{D5CDD505-2E9C-101B-9397-08002B2CF9AE}" pid="5" name="Item Description">
    <vt:lpwstr>&lt;div&gt;Department of Education, Training and Employment Powerpoint template&lt;/div&gt;</vt:lpwstr>
  </property>
  <property fmtid="{D5CDD505-2E9C-101B-9397-08002B2CF9AE}" pid="6" name="Language">
    <vt:lpwstr>English</vt:lpwstr>
  </property>
  <property fmtid="{D5CDD505-2E9C-101B-9397-08002B2CF9AE}" pid="7" name="OnePortal coverage">
    <vt:lpwstr>Queensland</vt:lpwstr>
  </property>
  <property fmtid="{D5CDD505-2E9C-101B-9397-08002B2CF9AE}" pid="8" name="PublishingContact">
    <vt:lpwstr/>
  </property>
  <property fmtid="{D5CDD505-2E9C-101B-9397-08002B2CF9AE}" pid="9" name="PublishingExpirationDate">
    <vt:lpwstr/>
  </property>
  <property fmtid="{D5CDD505-2E9C-101B-9397-08002B2CF9AE}" pid="10" name="PublishingStartDate">
    <vt:lpwstr/>
  </property>
  <property fmtid="{D5CDD505-2E9C-101B-9397-08002B2CF9AE}" pid="11" name="Rights">
    <vt:lpwstr>State of Queensland (Department of Education and Training)</vt:lpwstr>
  </property>
  <property fmtid="{D5CDD505-2E9C-101B-9397-08002B2CF9AE}" pid="12" name="Security">
    <vt:lpwstr>Unclassified</vt:lpwstr>
  </property>
  <property fmtid="{D5CDD505-2E9C-101B-9397-08002B2CF9AE}" pid="13" name="Subject1">
    <vt:lpwstr>Marketing &amp; communication</vt:lpwstr>
  </property>
  <property fmtid="{D5CDD505-2E9C-101B-9397-08002B2CF9AE}" pid="14" name="_ResourceType">
    <vt:lpwstr>Template</vt:lpwstr>
  </property>
</Properties>
</file>