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908A-28E4-4B10-BEAD-5B31E7C8C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5A7E-73E8-4C08-88A4-E340A679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C530-CC23-4C81-B8F0-A2C4EF7E7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6FC5-FA5D-4AB5-9E07-1D2D4A6DC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EFD9-F372-491C-8BE4-3F2E82298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8B588-FD68-4CE6-94DA-607EFE24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08358-AC34-479F-973B-51A7F9AE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335C6-1D02-405B-A4EE-42DAC8F5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3CE4-EE79-4091-8CB7-E689374F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9AB9-AFFE-4721-9AFD-1584969E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5C63E-0724-43B4-9B29-C2402C61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8634-E315-461D-AC83-B885A97F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7639-4143-43E9-8727-32C0AFB5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59A7-07BE-42AB-AEBE-ED191FAB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115A-7B29-4D71-9393-33A1330A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7F49-31F6-4A3D-9C99-B6274E4B5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4A7A-6F90-4F83-B24D-24872F2A6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FDCD-551C-49AB-B66E-9BA4049A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384F-1496-447F-BA74-67520A12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557D-D59F-4225-A444-313273FD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A09F-C822-4E40-B174-A941110E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4C58-B1AB-4CE1-AA03-D9EE33FE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BC91-7A17-4737-887E-F0594CDC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741C-BC5E-4F6D-ADB7-EF064EFC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431F-516A-498C-8CC1-CB9BA67586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657F-4E16-475D-AE2D-4A2F33E170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bcbcb"/>
                </a:solidFill>
                <a:latin typeface="Times New Roman"/>
              </a:rPr>
              <a:t>Keys To Successful 21st Century Educational Leadership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-360" y="571500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This multimedia product and its contents are protected under copyright law.  The following are prohibited by law: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7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Any public performance or display, including transmission of any image over a network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7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Preparation of any derivative work, including the extraction, in whole or part, of any images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75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Any rental, lease, or lending of the program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0" y="6434280"/>
            <a:ext cx="18432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32004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</a:rPr>
              <a:t>Chapter 15, ISLLC Standards 1-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</a:rPr>
              <a:t>For your Future and Beyo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47760" y="6324480"/>
            <a:ext cx="24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Copyright © Allyn &amp; Bacon 20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61760" y="1523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flict Resolution articulated by the leader will need to correspond to that leader’s qualities, style and capabilities, for if it does not, preferred accomplishments will be jeopardiz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 careful in being biased toward attending to the interests of follow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ch leaders will tend to de-emphasize visioning, opting for close relationships with follow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uccessful Vision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360" y="6400800"/>
            <a:ext cx="2143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cc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0000cc"/>
                </a:solidFill>
                <a:latin typeface="Arial"/>
                <a:ea typeface="Times New Roman"/>
              </a:rPr>
              <a:t>©</a:t>
            </a:r>
            <a:r>
              <a:rPr b="0" lang="en-US" sz="1100" spc="-1" strike="noStrike">
                <a:solidFill>
                  <a:srgbClr val="0000cc"/>
                </a:solidFill>
                <a:latin typeface="Arial"/>
              </a:rPr>
              <a:t> Allyn &amp;Bacon 200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3 Elements of Leadership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Leader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Follower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Environmen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360" y="6400800"/>
            <a:ext cx="2143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cc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0000cc"/>
                </a:solidFill>
                <a:latin typeface="Arial"/>
                <a:ea typeface="Times New Roman"/>
              </a:rPr>
              <a:t>©</a:t>
            </a:r>
            <a:r>
              <a:rPr b="0" lang="en-US" sz="1100" spc="-1" strike="noStrike">
                <a:solidFill>
                  <a:srgbClr val="0000cc"/>
                </a:solidFill>
                <a:latin typeface="Arial"/>
              </a:rPr>
              <a:t> Allyn &amp;Bacon 200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761760" y="1523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key for 21st century visioning educational leaders to hold is whether this conflict is life giving or life disabling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-group cohesion should not be so great as to stifle healthy or constructive disagreements among groups nor hinder accomplishments so high level goa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uccessful Vision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360" y="6400800"/>
            <a:ext cx="2143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cc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0000cc"/>
                </a:solidFill>
                <a:latin typeface="Arial"/>
                <a:ea typeface="Times New Roman"/>
              </a:rPr>
              <a:t>©</a:t>
            </a:r>
            <a:r>
              <a:rPr b="0" lang="en-US" sz="1100" spc="-1" strike="noStrike">
                <a:solidFill>
                  <a:srgbClr val="0000cc"/>
                </a:solidFill>
                <a:latin typeface="Arial"/>
              </a:rPr>
              <a:t> Allyn &amp;Bacon 200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761760" y="1523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verall performance of organizations is likely to be enhanced when visioning educational leaders coordinate the performance goals of groups in such a manner that one group is not accomplishing its goals at the expense of another without concern for an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360" y="6400800"/>
            <a:ext cx="2143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cc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0000cc"/>
                </a:solidFill>
                <a:latin typeface="Arial"/>
                <a:ea typeface="Times New Roman"/>
              </a:rPr>
              <a:t>©</a:t>
            </a:r>
            <a:r>
              <a:rPr b="0" lang="en-US" sz="1100" spc="-1" strike="noStrike">
                <a:solidFill>
                  <a:srgbClr val="0000cc"/>
                </a:solidFill>
                <a:latin typeface="Arial"/>
              </a:rPr>
              <a:t> Allyn &amp;Bacon 200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uccessful Vision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61760" y="1523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 Hou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4-80 hours each week, including evenings and weeke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o Much on Your Pl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tantly putting out fires and mending f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vernment Mandates and Account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w laws and requirements at the state and federal level are being passed in record number without adequate funding provid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tress Keys for Successful 21st Century Educational Leadership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360" y="6400800"/>
            <a:ext cx="2143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cc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0000cc"/>
                </a:solidFill>
                <a:latin typeface="Arial"/>
                <a:ea typeface="Times New Roman"/>
              </a:rPr>
              <a:t>©</a:t>
            </a:r>
            <a:r>
              <a:rPr b="0" lang="en-US" sz="1100" spc="-1" strike="noStrike">
                <a:solidFill>
                  <a:srgbClr val="0000cc"/>
                </a:solidFill>
                <a:latin typeface="Arial"/>
              </a:rPr>
              <a:t> Allyn &amp;Bacon 200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399960" cy="7621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85800" y="3809880"/>
            <a:ext cx="399960" cy="7621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685800" y="2743200"/>
            <a:ext cx="3999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761760" y="1523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itical Issues of Society Brought to Sch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ool safety, substance abuse, teen pregnancy, teen suicide, learning difficultie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rpassing Achievement Stand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ufficient financial support for program and skills development and a shortage of qualified curriculum directors and instructional speciali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al Education Requir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DEA requirements, Section 504 accommodations, and other legislative mand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tress Keys for Successful 21st Century Educational Leadership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360" y="6400800"/>
            <a:ext cx="2143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cc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0000cc"/>
                </a:solidFill>
                <a:latin typeface="Arial"/>
                <a:ea typeface="Times New Roman"/>
              </a:rPr>
              <a:t>©</a:t>
            </a:r>
            <a:r>
              <a:rPr b="0" lang="en-US" sz="1100" spc="-1" strike="noStrike">
                <a:solidFill>
                  <a:srgbClr val="0000cc"/>
                </a:solidFill>
                <a:latin typeface="Arial"/>
              </a:rPr>
              <a:t> Allyn &amp;Bacon 200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399960" cy="7621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85800" y="2819520"/>
            <a:ext cx="399960" cy="7617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685800" y="4572000"/>
            <a:ext cx="3999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761760" y="1523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hool Funding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ttle Financial Incen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new assistant principal barely makes 5% more than that of an experience teac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ability to Fire Incompetent Teach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actual Agre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traints in employee contracts often preclude educational leaders from making rapid change and making school improvements more expeditious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tress Keys for Successful 21st Century Educational Leadership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360" y="6400800"/>
            <a:ext cx="2143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cc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0000cc"/>
                </a:solidFill>
                <a:latin typeface="Arial"/>
                <a:ea typeface="Times New Roman"/>
              </a:rPr>
              <a:t>©</a:t>
            </a:r>
            <a:r>
              <a:rPr b="0" lang="en-US" sz="1100" spc="-1" strike="noStrike">
                <a:solidFill>
                  <a:srgbClr val="0000cc"/>
                </a:solidFill>
                <a:latin typeface="Arial"/>
              </a:rPr>
              <a:t> Allyn &amp;Bacon 200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399960" cy="7621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85800" y="3657600"/>
            <a:ext cx="3999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761760" y="1523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ducation is a process that encourages continual progress through the improvement of one’s abilities, the expression of one’s interests, and the growth of one’s charac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ccessful schools are a place where students, teachers, administrators, and others take pride and joy in their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inuous improvement of teachers and students working toge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Keys to Lasting Educational Leadership Re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58360" y="6400800"/>
            <a:ext cx="2143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cc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0000cc"/>
                </a:solidFill>
                <a:latin typeface="Arial"/>
                <a:ea typeface="Times New Roman"/>
              </a:rPr>
              <a:t>©</a:t>
            </a:r>
            <a:r>
              <a:rPr b="0" lang="en-US" sz="1100" spc="-1" strike="noStrike">
                <a:solidFill>
                  <a:srgbClr val="0000cc"/>
                </a:solidFill>
                <a:latin typeface="Arial"/>
              </a:rPr>
              <a:t> Allyn &amp;Bacon 200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399960" cy="7621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85800" y="5105520"/>
            <a:ext cx="399960" cy="7617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685800" y="3581280"/>
            <a:ext cx="3999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761760" y="1523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inuous improvement through greater empowerment of teacher-student te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iance on tests as the major means of assessment of student production will be inherently wasteful, non-reliable, and not authen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onships built in schools that are established on trust and collaboration between school and commun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360" y="6400800"/>
            <a:ext cx="2143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cc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0000cc"/>
                </a:solidFill>
                <a:latin typeface="Arial"/>
                <a:ea typeface="Times New Roman"/>
              </a:rPr>
              <a:t>©</a:t>
            </a:r>
            <a:r>
              <a:rPr b="0" lang="en-US" sz="1100" spc="-1" strike="noStrike">
                <a:solidFill>
                  <a:srgbClr val="0000cc"/>
                </a:solidFill>
                <a:latin typeface="Arial"/>
              </a:rPr>
              <a:t> Allyn &amp;Bacon 200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Keys to Lasting Educational Leadership Re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399960" cy="7621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685800" y="2590920"/>
            <a:ext cx="399960" cy="7617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685800" y="4572000"/>
            <a:ext cx="3999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61760" y="1523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ers are empowered to make continuous progress in the quality of their learning and other aspects of personal development, while they learn valuable lessons from temporary fail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stitute programs of training for new staff members unfamiliar with the specific culture and expectations of the sch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360" y="6400800"/>
            <a:ext cx="2143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cc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0000cc"/>
                </a:solidFill>
                <a:latin typeface="Arial"/>
                <a:ea typeface="Times New Roman"/>
              </a:rPr>
              <a:t>©</a:t>
            </a:r>
            <a:r>
              <a:rPr b="0" lang="en-US" sz="1100" spc="-1" strike="noStrike">
                <a:solidFill>
                  <a:srgbClr val="0000cc"/>
                </a:solidFill>
                <a:latin typeface="Arial"/>
              </a:rPr>
              <a:t> Allyn &amp;Bacon 200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Keys to Lasting Educational Leadership Re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399960" cy="7621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3999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6 Focus Action Keys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ducational Facilitation Focu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cilitate the development of a cohesive learning group which values diversity and explores conflict constructive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rner Foc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derstand the context in which leadership is situ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earners’ needs, desires, and strengths and the issues being addres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360" y="6400800"/>
            <a:ext cx="2143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cc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0000cc"/>
                </a:solidFill>
                <a:latin typeface="Arial"/>
                <a:ea typeface="Times New Roman"/>
              </a:rPr>
              <a:t>©</a:t>
            </a:r>
            <a:r>
              <a:rPr b="0" lang="en-US" sz="1100" spc="-1" strike="noStrike">
                <a:solidFill>
                  <a:srgbClr val="0000cc"/>
                </a:solidFill>
                <a:latin typeface="Arial"/>
              </a:rPr>
              <a:t> Allyn &amp;Bacon 200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399960" cy="7621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85800" y="3886200"/>
            <a:ext cx="3999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761760" y="1523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k with teachers, parents, students, and members of the community as coaches and mentors so that students’ accomplishments will be maximiz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a more integrated opportunity for learning and discove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llectively arrive at slogans and school themes to improve working toge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360" y="6400800"/>
            <a:ext cx="2143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cc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0000cc"/>
                </a:solidFill>
                <a:latin typeface="Arial"/>
                <a:ea typeface="Times New Roman"/>
              </a:rPr>
              <a:t>©</a:t>
            </a:r>
            <a:r>
              <a:rPr b="0" lang="en-US" sz="1100" spc="-1" strike="noStrike">
                <a:solidFill>
                  <a:srgbClr val="0000cc"/>
                </a:solidFill>
                <a:latin typeface="Arial"/>
              </a:rPr>
              <a:t> Allyn &amp;Bacon 200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Keys to Lasting Educational Leadership Re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399960" cy="7621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3505320"/>
            <a:ext cx="399960" cy="7617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85800" y="4572000"/>
            <a:ext cx="3999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761760" y="1523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ignments and tests that focus attention on numerical or letter grades and production completion will not fully reflect the quality of student progress and per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achers and students will want to do their best and feel pride in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rich education by e3xploring ideas and interests beyond the boundaries of professional and personal worl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360" y="6400800"/>
            <a:ext cx="2143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cc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0000cc"/>
                </a:solidFill>
                <a:latin typeface="Arial"/>
                <a:ea typeface="Times New Roman"/>
              </a:rPr>
              <a:t>©</a:t>
            </a:r>
            <a:r>
              <a:rPr b="0" lang="en-US" sz="1100" spc="-1" strike="noStrike">
                <a:solidFill>
                  <a:srgbClr val="0000cc"/>
                </a:solidFill>
                <a:latin typeface="Arial"/>
              </a:rPr>
              <a:t> Allyn &amp;Bacon 200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Keys to Lasting Educational Leadership Re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399960" cy="7621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685800" y="4572000"/>
            <a:ext cx="399960" cy="7621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685800" y="3581280"/>
            <a:ext cx="3999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828800" y="762120"/>
            <a:ext cx="5715000" cy="31924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85800" y="4572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bcbcb"/>
                </a:solidFill>
                <a:latin typeface="Times New Roman"/>
              </a:rPr>
              <a:t>Successful Educational Leaders Hold the Key to Unlock a Vis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58360" y="6400800"/>
            <a:ext cx="2143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cc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0000cc"/>
                </a:solidFill>
                <a:latin typeface="Arial"/>
                <a:ea typeface="Times New Roman"/>
              </a:rPr>
              <a:t>©</a:t>
            </a:r>
            <a:r>
              <a:rPr b="0" lang="en-US" sz="1100" spc="-1" strike="noStrike">
                <a:solidFill>
                  <a:srgbClr val="0000cc"/>
                </a:solidFill>
                <a:latin typeface="Arial"/>
              </a:rPr>
              <a:t> Allyn &amp;Bacon 200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6 Focus Action Key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61760" y="1523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ducational Leadership Foc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oup-centered approach to leadership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sue/Action Foc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rning in action is encouraging on-going reflection or collective self-examin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360" y="6400800"/>
            <a:ext cx="2143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cc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0000cc"/>
                </a:solidFill>
                <a:latin typeface="Arial"/>
                <a:ea typeface="Times New Roman"/>
              </a:rPr>
              <a:t>©</a:t>
            </a:r>
            <a:r>
              <a:rPr b="0" lang="en-US" sz="1100" spc="-1" strike="noStrike">
                <a:solidFill>
                  <a:srgbClr val="0000cc"/>
                </a:solidFill>
                <a:latin typeface="Arial"/>
              </a:rPr>
              <a:t> Allyn &amp;Bacon 200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399960" cy="762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85800" y="3886200"/>
            <a:ext cx="3999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360" y="6400800"/>
            <a:ext cx="2143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cc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0000cc"/>
                </a:solidFill>
                <a:latin typeface="Arial"/>
                <a:ea typeface="Times New Roman"/>
              </a:rPr>
              <a:t>©</a:t>
            </a:r>
            <a:r>
              <a:rPr b="0" lang="en-US" sz="1100" spc="-1" strike="noStrike">
                <a:solidFill>
                  <a:srgbClr val="0000cc"/>
                </a:solidFill>
                <a:latin typeface="Arial"/>
              </a:rPr>
              <a:t> Allyn &amp;Bacon 200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6 Focus Action Keys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Prescriptive Educational Leadership Foc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nt of educational leadership efforts will be determined with and by particip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cess as Content Foc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cilitation, community building, teamwork, group planning and decision making, organizational development, conflict management, and group refl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399960" cy="762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85800" y="3429000"/>
            <a:ext cx="3999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858360" y="6400800"/>
            <a:ext cx="2143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cc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0000cc"/>
                </a:solidFill>
                <a:latin typeface="Arial"/>
                <a:ea typeface="Times New Roman"/>
              </a:rPr>
              <a:t>©</a:t>
            </a:r>
            <a:r>
              <a:rPr b="0" lang="en-US" sz="1100" spc="-1" strike="noStrike">
                <a:solidFill>
                  <a:srgbClr val="0000cc"/>
                </a:solidFill>
                <a:latin typeface="Arial"/>
              </a:rPr>
              <a:t> Allyn &amp;Bacon 200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sioning Leadership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-152280" y="15238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1100"/>
              </a:spcBef>
              <a:buClr>
                <a:srgbClr val="ffff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ccessful 21st century educational leaders will need to inspire those they lead by establishing, implementing and assessing an attractive, worthwhile, achievable vision of the future.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857640" y="6400800"/>
            <a:ext cx="2183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cc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0000cc"/>
                </a:solidFill>
                <a:latin typeface="Arial"/>
                <a:ea typeface="Times New Roman"/>
              </a:rPr>
              <a:t>©</a:t>
            </a:r>
            <a:r>
              <a:rPr b="0" lang="en-US" sz="1100" spc="-1" strike="noStrike">
                <a:solidFill>
                  <a:srgbClr val="0000cc"/>
                </a:solidFill>
                <a:latin typeface="Arial"/>
              </a:rPr>
              <a:t> Allyn &amp; Bacon 200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761760" y="1523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eing Things Different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lect and arrange data to help create a v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ing Things Different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nergy flows when educational leaders and their followers work together to build and implement a v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cending Diver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cend across race, gender, creed, nationality, handicap or dis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Keys for Aspiring &amp; Current Educational Leader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399960" cy="762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85800" y="4495680"/>
            <a:ext cx="399960" cy="762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85800" y="2514600"/>
            <a:ext cx="3999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360" y="6400800"/>
            <a:ext cx="2143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cc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0000cc"/>
                </a:solidFill>
                <a:latin typeface="Arial"/>
                <a:ea typeface="Times New Roman"/>
              </a:rPr>
              <a:t>©</a:t>
            </a:r>
            <a:r>
              <a:rPr b="0" lang="en-US" sz="1100" spc="-1" strike="noStrike">
                <a:solidFill>
                  <a:srgbClr val="0000cc"/>
                </a:solidFill>
                <a:latin typeface="Arial"/>
              </a:rPr>
              <a:t> Allyn &amp;Bacon 200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761760" y="1523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swering a Higher Cal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 the one who is able to communicate visions that offer a goal, get a group to work together, and contribute your best toward the achievement of that v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asing Opportun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orce of a vision may be increased by cris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ew crisis as a resource for a group, organization, or le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Keys for Aspiring &amp; Current Educational Leader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399960" cy="762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85800" y="3809880"/>
            <a:ext cx="3999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858360" y="6400800"/>
            <a:ext cx="2143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cc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0000cc"/>
                </a:solidFill>
                <a:latin typeface="Arial"/>
                <a:ea typeface="Times New Roman"/>
              </a:rPr>
              <a:t>©</a:t>
            </a:r>
            <a:r>
              <a:rPr b="0" lang="en-US" sz="1100" spc="-1" strike="noStrike">
                <a:solidFill>
                  <a:srgbClr val="0000cc"/>
                </a:solidFill>
                <a:latin typeface="Arial"/>
              </a:rPr>
              <a:t> Allyn &amp;Bacon 200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33520" y="15238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epting Re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derstand the socially constructed reality of the staff in order to understand how a particular vision might affect oth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uing the Past, But Knowing When to Leave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on based on improvements, enhancements, and a more desirable fu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Keys for Aspiring &amp; Current Educational Leader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399960" cy="762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33520" y="3352680"/>
            <a:ext cx="3999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58360" y="6400800"/>
            <a:ext cx="2143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cc"/>
                </a:solidFill>
                <a:latin typeface="Arial"/>
              </a:rPr>
              <a:t>Copyright </a:t>
            </a:r>
            <a:r>
              <a:rPr b="0" lang="en-US" sz="1100" spc="-1" strike="noStrike">
                <a:solidFill>
                  <a:srgbClr val="0000cc"/>
                </a:solidFill>
                <a:latin typeface="Arial"/>
                <a:ea typeface="Times New Roman"/>
              </a:rPr>
              <a:t>©</a:t>
            </a:r>
            <a:r>
              <a:rPr b="0" lang="en-US" sz="1100" spc="-1" strike="noStrike">
                <a:solidFill>
                  <a:srgbClr val="0000cc"/>
                </a:solidFill>
                <a:latin typeface="Arial"/>
              </a:rPr>
              <a:t> Allyn &amp;Bacon 200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761760" y="15238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ximizing Dir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hance the meaning of group life and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ing a Brighter Tomorr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the group forward toward a particular vision in spite of challenges and oppos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Keys for Aspiring &amp; Current Educational Leader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399960" cy="7621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85800" y="2590920"/>
            <a:ext cx="3999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21:36:26Z</dcterms:created>
  <dc:creator>LintonPC</dc:creator>
  <dc:description/>
  <dc:language>en-US</dc:language>
  <cp:lastModifiedBy>UWALLHO</cp:lastModifiedBy>
  <dcterms:modified xsi:type="dcterms:W3CDTF">2006-04-27T20:59:05Z</dcterms:modified>
  <cp:revision>48</cp:revision>
  <dc:subject/>
  <dc:title>Issues in Educational Leadership Chapter 2</dc:title>
</cp:coreProperties>
</file>