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C4B3-5B5D-45A4-A4C6-DE80825D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8D6E-9B24-4070-8FFE-D483230D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4BF7-B84A-40EF-A7A3-B038820AA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2357-85D3-4C4A-8166-0A89270D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5DAA-ED96-45AB-A373-6F25D96D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E367-8730-47FF-A71E-ED4B51A7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B7F6-2ED3-4515-8713-AAF7B66A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09D5-484D-4757-BD8F-F1FE697E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9F75-24A4-4EEF-B9D9-B8F579D6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8B30-3E1C-4B3D-9D98-5E4BDFB3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8CC5-E0B1-4B9F-83E5-AE71C887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2402-F32F-4724-BF95-30585F5D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9D64-8637-4325-8438-7918A69D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80B3-CEBA-4FC2-98A3-915CEAE3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A909-936C-4323-94F9-BE8DACE2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58D9-5FAE-4CB3-ADCA-08696CE0F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D880-BFA6-4BDE-8011-2F91F1ABE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DD578-A662-46BD-9544-76A782F1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96AFB-5844-439A-AADC-8DAE5AB9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65C26-0875-4E23-A526-44CF3810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44F26-44D0-44A2-A535-278DA6EA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53EC6-C1C1-42BB-BB38-04679F8F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41B1-CFE5-494B-8646-9DDD07C3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FFB7D-B0D0-4F4F-A08E-6734CEB9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AE122-129F-4445-B04B-373112DE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9B50F-26CB-40AC-B275-B3DD709C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36911-F0E9-4BCB-98CA-CE61C0BB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C8631-44C4-4772-9B22-AA61B3EA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E5D58-B34D-46A1-BE16-F525729E7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B7478-54A9-40F2-910F-BA541569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C74A2-884D-4338-882A-939EAF3BB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EDEFF-B538-4156-AC4A-13EF7C27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C158E-FB28-4AA6-9FE2-49553E11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C25E-29F7-4B01-9A3C-EF3B31997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4B5DC-FFD2-4086-85ED-4CF8BA56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F88C4-ACBB-43D4-B7BD-2E2F434F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7D734-7439-421A-8437-D557AF94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719FB-4E92-444F-A056-803FF5EE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32042-D7FC-431C-8D0D-AA74545A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68D1C-379C-43CE-8D88-A27C19EC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F2857-02BC-49BD-8CCD-F6262B7B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407E3-6479-491D-87B8-780F9321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5AE62-F19D-4AC0-96F4-561C16E3F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17586-D20D-4AB5-ACCE-02D8FBE5B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E652-454F-419D-8B42-10A74B31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0BED1-8AA5-4393-B037-F5E7A07D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0E864-EF2A-4201-BDB6-48634228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15D68-D750-450D-9469-B12AD70D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6E689-071F-42E9-9D7E-E16BC0F9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37070-390E-4F21-8DEE-F9C5F8E8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96A73-758C-4396-88DF-AECCDED9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D9BCC-603D-438F-A881-3AECCAB8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EF244-BFA7-49A7-BCFB-F852B9C6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06C74-D253-49BE-84C4-B39F9539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A6688-D367-4AE2-AD13-2C4387C9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DE1C-1114-4467-A087-9D1D0646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5020E-9D19-4B60-8639-9FC2BE33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A38C-EA82-48A9-A18D-0E2154CD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5529-A1AB-47D3-AC33-67D4205C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3D34-7894-435C-9A96-7320A7AA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4346-5BF9-4808-8D33-57F1C8E740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7987-3CFD-47E5-9C35-6D0EC1604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90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93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918C-12FB-411E-9784-BCFB1492F8E6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EF6D-C1A2-4D46-89B1-0BD6F25E3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4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5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0169-A9AD-4AF0-BC33-5352C6876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057400"/>
            <a:ext cx="83660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adget"/>
              </a:rPr>
              <a:t>Effective School Leadership for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adget"/>
              </a:rPr>
              <a:t>Reading Fir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63120" y="4952880"/>
            <a:ext cx="449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dget"/>
              </a:rPr>
              <a:t>Sharon Walpo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dget"/>
              </a:rPr>
              <a:t>University of Dela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24720" y="457200"/>
            <a:ext cx="8492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Gadget"/>
              </a:rPr>
              <a:t>Monitoring Student Progres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167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The More-Effective Principal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  The Less-Effective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2286000"/>
            <a:ext cx="838188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0" y="1371600"/>
            <a:ext cx="0" cy="533412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479680"/>
            <a:ext cx="876312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Supports testing programs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Views testing as a necessary ev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Provides test results to teachers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s less timely in reporting resul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n a timely manner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to teac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Discusses results with groups and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s less likely to discuss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ndividual teac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Encourages teachers to use test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Does not emphasize the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results to plan instruction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between testing and tea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564920" y="457200"/>
            <a:ext cx="601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Gadget"/>
              </a:rPr>
              <a:t>Setting Expect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167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The More-Effective Principal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  The Less-Effective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2286000"/>
            <a:ext cx="838188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0" y="1371600"/>
            <a:ext cx="0" cy="533412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2479680"/>
            <a:ext cx="876312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Holds adults accountable for student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Does not hold others accoun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learning outc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Requires mastery of grade-level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s more likely to socially prom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skills for promotion to next grade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stu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771640" y="457200"/>
            <a:ext cx="383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Gadget"/>
              </a:rPr>
              <a:t>Being Visib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167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The More-Effective Principal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  The Less-Effective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" y="2286000"/>
            <a:ext cx="838188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0" y="1371600"/>
            <a:ext cx="0" cy="533412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2479680"/>
            <a:ext cx="876312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s often out of the office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Spends large amounts of time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the off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Makes an effort to move about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s less mobi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the campus and in and out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classroo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711800" y="457200"/>
            <a:ext cx="599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Gadget"/>
              </a:rPr>
              <a:t>Providing Incentiv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167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The More-Effective Principal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  The Less-Effective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2286000"/>
            <a:ext cx="838188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1371600"/>
            <a:ext cx="0" cy="533412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2479680"/>
            <a:ext cx="8763120" cy="38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Recognizes teachers with rewards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Seldom acknowledges teac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such 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ef1f1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distributing lead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ef1f1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showing personal inter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ef1f1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making public acknowledg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ef1f1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giving private pra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Ensures that student rewards are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s less concerned about stud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frequent and they they go to a large 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rewa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percentage of stu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Focuses rewards on achievement 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s less likely to reward achie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469240" y="457200"/>
            <a:ext cx="420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Gadget"/>
              </a:rPr>
              <a:t>Promoting P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67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The More-Effective Principal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  The Less-Effective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2286000"/>
            <a:ext cx="838188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0" y="1371600"/>
            <a:ext cx="0" cy="533412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479680"/>
            <a:ext cx="876312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s more likely to be directly involved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Often avoids PD se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n PD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Follows up by ensuring that PD 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s unlikely to follow up 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methods are implem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Cobbles temporary coalitions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s not adept at working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of teachers to help implement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teacher groups to imp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Encourages professional dialogue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s indifferent to dialog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Helps teachers attend conferences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Resists conference attend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770120" y="152280"/>
            <a:ext cx="563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adget"/>
              </a:rPr>
              <a:t>Creating a Safe &amp; Order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adget"/>
              </a:rPr>
              <a:t>Learning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167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The More-Effective Principal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  The Less-Effective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2286000"/>
            <a:ext cx="838188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1371600"/>
            <a:ext cx="0" cy="533412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2479680"/>
            <a:ext cx="876312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Works with teachers to develop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s less focused on management 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classroom management 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Establishes a clear and consistent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Fails to set up a clear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disciplinary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Enforces discipline fairly and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May be inconsistent in enfor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consistently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discip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nvolves teachers and students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Sets rules independ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n setting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770120" y="152280"/>
            <a:ext cx="563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adget"/>
              </a:rPr>
              <a:t>Creating a Safe &amp; Order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Gadget"/>
              </a:rPr>
              <a:t>Learning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167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The More-Effective Principal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  The Less-Effective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7200" y="2286000"/>
            <a:ext cx="838188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2000" y="1371600"/>
            <a:ext cx="0" cy="533412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2479680"/>
            <a:ext cx="8763120" cy="16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Confronts problems quickly and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s tentative and indecis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forcefu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Supports teachers with discipline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s unsympathetic to teacher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problems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discipline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950760" y="457200"/>
            <a:ext cx="726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Gadget"/>
              </a:rPr>
              <a:t>Promoting Collabor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167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The More-Effective Principal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  The Less-Effective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2286000"/>
            <a:ext cx="838188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0" y="1371600"/>
            <a:ext cx="0" cy="533412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2479680"/>
            <a:ext cx="8534520" cy="26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Encourages teamwork and 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Allows teachers to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collaborative efforts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ndepend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Gives faculty a formal role in 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Excludes teachers from dec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decision making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ma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nformally seeks teachers’ ideas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s indifferent to the idea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and opinions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opinions of teac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32440" y="457200"/>
            <a:ext cx="818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Gadget"/>
              </a:rPr>
              <a:t>Securing Outside Resour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167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The More-Effective Principal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  The Less-Effective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" y="2286000"/>
            <a:ext cx="838188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1371600"/>
            <a:ext cx="0" cy="533412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2479680"/>
            <a:ext cx="8534520" cy="33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s skilled at influencing district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Reacts to district deci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decision making about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Actively seeks resources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s passive about finding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Assertively recruits the best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Follows standard hi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teachers (even from other schools)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Allocates money based on goals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Makes allocations based on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facto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882360" y="457200"/>
            <a:ext cx="747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Gadget"/>
              </a:rPr>
              <a:t>Linking Home and Schoo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167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The More-Effective Principal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  The Less-Effective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" y="2286000"/>
            <a:ext cx="838188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0" y="1371600"/>
            <a:ext cx="0" cy="533412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2479680"/>
            <a:ext cx="853452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Communicates with parents on a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nfrequently communicate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regular basis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par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nvolves parents in school activities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s more likely to ignore parent 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partici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Establishes programs that promote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Fails to facilitate parent-tea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parent-teacher interaction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nte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Promotes the school to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Does not participate in comm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community groups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Provides ways parents can learn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Doesn’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about school and help their child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622160" y="736560"/>
            <a:ext cx="65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arcoal"/>
              </a:rPr>
              <a:t>Successful School Reform is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73080" y="2057400"/>
            <a:ext cx="72594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Specific   </a:t>
            </a:r>
            <a:r>
              <a:rPr b="0" i="1" lang="en-US" sz="1800" spc="-1" strike="noStrike">
                <a:solidFill>
                  <a:srgbClr val="000000"/>
                </a:solidFill>
                <a:latin typeface="Charcoal"/>
              </a:rPr>
              <a:t>The program is sufficiently detail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Powerful   </a:t>
            </a:r>
            <a:r>
              <a:rPr b="0" i="1" lang="en-US" sz="1800" spc="-1" strike="noStrike">
                <a:solidFill>
                  <a:srgbClr val="000000"/>
                </a:solidFill>
                <a:latin typeface="Charcoal"/>
              </a:rPr>
              <a:t>The program produces resul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Authoritative   </a:t>
            </a:r>
            <a:r>
              <a:rPr b="0" i="1" lang="en-US" sz="1800" spc="-1" strike="noStrike">
                <a:solidFill>
                  <a:srgbClr val="000000"/>
                </a:solidFill>
                <a:latin typeface="Charcoal"/>
              </a:rPr>
              <a:t>Leadership is involved and inform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Consistent   </a:t>
            </a:r>
            <a:r>
              <a:rPr b="0" i="1" lang="en-US" sz="1800" spc="-1" strike="noStrike">
                <a:solidFill>
                  <a:srgbClr val="000000"/>
                </a:solidFill>
                <a:latin typeface="Charcoal"/>
              </a:rPr>
              <a:t>The program is uniformly implemen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harcoal"/>
              </a:rPr>
              <a:t>Stable   </a:t>
            </a:r>
            <a:r>
              <a:rPr b="0" i="1" lang="en-US" sz="1800" spc="-1" strike="noStrike">
                <a:solidFill>
                  <a:srgbClr val="000000"/>
                </a:solidFill>
                <a:latin typeface="Charcoal"/>
              </a:rPr>
              <a:t>The program is not changed without rea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0400" y="6019920"/>
            <a:ext cx="785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Desimone, L. (2002). How can comprehensive school reform models b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successfully implemented? </a:t>
            </a:r>
            <a:r>
              <a:rPr b="0" i="1" lang="en-US" sz="1800" spc="-1" strike="noStrike">
                <a:solidFill>
                  <a:srgbClr val="000000"/>
                </a:solidFill>
                <a:latin typeface="Gadget"/>
              </a:rPr>
              <a:t>Review of Educational Research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Gadget"/>
              </a:rPr>
              <a:t> 72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,433–479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601992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553400" y="334800"/>
            <a:ext cx="683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dget"/>
              </a:rPr>
              <a:t>Which qualities of the princip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dget"/>
              </a:rPr>
              <a:t>relate to reading achievemen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371600" y="243828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dge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adget"/>
              </a:rPr>
              <a:t>Principal’s r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dge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adget"/>
              </a:rPr>
              <a:t>Principal’s s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dge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adget"/>
              </a:rPr>
              <a:t>Number of years as a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dge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adget"/>
              </a:rPr>
              <a:t>Number of years as a classroom  teac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dge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adget"/>
              </a:rPr>
              <a:t>Knowledge about r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27880" y="5334120"/>
            <a:ext cx="47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Kean et al. (1979), </a:t>
            </a:r>
            <a:r>
              <a:rPr b="0" i="1" lang="en-US" sz="1800" spc="-1" strike="noStrike">
                <a:solidFill>
                  <a:srgbClr val="000000"/>
                </a:solidFill>
                <a:latin typeface="Gadget"/>
              </a:rPr>
              <a:t>What Works in Read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(Federal Reserve Bank Stu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77880" y="457200"/>
            <a:ext cx="846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dget"/>
              </a:rPr>
              <a:t>What can a Literacy Coach do to compens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dget"/>
              </a:rPr>
              <a:t>for a principal’s shortcom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24382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dge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62840" y="1859040"/>
            <a:ext cx="587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59960" y="2252520"/>
            <a:ext cx="59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8b20"/>
                </a:solidFill>
                <a:latin typeface="Times New Roman"/>
              </a:rPr>
              <a:t>You don’t have to change everything to change anyth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2517840" y="1981080"/>
            <a:ext cx="4106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28600" y="2590920"/>
            <a:ext cx="6172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seph Murphy,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eadership for Literacy: Research-Based Practice, PreK-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2003, Corwin Press), summarizes key qualities possessed by principals of schools where achievement is str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01320" y="762120"/>
            <a:ext cx="7313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adget"/>
              </a:rPr>
              <a:t>The Effective RF Princip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72200" y="2438280"/>
            <a:ext cx="27939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488320" y="457200"/>
            <a:ext cx="396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Gadget"/>
              </a:rPr>
              <a:t>Setting Goa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67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The More-Effective Principal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  The Less-Effective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838188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1371600"/>
            <a:ext cx="0" cy="533412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2479680"/>
            <a:ext cx="838224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Has a more child-centered vision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Has a more adult-centered 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Sets manageable, realistic goals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Favors broad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Sees student performance as central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Likes to see things run smooth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Expresses goals in measurable terms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Expresses goals vagu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Uses goals for planning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Refers rarely to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Asks parents &amp; staff to help set goals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Limits goal setting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376280" y="457200"/>
            <a:ext cx="650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Gadget"/>
              </a:rPr>
              <a:t>Communicating Goal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167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The More-Effective Principal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  The Less-Effective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2286000"/>
            <a:ext cx="838188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0" y="1371600"/>
            <a:ext cx="0" cy="533412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2479680"/>
            <a:ext cx="8534520" cy="27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Periodically reviews &amp; discusses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nfrequently discusse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Actively clarifies goals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Rarely clarifies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Has teachers who know goals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Has teachers unfamiliar with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Has teachers who see themselves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Has teachers who see themsel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as good instructors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as good managers &amp; colleag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65680" y="457200"/>
            <a:ext cx="872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Gadget"/>
              </a:rPr>
              <a:t>Promoting Quality Instru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67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The More-Effective Principal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  The Less-Effective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2286000"/>
            <a:ext cx="838188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1371600"/>
            <a:ext cx="0" cy="533412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2479680"/>
            <a:ext cx="853452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nsists on certain teaching strategies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Has less focus on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Favors interactive teaching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s content with less inte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Assigns teachers on the basis of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Assigns teachers bureaucrat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mproving achie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4080" y="457200"/>
            <a:ext cx="682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Gadget"/>
              </a:rPr>
              <a:t>Supervising Instru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167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The More-Effective Principal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  The Less-Effective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2286000"/>
            <a:ext cx="838188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1371600"/>
            <a:ext cx="0" cy="533412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2479680"/>
            <a:ext cx="876312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Relies little on formal observations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Values formal observ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Values informal visits and meetings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Rarely makes informal vis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Often reads about instruction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Seldom reads about 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Often provides specific feedback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Seldom provides specific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Counsels and assists poor teachers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Less likely to confront poor teac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6640" y="457200"/>
            <a:ext cx="837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Gadget"/>
              </a:rPr>
              <a:t>Allocating Instructional Ti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167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The More-Effective Principal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  The Less-Effective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286000"/>
            <a:ext cx="838188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1371600"/>
            <a:ext cx="0" cy="533412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2479680"/>
            <a:ext cx="876312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Carefully sets time allocations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Less likely to set time allo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Coordinates time allocations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Less likely to have uniform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across teach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Schedules more instructional and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Less likely to favor instructional 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fewer non-instructional activities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non-instructional activ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nsists on time for basics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Less likely to ensure their co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Protects uninterrupted block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Less likely to preserve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75840" y="457200"/>
            <a:ext cx="838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Gadget"/>
              </a:rPr>
              <a:t>Coordinating the Curricul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1676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The More-Effective Principal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dget"/>
              </a:rPr>
              <a:t>   The Less-Effective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2286000"/>
            <a:ext cx="8381880" cy="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1371600"/>
            <a:ext cx="0" cy="533412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2479680"/>
            <a:ext cx="876312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s highly involved in curriculum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s less involved in curricul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alignment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alig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Is concerned with the continuity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Tends not to focus on contin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of curriculum from grade to grade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dget"/>
              </a:rPr>
              <a:t>of curriculum from grade to gr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5:25:00Z</dcterms:created>
  <dc:creator>Michael McKenna</dc:creator>
  <dc:description/>
  <dc:language>en-US</dc:language>
  <cp:lastModifiedBy>Michael McKenna</cp:lastModifiedBy>
  <dcterms:modified xsi:type="dcterms:W3CDTF">2004-09-08T00:45:56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94074146</vt:r8>
  </property>
  <property fmtid="{D5CDD505-2E9C-101B-9397-08002B2CF9AE}" pid="3" name="_AuthorEmail">
    <vt:lpwstr>swalpole@udel.edu</vt:lpwstr>
  </property>
  <property fmtid="{D5CDD505-2E9C-101B-9397-08002B2CF9AE}" pid="4" name="_AuthorEmailDisplayName">
    <vt:lpwstr>Sharon Walpole</vt:lpwstr>
  </property>
  <property fmtid="{D5CDD505-2E9C-101B-9397-08002B2CF9AE}" pid="5" name="_EmailSubject">
    <vt:lpwstr>final from June</vt:lpwstr>
  </property>
</Properties>
</file>