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D57-5DEB-4019-8FC3-AB376EB0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137-C192-4AD7-9AB1-257FA5DC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0DE-0BA9-41B8-AA4B-AFBBB0DA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779-E7DA-4283-9B49-78E85E2E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C7A4-AA0A-4F1E-A1D8-9ABD14F0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9459-EB1A-41FB-927A-01C18D17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16F7-8EBA-4278-BCE3-DEED7AB9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36C5-3068-4020-AFF0-AFD07993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DD9D-1DC1-4157-9A77-90D47B2F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74400" y="-152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2CA3-9ACE-4FF8-A9A3-0C3207BA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995B-BEAD-46B8-A34F-719B0687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336-5F91-48CE-9872-F6A46B63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8972-18AB-4470-B4F4-C3E9467C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DB1D-8576-4D1E-89F9-A28E43B2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085E-0040-4D8F-A152-AB6B4EB1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6C15-8ECE-4887-A2B7-3632CC6D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947B-4C1A-42F4-B6E6-70537CE5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7B5-68E0-4A14-B141-0D0BE2FD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99B-C049-4C15-85B3-736F7DA5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DC4-58C5-4288-BFB3-15F6B938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74400" y="-152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7A5-B38A-460E-966B-E4754B97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679-609D-4556-B008-48E70870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669-5287-487D-9C0E-9CECAA02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BF7-8FF7-4234-8B9F-B77CBC81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1440" y="3286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23760" y="32868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5280" y="7509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35000" y="75096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677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5960" y="2206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6640" y="1011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D144-3203-4E61-83F3-6E1F3F63AE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C4CD-E2B3-4F9E-9D21-2BEB708ECF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88960" y="1828800"/>
            <a:ext cx="629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ANGE MANAGE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2560" y="4952880"/>
            <a:ext cx="38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. Florina G. Don-Sa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52960" y="27288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3160" y="1523880"/>
            <a:ext cx="77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mplementing Rules and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558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ectivity of the IRR of EO 366 –               4 Octo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960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ganize a Change Management Team with a union or rank and file represen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97360" y="25236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23516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roposed Organizational Structure of DIS – Library Services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5334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 Mandates/Key Results Areas/ Functional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04920" y="2309760"/>
            <a:ext cx="7467480" cy="2712240"/>
            <a:chOff x="304920" y="2309760"/>
            <a:chExt cx="7467480" cy="2712240"/>
          </a:xfrm>
        </p:grpSpPr>
        <p:sp>
          <p:nvSpPr>
            <p:cNvPr id="149" name=""/>
            <p:cNvSpPr/>
            <p:nvPr/>
          </p:nvSpPr>
          <p:spPr>
            <a:xfrm>
              <a:off x="304920" y="2386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00000" y="2309760"/>
              <a:ext cx="155844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irector I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18720" y="2946600"/>
              <a:ext cx="1590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irector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41400" y="4013280"/>
              <a:ext cx="1725840" cy="1008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ublic Relations Di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4013280"/>
              <a:ext cx="1828800" cy="70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ultimedia Di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4013280"/>
              <a:ext cx="1981080" cy="1008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Knowledge Resource Di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67440" y="27180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7440" y="3327480"/>
              <a:ext cx="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76520" y="3784680"/>
              <a:ext cx="5105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37846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7440" y="37846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82040" y="37846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7440" y="3556080"/>
              <a:ext cx="1143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7280" y="3327480"/>
              <a:ext cx="204624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upport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9072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isting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636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Justification for the Proposed Knowledge Resource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954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2346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intains the NEDA Knowledg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803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forms not just the ordinary librar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260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stablishes a network of libraries and information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0226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rengthens coordinative work with the NEDA Regional Of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7847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tively pursues its digitiz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52419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kes charge of distribution program of NEDA publications and informatio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600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cuses on knowledg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143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ssessment of Knowledge Resource Divis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954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ysfunctions, gaps and problems of its presen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26827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ents/beneficiaries of outputs/service, e.g. Internal/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33685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asures by which Office/Staff can create added value for its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0543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re functions presently performed and not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4740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ggested ways to improve servic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5121360"/>
            <a:ext cx="777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levance of the NEDA Knowledge Center in the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ions and Out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86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mpetency Job Pro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178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y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2803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alifications (CSC QS and Prefer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489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ob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175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ti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861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etency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546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dentification of interventions:  training needs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1081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igh Performing vs Tra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04920" y="1676520"/>
          <a:ext cx="8610480" cy="4787640"/>
        </p:xfrm>
        <a:graphic>
          <a:graphicData uri="http://schemas.openxmlformats.org/drawingml/2006/table">
            <a:tbl>
              <a:tblPr/>
              <a:tblGrid>
                <a:gridCol w="3886200"/>
                <a:gridCol w="644400"/>
                <a:gridCol w="407988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S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Perf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f-dir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ss-dir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on foc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 foc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 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wede na”, “Good enough”, “Bolel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ntum leaps in produ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ic incremental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xed quo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est value added per employ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est cost per employ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loyees as knowledge wor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loyees as non-thinking follo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not my job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aching and leading management 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recting and controlling management 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1081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igh Performing vs Tra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1676520"/>
          <a:ext cx="8610480" cy="4689360"/>
        </p:xfrm>
        <a:graphic>
          <a:graphicData uri="http://schemas.openxmlformats.org/drawingml/2006/table">
            <a:tbl>
              <a:tblPr/>
              <a:tblGrid>
                <a:gridCol w="3886200"/>
                <a:gridCol w="644400"/>
                <a:gridCol w="407988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Perf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n (3-4 leve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erarchial (5-15 leve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 business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eaucratic congiome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f directed work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xed job descri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oss functional/enriching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al/simplifying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tive training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ring lectures or no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 information – IT lin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vileged information – grapevine n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engineering of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ficiency of present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ter-linked to customers and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autom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st-in-time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p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52960" y="2286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990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igh Performing vs Tra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4920" y="1523880"/>
          <a:ext cx="8610480" cy="5252760"/>
        </p:xfrm>
        <a:graphic>
          <a:graphicData uri="http://schemas.openxmlformats.org/drawingml/2006/table">
            <a:tbl>
              <a:tblPr/>
              <a:tblGrid>
                <a:gridCol w="3886200"/>
                <a:gridCol w="644400"/>
                <a:gridCol w="407988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DIG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Perf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ow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lp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respon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ity and vision alig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gmentation and disconnected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 – W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 – 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un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r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st – welcomes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ar – resistant to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e best 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tim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sim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versal gen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mited human 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stomer ce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ion ce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l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ochial – n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sence-based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is externally im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800600" y="4724280"/>
            <a:ext cx="1143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52960" y="2286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233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sponsibility L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962520" y="2614680"/>
            <a:ext cx="188640" cy="18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51160" y="2614680"/>
            <a:ext cx="30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452840" y="2425320"/>
            <a:ext cx="189000" cy="18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1840" y="2425680"/>
            <a:ext cx="30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943520" y="2236320"/>
            <a:ext cx="189000" cy="18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32520" y="2236680"/>
            <a:ext cx="301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13520" y="1859040"/>
            <a:ext cx="30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22840" y="2048040"/>
            <a:ext cx="30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433840" y="2048040"/>
            <a:ext cx="189000" cy="188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925960" y="1858680"/>
            <a:ext cx="187560" cy="18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25160" y="263520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e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81360" y="24382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eel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61240" y="22543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wn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70280" y="20574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lve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33960" y="187308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hiev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16640" y="1519200"/>
            <a:ext cx="26352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838080"/>
            <a:ext cx="1904760" cy="838440"/>
          </a:xfrm>
          <a:prstGeom prst="irregularSeal1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eleb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62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2743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Above th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3200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320" y="3505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Below th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3581280"/>
            <a:ext cx="1600200" cy="99072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3657600"/>
            <a:ext cx="1447560" cy="990720"/>
          </a:xfrm>
          <a:custGeom>
            <a:avLst/>
            <a:gdLst>
              <a:gd name="textAreaLeft" fmla="*/ 330480 w 1447560"/>
              <a:gd name="textAreaRight" fmla="*/ 1117080 w 144756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4114800"/>
            <a:ext cx="1523880" cy="914400"/>
          </a:xfrm>
          <a:custGeom>
            <a:avLst/>
            <a:gdLst>
              <a:gd name="textAreaLeft" fmla="*/ 347760 w 1523880"/>
              <a:gd name="textAreaRight" fmla="*/ 1176120 w 15238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4038480"/>
            <a:ext cx="1752840" cy="914400"/>
          </a:xfrm>
          <a:custGeom>
            <a:avLst/>
            <a:gdLst>
              <a:gd name="textAreaLeft" fmla="*/ 399960 w 1752840"/>
              <a:gd name="textAreaRight" fmla="*/ 1352880 w 17528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5410080"/>
            <a:ext cx="1600200" cy="99072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5334120"/>
            <a:ext cx="1524240" cy="914400"/>
          </a:xfrm>
          <a:custGeom>
            <a:avLst/>
            <a:gdLst>
              <a:gd name="textAreaLeft" fmla="*/ 347760 w 1524240"/>
              <a:gd name="textAreaRight" fmla="*/ 1176480 w 15242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867280"/>
            <a:ext cx="1600200" cy="91440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5867280"/>
            <a:ext cx="1676160" cy="914400"/>
          </a:xfrm>
          <a:custGeom>
            <a:avLst/>
            <a:gdLst>
              <a:gd name="textAreaLeft" fmla="*/ 382680 w 1676160"/>
              <a:gd name="textAreaRight" fmla="*/ 1293480 w 16761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09040" y="3902040"/>
            <a:ext cx="9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Bla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38480" y="4222800"/>
            <a:ext cx="134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No time/ I’m Bu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5594400"/>
            <a:ext cx="103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It’s Not My J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8280" y="5975280"/>
            <a:ext cx="103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Ignore/ De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60516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No money/ No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96040" y="5578560"/>
            <a:ext cx="118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Wait &amp; S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40543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Cover My Tail/Protect My Tu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37051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Confusion/ Tell Me What To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105520" y="4863960"/>
            <a:ext cx="582480" cy="774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048120" y="1905120"/>
            <a:ext cx="947520" cy="990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46483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ian” Victim Cycle (DV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205596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BE THE CHANGE YOU WANT TO SEE HAPPEN, INSTEAD OF TRYING TO CHANGE EVERYONE EL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26520" y="42670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56560" y="304920"/>
            <a:ext cx="18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82080" y="1638360"/>
            <a:ext cx="563040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 of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K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ance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DA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gh Performing vs. Tra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ponsibility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1233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914480"/>
            <a:ext cx="7788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idges, Willia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.  Managing transi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making the most of change.  Reading Massachusetts: Addison-Wesley Publishing Company, Inc.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gan, Gerard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Change-agent skills B;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innovation and change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n /Diego, California: University ASSOCIATES, Inc.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ve Learning International (Phils.), Inc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uilding high perform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earning organiza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Quezon City: n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nagement of change in Scientific organiza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Los Banos:  Southeast Asian Regional Center for Graduate Studies and Research in Agriculture and the Research Management Center of the College of Economics and Management, UPLB, 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posed Rationalization Plan of the National Economic and Development Author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 Pasig City: [2005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39000" y="41112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EFINI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143000"/>
            <a:ext cx="7772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hange Manag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a set of processes that is employed to ensure that  significant changes  are implemented in an orderly, controlled and systematic fashion to effect organization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581280"/>
            <a:ext cx="77724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hange Management Te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responsible for conducting a strategic review of its respective operations and organization to identify functions, programs and project which can be scaled down, phased out or abolished, or those which need to be strength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39000" y="41112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EFINI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7724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velopment Information Staf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sked to develop an effective NEDA communication and advocacy program; produce and implement a client-oriented publications distribution program; coordinate an effective media relations program and maintain the NEDA Knowledg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432900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ational Economic and Development Autho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country’s highest socioeconomic development planning and policy-making b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39000" y="41112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EFINI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539720"/>
            <a:ext cx="77724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ationalization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a move to transform the Executive Branch into a more effective and efficient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781440"/>
            <a:ext cx="7772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sist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an expected reaction of any organization to some changes especially if the change introduced from the outside.  This reaction can be pre-empted if we know the casual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0440" y="411120"/>
            <a:ext cx="37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THE ADKA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13716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ar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2860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s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32767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wle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5334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infor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32880" y="304920"/>
            <a:ext cx="70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CHANGE MANAGEMENT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37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ponso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2286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3276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4267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g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5334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upport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64920" y="349200"/>
            <a:ext cx="53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RESISTANCE TO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1430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Lack of info about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6765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rotect vested interest and for conveni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51055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Losing group affili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743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f no particip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352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ime is too sh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9625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oo compl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525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f reminded of past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571500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eel inadequate with the requirements of chan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360" y="1143000"/>
            <a:ext cx="59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Rationalization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ategic shift in its mandate a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711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ganizational structure – recommends the creation of a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D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581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O structure – concentrates on reorienting decision-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419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 staffing pattern – vacant funded positions and filled up positions be used as basis for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683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mulation of Implementation Plan/ Mitigation Plan/Communic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7:59:59Z</dcterms:created>
  <dc:creator>mtmaputi</dc:creator>
  <dc:description/>
  <dc:language>en-US</dc:language>
  <cp:lastModifiedBy>User</cp:lastModifiedBy>
  <dcterms:modified xsi:type="dcterms:W3CDTF">2008-11-13T12:56:14Z</dcterms:modified>
  <cp:revision>15</cp:revision>
  <dc:subject/>
  <dc:title>PowerPoint Presentation</dc:title>
</cp:coreProperties>
</file>