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5.png" ContentType="image/png"/>
  <Override PartName="/ppt/media/image10.wmf" ContentType="image/x-wmf"/>
  <Override PartName="/ppt/media/image9.wmf" ContentType="image/x-wmf"/>
  <Override PartName="/ppt/media/image17.wmf" ContentType="image/x-wmf"/>
  <Override PartName="/ppt/media/image14.wmf" ContentType="image/x-wmf"/>
  <Override PartName="/ppt/media/image1.png" ContentType="image/png"/>
  <Override PartName="/ppt/media/image2.jpeg" ContentType="image/jpeg"/>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15.wmf" ContentType="image/x-wmf"/>
  <Override PartName="/ppt/media/image7.png" ContentType="image/png"/>
  <Override PartName="/ppt/media/image3.png" ContentType="image/png"/>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36121-60DC-4D5D-9374-BB45920DF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35AC1-A02F-4341-B244-006293E03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79F25-8FB8-4E01-8527-2F36FAF2B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1A3AD-5F16-4C8C-85B9-E4641E2D4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B603E-AD04-4234-B144-AAD5F1C5F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936F8-9765-4866-8CF0-95B5E05EA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46E37-5C60-45F0-AD5A-10C47D90E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CE912-0B1A-4346-9934-231EE498A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2C8E4-C457-42D2-84D8-2300FE8C4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5C3CB-92B0-40E5-9C8E-346EAD304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80572-A36D-42C5-9A56-ACCC0B3EA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6E1B1-B6BD-429B-96ED-DD77B0C26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53FB3-C247-4D37-A007-0B0B83FEB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875D4-F690-4703-AC2A-53DD0E0A4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A5214-0E38-4BDF-9024-7658192F1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D7F10-AFC1-4539-9176-540FEE746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C7062-F8C1-421F-9092-A36A6F745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1A619C-AF3D-41C7-9C04-F8A4A948BF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D5826C-931F-4D99-8707-B08226A63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C69A39-42D4-42C9-9456-49D7630FD3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1F15A-B7D1-438A-B776-E55C88ADBA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4C1B78-9C76-49B2-89A0-DDBF1EE5B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76B24-A403-45EE-A147-C207BD8CE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9D1A06-9E02-4CF5-9995-0BBF15092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E8A90-E252-4DD3-A793-9335CB7E5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FD9D07-A65A-4551-9572-EA40A524F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EB769-E311-4295-BD3B-FE00E15BE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FD5E5A-8FB5-4247-AACE-D4437BA28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F15F1-4171-406C-968E-1B348334A6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51446C-0479-4623-A2A3-363AD20CDD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D81981-80C9-42EE-88AB-A7D31F0202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890704-CE23-4C3B-B3E1-086E74BD1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4D43A3-D295-4524-8AD1-38D0E0519B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369C3-C389-4A4C-A1F6-3F61E6C79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DBA79C-D025-47C9-81AF-81186C68CA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026ADE-2898-4085-A263-715E763260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1D43DB-394A-4BDA-886B-56B8280CE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60760-E641-441F-89FB-97A8CBE570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2A5D30-BE72-41C7-B577-7653C13F0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9F53B-475E-47B9-BE82-C302B3DB3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FB20C9-D680-431A-9E7E-3421EA3C37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F15CCD-1601-478A-9FC7-64F4E82DFA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EE7A61-8C11-4030-9EF6-FC50ACDB37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7115BA-3629-4726-8A7C-6E599012FA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55DC9-48AA-444C-8FEC-349A76BC8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CC9F56-37E2-450F-90E6-4FDE9DBC12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D5313F-43D2-4438-85CA-DF5433CE36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13B3FE-2B7A-45F8-8423-EDE40C3ABF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1EC401-E148-4F34-A58E-6270F1B951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101E51-AEF8-4877-BFCB-419EAB6B5A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BB81C9-2BB3-47B5-A173-D4BD2F110E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5C6745-5A4F-42D3-B19C-778BC7A87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D475E-6141-4278-9592-EDE2F63755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F08633-4145-4B69-8AC8-2DFAAF1A5A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C4F744-AAAA-4401-B503-61E8F26500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E601B-1762-47A1-9FEB-477014E94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5ECCA1-D70F-4ECA-9EFC-E23CFD0A5E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715CEB-F3EC-48D7-84B8-8A0B994802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5"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3BF4B0-7D42-416E-BD31-DD634A0CFF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7"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441EEB-8460-4CBE-B6F9-9EB2D1707C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F9C196-B6AF-489B-8792-D21C0EA4A4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5C3502-D33E-4BE5-8F4B-94024F673F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0EC924-0C60-408A-819E-1F100ADC3C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3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C19FF1-BDC3-4AFF-8CC0-1FF4634FCF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38"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0"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14290-BB5B-423F-A1E0-7AB593F32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4"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3C245D-99D2-4572-BB37-ADC57F0868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F70B8-6469-49D6-8A25-D3E6BFD04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6"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7"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8B3C1A-F367-45E7-A7FB-DB16705251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2"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3CA2BC-E2C6-4715-98DE-102B8E53F7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54"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5"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6"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7"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8"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9"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A82A21-7E94-4BBF-8C49-5C2DF97A65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B0411F-4535-4AA5-95BB-318686FC3B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68"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4A9318-59BB-423D-A5FC-1C5265D078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0"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DC0B14-EFD9-4EED-BA85-9E9364F671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EFF776-63E3-4A7E-A749-0CA960DF25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A33849-A996-4D0D-8B1F-02A48E35B4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9B331A-AAC2-432D-B9A0-FB1D106729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BBCFB-C72C-4C7D-B18A-F031A687B0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362A7-A327-48F9-AC35-7BBB27770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3"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8037AF-7F37-4B79-878B-6FCD0278A2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6"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7"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12420F-B410-4565-BBED-DB9BEC53F1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9"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0"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550239-55AC-495B-99C5-7A18F86107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5"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7B31BB-D5E1-43A1-9B04-25389BE758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97"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8"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9"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0"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1"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2"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E3425D-5A99-4279-9CF0-CCFD85551A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58A04-F7C3-4DE4-B7E2-8277FD86A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 name="Rectangle 8"/>
          <p:cNvSpPr/>
          <p:nvPr/>
        </p:nvSpPr>
        <p:spPr>
          <a:xfrm>
            <a:off x="0" y="6334200"/>
            <a:ext cx="12192120" cy="66600"/>
          </a:xfrm>
          <a:prstGeom prst="rect">
            <a:avLst/>
          </a:prstGeom>
          <a:solidFill>
            <a:srgbClr val="93a2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2E091-C618-4195-99AD-92F4497D715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46" name="Straight Connector 12"/>
          <p:cNvSpPr/>
          <p:nvPr/>
        </p:nvSpPr>
        <p:spPr>
          <a:xfrm>
            <a:off x="1208160" y="4343400"/>
            <a:ext cx="9875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A4FC3-1027-482E-BC71-3C58D5DBC96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9"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90" name="Straight Connector 12"/>
          <p:cNvSpPr/>
          <p:nvPr/>
        </p:nvSpPr>
        <p:spPr>
          <a:xfrm>
            <a:off x="1208160" y="4343400"/>
            <a:ext cx="9875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7F56B-1A28-4187-906E-E8C0BA725FA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3"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322EC-B073-4A3B-B563-C1622D47952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6" name="Rectangle 11"/>
          <p:cNvSpPr/>
          <p:nvPr/>
        </p:nvSpPr>
        <p:spPr>
          <a:xfrm>
            <a:off x="4040280" y="0"/>
            <a:ext cx="63360" cy="6858000"/>
          </a:xfrm>
          <a:prstGeom prst="rect">
            <a:avLst/>
          </a:prstGeom>
          <a:solidFill>
            <a:srgbClr val="93a2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cedd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E7F67-4141-4FD0-B4DA-5B9CD5E13330}" type="slidenum">
              <a:rPr b="0" lang="en-US" sz="1000" spc="-1" strike="noStrike">
                <a:solidFill>
                  <a:srgbClr val="ecedd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18" name="Rectangle 10"/>
          <p:cNvSpPr/>
          <p:nvPr/>
        </p:nvSpPr>
        <p:spPr>
          <a:xfrm>
            <a:off x="0" y="491508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220"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21"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cedd1"/>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cedd1"/>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3"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cedd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293A1-F570-4366-94CB-D8E7A9F56D3A}" type="slidenum">
              <a:rPr b="0" lang="en-US" sz="1000" spc="-1" strike="noStrike">
                <a:solidFill>
                  <a:srgbClr val="ecedd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60"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61"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6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26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64"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5"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6"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E683E-77AB-4F38-9179-7E50A58BDD3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hyperlink" Target="http://www.filefactory.com/file/4cxrjx86buot/n/9_Leadership_Change_Management_zip" TargetMode="External"/><Relationship Id="rId2" Type="http://schemas.openxmlformats.org/officeDocument/2006/relationships/hyperlink" Target="http://www.filefactory.com/file/68h2rewfq7jx/ED%20402%20Educational%20Leadership.zip" TargetMode="External"/><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303" name="Rectangle 5"/>
          <p:cNvSpPr/>
          <p:nvPr/>
        </p:nvSpPr>
        <p:spPr>
          <a:xfrm>
            <a:off x="266760" y="0"/>
            <a:ext cx="11718720" cy="6722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0000"/>
                </a:solidFill>
                <a:uFillTx/>
                <a:latin typeface="Arial"/>
                <a:ea typeface="Calibri"/>
              </a:rPr>
              <a:t>Leadership</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Management has its start point in the organisation. It is taken to involve the conduct and evolutionary development of an institution and its staff by means of rational decisions and performance monitoring underpinned by information systems, policies, procedures and plans. ● Leadership has a start point in the people within the organisation. It is concerned with getting their willing cooperation and contribution towards organisational goals and with meeting their needs as individuals.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Just as ‘managers’ exist at all levels of the organisation so, too, can leaders be found at all levels. The latter do not necessarily depend on a formal role position. ● Both activities, leading and managing, are required. The balance between each activity varies both from time to time and also from the position of an individual within an organisa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bbb2"/>
        </a:solidFill>
      </p:bgPr>
    </p:bg>
    <p:spTree>
      <p:nvGrpSpPr>
        <p:cNvPr id="1" name=""/>
        <p:cNvGrpSpPr/>
        <p:nvPr/>
      </p:nvGrpSpPr>
      <p:grpSpPr>
        <a:xfrm>
          <a:off x="0" y="0"/>
          <a:ext cx="0" cy="0"/>
          <a:chOff x="0" y="0"/>
          <a:chExt cx="0" cy="0"/>
        </a:xfrm>
      </p:grpSpPr>
      <p:sp>
        <p:nvSpPr>
          <p:cNvPr id="312" name="Rectangle 1"/>
          <p:cNvSpPr/>
          <p:nvPr/>
        </p:nvSpPr>
        <p:spPr>
          <a:xfrm>
            <a:off x="333360" y="344520"/>
            <a:ext cx="11750760" cy="289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7030a0"/>
                </a:solidFill>
                <a:latin typeface="Arial"/>
                <a:ea typeface="Calibri"/>
              </a:rPr>
              <a:t>● </a:t>
            </a:r>
            <a:r>
              <a:rPr b="1" lang="en-AU" sz="4000" spc="-1" strike="noStrike">
                <a:solidFill>
                  <a:srgbClr val="7030a0"/>
                </a:solidFill>
                <a:latin typeface="Arial"/>
                <a:ea typeface="Calibri"/>
              </a:rPr>
              <a:t>Individualised consideration – the support that is available to individuals to allow them to develop in order to meet new challenges and goals.</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313" name="Rectangle 1"/>
          <p:cNvSpPr/>
          <p:nvPr/>
        </p:nvSpPr>
        <p:spPr>
          <a:xfrm>
            <a:off x="0" y="0"/>
            <a:ext cx="11999880" cy="6405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Moral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Moral leadership is based on the assumption that educational and other organisations operate within a framework of absolute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e leader’s role is to: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influence the adoption of a clear set of organisational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manage conflict over the interpretation of basic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commit others to the values that leaders themselves believe to be good.</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853c"/>
        </a:solidFill>
      </p:bgPr>
    </p:bg>
    <p:spTree>
      <p:nvGrpSpPr>
        <p:cNvPr id="1" name=""/>
        <p:cNvGrpSpPr/>
        <p:nvPr/>
      </p:nvGrpSpPr>
      <p:grpSpPr>
        <a:xfrm>
          <a:off x="0" y="0"/>
          <a:ext cx="0" cy="0"/>
          <a:chOff x="0" y="0"/>
          <a:chExt cx="0" cy="0"/>
        </a:xfrm>
      </p:grpSpPr>
      <p:sp>
        <p:nvSpPr>
          <p:cNvPr id="314" name="Rectangle 1"/>
          <p:cNvSpPr/>
          <p:nvPr/>
        </p:nvSpPr>
        <p:spPr>
          <a:xfrm>
            <a:off x="266760" y="352440"/>
            <a:ext cx="11634840" cy="5897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Participative leadership</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Participative leadership In common with moral leadership, participative leadership emphasises consultation and the importance of the decision-making processes of the group. Unlike moral leadership, however, participation and consultation are usually based on more pragmatic decision making needs rather than on any ideas of ‘moral rightness’ or ‘what ought to be’. The need to establish a sense of ownership of decisions usually underpins use of the model.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dfe3e0"/>
            </a:gs>
          </a:gsLst>
          <a:lin ang="5400000"/>
        </a:gradFill>
      </p:bgPr>
    </p:bg>
    <p:spTree>
      <p:nvGrpSpPr>
        <p:cNvPr id="1" name=""/>
        <p:cNvGrpSpPr/>
        <p:nvPr/>
      </p:nvGrpSpPr>
      <p:grpSpPr>
        <a:xfrm>
          <a:off x="0" y="0"/>
          <a:ext cx="0" cy="0"/>
          <a:chOff x="0" y="0"/>
          <a:chExt cx="0" cy="0"/>
        </a:xfrm>
      </p:grpSpPr>
      <p:sp>
        <p:nvSpPr>
          <p:cNvPr id="315" name="Rectangle 1"/>
          <p:cNvSpPr/>
          <p:nvPr/>
        </p:nvSpPr>
        <p:spPr>
          <a:xfrm>
            <a:off x="141120" y="141120"/>
            <a:ext cx="11661840" cy="5017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Participative leadership can be seen as leading to: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better quality decision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greater consensus and acceptance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better understanding of the decision by those responsible for implementing it</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the development of decision-making skills throughout the organisation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Rectangle 1"/>
          <p:cNvSpPr/>
          <p:nvPr/>
        </p:nvSpPr>
        <p:spPr>
          <a:xfrm>
            <a:off x="477720" y="492120"/>
            <a:ext cx="11714400" cy="4763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enhanced motivation and job satisfaction for staff involved in decision-making</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 </a:t>
            </a:r>
            <a:r>
              <a:rPr b="0" lang="en-AU" sz="3600" spc="-1" strike="noStrike">
                <a:solidFill>
                  <a:srgbClr val="ffffff"/>
                </a:solidFill>
                <a:latin typeface="Calibri"/>
                <a:ea typeface="Calibri"/>
              </a:rPr>
              <a:t>resolution of conflict and the development of the team. However, participative leadership often results in conflicts associated with:</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 </a:t>
            </a:r>
            <a:r>
              <a:rPr b="0" lang="en-AU" sz="3600" spc="-1" strike="noStrike">
                <a:solidFill>
                  <a:srgbClr val="ffffff"/>
                </a:solidFill>
                <a:latin typeface="Calibri"/>
                <a:ea typeface="Calibri"/>
              </a:rPr>
              <a:t>the need for consensus and at the same time the need for strong and authoritative leadership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
          <p:cNvSpPr/>
          <p:nvPr/>
        </p:nvSpPr>
        <p:spPr>
          <a:xfrm>
            <a:off x="254160" y="196920"/>
            <a:ext cx="11760120" cy="4005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0000"/>
                </a:solidFill>
                <a:latin typeface="Calibri"/>
                <a:ea typeface="Calibri"/>
              </a:rPr>
              <a:t>● </a:t>
            </a:r>
            <a:r>
              <a:rPr b="1" lang="en-AU" sz="3600" spc="-1" strike="noStrike">
                <a:solidFill>
                  <a:srgbClr val="ff0000"/>
                </a:solidFill>
                <a:latin typeface="Calibri"/>
                <a:ea typeface="Calibri"/>
              </a:rPr>
              <a:t>the need to consult and involve while at the same time making decisions which are timely and efficient in terms of the resources used</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0000"/>
                </a:solidFill>
                <a:latin typeface="Calibri"/>
                <a:ea typeface="Calibri"/>
              </a:rPr>
              <a:t> ● </a:t>
            </a:r>
            <a:r>
              <a:rPr b="1" lang="en-AU" sz="3600" spc="-1" strike="noStrike">
                <a:solidFill>
                  <a:srgbClr val="ff0000"/>
                </a:solidFill>
                <a:latin typeface="Calibri"/>
                <a:ea typeface="Calibri"/>
              </a:rPr>
              <a:t>the need to reconcile accountability for the implementation of externally derived policy with the values and systems orientation of staff within a school or colleg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318" name="Rectangle 1"/>
          <p:cNvSpPr/>
          <p:nvPr/>
        </p:nvSpPr>
        <p:spPr>
          <a:xfrm>
            <a:off x="393840" y="154080"/>
            <a:ext cx="11620440" cy="5505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0000"/>
                </a:solidFill>
                <a:uFillTx/>
                <a:latin typeface="Calibri"/>
                <a:ea typeface="Calibri"/>
              </a:rPr>
              <a:t>Managerial leadership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is model of leadership is strongly evidenced in further education.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e model is sometimes referred to as transactional or functional and is widely associated with writer John Adair.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0000"/>
                </a:solidFill>
                <a:latin typeface="Calibri"/>
                <a:ea typeface="Calibri"/>
              </a:rPr>
              <a:t>Teams and teamworking</a:t>
            </a:r>
            <a:r>
              <a:rPr b="0" lang="en-AU" sz="2800" spc="-1" strike="noStrike">
                <a:solidFill>
                  <a:srgbClr val="ffffff"/>
                </a:solidFill>
                <a:latin typeface="Calibri"/>
                <a:ea typeface="Calibri"/>
              </a:rPr>
              <a:t> are important in the model, and the leader’s primary responsibility is to balance the needs of the team, the task on which the team is engaged, and the individual needs of team members.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e leadership role is strongly associated with the team leader rather than any of the other team members and there is therefore an emphasis on leader training and skills developmen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Rectangle 1"/>
          <p:cNvSpPr/>
          <p:nvPr/>
        </p:nvSpPr>
        <p:spPr>
          <a:xfrm>
            <a:off x="347760" y="230040"/>
            <a:ext cx="11844360" cy="370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0000"/>
                </a:solidFill>
                <a:uFillTx/>
                <a:latin typeface="Calibri"/>
                <a:ea typeface="Calibri"/>
              </a:rPr>
              <a:t>Contingent leadership </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0000"/>
                </a:solidFill>
                <a:latin typeface="Calibri"/>
                <a:ea typeface="Calibri"/>
              </a:rPr>
              <a:t>Closely related to the managerial leadership model is contingent or situational leadership. Leadership is viewed as situationally focused – in other words variations in the contexts for decision-making require different leadership responses. Leaders therefore need to master a range of leadership practices including the development of different leadership styles that can be adopted in varied setting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Rectangle 1"/>
          <p:cNvSpPr/>
          <p:nvPr/>
        </p:nvSpPr>
        <p:spPr>
          <a:xfrm>
            <a:off x="407880" y="787320"/>
            <a:ext cx="116334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Organisational learning The concept of the learning organisation developed during the late 1980s and early 1990s. It is often associated with the work of Peter Senge. Senge’s view was that just as individuals have the capacity to continually learn, so too do organisations. </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This new type of organisation requires a new type of leadership – one in which the purpose of leadership is to build organisational capacity for learning.</a:t>
            </a:r>
            <a:r>
              <a:rPr b="0" lang="en-AU" sz="3600" spc="-1" strike="noStrike">
                <a:solidFill>
                  <a:srgbClr val="ff0000"/>
                </a:solidFill>
                <a:latin typeface="Calibri"/>
                <a:ea typeface="Calibri"/>
              </a:rPr>
              <a: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ad6"/>
        </a:solidFill>
      </p:bgPr>
    </p:bg>
    <p:spTree>
      <p:nvGrpSpPr>
        <p:cNvPr id="1" name=""/>
        <p:cNvGrpSpPr/>
        <p:nvPr/>
      </p:nvGrpSpPr>
      <p:grpSpPr>
        <a:xfrm>
          <a:off x="0" y="0"/>
          <a:ext cx="0" cy="0"/>
          <a:chOff x="0" y="0"/>
          <a:chExt cx="0" cy="0"/>
        </a:xfrm>
      </p:grpSpPr>
      <p:sp>
        <p:nvSpPr>
          <p:cNvPr id="321" name="Rectangle 1"/>
          <p:cNvSpPr/>
          <p:nvPr/>
        </p:nvSpPr>
        <p:spPr>
          <a:xfrm>
            <a:off x="290520" y="196920"/>
            <a:ext cx="11680920" cy="4424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0000"/>
                </a:solidFill>
                <a:latin typeface="Calibri"/>
                <a:ea typeface="Calibri"/>
              </a:rPr>
              <a:t>The leader has three important roles to perform:</a:t>
            </a:r>
            <a:endParaRPr b="0" lang="en-US" sz="40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0000"/>
                </a:solidFill>
                <a:latin typeface="Calibri"/>
                <a:ea typeface="Calibri"/>
              </a:rPr>
              <a:t> ● </a:t>
            </a:r>
            <a:r>
              <a:rPr b="0" lang="en-AU" sz="4000" spc="-1" strike="noStrike">
                <a:solidFill>
                  <a:srgbClr val="ff0000"/>
                </a:solidFill>
                <a:latin typeface="Calibri"/>
                <a:ea typeface="Calibri"/>
              </a:rPr>
              <a:t>As designer, the leader’s role is to design the organisational learning process so that people are able to solve problems and achieve personal mastery. This requires new leadership behaviours including coaching, mentoring and helping others to learn. </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04" name="Rectangle 1"/>
          <p:cNvSpPr/>
          <p:nvPr/>
        </p:nvSpPr>
        <p:spPr>
          <a:xfrm>
            <a:off x="225360" y="0"/>
            <a:ext cx="11741040" cy="6722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Both activities, leading and managing, are required. The balance between each activity varies both from time to time and also from the position of an individual within an organisation. 2 Leadership issues: raising achievement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Whether one activity subsumes the other or whether management and leadership exist as poles of activity along a continuum does not have any bearing on the argument presented.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Incorporation and the essential need to run an efficient and effective organisation have made it inevitable that there has been an emphasis on the top levels of colleges and upon the managerial activities of senior management. Leadership has always been required at that level. Our interest lies in improving the impact of leadership activity at lower levels in colleges.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Rectangle 1"/>
          <p:cNvSpPr/>
          <p:nvPr/>
        </p:nvSpPr>
        <p:spPr>
          <a:xfrm>
            <a:off x="168120" y="0"/>
            <a:ext cx="12024000" cy="6528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 </a:t>
            </a:r>
            <a:r>
              <a:rPr b="1" lang="en-AU" sz="3600" spc="-1" strike="noStrike">
                <a:solidFill>
                  <a:srgbClr val="ffff00"/>
                </a:solidFill>
                <a:latin typeface="Calibri"/>
                <a:ea typeface="Calibri"/>
              </a:rPr>
              <a:t>As steward, the leader has a responsibility not only for developing a personal vision for the organisation but ensuring that the vision reflects the common aspirations of others working in it.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 </a:t>
            </a:r>
            <a:r>
              <a:rPr b="1" lang="en-AU" sz="3600" spc="-1" strike="noStrike">
                <a:solidFill>
                  <a:srgbClr val="ffff00"/>
                </a:solidFill>
                <a:latin typeface="Calibri"/>
                <a:ea typeface="Calibri"/>
              </a:rPr>
              <a:t>As teacher, the leader’s role is not just about coaching and supporting individuals but more importantly about developing ‘systemic understanding’ – the ability to see how the various parts of the organisation fit together and inter-relate, and how learning can be transferred from one section or from one situation to another (Senge 1990).</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Rectangle 1"/>
          <p:cNvSpPr/>
          <p:nvPr/>
        </p:nvSpPr>
        <p:spPr>
          <a:xfrm>
            <a:off x="182520" y="196920"/>
            <a:ext cx="11690280" cy="5393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LEADERSHIP IN CHANGE MANAGEMENT</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00b0f0"/>
                </a:solidFill>
                <a:uFillTx/>
                <a:latin typeface="Calibri"/>
                <a:ea typeface="Calibri"/>
              </a:rPr>
              <a:t>A NEW MODEL OF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It has been argued that the traditional style of management is inappropriate for today's organisation. A more flexible, responsive leader displaying high trust, participative management styles is needed to replace the autocratic, individualised, competitive leader who was found to be effective in the past (Smith &amp; Hutchinson 1995, 93)</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
          <p:cNvSpPr/>
          <p:nvPr/>
        </p:nvSpPr>
        <p:spPr>
          <a:xfrm>
            <a:off x="239760" y="210960"/>
            <a:ext cx="11774520" cy="6528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THE MANAGER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Future TAFE managers need the 'soft' or 'people' skills that have been described by many management theorists (Feuer 1988; Randell 1993; Smith &amp; Hutchinson 1995) according to the participants in this study. Words used by participants to describe these managers included integrity, honesty, sincerity, humbleness, courage, openness, trust, empowering, supporting, developing, empathetic, flexible, team centred, adaptable, encouraging, approachable, fair and ethical.</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210960" y="0"/>
            <a:ext cx="11803320" cy="5266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From management to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The shift from management to leadership has been brought about by the fundamental requirement for people to cope with the management of change. John Kotter (1990) suggested that management is about planning, organising and controlling, whereas leadership is about setting direction, aligning people – and motivating and inspiring them. It is fundamentally about peopl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0" y="266760"/>
          <a:ext cx="11942640" cy="5796000"/>
        </p:xfrm>
        <a:graphic>
          <a:graphicData uri="http://schemas.openxmlformats.org/drawingml/2006/table">
            <a:tbl>
              <a:tblPr/>
              <a:tblGrid>
                <a:gridCol w="5972040"/>
                <a:gridCol w="5970600"/>
              </a:tblGrid>
              <a:tr h="61416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alibri"/>
                        </a:rPr>
                        <a:t>THE MANAGER</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alibri"/>
                        </a:rPr>
                        <a:t>THE LEADER</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r h="51818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Administers Is a copy Maintains Focuses on systems Relies on control Short-range view Asks how and when Eye on the bottom line Imitates Accepts the status quo Obeys orders without question Does things right Is trained Managers operate within the culture.</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3a299"/>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alibri"/>
                        </a:rPr>
                        <a:t>Innovates Is an original Develops Focuses on people Inspires trust Long-range view Asks what and why Eye on the horizon Originates Challenges the status quo Obeys when appropriate but thinks Does the right things Learns Leaders create the culture.</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sp>
        <p:nvSpPr>
          <p:cNvPr id="327" name="Rectangle 1"/>
          <p:cNvSpPr/>
          <p:nvPr/>
        </p:nvSpPr>
        <p:spPr>
          <a:xfrm>
            <a:off x="604800" y="324000"/>
            <a:ext cx="1140948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The leadership competencies </a:t>
            </a:r>
            <a:endParaRPr b="0" lang="en-US" sz="3600" spc="-1" strike="noStrike">
              <a:solidFill>
                <a:srgbClr val="ffffff"/>
              </a:solidFill>
              <a:latin typeface="Calibri"/>
            </a:endParaRPr>
          </a:p>
          <a:p>
            <a:pPr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First, leaders need to set the direction for the organisation, which incorporates a vision of the future. </a:t>
            </a:r>
            <a:endParaRPr b="0" lang="en-US" sz="3600" spc="-1" strike="noStrike">
              <a:solidFill>
                <a:srgbClr val="ffffff"/>
              </a:solidFill>
              <a:latin typeface="Calibri"/>
            </a:endParaRPr>
          </a:p>
          <a:p>
            <a:pPr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Second, effective leaders are influential examples and role models because they are aware that people are more influenced by what they see than by what they are told.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
          <p:cNvSpPr/>
          <p:nvPr/>
        </p:nvSpPr>
        <p:spPr>
          <a:xfrm>
            <a:off x="787320" y="239760"/>
            <a:ext cx="11184120" cy="4636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ird, they are effective communicators, both in communicating the vision, and also inspiring their people in such a way that it causes an emotional effect. </a:t>
            </a:r>
            <a:endParaRPr b="0" lang="en-US" sz="3600" spc="-1" strike="noStrike">
              <a:solidFill>
                <a:srgbClr val="ffffff"/>
              </a:solidFill>
              <a:latin typeface="Calibri"/>
            </a:endParaRPr>
          </a:p>
          <a:p>
            <a:pPr marL="343080" indent="-343080"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Fourth, provided that the leader is convincing, followers will want to be part of the operation and work towards the common goal themselves. This process is one of alignmen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
          <p:cNvSpPr/>
          <p:nvPr/>
        </p:nvSpPr>
        <p:spPr>
          <a:xfrm>
            <a:off x="103320" y="325440"/>
            <a:ext cx="11976120" cy="4763160"/>
          </a:xfrm>
          <a:prstGeom prst="rect">
            <a:avLst/>
          </a:prstGeom>
          <a:solidFill>
            <a:srgbClr val="f1d394"/>
          </a:solidFill>
          <a:ln w="9360">
            <a:solidFill>
              <a:srgbClr val="ccff33"/>
            </a:solidFill>
            <a:miter/>
          </a:ln>
        </p:spPr>
        <p:style>
          <a:lnRef idx="0"/>
          <a:fillRef idx="0"/>
          <a:effectRef idx="0"/>
          <a:fontRef idx="minor"/>
        </p:style>
        <p:txBody>
          <a:bodyPr lIns="90000" rIns="90000" tIns="46800" bIns="46800" anchor="t">
            <a:spAutoFit/>
          </a:bodyPr>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Fifth, effective leaders bring out the best in people. This involves a holistic approach which embraces motivation, empowerment, coaching and encouragement. </a:t>
            </a:r>
            <a:endParaRPr b="0" lang="en-US" sz="3600" spc="-1" strike="noStrike">
              <a:solidFill>
                <a:srgbClr val="ffffff"/>
              </a:solidFill>
              <a:latin typeface="Calibri"/>
            </a:endParaRPr>
          </a:p>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Sixth, leaders need to be proactive in a situation of continual change. In effect, they become change agents. </a:t>
            </a:r>
            <a:endParaRPr b="0" lang="en-US" sz="3600" spc="-1" strike="noStrike">
              <a:solidFill>
                <a:srgbClr val="ffffff"/>
              </a:solidFill>
              <a:latin typeface="Calibri"/>
            </a:endParaRPr>
          </a:p>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The seventh attribute is the ability to make decisions in times of crisis and for the ambiguous.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
          <p:cNvSpPr/>
          <p:nvPr/>
        </p:nvSpPr>
        <p:spPr>
          <a:xfrm>
            <a:off x="0" y="298440"/>
            <a:ext cx="11999880" cy="4509000"/>
          </a:xfrm>
          <a:prstGeom prst="rect">
            <a:avLst/>
          </a:prstGeom>
          <a:solidFill>
            <a:srgbClr val="00b050"/>
          </a:solidFill>
          <a:ln w="0">
            <a:noFill/>
          </a:ln>
        </p:spPr>
        <p:style>
          <a:lnRef idx="0"/>
          <a:fillRef idx="0"/>
          <a:effectRef idx="0"/>
          <a:fontRef idx="minor"/>
        </p:style>
        <p:txBody>
          <a:bodyPr lIns="90000" rIns="90000" tIns="46800" bIns="46800" anchor="t">
            <a:spAutoFit/>
          </a:bodyPr>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ese seven competencies, which are discussed in detail in The business of leadership (Hooper and Potter 1997), are the skills required to lead effectively at all levels, in the appropriate style, in order to add value to an organisation. In addition, these competencies enable leaders to make significant improvement to the performance of their organisations.</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266760" y="0"/>
            <a:ext cx="11522160" cy="6386760"/>
          </a:xfrm>
          <a:prstGeom prst="rect">
            <a:avLst/>
          </a:prstGeom>
          <a:solidFill>
            <a:srgbClr val="7030a0"/>
          </a:solidFill>
          <a:ln w="0">
            <a:noFill/>
          </a:ln>
        </p:spPr>
        <p:style>
          <a:lnRef idx="0"/>
          <a:fillRef idx="0"/>
          <a:effectRef idx="0"/>
          <a:fontRef idx="minor"/>
        </p:style>
        <p:txBody>
          <a:bodyPr lIns="90000" rIns="90000" tIns="46800" bIns="46800" anchor="t">
            <a:spAutoFit/>
          </a:bodyPr>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ff00"/>
                </a:solidFill>
                <a:uFillTx/>
                <a:latin typeface="Arial"/>
                <a:ea typeface="Calibri"/>
              </a:rPr>
              <a:t>Effective communications </a:t>
            </a:r>
            <a:endParaRPr b="0" lang="en-US" sz="3200" spc="-1" strike="noStrike">
              <a:solidFill>
                <a:srgbClr val="ffffff"/>
              </a:solidFill>
              <a:latin typeface="Calibri"/>
            </a:endParaRPr>
          </a:p>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Part of the process of creating understanding is effective communications. It is particularly difficult when managing change, because leaders are often struggling to clarify their own thinking as well as trying to communicate a clear message. Unless there is clarity of thought, there is a danger that leaders will give a mixed message, which can lead to confusion. The important first step is to have a clear strategy right from the outset. Once the general way forward is clear, it is essential that the senior management team maintain open communications with every individual in that grou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305" name="Rectangle 1"/>
          <p:cNvSpPr/>
          <p:nvPr/>
        </p:nvSpPr>
        <p:spPr>
          <a:xfrm>
            <a:off x="0" y="928800"/>
            <a:ext cx="11942640" cy="3457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 </a:t>
            </a:r>
            <a:r>
              <a:rPr b="0" lang="en-AU" sz="3200" spc="-1" strike="noStrike">
                <a:solidFill>
                  <a:srgbClr val="ffffff"/>
                </a:solidFill>
                <a:latin typeface="Arial"/>
                <a:ea typeface="Calibri"/>
              </a:rPr>
              <a:t>These lower levels are those at which course organisation and delivery by a group of staff is the key activity. If leadership is to have a more direct impact on student achievement than is the case with the mediated leadership activity of senior post-holders, then this lower level may be the one level to examine in more detai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965160" y="419040"/>
            <a:ext cx="10682280" cy="574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u="sng">
                <a:solidFill>
                  <a:srgbClr val="ffffff"/>
                </a:solidFill>
                <a:uFillTx/>
                <a:latin typeface="Arial"/>
                <a:ea typeface="Calibri"/>
              </a:rPr>
              <a:t>Change Management Approach</a:t>
            </a:r>
            <a:endParaRPr b="0" lang="en-US" sz="44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ffffff"/>
                </a:solidFill>
                <a:latin typeface="Arial"/>
                <a:ea typeface="Calibri"/>
              </a:rPr>
              <a:t>Traditional Change Management Approach &amp; Participative Change Management Approach</a:t>
            </a:r>
            <a:endParaRPr b="0" lang="en-US" sz="44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ffffff"/>
                </a:solidFill>
                <a:latin typeface="Arial"/>
                <a:ea typeface="Calibri"/>
              </a:rPr>
              <a:t>Read the provided article  “Change Management Approach.pdf” &amp; “Helping People Adapt”</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4680" y="4680"/>
            <a:ext cx="12219120" cy="532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pic>
        <p:nvPicPr>
          <p:cNvPr id="334" name="Picture 2" descr=""/>
          <p:cNvPicPr/>
          <p:nvPr/>
        </p:nvPicPr>
        <p:blipFill>
          <a:blip r:embed="rId1"/>
          <a:stretch/>
        </p:blipFill>
        <p:spPr>
          <a:xfrm>
            <a:off x="146160" y="314280"/>
            <a:ext cx="11937960" cy="588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68120" y="228600"/>
            <a:ext cx="12024000" cy="6105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4680" y="4680"/>
            <a:ext cx="12146040" cy="5467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37" name="Rectangle 2"/>
          <p:cNvSpPr/>
          <p:nvPr/>
        </p:nvSpPr>
        <p:spPr>
          <a:xfrm>
            <a:off x="2371320" y="838080"/>
            <a:ext cx="79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ffff00"/>
                </a:solidFill>
                <a:latin typeface="Arial"/>
                <a:ea typeface="Calibri"/>
              </a:rPr>
              <a:t>EFFECTIVE WAY OF CHANGE MANAGEMENT</a:t>
            </a:r>
            <a:endParaRPr b="0" lang="en-US" sz="2800" spc="-1" strike="noStrike">
              <a:solidFill>
                <a:srgbClr val="ffffff"/>
              </a:solidFill>
              <a:latin typeface="Calibri"/>
            </a:endParaRPr>
          </a:p>
        </p:txBody>
      </p:sp>
      <p:graphicFrame>
        <p:nvGraphicFramePr>
          <p:cNvPr id="338" name=""/>
          <p:cNvGraphicFramePr/>
          <p:nvPr/>
        </p:nvGraphicFramePr>
        <p:xfrm>
          <a:off x="2475000" y="1509840"/>
          <a:ext cx="7881840" cy="295200"/>
        </p:xfrm>
        <a:graphic>
          <a:graphicData uri="http://schemas.openxmlformats.org/drawingml/2006/table">
            <a:tbl>
              <a:tblPr/>
              <a:tblGrid>
                <a:gridCol w="7881840"/>
              </a:tblGrid>
              <a:tr h="295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bl>
          </a:graphicData>
        </a:graphic>
      </p:graphicFrame>
      <p:pic>
        <p:nvPicPr>
          <p:cNvPr id="339" name="Picture 2" descr=""/>
          <p:cNvPicPr/>
          <p:nvPr/>
        </p:nvPicPr>
        <p:blipFill>
          <a:blip r:embed="rId1"/>
          <a:stretch/>
        </p:blipFill>
        <p:spPr>
          <a:xfrm>
            <a:off x="2475000" y="1509840"/>
            <a:ext cx="6541920" cy="47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136440" y="863640"/>
            <a:ext cx="12158640" cy="354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1538280" y="0"/>
            <a:ext cx="9167760" cy="681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73080" y="844560"/>
            <a:ext cx="12119040" cy="448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1749600" y="-84240"/>
            <a:ext cx="8858160" cy="694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sp>
        <p:nvSpPr>
          <p:cNvPr id="306" name="Rectangle 1"/>
          <p:cNvSpPr/>
          <p:nvPr/>
        </p:nvSpPr>
        <p:spPr>
          <a:xfrm>
            <a:off x="295200" y="0"/>
            <a:ext cx="11746080" cy="4651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ffff"/>
                </a:solidFill>
                <a:uFillTx/>
                <a:latin typeface="Arial"/>
                <a:ea typeface="Calibri"/>
              </a:rPr>
              <a:t>Leadership in further education</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a:t>
            </a:r>
            <a:r>
              <a:rPr b="0" lang="en-AU" sz="2800" spc="-1" strike="noStrike">
                <a:solidFill>
                  <a:srgbClr val="ffff00"/>
                </a:solidFill>
                <a:latin typeface="Arial"/>
                <a:ea typeface="Calibri"/>
              </a:rPr>
              <a:t>clarification of what we mean by leadership, particularly within an educational context</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an outline of a number of models of, or approaches to, leadership</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a description of the key behaviours which are associated with effective leadership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a:t>
            </a:r>
            <a:r>
              <a:rPr b="0" lang="en-AU" sz="2800" spc="-1" strike="noStrike">
                <a:solidFill>
                  <a:srgbClr val="ffff00"/>
                </a:solidFill>
                <a:latin typeface="Arial"/>
                <a:ea typeface="Calibri"/>
              </a:rPr>
              <a:t>leadership roles within organisations</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how leadership impacts on student outcom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
          <p:cNvSpPr/>
          <p:nvPr/>
        </p:nvSpPr>
        <p:spPr>
          <a:xfrm>
            <a:off x="0" y="182520"/>
            <a:ext cx="12069720" cy="4386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Arial"/>
                <a:ea typeface="Calibri"/>
              </a:rPr>
              <a:t>FURTHER READINGS &amp; TEXTBOOKS</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Textbook</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ED 308 Change Management </a:t>
            </a:r>
            <a:r>
              <a:rPr b="1" lang="en-AU" sz="3600" spc="-1" strike="noStrike" u="sng">
                <a:solidFill>
                  <a:srgbClr val="cccc00"/>
                </a:solidFill>
                <a:uFillTx/>
                <a:latin typeface="Calibri"/>
                <a:ea typeface="Calibri"/>
                <a:hlinkClick r:id="rId1"/>
              </a:rPr>
              <a:t>http://www.filefactory.com/file/4cxrjx86buot/n/9_Leadership_Change_Management_zip</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ED 402 Educational Leadership</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u="sng">
                <a:solidFill>
                  <a:srgbClr val="cccc00"/>
                </a:solidFill>
                <a:uFillTx/>
                <a:latin typeface="Calibri"/>
                <a:ea typeface="Calibri"/>
                <a:hlinkClick r:id="rId2"/>
              </a:rPr>
              <a:t>http://www.filefactory.com/file/68h2rewfq7jx/ED%20402%20Educational%20Leadership.zip</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307" name="Rectangle 1"/>
          <p:cNvSpPr/>
          <p:nvPr/>
        </p:nvSpPr>
        <p:spPr>
          <a:xfrm>
            <a:off x="590400" y="477720"/>
            <a:ext cx="11423880" cy="521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0000"/>
                </a:solidFill>
                <a:uFillTx/>
                <a:latin typeface="Arial"/>
                <a:ea typeface="Calibri"/>
              </a:rPr>
              <a:t>Features of leadership</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a:t>
            </a:r>
            <a:r>
              <a:rPr b="1" lang="en-AU" sz="3200" spc="-1" strike="noStrike">
                <a:solidFill>
                  <a:srgbClr val="7030a0"/>
                </a:solidFill>
                <a:latin typeface="Arial"/>
                <a:ea typeface="Calibri"/>
              </a:rPr>
              <a:t>leadership is a process of influencing</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can be exercised by people in organisations who do not possess formal authority</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implies followers</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involves the achievement of goals or objectives</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What does leadership look lik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ae53"/>
        </a:solidFill>
      </p:bgPr>
    </p:bg>
    <p:spTree>
      <p:nvGrpSpPr>
        <p:cNvPr id="1" name=""/>
        <p:cNvGrpSpPr/>
        <p:nvPr/>
      </p:nvGrpSpPr>
      <p:grpSpPr>
        <a:xfrm>
          <a:off x="0" y="0"/>
          <a:ext cx="0" cy="0"/>
          <a:chOff x="0" y="0"/>
          <a:chExt cx="0" cy="0"/>
        </a:xfrm>
      </p:grpSpPr>
      <p:sp>
        <p:nvSpPr>
          <p:cNvPr id="308" name="Rectangle 1"/>
          <p:cNvSpPr/>
          <p:nvPr/>
        </p:nvSpPr>
        <p:spPr>
          <a:xfrm>
            <a:off x="660240" y="365040"/>
            <a:ext cx="11142720" cy="3374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Arial"/>
                <a:ea typeface="Calibri"/>
              </a:rPr>
              <a:t>Instructional leadership</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b050"/>
                </a:solidFill>
                <a:latin typeface="Arial"/>
                <a:ea typeface="Calibri"/>
              </a:rPr>
              <a:t>It focuses on the development of behaviours that directly influence teachers in their relationships with students and, in particular, the planning and delivery of teaching and learning.</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
          <p:cNvSpPr/>
          <p:nvPr/>
        </p:nvSpPr>
        <p:spPr>
          <a:xfrm>
            <a:off x="633240" y="338040"/>
            <a:ext cx="11296800" cy="3023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00"/>
                </a:solidFill>
                <a:latin typeface="Arial"/>
                <a:ea typeface="Calibri"/>
              </a:rPr>
              <a:t>Transformational leadership</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Idealised influence – the ability of the leader to gain the trust, respect and support of those being led. This might otherwise be termed charisma which brings it close to the traits concept of leadership</a:t>
            </a:r>
            <a:r>
              <a:rPr b="0" lang="en-AU" sz="1800" spc="-1" strike="noStrike">
                <a:solidFill>
                  <a:srgbClr val="ffffff"/>
                </a:solidFill>
                <a:latin typeface="Arial"/>
                <a:ea typeface="Calibri"/>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3a28"/>
        </a:solidFill>
      </p:bgPr>
    </p:bg>
    <p:spTree>
      <p:nvGrpSpPr>
        <p:cNvPr id="1" name=""/>
        <p:cNvGrpSpPr/>
        <p:nvPr/>
      </p:nvGrpSpPr>
      <p:grpSpPr>
        <a:xfrm>
          <a:off x="0" y="0"/>
          <a:ext cx="0" cy="0"/>
          <a:chOff x="0" y="0"/>
          <a:chExt cx="0" cy="0"/>
        </a:xfrm>
      </p:grpSpPr>
      <p:sp>
        <p:nvSpPr>
          <p:cNvPr id="310" name="Rectangle 1"/>
          <p:cNvSpPr/>
          <p:nvPr/>
        </p:nvSpPr>
        <p:spPr>
          <a:xfrm>
            <a:off x="1514520" y="611280"/>
            <a:ext cx="10020240" cy="1775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ffff"/>
                </a:solidFill>
                <a:latin typeface="Arial"/>
                <a:ea typeface="Calibri"/>
              </a:rPr>
              <a:t>● </a:t>
            </a:r>
            <a:r>
              <a:rPr b="0" lang="en-AU" sz="3200" spc="-1" strike="noStrike">
                <a:solidFill>
                  <a:srgbClr val="ffffff"/>
                </a:solidFill>
                <a:latin typeface="Arial"/>
                <a:ea typeface="Calibri"/>
              </a:rPr>
              <a:t>Inspirational motivation – the ability to inspire and focus the attention of individuals on the achievement of shared goals, often using imagery and symbols</a:t>
            </a:r>
            <a:r>
              <a:rPr b="0" lang="en-AU" sz="1800" spc="-1" strike="noStrike">
                <a:solidFill>
                  <a:srgbClr val="ffffff"/>
                </a:solidFill>
                <a:latin typeface="Arial"/>
                <a:ea typeface="Calibri"/>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11" name="Rectangle 1"/>
          <p:cNvSpPr/>
          <p:nvPr/>
        </p:nvSpPr>
        <p:spPr>
          <a:xfrm>
            <a:off x="501480" y="423720"/>
            <a:ext cx="11512800" cy="2616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Arial"/>
                <a:ea typeface="Calibri"/>
              </a:rPr>
              <a:t>● </a:t>
            </a:r>
            <a:r>
              <a:rPr b="0" lang="en-AU" sz="3600" spc="-1" strike="noStrike">
                <a:solidFill>
                  <a:srgbClr val="ffffff"/>
                </a:solidFill>
                <a:latin typeface="Arial"/>
                <a:ea typeface="Calibri"/>
              </a:rPr>
              <a:t>Intellectual stimulation – a culture of challenge and questioning where individuals are constantly encouraged to reassess both ways of working and the values of the organisation including those of the leader.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8T10:44:31Z</dcterms:created>
  <dc:creator>ukyawnaing</dc:creator>
  <dc:description/>
  <dc:language>en-US</dc:language>
  <cp:lastModifiedBy>ukyawnaing</cp:lastModifiedBy>
  <dcterms:modified xsi:type="dcterms:W3CDTF">2015-04-18T11:25:31Z</dcterms:modified>
  <cp:revision>32</cp:revision>
  <dc:subject/>
  <dc:title>PowerPoint Presentation</dc:title>
</cp:coreProperties>
</file>