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C74A8-8515-42F5-AEC6-8F9C11B13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F2084-0E8C-4FB8-9F77-BDA0D0D1F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C028F-315E-4B59-A434-D168BB2C5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FCACE-0834-422E-85A0-03573A7FF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242F2-47E1-453D-84CB-B43BD3A22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F62E1-06C0-447C-89DA-97E0F9E3F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94CB4-005A-4C2B-8143-587106CE2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245CE-91E3-46CA-BD54-E8214DA59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4766E-3423-4629-BE91-C0989A6B6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B92BC-7142-435B-B5F8-B9975379C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D59E3-91EF-443F-878C-585E2ADC9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D980F-BD4A-4BDD-A710-2F4F7F7F7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BD4EB-93EF-45CF-B0F8-7EBA3A07E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77603-D853-4A1C-8C65-E9E906C10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04BE3-6163-4D2F-A9D6-3F33747B7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FFD5B-0E05-4C45-A642-2DCB34A7C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A6870-5247-44AA-B45C-FE67CBB89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BF58B7-8E53-45FC-BBDA-F3128B45E0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A2BCC-A451-47D1-AF0E-BDB5475F7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D87B5-85A2-45C1-851D-ED4052BF4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5262C9-91FA-4D22-B866-ABD3E5EB8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23DA0-4252-4E6A-98D7-08991792E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2FC1B-65D7-48BD-88A3-845036414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6A469-AB81-4F3D-8C09-C37DB0F6B9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30D9F-8E35-4303-BCBB-0882E883B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23C84-CE71-4B34-B164-95257CB1D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8B834A-B20A-4977-8B91-4CF8550B0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3C4CD-CB3E-4354-A17C-432944254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A5939A-5CC5-45D1-9054-D64ED1501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B266D6-FB3A-4015-97E3-63D73AF3F8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1CF966-BE3E-4D50-96BE-0D5B703381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803A70-1B3C-4390-9B9A-5F07F3924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BCEBB-5661-407D-A7D3-D5C86E2E3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29188-0158-450E-965F-528D20E3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5C1D1-E777-4D57-B306-13C5FCB75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BA2284-E151-44B6-95CD-C2542A400D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6F76C-7C91-4632-811D-4303C9D8C4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1F36D-51E6-494F-BB80-6DC58B05F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F821C-ED2B-4EF6-85A4-EA659544B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33611-5361-44CF-94FE-2C421B790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4192C6-8C6B-4E5B-B981-41A0088026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055AB1-DDAB-436B-A3D0-36BE64A407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31FAAD-12B7-4871-AAEA-1785C981B8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F0300-F545-4CAA-9394-AB6A1927E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6C937-ACA5-483A-986C-3225EB581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B215-BBD9-4321-A362-025C88C34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5A63-4D6B-4320-AEB5-E5C10760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CC99-B3F3-4E25-9FBD-2E508DECA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FE64-55F5-4AFC-8A7C-88ED4F4E45C3}"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396A-B6C6-46AB-B33F-3D8084D3269C}"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CEB1-FB63-4F4A-AA78-409CB66214AF}"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898989"/>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898989"/>
                </a:solidFill>
                <a:latin typeface="Trebuchet MS"/>
              </a:rPr>
              <a:t>&lt;date/time&gt;</a:t>
            </a:r>
            <a:endParaRPr b="0" lang="en-US" sz="900" spc="-1" strike="noStrike">
              <a:solidFill>
                <a:srgbClr val="000000"/>
              </a:solidFill>
              <a:latin typeface="Trebuchet MS"/>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900" spc="-1" strike="noStrike">
                <a:solidFill>
                  <a:srgbClr val="90c226"/>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ACB0-576B-48BC-B26C-C66BC87614A2}" type="slidenum">
              <a:rPr b="0" lang="en-A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EngineeringJobCompetencie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3"/>
          <p:cNvSpPr/>
          <p:nvPr/>
        </p:nvSpPr>
        <p:spPr>
          <a:xfrm>
            <a:off x="1339920" y="287280"/>
            <a:ext cx="5119560" cy="1342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alibri"/>
                <a:ea typeface="Calibri"/>
              </a:rPr>
              <a:t>Day 1 Session 2/3</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Calibri"/>
                <a:ea typeface="Calibri"/>
              </a:rPr>
              <a:t>9.2.2 Programme Objectives</a:t>
            </a:r>
            <a:endParaRPr b="0" lang="en-US" sz="3200" spc="-1" strike="noStrike">
              <a:solidFill>
                <a:srgbClr val="000000"/>
              </a:solidFill>
              <a:latin typeface="Trebuchet MS"/>
            </a:endParaRPr>
          </a:p>
        </p:txBody>
      </p:sp>
      <p:sp>
        <p:nvSpPr>
          <p:cNvPr id="213" name="Rectangle 4"/>
          <p:cNvSpPr/>
          <p:nvPr/>
        </p:nvSpPr>
        <p:spPr>
          <a:xfrm>
            <a:off x="1339920" y="1224000"/>
            <a:ext cx="6257880" cy="1137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Calibri"/>
                <a:ea typeface="Calibri"/>
              </a:rPr>
              <a:t>ED 106 Interpreting Curriculums</a:t>
            </a:r>
            <a:endParaRPr b="0" lang="en-US" sz="2800" spc="-1" strike="noStrike">
              <a:solidFill>
                <a:srgbClr val="000000"/>
              </a:solidFill>
              <a:latin typeface="Trebuchet MS"/>
            </a:endParaRPr>
          </a:p>
        </p:txBody>
      </p:sp>
      <p:sp>
        <p:nvSpPr>
          <p:cNvPr id="214" name="Rectangle 5"/>
          <p:cNvSpPr/>
          <p:nvPr/>
        </p:nvSpPr>
        <p:spPr>
          <a:xfrm>
            <a:off x="1038240" y="2616120"/>
            <a:ext cx="78087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b050"/>
                </a:solidFill>
                <a:latin typeface="Trebuchet MS"/>
              </a:rPr>
              <a:t>CURRICULUM IS A COMPREHENSIVE PLAN FOR ANEDUCATIONAL/ TRAINING PROGRAMME/COURSE TO OFFER NEW/IMPROVED MANPOWER TO FULFIL THE RISING NEEDS OF A DYNAMIC SOCIETY</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554040" y="450720"/>
            <a:ext cx="8589960" cy="568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Sub-objective</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Generic form 2)</a:t>
            </a:r>
            <a:endParaRPr b="0" lang="en-US" sz="3200" spc="-1" strike="noStrike">
              <a:solidFill>
                <a:srgbClr val="000000"/>
              </a:solidFill>
              <a:latin typeface="Trebuchet MS"/>
            </a:endParaRPr>
          </a:p>
          <a:p>
            <a:pPr>
              <a:lnSpc>
                <a:spcPct val="115000"/>
              </a:lnSpc>
              <a:spcAft>
                <a:spcPts val="1001"/>
              </a:spcAft>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15000"/>
              </a:lnSpc>
              <a:spcAft>
                <a:spcPts val="1001"/>
              </a:spcAft>
              <a:buClr>
                <a:srgbClr val="7030a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ea typeface="Calibri"/>
              </a:rPr>
              <a:t>To do interpreting technological possibilities to society, business and government; and for ensuring as far as possible that policy decisions are properly informed by such possibilities and consequences, and that costs, risks and limitations are properly understood as the desirable outcomes.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614520" y="246240"/>
            <a:ext cx="7138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Sub-objectiv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Specific form 2)</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Trebuchet MS"/>
                <a:ea typeface="Calibri"/>
              </a:rPr>
              <a:t>To do interpreting technological possibilities to </a:t>
            </a:r>
            <a:r>
              <a:rPr b="0" lang="en-AU" sz="2800" spc="-1" strike="noStrike">
                <a:solidFill>
                  <a:srgbClr val="ff0000"/>
                </a:solidFill>
                <a:latin typeface="Trebuchet MS"/>
                <a:ea typeface="Calibri"/>
              </a:rPr>
              <a:t>design and construction process/</a:t>
            </a:r>
            <a:r>
              <a:rPr b="0" lang="en-AU" sz="2800" spc="-1" strike="noStrike">
                <a:solidFill>
                  <a:srgbClr val="7030a0"/>
                </a:solidFill>
                <a:latin typeface="Trebuchet MS"/>
                <a:ea typeface="Calibri"/>
              </a:rPr>
              <a:t> </a:t>
            </a:r>
            <a:r>
              <a:rPr b="0" lang="en-AU" sz="2800" spc="-1" strike="noStrike">
                <a:solidFill>
                  <a:srgbClr val="00b050"/>
                </a:solidFill>
                <a:latin typeface="Trebuchet MS"/>
                <a:ea typeface="Calibri"/>
              </a:rPr>
              <a:t>installation /energy production </a:t>
            </a:r>
            <a:r>
              <a:rPr b="0" lang="en-AU" sz="2800" spc="-1" strike="noStrike">
                <a:solidFill>
                  <a:srgbClr val="7030a0"/>
                </a:solidFill>
                <a:latin typeface="Trebuchet MS"/>
                <a:ea typeface="Calibri"/>
              </a:rPr>
              <a:t>for ensuring as far as possible that overall design and implementation policy decisions are properly informed by such possibilities and consequences, and that costs, risks and limitations are properly understood as the desirable outcomes.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798480" y="554040"/>
            <a:ext cx="8744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Calibri"/>
              </a:rPr>
              <a:t>Sub-objective-3</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Calibri"/>
                <a:ea typeface="Calibri"/>
              </a:rPr>
              <a:t>To  bring knowledge to bear from multiple sources to develop solutions to complex problems and issues, for ensuring that technical and non-technical considerations are properly integrated, and for managing risk as well as sustainability issues.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703440" y="681120"/>
            <a:ext cx="84531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Calibri"/>
              </a:rPr>
              <a:t>Sub-objective 4</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Calibri"/>
                <a:ea typeface="Calibri"/>
              </a:rPr>
              <a:t>To train the students to become predominantly intellectual in nature. advancement of technologies ,development of new technologies and their applications through innovation, creativity and change.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369720" y="316080"/>
            <a:ext cx="8388360" cy="41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spcAft>
                <a:spcPts val="1001"/>
              </a:spcAft>
              <a:buClr>
                <a:srgbClr val="ff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Calibri"/>
              </a:rPr>
              <a:t>Sub-objective-5</a:t>
            </a:r>
            <a:endParaRPr b="0" lang="en-US" sz="3600" spc="-1" strike="noStrike">
              <a:solidFill>
                <a:srgbClr val="000000"/>
              </a:solidFill>
              <a:latin typeface="Trebuchet MS"/>
            </a:endParaRPr>
          </a:p>
          <a:p>
            <a:pPr marL="343080" indent="-343080">
              <a:lnSpc>
                <a:spcPct val="115000"/>
              </a:lnSpc>
              <a:spcAft>
                <a:spcPts val="1001"/>
              </a:spcAft>
              <a:buClr>
                <a:srgbClr val="7030a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43080" indent="-343080">
              <a:lnSpc>
                <a:spcPct val="115000"/>
              </a:lnSpc>
              <a:spcAft>
                <a:spcPts val="1001"/>
              </a:spcAft>
              <a:buClr>
                <a:srgbClr val="7030a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7030a0"/>
                </a:solidFill>
                <a:latin typeface="Calibri"/>
                <a:ea typeface="Calibri"/>
              </a:rPr>
              <a:t>To contribute to continual improvement in the practice of engineering, and in devising and updating the codes and standards that govern it.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511200" y="436680"/>
            <a:ext cx="81313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Sub-objective 6</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alibri"/>
                <a:ea typeface="Calibri"/>
              </a:rPr>
              <a:t>To take a particular responsibility for ensuring that all aspects of a project are soundly based in theory and fundamental principle, and for understanding clearly how new developments relate to established practice and experience and to other disciplines with which they may interact</a:t>
            </a:r>
            <a:r>
              <a:rPr b="0" lang="en-AU" sz="1800" spc="-1" strike="noStrike">
                <a:solidFill>
                  <a:srgbClr val="000000"/>
                </a:solidFill>
                <a:latin typeface="Calibri"/>
                <a:ea typeface="Calibri"/>
              </a:rPr>
              <a:t>.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682560" y="385920"/>
            <a:ext cx="84488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2060"/>
                </a:solidFill>
                <a:latin typeface="Trebuchet MS"/>
              </a:rPr>
              <a:t>Grouping the specific objectives into subjects:</a:t>
            </a:r>
            <a:endParaRPr b="0" lang="en-US" sz="3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rebuchet MS"/>
              </a:rPr>
              <a:t>Learning Outcomes of individual subject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458640" y="0"/>
            <a:ext cx="8556840" cy="5188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Calibri"/>
                <a:ea typeface="Calibri"/>
              </a:rPr>
              <a:t>1. KNOWLEDGE AND SKILL BASE </a:t>
            </a:r>
            <a:endParaRPr b="0" lang="en-US" sz="24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ea typeface="Calibri"/>
              </a:rPr>
              <a:t>1.1. Comprehensive, theory based understanding of the underpinning natural and  physical sciences and the engineering fundamentals applicable to the engineering  discipline</a:t>
            </a:r>
            <a:r>
              <a:rPr b="0" lang="en-AU" sz="2400" spc="-1" strike="noStrike">
                <a:solidFill>
                  <a:srgbClr val="000000"/>
                </a:solidFill>
                <a:latin typeface="Calibri"/>
                <a:ea typeface="Calibri"/>
              </a:rPr>
              <a:t>. </a:t>
            </a:r>
            <a:endParaRPr b="0" lang="en-US" sz="24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ea typeface="Calibri"/>
              </a:rPr>
              <a:t>Learning outcomes of</a:t>
            </a:r>
            <a:endParaRPr b="0" lang="en-US" sz="24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ea typeface="Calibri"/>
              </a:rPr>
              <a:t>Engineering Fundamental</a:t>
            </a:r>
            <a:endParaRPr b="0" lang="en-US" sz="24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ea typeface="Calibri"/>
              </a:rPr>
              <a:t>Physics</a:t>
            </a:r>
            <a:endParaRPr b="0" lang="en-US" sz="24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ea typeface="Calibri"/>
              </a:rPr>
              <a:t>Science</a:t>
            </a:r>
            <a:endParaRPr b="0" lang="en-US" sz="24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ea typeface="Calibri"/>
              </a:rPr>
              <a:t>Theoretical subjec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214200" y="569880"/>
            <a:ext cx="8852040" cy="6249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ea typeface="Calibri"/>
              </a:rPr>
              <a:t>1.2. Conceptual understanding of the mathematics, numerical analysis, statistics, and  computer and information sciences which underpin the engineering discipline. </a:t>
            </a:r>
            <a:endParaRPr b="0" lang="en-US" sz="28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Calibri"/>
              </a:rPr>
              <a:t>Learning outcomes of</a:t>
            </a:r>
            <a:endParaRPr b="0" lang="en-US" sz="28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Calibri"/>
              </a:rPr>
              <a:t>Mathematics</a:t>
            </a:r>
            <a:endParaRPr b="0" lang="en-US" sz="28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Calibri"/>
              </a:rPr>
              <a:t>Computer</a:t>
            </a:r>
            <a:endParaRPr b="0" lang="en-US" sz="28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Calibri"/>
              </a:rPr>
              <a:t>Information Science</a:t>
            </a:r>
            <a:endParaRPr b="0" lang="en-US" sz="28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Calibri"/>
              </a:rPr>
              <a:t>That provide basic &amp; underpinning engineering knowledge</a:t>
            </a:r>
            <a:endParaRPr b="0" lang="en-US" sz="28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
          <p:cNvSpPr/>
          <p:nvPr/>
        </p:nvSpPr>
        <p:spPr>
          <a:xfrm>
            <a:off x="549360" y="896760"/>
            <a:ext cx="889164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1.3. In-depth understanding of specialist bodies of knowledge within the engineering  discipline.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Calibri"/>
              </a:rPr>
              <a:t>Learning outcomes of</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432a"/>
                </a:solidFill>
                <a:latin typeface="Calibri"/>
                <a:ea typeface="Calibri"/>
              </a:rPr>
              <a:t>Higher Level Engineering subjects with their specific discipline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849240" y="695160"/>
            <a:ext cx="889956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Trebuchet MS"/>
              </a:rPr>
              <a:t>DEFINITIONS OF CURRICULUM</a:t>
            </a:r>
            <a:endParaRPr b="0" lang="en-US" sz="4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Trebuchet MS"/>
              </a:rPr>
              <a:t>• </a:t>
            </a:r>
            <a:r>
              <a:rPr b="1" lang="en-AU" sz="3600" spc="-1" strike="noStrike">
                <a:solidFill>
                  <a:srgbClr val="ff0000"/>
                </a:solidFill>
                <a:latin typeface="Trebuchet MS"/>
              </a:rPr>
              <a:t>That which is taught in college.</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Trebuchet MS"/>
              </a:rPr>
              <a:t>• </a:t>
            </a:r>
            <a:r>
              <a:rPr b="1" lang="en-AU" sz="3600" spc="-1" strike="noStrike">
                <a:solidFill>
                  <a:srgbClr val="ff0000"/>
                </a:solidFill>
                <a:latin typeface="Trebuchet MS"/>
              </a:rPr>
              <a:t>A set of subjects.</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Trebuchet MS"/>
              </a:rPr>
              <a:t>• </a:t>
            </a:r>
            <a:r>
              <a:rPr b="1" lang="en-AU" sz="3600" spc="-1" strike="noStrike">
                <a:solidFill>
                  <a:srgbClr val="ff0000"/>
                </a:solidFill>
                <a:latin typeface="Trebuchet MS"/>
              </a:rPr>
              <a:t>Content</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Trebuchet MS"/>
              </a:rPr>
              <a:t>• </a:t>
            </a:r>
            <a:r>
              <a:rPr b="1" lang="en-AU" sz="3600" spc="-1" strike="noStrike">
                <a:solidFill>
                  <a:srgbClr val="ff0000"/>
                </a:solidFill>
                <a:latin typeface="Trebuchet MS"/>
              </a:rPr>
              <a:t>A program of studies.</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Trebuchet MS"/>
              </a:rPr>
              <a:t>• </a:t>
            </a:r>
            <a:r>
              <a:rPr b="1" lang="en-AU" sz="3600" spc="-1" strike="noStrike">
                <a:solidFill>
                  <a:srgbClr val="ff0000"/>
                </a:solidFill>
                <a:latin typeface="Trebuchet MS"/>
              </a:rPr>
              <a:t>A set of materials</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Trebuchet MS"/>
              </a:rPr>
              <a:t>• </a:t>
            </a:r>
            <a:r>
              <a:rPr b="1" lang="en-AU" sz="3600" spc="-1" strike="noStrike">
                <a:solidFill>
                  <a:srgbClr val="ff0000"/>
                </a:solidFill>
                <a:latin typeface="Trebuchet MS"/>
              </a:rPr>
              <a:t>A sequence of courses.</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Trebuchet MS"/>
              </a:rPr>
              <a:t>• </a:t>
            </a:r>
            <a:r>
              <a:rPr b="1" lang="en-AU" sz="3600" spc="-1" strike="noStrike">
                <a:solidFill>
                  <a:srgbClr val="ff0000"/>
                </a:solidFill>
                <a:latin typeface="Trebuchet MS"/>
              </a:rPr>
              <a:t>A course of study</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Trebuchet MS"/>
              </a:rPr>
              <a:t>• </a:t>
            </a:r>
            <a:r>
              <a:rPr b="1" lang="en-AU" sz="3600" spc="-1" strike="noStrike">
                <a:solidFill>
                  <a:srgbClr val="ff0000"/>
                </a:solidFill>
                <a:latin typeface="Trebuchet MS"/>
              </a:rPr>
              <a:t>A set of performance objective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95280" y="239760"/>
            <a:ext cx="8826480" cy="4161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1.4. Discernment of knowledge development and research directions within the engineering discipline. </a:t>
            </a:r>
            <a:endParaRPr b="0" lang="en-US" sz="28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Calibri"/>
              </a:rPr>
              <a:t>Learning outcomes of</a:t>
            </a:r>
            <a:endParaRPr b="0" lang="en-US" sz="28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Calibri"/>
              </a:rPr>
              <a:t>The subjects that develop knowledge &amp; research skills</a:t>
            </a:r>
            <a:endParaRPr b="0" lang="en-US" sz="28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ea typeface="Calibri"/>
              </a:rPr>
              <a:t>For example</a:t>
            </a:r>
            <a:endParaRPr b="0" lang="en-US" sz="2800" spc="-1" strike="noStrike">
              <a:solidFill>
                <a:srgbClr val="000000"/>
              </a:solidFill>
              <a:latin typeface="Trebuchet MS"/>
            </a:endParaRPr>
          </a:p>
          <a:p>
            <a:pPr>
              <a:lnSpc>
                <a:spcPct val="115000"/>
              </a:lnSpc>
              <a:spcAft>
                <a:spcPts val="10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ea typeface="Calibri"/>
              </a:rPr>
              <a:t>Project subjects</a:t>
            </a:r>
            <a:endParaRPr b="0" lang="en-US" sz="2800" spc="-1" strike="noStrike">
              <a:solidFill>
                <a:srgbClr val="000000"/>
              </a:solidFill>
              <a:latin typeface="Trebuchet MS"/>
            </a:endParaRPr>
          </a:p>
          <a:p>
            <a:pPr>
              <a:lnSpc>
                <a:spcPct val="115000"/>
              </a:lnSpc>
              <a:spcAft>
                <a:spcPts val="10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ea typeface="Calibri"/>
              </a:rPr>
              <a:t>Programming subject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601560" y="324000"/>
            <a:ext cx="7925040" cy="4271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1.5. Knowledge of engineering design practice and contextual factors impacting the  engineering discipline</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Trebuchet MS"/>
                <a:ea typeface="Calibri"/>
              </a:rPr>
              <a:t>2.3. Application of systematic engineering synthesis and design processes.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5" name="Rectangle 2"/>
          <p:cNvSpPr/>
          <p:nvPr/>
        </p:nvSpPr>
        <p:spPr>
          <a:xfrm>
            <a:off x="601560" y="2373480"/>
            <a:ext cx="5554800" cy="3345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Calibri"/>
              </a:rPr>
              <a:t>Learning outcomes of Engineering design subject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a:off x="471600" y="264960"/>
            <a:ext cx="7823160" cy="4153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1.6. Understanding of the scope, principles, norms, accountabilities and bounds of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sustainable engineering practice in the specific discipline.</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Calibri"/>
              </a:rPr>
              <a:t>Learning outcomes of Sustainability &amp; Renewable subject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239760" y="358920"/>
            <a:ext cx="8556480" cy="6368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2. ENGINEERING APPLICATION ABILITY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2.1. Application of established engineering methods to complex engineering problem solving. </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ea typeface="Times New Roman"/>
              </a:rPr>
              <a:t>Example</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Learning Outcome of</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ea typeface="Times New Roman"/>
              </a:rPr>
              <a:t>Power System Analysis---Electrical</a:t>
            </a:r>
            <a:endParaRPr b="0" lang="en-US" sz="3200" spc="-1" strike="noStrike">
              <a:solidFill>
                <a:srgbClr val="000000"/>
              </a:solidFill>
              <a:latin typeface="Trebuchet MS"/>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ea typeface="Times New Roman"/>
              </a:rPr>
              <a:t>Foundation Engineering—Civil</a:t>
            </a:r>
            <a:endParaRPr b="0" lang="en-US" sz="3200" spc="-1" strike="noStrike">
              <a:solidFill>
                <a:srgbClr val="000000"/>
              </a:solidFill>
              <a:latin typeface="Trebuchet MS"/>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ea typeface="Times New Roman"/>
              </a:rPr>
              <a:t>Dynamics of machineries—Mechanical</a:t>
            </a:r>
            <a:endParaRPr b="0" lang="en-US" sz="3200" spc="-1" strike="noStrike">
              <a:solidFill>
                <a:srgbClr val="000000"/>
              </a:solidFill>
              <a:latin typeface="Trebuchet MS"/>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ea typeface="Times New Roman"/>
              </a:rPr>
              <a:t>Program analysis &amp; design--  ICT</a:t>
            </a:r>
            <a:endParaRPr b="0" lang="en-US" sz="3200" spc="-1" strike="noStrike">
              <a:solidFill>
                <a:srgbClr val="000000"/>
              </a:solidFill>
              <a:latin typeface="Trebuchet MS"/>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ea typeface="Times New Roman"/>
              </a:rPr>
              <a:t>Radiowave Propagation--Telecommunication</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884160" y="426960"/>
            <a:ext cx="773136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2.2. Fluent application of engineering techniques, tools and resources. </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Learning outcomes of</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ea typeface="Times New Roman"/>
              </a:rPr>
              <a:t>Workshop/ Practical /Laboratory</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ea typeface="Times New Roman"/>
              </a:rPr>
              <a:t>For example</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432a"/>
                </a:solidFill>
                <a:latin typeface="Calibri"/>
                <a:ea typeface="Times New Roman"/>
              </a:rPr>
              <a:t>There should be specific learning outcome for electrical circuit laboratory as well as learning outcome for Electrical circuit theory subjec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433440" y="504720"/>
            <a:ext cx="8156520" cy="4132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Calibri"/>
                <a:ea typeface="Calibri"/>
              </a:rPr>
              <a:t>2.4. Application of systematic approaches to the conduct and management of engineering projects</a:t>
            </a:r>
            <a:endParaRPr b="0" lang="en-US" sz="36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Calibri"/>
                <a:ea typeface="Calibri"/>
              </a:rPr>
              <a:t>Example</a:t>
            </a:r>
            <a:endParaRPr b="0" lang="en-US" sz="36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Calibri"/>
              </a:rPr>
              <a:t>Learning outcome of management / engineering management subject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476280" y="128520"/>
            <a:ext cx="8874000" cy="64616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ea typeface="Calibri"/>
              </a:rPr>
              <a:t> </a:t>
            </a:r>
            <a:r>
              <a:rPr b="1" lang="en-AU" sz="3200" spc="-1" strike="noStrike">
                <a:solidFill>
                  <a:srgbClr val="7030a0"/>
                </a:solidFill>
                <a:latin typeface="Calibri"/>
                <a:ea typeface="Calibri"/>
              </a:rPr>
              <a:t>3. PROFESSIONAL AND PERSONAL ATTRIBUTES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alibri"/>
                <a:ea typeface="Calibri"/>
              </a:rPr>
              <a:t>3.1. Ethical conduct and professional accountability.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ea typeface="Calibri"/>
              </a:rPr>
              <a:t>3.2. Effective oral and written communication in professional and lay domains</a:t>
            </a:r>
            <a:r>
              <a:rPr b="0" lang="en-AU" sz="3200" spc="-1" strike="noStrike">
                <a:solidFill>
                  <a:srgbClr val="ff0000"/>
                </a:solidFill>
                <a:latin typeface="Calibri"/>
                <a:ea typeface="Calibri"/>
              </a:rPr>
              <a:t>.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ea typeface="Calibri"/>
              </a:rPr>
              <a:t>3.3. Creative, innovative and pro-active demeanour</a:t>
            </a:r>
            <a:r>
              <a:rPr b="0" lang="en-AU" sz="3200" spc="-1" strike="noStrike">
                <a:solidFill>
                  <a:srgbClr val="ff0000"/>
                </a:solidFill>
                <a:latin typeface="Calibri"/>
                <a:ea typeface="Calibri"/>
              </a:rPr>
              <a:t>.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ea typeface="Calibri"/>
              </a:rPr>
              <a:t>3.4. Professional use and management of information.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ea typeface="Calibri"/>
              </a:rPr>
              <a:t>3.5. Orderly management of self, and professional conduct.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d6440"/>
                </a:solidFill>
                <a:latin typeface="Calibri"/>
                <a:ea typeface="Calibri"/>
              </a:rPr>
              <a:t>3.6. Effective team membership and team leadership</a:t>
            </a:r>
            <a:r>
              <a:rPr b="1" lang="en-AU" sz="3200" spc="-1" strike="noStrike">
                <a:solidFill>
                  <a:srgbClr val="6d6440"/>
                </a:solidFill>
                <a:latin typeface="Calibri"/>
                <a:ea typeface="Calibri"/>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807480" y="622440"/>
            <a:ext cx="8759160" cy="20296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alibri"/>
                <a:ea typeface="Calibri"/>
              </a:rPr>
              <a:t>3.1. Ethical conduct and professional accountability.</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Engineer Code of Ethics of Myanmar Engineering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Society &amp; Myanmar Engineering Council </a:t>
            </a:r>
            <a:endParaRPr b="0" lang="en-US" sz="3200" spc="-1" strike="noStrike">
              <a:solidFill>
                <a:srgbClr val="000000"/>
              </a:solidFill>
              <a:latin typeface="Trebuchet MS"/>
            </a:endParaRPr>
          </a:p>
        </p:txBody>
      </p:sp>
      <p:sp>
        <p:nvSpPr>
          <p:cNvPr id="242" name="Rectangle 2"/>
          <p:cNvSpPr/>
          <p:nvPr/>
        </p:nvSpPr>
        <p:spPr>
          <a:xfrm>
            <a:off x="922320" y="2960640"/>
            <a:ext cx="8664480" cy="1902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b050"/>
                </a:solidFill>
                <a:latin typeface="Calibri"/>
                <a:ea typeface="Calibri"/>
              </a:rPr>
              <a:t>3.2. Effective oral and written communication in professional and lay domains</a:t>
            </a:r>
            <a:r>
              <a:rPr b="1" lang="en-AU" sz="3200" spc="-1" strike="noStrike">
                <a:solidFill>
                  <a:srgbClr val="ff0000"/>
                </a:solidFill>
                <a:latin typeface="Calibri"/>
                <a:ea typeface="Calibri"/>
              </a:rPr>
              <a:t>.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inal year thesis/ oral interview/ presentation</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682560" y="428760"/>
            <a:ext cx="8615520" cy="4259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Calibri"/>
                <a:ea typeface="Calibri"/>
              </a:rPr>
              <a:t>3.3. Creative, innovative and pro-active demeanour</a:t>
            </a:r>
            <a:r>
              <a:rPr b="0" lang="en-AU" sz="3600" spc="-1" strike="noStrike">
                <a:solidFill>
                  <a:srgbClr val="000000"/>
                </a:solidFill>
                <a:latin typeface="Calibri"/>
                <a:ea typeface="Calibri"/>
              </a:rPr>
              <a:t>.</a:t>
            </a:r>
            <a:endParaRPr b="0" lang="en-US" sz="36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Calibri"/>
                <a:ea typeface="Calibri"/>
              </a:rPr>
              <a:t>Design assessment</a:t>
            </a:r>
            <a:endParaRPr b="0" lang="en-US" sz="36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70c0"/>
                </a:solidFill>
                <a:latin typeface="Calibri"/>
                <a:ea typeface="Calibri"/>
              </a:rPr>
              <a:t>The student should create/ innovate something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744480" y="488880"/>
            <a:ext cx="6648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3.4. Professional use and management of informatio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ea typeface="Calibri"/>
              </a:rPr>
              <a:t>Project/ design work should include the research work on informatio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ea typeface="Calibri"/>
              </a:rPr>
              <a:t>Literacy review</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ea typeface="Calibri"/>
              </a:rPr>
              <a:t>Reference/ resources collection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ea typeface="Calibri"/>
              </a:rPr>
              <a:t>How those information are assessed, analyzed &amp; utilized in design/ project/ thesi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Calibri"/>
              </a:rPr>
              <a:t>The relevant learning outcomes should be set for design/ project/ thesis subject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682560" y="476280"/>
            <a:ext cx="8874360" cy="612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Trebuchet MS"/>
              </a:rPr>
              <a:t>Competency Curriculum</a:t>
            </a:r>
            <a:endParaRPr b="0" lang="en-US" sz="4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Trebuchet MS"/>
              </a:rPr>
              <a:t>• </a:t>
            </a:r>
            <a:r>
              <a:rPr b="1" lang="en-AU" sz="3600" spc="-1" strike="noStrike">
                <a:solidFill>
                  <a:srgbClr val="7030a0"/>
                </a:solidFill>
                <a:latin typeface="Trebuchet MS"/>
              </a:rPr>
              <a:t>Consists of competencies.</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Trebuchet MS"/>
              </a:rPr>
              <a:t>• </a:t>
            </a:r>
            <a:r>
              <a:rPr b="1" lang="en-AU" sz="3600" spc="-1" strike="noStrike">
                <a:solidFill>
                  <a:srgbClr val="7030a0"/>
                </a:solidFill>
                <a:latin typeface="Trebuchet MS"/>
              </a:rPr>
              <a:t>Assessment and certification of</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Trebuchet MS"/>
              </a:rPr>
              <a:t>achievement of the competencies is</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Trebuchet MS"/>
              </a:rPr>
              <a:t>sequentially integrated into each year of the curriculum culminating with a</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Trebuchet MS"/>
              </a:rPr>
              <a:t>competency transcript upon graduation</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786960" y="673200"/>
            <a:ext cx="8737920" cy="47800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3.5. Orderly management of self, and professional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        </a:t>
            </a:r>
            <a:r>
              <a:rPr b="1" lang="en-AU" sz="3200" spc="-1" strike="noStrike">
                <a:solidFill>
                  <a:srgbClr val="7030a0"/>
                </a:solidFill>
                <a:latin typeface="Calibri"/>
                <a:ea typeface="Calibri"/>
              </a:rPr>
              <a:t>conduct</a:t>
            </a:r>
            <a:r>
              <a:rPr b="0" lang="en-AU" sz="3200" spc="-1" strike="noStrike">
                <a:solidFill>
                  <a:srgbClr val="000000"/>
                </a:solidFill>
                <a:latin typeface="Calibri"/>
                <a:ea typeface="Calibri"/>
              </a:rPr>
              <a:t>.</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ea typeface="Calibri"/>
              </a:rPr>
              <a:t>No plagiarism </a:t>
            </a:r>
            <a:endParaRPr b="0" lang="en-US" sz="32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ea typeface="Calibri"/>
              </a:rPr>
              <a:t>No breach of copy right</a:t>
            </a:r>
            <a:endParaRPr b="0" lang="en-US" sz="32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060"/>
                </a:solidFill>
                <a:latin typeface="Calibri"/>
                <a:ea typeface="Calibri"/>
              </a:rPr>
              <a:t>Academic honesty &amp; integrity </a:t>
            </a:r>
            <a:endParaRPr b="0" lang="en-US" sz="3200" spc="-1" strike="noStrike">
              <a:solidFill>
                <a:srgbClr val="000000"/>
              </a:solidFill>
              <a:latin typeface="Trebuchet MS"/>
            </a:endParaRPr>
          </a:p>
          <a:p>
            <a:pPr>
              <a:lnSpc>
                <a:spcPct val="115000"/>
              </a:lnSpc>
              <a:spcAft>
                <a:spcPts val="10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ea typeface="Calibri"/>
              </a:rPr>
              <a:t>Follow the discipline of the institution</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347760" y="493560"/>
            <a:ext cx="9213480" cy="20296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ea typeface="Calibri"/>
              </a:rPr>
              <a:t>3.6. Effective team membership and team leadership.</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Calibri"/>
              </a:rPr>
              <a:t>Team work &amp; Group Projects are to be encouraged</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227520" y="798480"/>
            <a:ext cx="1102248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To align with international engineering standard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rebuchet MS"/>
              </a:rPr>
              <a:t>The leaning outcomes that cover the above aspects </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rebuchet MS"/>
              </a:rPr>
              <a:t>should be included in the subject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rebuchet MS"/>
              </a:rPr>
              <a:t>To assess &amp; review the curriculums, the above aspects </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rebuchet MS"/>
              </a:rPr>
              <a:t>should be used as standards so that the engineering courses </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rebuchet MS"/>
              </a:rPr>
              <a:t>can be aligned with international engineering education </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rebuchet MS"/>
              </a:rPr>
              <a:t>standard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rebuchet MS"/>
              </a:rPr>
              <a:t>In writing the learning outcomes for your courses in </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rebuchet MS"/>
              </a:rPr>
              <a:t>Workshop sessions, we will ensure to include those</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rebuchet MS"/>
              </a:rPr>
              <a:t>Aspects in your curriculum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627120" y="949320"/>
            <a:ext cx="10358280" cy="4788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030a0"/>
                </a:solidFill>
                <a:uFillTx/>
                <a:latin typeface="Calibri"/>
                <a:ea typeface="Calibri"/>
              </a:rPr>
              <a:t>FURTHER REFERENCES</a:t>
            </a:r>
            <a:endParaRPr b="0" lang="en-US" sz="3600" spc="-1" strike="noStrike">
              <a:solidFill>
                <a:srgbClr val="000000"/>
              </a:solidFill>
              <a:latin typeface="Trebuchet MS"/>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2060"/>
                </a:solidFill>
                <a:latin typeface="Calibri"/>
                <a:ea typeface="Calibri"/>
              </a:rPr>
              <a:t>Engineers Australia References</a:t>
            </a:r>
            <a:endParaRPr b="0" lang="en-US" sz="3200" spc="-1" strike="noStrike">
              <a:solidFill>
                <a:srgbClr val="000000"/>
              </a:solidFill>
              <a:latin typeface="Trebuchet MS"/>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ea typeface="Calibri"/>
              </a:rPr>
              <a:t>www.highlightcomputer.com/engineersaustraliareferences.htm</a:t>
            </a:r>
            <a:endParaRPr b="0" lang="en-US" sz="2800" spc="-1" strike="noStrike">
              <a:solidFill>
                <a:srgbClr val="000000"/>
              </a:solidFill>
              <a:latin typeface="Trebuchet MS"/>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Calibri"/>
              </a:rPr>
              <a:t>Stage 1 Competencies of Professional Engineer, Engineering Technologists &amp; Engineering Associates (Technician)</a:t>
            </a:r>
            <a:endParaRPr b="0" lang="en-US" sz="2800" spc="-1" strike="noStrike">
              <a:solidFill>
                <a:srgbClr val="000000"/>
              </a:solidFill>
              <a:latin typeface="Trebuchet MS"/>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 </a:t>
            </a:r>
            <a:endParaRPr b="0" lang="en-US" sz="1800" spc="-1" strike="noStrike">
              <a:solidFill>
                <a:srgbClr val="000000"/>
              </a:solidFill>
              <a:latin typeface="Trebuchet MS"/>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2060"/>
                </a:solidFill>
                <a:latin typeface="Calibri"/>
                <a:ea typeface="Calibri"/>
              </a:rPr>
              <a:t>Engineering job competencies</a:t>
            </a:r>
            <a:endParaRPr b="0" lang="en-US" sz="3200" spc="-1" strike="noStrike">
              <a:solidFill>
                <a:srgbClr val="000000"/>
              </a:solidFill>
              <a:latin typeface="Trebuchet MS"/>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alibri"/>
                <a:ea typeface="Calibri"/>
              </a:rPr>
              <a:t>http://www.highlightcomputer.com/EngineeringJobCompetencies.pdf</a:t>
            </a:r>
            <a:endParaRPr b="0" lang="en-US" sz="2400" spc="-1" strike="noStrike">
              <a:solidFill>
                <a:srgbClr val="000000"/>
              </a:solidFill>
              <a:latin typeface="Trebuchet MS"/>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Calibri"/>
                <a:ea typeface="Calibri"/>
              </a:rPr>
              <a:t>Click </a:t>
            </a:r>
            <a:r>
              <a:rPr b="0" lang="en-AU" sz="2400" spc="-1" strike="noStrike" u="sng">
                <a:solidFill>
                  <a:srgbClr val="99ca3c"/>
                </a:solidFill>
                <a:uFillTx/>
                <a:latin typeface="Calibri"/>
                <a:ea typeface="Calibri"/>
                <a:hlinkClick r:id="rId1"/>
              </a:rPr>
              <a:t>HE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992160" y="669960"/>
            <a:ext cx="87184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Trebuchet MS"/>
              </a:rPr>
              <a:t>STAGES OF THE PROCESS</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rebuchet MS"/>
              </a:rPr>
              <a:t>• </a:t>
            </a:r>
            <a:r>
              <a:rPr b="0" lang="en-AU" sz="3600" spc="-1" strike="noStrike">
                <a:solidFill>
                  <a:srgbClr val="ff0000"/>
                </a:solidFill>
                <a:latin typeface="Trebuchet MS"/>
              </a:rPr>
              <a:t>PLANNING</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Trebuchet MS"/>
              </a:rPr>
              <a:t>• </a:t>
            </a:r>
            <a:r>
              <a:rPr b="0" lang="en-AU" sz="3600" spc="-1" strike="noStrike">
                <a:solidFill>
                  <a:srgbClr val="ff0000"/>
                </a:solidFill>
                <a:latin typeface="Trebuchet MS"/>
              </a:rPr>
              <a:t>PREPARING</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Trebuchet MS"/>
              </a:rPr>
              <a:t>• </a:t>
            </a:r>
            <a:r>
              <a:rPr b="0" lang="en-AU" sz="3600" spc="-1" strike="noStrike">
                <a:solidFill>
                  <a:srgbClr val="ff0000"/>
                </a:solidFill>
                <a:latin typeface="Trebuchet MS"/>
              </a:rPr>
              <a:t>DESIGNING</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Trebuchet MS"/>
              </a:rPr>
              <a:t>• </a:t>
            </a:r>
            <a:r>
              <a:rPr b="0" lang="en-AU" sz="3600" spc="-1" strike="noStrike">
                <a:solidFill>
                  <a:srgbClr val="ff0000"/>
                </a:solidFill>
                <a:latin typeface="Trebuchet MS"/>
              </a:rPr>
              <a:t>DEVELOPING</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Trebuchet MS"/>
              </a:rPr>
              <a:t>• </a:t>
            </a:r>
            <a:r>
              <a:rPr b="0" lang="en-AU" sz="3600" spc="-1" strike="noStrike">
                <a:solidFill>
                  <a:srgbClr val="ff0000"/>
                </a:solidFill>
                <a:latin typeface="Trebuchet MS"/>
              </a:rPr>
              <a:t>IMPLEMENTING</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Trebuchet MS"/>
              </a:rPr>
              <a:t>• </a:t>
            </a:r>
            <a:r>
              <a:rPr b="0" lang="en-AU" sz="3600" spc="-1" strike="noStrike">
                <a:solidFill>
                  <a:srgbClr val="ff0000"/>
                </a:solidFill>
                <a:latin typeface="Trebuchet MS"/>
              </a:rPr>
              <a:t>EVALUATING</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Trebuchet MS"/>
              </a:rPr>
              <a:t>• </a:t>
            </a:r>
            <a:r>
              <a:rPr b="0" lang="en-AU" sz="3600" spc="-1" strike="noStrike">
                <a:solidFill>
                  <a:srgbClr val="ff0000"/>
                </a:solidFill>
                <a:latin typeface="Trebuchet MS"/>
              </a:rPr>
              <a:t>REVISING</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00"/>
                </a:solidFill>
                <a:latin typeface="Trebuchet MS"/>
              </a:rPr>
              <a:t>• </a:t>
            </a:r>
            <a:r>
              <a:rPr b="0" lang="en-AU" sz="3600" spc="-1" strike="noStrike">
                <a:solidFill>
                  <a:srgbClr val="ff0000"/>
                </a:solidFill>
                <a:latin typeface="Trebuchet MS"/>
              </a:rPr>
              <a:t>IMPROVING</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515880" y="592200"/>
            <a:ext cx="9348840" cy="448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030a0"/>
                </a:solidFill>
                <a:latin typeface="Trebuchet MS"/>
              </a:rPr>
              <a:t>CURRICULUM PREPARATION</a:t>
            </a:r>
            <a:endParaRPr b="0" lang="en-US" sz="4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rebuchet MS"/>
              </a:rPr>
              <a:t>• </a:t>
            </a:r>
            <a:r>
              <a:rPr b="0" lang="en-AU" sz="4000" spc="-1" strike="noStrike">
                <a:solidFill>
                  <a:srgbClr val="ff0000"/>
                </a:solidFill>
                <a:latin typeface="Trebuchet MS"/>
              </a:rPr>
              <a:t>SYSTEMATIC, SYSTEMS</a:t>
            </a:r>
            <a:endParaRPr b="0" lang="en-US" sz="4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rebuchet MS"/>
              </a:rPr>
              <a:t>• </a:t>
            </a:r>
            <a:r>
              <a:rPr b="0" lang="en-AU" sz="4000" spc="-1" strike="noStrike">
                <a:solidFill>
                  <a:srgbClr val="ff0000"/>
                </a:solidFill>
                <a:latin typeface="Trebuchet MS"/>
              </a:rPr>
              <a:t>DATA, CONTENT</a:t>
            </a:r>
            <a:endParaRPr b="0" lang="en-US" sz="4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rebuchet MS"/>
              </a:rPr>
              <a:t>• </a:t>
            </a:r>
            <a:r>
              <a:rPr b="0" lang="en-AU" sz="4000" spc="-1" strike="noStrike">
                <a:solidFill>
                  <a:srgbClr val="ff0000"/>
                </a:solidFill>
                <a:latin typeface="Trebuchet MS"/>
              </a:rPr>
              <a:t>SELECTIONCOLLECTIONASSESSMENT</a:t>
            </a:r>
            <a:endParaRPr b="0" lang="en-US" sz="4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rebuchet MS"/>
              </a:rPr>
              <a:t>• </a:t>
            </a:r>
            <a:r>
              <a:rPr b="0" lang="en-AU" sz="4000" spc="-1" strike="noStrike">
                <a:solidFill>
                  <a:srgbClr val="ff0000"/>
                </a:solidFill>
                <a:latin typeface="Trebuchet MS"/>
              </a:rPr>
              <a:t>ORGANISATION</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631800" y="785880"/>
            <a:ext cx="8512200" cy="576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Trebuchet MS"/>
              </a:rPr>
              <a:t>CURRICULUM DESIGN</a:t>
            </a:r>
            <a:endParaRPr b="0" lang="en-US" sz="36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rebuchet MS"/>
              </a:rPr>
              <a:t>• </a:t>
            </a:r>
            <a:r>
              <a:rPr b="1" lang="en-AU" sz="2800" spc="-1" strike="noStrike">
                <a:solidFill>
                  <a:srgbClr val="002060"/>
                </a:solidFill>
                <a:latin typeface="Trebuchet MS"/>
              </a:rPr>
              <a:t>Analysis of social /technical need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Trebuchet MS"/>
              </a:rPr>
              <a:t>• </a:t>
            </a:r>
            <a:r>
              <a:rPr b="1" lang="en-AU" sz="2800" spc="-1" strike="noStrike">
                <a:solidFill>
                  <a:srgbClr val="002060"/>
                </a:solidFill>
                <a:latin typeface="Trebuchet MS"/>
              </a:rPr>
              <a:t>Translating the needs into</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Trebuchet MS"/>
              </a:rPr>
              <a:t>course/general/learning/terminal objective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Trebuchet MS"/>
              </a:rPr>
              <a:t>• </a:t>
            </a:r>
            <a:r>
              <a:rPr b="1" lang="en-AU" sz="2800" spc="-1" strike="noStrike">
                <a:solidFill>
                  <a:srgbClr val="002060"/>
                </a:solidFill>
                <a:latin typeface="Trebuchet MS"/>
              </a:rPr>
              <a:t>Splitting the objectives into specific objective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Trebuchet MS"/>
              </a:rPr>
              <a:t>• </a:t>
            </a:r>
            <a:r>
              <a:rPr b="1" lang="en-AU" sz="2800" spc="-1" strike="noStrike">
                <a:solidFill>
                  <a:srgbClr val="002060"/>
                </a:solidFill>
                <a:latin typeface="Trebuchet MS"/>
              </a:rPr>
              <a:t>Grouping the specific objectives into subject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Trebuchet MS"/>
              </a:rPr>
              <a:t>• </a:t>
            </a:r>
            <a:r>
              <a:rPr b="1" lang="en-AU" sz="2800" spc="-1" strike="noStrike">
                <a:solidFill>
                  <a:srgbClr val="002060"/>
                </a:solidFill>
                <a:latin typeface="Trebuchet MS"/>
              </a:rPr>
              <a:t>Deriving the subjects from the above classification</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Trebuchet MS"/>
              </a:rPr>
              <a:t>• </a:t>
            </a:r>
            <a:r>
              <a:rPr b="1" lang="en-AU" sz="2800" spc="-1" strike="noStrike">
                <a:solidFill>
                  <a:srgbClr val="002060"/>
                </a:solidFill>
                <a:latin typeface="Trebuchet MS"/>
              </a:rPr>
              <a:t>Specifying enabling objective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Trebuchet MS"/>
              </a:rPr>
              <a:t>• </a:t>
            </a:r>
            <a:r>
              <a:rPr b="1" lang="en-AU" sz="2800" spc="-1" strike="noStrike">
                <a:solidFill>
                  <a:srgbClr val="002060"/>
                </a:solidFill>
                <a:latin typeface="Trebuchet MS"/>
              </a:rPr>
              <a:t>Unitising each subject matter</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Trebuchet MS"/>
              </a:rPr>
              <a:t>• </a:t>
            </a:r>
            <a:r>
              <a:rPr b="1" lang="en-AU" sz="2800" spc="-1" strike="noStrike">
                <a:solidFill>
                  <a:srgbClr val="002060"/>
                </a:solidFill>
                <a:latin typeface="Trebuchet MS"/>
              </a:rPr>
              <a:t>Specification of required time</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2060"/>
                </a:solidFill>
                <a:latin typeface="Trebuchet MS"/>
              </a:rPr>
              <a:t>• </a:t>
            </a:r>
            <a:r>
              <a:rPr b="1" lang="en-AU" sz="2800" spc="-1" strike="noStrike">
                <a:solidFill>
                  <a:srgbClr val="002060"/>
                </a:solidFill>
                <a:latin typeface="Trebuchet MS"/>
              </a:rPr>
              <a:t>Syllabus formulatio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901800" y="811080"/>
            <a:ext cx="8242200" cy="4622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Calibri"/>
              </a:rPr>
              <a:t>EXAMPLE</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ea typeface="Calibri"/>
              </a:rPr>
              <a:t>MAIN OBJECTIVE </a:t>
            </a:r>
            <a:endParaRPr b="0" lang="en-US" sz="3200" spc="-1" strike="noStrike">
              <a:solidFill>
                <a:srgbClr val="000000"/>
              </a:solidFill>
              <a:latin typeface="Trebuchet MS"/>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7030a0"/>
                </a:solidFill>
                <a:latin typeface="Calibri"/>
                <a:ea typeface="Calibri"/>
              </a:rPr>
              <a:t>AAA Technological University’s six years degree ,Bachelor of Engineering is  designed to train the students to work as Engineering Technologist /Professional Engineer in wide ranges of industrie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554040" y="141120"/>
            <a:ext cx="9194760" cy="649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2060"/>
                </a:solidFill>
                <a:latin typeface="Trebuchet MS"/>
              </a:rPr>
              <a:t>Splitting the objectives into specific objectives </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Sub-objective</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Generic form 1)</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ea typeface="Calibri"/>
              </a:rPr>
              <a:t>To perform the reliable functioning of all materials, components, sub-systems and technologies used; their integration to form a complete, sustainable and self-consistent system; and all interactions between the technical system and the context within which it functions</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720720" y="682560"/>
            <a:ext cx="84232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Calibri"/>
              </a:rPr>
              <a:t>Sub-objective</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Calibri"/>
              </a:rPr>
              <a:t>(Specific form 1)</a:t>
            </a:r>
            <a:endParaRPr b="0" lang="en-US" sz="3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ea typeface="Calibri"/>
              </a:rPr>
              <a:t>To perform the reliable functioning </a:t>
            </a:r>
            <a:r>
              <a:rPr b="0" lang="en-AU" sz="3200" spc="-1" strike="noStrike">
                <a:solidFill>
                  <a:srgbClr val="ff0000"/>
                </a:solidFill>
                <a:latin typeface="Calibri"/>
                <a:ea typeface="Calibri"/>
              </a:rPr>
              <a:t>of electrical machine &amp; power systems </a:t>
            </a:r>
            <a:r>
              <a:rPr b="0" lang="en-AU" sz="3200" spc="-1" strike="noStrike">
                <a:solidFill>
                  <a:srgbClr val="000000"/>
                </a:solidFill>
                <a:latin typeface="Calibri"/>
                <a:ea typeface="Calibri"/>
              </a:rPr>
              <a:t>or </a:t>
            </a:r>
            <a:r>
              <a:rPr b="0" lang="en-AU" sz="3200" spc="-1" strike="noStrike">
                <a:solidFill>
                  <a:srgbClr val="7030a0"/>
                </a:solidFill>
                <a:latin typeface="Calibri"/>
                <a:ea typeface="Calibri"/>
              </a:rPr>
              <a:t>mechanical plants or equipment </a:t>
            </a:r>
            <a:r>
              <a:rPr b="0" lang="en-AU" sz="3200" spc="-1" strike="noStrike">
                <a:solidFill>
                  <a:srgbClr val="000000"/>
                </a:solidFill>
                <a:latin typeface="Calibri"/>
                <a:ea typeface="Calibri"/>
              </a:rPr>
              <a:t> OR </a:t>
            </a:r>
            <a:r>
              <a:rPr b="0" lang="en-AU" sz="3200" spc="-1" strike="noStrike">
                <a:solidFill>
                  <a:srgbClr val="00b050"/>
                </a:solidFill>
                <a:latin typeface="Calibri"/>
                <a:ea typeface="Calibri"/>
              </a:rPr>
              <a:t>integrity of civil structures </a:t>
            </a:r>
            <a:r>
              <a:rPr b="0" lang="en-AU" sz="3200" spc="-1" strike="noStrike">
                <a:solidFill>
                  <a:srgbClr val="002060"/>
                </a:solidFill>
                <a:latin typeface="Calibri"/>
                <a:ea typeface="Calibri"/>
              </a:rPr>
              <a:t>and technologies used, their integration to form a a complete, sustainable and self-consistent system; and all interactions between the technical system and the context within which it function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1T10:56:22Z</dcterms:created>
  <dc:creator>ukyawnaing</dc:creator>
  <dc:description/>
  <dc:language>en-US</dc:language>
  <cp:lastModifiedBy>F55A-SX039</cp:lastModifiedBy>
  <dcterms:modified xsi:type="dcterms:W3CDTF">2015-04-18T13:55:31Z</dcterms:modified>
  <cp:revision>40</cp:revision>
  <dc:subject/>
  <dc:title>PowerPoint Presentation</dc:title>
</cp:coreProperties>
</file>