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144000" cy="6858000"/>
          </a:xfrm>
          <a:prstGeom prst="rtTriangle">
            <a:avLst/>
          </a:prstGeom>
          <a:solidFill>
            <a:srgbClr val="eae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1560" y="37800"/>
            <a:ext cx="8861040" cy="6802560"/>
            <a:chOff x="241560" y="37800"/>
            <a:chExt cx="8861040" cy="6802560"/>
          </a:xfrm>
        </p:grpSpPr>
        <p:sp>
          <p:nvSpPr>
            <p:cNvPr id="2" name=""/>
            <p:cNvSpPr/>
            <p:nvPr/>
          </p:nvSpPr>
          <p:spPr>
            <a:xfrm flipV="1" rot="12911400">
              <a:off x="6609240" y="5590800"/>
              <a:ext cx="2566080" cy="560880"/>
            </a:xfrm>
            <a:prstGeom prst="rtTriangle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12911400">
              <a:off x="6391080" y="5424120"/>
              <a:ext cx="2556720" cy="559800"/>
            </a:xfrm>
            <a:prstGeom prst="rtTriangle">
              <a:avLst/>
            </a:pr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12911400">
              <a:off x="6180480" y="5263920"/>
              <a:ext cx="2556720" cy="560880"/>
            </a:xfrm>
            <a:prstGeom prst="rtTriangle">
              <a:avLst/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2911400">
              <a:off x="5961600" y="5099760"/>
              <a:ext cx="2556720" cy="559800"/>
            </a:xfrm>
            <a:prstGeom prst="rtTriangle">
              <a:avLst/>
            </a:prstGeom>
            <a:solidFill>
              <a:srgbClr val="e158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12911400">
              <a:off x="5749560" y="4938480"/>
              <a:ext cx="2556720" cy="560880"/>
            </a:xfrm>
            <a:prstGeom prst="rtTriangle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12911400">
              <a:off x="5533560" y="4776480"/>
              <a:ext cx="2556720" cy="559800"/>
            </a:xfrm>
            <a:prstGeom prst="rtTriangle">
              <a:avLst/>
            </a:prstGeom>
            <a:solidFill>
              <a:srgbClr val="2d8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12911400">
              <a:off x="5321520" y="4615200"/>
              <a:ext cx="2556720" cy="560880"/>
            </a:xfrm>
            <a:prstGeom prst="rtTriangle">
              <a:avLst/>
            </a:prstGeom>
            <a:solidFill>
              <a:srgbClr val="f0e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12911400">
              <a:off x="5105520" y="4452480"/>
              <a:ext cx="2556720" cy="560160"/>
            </a:xfrm>
            <a:prstGeom prst="rtTriangle">
              <a:avLst/>
            </a:prstGeom>
            <a:solidFill>
              <a:srgbClr val="99ef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2911400">
              <a:off x="4889880" y="4293720"/>
              <a:ext cx="2570040" cy="560880"/>
            </a:xfrm>
            <a:prstGeom prst="rtTriangle">
              <a:avLst/>
            </a:prstGeom>
            <a:solidFill>
              <a:srgbClr val="f894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2911400">
              <a:off x="4679280" y="4130640"/>
              <a:ext cx="2556720" cy="559800"/>
            </a:xfrm>
            <a:prstGeom prst="rtTriangle">
              <a:avLst/>
            </a:prstGeom>
            <a:solidFill>
              <a:srgbClr val="9d5b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2911400">
              <a:off x="4462560" y="3965760"/>
              <a:ext cx="2556720" cy="560880"/>
            </a:xfrm>
            <a:prstGeom prst="rtTriangle">
              <a:avLst/>
            </a:prstGeom>
            <a:solidFill>
              <a:srgbClr val="87ca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2911400">
              <a:off x="4246200" y="3803760"/>
              <a:ext cx="2558520" cy="560880"/>
            </a:xfrm>
            <a:prstGeom prst="rtTriangle">
              <a:avLst/>
            </a:prstGeom>
            <a:solidFill>
              <a:srgbClr val="ff58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2911400">
              <a:off x="4032360" y="3639600"/>
              <a:ext cx="2547360" cy="556200"/>
            </a:xfrm>
            <a:prstGeom prst="rtTriangle">
              <a:avLst/>
            </a:prstGeom>
            <a:solidFill>
              <a:srgbClr val="75a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2911400">
              <a:off x="3821760" y="3482280"/>
              <a:ext cx="2558520" cy="559800"/>
            </a:xfrm>
            <a:prstGeom prst="rtTriangle">
              <a:avLst/>
            </a:prstGeom>
            <a:solidFill>
              <a:srgbClr val="e1c03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12911400">
              <a:off x="3601080" y="3316680"/>
              <a:ext cx="2556720" cy="559800"/>
            </a:xfrm>
            <a:prstGeom prst="rtTriangle">
              <a:avLst/>
            </a:prstGeom>
            <a:solidFill>
              <a:srgbClr val="2c7c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 rot="12911400">
              <a:off x="3388680" y="3155400"/>
              <a:ext cx="2556720" cy="560160"/>
            </a:xfrm>
            <a:prstGeom prst="rtTriangle">
              <a:avLst/>
            </a:prstGeom>
            <a:solidFill>
              <a:srgbClr val="ffff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 rot="12911400">
              <a:off x="3173400" y="2993040"/>
              <a:ext cx="2556720" cy="559800"/>
            </a:xfrm>
            <a:prstGeom prst="rtTriangle">
              <a:avLst/>
            </a:prstGeom>
            <a:solidFill>
              <a:srgbClr val="ff916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12911400">
              <a:off x="2964240" y="2834640"/>
              <a:ext cx="2556720" cy="559800"/>
            </a:xfrm>
            <a:prstGeom prst="rtTriangle">
              <a:avLst/>
            </a:prstGeom>
            <a:solidFill>
              <a:srgbClr val="e158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 rot="12911400">
              <a:off x="2742120" y="2667240"/>
              <a:ext cx="2555280" cy="559440"/>
            </a:xfrm>
            <a:prstGeom prst="rtTriangle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 rot="12911400">
              <a:off x="2530080" y="2505960"/>
              <a:ext cx="2556720" cy="560880"/>
            </a:xfrm>
            <a:prstGeom prst="rtTriangle">
              <a:avLst/>
            </a:prstGeom>
            <a:solidFill>
              <a:srgbClr val="2d8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 rot="12911400">
              <a:off x="2314080" y="2343960"/>
              <a:ext cx="2558520" cy="560160"/>
            </a:xfrm>
            <a:prstGeom prst="rtTriangle">
              <a:avLst/>
            </a:prstGeom>
            <a:solidFill>
              <a:srgbClr val="f0e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12911400">
              <a:off x="2106720" y="2186280"/>
              <a:ext cx="2556720" cy="559800"/>
            </a:xfrm>
            <a:prstGeom prst="rtTriangle">
              <a:avLst/>
            </a:prstGeom>
            <a:solidFill>
              <a:srgbClr val="99ef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 rot="12911400">
              <a:off x="1884600" y="2019600"/>
              <a:ext cx="2558880" cy="560880"/>
            </a:xfrm>
            <a:prstGeom prst="rtTriangle">
              <a:avLst/>
            </a:prstGeom>
            <a:solidFill>
              <a:srgbClr val="f894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 rot="12911400">
              <a:off x="1672560" y="1857960"/>
              <a:ext cx="2555280" cy="560160"/>
            </a:xfrm>
            <a:prstGeom prst="rtTriangle">
              <a:avLst/>
            </a:prstGeom>
            <a:solidFill>
              <a:srgbClr val="9d5b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V="1" rot="12911400">
              <a:off x="1456200" y="1695960"/>
              <a:ext cx="2556720" cy="560160"/>
            </a:xfrm>
            <a:prstGeom prst="rtTriangle">
              <a:avLst/>
            </a:prstGeom>
            <a:solidFill>
              <a:srgbClr val="87ca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 rot="12911400">
              <a:off x="1244160" y="1534320"/>
              <a:ext cx="2554920" cy="559800"/>
            </a:xfrm>
            <a:prstGeom prst="rtTriangle">
              <a:avLst/>
            </a:prstGeom>
            <a:solidFill>
              <a:srgbClr val="ff58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12911400">
              <a:off x="1028520" y="1372320"/>
              <a:ext cx="2556720" cy="560160"/>
            </a:xfrm>
            <a:prstGeom prst="rtTriangle">
              <a:avLst/>
            </a:prstGeom>
            <a:solidFill>
              <a:srgbClr val="75a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12911400">
              <a:off x="815040" y="1209600"/>
              <a:ext cx="2553120" cy="559440"/>
            </a:xfrm>
            <a:prstGeom prst="rtTriangle">
              <a:avLst/>
            </a:prstGeom>
            <a:solidFill>
              <a:srgbClr val="e1c03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12911400">
              <a:off x="599040" y="1047600"/>
              <a:ext cx="2556720" cy="560160"/>
            </a:xfrm>
            <a:prstGeom prst="rtTriangle">
              <a:avLst/>
            </a:prstGeom>
            <a:solidFill>
              <a:srgbClr val="2c7c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911400">
              <a:off x="386640" y="885960"/>
              <a:ext cx="2555280" cy="559800"/>
            </a:xfrm>
            <a:prstGeom prst="rtTriangle">
              <a:avLst/>
            </a:prstGeom>
            <a:solidFill>
              <a:srgbClr val="ffff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2911400">
              <a:off x="169200" y="723240"/>
              <a:ext cx="2558520" cy="560880"/>
            </a:xfrm>
            <a:prstGeom prst="rtTriangle">
              <a:avLst/>
            </a:prstGeom>
            <a:solidFill>
              <a:srgbClr val="ff916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" name=""/>
          <p:cNvSpPr/>
          <p:nvPr/>
        </p:nvSpPr>
        <p:spPr>
          <a:xfrm>
            <a:off x="0" y="0"/>
            <a:ext cx="9144000" cy="6858000"/>
          </a:xfrm>
          <a:prstGeom prst="rtTriangle">
            <a:avLst/>
          </a:prstGeom>
          <a:solidFill>
            <a:srgbClr val="ebebf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6320" y="65530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© 2007   The McGraw-Hill Companies, Inc. 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772400" y="60480"/>
            <a:ext cx="129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lide </a:t>
            </a:r>
            <a:fld id="{FE7E5013-C99A-4911-A84C-183604275406}" type="slidenum"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6320" y="763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6355800" y="154440"/>
            <a:ext cx="2118960" cy="1307520"/>
            <a:chOff x="6355800" y="154440"/>
            <a:chExt cx="2118960" cy="1307520"/>
          </a:xfrm>
        </p:grpSpPr>
        <p:sp>
          <p:nvSpPr>
            <p:cNvPr id="39" name=""/>
            <p:cNvSpPr/>
            <p:nvPr/>
          </p:nvSpPr>
          <p:spPr>
            <a:xfrm flipV="1" rot="20787000">
              <a:off x="6476760" y="227880"/>
              <a:ext cx="764280" cy="1127160"/>
            </a:xfrm>
            <a:prstGeom prst="rtTriangle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 rot="20787000">
              <a:off x="6523920" y="230760"/>
              <a:ext cx="751680" cy="1126800"/>
            </a:xfrm>
            <a:prstGeom prst="rtTriangle">
              <a:avLst/>
            </a:prstGeom>
            <a:solidFill>
              <a:srgbClr val="00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V="1" rot="20787000">
              <a:off x="6560280" y="230760"/>
              <a:ext cx="751320" cy="1126800"/>
            </a:xfrm>
            <a:prstGeom prst="rtTriangle">
              <a:avLst/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V="1" rot="20787000">
              <a:off x="6597360" y="231120"/>
              <a:ext cx="751680" cy="1127160"/>
            </a:xfrm>
            <a:prstGeom prst="rtTriangle">
              <a:avLst/>
            </a:prstGeom>
            <a:solidFill>
              <a:srgbClr val="e158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87000">
              <a:off x="6634800" y="233640"/>
              <a:ext cx="751680" cy="1127160"/>
            </a:xfrm>
            <a:prstGeom prst="rtTriangle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87000">
              <a:off x="6672240" y="235080"/>
              <a:ext cx="751680" cy="1127160"/>
            </a:xfrm>
            <a:prstGeom prst="rtTriangle">
              <a:avLst/>
            </a:prstGeom>
            <a:solidFill>
              <a:srgbClr val="2d8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787000">
              <a:off x="6709680" y="234360"/>
              <a:ext cx="751680" cy="1129680"/>
            </a:xfrm>
            <a:prstGeom prst="rtTriangle">
              <a:avLst/>
            </a:prstGeom>
            <a:solidFill>
              <a:srgbClr val="f0e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787000">
              <a:off x="6747120" y="236520"/>
              <a:ext cx="753120" cy="1126800"/>
            </a:xfrm>
            <a:prstGeom prst="rtTriangle">
              <a:avLst/>
            </a:prstGeom>
            <a:solidFill>
              <a:srgbClr val="99ef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787000">
              <a:off x="6783120" y="235440"/>
              <a:ext cx="756000" cy="1130040"/>
            </a:xfrm>
            <a:prstGeom prst="rtTriangle">
              <a:avLst/>
            </a:prstGeom>
            <a:solidFill>
              <a:srgbClr val="f894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787000">
              <a:off x="6821640" y="237600"/>
              <a:ext cx="753120" cy="1124640"/>
            </a:xfrm>
            <a:prstGeom prst="rtTriangle">
              <a:avLst/>
            </a:prstGeom>
            <a:solidFill>
              <a:srgbClr val="9d5b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787000">
              <a:off x="6859080" y="239400"/>
              <a:ext cx="751680" cy="1124280"/>
            </a:xfrm>
            <a:prstGeom prst="rtTriangle">
              <a:avLst/>
            </a:prstGeom>
            <a:solidFill>
              <a:srgbClr val="87ca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787000">
              <a:off x="6896880" y="241920"/>
              <a:ext cx="751320" cy="1124280"/>
            </a:xfrm>
            <a:prstGeom prst="rtTriangle">
              <a:avLst/>
            </a:prstGeom>
            <a:solidFill>
              <a:srgbClr val="ff58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787000">
              <a:off x="6936120" y="245160"/>
              <a:ext cx="747720" cy="1118880"/>
            </a:xfrm>
            <a:prstGeom prst="rtTriangle">
              <a:avLst/>
            </a:prstGeom>
            <a:solidFill>
              <a:srgbClr val="75a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20787000">
              <a:off x="6971400" y="244800"/>
              <a:ext cx="753120" cy="1127160"/>
            </a:xfrm>
            <a:prstGeom prst="rtTriangle">
              <a:avLst/>
            </a:prstGeom>
            <a:solidFill>
              <a:srgbClr val="e1c03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20787000">
              <a:off x="7008840" y="244800"/>
              <a:ext cx="753120" cy="1127160"/>
            </a:xfrm>
            <a:prstGeom prst="rtTriangle">
              <a:avLst/>
            </a:prstGeom>
            <a:solidFill>
              <a:srgbClr val="2c7c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20787000">
              <a:off x="7046280" y="246600"/>
              <a:ext cx="751320" cy="1127160"/>
            </a:xfrm>
            <a:prstGeom prst="rtTriangle">
              <a:avLst/>
            </a:prstGeom>
            <a:solidFill>
              <a:srgbClr val="ffff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20787000">
              <a:off x="7083720" y="247320"/>
              <a:ext cx="753120" cy="1127160"/>
            </a:xfrm>
            <a:prstGeom prst="rtTriangle">
              <a:avLst/>
            </a:prstGeom>
            <a:solidFill>
              <a:srgbClr val="ff916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20787000">
              <a:off x="7119360" y="248760"/>
              <a:ext cx="751680" cy="1126800"/>
            </a:xfrm>
            <a:prstGeom prst="rtTriangle">
              <a:avLst/>
            </a:prstGeom>
            <a:solidFill>
              <a:srgbClr val="e158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20787000">
              <a:off x="7158240" y="249840"/>
              <a:ext cx="751320" cy="1126800"/>
            </a:xfrm>
            <a:prstGeom prst="rtTriangle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20787000">
              <a:off x="7189560" y="249120"/>
              <a:ext cx="758880" cy="1124280"/>
            </a:xfrm>
            <a:prstGeom prst="rtTriangle">
              <a:avLst/>
            </a:prstGeom>
            <a:solidFill>
              <a:srgbClr val="2d8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20787000">
              <a:off x="7236000" y="251280"/>
              <a:ext cx="750240" cy="1127160"/>
            </a:xfrm>
            <a:prstGeom prst="rtTriangle">
              <a:avLst/>
            </a:prstGeom>
            <a:solidFill>
              <a:srgbClr val="f0e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20787000">
              <a:off x="7269120" y="253080"/>
              <a:ext cx="753120" cy="1123200"/>
            </a:xfrm>
            <a:prstGeom prst="rtTriangle">
              <a:avLst/>
            </a:prstGeom>
            <a:solidFill>
              <a:srgbClr val="99ef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20787000">
              <a:off x="7307640" y="253800"/>
              <a:ext cx="751680" cy="1131120"/>
            </a:xfrm>
            <a:prstGeom prst="rtTriangle">
              <a:avLst/>
            </a:prstGeom>
            <a:solidFill>
              <a:srgbClr val="f894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20787000">
              <a:off x="7344000" y="255240"/>
              <a:ext cx="751320" cy="1126800"/>
            </a:xfrm>
            <a:prstGeom prst="rtTriangle">
              <a:avLst/>
            </a:prstGeom>
            <a:solidFill>
              <a:srgbClr val="9d5b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20787000">
              <a:off x="7381080" y="255600"/>
              <a:ext cx="751320" cy="1127160"/>
            </a:xfrm>
            <a:prstGeom prst="rtTriangle">
              <a:avLst/>
            </a:prstGeom>
            <a:solidFill>
              <a:srgbClr val="87ca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0787000">
              <a:off x="7418520" y="257400"/>
              <a:ext cx="753120" cy="1123560"/>
            </a:xfrm>
            <a:prstGeom prst="rtTriangle">
              <a:avLst/>
            </a:prstGeom>
            <a:solidFill>
              <a:srgbClr val="ff58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0787000">
              <a:off x="7455960" y="259200"/>
              <a:ext cx="751680" cy="1126800"/>
            </a:xfrm>
            <a:prstGeom prst="rtTriangle">
              <a:avLst/>
            </a:prstGeom>
            <a:solidFill>
              <a:srgbClr val="75a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0787000">
              <a:off x="7493400" y="259920"/>
              <a:ext cx="751680" cy="1123560"/>
            </a:xfrm>
            <a:prstGeom prst="rtTriangle">
              <a:avLst/>
            </a:prstGeom>
            <a:solidFill>
              <a:srgbClr val="e1c03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0787000">
              <a:off x="7530840" y="261000"/>
              <a:ext cx="753120" cy="1126800"/>
            </a:xfrm>
            <a:prstGeom prst="rtTriangle">
              <a:avLst/>
            </a:prstGeom>
            <a:solidFill>
              <a:srgbClr val="2c7c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0787000">
              <a:off x="7567920" y="263160"/>
              <a:ext cx="751680" cy="1124640"/>
            </a:xfrm>
            <a:prstGeom prst="rtTriangle">
              <a:avLst/>
            </a:prstGeom>
            <a:solidFill>
              <a:srgbClr val="ffff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20787000">
              <a:off x="7605360" y="262800"/>
              <a:ext cx="747720" cy="1126800"/>
            </a:xfrm>
            <a:prstGeom prst="rtTriangle">
              <a:avLst/>
            </a:prstGeom>
            <a:solidFill>
              <a:srgbClr val="ff916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Basic Principles                of Learning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4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52280"/>
            <a:ext cx="8001000" cy="624852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827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32080" y="4724280"/>
            <a:ext cx="13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C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meat pow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5105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metron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5960" y="41324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68920" y="41148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Saliv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657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20040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1828800"/>
            <a:ext cx="3048120" cy="20574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j0199238" descr=""/>
          <p:cNvPicPr/>
          <p:nvPr/>
        </p:nvPicPr>
        <p:blipFill>
          <a:blip r:embed="rId1"/>
          <a:stretch/>
        </p:blipFill>
        <p:spPr>
          <a:xfrm>
            <a:off x="1447920" y="3273480"/>
            <a:ext cx="1055520" cy="15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6781680" y="2752560"/>
          <a:ext cx="1371600" cy="133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2752560"/>
                    <a:ext cx="13716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"/>
          <p:cNvGrpSpPr/>
          <p:nvPr/>
        </p:nvGrpSpPr>
        <p:grpSpPr>
          <a:xfrm>
            <a:off x="1219320" y="1371600"/>
            <a:ext cx="1218960" cy="456840"/>
            <a:chOff x="1219320" y="1371600"/>
            <a:chExt cx="1218960" cy="456840"/>
          </a:xfrm>
        </p:grpSpPr>
        <p:sp>
          <p:nvSpPr>
            <p:cNvPr id="284" name=""/>
            <p:cNvSpPr/>
            <p:nvPr/>
          </p:nvSpPr>
          <p:spPr>
            <a:xfrm>
              <a:off x="1219320" y="1485720"/>
              <a:ext cx="1218960" cy="342720"/>
            </a:xfrm>
            <a:prstGeom prst="flowChartMagneticDisk">
              <a:avLst/>
            </a:prstGeom>
            <a:solidFill>
              <a:srgbClr val="d6ad84"/>
            </a:solidFill>
            <a:ln w="19080">
              <a:solidFill>
                <a:srgbClr val="864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6160" y="1485720"/>
              <a:ext cx="203040" cy="11448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30320" y="1485720"/>
              <a:ext cx="203040" cy="11448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23880" y="1485720"/>
              <a:ext cx="203040" cy="11448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20480" y="1485720"/>
              <a:ext cx="203040" cy="11448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3360" y="1485720"/>
              <a:ext cx="203040" cy="11448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77680" y="1485720"/>
              <a:ext cx="203040" cy="11448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2360" y="1428840"/>
              <a:ext cx="202680" cy="11412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25400" y="1371600"/>
              <a:ext cx="203040" cy="11412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77680" y="1371600"/>
              <a:ext cx="203040" cy="11412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79560" y="1428840"/>
              <a:ext cx="202680" cy="11412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31840" y="1428840"/>
              <a:ext cx="202680" cy="11412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73120" y="1371600"/>
              <a:ext cx="203040" cy="114120"/>
            </a:xfrm>
            <a:prstGeom prst="ellipse">
              <a:avLst/>
            </a:prstGeom>
            <a:solidFill>
              <a:srgbClr val="864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124080" y="555480"/>
            <a:ext cx="5181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pplication of Terminology to Pavlov’s Experi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finition of Classical Conditio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m of learning in whic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 followed by UCS elicits UC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iring of CS and UCS allows CS to elicit CR almost identical or similar to UC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sidered learning becau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w behavior acquir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ld behavior elicited by new stimulu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es not depend on behavior of individu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mportance of Classical Conditio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atson and Rayne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de classical conditioning famous with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Little Alber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experi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arned to fear rats - unethical toda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atson and Jon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nterconditionin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reversing the C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ful i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laining aspects of human healt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laining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sexual fetish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arousa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152280"/>
            <a:ext cx="8001000" cy="624852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182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atson and Raynor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3520" y="1020600"/>
            <a:ext cx="7772400" cy="4818600"/>
            <a:chOff x="533520" y="1020600"/>
            <a:chExt cx="7772400" cy="4818600"/>
          </a:xfrm>
        </p:grpSpPr>
        <p:grpSp>
          <p:nvGrpSpPr>
            <p:cNvPr id="307" name=""/>
            <p:cNvGrpSpPr/>
            <p:nvPr/>
          </p:nvGrpSpPr>
          <p:grpSpPr>
            <a:xfrm>
              <a:off x="914400" y="3352680"/>
              <a:ext cx="1752480" cy="1600200"/>
              <a:chOff x="914400" y="3352680"/>
              <a:chExt cx="1752480" cy="1600200"/>
            </a:xfrm>
          </p:grpSpPr>
          <p:graphicFrame>
            <p:nvGraphicFramePr>
              <p:cNvPr id="308" name=""/>
              <p:cNvGraphicFramePr/>
              <p:nvPr/>
            </p:nvGraphicFramePr>
            <p:xfrm>
              <a:off x="1143000" y="3962520"/>
              <a:ext cx="901440" cy="971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0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3000" y="3962520"/>
                        <a:ext cx="901440" cy="971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0" name=""/>
              <p:cNvSpPr/>
              <p:nvPr/>
            </p:nvSpPr>
            <p:spPr>
              <a:xfrm flipV="1">
                <a:off x="2057400" y="35053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2133360" y="3733920"/>
                <a:ext cx="533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1904760" y="3352680"/>
                <a:ext cx="15264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360" y="4191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1752480" y="34290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1294920" y="3504960"/>
                <a:ext cx="3049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7400" y="43434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057400" y="4572000"/>
                <a:ext cx="5331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914400" y="3733920"/>
                <a:ext cx="4572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219320" y="1020600"/>
              <a:ext cx="1523520" cy="1218960"/>
              <a:chOff x="1219320" y="1020600"/>
              <a:chExt cx="1523520" cy="1218960"/>
            </a:xfrm>
          </p:grpSpPr>
          <p:sp>
            <p:nvSpPr>
              <p:cNvPr id="320" name=""/>
              <p:cNvSpPr/>
              <p:nvPr/>
            </p:nvSpPr>
            <p:spPr>
              <a:xfrm>
                <a:off x="1219320" y="1020600"/>
                <a:ext cx="1523520" cy="1218960"/>
              </a:xfrm>
              <a:custGeom>
                <a:avLst/>
                <a:gdLst/>
                <a:ahLst/>
                <a:rect l="l" t="t" r="r" b="b"/>
                <a:pathLst>
                  <a:path w="3046" h="1825">
                    <a:moveTo>
                      <a:pt x="2899" y="675"/>
                    </a:moveTo>
                    <a:lnTo>
                      <a:pt x="2886" y="666"/>
                    </a:lnTo>
                    <a:lnTo>
                      <a:pt x="2874" y="658"/>
                    </a:lnTo>
                    <a:lnTo>
                      <a:pt x="2863" y="649"/>
                    </a:lnTo>
                    <a:lnTo>
                      <a:pt x="2854" y="642"/>
                    </a:lnTo>
                    <a:lnTo>
                      <a:pt x="2843" y="634"/>
                    </a:lnTo>
                    <a:lnTo>
                      <a:pt x="2833" y="628"/>
                    </a:lnTo>
                    <a:lnTo>
                      <a:pt x="2820" y="621"/>
                    </a:lnTo>
                    <a:lnTo>
                      <a:pt x="2808" y="617"/>
                    </a:lnTo>
                    <a:lnTo>
                      <a:pt x="2797" y="612"/>
                    </a:lnTo>
                    <a:lnTo>
                      <a:pt x="2788" y="604"/>
                    </a:lnTo>
                    <a:lnTo>
                      <a:pt x="2781" y="595"/>
                    </a:lnTo>
                    <a:lnTo>
                      <a:pt x="2775" y="587"/>
                    </a:lnTo>
                    <a:lnTo>
                      <a:pt x="2767" y="578"/>
                    </a:lnTo>
                    <a:lnTo>
                      <a:pt x="2759" y="571"/>
                    </a:lnTo>
                    <a:lnTo>
                      <a:pt x="2749" y="567"/>
                    </a:lnTo>
                    <a:lnTo>
                      <a:pt x="2737" y="568"/>
                    </a:lnTo>
                    <a:lnTo>
                      <a:pt x="2735" y="558"/>
                    </a:lnTo>
                    <a:lnTo>
                      <a:pt x="2732" y="552"/>
                    </a:lnTo>
                    <a:lnTo>
                      <a:pt x="2729" y="545"/>
                    </a:lnTo>
                    <a:lnTo>
                      <a:pt x="2730" y="539"/>
                    </a:lnTo>
                    <a:lnTo>
                      <a:pt x="2738" y="536"/>
                    </a:lnTo>
                    <a:lnTo>
                      <a:pt x="2747" y="534"/>
                    </a:lnTo>
                    <a:lnTo>
                      <a:pt x="2754" y="533"/>
                    </a:lnTo>
                    <a:lnTo>
                      <a:pt x="2762" y="533"/>
                    </a:lnTo>
                    <a:lnTo>
                      <a:pt x="2761" y="525"/>
                    </a:lnTo>
                    <a:lnTo>
                      <a:pt x="2759" y="521"/>
                    </a:lnTo>
                    <a:lnTo>
                      <a:pt x="2754" y="517"/>
                    </a:lnTo>
                    <a:lnTo>
                      <a:pt x="2749" y="517"/>
                    </a:lnTo>
                    <a:lnTo>
                      <a:pt x="2742" y="516"/>
                    </a:lnTo>
                    <a:lnTo>
                      <a:pt x="2736" y="515"/>
                    </a:lnTo>
                    <a:lnTo>
                      <a:pt x="2731" y="512"/>
                    </a:lnTo>
                    <a:lnTo>
                      <a:pt x="2727" y="506"/>
                    </a:lnTo>
                    <a:lnTo>
                      <a:pt x="2724" y="500"/>
                    </a:lnTo>
                    <a:lnTo>
                      <a:pt x="2721" y="494"/>
                    </a:lnTo>
                    <a:lnTo>
                      <a:pt x="2717" y="489"/>
                    </a:lnTo>
                    <a:lnTo>
                      <a:pt x="2714" y="484"/>
                    </a:lnTo>
                    <a:lnTo>
                      <a:pt x="2709" y="478"/>
                    </a:lnTo>
                    <a:lnTo>
                      <a:pt x="2707" y="472"/>
                    </a:lnTo>
                    <a:lnTo>
                      <a:pt x="2707" y="465"/>
                    </a:lnTo>
                    <a:lnTo>
                      <a:pt x="2710" y="458"/>
                    </a:lnTo>
                    <a:lnTo>
                      <a:pt x="2705" y="450"/>
                    </a:lnTo>
                    <a:lnTo>
                      <a:pt x="2698" y="447"/>
                    </a:lnTo>
                    <a:lnTo>
                      <a:pt x="2690" y="443"/>
                    </a:lnTo>
                    <a:lnTo>
                      <a:pt x="2684" y="439"/>
                    </a:lnTo>
                    <a:lnTo>
                      <a:pt x="2689" y="430"/>
                    </a:lnTo>
                    <a:lnTo>
                      <a:pt x="2697" y="426"/>
                    </a:lnTo>
                    <a:lnTo>
                      <a:pt x="2705" y="423"/>
                    </a:lnTo>
                    <a:lnTo>
                      <a:pt x="2714" y="422"/>
                    </a:lnTo>
                    <a:lnTo>
                      <a:pt x="2711" y="414"/>
                    </a:lnTo>
                    <a:lnTo>
                      <a:pt x="2707" y="409"/>
                    </a:lnTo>
                    <a:lnTo>
                      <a:pt x="2705" y="410"/>
                    </a:lnTo>
                    <a:lnTo>
                      <a:pt x="2703" y="412"/>
                    </a:lnTo>
                    <a:lnTo>
                      <a:pt x="2697" y="410"/>
                    </a:lnTo>
                    <a:lnTo>
                      <a:pt x="2691" y="409"/>
                    </a:lnTo>
                    <a:lnTo>
                      <a:pt x="2683" y="408"/>
                    </a:lnTo>
                    <a:lnTo>
                      <a:pt x="2677" y="407"/>
                    </a:lnTo>
                    <a:lnTo>
                      <a:pt x="2670" y="403"/>
                    </a:lnTo>
                    <a:lnTo>
                      <a:pt x="2664" y="400"/>
                    </a:lnTo>
                    <a:lnTo>
                      <a:pt x="2660" y="395"/>
                    </a:lnTo>
                    <a:lnTo>
                      <a:pt x="2658" y="390"/>
                    </a:lnTo>
                    <a:lnTo>
                      <a:pt x="2658" y="380"/>
                    </a:lnTo>
                    <a:lnTo>
                      <a:pt x="2655" y="370"/>
                    </a:lnTo>
                    <a:lnTo>
                      <a:pt x="2649" y="361"/>
                    </a:lnTo>
                    <a:lnTo>
                      <a:pt x="2642" y="354"/>
                    </a:lnTo>
                    <a:lnTo>
                      <a:pt x="2650" y="345"/>
                    </a:lnTo>
                    <a:lnTo>
                      <a:pt x="2656" y="334"/>
                    </a:lnTo>
                    <a:lnTo>
                      <a:pt x="2655" y="328"/>
                    </a:lnTo>
                    <a:lnTo>
                      <a:pt x="2654" y="323"/>
                    </a:lnTo>
                    <a:lnTo>
                      <a:pt x="2651" y="318"/>
                    </a:lnTo>
                    <a:lnTo>
                      <a:pt x="2646" y="315"/>
                    </a:lnTo>
                    <a:lnTo>
                      <a:pt x="2635" y="309"/>
                    </a:lnTo>
                    <a:lnTo>
                      <a:pt x="2624" y="303"/>
                    </a:lnTo>
                    <a:lnTo>
                      <a:pt x="2618" y="299"/>
                    </a:lnTo>
                    <a:lnTo>
                      <a:pt x="2612" y="296"/>
                    </a:lnTo>
                    <a:lnTo>
                      <a:pt x="2607" y="292"/>
                    </a:lnTo>
                    <a:lnTo>
                      <a:pt x="2603" y="289"/>
                    </a:lnTo>
                    <a:lnTo>
                      <a:pt x="2606" y="287"/>
                    </a:lnTo>
                    <a:lnTo>
                      <a:pt x="2613" y="287"/>
                    </a:lnTo>
                    <a:lnTo>
                      <a:pt x="2617" y="285"/>
                    </a:lnTo>
                    <a:lnTo>
                      <a:pt x="2619" y="279"/>
                    </a:lnTo>
                    <a:lnTo>
                      <a:pt x="2622" y="283"/>
                    </a:lnTo>
                    <a:lnTo>
                      <a:pt x="2624" y="278"/>
                    </a:lnTo>
                    <a:lnTo>
                      <a:pt x="2627" y="277"/>
                    </a:lnTo>
                    <a:lnTo>
                      <a:pt x="2630" y="274"/>
                    </a:lnTo>
                    <a:lnTo>
                      <a:pt x="2630" y="270"/>
                    </a:lnTo>
                    <a:lnTo>
                      <a:pt x="2622" y="266"/>
                    </a:lnTo>
                    <a:lnTo>
                      <a:pt x="2614" y="263"/>
                    </a:lnTo>
                    <a:lnTo>
                      <a:pt x="2605" y="258"/>
                    </a:lnTo>
                    <a:lnTo>
                      <a:pt x="2596" y="253"/>
                    </a:lnTo>
                    <a:lnTo>
                      <a:pt x="2593" y="244"/>
                    </a:lnTo>
                    <a:lnTo>
                      <a:pt x="2589" y="237"/>
                    </a:lnTo>
                    <a:lnTo>
                      <a:pt x="2583" y="231"/>
                    </a:lnTo>
                    <a:lnTo>
                      <a:pt x="2577" y="226"/>
                    </a:lnTo>
                    <a:lnTo>
                      <a:pt x="2570" y="221"/>
                    </a:lnTo>
                    <a:lnTo>
                      <a:pt x="2564" y="217"/>
                    </a:lnTo>
                    <a:lnTo>
                      <a:pt x="2558" y="212"/>
                    </a:lnTo>
                    <a:lnTo>
                      <a:pt x="2555" y="208"/>
                    </a:lnTo>
                    <a:lnTo>
                      <a:pt x="2564" y="205"/>
                    </a:lnTo>
                    <a:lnTo>
                      <a:pt x="2560" y="199"/>
                    </a:lnTo>
                    <a:lnTo>
                      <a:pt x="2556" y="195"/>
                    </a:lnTo>
                    <a:lnTo>
                      <a:pt x="2550" y="192"/>
                    </a:lnTo>
                    <a:lnTo>
                      <a:pt x="2544" y="190"/>
                    </a:lnTo>
                    <a:lnTo>
                      <a:pt x="2538" y="187"/>
                    </a:lnTo>
                    <a:lnTo>
                      <a:pt x="2533" y="184"/>
                    </a:lnTo>
                    <a:lnTo>
                      <a:pt x="2529" y="180"/>
                    </a:lnTo>
                    <a:lnTo>
                      <a:pt x="2528" y="176"/>
                    </a:lnTo>
                    <a:lnTo>
                      <a:pt x="2544" y="172"/>
                    </a:lnTo>
                    <a:lnTo>
                      <a:pt x="2538" y="168"/>
                    </a:lnTo>
                    <a:lnTo>
                      <a:pt x="2532" y="164"/>
                    </a:lnTo>
                    <a:lnTo>
                      <a:pt x="2526" y="161"/>
                    </a:lnTo>
                    <a:lnTo>
                      <a:pt x="2521" y="158"/>
                    </a:lnTo>
                    <a:lnTo>
                      <a:pt x="2514" y="155"/>
                    </a:lnTo>
                    <a:lnTo>
                      <a:pt x="2508" y="153"/>
                    </a:lnTo>
                    <a:lnTo>
                      <a:pt x="2502" y="151"/>
                    </a:lnTo>
                    <a:lnTo>
                      <a:pt x="2496" y="149"/>
                    </a:lnTo>
                    <a:lnTo>
                      <a:pt x="2499" y="146"/>
                    </a:lnTo>
                    <a:lnTo>
                      <a:pt x="2488" y="142"/>
                    </a:lnTo>
                    <a:lnTo>
                      <a:pt x="2479" y="138"/>
                    </a:lnTo>
                    <a:lnTo>
                      <a:pt x="2472" y="131"/>
                    </a:lnTo>
                    <a:lnTo>
                      <a:pt x="2470" y="123"/>
                    </a:lnTo>
                    <a:lnTo>
                      <a:pt x="2464" y="123"/>
                    </a:lnTo>
                    <a:lnTo>
                      <a:pt x="2457" y="124"/>
                    </a:lnTo>
                    <a:lnTo>
                      <a:pt x="2451" y="123"/>
                    </a:lnTo>
                    <a:lnTo>
                      <a:pt x="2446" y="122"/>
                    </a:lnTo>
                    <a:lnTo>
                      <a:pt x="2436" y="118"/>
                    </a:lnTo>
                    <a:lnTo>
                      <a:pt x="2427" y="114"/>
                    </a:lnTo>
                    <a:lnTo>
                      <a:pt x="2443" y="107"/>
                    </a:lnTo>
                    <a:lnTo>
                      <a:pt x="2435" y="104"/>
                    </a:lnTo>
                    <a:lnTo>
                      <a:pt x="2428" y="104"/>
                    </a:lnTo>
                    <a:lnTo>
                      <a:pt x="2419" y="103"/>
                    </a:lnTo>
                    <a:lnTo>
                      <a:pt x="2411" y="101"/>
                    </a:lnTo>
                    <a:lnTo>
                      <a:pt x="2416" y="97"/>
                    </a:lnTo>
                    <a:lnTo>
                      <a:pt x="2421" y="94"/>
                    </a:lnTo>
                    <a:lnTo>
                      <a:pt x="2413" y="89"/>
                    </a:lnTo>
                    <a:lnTo>
                      <a:pt x="2404" y="89"/>
                    </a:lnTo>
                    <a:lnTo>
                      <a:pt x="2395" y="90"/>
                    </a:lnTo>
                    <a:lnTo>
                      <a:pt x="2389" y="88"/>
                    </a:lnTo>
                    <a:lnTo>
                      <a:pt x="2390" y="86"/>
                    </a:lnTo>
                    <a:lnTo>
                      <a:pt x="2395" y="85"/>
                    </a:lnTo>
                    <a:lnTo>
                      <a:pt x="2403" y="84"/>
                    </a:lnTo>
                    <a:lnTo>
                      <a:pt x="2405" y="77"/>
                    </a:lnTo>
                    <a:lnTo>
                      <a:pt x="2398" y="77"/>
                    </a:lnTo>
                    <a:lnTo>
                      <a:pt x="2398" y="74"/>
                    </a:lnTo>
                    <a:lnTo>
                      <a:pt x="2382" y="74"/>
                    </a:lnTo>
                    <a:lnTo>
                      <a:pt x="2383" y="71"/>
                    </a:lnTo>
                    <a:lnTo>
                      <a:pt x="2382" y="68"/>
                    </a:lnTo>
                    <a:lnTo>
                      <a:pt x="2372" y="68"/>
                    </a:lnTo>
                    <a:lnTo>
                      <a:pt x="2366" y="69"/>
                    </a:lnTo>
                    <a:lnTo>
                      <a:pt x="2362" y="70"/>
                    </a:lnTo>
                    <a:lnTo>
                      <a:pt x="2358" y="71"/>
                    </a:lnTo>
                    <a:lnTo>
                      <a:pt x="2354" y="72"/>
                    </a:lnTo>
                    <a:lnTo>
                      <a:pt x="2349" y="74"/>
                    </a:lnTo>
                    <a:lnTo>
                      <a:pt x="2348" y="67"/>
                    </a:lnTo>
                    <a:lnTo>
                      <a:pt x="2346" y="61"/>
                    </a:lnTo>
                    <a:lnTo>
                      <a:pt x="2343" y="56"/>
                    </a:lnTo>
                    <a:lnTo>
                      <a:pt x="2346" y="52"/>
                    </a:lnTo>
                    <a:lnTo>
                      <a:pt x="2339" y="49"/>
                    </a:lnTo>
                    <a:lnTo>
                      <a:pt x="2333" y="50"/>
                    </a:lnTo>
                    <a:lnTo>
                      <a:pt x="2325" y="51"/>
                    </a:lnTo>
                    <a:lnTo>
                      <a:pt x="2318" y="53"/>
                    </a:lnTo>
                    <a:lnTo>
                      <a:pt x="2311" y="53"/>
                    </a:lnTo>
                    <a:lnTo>
                      <a:pt x="2306" y="53"/>
                    </a:lnTo>
                    <a:lnTo>
                      <a:pt x="2302" y="50"/>
                    </a:lnTo>
                    <a:lnTo>
                      <a:pt x="2301" y="45"/>
                    </a:lnTo>
                    <a:lnTo>
                      <a:pt x="2292" y="44"/>
                    </a:lnTo>
                    <a:lnTo>
                      <a:pt x="2284" y="44"/>
                    </a:lnTo>
                    <a:lnTo>
                      <a:pt x="2276" y="45"/>
                    </a:lnTo>
                    <a:lnTo>
                      <a:pt x="2269" y="47"/>
                    </a:lnTo>
                    <a:lnTo>
                      <a:pt x="2260" y="47"/>
                    </a:lnTo>
                    <a:lnTo>
                      <a:pt x="2252" y="47"/>
                    </a:lnTo>
                    <a:lnTo>
                      <a:pt x="2244" y="45"/>
                    </a:lnTo>
                    <a:lnTo>
                      <a:pt x="2236" y="42"/>
                    </a:lnTo>
                    <a:lnTo>
                      <a:pt x="2226" y="41"/>
                    </a:lnTo>
                    <a:lnTo>
                      <a:pt x="2217" y="41"/>
                    </a:lnTo>
                    <a:lnTo>
                      <a:pt x="2207" y="41"/>
                    </a:lnTo>
                    <a:lnTo>
                      <a:pt x="2198" y="42"/>
                    </a:lnTo>
                    <a:lnTo>
                      <a:pt x="2189" y="41"/>
                    </a:lnTo>
                    <a:lnTo>
                      <a:pt x="2181" y="41"/>
                    </a:lnTo>
                    <a:lnTo>
                      <a:pt x="2173" y="39"/>
                    </a:lnTo>
                    <a:lnTo>
                      <a:pt x="2167" y="36"/>
                    </a:lnTo>
                    <a:lnTo>
                      <a:pt x="2164" y="31"/>
                    </a:lnTo>
                    <a:lnTo>
                      <a:pt x="2161" y="29"/>
                    </a:lnTo>
                    <a:lnTo>
                      <a:pt x="2157" y="28"/>
                    </a:lnTo>
                    <a:lnTo>
                      <a:pt x="2153" y="29"/>
                    </a:lnTo>
                    <a:lnTo>
                      <a:pt x="2148" y="29"/>
                    </a:lnTo>
                    <a:lnTo>
                      <a:pt x="2143" y="30"/>
                    </a:lnTo>
                    <a:lnTo>
                      <a:pt x="2137" y="29"/>
                    </a:lnTo>
                    <a:lnTo>
                      <a:pt x="2132" y="26"/>
                    </a:lnTo>
                    <a:lnTo>
                      <a:pt x="2135" y="26"/>
                    </a:lnTo>
                    <a:lnTo>
                      <a:pt x="2130" y="21"/>
                    </a:lnTo>
                    <a:lnTo>
                      <a:pt x="2127" y="16"/>
                    </a:lnTo>
                    <a:lnTo>
                      <a:pt x="2119" y="15"/>
                    </a:lnTo>
                    <a:lnTo>
                      <a:pt x="2112" y="15"/>
                    </a:lnTo>
                    <a:lnTo>
                      <a:pt x="2106" y="16"/>
                    </a:lnTo>
                    <a:lnTo>
                      <a:pt x="2100" y="17"/>
                    </a:lnTo>
                    <a:lnTo>
                      <a:pt x="2094" y="16"/>
                    </a:lnTo>
                    <a:lnTo>
                      <a:pt x="2089" y="15"/>
                    </a:lnTo>
                    <a:lnTo>
                      <a:pt x="2084" y="12"/>
                    </a:lnTo>
                    <a:lnTo>
                      <a:pt x="2082" y="7"/>
                    </a:lnTo>
                    <a:lnTo>
                      <a:pt x="2072" y="6"/>
                    </a:lnTo>
                    <a:lnTo>
                      <a:pt x="2062" y="6"/>
                    </a:lnTo>
                    <a:lnTo>
                      <a:pt x="2052" y="6"/>
                    </a:lnTo>
                    <a:lnTo>
                      <a:pt x="2041" y="6"/>
                    </a:lnTo>
                    <a:lnTo>
                      <a:pt x="2031" y="6"/>
                    </a:lnTo>
                    <a:lnTo>
                      <a:pt x="2021" y="8"/>
                    </a:lnTo>
                    <a:lnTo>
                      <a:pt x="2012" y="11"/>
                    </a:lnTo>
                    <a:lnTo>
                      <a:pt x="2004" y="16"/>
                    </a:lnTo>
                    <a:lnTo>
                      <a:pt x="1979" y="16"/>
                    </a:lnTo>
                    <a:lnTo>
                      <a:pt x="1954" y="17"/>
                    </a:lnTo>
                    <a:lnTo>
                      <a:pt x="1929" y="18"/>
                    </a:lnTo>
                    <a:lnTo>
                      <a:pt x="1904" y="21"/>
                    </a:lnTo>
                    <a:lnTo>
                      <a:pt x="1876" y="23"/>
                    </a:lnTo>
                    <a:lnTo>
                      <a:pt x="1850" y="26"/>
                    </a:lnTo>
                    <a:lnTo>
                      <a:pt x="1824" y="29"/>
                    </a:lnTo>
                    <a:lnTo>
                      <a:pt x="1800" y="32"/>
                    </a:lnTo>
                    <a:lnTo>
                      <a:pt x="1812" y="27"/>
                    </a:lnTo>
                    <a:lnTo>
                      <a:pt x="1824" y="23"/>
                    </a:lnTo>
                    <a:lnTo>
                      <a:pt x="1836" y="19"/>
                    </a:lnTo>
                    <a:lnTo>
                      <a:pt x="1848" y="16"/>
                    </a:lnTo>
                    <a:lnTo>
                      <a:pt x="1859" y="12"/>
                    </a:lnTo>
                    <a:lnTo>
                      <a:pt x="1871" y="9"/>
                    </a:lnTo>
                    <a:lnTo>
                      <a:pt x="1883" y="6"/>
                    </a:lnTo>
                    <a:lnTo>
                      <a:pt x="1894" y="3"/>
                    </a:lnTo>
                    <a:lnTo>
                      <a:pt x="1877" y="3"/>
                    </a:lnTo>
                    <a:lnTo>
                      <a:pt x="1867" y="1"/>
                    </a:lnTo>
                    <a:lnTo>
                      <a:pt x="1858" y="2"/>
                    </a:lnTo>
                    <a:lnTo>
                      <a:pt x="1849" y="3"/>
                    </a:lnTo>
                    <a:lnTo>
                      <a:pt x="1840" y="6"/>
                    </a:lnTo>
                    <a:lnTo>
                      <a:pt x="1831" y="8"/>
                    </a:lnTo>
                    <a:lnTo>
                      <a:pt x="1822" y="10"/>
                    </a:lnTo>
                    <a:lnTo>
                      <a:pt x="1814" y="10"/>
                    </a:lnTo>
                    <a:lnTo>
                      <a:pt x="1806" y="10"/>
                    </a:lnTo>
                    <a:lnTo>
                      <a:pt x="1808" y="5"/>
                    </a:lnTo>
                    <a:lnTo>
                      <a:pt x="1809" y="0"/>
                    </a:lnTo>
                    <a:lnTo>
                      <a:pt x="1802" y="0"/>
                    </a:lnTo>
                    <a:lnTo>
                      <a:pt x="1795" y="0"/>
                    </a:lnTo>
                    <a:lnTo>
                      <a:pt x="1788" y="0"/>
                    </a:lnTo>
                    <a:lnTo>
                      <a:pt x="1782" y="1"/>
                    </a:lnTo>
                    <a:lnTo>
                      <a:pt x="1775" y="1"/>
                    </a:lnTo>
                    <a:lnTo>
                      <a:pt x="1770" y="4"/>
                    </a:lnTo>
                    <a:lnTo>
                      <a:pt x="1765" y="6"/>
                    </a:lnTo>
                    <a:lnTo>
                      <a:pt x="1763" y="10"/>
                    </a:lnTo>
                    <a:lnTo>
                      <a:pt x="1761" y="7"/>
                    </a:lnTo>
                    <a:lnTo>
                      <a:pt x="1763" y="5"/>
                    </a:lnTo>
                    <a:lnTo>
                      <a:pt x="1764" y="2"/>
                    </a:lnTo>
                    <a:lnTo>
                      <a:pt x="1763" y="0"/>
                    </a:lnTo>
                    <a:lnTo>
                      <a:pt x="1755" y="0"/>
                    </a:lnTo>
                    <a:lnTo>
                      <a:pt x="1747" y="3"/>
                    </a:lnTo>
                    <a:lnTo>
                      <a:pt x="1739" y="6"/>
                    </a:lnTo>
                    <a:lnTo>
                      <a:pt x="1734" y="7"/>
                    </a:lnTo>
                    <a:lnTo>
                      <a:pt x="1729" y="6"/>
                    </a:lnTo>
                    <a:lnTo>
                      <a:pt x="1724" y="9"/>
                    </a:lnTo>
                    <a:lnTo>
                      <a:pt x="1719" y="13"/>
                    </a:lnTo>
                    <a:lnTo>
                      <a:pt x="1713" y="17"/>
                    </a:lnTo>
                    <a:lnTo>
                      <a:pt x="1707" y="19"/>
                    </a:lnTo>
                    <a:lnTo>
                      <a:pt x="1703" y="20"/>
                    </a:lnTo>
                    <a:lnTo>
                      <a:pt x="1698" y="17"/>
                    </a:lnTo>
                    <a:lnTo>
                      <a:pt x="1695" y="10"/>
                    </a:lnTo>
                    <a:lnTo>
                      <a:pt x="1687" y="12"/>
                    </a:lnTo>
                    <a:lnTo>
                      <a:pt x="1679" y="15"/>
                    </a:lnTo>
                    <a:lnTo>
                      <a:pt x="1670" y="19"/>
                    </a:lnTo>
                    <a:lnTo>
                      <a:pt x="1662" y="24"/>
                    </a:lnTo>
                    <a:lnTo>
                      <a:pt x="1653" y="28"/>
                    </a:lnTo>
                    <a:lnTo>
                      <a:pt x="1644" y="33"/>
                    </a:lnTo>
                    <a:lnTo>
                      <a:pt x="1635" y="37"/>
                    </a:lnTo>
                    <a:lnTo>
                      <a:pt x="1626" y="42"/>
                    </a:lnTo>
                    <a:lnTo>
                      <a:pt x="1620" y="29"/>
                    </a:lnTo>
                    <a:lnTo>
                      <a:pt x="1612" y="32"/>
                    </a:lnTo>
                    <a:lnTo>
                      <a:pt x="1604" y="37"/>
                    </a:lnTo>
                    <a:lnTo>
                      <a:pt x="1596" y="41"/>
                    </a:lnTo>
                    <a:lnTo>
                      <a:pt x="1588" y="47"/>
                    </a:lnTo>
                    <a:lnTo>
                      <a:pt x="1579" y="53"/>
                    </a:lnTo>
                    <a:lnTo>
                      <a:pt x="1572" y="59"/>
                    </a:lnTo>
                    <a:lnTo>
                      <a:pt x="1565" y="65"/>
                    </a:lnTo>
                    <a:lnTo>
                      <a:pt x="1559" y="71"/>
                    </a:lnTo>
                    <a:lnTo>
                      <a:pt x="1552" y="65"/>
                    </a:lnTo>
                    <a:lnTo>
                      <a:pt x="1552" y="61"/>
                    </a:lnTo>
                    <a:lnTo>
                      <a:pt x="1545" y="55"/>
                    </a:lnTo>
                    <a:lnTo>
                      <a:pt x="1500" y="88"/>
                    </a:lnTo>
                    <a:lnTo>
                      <a:pt x="1501" y="81"/>
                    </a:lnTo>
                    <a:lnTo>
                      <a:pt x="1503" y="73"/>
                    </a:lnTo>
                    <a:lnTo>
                      <a:pt x="1502" y="67"/>
                    </a:lnTo>
                    <a:lnTo>
                      <a:pt x="1497" y="65"/>
                    </a:lnTo>
                    <a:lnTo>
                      <a:pt x="1431" y="120"/>
                    </a:lnTo>
                    <a:lnTo>
                      <a:pt x="1419" y="117"/>
                    </a:lnTo>
                    <a:lnTo>
                      <a:pt x="1360" y="162"/>
                    </a:lnTo>
                    <a:lnTo>
                      <a:pt x="1357" y="152"/>
                    </a:lnTo>
                    <a:lnTo>
                      <a:pt x="1346" y="156"/>
                    </a:lnTo>
                    <a:lnTo>
                      <a:pt x="1336" y="162"/>
                    </a:lnTo>
                    <a:lnTo>
                      <a:pt x="1326" y="169"/>
                    </a:lnTo>
                    <a:lnTo>
                      <a:pt x="1316" y="176"/>
                    </a:lnTo>
                    <a:lnTo>
                      <a:pt x="1306" y="182"/>
                    </a:lnTo>
                    <a:lnTo>
                      <a:pt x="1295" y="190"/>
                    </a:lnTo>
                    <a:lnTo>
                      <a:pt x="1286" y="197"/>
                    </a:lnTo>
                    <a:lnTo>
                      <a:pt x="1278" y="205"/>
                    </a:lnTo>
                    <a:lnTo>
                      <a:pt x="1275" y="201"/>
                    </a:lnTo>
                    <a:lnTo>
                      <a:pt x="1278" y="197"/>
                    </a:lnTo>
                    <a:lnTo>
                      <a:pt x="1276" y="195"/>
                    </a:lnTo>
                    <a:lnTo>
                      <a:pt x="1272" y="192"/>
                    </a:lnTo>
                    <a:lnTo>
                      <a:pt x="1269" y="189"/>
                    </a:lnTo>
                    <a:lnTo>
                      <a:pt x="1253" y="205"/>
                    </a:lnTo>
                    <a:lnTo>
                      <a:pt x="1237" y="221"/>
                    </a:lnTo>
                    <a:lnTo>
                      <a:pt x="1221" y="235"/>
                    </a:lnTo>
                    <a:lnTo>
                      <a:pt x="1205" y="249"/>
                    </a:lnTo>
                    <a:lnTo>
                      <a:pt x="1190" y="262"/>
                    </a:lnTo>
                    <a:lnTo>
                      <a:pt x="1175" y="274"/>
                    </a:lnTo>
                    <a:lnTo>
                      <a:pt x="1160" y="286"/>
                    </a:lnTo>
                    <a:lnTo>
                      <a:pt x="1146" y="299"/>
                    </a:lnTo>
                    <a:lnTo>
                      <a:pt x="1134" y="304"/>
                    </a:lnTo>
                    <a:lnTo>
                      <a:pt x="1124" y="312"/>
                    </a:lnTo>
                    <a:lnTo>
                      <a:pt x="1114" y="321"/>
                    </a:lnTo>
                    <a:lnTo>
                      <a:pt x="1106" y="331"/>
                    </a:lnTo>
                    <a:lnTo>
                      <a:pt x="1103" y="329"/>
                    </a:lnTo>
                    <a:lnTo>
                      <a:pt x="1103" y="328"/>
                    </a:lnTo>
                    <a:lnTo>
                      <a:pt x="1101" y="331"/>
                    </a:lnTo>
                    <a:lnTo>
                      <a:pt x="1097" y="334"/>
                    </a:lnTo>
                    <a:lnTo>
                      <a:pt x="1092" y="336"/>
                    </a:lnTo>
                    <a:lnTo>
                      <a:pt x="1090" y="340"/>
                    </a:lnTo>
                    <a:lnTo>
                      <a:pt x="1083" y="347"/>
                    </a:lnTo>
                    <a:lnTo>
                      <a:pt x="1077" y="354"/>
                    </a:lnTo>
                    <a:lnTo>
                      <a:pt x="1073" y="356"/>
                    </a:lnTo>
                    <a:lnTo>
                      <a:pt x="1070" y="359"/>
                    </a:lnTo>
                    <a:lnTo>
                      <a:pt x="1066" y="360"/>
                    </a:lnTo>
                    <a:lnTo>
                      <a:pt x="1061" y="361"/>
                    </a:lnTo>
                    <a:lnTo>
                      <a:pt x="1031" y="399"/>
                    </a:lnTo>
                    <a:lnTo>
                      <a:pt x="1028" y="396"/>
                    </a:lnTo>
                    <a:lnTo>
                      <a:pt x="1022" y="401"/>
                    </a:lnTo>
                    <a:lnTo>
                      <a:pt x="1017" y="408"/>
                    </a:lnTo>
                    <a:lnTo>
                      <a:pt x="1011" y="415"/>
                    </a:lnTo>
                    <a:lnTo>
                      <a:pt x="1006" y="422"/>
                    </a:lnTo>
                    <a:lnTo>
                      <a:pt x="999" y="427"/>
                    </a:lnTo>
                    <a:lnTo>
                      <a:pt x="993" y="431"/>
                    </a:lnTo>
                    <a:lnTo>
                      <a:pt x="986" y="431"/>
                    </a:lnTo>
                    <a:lnTo>
                      <a:pt x="980" y="428"/>
                    </a:lnTo>
                    <a:lnTo>
                      <a:pt x="966" y="447"/>
                    </a:lnTo>
                    <a:lnTo>
                      <a:pt x="952" y="463"/>
                    </a:lnTo>
                    <a:lnTo>
                      <a:pt x="935" y="476"/>
                    </a:lnTo>
                    <a:lnTo>
                      <a:pt x="919" y="486"/>
                    </a:lnTo>
                    <a:lnTo>
                      <a:pt x="900" y="494"/>
                    </a:lnTo>
                    <a:lnTo>
                      <a:pt x="881" y="502"/>
                    </a:lnTo>
                    <a:lnTo>
                      <a:pt x="863" y="511"/>
                    </a:lnTo>
                    <a:lnTo>
                      <a:pt x="846" y="523"/>
                    </a:lnTo>
                    <a:lnTo>
                      <a:pt x="841" y="523"/>
                    </a:lnTo>
                    <a:lnTo>
                      <a:pt x="837" y="528"/>
                    </a:lnTo>
                    <a:lnTo>
                      <a:pt x="833" y="530"/>
                    </a:lnTo>
                    <a:lnTo>
                      <a:pt x="830" y="526"/>
                    </a:lnTo>
                    <a:lnTo>
                      <a:pt x="827" y="528"/>
                    </a:lnTo>
                    <a:lnTo>
                      <a:pt x="827" y="530"/>
                    </a:lnTo>
                    <a:lnTo>
                      <a:pt x="820" y="519"/>
                    </a:lnTo>
                    <a:lnTo>
                      <a:pt x="810" y="512"/>
                    </a:lnTo>
                    <a:lnTo>
                      <a:pt x="804" y="502"/>
                    </a:lnTo>
                    <a:lnTo>
                      <a:pt x="797" y="491"/>
                    </a:lnTo>
                    <a:lnTo>
                      <a:pt x="793" y="484"/>
                    </a:lnTo>
                    <a:lnTo>
                      <a:pt x="797" y="475"/>
                    </a:lnTo>
                    <a:lnTo>
                      <a:pt x="798" y="467"/>
                    </a:lnTo>
                    <a:lnTo>
                      <a:pt x="798" y="459"/>
                    </a:lnTo>
                    <a:lnTo>
                      <a:pt x="798" y="451"/>
                    </a:lnTo>
                    <a:lnTo>
                      <a:pt x="798" y="442"/>
                    </a:lnTo>
                    <a:lnTo>
                      <a:pt x="799" y="434"/>
                    </a:lnTo>
                    <a:lnTo>
                      <a:pt x="802" y="425"/>
                    </a:lnTo>
                    <a:lnTo>
                      <a:pt x="810" y="418"/>
                    </a:lnTo>
                    <a:lnTo>
                      <a:pt x="811" y="409"/>
                    </a:lnTo>
                    <a:lnTo>
                      <a:pt x="814" y="401"/>
                    </a:lnTo>
                    <a:lnTo>
                      <a:pt x="817" y="392"/>
                    </a:lnTo>
                    <a:lnTo>
                      <a:pt x="820" y="384"/>
                    </a:lnTo>
                    <a:lnTo>
                      <a:pt x="822" y="375"/>
                    </a:lnTo>
                    <a:lnTo>
                      <a:pt x="824" y="367"/>
                    </a:lnTo>
                    <a:lnTo>
                      <a:pt x="826" y="359"/>
                    </a:lnTo>
                    <a:lnTo>
                      <a:pt x="827" y="351"/>
                    </a:lnTo>
                    <a:lnTo>
                      <a:pt x="821" y="345"/>
                    </a:lnTo>
                    <a:lnTo>
                      <a:pt x="817" y="345"/>
                    </a:lnTo>
                    <a:lnTo>
                      <a:pt x="800" y="364"/>
                    </a:lnTo>
                    <a:lnTo>
                      <a:pt x="782" y="380"/>
                    </a:lnTo>
                    <a:lnTo>
                      <a:pt x="761" y="394"/>
                    </a:lnTo>
                    <a:lnTo>
                      <a:pt x="740" y="407"/>
                    </a:lnTo>
                    <a:lnTo>
                      <a:pt x="716" y="419"/>
                    </a:lnTo>
                    <a:lnTo>
                      <a:pt x="695" y="434"/>
                    </a:lnTo>
                    <a:lnTo>
                      <a:pt x="674" y="449"/>
                    </a:lnTo>
                    <a:lnTo>
                      <a:pt x="657" y="468"/>
                    </a:lnTo>
                    <a:lnTo>
                      <a:pt x="657" y="452"/>
                    </a:lnTo>
                    <a:lnTo>
                      <a:pt x="651" y="452"/>
                    </a:lnTo>
                    <a:lnTo>
                      <a:pt x="648" y="457"/>
                    </a:lnTo>
                    <a:lnTo>
                      <a:pt x="647" y="463"/>
                    </a:lnTo>
                    <a:lnTo>
                      <a:pt x="647" y="469"/>
                    </a:lnTo>
                    <a:lnTo>
                      <a:pt x="647" y="475"/>
                    </a:lnTo>
                    <a:lnTo>
                      <a:pt x="645" y="479"/>
                    </a:lnTo>
                    <a:lnTo>
                      <a:pt x="644" y="484"/>
                    </a:lnTo>
                    <a:lnTo>
                      <a:pt x="640" y="488"/>
                    </a:lnTo>
                    <a:lnTo>
                      <a:pt x="634" y="493"/>
                    </a:lnTo>
                    <a:lnTo>
                      <a:pt x="627" y="486"/>
                    </a:lnTo>
                    <a:lnTo>
                      <a:pt x="626" y="478"/>
                    </a:lnTo>
                    <a:lnTo>
                      <a:pt x="623" y="470"/>
                    </a:lnTo>
                    <a:lnTo>
                      <a:pt x="618" y="468"/>
                    </a:lnTo>
                    <a:lnTo>
                      <a:pt x="618" y="473"/>
                    </a:lnTo>
                    <a:lnTo>
                      <a:pt x="620" y="481"/>
                    </a:lnTo>
                    <a:lnTo>
                      <a:pt x="624" y="489"/>
                    </a:lnTo>
                    <a:lnTo>
                      <a:pt x="631" y="497"/>
                    </a:lnTo>
                    <a:lnTo>
                      <a:pt x="618" y="506"/>
                    </a:lnTo>
                    <a:lnTo>
                      <a:pt x="611" y="495"/>
                    </a:lnTo>
                    <a:lnTo>
                      <a:pt x="605" y="485"/>
                    </a:lnTo>
                    <a:lnTo>
                      <a:pt x="598" y="473"/>
                    </a:lnTo>
                    <a:lnTo>
                      <a:pt x="591" y="464"/>
                    </a:lnTo>
                    <a:lnTo>
                      <a:pt x="582" y="454"/>
                    </a:lnTo>
                    <a:lnTo>
                      <a:pt x="574" y="447"/>
                    </a:lnTo>
                    <a:lnTo>
                      <a:pt x="564" y="441"/>
                    </a:lnTo>
                    <a:lnTo>
                      <a:pt x="552" y="439"/>
                    </a:lnTo>
                    <a:lnTo>
                      <a:pt x="552" y="448"/>
                    </a:lnTo>
                    <a:lnTo>
                      <a:pt x="559" y="446"/>
                    </a:lnTo>
                    <a:lnTo>
                      <a:pt x="564" y="448"/>
                    </a:lnTo>
                    <a:lnTo>
                      <a:pt x="569" y="451"/>
                    </a:lnTo>
                    <a:lnTo>
                      <a:pt x="576" y="455"/>
                    </a:lnTo>
                    <a:lnTo>
                      <a:pt x="581" y="461"/>
                    </a:lnTo>
                    <a:lnTo>
                      <a:pt x="587" y="469"/>
                    </a:lnTo>
                    <a:lnTo>
                      <a:pt x="593" y="477"/>
                    </a:lnTo>
                    <a:lnTo>
                      <a:pt x="599" y="485"/>
                    </a:lnTo>
                    <a:lnTo>
                      <a:pt x="603" y="493"/>
                    </a:lnTo>
                    <a:lnTo>
                      <a:pt x="607" y="502"/>
                    </a:lnTo>
                    <a:lnTo>
                      <a:pt x="608" y="510"/>
                    </a:lnTo>
                    <a:lnTo>
                      <a:pt x="608" y="519"/>
                    </a:lnTo>
                    <a:lnTo>
                      <a:pt x="600" y="513"/>
                    </a:lnTo>
                    <a:lnTo>
                      <a:pt x="593" y="507"/>
                    </a:lnTo>
                    <a:lnTo>
                      <a:pt x="586" y="502"/>
                    </a:lnTo>
                    <a:lnTo>
                      <a:pt x="579" y="500"/>
                    </a:lnTo>
                    <a:lnTo>
                      <a:pt x="579" y="507"/>
                    </a:lnTo>
                    <a:lnTo>
                      <a:pt x="586" y="512"/>
                    </a:lnTo>
                    <a:lnTo>
                      <a:pt x="593" y="517"/>
                    </a:lnTo>
                    <a:lnTo>
                      <a:pt x="598" y="526"/>
                    </a:lnTo>
                    <a:lnTo>
                      <a:pt x="586" y="539"/>
                    </a:lnTo>
                    <a:lnTo>
                      <a:pt x="577" y="529"/>
                    </a:lnTo>
                    <a:lnTo>
                      <a:pt x="569" y="522"/>
                    </a:lnTo>
                    <a:lnTo>
                      <a:pt x="559" y="515"/>
                    </a:lnTo>
                    <a:lnTo>
                      <a:pt x="549" y="513"/>
                    </a:lnTo>
                    <a:lnTo>
                      <a:pt x="547" y="519"/>
                    </a:lnTo>
                    <a:lnTo>
                      <a:pt x="552" y="524"/>
                    </a:lnTo>
                    <a:lnTo>
                      <a:pt x="559" y="527"/>
                    </a:lnTo>
                    <a:lnTo>
                      <a:pt x="566" y="533"/>
                    </a:lnTo>
                    <a:lnTo>
                      <a:pt x="558" y="534"/>
                    </a:lnTo>
                    <a:lnTo>
                      <a:pt x="551" y="531"/>
                    </a:lnTo>
                    <a:lnTo>
                      <a:pt x="545" y="526"/>
                    </a:lnTo>
                    <a:lnTo>
                      <a:pt x="540" y="523"/>
                    </a:lnTo>
                    <a:lnTo>
                      <a:pt x="540" y="531"/>
                    </a:lnTo>
                    <a:lnTo>
                      <a:pt x="547" y="538"/>
                    </a:lnTo>
                    <a:lnTo>
                      <a:pt x="557" y="543"/>
                    </a:lnTo>
                    <a:lnTo>
                      <a:pt x="566" y="549"/>
                    </a:lnTo>
                    <a:lnTo>
                      <a:pt x="562" y="558"/>
                    </a:lnTo>
                    <a:lnTo>
                      <a:pt x="557" y="565"/>
                    </a:lnTo>
                    <a:lnTo>
                      <a:pt x="547" y="560"/>
                    </a:lnTo>
                    <a:lnTo>
                      <a:pt x="541" y="557"/>
                    </a:lnTo>
                    <a:lnTo>
                      <a:pt x="536" y="555"/>
                    </a:lnTo>
                    <a:lnTo>
                      <a:pt x="532" y="555"/>
                    </a:lnTo>
                    <a:lnTo>
                      <a:pt x="527" y="555"/>
                    </a:lnTo>
                    <a:lnTo>
                      <a:pt x="522" y="556"/>
                    </a:lnTo>
                    <a:lnTo>
                      <a:pt x="515" y="557"/>
                    </a:lnTo>
                    <a:lnTo>
                      <a:pt x="507" y="559"/>
                    </a:lnTo>
                    <a:lnTo>
                      <a:pt x="511" y="562"/>
                    </a:lnTo>
                    <a:lnTo>
                      <a:pt x="516" y="564"/>
                    </a:lnTo>
                    <a:lnTo>
                      <a:pt x="522" y="564"/>
                    </a:lnTo>
                    <a:lnTo>
                      <a:pt x="529" y="564"/>
                    </a:lnTo>
                    <a:lnTo>
                      <a:pt x="535" y="563"/>
                    </a:lnTo>
                    <a:lnTo>
                      <a:pt x="542" y="564"/>
                    </a:lnTo>
                    <a:lnTo>
                      <a:pt x="547" y="564"/>
                    </a:lnTo>
                    <a:lnTo>
                      <a:pt x="552" y="568"/>
                    </a:lnTo>
                    <a:lnTo>
                      <a:pt x="548" y="576"/>
                    </a:lnTo>
                    <a:lnTo>
                      <a:pt x="544" y="581"/>
                    </a:lnTo>
                    <a:lnTo>
                      <a:pt x="539" y="584"/>
                    </a:lnTo>
                    <a:lnTo>
                      <a:pt x="534" y="585"/>
                    </a:lnTo>
                    <a:lnTo>
                      <a:pt x="527" y="585"/>
                    </a:lnTo>
                    <a:lnTo>
                      <a:pt x="521" y="586"/>
                    </a:lnTo>
                    <a:lnTo>
                      <a:pt x="515" y="589"/>
                    </a:lnTo>
                    <a:lnTo>
                      <a:pt x="511" y="594"/>
                    </a:lnTo>
                    <a:lnTo>
                      <a:pt x="514" y="604"/>
                    </a:lnTo>
                    <a:lnTo>
                      <a:pt x="519" y="600"/>
                    </a:lnTo>
                    <a:lnTo>
                      <a:pt x="525" y="598"/>
                    </a:lnTo>
                    <a:lnTo>
                      <a:pt x="532" y="597"/>
                    </a:lnTo>
                    <a:lnTo>
                      <a:pt x="540" y="600"/>
                    </a:lnTo>
                    <a:lnTo>
                      <a:pt x="534" y="609"/>
                    </a:lnTo>
                    <a:lnTo>
                      <a:pt x="528" y="617"/>
                    </a:lnTo>
                    <a:lnTo>
                      <a:pt x="522" y="625"/>
                    </a:lnTo>
                    <a:lnTo>
                      <a:pt x="517" y="634"/>
                    </a:lnTo>
                    <a:lnTo>
                      <a:pt x="510" y="642"/>
                    </a:lnTo>
                    <a:lnTo>
                      <a:pt x="504" y="650"/>
                    </a:lnTo>
                    <a:lnTo>
                      <a:pt x="497" y="658"/>
                    </a:lnTo>
                    <a:lnTo>
                      <a:pt x="491" y="666"/>
                    </a:lnTo>
                    <a:lnTo>
                      <a:pt x="482" y="666"/>
                    </a:lnTo>
                    <a:lnTo>
                      <a:pt x="475" y="669"/>
                    </a:lnTo>
                    <a:lnTo>
                      <a:pt x="472" y="676"/>
                    </a:lnTo>
                    <a:lnTo>
                      <a:pt x="467" y="684"/>
                    </a:lnTo>
                    <a:lnTo>
                      <a:pt x="462" y="691"/>
                    </a:lnTo>
                    <a:lnTo>
                      <a:pt x="458" y="700"/>
                    </a:lnTo>
                    <a:lnTo>
                      <a:pt x="452" y="705"/>
                    </a:lnTo>
                    <a:lnTo>
                      <a:pt x="448" y="711"/>
                    </a:lnTo>
                    <a:lnTo>
                      <a:pt x="445" y="716"/>
                    </a:lnTo>
                    <a:lnTo>
                      <a:pt x="445" y="721"/>
                    </a:lnTo>
                    <a:lnTo>
                      <a:pt x="440" y="726"/>
                    </a:lnTo>
                    <a:lnTo>
                      <a:pt x="435" y="729"/>
                    </a:lnTo>
                    <a:lnTo>
                      <a:pt x="430" y="729"/>
                    </a:lnTo>
                    <a:lnTo>
                      <a:pt x="426" y="728"/>
                    </a:lnTo>
                    <a:lnTo>
                      <a:pt x="425" y="733"/>
                    </a:lnTo>
                    <a:lnTo>
                      <a:pt x="424" y="739"/>
                    </a:lnTo>
                    <a:lnTo>
                      <a:pt x="421" y="744"/>
                    </a:lnTo>
                    <a:lnTo>
                      <a:pt x="419" y="750"/>
                    </a:lnTo>
                    <a:lnTo>
                      <a:pt x="412" y="759"/>
                    </a:lnTo>
                    <a:lnTo>
                      <a:pt x="404" y="766"/>
                    </a:lnTo>
                    <a:lnTo>
                      <a:pt x="398" y="774"/>
                    </a:lnTo>
                    <a:lnTo>
                      <a:pt x="391" y="783"/>
                    </a:lnTo>
                    <a:lnTo>
                      <a:pt x="382" y="790"/>
                    </a:lnTo>
                    <a:lnTo>
                      <a:pt x="380" y="796"/>
                    </a:lnTo>
                    <a:lnTo>
                      <a:pt x="369" y="795"/>
                    </a:lnTo>
                    <a:lnTo>
                      <a:pt x="362" y="798"/>
                    </a:lnTo>
                    <a:lnTo>
                      <a:pt x="355" y="803"/>
                    </a:lnTo>
                    <a:lnTo>
                      <a:pt x="351" y="809"/>
                    </a:lnTo>
                    <a:lnTo>
                      <a:pt x="345" y="815"/>
                    </a:lnTo>
                    <a:lnTo>
                      <a:pt x="341" y="822"/>
                    </a:lnTo>
                    <a:lnTo>
                      <a:pt x="337" y="828"/>
                    </a:lnTo>
                    <a:lnTo>
                      <a:pt x="332" y="834"/>
                    </a:lnTo>
                    <a:lnTo>
                      <a:pt x="332" y="831"/>
                    </a:lnTo>
                    <a:lnTo>
                      <a:pt x="330" y="836"/>
                    </a:lnTo>
                    <a:lnTo>
                      <a:pt x="329" y="841"/>
                    </a:lnTo>
                    <a:lnTo>
                      <a:pt x="333" y="848"/>
                    </a:lnTo>
                    <a:lnTo>
                      <a:pt x="336" y="855"/>
                    </a:lnTo>
                    <a:lnTo>
                      <a:pt x="337" y="863"/>
                    </a:lnTo>
                    <a:lnTo>
                      <a:pt x="338" y="874"/>
                    </a:lnTo>
                    <a:lnTo>
                      <a:pt x="332" y="874"/>
                    </a:lnTo>
                    <a:lnTo>
                      <a:pt x="332" y="884"/>
                    </a:lnTo>
                    <a:lnTo>
                      <a:pt x="327" y="895"/>
                    </a:lnTo>
                    <a:lnTo>
                      <a:pt x="322" y="905"/>
                    </a:lnTo>
                    <a:lnTo>
                      <a:pt x="316" y="914"/>
                    </a:lnTo>
                    <a:lnTo>
                      <a:pt x="310" y="923"/>
                    </a:lnTo>
                    <a:lnTo>
                      <a:pt x="302" y="931"/>
                    </a:lnTo>
                    <a:lnTo>
                      <a:pt x="295" y="939"/>
                    </a:lnTo>
                    <a:lnTo>
                      <a:pt x="289" y="948"/>
                    </a:lnTo>
                    <a:lnTo>
                      <a:pt x="283" y="958"/>
                    </a:lnTo>
                    <a:lnTo>
                      <a:pt x="273" y="945"/>
                    </a:lnTo>
                    <a:lnTo>
                      <a:pt x="263" y="933"/>
                    </a:lnTo>
                    <a:lnTo>
                      <a:pt x="254" y="920"/>
                    </a:lnTo>
                    <a:lnTo>
                      <a:pt x="247" y="908"/>
                    </a:lnTo>
                    <a:lnTo>
                      <a:pt x="240" y="894"/>
                    </a:lnTo>
                    <a:lnTo>
                      <a:pt x="235" y="880"/>
                    </a:lnTo>
                    <a:lnTo>
                      <a:pt x="231" y="865"/>
                    </a:lnTo>
                    <a:lnTo>
                      <a:pt x="231" y="851"/>
                    </a:lnTo>
                    <a:lnTo>
                      <a:pt x="228" y="857"/>
                    </a:lnTo>
                    <a:lnTo>
                      <a:pt x="228" y="865"/>
                    </a:lnTo>
                    <a:lnTo>
                      <a:pt x="228" y="872"/>
                    </a:lnTo>
                    <a:lnTo>
                      <a:pt x="231" y="882"/>
                    </a:lnTo>
                    <a:lnTo>
                      <a:pt x="232" y="889"/>
                    </a:lnTo>
                    <a:lnTo>
                      <a:pt x="235" y="897"/>
                    </a:lnTo>
                    <a:lnTo>
                      <a:pt x="238" y="905"/>
                    </a:lnTo>
                    <a:lnTo>
                      <a:pt x="241" y="913"/>
                    </a:lnTo>
                    <a:lnTo>
                      <a:pt x="244" y="922"/>
                    </a:lnTo>
                    <a:lnTo>
                      <a:pt x="251" y="932"/>
                    </a:lnTo>
                    <a:lnTo>
                      <a:pt x="260" y="942"/>
                    </a:lnTo>
                    <a:lnTo>
                      <a:pt x="269" y="952"/>
                    </a:lnTo>
                    <a:lnTo>
                      <a:pt x="274" y="962"/>
                    </a:lnTo>
                    <a:lnTo>
                      <a:pt x="276" y="972"/>
                    </a:lnTo>
                    <a:lnTo>
                      <a:pt x="270" y="982"/>
                    </a:lnTo>
                    <a:lnTo>
                      <a:pt x="257" y="994"/>
                    </a:lnTo>
                    <a:lnTo>
                      <a:pt x="231" y="964"/>
                    </a:lnTo>
                    <a:lnTo>
                      <a:pt x="206" y="934"/>
                    </a:lnTo>
                    <a:lnTo>
                      <a:pt x="182" y="904"/>
                    </a:lnTo>
                    <a:lnTo>
                      <a:pt x="162" y="874"/>
                    </a:lnTo>
                    <a:lnTo>
                      <a:pt x="144" y="840"/>
                    </a:lnTo>
                    <a:lnTo>
                      <a:pt x="130" y="807"/>
                    </a:lnTo>
                    <a:lnTo>
                      <a:pt x="120" y="770"/>
                    </a:lnTo>
                    <a:lnTo>
                      <a:pt x="117" y="734"/>
                    </a:lnTo>
                    <a:lnTo>
                      <a:pt x="110" y="734"/>
                    </a:lnTo>
                    <a:lnTo>
                      <a:pt x="110" y="726"/>
                    </a:lnTo>
                    <a:lnTo>
                      <a:pt x="110" y="718"/>
                    </a:lnTo>
                    <a:lnTo>
                      <a:pt x="111" y="758"/>
                    </a:lnTo>
                    <a:lnTo>
                      <a:pt x="119" y="798"/>
                    </a:lnTo>
                    <a:lnTo>
                      <a:pt x="132" y="834"/>
                    </a:lnTo>
                    <a:lnTo>
                      <a:pt x="152" y="870"/>
                    </a:lnTo>
                    <a:lnTo>
                      <a:pt x="173" y="903"/>
                    </a:lnTo>
                    <a:lnTo>
                      <a:pt x="198" y="935"/>
                    </a:lnTo>
                    <a:lnTo>
                      <a:pt x="225" y="966"/>
                    </a:lnTo>
                    <a:lnTo>
                      <a:pt x="251" y="997"/>
                    </a:lnTo>
                    <a:lnTo>
                      <a:pt x="251" y="1003"/>
                    </a:lnTo>
                    <a:lnTo>
                      <a:pt x="247" y="1013"/>
                    </a:lnTo>
                    <a:lnTo>
                      <a:pt x="239" y="1007"/>
                    </a:lnTo>
                    <a:lnTo>
                      <a:pt x="231" y="1004"/>
                    </a:lnTo>
                    <a:lnTo>
                      <a:pt x="221" y="1003"/>
                    </a:lnTo>
                    <a:lnTo>
                      <a:pt x="214" y="1003"/>
                    </a:lnTo>
                    <a:lnTo>
                      <a:pt x="206" y="992"/>
                    </a:lnTo>
                    <a:lnTo>
                      <a:pt x="199" y="981"/>
                    </a:lnTo>
                    <a:lnTo>
                      <a:pt x="191" y="970"/>
                    </a:lnTo>
                    <a:lnTo>
                      <a:pt x="184" y="958"/>
                    </a:lnTo>
                    <a:lnTo>
                      <a:pt x="176" y="946"/>
                    </a:lnTo>
                    <a:lnTo>
                      <a:pt x="170" y="934"/>
                    </a:lnTo>
                    <a:lnTo>
                      <a:pt x="163" y="921"/>
                    </a:lnTo>
                    <a:lnTo>
                      <a:pt x="159" y="909"/>
                    </a:lnTo>
                    <a:lnTo>
                      <a:pt x="161" y="921"/>
                    </a:lnTo>
                    <a:lnTo>
                      <a:pt x="166" y="933"/>
                    </a:lnTo>
                    <a:lnTo>
                      <a:pt x="171" y="945"/>
                    </a:lnTo>
                    <a:lnTo>
                      <a:pt x="177" y="957"/>
                    </a:lnTo>
                    <a:lnTo>
                      <a:pt x="182" y="969"/>
                    </a:lnTo>
                    <a:lnTo>
                      <a:pt x="188" y="980"/>
                    </a:lnTo>
                    <a:lnTo>
                      <a:pt x="193" y="991"/>
                    </a:lnTo>
                    <a:lnTo>
                      <a:pt x="198" y="1003"/>
                    </a:lnTo>
                    <a:lnTo>
                      <a:pt x="185" y="1000"/>
                    </a:lnTo>
                    <a:lnTo>
                      <a:pt x="171" y="1000"/>
                    </a:lnTo>
                    <a:lnTo>
                      <a:pt x="157" y="998"/>
                    </a:lnTo>
                    <a:lnTo>
                      <a:pt x="145" y="997"/>
                    </a:lnTo>
                    <a:lnTo>
                      <a:pt x="130" y="993"/>
                    </a:lnTo>
                    <a:lnTo>
                      <a:pt x="119" y="990"/>
                    </a:lnTo>
                    <a:lnTo>
                      <a:pt x="108" y="983"/>
                    </a:lnTo>
                    <a:lnTo>
                      <a:pt x="101" y="975"/>
                    </a:lnTo>
                    <a:lnTo>
                      <a:pt x="110" y="987"/>
                    </a:lnTo>
                    <a:lnTo>
                      <a:pt x="102" y="986"/>
                    </a:lnTo>
                    <a:lnTo>
                      <a:pt x="95" y="986"/>
                    </a:lnTo>
                    <a:lnTo>
                      <a:pt x="88" y="985"/>
                    </a:lnTo>
                    <a:lnTo>
                      <a:pt x="82" y="985"/>
                    </a:lnTo>
                    <a:lnTo>
                      <a:pt x="75" y="983"/>
                    </a:lnTo>
                    <a:lnTo>
                      <a:pt x="69" y="983"/>
                    </a:lnTo>
                    <a:lnTo>
                      <a:pt x="63" y="981"/>
                    </a:lnTo>
                    <a:lnTo>
                      <a:pt x="59" y="981"/>
                    </a:lnTo>
                    <a:lnTo>
                      <a:pt x="46" y="974"/>
                    </a:lnTo>
                    <a:lnTo>
                      <a:pt x="36" y="966"/>
                    </a:lnTo>
                    <a:lnTo>
                      <a:pt x="26" y="956"/>
                    </a:lnTo>
                    <a:lnTo>
                      <a:pt x="19" y="947"/>
                    </a:lnTo>
                    <a:lnTo>
                      <a:pt x="12" y="935"/>
                    </a:lnTo>
                    <a:lnTo>
                      <a:pt x="6" y="924"/>
                    </a:lnTo>
                    <a:lnTo>
                      <a:pt x="2" y="912"/>
                    </a:lnTo>
                    <a:lnTo>
                      <a:pt x="0" y="900"/>
                    </a:lnTo>
                    <a:lnTo>
                      <a:pt x="0" y="906"/>
                    </a:lnTo>
                    <a:lnTo>
                      <a:pt x="2" y="914"/>
                    </a:lnTo>
                    <a:lnTo>
                      <a:pt x="3" y="922"/>
                    </a:lnTo>
                    <a:lnTo>
                      <a:pt x="6" y="931"/>
                    </a:lnTo>
                    <a:lnTo>
                      <a:pt x="8" y="939"/>
                    </a:lnTo>
                    <a:lnTo>
                      <a:pt x="12" y="947"/>
                    </a:lnTo>
                    <a:lnTo>
                      <a:pt x="16" y="954"/>
                    </a:lnTo>
                    <a:lnTo>
                      <a:pt x="22" y="962"/>
                    </a:lnTo>
                    <a:lnTo>
                      <a:pt x="33" y="971"/>
                    </a:lnTo>
                    <a:lnTo>
                      <a:pt x="46" y="977"/>
                    </a:lnTo>
                    <a:lnTo>
                      <a:pt x="60" y="982"/>
                    </a:lnTo>
                    <a:lnTo>
                      <a:pt x="75" y="987"/>
                    </a:lnTo>
                    <a:lnTo>
                      <a:pt x="89" y="990"/>
                    </a:lnTo>
                    <a:lnTo>
                      <a:pt x="103" y="993"/>
                    </a:lnTo>
                    <a:lnTo>
                      <a:pt x="116" y="997"/>
                    </a:lnTo>
                    <a:lnTo>
                      <a:pt x="130" y="1003"/>
                    </a:lnTo>
                    <a:lnTo>
                      <a:pt x="134" y="1010"/>
                    </a:lnTo>
                    <a:lnTo>
                      <a:pt x="142" y="1017"/>
                    </a:lnTo>
                    <a:lnTo>
                      <a:pt x="148" y="1023"/>
                    </a:lnTo>
                    <a:lnTo>
                      <a:pt x="156" y="1030"/>
                    </a:lnTo>
                    <a:lnTo>
                      <a:pt x="162" y="1036"/>
                    </a:lnTo>
                    <a:lnTo>
                      <a:pt x="169" y="1042"/>
                    </a:lnTo>
                    <a:lnTo>
                      <a:pt x="175" y="1048"/>
                    </a:lnTo>
                    <a:lnTo>
                      <a:pt x="182" y="1056"/>
                    </a:lnTo>
                    <a:lnTo>
                      <a:pt x="166" y="1051"/>
                    </a:lnTo>
                    <a:lnTo>
                      <a:pt x="151" y="1050"/>
                    </a:lnTo>
                    <a:lnTo>
                      <a:pt x="135" y="1048"/>
                    </a:lnTo>
                    <a:lnTo>
                      <a:pt x="120" y="1048"/>
                    </a:lnTo>
                    <a:lnTo>
                      <a:pt x="104" y="1046"/>
                    </a:lnTo>
                    <a:lnTo>
                      <a:pt x="89" y="1043"/>
                    </a:lnTo>
                    <a:lnTo>
                      <a:pt x="74" y="1036"/>
                    </a:lnTo>
                    <a:lnTo>
                      <a:pt x="59" y="1026"/>
                    </a:lnTo>
                    <a:lnTo>
                      <a:pt x="55" y="1036"/>
                    </a:lnTo>
                    <a:lnTo>
                      <a:pt x="49" y="1031"/>
                    </a:lnTo>
                    <a:lnTo>
                      <a:pt x="47" y="1025"/>
                    </a:lnTo>
                    <a:lnTo>
                      <a:pt x="44" y="1018"/>
                    </a:lnTo>
                    <a:lnTo>
                      <a:pt x="42" y="1013"/>
                    </a:lnTo>
                    <a:lnTo>
                      <a:pt x="40" y="1015"/>
                    </a:lnTo>
                    <a:lnTo>
                      <a:pt x="39" y="1016"/>
                    </a:lnTo>
                    <a:lnTo>
                      <a:pt x="39" y="1022"/>
                    </a:lnTo>
                    <a:lnTo>
                      <a:pt x="42" y="1028"/>
                    </a:lnTo>
                    <a:lnTo>
                      <a:pt x="45" y="1032"/>
                    </a:lnTo>
                    <a:lnTo>
                      <a:pt x="51" y="1036"/>
                    </a:lnTo>
                    <a:lnTo>
                      <a:pt x="57" y="1038"/>
                    </a:lnTo>
                    <a:lnTo>
                      <a:pt x="62" y="1041"/>
                    </a:lnTo>
                    <a:lnTo>
                      <a:pt x="67" y="1043"/>
                    </a:lnTo>
                    <a:lnTo>
                      <a:pt x="72" y="1045"/>
                    </a:lnTo>
                    <a:lnTo>
                      <a:pt x="85" y="1045"/>
                    </a:lnTo>
                    <a:lnTo>
                      <a:pt x="99" y="1050"/>
                    </a:lnTo>
                    <a:lnTo>
                      <a:pt x="113" y="1054"/>
                    </a:lnTo>
                    <a:lnTo>
                      <a:pt x="127" y="1060"/>
                    </a:lnTo>
                    <a:lnTo>
                      <a:pt x="141" y="1066"/>
                    </a:lnTo>
                    <a:lnTo>
                      <a:pt x="154" y="1072"/>
                    </a:lnTo>
                    <a:lnTo>
                      <a:pt x="166" y="1078"/>
                    </a:lnTo>
                    <a:lnTo>
                      <a:pt x="179" y="1085"/>
                    </a:lnTo>
                    <a:lnTo>
                      <a:pt x="185" y="1078"/>
                    </a:lnTo>
                    <a:lnTo>
                      <a:pt x="175" y="1073"/>
                    </a:lnTo>
                    <a:lnTo>
                      <a:pt x="165" y="1070"/>
                    </a:lnTo>
                    <a:lnTo>
                      <a:pt x="156" y="1065"/>
                    </a:lnTo>
                    <a:lnTo>
                      <a:pt x="147" y="1059"/>
                    </a:lnTo>
                    <a:lnTo>
                      <a:pt x="153" y="1062"/>
                    </a:lnTo>
                    <a:lnTo>
                      <a:pt x="161" y="1062"/>
                    </a:lnTo>
                    <a:lnTo>
                      <a:pt x="170" y="1063"/>
                    </a:lnTo>
                    <a:lnTo>
                      <a:pt x="177" y="1063"/>
                    </a:lnTo>
                    <a:lnTo>
                      <a:pt x="185" y="1065"/>
                    </a:lnTo>
                    <a:lnTo>
                      <a:pt x="182" y="1036"/>
                    </a:lnTo>
                    <a:lnTo>
                      <a:pt x="174" y="1030"/>
                    </a:lnTo>
                    <a:lnTo>
                      <a:pt x="167" y="1025"/>
                    </a:lnTo>
                    <a:lnTo>
                      <a:pt x="161" y="1019"/>
                    </a:lnTo>
                    <a:lnTo>
                      <a:pt x="156" y="1013"/>
                    </a:lnTo>
                    <a:lnTo>
                      <a:pt x="153" y="1015"/>
                    </a:lnTo>
                    <a:lnTo>
                      <a:pt x="153" y="1020"/>
                    </a:lnTo>
                    <a:lnTo>
                      <a:pt x="149" y="1015"/>
                    </a:lnTo>
                    <a:lnTo>
                      <a:pt x="146" y="1011"/>
                    </a:lnTo>
                    <a:lnTo>
                      <a:pt x="141" y="1006"/>
                    </a:lnTo>
                    <a:lnTo>
                      <a:pt x="136" y="1003"/>
                    </a:lnTo>
                    <a:lnTo>
                      <a:pt x="144" y="1001"/>
                    </a:lnTo>
                    <a:lnTo>
                      <a:pt x="151" y="1001"/>
                    </a:lnTo>
                    <a:lnTo>
                      <a:pt x="157" y="1002"/>
                    </a:lnTo>
                    <a:lnTo>
                      <a:pt x="164" y="1005"/>
                    </a:lnTo>
                    <a:lnTo>
                      <a:pt x="170" y="1008"/>
                    </a:lnTo>
                    <a:lnTo>
                      <a:pt x="176" y="1013"/>
                    </a:lnTo>
                    <a:lnTo>
                      <a:pt x="182" y="1017"/>
                    </a:lnTo>
                    <a:lnTo>
                      <a:pt x="188" y="1023"/>
                    </a:lnTo>
                    <a:lnTo>
                      <a:pt x="198" y="1020"/>
                    </a:lnTo>
                    <a:lnTo>
                      <a:pt x="185" y="1010"/>
                    </a:lnTo>
                    <a:lnTo>
                      <a:pt x="208" y="1013"/>
                    </a:lnTo>
                    <a:lnTo>
                      <a:pt x="208" y="1020"/>
                    </a:lnTo>
                    <a:lnTo>
                      <a:pt x="228" y="1020"/>
                    </a:lnTo>
                    <a:lnTo>
                      <a:pt x="221" y="1013"/>
                    </a:lnTo>
                    <a:lnTo>
                      <a:pt x="227" y="1016"/>
                    </a:lnTo>
                    <a:lnTo>
                      <a:pt x="233" y="1019"/>
                    </a:lnTo>
                    <a:lnTo>
                      <a:pt x="238" y="1019"/>
                    </a:lnTo>
                    <a:lnTo>
                      <a:pt x="247" y="1020"/>
                    </a:lnTo>
                    <a:lnTo>
                      <a:pt x="241" y="1029"/>
                    </a:lnTo>
                    <a:lnTo>
                      <a:pt x="228" y="1020"/>
                    </a:lnTo>
                    <a:lnTo>
                      <a:pt x="208" y="1020"/>
                    </a:lnTo>
                    <a:lnTo>
                      <a:pt x="221" y="1036"/>
                    </a:lnTo>
                    <a:lnTo>
                      <a:pt x="198" y="1020"/>
                    </a:lnTo>
                    <a:lnTo>
                      <a:pt x="188" y="1023"/>
                    </a:lnTo>
                    <a:lnTo>
                      <a:pt x="194" y="1028"/>
                    </a:lnTo>
                    <a:lnTo>
                      <a:pt x="201" y="1036"/>
                    </a:lnTo>
                    <a:lnTo>
                      <a:pt x="231" y="1048"/>
                    </a:lnTo>
                    <a:lnTo>
                      <a:pt x="223" y="1046"/>
                    </a:lnTo>
                    <a:lnTo>
                      <a:pt x="215" y="1045"/>
                    </a:lnTo>
                    <a:lnTo>
                      <a:pt x="209" y="1044"/>
                    </a:lnTo>
                    <a:lnTo>
                      <a:pt x="203" y="1043"/>
                    </a:lnTo>
                    <a:lnTo>
                      <a:pt x="197" y="1041"/>
                    </a:lnTo>
                    <a:lnTo>
                      <a:pt x="191" y="1039"/>
                    </a:lnTo>
                    <a:lnTo>
                      <a:pt x="186" y="1037"/>
                    </a:lnTo>
                    <a:lnTo>
                      <a:pt x="182" y="1036"/>
                    </a:lnTo>
                    <a:lnTo>
                      <a:pt x="185" y="1065"/>
                    </a:lnTo>
                    <a:lnTo>
                      <a:pt x="191" y="1065"/>
                    </a:lnTo>
                    <a:lnTo>
                      <a:pt x="198" y="1068"/>
                    </a:lnTo>
                    <a:lnTo>
                      <a:pt x="204" y="1073"/>
                    </a:lnTo>
                    <a:lnTo>
                      <a:pt x="211" y="1082"/>
                    </a:lnTo>
                    <a:lnTo>
                      <a:pt x="217" y="1082"/>
                    </a:lnTo>
                    <a:lnTo>
                      <a:pt x="217" y="1065"/>
                    </a:lnTo>
                    <a:lnTo>
                      <a:pt x="225" y="1065"/>
                    </a:lnTo>
                    <a:lnTo>
                      <a:pt x="217" y="1085"/>
                    </a:lnTo>
                    <a:lnTo>
                      <a:pt x="207" y="1084"/>
                    </a:lnTo>
                    <a:lnTo>
                      <a:pt x="199" y="1083"/>
                    </a:lnTo>
                    <a:lnTo>
                      <a:pt x="192" y="1080"/>
                    </a:lnTo>
                    <a:lnTo>
                      <a:pt x="185" y="1078"/>
                    </a:lnTo>
                    <a:lnTo>
                      <a:pt x="179" y="1085"/>
                    </a:lnTo>
                    <a:lnTo>
                      <a:pt x="187" y="1088"/>
                    </a:lnTo>
                    <a:lnTo>
                      <a:pt x="196" y="1092"/>
                    </a:lnTo>
                    <a:lnTo>
                      <a:pt x="203" y="1095"/>
                    </a:lnTo>
                    <a:lnTo>
                      <a:pt x="211" y="1098"/>
                    </a:lnTo>
                    <a:lnTo>
                      <a:pt x="202" y="1107"/>
                    </a:lnTo>
                    <a:lnTo>
                      <a:pt x="197" y="1117"/>
                    </a:lnTo>
                    <a:lnTo>
                      <a:pt x="192" y="1127"/>
                    </a:lnTo>
                    <a:lnTo>
                      <a:pt x="189" y="1139"/>
                    </a:lnTo>
                    <a:lnTo>
                      <a:pt x="186" y="1149"/>
                    </a:lnTo>
                    <a:lnTo>
                      <a:pt x="186" y="1160"/>
                    </a:lnTo>
                    <a:lnTo>
                      <a:pt x="186" y="1170"/>
                    </a:lnTo>
                    <a:lnTo>
                      <a:pt x="188" y="1182"/>
                    </a:lnTo>
                    <a:lnTo>
                      <a:pt x="192" y="1189"/>
                    </a:lnTo>
                    <a:lnTo>
                      <a:pt x="198" y="1194"/>
                    </a:lnTo>
                    <a:lnTo>
                      <a:pt x="204" y="1196"/>
                    </a:lnTo>
                    <a:lnTo>
                      <a:pt x="212" y="1197"/>
                    </a:lnTo>
                    <a:lnTo>
                      <a:pt x="219" y="1197"/>
                    </a:lnTo>
                    <a:lnTo>
                      <a:pt x="228" y="1197"/>
                    </a:lnTo>
                    <a:lnTo>
                      <a:pt x="234" y="1197"/>
                    </a:lnTo>
                    <a:lnTo>
                      <a:pt x="241" y="1201"/>
                    </a:lnTo>
                    <a:lnTo>
                      <a:pt x="248" y="1195"/>
                    </a:lnTo>
                    <a:lnTo>
                      <a:pt x="257" y="1195"/>
                    </a:lnTo>
                    <a:lnTo>
                      <a:pt x="262" y="1196"/>
                    </a:lnTo>
                    <a:lnTo>
                      <a:pt x="267" y="1197"/>
                    </a:lnTo>
                    <a:lnTo>
                      <a:pt x="273" y="1197"/>
                    </a:lnTo>
                    <a:lnTo>
                      <a:pt x="279" y="1198"/>
                    </a:lnTo>
                    <a:lnTo>
                      <a:pt x="293" y="1203"/>
                    </a:lnTo>
                    <a:lnTo>
                      <a:pt x="310" y="1208"/>
                    </a:lnTo>
                    <a:lnTo>
                      <a:pt x="328" y="1211"/>
                    </a:lnTo>
                    <a:lnTo>
                      <a:pt x="346" y="1213"/>
                    </a:lnTo>
                    <a:lnTo>
                      <a:pt x="364" y="1212"/>
                    </a:lnTo>
                    <a:lnTo>
                      <a:pt x="382" y="1210"/>
                    </a:lnTo>
                    <a:lnTo>
                      <a:pt x="400" y="1204"/>
                    </a:lnTo>
                    <a:lnTo>
                      <a:pt x="416" y="1198"/>
                    </a:lnTo>
                    <a:lnTo>
                      <a:pt x="421" y="1202"/>
                    </a:lnTo>
                    <a:lnTo>
                      <a:pt x="428" y="1203"/>
                    </a:lnTo>
                    <a:lnTo>
                      <a:pt x="434" y="1201"/>
                    </a:lnTo>
                    <a:lnTo>
                      <a:pt x="442" y="1201"/>
                    </a:lnTo>
                    <a:lnTo>
                      <a:pt x="442" y="1188"/>
                    </a:lnTo>
                    <a:lnTo>
                      <a:pt x="504" y="1234"/>
                    </a:lnTo>
                    <a:lnTo>
                      <a:pt x="508" y="1236"/>
                    </a:lnTo>
                    <a:lnTo>
                      <a:pt x="513" y="1236"/>
                    </a:lnTo>
                    <a:lnTo>
                      <a:pt x="515" y="1236"/>
                    </a:lnTo>
                    <a:lnTo>
                      <a:pt x="517" y="1241"/>
                    </a:lnTo>
                    <a:lnTo>
                      <a:pt x="523" y="1240"/>
                    </a:lnTo>
                    <a:lnTo>
                      <a:pt x="532" y="1244"/>
                    </a:lnTo>
                    <a:lnTo>
                      <a:pt x="539" y="1246"/>
                    </a:lnTo>
                    <a:lnTo>
                      <a:pt x="543" y="1247"/>
                    </a:lnTo>
                    <a:lnTo>
                      <a:pt x="567" y="1259"/>
                    </a:lnTo>
                    <a:lnTo>
                      <a:pt x="591" y="1268"/>
                    </a:lnTo>
                    <a:lnTo>
                      <a:pt x="615" y="1275"/>
                    </a:lnTo>
                    <a:lnTo>
                      <a:pt x="640" y="1281"/>
                    </a:lnTo>
                    <a:lnTo>
                      <a:pt x="664" y="1284"/>
                    </a:lnTo>
                    <a:lnTo>
                      <a:pt x="689" y="1287"/>
                    </a:lnTo>
                    <a:lnTo>
                      <a:pt x="714" y="1288"/>
                    </a:lnTo>
                    <a:lnTo>
                      <a:pt x="742" y="1289"/>
                    </a:lnTo>
                    <a:lnTo>
                      <a:pt x="703" y="1283"/>
                    </a:lnTo>
                    <a:lnTo>
                      <a:pt x="665" y="1277"/>
                    </a:lnTo>
                    <a:lnTo>
                      <a:pt x="625" y="1269"/>
                    </a:lnTo>
                    <a:lnTo>
                      <a:pt x="589" y="1260"/>
                    </a:lnTo>
                    <a:lnTo>
                      <a:pt x="552" y="1247"/>
                    </a:lnTo>
                    <a:lnTo>
                      <a:pt x="518" y="1231"/>
                    </a:lnTo>
                    <a:lnTo>
                      <a:pt x="485" y="1209"/>
                    </a:lnTo>
                    <a:lnTo>
                      <a:pt x="455" y="1185"/>
                    </a:lnTo>
                    <a:lnTo>
                      <a:pt x="469" y="1184"/>
                    </a:lnTo>
                    <a:lnTo>
                      <a:pt x="484" y="1187"/>
                    </a:lnTo>
                    <a:lnTo>
                      <a:pt x="498" y="1192"/>
                    </a:lnTo>
                    <a:lnTo>
                      <a:pt x="512" y="1198"/>
                    </a:lnTo>
                    <a:lnTo>
                      <a:pt x="525" y="1204"/>
                    </a:lnTo>
                    <a:lnTo>
                      <a:pt x="540" y="1210"/>
                    </a:lnTo>
                    <a:lnTo>
                      <a:pt x="555" y="1215"/>
                    </a:lnTo>
                    <a:lnTo>
                      <a:pt x="570" y="1221"/>
                    </a:lnTo>
                    <a:lnTo>
                      <a:pt x="576" y="1223"/>
                    </a:lnTo>
                    <a:lnTo>
                      <a:pt x="583" y="1225"/>
                    </a:lnTo>
                    <a:lnTo>
                      <a:pt x="589" y="1227"/>
                    </a:lnTo>
                    <a:lnTo>
                      <a:pt x="597" y="1229"/>
                    </a:lnTo>
                    <a:lnTo>
                      <a:pt x="603" y="1230"/>
                    </a:lnTo>
                    <a:lnTo>
                      <a:pt x="610" y="1231"/>
                    </a:lnTo>
                    <a:lnTo>
                      <a:pt x="616" y="1231"/>
                    </a:lnTo>
                    <a:lnTo>
                      <a:pt x="621" y="1231"/>
                    </a:lnTo>
                    <a:lnTo>
                      <a:pt x="624" y="1234"/>
                    </a:lnTo>
                    <a:lnTo>
                      <a:pt x="624" y="1238"/>
                    </a:lnTo>
                    <a:lnTo>
                      <a:pt x="648" y="1234"/>
                    </a:lnTo>
                    <a:lnTo>
                      <a:pt x="638" y="1235"/>
                    </a:lnTo>
                    <a:lnTo>
                      <a:pt x="634" y="1231"/>
                    </a:lnTo>
                    <a:lnTo>
                      <a:pt x="624" y="1231"/>
                    </a:lnTo>
                    <a:lnTo>
                      <a:pt x="612" y="1227"/>
                    </a:lnTo>
                    <a:lnTo>
                      <a:pt x="600" y="1222"/>
                    </a:lnTo>
                    <a:lnTo>
                      <a:pt x="588" y="1218"/>
                    </a:lnTo>
                    <a:lnTo>
                      <a:pt x="577" y="1215"/>
                    </a:lnTo>
                    <a:lnTo>
                      <a:pt x="566" y="1211"/>
                    </a:lnTo>
                    <a:lnTo>
                      <a:pt x="557" y="1208"/>
                    </a:lnTo>
                    <a:lnTo>
                      <a:pt x="547" y="1204"/>
                    </a:lnTo>
                    <a:lnTo>
                      <a:pt x="540" y="1201"/>
                    </a:lnTo>
                    <a:lnTo>
                      <a:pt x="531" y="1197"/>
                    </a:lnTo>
                    <a:lnTo>
                      <a:pt x="523" y="1195"/>
                    </a:lnTo>
                    <a:lnTo>
                      <a:pt x="514" y="1192"/>
                    </a:lnTo>
                    <a:lnTo>
                      <a:pt x="506" y="1190"/>
                    </a:lnTo>
                    <a:lnTo>
                      <a:pt x="497" y="1186"/>
                    </a:lnTo>
                    <a:lnTo>
                      <a:pt x="491" y="1183"/>
                    </a:lnTo>
                    <a:lnTo>
                      <a:pt x="486" y="1178"/>
                    </a:lnTo>
                    <a:lnTo>
                      <a:pt x="485" y="1172"/>
                    </a:lnTo>
                    <a:lnTo>
                      <a:pt x="491" y="1172"/>
                    </a:lnTo>
                    <a:lnTo>
                      <a:pt x="497" y="1166"/>
                    </a:lnTo>
                    <a:lnTo>
                      <a:pt x="506" y="1164"/>
                    </a:lnTo>
                    <a:lnTo>
                      <a:pt x="512" y="1161"/>
                    </a:lnTo>
                    <a:lnTo>
                      <a:pt x="514" y="1156"/>
                    </a:lnTo>
                    <a:lnTo>
                      <a:pt x="519" y="1152"/>
                    </a:lnTo>
                    <a:lnTo>
                      <a:pt x="524" y="1151"/>
                    </a:lnTo>
                    <a:lnTo>
                      <a:pt x="529" y="1151"/>
                    </a:lnTo>
                    <a:lnTo>
                      <a:pt x="534" y="1152"/>
                    </a:lnTo>
                    <a:lnTo>
                      <a:pt x="543" y="1154"/>
                    </a:lnTo>
                    <a:lnTo>
                      <a:pt x="552" y="1156"/>
                    </a:lnTo>
                    <a:lnTo>
                      <a:pt x="562" y="1161"/>
                    </a:lnTo>
                    <a:lnTo>
                      <a:pt x="572" y="1165"/>
                    </a:lnTo>
                    <a:lnTo>
                      <a:pt x="582" y="1168"/>
                    </a:lnTo>
                    <a:lnTo>
                      <a:pt x="592" y="1172"/>
                    </a:lnTo>
                    <a:lnTo>
                      <a:pt x="601" y="1175"/>
                    </a:lnTo>
                    <a:lnTo>
                      <a:pt x="610" y="1180"/>
                    </a:lnTo>
                    <a:lnTo>
                      <a:pt x="618" y="1185"/>
                    </a:lnTo>
                    <a:lnTo>
                      <a:pt x="627" y="1192"/>
                    </a:lnTo>
                    <a:lnTo>
                      <a:pt x="650" y="1197"/>
                    </a:lnTo>
                    <a:lnTo>
                      <a:pt x="672" y="1203"/>
                    </a:lnTo>
                    <a:lnTo>
                      <a:pt x="694" y="1209"/>
                    </a:lnTo>
                    <a:lnTo>
                      <a:pt x="716" y="1217"/>
                    </a:lnTo>
                    <a:lnTo>
                      <a:pt x="738" y="1222"/>
                    </a:lnTo>
                    <a:lnTo>
                      <a:pt x="761" y="1229"/>
                    </a:lnTo>
                    <a:lnTo>
                      <a:pt x="784" y="1232"/>
                    </a:lnTo>
                    <a:lnTo>
                      <a:pt x="810" y="1234"/>
                    </a:lnTo>
                    <a:lnTo>
                      <a:pt x="802" y="1231"/>
                    </a:lnTo>
                    <a:lnTo>
                      <a:pt x="798" y="1230"/>
                    </a:lnTo>
                    <a:lnTo>
                      <a:pt x="793" y="1229"/>
                    </a:lnTo>
                    <a:lnTo>
                      <a:pt x="787" y="1231"/>
                    </a:lnTo>
                    <a:lnTo>
                      <a:pt x="757" y="1221"/>
                    </a:lnTo>
                    <a:lnTo>
                      <a:pt x="730" y="1213"/>
                    </a:lnTo>
                    <a:lnTo>
                      <a:pt x="702" y="1205"/>
                    </a:lnTo>
                    <a:lnTo>
                      <a:pt x="675" y="1197"/>
                    </a:lnTo>
                    <a:lnTo>
                      <a:pt x="647" y="1187"/>
                    </a:lnTo>
                    <a:lnTo>
                      <a:pt x="618" y="1178"/>
                    </a:lnTo>
                    <a:lnTo>
                      <a:pt x="590" y="1165"/>
                    </a:lnTo>
                    <a:lnTo>
                      <a:pt x="563" y="1153"/>
                    </a:lnTo>
                    <a:lnTo>
                      <a:pt x="566" y="1150"/>
                    </a:lnTo>
                    <a:lnTo>
                      <a:pt x="566" y="1143"/>
                    </a:lnTo>
                    <a:lnTo>
                      <a:pt x="566" y="1136"/>
                    </a:lnTo>
                    <a:lnTo>
                      <a:pt x="572" y="1131"/>
                    </a:lnTo>
                    <a:lnTo>
                      <a:pt x="579" y="1130"/>
                    </a:lnTo>
                    <a:lnTo>
                      <a:pt x="587" y="1129"/>
                    </a:lnTo>
                    <a:lnTo>
                      <a:pt x="596" y="1130"/>
                    </a:lnTo>
                    <a:lnTo>
                      <a:pt x="599" y="1130"/>
                    </a:lnTo>
                    <a:lnTo>
                      <a:pt x="603" y="1133"/>
                    </a:lnTo>
                    <a:lnTo>
                      <a:pt x="607" y="1136"/>
                    </a:lnTo>
                    <a:lnTo>
                      <a:pt x="611" y="1144"/>
                    </a:lnTo>
                    <a:lnTo>
                      <a:pt x="706" y="1176"/>
                    </a:lnTo>
                    <a:lnTo>
                      <a:pt x="712" y="1176"/>
                    </a:lnTo>
                    <a:lnTo>
                      <a:pt x="718" y="1178"/>
                    </a:lnTo>
                    <a:lnTo>
                      <a:pt x="725" y="1180"/>
                    </a:lnTo>
                    <a:lnTo>
                      <a:pt x="732" y="1183"/>
                    </a:lnTo>
                    <a:lnTo>
                      <a:pt x="737" y="1184"/>
                    </a:lnTo>
                    <a:lnTo>
                      <a:pt x="743" y="1186"/>
                    </a:lnTo>
                    <a:lnTo>
                      <a:pt x="749" y="1187"/>
                    </a:lnTo>
                    <a:lnTo>
                      <a:pt x="755" y="1188"/>
                    </a:lnTo>
                    <a:lnTo>
                      <a:pt x="755" y="1192"/>
                    </a:lnTo>
                    <a:lnTo>
                      <a:pt x="760" y="1194"/>
                    </a:lnTo>
                    <a:lnTo>
                      <a:pt x="765" y="1194"/>
                    </a:lnTo>
                    <a:lnTo>
                      <a:pt x="770" y="1193"/>
                    </a:lnTo>
                    <a:lnTo>
                      <a:pt x="774" y="1195"/>
                    </a:lnTo>
                    <a:lnTo>
                      <a:pt x="774" y="1198"/>
                    </a:lnTo>
                    <a:lnTo>
                      <a:pt x="793" y="1198"/>
                    </a:lnTo>
                    <a:lnTo>
                      <a:pt x="772" y="1190"/>
                    </a:lnTo>
                    <a:lnTo>
                      <a:pt x="751" y="1183"/>
                    </a:lnTo>
                    <a:lnTo>
                      <a:pt x="730" y="1176"/>
                    </a:lnTo>
                    <a:lnTo>
                      <a:pt x="708" y="1170"/>
                    </a:lnTo>
                    <a:lnTo>
                      <a:pt x="686" y="1162"/>
                    </a:lnTo>
                    <a:lnTo>
                      <a:pt x="665" y="1154"/>
                    </a:lnTo>
                    <a:lnTo>
                      <a:pt x="643" y="1145"/>
                    </a:lnTo>
                    <a:lnTo>
                      <a:pt x="621" y="1136"/>
                    </a:lnTo>
                    <a:lnTo>
                      <a:pt x="624" y="1133"/>
                    </a:lnTo>
                    <a:lnTo>
                      <a:pt x="618" y="1129"/>
                    </a:lnTo>
                    <a:lnTo>
                      <a:pt x="613" y="1127"/>
                    </a:lnTo>
                    <a:lnTo>
                      <a:pt x="608" y="1125"/>
                    </a:lnTo>
                    <a:lnTo>
                      <a:pt x="604" y="1125"/>
                    </a:lnTo>
                    <a:lnTo>
                      <a:pt x="599" y="1123"/>
                    </a:lnTo>
                    <a:lnTo>
                      <a:pt x="594" y="1122"/>
                    </a:lnTo>
                    <a:lnTo>
                      <a:pt x="588" y="1121"/>
                    </a:lnTo>
                    <a:lnTo>
                      <a:pt x="582" y="1120"/>
                    </a:lnTo>
                    <a:lnTo>
                      <a:pt x="586" y="1115"/>
                    </a:lnTo>
                    <a:lnTo>
                      <a:pt x="591" y="1113"/>
                    </a:lnTo>
                    <a:lnTo>
                      <a:pt x="597" y="1113"/>
                    </a:lnTo>
                    <a:lnTo>
                      <a:pt x="604" y="1114"/>
                    </a:lnTo>
                    <a:lnTo>
                      <a:pt x="610" y="1113"/>
                    </a:lnTo>
                    <a:lnTo>
                      <a:pt x="616" y="1113"/>
                    </a:lnTo>
                    <a:lnTo>
                      <a:pt x="620" y="1110"/>
                    </a:lnTo>
                    <a:lnTo>
                      <a:pt x="624" y="1104"/>
                    </a:lnTo>
                    <a:lnTo>
                      <a:pt x="633" y="1101"/>
                    </a:lnTo>
                    <a:lnTo>
                      <a:pt x="644" y="1101"/>
                    </a:lnTo>
                    <a:lnTo>
                      <a:pt x="653" y="1101"/>
                    </a:lnTo>
                    <a:lnTo>
                      <a:pt x="663" y="1102"/>
                    </a:lnTo>
                    <a:lnTo>
                      <a:pt x="672" y="1103"/>
                    </a:lnTo>
                    <a:lnTo>
                      <a:pt x="682" y="1105"/>
                    </a:lnTo>
                    <a:lnTo>
                      <a:pt x="692" y="1107"/>
                    </a:lnTo>
                    <a:lnTo>
                      <a:pt x="702" y="1110"/>
                    </a:lnTo>
                    <a:lnTo>
                      <a:pt x="707" y="1103"/>
                    </a:lnTo>
                    <a:lnTo>
                      <a:pt x="716" y="1101"/>
                    </a:lnTo>
                    <a:lnTo>
                      <a:pt x="726" y="1099"/>
                    </a:lnTo>
                    <a:lnTo>
                      <a:pt x="732" y="1094"/>
                    </a:lnTo>
                    <a:lnTo>
                      <a:pt x="741" y="1094"/>
                    </a:lnTo>
                    <a:lnTo>
                      <a:pt x="750" y="1094"/>
                    </a:lnTo>
                    <a:lnTo>
                      <a:pt x="758" y="1096"/>
                    </a:lnTo>
                    <a:lnTo>
                      <a:pt x="768" y="1101"/>
                    </a:lnTo>
                    <a:lnTo>
                      <a:pt x="772" y="1094"/>
                    </a:lnTo>
                    <a:lnTo>
                      <a:pt x="777" y="1087"/>
                    </a:lnTo>
                    <a:lnTo>
                      <a:pt x="782" y="1083"/>
                    </a:lnTo>
                    <a:lnTo>
                      <a:pt x="790" y="1085"/>
                    </a:lnTo>
                    <a:lnTo>
                      <a:pt x="786" y="1089"/>
                    </a:lnTo>
                    <a:lnTo>
                      <a:pt x="781" y="1091"/>
                    </a:lnTo>
                    <a:lnTo>
                      <a:pt x="780" y="1094"/>
                    </a:lnTo>
                    <a:lnTo>
                      <a:pt x="782" y="1097"/>
                    </a:lnTo>
                    <a:lnTo>
                      <a:pt x="785" y="1098"/>
                    </a:lnTo>
                    <a:lnTo>
                      <a:pt x="787" y="1101"/>
                    </a:lnTo>
                    <a:lnTo>
                      <a:pt x="784" y="1107"/>
                    </a:lnTo>
                    <a:lnTo>
                      <a:pt x="781" y="1113"/>
                    </a:lnTo>
                    <a:lnTo>
                      <a:pt x="777" y="1119"/>
                    </a:lnTo>
                    <a:lnTo>
                      <a:pt x="774" y="1126"/>
                    </a:lnTo>
                    <a:lnTo>
                      <a:pt x="771" y="1132"/>
                    </a:lnTo>
                    <a:lnTo>
                      <a:pt x="768" y="1140"/>
                    </a:lnTo>
                    <a:lnTo>
                      <a:pt x="765" y="1146"/>
                    </a:lnTo>
                    <a:lnTo>
                      <a:pt x="764" y="1153"/>
                    </a:lnTo>
                    <a:lnTo>
                      <a:pt x="771" y="1156"/>
                    </a:lnTo>
                    <a:lnTo>
                      <a:pt x="778" y="1151"/>
                    </a:lnTo>
                    <a:lnTo>
                      <a:pt x="785" y="1145"/>
                    </a:lnTo>
                    <a:lnTo>
                      <a:pt x="793" y="1144"/>
                    </a:lnTo>
                    <a:lnTo>
                      <a:pt x="793" y="1147"/>
                    </a:lnTo>
                    <a:lnTo>
                      <a:pt x="791" y="1154"/>
                    </a:lnTo>
                    <a:lnTo>
                      <a:pt x="800" y="1163"/>
                    </a:lnTo>
                    <a:lnTo>
                      <a:pt x="810" y="1157"/>
                    </a:lnTo>
                    <a:lnTo>
                      <a:pt x="820" y="1151"/>
                    </a:lnTo>
                    <a:lnTo>
                      <a:pt x="829" y="1146"/>
                    </a:lnTo>
                    <a:lnTo>
                      <a:pt x="839" y="1142"/>
                    </a:lnTo>
                    <a:lnTo>
                      <a:pt x="848" y="1137"/>
                    </a:lnTo>
                    <a:lnTo>
                      <a:pt x="858" y="1133"/>
                    </a:lnTo>
                    <a:lnTo>
                      <a:pt x="869" y="1129"/>
                    </a:lnTo>
                    <a:lnTo>
                      <a:pt x="881" y="1126"/>
                    </a:lnTo>
                    <a:lnTo>
                      <a:pt x="888" y="1122"/>
                    </a:lnTo>
                    <a:lnTo>
                      <a:pt x="895" y="1120"/>
                    </a:lnTo>
                    <a:lnTo>
                      <a:pt x="903" y="1119"/>
                    </a:lnTo>
                    <a:lnTo>
                      <a:pt x="911" y="1118"/>
                    </a:lnTo>
                    <a:lnTo>
                      <a:pt x="918" y="1115"/>
                    </a:lnTo>
                    <a:lnTo>
                      <a:pt x="926" y="1113"/>
                    </a:lnTo>
                    <a:lnTo>
                      <a:pt x="931" y="1109"/>
                    </a:lnTo>
                    <a:lnTo>
                      <a:pt x="937" y="1104"/>
                    </a:lnTo>
                    <a:lnTo>
                      <a:pt x="943" y="1109"/>
                    </a:lnTo>
                    <a:lnTo>
                      <a:pt x="950" y="1113"/>
                    </a:lnTo>
                    <a:lnTo>
                      <a:pt x="958" y="1116"/>
                    </a:lnTo>
                    <a:lnTo>
                      <a:pt x="967" y="1119"/>
                    </a:lnTo>
                    <a:lnTo>
                      <a:pt x="976" y="1121"/>
                    </a:lnTo>
                    <a:lnTo>
                      <a:pt x="984" y="1125"/>
                    </a:lnTo>
                    <a:lnTo>
                      <a:pt x="992" y="1130"/>
                    </a:lnTo>
                    <a:lnTo>
                      <a:pt x="999" y="1140"/>
                    </a:lnTo>
                    <a:lnTo>
                      <a:pt x="999" y="1129"/>
                    </a:lnTo>
                    <a:lnTo>
                      <a:pt x="1002" y="1123"/>
                    </a:lnTo>
                    <a:lnTo>
                      <a:pt x="1008" y="1124"/>
                    </a:lnTo>
                    <a:lnTo>
                      <a:pt x="1015" y="1128"/>
                    </a:lnTo>
                    <a:lnTo>
                      <a:pt x="1022" y="1132"/>
                    </a:lnTo>
                    <a:lnTo>
                      <a:pt x="1029" y="1137"/>
                    </a:lnTo>
                    <a:lnTo>
                      <a:pt x="1035" y="1143"/>
                    </a:lnTo>
                    <a:lnTo>
                      <a:pt x="1042" y="1148"/>
                    </a:lnTo>
                    <a:lnTo>
                      <a:pt x="1049" y="1152"/>
                    </a:lnTo>
                    <a:lnTo>
                      <a:pt x="1058" y="1156"/>
                    </a:lnTo>
                    <a:lnTo>
                      <a:pt x="1064" y="1144"/>
                    </a:lnTo>
                    <a:lnTo>
                      <a:pt x="1068" y="1145"/>
                    </a:lnTo>
                    <a:lnTo>
                      <a:pt x="1072" y="1146"/>
                    </a:lnTo>
                    <a:lnTo>
                      <a:pt x="1074" y="1148"/>
                    </a:lnTo>
                    <a:lnTo>
                      <a:pt x="1077" y="1153"/>
                    </a:lnTo>
                    <a:lnTo>
                      <a:pt x="1081" y="1156"/>
                    </a:lnTo>
                    <a:lnTo>
                      <a:pt x="1085" y="1154"/>
                    </a:lnTo>
                    <a:lnTo>
                      <a:pt x="1087" y="1150"/>
                    </a:lnTo>
                    <a:lnTo>
                      <a:pt x="1090" y="1150"/>
                    </a:lnTo>
                    <a:lnTo>
                      <a:pt x="1095" y="1150"/>
                    </a:lnTo>
                    <a:lnTo>
                      <a:pt x="1101" y="1152"/>
                    </a:lnTo>
                    <a:lnTo>
                      <a:pt x="1106" y="1155"/>
                    </a:lnTo>
                    <a:lnTo>
                      <a:pt x="1112" y="1158"/>
                    </a:lnTo>
                    <a:lnTo>
                      <a:pt x="1122" y="1164"/>
                    </a:lnTo>
                    <a:lnTo>
                      <a:pt x="1132" y="1172"/>
                    </a:lnTo>
                    <a:lnTo>
                      <a:pt x="1125" y="1178"/>
                    </a:lnTo>
                    <a:lnTo>
                      <a:pt x="1117" y="1183"/>
                    </a:lnTo>
                    <a:lnTo>
                      <a:pt x="1109" y="1187"/>
                    </a:lnTo>
                    <a:lnTo>
                      <a:pt x="1101" y="1192"/>
                    </a:lnTo>
                    <a:lnTo>
                      <a:pt x="1092" y="1195"/>
                    </a:lnTo>
                    <a:lnTo>
                      <a:pt x="1083" y="1199"/>
                    </a:lnTo>
                    <a:lnTo>
                      <a:pt x="1074" y="1202"/>
                    </a:lnTo>
                    <a:lnTo>
                      <a:pt x="1067" y="1208"/>
                    </a:lnTo>
                    <a:lnTo>
                      <a:pt x="1059" y="1219"/>
                    </a:lnTo>
                    <a:lnTo>
                      <a:pt x="1051" y="1230"/>
                    </a:lnTo>
                    <a:lnTo>
                      <a:pt x="1042" y="1239"/>
                    </a:lnTo>
                    <a:lnTo>
                      <a:pt x="1033" y="1249"/>
                    </a:lnTo>
                    <a:lnTo>
                      <a:pt x="1024" y="1258"/>
                    </a:lnTo>
                    <a:lnTo>
                      <a:pt x="1016" y="1269"/>
                    </a:lnTo>
                    <a:lnTo>
                      <a:pt x="1009" y="1281"/>
                    </a:lnTo>
                    <a:lnTo>
                      <a:pt x="1005" y="1295"/>
                    </a:lnTo>
                    <a:lnTo>
                      <a:pt x="1007" y="1298"/>
                    </a:lnTo>
                    <a:lnTo>
                      <a:pt x="1012" y="1299"/>
                    </a:lnTo>
                    <a:lnTo>
                      <a:pt x="1010" y="1295"/>
                    </a:lnTo>
                    <a:lnTo>
                      <a:pt x="1012" y="1295"/>
                    </a:lnTo>
                    <a:lnTo>
                      <a:pt x="1018" y="1299"/>
                    </a:lnTo>
                    <a:lnTo>
                      <a:pt x="1018" y="1304"/>
                    </a:lnTo>
                    <a:lnTo>
                      <a:pt x="1021" y="1309"/>
                    </a:lnTo>
                    <a:lnTo>
                      <a:pt x="1024" y="1312"/>
                    </a:lnTo>
                    <a:lnTo>
                      <a:pt x="1029" y="1317"/>
                    </a:lnTo>
                    <a:lnTo>
                      <a:pt x="1038" y="1321"/>
                    </a:lnTo>
                    <a:lnTo>
                      <a:pt x="1044" y="1325"/>
                    </a:lnTo>
                    <a:lnTo>
                      <a:pt x="1055" y="1317"/>
                    </a:lnTo>
                    <a:lnTo>
                      <a:pt x="1067" y="1311"/>
                    </a:lnTo>
                    <a:lnTo>
                      <a:pt x="1079" y="1307"/>
                    </a:lnTo>
                    <a:lnTo>
                      <a:pt x="1093" y="1304"/>
                    </a:lnTo>
                    <a:lnTo>
                      <a:pt x="1105" y="1301"/>
                    </a:lnTo>
                    <a:lnTo>
                      <a:pt x="1118" y="1299"/>
                    </a:lnTo>
                    <a:lnTo>
                      <a:pt x="1130" y="1295"/>
                    </a:lnTo>
                    <a:lnTo>
                      <a:pt x="1142" y="1292"/>
                    </a:lnTo>
                    <a:lnTo>
                      <a:pt x="1151" y="1291"/>
                    </a:lnTo>
                    <a:lnTo>
                      <a:pt x="1161" y="1291"/>
                    </a:lnTo>
                    <a:lnTo>
                      <a:pt x="1170" y="1289"/>
                    </a:lnTo>
                    <a:lnTo>
                      <a:pt x="1180" y="1287"/>
                    </a:lnTo>
                    <a:lnTo>
                      <a:pt x="1189" y="1283"/>
                    </a:lnTo>
                    <a:lnTo>
                      <a:pt x="1198" y="1280"/>
                    </a:lnTo>
                    <a:lnTo>
                      <a:pt x="1207" y="1276"/>
                    </a:lnTo>
                    <a:lnTo>
                      <a:pt x="1216" y="1273"/>
                    </a:lnTo>
                    <a:lnTo>
                      <a:pt x="1227" y="1267"/>
                    </a:lnTo>
                    <a:lnTo>
                      <a:pt x="1238" y="1264"/>
                    </a:lnTo>
                    <a:lnTo>
                      <a:pt x="1249" y="1261"/>
                    </a:lnTo>
                    <a:lnTo>
                      <a:pt x="1260" y="1258"/>
                    </a:lnTo>
                    <a:lnTo>
                      <a:pt x="1270" y="1254"/>
                    </a:lnTo>
                    <a:lnTo>
                      <a:pt x="1282" y="1250"/>
                    </a:lnTo>
                    <a:lnTo>
                      <a:pt x="1292" y="1246"/>
                    </a:lnTo>
                    <a:lnTo>
                      <a:pt x="1305" y="1241"/>
                    </a:lnTo>
                    <a:lnTo>
                      <a:pt x="1319" y="1237"/>
                    </a:lnTo>
                    <a:lnTo>
                      <a:pt x="1334" y="1233"/>
                    </a:lnTo>
                    <a:lnTo>
                      <a:pt x="1348" y="1229"/>
                    </a:lnTo>
                    <a:lnTo>
                      <a:pt x="1363" y="1224"/>
                    </a:lnTo>
                    <a:lnTo>
                      <a:pt x="1376" y="1219"/>
                    </a:lnTo>
                    <a:lnTo>
                      <a:pt x="1391" y="1214"/>
                    </a:lnTo>
                    <a:lnTo>
                      <a:pt x="1403" y="1209"/>
                    </a:lnTo>
                    <a:lnTo>
                      <a:pt x="1415" y="1205"/>
                    </a:lnTo>
                    <a:lnTo>
                      <a:pt x="1448" y="1195"/>
                    </a:lnTo>
                    <a:lnTo>
                      <a:pt x="1482" y="1182"/>
                    </a:lnTo>
                    <a:lnTo>
                      <a:pt x="1513" y="1166"/>
                    </a:lnTo>
                    <a:lnTo>
                      <a:pt x="1544" y="1150"/>
                    </a:lnTo>
                    <a:lnTo>
                      <a:pt x="1574" y="1132"/>
                    </a:lnTo>
                    <a:lnTo>
                      <a:pt x="1605" y="1119"/>
                    </a:lnTo>
                    <a:lnTo>
                      <a:pt x="1636" y="1108"/>
                    </a:lnTo>
                    <a:lnTo>
                      <a:pt x="1669" y="1104"/>
                    </a:lnTo>
                    <a:lnTo>
                      <a:pt x="1669" y="1095"/>
                    </a:lnTo>
                    <a:lnTo>
                      <a:pt x="1673" y="1089"/>
                    </a:lnTo>
                    <a:lnTo>
                      <a:pt x="1678" y="1084"/>
                    </a:lnTo>
                    <a:lnTo>
                      <a:pt x="1685" y="1078"/>
                    </a:lnTo>
                    <a:lnTo>
                      <a:pt x="1686" y="1070"/>
                    </a:lnTo>
                    <a:lnTo>
                      <a:pt x="1682" y="1065"/>
                    </a:lnTo>
                    <a:lnTo>
                      <a:pt x="1676" y="1062"/>
                    </a:lnTo>
                    <a:lnTo>
                      <a:pt x="1672" y="1059"/>
                    </a:lnTo>
                    <a:lnTo>
                      <a:pt x="1676" y="1057"/>
                    </a:lnTo>
                    <a:lnTo>
                      <a:pt x="1682" y="1057"/>
                    </a:lnTo>
                    <a:lnTo>
                      <a:pt x="1687" y="1057"/>
                    </a:lnTo>
                    <a:lnTo>
                      <a:pt x="1692" y="1057"/>
                    </a:lnTo>
                    <a:lnTo>
                      <a:pt x="1695" y="1054"/>
                    </a:lnTo>
                    <a:lnTo>
                      <a:pt x="1698" y="1052"/>
                    </a:lnTo>
                    <a:lnTo>
                      <a:pt x="1698" y="1047"/>
                    </a:lnTo>
                    <a:lnTo>
                      <a:pt x="1698" y="1042"/>
                    </a:lnTo>
                    <a:lnTo>
                      <a:pt x="1747" y="1053"/>
                    </a:lnTo>
                    <a:lnTo>
                      <a:pt x="1751" y="1047"/>
                    </a:lnTo>
                    <a:lnTo>
                      <a:pt x="1758" y="1045"/>
                    </a:lnTo>
                    <a:lnTo>
                      <a:pt x="1766" y="1044"/>
                    </a:lnTo>
                    <a:lnTo>
                      <a:pt x="1775" y="1046"/>
                    </a:lnTo>
                    <a:lnTo>
                      <a:pt x="1784" y="1047"/>
                    </a:lnTo>
                    <a:lnTo>
                      <a:pt x="1793" y="1050"/>
                    </a:lnTo>
                    <a:lnTo>
                      <a:pt x="1801" y="1052"/>
                    </a:lnTo>
                    <a:lnTo>
                      <a:pt x="1809" y="1053"/>
                    </a:lnTo>
                    <a:lnTo>
                      <a:pt x="1822" y="1050"/>
                    </a:lnTo>
                    <a:lnTo>
                      <a:pt x="1835" y="1050"/>
                    </a:lnTo>
                    <a:lnTo>
                      <a:pt x="1847" y="1050"/>
                    </a:lnTo>
                    <a:lnTo>
                      <a:pt x="1860" y="1052"/>
                    </a:lnTo>
                    <a:lnTo>
                      <a:pt x="1871" y="1053"/>
                    </a:lnTo>
                    <a:lnTo>
                      <a:pt x="1884" y="1055"/>
                    </a:lnTo>
                    <a:lnTo>
                      <a:pt x="1896" y="1057"/>
                    </a:lnTo>
                    <a:lnTo>
                      <a:pt x="1910" y="1059"/>
                    </a:lnTo>
                    <a:lnTo>
                      <a:pt x="1910" y="1048"/>
                    </a:lnTo>
                    <a:lnTo>
                      <a:pt x="1916" y="1044"/>
                    </a:lnTo>
                    <a:lnTo>
                      <a:pt x="1923" y="1041"/>
                    </a:lnTo>
                    <a:lnTo>
                      <a:pt x="1930" y="1039"/>
                    </a:lnTo>
                    <a:lnTo>
                      <a:pt x="1937" y="1038"/>
                    </a:lnTo>
                    <a:lnTo>
                      <a:pt x="1943" y="1036"/>
                    </a:lnTo>
                    <a:lnTo>
                      <a:pt x="1951" y="1036"/>
                    </a:lnTo>
                    <a:lnTo>
                      <a:pt x="1959" y="1036"/>
                    </a:lnTo>
                    <a:lnTo>
                      <a:pt x="1969" y="1036"/>
                    </a:lnTo>
                    <a:lnTo>
                      <a:pt x="1974" y="1033"/>
                    </a:lnTo>
                    <a:lnTo>
                      <a:pt x="1981" y="1030"/>
                    </a:lnTo>
                    <a:lnTo>
                      <a:pt x="1983" y="1028"/>
                    </a:lnTo>
                    <a:lnTo>
                      <a:pt x="1986" y="1029"/>
                    </a:lnTo>
                    <a:lnTo>
                      <a:pt x="1988" y="1031"/>
                    </a:lnTo>
                    <a:lnTo>
                      <a:pt x="1991" y="1036"/>
                    </a:lnTo>
                    <a:lnTo>
                      <a:pt x="2057" y="1029"/>
                    </a:lnTo>
                    <a:lnTo>
                      <a:pt x="2036" y="1037"/>
                    </a:lnTo>
                    <a:lnTo>
                      <a:pt x="2017" y="1048"/>
                    </a:lnTo>
                    <a:lnTo>
                      <a:pt x="1998" y="1059"/>
                    </a:lnTo>
                    <a:lnTo>
                      <a:pt x="1980" y="1071"/>
                    </a:lnTo>
                    <a:lnTo>
                      <a:pt x="1961" y="1082"/>
                    </a:lnTo>
                    <a:lnTo>
                      <a:pt x="1943" y="1094"/>
                    </a:lnTo>
                    <a:lnTo>
                      <a:pt x="1926" y="1105"/>
                    </a:lnTo>
                    <a:lnTo>
                      <a:pt x="1910" y="1117"/>
                    </a:lnTo>
                    <a:lnTo>
                      <a:pt x="1903" y="1124"/>
                    </a:lnTo>
                    <a:lnTo>
                      <a:pt x="1896" y="1132"/>
                    </a:lnTo>
                    <a:lnTo>
                      <a:pt x="1888" y="1140"/>
                    </a:lnTo>
                    <a:lnTo>
                      <a:pt x="1880" y="1147"/>
                    </a:lnTo>
                    <a:lnTo>
                      <a:pt x="1872" y="1153"/>
                    </a:lnTo>
                    <a:lnTo>
                      <a:pt x="1865" y="1159"/>
                    </a:lnTo>
                    <a:lnTo>
                      <a:pt x="1859" y="1165"/>
                    </a:lnTo>
                    <a:lnTo>
                      <a:pt x="1854" y="1172"/>
                    </a:lnTo>
                    <a:lnTo>
                      <a:pt x="1855" y="1179"/>
                    </a:lnTo>
                    <a:lnTo>
                      <a:pt x="1859" y="1185"/>
                    </a:lnTo>
                    <a:lnTo>
                      <a:pt x="1865" y="1188"/>
                    </a:lnTo>
                    <a:lnTo>
                      <a:pt x="1874" y="1188"/>
                    </a:lnTo>
                    <a:lnTo>
                      <a:pt x="1874" y="1183"/>
                    </a:lnTo>
                    <a:lnTo>
                      <a:pt x="1874" y="1182"/>
                    </a:lnTo>
                    <a:lnTo>
                      <a:pt x="1880" y="1180"/>
                    </a:lnTo>
                    <a:lnTo>
                      <a:pt x="1887" y="1178"/>
                    </a:lnTo>
                    <a:lnTo>
                      <a:pt x="1892" y="1175"/>
                    </a:lnTo>
                    <a:lnTo>
                      <a:pt x="1897" y="1172"/>
                    </a:lnTo>
                    <a:lnTo>
                      <a:pt x="1903" y="1176"/>
                    </a:lnTo>
                    <a:lnTo>
                      <a:pt x="1909" y="1178"/>
                    </a:lnTo>
                    <a:lnTo>
                      <a:pt x="1916" y="1178"/>
                    </a:lnTo>
                    <a:lnTo>
                      <a:pt x="1925" y="1177"/>
                    </a:lnTo>
                    <a:lnTo>
                      <a:pt x="1933" y="1174"/>
                    </a:lnTo>
                    <a:lnTo>
                      <a:pt x="1942" y="1171"/>
                    </a:lnTo>
                    <a:lnTo>
                      <a:pt x="1952" y="1168"/>
                    </a:lnTo>
                    <a:lnTo>
                      <a:pt x="1962" y="1166"/>
                    </a:lnTo>
                    <a:lnTo>
                      <a:pt x="1961" y="1171"/>
                    </a:lnTo>
                    <a:lnTo>
                      <a:pt x="1962" y="1176"/>
                    </a:lnTo>
                    <a:lnTo>
                      <a:pt x="1970" y="1174"/>
                    </a:lnTo>
                    <a:lnTo>
                      <a:pt x="1977" y="1173"/>
                    </a:lnTo>
                    <a:lnTo>
                      <a:pt x="1983" y="1172"/>
                    </a:lnTo>
                    <a:lnTo>
                      <a:pt x="1988" y="1169"/>
                    </a:lnTo>
                    <a:lnTo>
                      <a:pt x="2005" y="1165"/>
                    </a:lnTo>
                    <a:lnTo>
                      <a:pt x="2023" y="1163"/>
                    </a:lnTo>
                    <a:lnTo>
                      <a:pt x="2041" y="1160"/>
                    </a:lnTo>
                    <a:lnTo>
                      <a:pt x="2060" y="1158"/>
                    </a:lnTo>
                    <a:lnTo>
                      <a:pt x="2077" y="1154"/>
                    </a:lnTo>
                    <a:lnTo>
                      <a:pt x="2094" y="1150"/>
                    </a:lnTo>
                    <a:lnTo>
                      <a:pt x="2110" y="1143"/>
                    </a:lnTo>
                    <a:lnTo>
                      <a:pt x="2127" y="1136"/>
                    </a:lnTo>
                    <a:lnTo>
                      <a:pt x="2169" y="1127"/>
                    </a:lnTo>
                    <a:lnTo>
                      <a:pt x="2210" y="1118"/>
                    </a:lnTo>
                    <a:lnTo>
                      <a:pt x="2250" y="1109"/>
                    </a:lnTo>
                    <a:lnTo>
                      <a:pt x="2290" y="1100"/>
                    </a:lnTo>
                    <a:lnTo>
                      <a:pt x="2328" y="1089"/>
                    </a:lnTo>
                    <a:lnTo>
                      <a:pt x="2366" y="1079"/>
                    </a:lnTo>
                    <a:lnTo>
                      <a:pt x="2405" y="1069"/>
                    </a:lnTo>
                    <a:lnTo>
                      <a:pt x="2443" y="1059"/>
                    </a:lnTo>
                    <a:lnTo>
                      <a:pt x="2446" y="1053"/>
                    </a:lnTo>
                    <a:lnTo>
                      <a:pt x="2452" y="1048"/>
                    </a:lnTo>
                    <a:lnTo>
                      <a:pt x="2458" y="1045"/>
                    </a:lnTo>
                    <a:lnTo>
                      <a:pt x="2465" y="1044"/>
                    </a:lnTo>
                    <a:lnTo>
                      <a:pt x="2471" y="1042"/>
                    </a:lnTo>
                    <a:lnTo>
                      <a:pt x="2477" y="1041"/>
                    </a:lnTo>
                    <a:lnTo>
                      <a:pt x="2483" y="1040"/>
                    </a:lnTo>
                    <a:lnTo>
                      <a:pt x="2489" y="1039"/>
                    </a:lnTo>
                    <a:lnTo>
                      <a:pt x="2497" y="1030"/>
                    </a:lnTo>
                    <a:lnTo>
                      <a:pt x="2508" y="1025"/>
                    </a:lnTo>
                    <a:lnTo>
                      <a:pt x="2518" y="1020"/>
                    </a:lnTo>
                    <a:lnTo>
                      <a:pt x="2530" y="1017"/>
                    </a:lnTo>
                    <a:lnTo>
                      <a:pt x="2541" y="1014"/>
                    </a:lnTo>
                    <a:lnTo>
                      <a:pt x="2554" y="1012"/>
                    </a:lnTo>
                    <a:lnTo>
                      <a:pt x="2565" y="1010"/>
                    </a:lnTo>
                    <a:lnTo>
                      <a:pt x="2577" y="1010"/>
                    </a:lnTo>
                    <a:lnTo>
                      <a:pt x="2583" y="1000"/>
                    </a:lnTo>
                    <a:lnTo>
                      <a:pt x="2592" y="994"/>
                    </a:lnTo>
                    <a:lnTo>
                      <a:pt x="2603" y="990"/>
                    </a:lnTo>
                    <a:lnTo>
                      <a:pt x="2615" y="989"/>
                    </a:lnTo>
                    <a:lnTo>
                      <a:pt x="2627" y="986"/>
                    </a:lnTo>
                    <a:lnTo>
                      <a:pt x="2640" y="983"/>
                    </a:lnTo>
                    <a:lnTo>
                      <a:pt x="2650" y="977"/>
                    </a:lnTo>
                    <a:lnTo>
                      <a:pt x="2658" y="968"/>
                    </a:lnTo>
                    <a:lnTo>
                      <a:pt x="2664" y="963"/>
                    </a:lnTo>
                    <a:lnTo>
                      <a:pt x="2670" y="962"/>
                    </a:lnTo>
                    <a:lnTo>
                      <a:pt x="2677" y="960"/>
                    </a:lnTo>
                    <a:lnTo>
                      <a:pt x="2684" y="963"/>
                    </a:lnTo>
                    <a:lnTo>
                      <a:pt x="2690" y="963"/>
                    </a:lnTo>
                    <a:lnTo>
                      <a:pt x="2697" y="965"/>
                    </a:lnTo>
                    <a:lnTo>
                      <a:pt x="2703" y="967"/>
                    </a:lnTo>
                    <a:lnTo>
                      <a:pt x="2710" y="968"/>
                    </a:lnTo>
                    <a:lnTo>
                      <a:pt x="2710" y="965"/>
                    </a:lnTo>
                    <a:lnTo>
                      <a:pt x="2711" y="958"/>
                    </a:lnTo>
                    <a:lnTo>
                      <a:pt x="2720" y="955"/>
                    </a:lnTo>
                    <a:lnTo>
                      <a:pt x="2725" y="954"/>
                    </a:lnTo>
                    <a:lnTo>
                      <a:pt x="2730" y="954"/>
                    </a:lnTo>
                    <a:lnTo>
                      <a:pt x="2735" y="954"/>
                    </a:lnTo>
                    <a:lnTo>
                      <a:pt x="2740" y="954"/>
                    </a:lnTo>
                    <a:lnTo>
                      <a:pt x="2741" y="946"/>
                    </a:lnTo>
                    <a:lnTo>
                      <a:pt x="2739" y="941"/>
                    </a:lnTo>
                    <a:lnTo>
                      <a:pt x="2733" y="938"/>
                    </a:lnTo>
                    <a:lnTo>
                      <a:pt x="2728" y="935"/>
                    </a:lnTo>
                    <a:lnTo>
                      <a:pt x="2720" y="932"/>
                    </a:lnTo>
                    <a:lnTo>
                      <a:pt x="2711" y="930"/>
                    </a:lnTo>
                    <a:lnTo>
                      <a:pt x="2704" y="926"/>
                    </a:lnTo>
                    <a:lnTo>
                      <a:pt x="2700" y="922"/>
                    </a:lnTo>
                    <a:lnTo>
                      <a:pt x="2701" y="914"/>
                    </a:lnTo>
                    <a:lnTo>
                      <a:pt x="2699" y="910"/>
                    </a:lnTo>
                    <a:lnTo>
                      <a:pt x="2694" y="906"/>
                    </a:lnTo>
                    <a:lnTo>
                      <a:pt x="2689" y="904"/>
                    </a:lnTo>
                    <a:lnTo>
                      <a:pt x="2682" y="901"/>
                    </a:lnTo>
                    <a:lnTo>
                      <a:pt x="2676" y="898"/>
                    </a:lnTo>
                    <a:lnTo>
                      <a:pt x="2672" y="893"/>
                    </a:lnTo>
                    <a:lnTo>
                      <a:pt x="2671" y="887"/>
                    </a:lnTo>
                    <a:lnTo>
                      <a:pt x="2663" y="884"/>
                    </a:lnTo>
                    <a:lnTo>
                      <a:pt x="2657" y="881"/>
                    </a:lnTo>
                    <a:lnTo>
                      <a:pt x="2651" y="876"/>
                    </a:lnTo>
                    <a:lnTo>
                      <a:pt x="2645" y="870"/>
                    </a:lnTo>
                    <a:lnTo>
                      <a:pt x="2638" y="864"/>
                    </a:lnTo>
                    <a:lnTo>
                      <a:pt x="2632" y="859"/>
                    </a:lnTo>
                    <a:lnTo>
                      <a:pt x="2625" y="854"/>
                    </a:lnTo>
                    <a:lnTo>
                      <a:pt x="2619" y="851"/>
                    </a:lnTo>
                    <a:lnTo>
                      <a:pt x="2616" y="843"/>
                    </a:lnTo>
                    <a:lnTo>
                      <a:pt x="2613" y="837"/>
                    </a:lnTo>
                    <a:lnTo>
                      <a:pt x="2611" y="831"/>
                    </a:lnTo>
                    <a:lnTo>
                      <a:pt x="2612" y="825"/>
                    </a:lnTo>
                    <a:lnTo>
                      <a:pt x="2616" y="825"/>
                    </a:lnTo>
                    <a:lnTo>
                      <a:pt x="2620" y="822"/>
                    </a:lnTo>
                    <a:lnTo>
                      <a:pt x="2622" y="820"/>
                    </a:lnTo>
                    <a:lnTo>
                      <a:pt x="2622" y="817"/>
                    </a:lnTo>
                    <a:lnTo>
                      <a:pt x="2623" y="814"/>
                    </a:lnTo>
                    <a:lnTo>
                      <a:pt x="2621" y="806"/>
                    </a:lnTo>
                    <a:lnTo>
                      <a:pt x="2622" y="799"/>
                    </a:lnTo>
                    <a:lnTo>
                      <a:pt x="2628" y="798"/>
                    </a:lnTo>
                    <a:lnTo>
                      <a:pt x="2634" y="801"/>
                    </a:lnTo>
                    <a:lnTo>
                      <a:pt x="2639" y="804"/>
                    </a:lnTo>
                    <a:lnTo>
                      <a:pt x="2646" y="806"/>
                    </a:lnTo>
                    <a:lnTo>
                      <a:pt x="2651" y="796"/>
                    </a:lnTo>
                    <a:lnTo>
                      <a:pt x="2655" y="786"/>
                    </a:lnTo>
                    <a:lnTo>
                      <a:pt x="2674" y="793"/>
                    </a:lnTo>
                    <a:lnTo>
                      <a:pt x="2693" y="802"/>
                    </a:lnTo>
                    <a:lnTo>
                      <a:pt x="2711" y="810"/>
                    </a:lnTo>
                    <a:lnTo>
                      <a:pt x="2731" y="821"/>
                    </a:lnTo>
                    <a:lnTo>
                      <a:pt x="2748" y="831"/>
                    </a:lnTo>
                    <a:lnTo>
                      <a:pt x="2765" y="844"/>
                    </a:lnTo>
                    <a:lnTo>
                      <a:pt x="2780" y="857"/>
                    </a:lnTo>
                    <a:lnTo>
                      <a:pt x="2796" y="874"/>
                    </a:lnTo>
                    <a:lnTo>
                      <a:pt x="2798" y="877"/>
                    </a:lnTo>
                    <a:lnTo>
                      <a:pt x="2799" y="883"/>
                    </a:lnTo>
                    <a:lnTo>
                      <a:pt x="2800" y="888"/>
                    </a:lnTo>
                    <a:lnTo>
                      <a:pt x="2801" y="893"/>
                    </a:lnTo>
                    <a:lnTo>
                      <a:pt x="2802" y="896"/>
                    </a:lnTo>
                    <a:lnTo>
                      <a:pt x="2805" y="900"/>
                    </a:lnTo>
                    <a:lnTo>
                      <a:pt x="2808" y="902"/>
                    </a:lnTo>
                    <a:lnTo>
                      <a:pt x="2815" y="903"/>
                    </a:lnTo>
                    <a:lnTo>
                      <a:pt x="2817" y="934"/>
                    </a:lnTo>
                    <a:lnTo>
                      <a:pt x="2815" y="965"/>
                    </a:lnTo>
                    <a:lnTo>
                      <a:pt x="2806" y="991"/>
                    </a:lnTo>
                    <a:lnTo>
                      <a:pt x="2794" y="1015"/>
                    </a:lnTo>
                    <a:lnTo>
                      <a:pt x="2777" y="1036"/>
                    </a:lnTo>
                    <a:lnTo>
                      <a:pt x="2759" y="1059"/>
                    </a:lnTo>
                    <a:lnTo>
                      <a:pt x="2738" y="1078"/>
                    </a:lnTo>
                    <a:lnTo>
                      <a:pt x="2717" y="1098"/>
                    </a:lnTo>
                    <a:lnTo>
                      <a:pt x="2685" y="1121"/>
                    </a:lnTo>
                    <a:lnTo>
                      <a:pt x="2653" y="1144"/>
                    </a:lnTo>
                    <a:lnTo>
                      <a:pt x="2618" y="1165"/>
                    </a:lnTo>
                    <a:lnTo>
                      <a:pt x="2585" y="1184"/>
                    </a:lnTo>
                    <a:lnTo>
                      <a:pt x="2550" y="1201"/>
                    </a:lnTo>
                    <a:lnTo>
                      <a:pt x="2516" y="1218"/>
                    </a:lnTo>
                    <a:lnTo>
                      <a:pt x="2481" y="1234"/>
                    </a:lnTo>
                    <a:lnTo>
                      <a:pt x="2447" y="1250"/>
                    </a:lnTo>
                    <a:lnTo>
                      <a:pt x="2435" y="1253"/>
                    </a:lnTo>
                    <a:lnTo>
                      <a:pt x="2423" y="1259"/>
                    </a:lnTo>
                    <a:lnTo>
                      <a:pt x="2411" y="1264"/>
                    </a:lnTo>
                    <a:lnTo>
                      <a:pt x="2400" y="1269"/>
                    </a:lnTo>
                    <a:lnTo>
                      <a:pt x="2388" y="1273"/>
                    </a:lnTo>
                    <a:lnTo>
                      <a:pt x="2376" y="1277"/>
                    </a:lnTo>
                    <a:lnTo>
                      <a:pt x="2365" y="1279"/>
                    </a:lnTo>
                    <a:lnTo>
                      <a:pt x="2356" y="1279"/>
                    </a:lnTo>
                    <a:lnTo>
                      <a:pt x="2356" y="1286"/>
                    </a:lnTo>
                    <a:lnTo>
                      <a:pt x="2347" y="1288"/>
                    </a:lnTo>
                    <a:lnTo>
                      <a:pt x="2339" y="1290"/>
                    </a:lnTo>
                    <a:lnTo>
                      <a:pt x="2329" y="1292"/>
                    </a:lnTo>
                    <a:lnTo>
                      <a:pt x="2319" y="1295"/>
                    </a:lnTo>
                    <a:lnTo>
                      <a:pt x="2309" y="1297"/>
                    </a:lnTo>
                    <a:lnTo>
                      <a:pt x="2299" y="1300"/>
                    </a:lnTo>
                    <a:lnTo>
                      <a:pt x="2289" y="1303"/>
                    </a:lnTo>
                    <a:lnTo>
                      <a:pt x="2281" y="1308"/>
                    </a:lnTo>
                    <a:lnTo>
                      <a:pt x="2238" y="1315"/>
                    </a:lnTo>
                    <a:lnTo>
                      <a:pt x="2197" y="1325"/>
                    </a:lnTo>
                    <a:lnTo>
                      <a:pt x="2158" y="1336"/>
                    </a:lnTo>
                    <a:lnTo>
                      <a:pt x="2118" y="1350"/>
                    </a:lnTo>
                    <a:lnTo>
                      <a:pt x="2079" y="1363"/>
                    </a:lnTo>
                    <a:lnTo>
                      <a:pt x="2040" y="1377"/>
                    </a:lnTo>
                    <a:lnTo>
                      <a:pt x="2001" y="1391"/>
                    </a:lnTo>
                    <a:lnTo>
                      <a:pt x="1962" y="1407"/>
                    </a:lnTo>
                    <a:lnTo>
                      <a:pt x="1906" y="1436"/>
                    </a:lnTo>
                    <a:lnTo>
                      <a:pt x="1852" y="1468"/>
                    </a:lnTo>
                    <a:lnTo>
                      <a:pt x="1800" y="1504"/>
                    </a:lnTo>
                    <a:lnTo>
                      <a:pt x="1749" y="1541"/>
                    </a:lnTo>
                    <a:lnTo>
                      <a:pt x="1697" y="1578"/>
                    </a:lnTo>
                    <a:lnTo>
                      <a:pt x="1646" y="1616"/>
                    </a:lnTo>
                    <a:lnTo>
                      <a:pt x="1593" y="1651"/>
                    </a:lnTo>
                    <a:lnTo>
                      <a:pt x="1539" y="1686"/>
                    </a:lnTo>
                    <a:lnTo>
                      <a:pt x="1520" y="1692"/>
                    </a:lnTo>
                    <a:lnTo>
                      <a:pt x="1501" y="1698"/>
                    </a:lnTo>
                    <a:lnTo>
                      <a:pt x="1482" y="1704"/>
                    </a:lnTo>
                    <a:lnTo>
                      <a:pt x="1463" y="1711"/>
                    </a:lnTo>
                    <a:lnTo>
                      <a:pt x="1443" y="1717"/>
                    </a:lnTo>
                    <a:lnTo>
                      <a:pt x="1424" y="1724"/>
                    </a:lnTo>
                    <a:lnTo>
                      <a:pt x="1405" y="1730"/>
                    </a:lnTo>
                    <a:lnTo>
                      <a:pt x="1386" y="1737"/>
                    </a:lnTo>
                    <a:lnTo>
                      <a:pt x="1357" y="1744"/>
                    </a:lnTo>
                    <a:lnTo>
                      <a:pt x="1332" y="1747"/>
                    </a:lnTo>
                    <a:lnTo>
                      <a:pt x="1308" y="1745"/>
                    </a:lnTo>
                    <a:lnTo>
                      <a:pt x="1283" y="1743"/>
                    </a:lnTo>
                    <a:lnTo>
                      <a:pt x="1258" y="1738"/>
                    </a:lnTo>
                    <a:lnTo>
                      <a:pt x="1234" y="1736"/>
                    </a:lnTo>
                    <a:lnTo>
                      <a:pt x="1207" y="1736"/>
                    </a:lnTo>
                    <a:lnTo>
                      <a:pt x="1181" y="1740"/>
                    </a:lnTo>
                    <a:lnTo>
                      <a:pt x="1157" y="1743"/>
                    </a:lnTo>
                    <a:lnTo>
                      <a:pt x="1133" y="1742"/>
                    </a:lnTo>
                    <a:lnTo>
                      <a:pt x="1110" y="1737"/>
                    </a:lnTo>
                    <a:lnTo>
                      <a:pt x="1089" y="1731"/>
                    </a:lnTo>
                    <a:lnTo>
                      <a:pt x="1068" y="1722"/>
                    </a:lnTo>
                    <a:lnTo>
                      <a:pt x="1046" y="1714"/>
                    </a:lnTo>
                    <a:lnTo>
                      <a:pt x="1025" y="1705"/>
                    </a:lnTo>
                    <a:lnTo>
                      <a:pt x="1005" y="1699"/>
                    </a:lnTo>
                    <a:lnTo>
                      <a:pt x="1003" y="1705"/>
                    </a:lnTo>
                    <a:lnTo>
                      <a:pt x="1005" y="1711"/>
                    </a:lnTo>
                    <a:lnTo>
                      <a:pt x="1008" y="1717"/>
                    </a:lnTo>
                    <a:lnTo>
                      <a:pt x="1012" y="1724"/>
                    </a:lnTo>
                    <a:lnTo>
                      <a:pt x="1021" y="1726"/>
                    </a:lnTo>
                    <a:lnTo>
                      <a:pt x="1031" y="1731"/>
                    </a:lnTo>
                    <a:lnTo>
                      <a:pt x="1039" y="1736"/>
                    </a:lnTo>
                    <a:lnTo>
                      <a:pt x="1048" y="1742"/>
                    </a:lnTo>
                    <a:lnTo>
                      <a:pt x="1057" y="1748"/>
                    </a:lnTo>
                    <a:lnTo>
                      <a:pt x="1065" y="1754"/>
                    </a:lnTo>
                    <a:lnTo>
                      <a:pt x="1074" y="1761"/>
                    </a:lnTo>
                    <a:lnTo>
                      <a:pt x="1084" y="1767"/>
                    </a:lnTo>
                    <a:lnTo>
                      <a:pt x="1111" y="1780"/>
                    </a:lnTo>
                    <a:lnTo>
                      <a:pt x="1140" y="1791"/>
                    </a:lnTo>
                    <a:lnTo>
                      <a:pt x="1168" y="1797"/>
                    </a:lnTo>
                    <a:lnTo>
                      <a:pt x="1197" y="1803"/>
                    </a:lnTo>
                    <a:lnTo>
                      <a:pt x="1227" y="1806"/>
                    </a:lnTo>
                    <a:lnTo>
                      <a:pt x="1257" y="1811"/>
                    </a:lnTo>
                    <a:lnTo>
                      <a:pt x="1287" y="1816"/>
                    </a:lnTo>
                    <a:lnTo>
                      <a:pt x="1318" y="1825"/>
                    </a:lnTo>
                    <a:lnTo>
                      <a:pt x="1327" y="1824"/>
                    </a:lnTo>
                    <a:lnTo>
                      <a:pt x="1337" y="1824"/>
                    </a:lnTo>
                    <a:lnTo>
                      <a:pt x="1346" y="1823"/>
                    </a:lnTo>
                    <a:lnTo>
                      <a:pt x="1356" y="1822"/>
                    </a:lnTo>
                    <a:lnTo>
                      <a:pt x="1364" y="1820"/>
                    </a:lnTo>
                    <a:lnTo>
                      <a:pt x="1373" y="1819"/>
                    </a:lnTo>
                    <a:lnTo>
                      <a:pt x="1382" y="1819"/>
                    </a:lnTo>
                    <a:lnTo>
                      <a:pt x="1393" y="1822"/>
                    </a:lnTo>
                    <a:lnTo>
                      <a:pt x="1405" y="1813"/>
                    </a:lnTo>
                    <a:lnTo>
                      <a:pt x="1417" y="1807"/>
                    </a:lnTo>
                    <a:lnTo>
                      <a:pt x="1429" y="1801"/>
                    </a:lnTo>
                    <a:lnTo>
                      <a:pt x="1443" y="1798"/>
                    </a:lnTo>
                    <a:lnTo>
                      <a:pt x="1455" y="1795"/>
                    </a:lnTo>
                    <a:lnTo>
                      <a:pt x="1470" y="1792"/>
                    </a:lnTo>
                    <a:lnTo>
                      <a:pt x="1483" y="1787"/>
                    </a:lnTo>
                    <a:lnTo>
                      <a:pt x="1497" y="1783"/>
                    </a:lnTo>
                    <a:lnTo>
                      <a:pt x="1530" y="1777"/>
                    </a:lnTo>
                    <a:lnTo>
                      <a:pt x="1564" y="1767"/>
                    </a:lnTo>
                    <a:lnTo>
                      <a:pt x="1596" y="1752"/>
                    </a:lnTo>
                    <a:lnTo>
                      <a:pt x="1628" y="1736"/>
                    </a:lnTo>
                    <a:lnTo>
                      <a:pt x="1659" y="1716"/>
                    </a:lnTo>
                    <a:lnTo>
                      <a:pt x="1689" y="1696"/>
                    </a:lnTo>
                    <a:lnTo>
                      <a:pt x="1720" y="1676"/>
                    </a:lnTo>
                    <a:lnTo>
                      <a:pt x="1751" y="1656"/>
                    </a:lnTo>
                    <a:lnTo>
                      <a:pt x="1780" y="1639"/>
                    </a:lnTo>
                    <a:lnTo>
                      <a:pt x="1810" y="1622"/>
                    </a:lnTo>
                    <a:lnTo>
                      <a:pt x="1839" y="1605"/>
                    </a:lnTo>
                    <a:lnTo>
                      <a:pt x="1869" y="1588"/>
                    </a:lnTo>
                    <a:lnTo>
                      <a:pt x="1899" y="1570"/>
                    </a:lnTo>
                    <a:lnTo>
                      <a:pt x="1928" y="1553"/>
                    </a:lnTo>
                    <a:lnTo>
                      <a:pt x="1958" y="1537"/>
                    </a:lnTo>
                    <a:lnTo>
                      <a:pt x="1991" y="1523"/>
                    </a:lnTo>
                    <a:lnTo>
                      <a:pt x="2001" y="1530"/>
                    </a:lnTo>
                    <a:lnTo>
                      <a:pt x="2008" y="1517"/>
                    </a:lnTo>
                    <a:lnTo>
                      <a:pt x="2042" y="1497"/>
                    </a:lnTo>
                    <a:lnTo>
                      <a:pt x="2079" y="1480"/>
                    </a:lnTo>
                    <a:lnTo>
                      <a:pt x="2115" y="1466"/>
                    </a:lnTo>
                    <a:lnTo>
                      <a:pt x="2153" y="1454"/>
                    </a:lnTo>
                    <a:lnTo>
                      <a:pt x="2190" y="1442"/>
                    </a:lnTo>
                    <a:lnTo>
                      <a:pt x="2229" y="1433"/>
                    </a:lnTo>
                    <a:lnTo>
                      <a:pt x="2267" y="1423"/>
                    </a:lnTo>
                    <a:lnTo>
                      <a:pt x="2307" y="1413"/>
                    </a:lnTo>
                    <a:lnTo>
                      <a:pt x="2363" y="1405"/>
                    </a:lnTo>
                    <a:lnTo>
                      <a:pt x="2424" y="1394"/>
                    </a:lnTo>
                    <a:lnTo>
                      <a:pt x="2484" y="1382"/>
                    </a:lnTo>
                    <a:lnTo>
                      <a:pt x="2544" y="1368"/>
                    </a:lnTo>
                    <a:lnTo>
                      <a:pt x="2603" y="1350"/>
                    </a:lnTo>
                    <a:lnTo>
                      <a:pt x="2663" y="1332"/>
                    </a:lnTo>
                    <a:lnTo>
                      <a:pt x="2720" y="1309"/>
                    </a:lnTo>
                    <a:lnTo>
                      <a:pt x="2775" y="1286"/>
                    </a:lnTo>
                    <a:lnTo>
                      <a:pt x="2816" y="1261"/>
                    </a:lnTo>
                    <a:lnTo>
                      <a:pt x="2859" y="1236"/>
                    </a:lnTo>
                    <a:lnTo>
                      <a:pt x="2903" y="1210"/>
                    </a:lnTo>
                    <a:lnTo>
                      <a:pt x="2944" y="1183"/>
                    </a:lnTo>
                    <a:lnTo>
                      <a:pt x="2981" y="1151"/>
                    </a:lnTo>
                    <a:lnTo>
                      <a:pt x="3011" y="1114"/>
                    </a:lnTo>
                    <a:lnTo>
                      <a:pt x="3033" y="1071"/>
                    </a:lnTo>
                    <a:lnTo>
                      <a:pt x="3046" y="1020"/>
                    </a:lnTo>
                    <a:lnTo>
                      <a:pt x="3042" y="969"/>
                    </a:lnTo>
                    <a:lnTo>
                      <a:pt x="3036" y="920"/>
                    </a:lnTo>
                    <a:lnTo>
                      <a:pt x="3024" y="872"/>
                    </a:lnTo>
                    <a:lnTo>
                      <a:pt x="3008" y="828"/>
                    </a:lnTo>
                    <a:lnTo>
                      <a:pt x="2987" y="784"/>
                    </a:lnTo>
                    <a:lnTo>
                      <a:pt x="2962" y="745"/>
                    </a:lnTo>
                    <a:lnTo>
                      <a:pt x="2931" y="709"/>
                    </a:lnTo>
                    <a:lnTo>
                      <a:pt x="2899" y="6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333080" y="1039320"/>
                <a:ext cx="1263600" cy="842760"/>
              </a:xfrm>
              <a:custGeom>
                <a:avLst/>
                <a:gdLst/>
                <a:ahLst/>
                <a:rect l="l" t="t" r="r" b="b"/>
                <a:pathLst>
                  <a:path w="2528" h="1263">
                    <a:moveTo>
                      <a:pt x="1792" y="0"/>
                    </a:moveTo>
                    <a:lnTo>
                      <a:pt x="1786" y="4"/>
                    </a:lnTo>
                    <a:lnTo>
                      <a:pt x="1788" y="9"/>
                    </a:lnTo>
                    <a:lnTo>
                      <a:pt x="1792" y="14"/>
                    </a:lnTo>
                    <a:lnTo>
                      <a:pt x="1795" y="19"/>
                    </a:lnTo>
                    <a:lnTo>
                      <a:pt x="1802" y="16"/>
                    </a:lnTo>
                    <a:lnTo>
                      <a:pt x="1812" y="15"/>
                    </a:lnTo>
                    <a:lnTo>
                      <a:pt x="1821" y="11"/>
                    </a:lnTo>
                    <a:lnTo>
                      <a:pt x="1829" y="6"/>
                    </a:lnTo>
                    <a:lnTo>
                      <a:pt x="1864" y="3"/>
                    </a:lnTo>
                    <a:lnTo>
                      <a:pt x="1863" y="4"/>
                    </a:lnTo>
                    <a:lnTo>
                      <a:pt x="1862" y="8"/>
                    </a:lnTo>
                    <a:lnTo>
                      <a:pt x="1862" y="12"/>
                    </a:lnTo>
                    <a:lnTo>
                      <a:pt x="1864" y="16"/>
                    </a:lnTo>
                    <a:lnTo>
                      <a:pt x="1913" y="19"/>
                    </a:lnTo>
                    <a:lnTo>
                      <a:pt x="1916" y="14"/>
                    </a:lnTo>
                    <a:lnTo>
                      <a:pt x="1920" y="18"/>
                    </a:lnTo>
                    <a:lnTo>
                      <a:pt x="1923" y="23"/>
                    </a:lnTo>
                    <a:lnTo>
                      <a:pt x="1929" y="26"/>
                    </a:lnTo>
                    <a:lnTo>
                      <a:pt x="1937" y="25"/>
                    </a:lnTo>
                    <a:lnTo>
                      <a:pt x="1945" y="25"/>
                    </a:lnTo>
                    <a:lnTo>
                      <a:pt x="1952" y="24"/>
                    </a:lnTo>
                    <a:lnTo>
                      <a:pt x="1959" y="24"/>
                    </a:lnTo>
                    <a:lnTo>
                      <a:pt x="1965" y="24"/>
                    </a:lnTo>
                    <a:lnTo>
                      <a:pt x="1971" y="25"/>
                    </a:lnTo>
                    <a:lnTo>
                      <a:pt x="1976" y="28"/>
                    </a:lnTo>
                    <a:lnTo>
                      <a:pt x="1981" y="35"/>
                    </a:lnTo>
                    <a:lnTo>
                      <a:pt x="1988" y="35"/>
                    </a:lnTo>
                    <a:lnTo>
                      <a:pt x="1996" y="36"/>
                    </a:lnTo>
                    <a:lnTo>
                      <a:pt x="2001" y="36"/>
                    </a:lnTo>
                    <a:lnTo>
                      <a:pt x="2007" y="36"/>
                    </a:lnTo>
                    <a:lnTo>
                      <a:pt x="2012" y="34"/>
                    </a:lnTo>
                    <a:lnTo>
                      <a:pt x="2018" y="34"/>
                    </a:lnTo>
                    <a:lnTo>
                      <a:pt x="2024" y="32"/>
                    </a:lnTo>
                    <a:lnTo>
                      <a:pt x="2033" y="32"/>
                    </a:lnTo>
                    <a:lnTo>
                      <a:pt x="2034" y="38"/>
                    </a:lnTo>
                    <a:lnTo>
                      <a:pt x="2037" y="44"/>
                    </a:lnTo>
                    <a:lnTo>
                      <a:pt x="2041" y="47"/>
                    </a:lnTo>
                    <a:lnTo>
                      <a:pt x="2049" y="48"/>
                    </a:lnTo>
                    <a:lnTo>
                      <a:pt x="2056" y="46"/>
                    </a:lnTo>
                    <a:lnTo>
                      <a:pt x="2064" y="45"/>
                    </a:lnTo>
                    <a:lnTo>
                      <a:pt x="2070" y="45"/>
                    </a:lnTo>
                    <a:lnTo>
                      <a:pt x="2078" y="46"/>
                    </a:lnTo>
                    <a:lnTo>
                      <a:pt x="2083" y="46"/>
                    </a:lnTo>
                    <a:lnTo>
                      <a:pt x="2089" y="50"/>
                    </a:lnTo>
                    <a:lnTo>
                      <a:pt x="2095" y="55"/>
                    </a:lnTo>
                    <a:lnTo>
                      <a:pt x="2102" y="62"/>
                    </a:lnTo>
                    <a:lnTo>
                      <a:pt x="2109" y="63"/>
                    </a:lnTo>
                    <a:lnTo>
                      <a:pt x="2118" y="62"/>
                    </a:lnTo>
                    <a:lnTo>
                      <a:pt x="2126" y="62"/>
                    </a:lnTo>
                    <a:lnTo>
                      <a:pt x="2131" y="68"/>
                    </a:lnTo>
                    <a:lnTo>
                      <a:pt x="2140" y="72"/>
                    </a:lnTo>
                    <a:lnTo>
                      <a:pt x="2150" y="77"/>
                    </a:lnTo>
                    <a:lnTo>
                      <a:pt x="2161" y="80"/>
                    </a:lnTo>
                    <a:lnTo>
                      <a:pt x="2172" y="83"/>
                    </a:lnTo>
                    <a:lnTo>
                      <a:pt x="2182" y="86"/>
                    </a:lnTo>
                    <a:lnTo>
                      <a:pt x="2192" y="92"/>
                    </a:lnTo>
                    <a:lnTo>
                      <a:pt x="2200" y="98"/>
                    </a:lnTo>
                    <a:lnTo>
                      <a:pt x="2209" y="107"/>
                    </a:lnTo>
                    <a:lnTo>
                      <a:pt x="2215" y="105"/>
                    </a:lnTo>
                    <a:lnTo>
                      <a:pt x="2221" y="106"/>
                    </a:lnTo>
                    <a:lnTo>
                      <a:pt x="2227" y="109"/>
                    </a:lnTo>
                    <a:lnTo>
                      <a:pt x="2233" y="112"/>
                    </a:lnTo>
                    <a:lnTo>
                      <a:pt x="2239" y="115"/>
                    </a:lnTo>
                    <a:lnTo>
                      <a:pt x="2244" y="119"/>
                    </a:lnTo>
                    <a:lnTo>
                      <a:pt x="2250" y="121"/>
                    </a:lnTo>
                    <a:lnTo>
                      <a:pt x="2258" y="123"/>
                    </a:lnTo>
                    <a:lnTo>
                      <a:pt x="2260" y="131"/>
                    </a:lnTo>
                    <a:lnTo>
                      <a:pt x="2266" y="139"/>
                    </a:lnTo>
                    <a:lnTo>
                      <a:pt x="2271" y="146"/>
                    </a:lnTo>
                    <a:lnTo>
                      <a:pt x="2280" y="153"/>
                    </a:lnTo>
                    <a:lnTo>
                      <a:pt x="2288" y="158"/>
                    </a:lnTo>
                    <a:lnTo>
                      <a:pt x="2297" y="163"/>
                    </a:lnTo>
                    <a:lnTo>
                      <a:pt x="2306" y="169"/>
                    </a:lnTo>
                    <a:lnTo>
                      <a:pt x="2316" y="175"/>
                    </a:lnTo>
                    <a:lnTo>
                      <a:pt x="2315" y="186"/>
                    </a:lnTo>
                    <a:lnTo>
                      <a:pt x="2319" y="194"/>
                    </a:lnTo>
                    <a:lnTo>
                      <a:pt x="2327" y="198"/>
                    </a:lnTo>
                    <a:lnTo>
                      <a:pt x="2336" y="202"/>
                    </a:lnTo>
                    <a:lnTo>
                      <a:pt x="2344" y="205"/>
                    </a:lnTo>
                    <a:lnTo>
                      <a:pt x="2352" y="211"/>
                    </a:lnTo>
                    <a:lnTo>
                      <a:pt x="2357" y="219"/>
                    </a:lnTo>
                    <a:lnTo>
                      <a:pt x="2359" y="234"/>
                    </a:lnTo>
                    <a:lnTo>
                      <a:pt x="2368" y="244"/>
                    </a:lnTo>
                    <a:lnTo>
                      <a:pt x="2363" y="247"/>
                    </a:lnTo>
                    <a:lnTo>
                      <a:pt x="2359" y="253"/>
                    </a:lnTo>
                    <a:lnTo>
                      <a:pt x="2357" y="260"/>
                    </a:lnTo>
                    <a:lnTo>
                      <a:pt x="2362" y="266"/>
                    </a:lnTo>
                    <a:lnTo>
                      <a:pt x="2368" y="270"/>
                    </a:lnTo>
                    <a:lnTo>
                      <a:pt x="2376" y="275"/>
                    </a:lnTo>
                    <a:lnTo>
                      <a:pt x="2383" y="280"/>
                    </a:lnTo>
                    <a:lnTo>
                      <a:pt x="2391" y="285"/>
                    </a:lnTo>
                    <a:lnTo>
                      <a:pt x="2398" y="290"/>
                    </a:lnTo>
                    <a:lnTo>
                      <a:pt x="2406" y="296"/>
                    </a:lnTo>
                    <a:lnTo>
                      <a:pt x="2411" y="302"/>
                    </a:lnTo>
                    <a:lnTo>
                      <a:pt x="2417" y="308"/>
                    </a:lnTo>
                    <a:lnTo>
                      <a:pt x="2410" y="310"/>
                    </a:lnTo>
                    <a:lnTo>
                      <a:pt x="2402" y="313"/>
                    </a:lnTo>
                    <a:lnTo>
                      <a:pt x="2398" y="314"/>
                    </a:lnTo>
                    <a:lnTo>
                      <a:pt x="2396" y="317"/>
                    </a:lnTo>
                    <a:lnTo>
                      <a:pt x="2395" y="322"/>
                    </a:lnTo>
                    <a:lnTo>
                      <a:pt x="2397" y="328"/>
                    </a:lnTo>
                    <a:lnTo>
                      <a:pt x="2417" y="344"/>
                    </a:lnTo>
                    <a:lnTo>
                      <a:pt x="2415" y="351"/>
                    </a:lnTo>
                    <a:lnTo>
                      <a:pt x="2416" y="359"/>
                    </a:lnTo>
                    <a:lnTo>
                      <a:pt x="2418" y="365"/>
                    </a:lnTo>
                    <a:lnTo>
                      <a:pt x="2423" y="372"/>
                    </a:lnTo>
                    <a:lnTo>
                      <a:pt x="2427" y="377"/>
                    </a:lnTo>
                    <a:lnTo>
                      <a:pt x="2433" y="382"/>
                    </a:lnTo>
                    <a:lnTo>
                      <a:pt x="2439" y="387"/>
                    </a:lnTo>
                    <a:lnTo>
                      <a:pt x="2446" y="392"/>
                    </a:lnTo>
                    <a:lnTo>
                      <a:pt x="2444" y="398"/>
                    </a:lnTo>
                    <a:lnTo>
                      <a:pt x="2444" y="405"/>
                    </a:lnTo>
                    <a:lnTo>
                      <a:pt x="2445" y="411"/>
                    </a:lnTo>
                    <a:lnTo>
                      <a:pt x="2448" y="417"/>
                    </a:lnTo>
                    <a:lnTo>
                      <a:pt x="2456" y="426"/>
                    </a:lnTo>
                    <a:lnTo>
                      <a:pt x="2466" y="432"/>
                    </a:lnTo>
                    <a:lnTo>
                      <a:pt x="2469" y="432"/>
                    </a:lnTo>
                    <a:lnTo>
                      <a:pt x="2465" y="437"/>
                    </a:lnTo>
                    <a:lnTo>
                      <a:pt x="2464" y="443"/>
                    </a:lnTo>
                    <a:lnTo>
                      <a:pt x="2466" y="448"/>
                    </a:lnTo>
                    <a:lnTo>
                      <a:pt x="2471" y="454"/>
                    </a:lnTo>
                    <a:lnTo>
                      <a:pt x="2475" y="460"/>
                    </a:lnTo>
                    <a:lnTo>
                      <a:pt x="2480" y="466"/>
                    </a:lnTo>
                    <a:lnTo>
                      <a:pt x="2483" y="472"/>
                    </a:lnTo>
                    <a:lnTo>
                      <a:pt x="2485" y="480"/>
                    </a:lnTo>
                    <a:lnTo>
                      <a:pt x="2505" y="500"/>
                    </a:lnTo>
                    <a:lnTo>
                      <a:pt x="2500" y="498"/>
                    </a:lnTo>
                    <a:lnTo>
                      <a:pt x="2497" y="501"/>
                    </a:lnTo>
                    <a:lnTo>
                      <a:pt x="2493" y="504"/>
                    </a:lnTo>
                    <a:lnTo>
                      <a:pt x="2489" y="507"/>
                    </a:lnTo>
                    <a:lnTo>
                      <a:pt x="2490" y="516"/>
                    </a:lnTo>
                    <a:lnTo>
                      <a:pt x="2494" y="525"/>
                    </a:lnTo>
                    <a:lnTo>
                      <a:pt x="2495" y="529"/>
                    </a:lnTo>
                    <a:lnTo>
                      <a:pt x="2497" y="535"/>
                    </a:lnTo>
                    <a:lnTo>
                      <a:pt x="2498" y="541"/>
                    </a:lnTo>
                    <a:lnTo>
                      <a:pt x="2499" y="549"/>
                    </a:lnTo>
                    <a:lnTo>
                      <a:pt x="2505" y="552"/>
                    </a:lnTo>
                    <a:lnTo>
                      <a:pt x="2514" y="555"/>
                    </a:lnTo>
                    <a:lnTo>
                      <a:pt x="2522" y="560"/>
                    </a:lnTo>
                    <a:lnTo>
                      <a:pt x="2528" y="568"/>
                    </a:lnTo>
                    <a:lnTo>
                      <a:pt x="2519" y="570"/>
                    </a:lnTo>
                    <a:lnTo>
                      <a:pt x="2509" y="570"/>
                    </a:lnTo>
                    <a:lnTo>
                      <a:pt x="2498" y="568"/>
                    </a:lnTo>
                    <a:lnTo>
                      <a:pt x="2488" y="566"/>
                    </a:lnTo>
                    <a:lnTo>
                      <a:pt x="2476" y="565"/>
                    </a:lnTo>
                    <a:lnTo>
                      <a:pt x="2469" y="569"/>
                    </a:lnTo>
                    <a:lnTo>
                      <a:pt x="2463" y="578"/>
                    </a:lnTo>
                    <a:lnTo>
                      <a:pt x="2462" y="595"/>
                    </a:lnTo>
                    <a:lnTo>
                      <a:pt x="2461" y="599"/>
                    </a:lnTo>
                    <a:lnTo>
                      <a:pt x="2463" y="605"/>
                    </a:lnTo>
                    <a:lnTo>
                      <a:pt x="2466" y="612"/>
                    </a:lnTo>
                    <a:lnTo>
                      <a:pt x="2469" y="619"/>
                    </a:lnTo>
                    <a:lnTo>
                      <a:pt x="2470" y="625"/>
                    </a:lnTo>
                    <a:lnTo>
                      <a:pt x="2470" y="631"/>
                    </a:lnTo>
                    <a:lnTo>
                      <a:pt x="2467" y="636"/>
                    </a:lnTo>
                    <a:lnTo>
                      <a:pt x="2462" y="640"/>
                    </a:lnTo>
                    <a:lnTo>
                      <a:pt x="2455" y="638"/>
                    </a:lnTo>
                    <a:lnTo>
                      <a:pt x="2451" y="638"/>
                    </a:lnTo>
                    <a:lnTo>
                      <a:pt x="2444" y="640"/>
                    </a:lnTo>
                    <a:lnTo>
                      <a:pt x="2437" y="643"/>
                    </a:lnTo>
                    <a:lnTo>
                      <a:pt x="2436" y="648"/>
                    </a:lnTo>
                    <a:lnTo>
                      <a:pt x="2439" y="653"/>
                    </a:lnTo>
                    <a:lnTo>
                      <a:pt x="2443" y="657"/>
                    </a:lnTo>
                    <a:lnTo>
                      <a:pt x="2448" y="662"/>
                    </a:lnTo>
                    <a:lnTo>
                      <a:pt x="2451" y="665"/>
                    </a:lnTo>
                    <a:lnTo>
                      <a:pt x="2453" y="670"/>
                    </a:lnTo>
                    <a:lnTo>
                      <a:pt x="2453" y="676"/>
                    </a:lnTo>
                    <a:lnTo>
                      <a:pt x="2450" y="682"/>
                    </a:lnTo>
                    <a:lnTo>
                      <a:pt x="2442" y="678"/>
                    </a:lnTo>
                    <a:lnTo>
                      <a:pt x="2433" y="682"/>
                    </a:lnTo>
                    <a:lnTo>
                      <a:pt x="2427" y="686"/>
                    </a:lnTo>
                    <a:lnTo>
                      <a:pt x="2425" y="692"/>
                    </a:lnTo>
                    <a:lnTo>
                      <a:pt x="2425" y="698"/>
                    </a:lnTo>
                    <a:lnTo>
                      <a:pt x="2427" y="705"/>
                    </a:lnTo>
                    <a:lnTo>
                      <a:pt x="2426" y="710"/>
                    </a:lnTo>
                    <a:lnTo>
                      <a:pt x="2426" y="716"/>
                    </a:lnTo>
                    <a:lnTo>
                      <a:pt x="2421" y="719"/>
                    </a:lnTo>
                    <a:lnTo>
                      <a:pt x="2414" y="721"/>
                    </a:lnTo>
                    <a:lnTo>
                      <a:pt x="2405" y="734"/>
                    </a:lnTo>
                    <a:lnTo>
                      <a:pt x="2394" y="724"/>
                    </a:lnTo>
                    <a:lnTo>
                      <a:pt x="2388" y="730"/>
                    </a:lnTo>
                    <a:lnTo>
                      <a:pt x="2385" y="736"/>
                    </a:lnTo>
                    <a:lnTo>
                      <a:pt x="2382" y="743"/>
                    </a:lnTo>
                    <a:lnTo>
                      <a:pt x="2380" y="751"/>
                    </a:lnTo>
                    <a:lnTo>
                      <a:pt x="2377" y="758"/>
                    </a:lnTo>
                    <a:lnTo>
                      <a:pt x="2375" y="767"/>
                    </a:lnTo>
                    <a:lnTo>
                      <a:pt x="2373" y="775"/>
                    </a:lnTo>
                    <a:lnTo>
                      <a:pt x="2371" y="783"/>
                    </a:lnTo>
                    <a:lnTo>
                      <a:pt x="2367" y="784"/>
                    </a:lnTo>
                    <a:lnTo>
                      <a:pt x="2363" y="780"/>
                    </a:lnTo>
                    <a:lnTo>
                      <a:pt x="2360" y="777"/>
                    </a:lnTo>
                    <a:lnTo>
                      <a:pt x="2357" y="777"/>
                    </a:lnTo>
                    <a:lnTo>
                      <a:pt x="2354" y="778"/>
                    </a:lnTo>
                    <a:lnTo>
                      <a:pt x="2352" y="783"/>
                    </a:lnTo>
                    <a:lnTo>
                      <a:pt x="2355" y="805"/>
                    </a:lnTo>
                    <a:lnTo>
                      <a:pt x="2348" y="800"/>
                    </a:lnTo>
                    <a:lnTo>
                      <a:pt x="2342" y="798"/>
                    </a:lnTo>
                    <a:lnTo>
                      <a:pt x="2335" y="797"/>
                    </a:lnTo>
                    <a:lnTo>
                      <a:pt x="2329" y="798"/>
                    </a:lnTo>
                    <a:lnTo>
                      <a:pt x="2322" y="799"/>
                    </a:lnTo>
                    <a:lnTo>
                      <a:pt x="2315" y="801"/>
                    </a:lnTo>
                    <a:lnTo>
                      <a:pt x="2309" y="801"/>
                    </a:lnTo>
                    <a:lnTo>
                      <a:pt x="2303" y="802"/>
                    </a:lnTo>
                    <a:lnTo>
                      <a:pt x="2302" y="809"/>
                    </a:lnTo>
                    <a:lnTo>
                      <a:pt x="2304" y="817"/>
                    </a:lnTo>
                    <a:lnTo>
                      <a:pt x="2309" y="822"/>
                    </a:lnTo>
                    <a:lnTo>
                      <a:pt x="2316" y="825"/>
                    </a:lnTo>
                    <a:lnTo>
                      <a:pt x="2325" y="825"/>
                    </a:lnTo>
                    <a:lnTo>
                      <a:pt x="2332" y="828"/>
                    </a:lnTo>
                    <a:lnTo>
                      <a:pt x="2339" y="832"/>
                    </a:lnTo>
                    <a:lnTo>
                      <a:pt x="2346" y="837"/>
                    </a:lnTo>
                    <a:lnTo>
                      <a:pt x="2339" y="839"/>
                    </a:lnTo>
                    <a:lnTo>
                      <a:pt x="2339" y="841"/>
                    </a:lnTo>
                    <a:lnTo>
                      <a:pt x="2337" y="846"/>
                    </a:lnTo>
                    <a:lnTo>
                      <a:pt x="2338" y="851"/>
                    </a:lnTo>
                    <a:lnTo>
                      <a:pt x="2340" y="853"/>
                    </a:lnTo>
                    <a:lnTo>
                      <a:pt x="2344" y="856"/>
                    </a:lnTo>
                    <a:lnTo>
                      <a:pt x="2347" y="857"/>
                    </a:lnTo>
                    <a:lnTo>
                      <a:pt x="2353" y="860"/>
                    </a:lnTo>
                    <a:lnTo>
                      <a:pt x="2357" y="861"/>
                    </a:lnTo>
                    <a:lnTo>
                      <a:pt x="2362" y="864"/>
                    </a:lnTo>
                    <a:lnTo>
                      <a:pt x="2367" y="861"/>
                    </a:lnTo>
                    <a:lnTo>
                      <a:pt x="2372" y="859"/>
                    </a:lnTo>
                    <a:lnTo>
                      <a:pt x="2376" y="855"/>
                    </a:lnTo>
                    <a:lnTo>
                      <a:pt x="2378" y="851"/>
                    </a:lnTo>
                    <a:lnTo>
                      <a:pt x="2384" y="851"/>
                    </a:lnTo>
                    <a:lnTo>
                      <a:pt x="2391" y="853"/>
                    </a:lnTo>
                    <a:lnTo>
                      <a:pt x="2397" y="856"/>
                    </a:lnTo>
                    <a:lnTo>
                      <a:pt x="2405" y="859"/>
                    </a:lnTo>
                    <a:lnTo>
                      <a:pt x="2411" y="861"/>
                    </a:lnTo>
                    <a:lnTo>
                      <a:pt x="2417" y="864"/>
                    </a:lnTo>
                    <a:lnTo>
                      <a:pt x="2423" y="866"/>
                    </a:lnTo>
                    <a:lnTo>
                      <a:pt x="2430" y="867"/>
                    </a:lnTo>
                    <a:lnTo>
                      <a:pt x="2430" y="872"/>
                    </a:lnTo>
                    <a:lnTo>
                      <a:pt x="2435" y="879"/>
                    </a:lnTo>
                    <a:lnTo>
                      <a:pt x="2442" y="884"/>
                    </a:lnTo>
                    <a:lnTo>
                      <a:pt x="2450" y="887"/>
                    </a:lnTo>
                    <a:lnTo>
                      <a:pt x="2459" y="887"/>
                    </a:lnTo>
                    <a:lnTo>
                      <a:pt x="2458" y="892"/>
                    </a:lnTo>
                    <a:lnTo>
                      <a:pt x="2459" y="897"/>
                    </a:lnTo>
                    <a:lnTo>
                      <a:pt x="2461" y="900"/>
                    </a:lnTo>
                    <a:lnTo>
                      <a:pt x="2464" y="904"/>
                    </a:lnTo>
                    <a:lnTo>
                      <a:pt x="2470" y="910"/>
                    </a:lnTo>
                    <a:lnTo>
                      <a:pt x="2478" y="915"/>
                    </a:lnTo>
                    <a:lnTo>
                      <a:pt x="2473" y="920"/>
                    </a:lnTo>
                    <a:lnTo>
                      <a:pt x="2468" y="922"/>
                    </a:lnTo>
                    <a:lnTo>
                      <a:pt x="2462" y="921"/>
                    </a:lnTo>
                    <a:lnTo>
                      <a:pt x="2456" y="920"/>
                    </a:lnTo>
                    <a:lnTo>
                      <a:pt x="2448" y="918"/>
                    </a:lnTo>
                    <a:lnTo>
                      <a:pt x="2441" y="919"/>
                    </a:lnTo>
                    <a:lnTo>
                      <a:pt x="2433" y="921"/>
                    </a:lnTo>
                    <a:lnTo>
                      <a:pt x="2427" y="928"/>
                    </a:lnTo>
                    <a:lnTo>
                      <a:pt x="2418" y="938"/>
                    </a:lnTo>
                    <a:lnTo>
                      <a:pt x="2409" y="944"/>
                    </a:lnTo>
                    <a:lnTo>
                      <a:pt x="2397" y="947"/>
                    </a:lnTo>
                    <a:lnTo>
                      <a:pt x="2387" y="949"/>
                    </a:lnTo>
                    <a:lnTo>
                      <a:pt x="2375" y="950"/>
                    </a:lnTo>
                    <a:lnTo>
                      <a:pt x="2365" y="952"/>
                    </a:lnTo>
                    <a:lnTo>
                      <a:pt x="2354" y="957"/>
                    </a:lnTo>
                    <a:lnTo>
                      <a:pt x="2346" y="965"/>
                    </a:lnTo>
                    <a:lnTo>
                      <a:pt x="2337" y="968"/>
                    </a:lnTo>
                    <a:lnTo>
                      <a:pt x="2328" y="972"/>
                    </a:lnTo>
                    <a:lnTo>
                      <a:pt x="2317" y="975"/>
                    </a:lnTo>
                    <a:lnTo>
                      <a:pt x="2307" y="978"/>
                    </a:lnTo>
                    <a:lnTo>
                      <a:pt x="2296" y="980"/>
                    </a:lnTo>
                    <a:lnTo>
                      <a:pt x="2286" y="982"/>
                    </a:lnTo>
                    <a:lnTo>
                      <a:pt x="2276" y="984"/>
                    </a:lnTo>
                    <a:lnTo>
                      <a:pt x="2268" y="987"/>
                    </a:lnTo>
                    <a:lnTo>
                      <a:pt x="2262" y="993"/>
                    </a:lnTo>
                    <a:lnTo>
                      <a:pt x="2256" y="999"/>
                    </a:lnTo>
                    <a:lnTo>
                      <a:pt x="2248" y="1002"/>
                    </a:lnTo>
                    <a:lnTo>
                      <a:pt x="2241" y="1005"/>
                    </a:lnTo>
                    <a:lnTo>
                      <a:pt x="2231" y="1007"/>
                    </a:lnTo>
                    <a:lnTo>
                      <a:pt x="2224" y="1010"/>
                    </a:lnTo>
                    <a:lnTo>
                      <a:pt x="2217" y="1013"/>
                    </a:lnTo>
                    <a:lnTo>
                      <a:pt x="2212" y="1019"/>
                    </a:lnTo>
                    <a:lnTo>
                      <a:pt x="2184" y="1026"/>
                    </a:lnTo>
                    <a:lnTo>
                      <a:pt x="2156" y="1034"/>
                    </a:lnTo>
                    <a:lnTo>
                      <a:pt x="2126" y="1043"/>
                    </a:lnTo>
                    <a:lnTo>
                      <a:pt x="2098" y="1052"/>
                    </a:lnTo>
                    <a:lnTo>
                      <a:pt x="2067" y="1059"/>
                    </a:lnTo>
                    <a:lnTo>
                      <a:pt x="2038" y="1066"/>
                    </a:lnTo>
                    <a:lnTo>
                      <a:pt x="2009" y="1072"/>
                    </a:lnTo>
                    <a:lnTo>
                      <a:pt x="1981" y="1075"/>
                    </a:lnTo>
                    <a:lnTo>
                      <a:pt x="1971" y="1078"/>
                    </a:lnTo>
                    <a:lnTo>
                      <a:pt x="1961" y="1081"/>
                    </a:lnTo>
                    <a:lnTo>
                      <a:pt x="1951" y="1084"/>
                    </a:lnTo>
                    <a:lnTo>
                      <a:pt x="1941" y="1087"/>
                    </a:lnTo>
                    <a:lnTo>
                      <a:pt x="1929" y="1089"/>
                    </a:lnTo>
                    <a:lnTo>
                      <a:pt x="1918" y="1092"/>
                    </a:lnTo>
                    <a:lnTo>
                      <a:pt x="1907" y="1094"/>
                    </a:lnTo>
                    <a:lnTo>
                      <a:pt x="1896" y="1097"/>
                    </a:lnTo>
                    <a:lnTo>
                      <a:pt x="1889" y="1100"/>
                    </a:lnTo>
                    <a:lnTo>
                      <a:pt x="1881" y="1104"/>
                    </a:lnTo>
                    <a:lnTo>
                      <a:pt x="1873" y="1107"/>
                    </a:lnTo>
                    <a:lnTo>
                      <a:pt x="1865" y="1110"/>
                    </a:lnTo>
                    <a:lnTo>
                      <a:pt x="1856" y="1111"/>
                    </a:lnTo>
                    <a:lnTo>
                      <a:pt x="1848" y="1114"/>
                    </a:lnTo>
                    <a:lnTo>
                      <a:pt x="1841" y="1116"/>
                    </a:lnTo>
                    <a:lnTo>
                      <a:pt x="1835" y="1118"/>
                    </a:lnTo>
                    <a:lnTo>
                      <a:pt x="1763" y="1130"/>
                    </a:lnTo>
                    <a:lnTo>
                      <a:pt x="1775" y="1125"/>
                    </a:lnTo>
                    <a:lnTo>
                      <a:pt x="1788" y="1121"/>
                    </a:lnTo>
                    <a:lnTo>
                      <a:pt x="1801" y="1116"/>
                    </a:lnTo>
                    <a:lnTo>
                      <a:pt x="1815" y="1113"/>
                    </a:lnTo>
                    <a:lnTo>
                      <a:pt x="1829" y="1108"/>
                    </a:lnTo>
                    <a:lnTo>
                      <a:pt x="1842" y="1104"/>
                    </a:lnTo>
                    <a:lnTo>
                      <a:pt x="1854" y="1100"/>
                    </a:lnTo>
                    <a:lnTo>
                      <a:pt x="1867" y="1097"/>
                    </a:lnTo>
                    <a:lnTo>
                      <a:pt x="1870" y="1100"/>
                    </a:lnTo>
                    <a:lnTo>
                      <a:pt x="1875" y="1093"/>
                    </a:lnTo>
                    <a:lnTo>
                      <a:pt x="1883" y="1087"/>
                    </a:lnTo>
                    <a:lnTo>
                      <a:pt x="1888" y="1079"/>
                    </a:lnTo>
                    <a:lnTo>
                      <a:pt x="1893" y="1072"/>
                    </a:lnTo>
                    <a:lnTo>
                      <a:pt x="1890" y="1065"/>
                    </a:lnTo>
                    <a:lnTo>
                      <a:pt x="1883" y="1070"/>
                    </a:lnTo>
                    <a:lnTo>
                      <a:pt x="1876" y="1076"/>
                    </a:lnTo>
                    <a:lnTo>
                      <a:pt x="1869" y="1080"/>
                    </a:lnTo>
                    <a:lnTo>
                      <a:pt x="1862" y="1084"/>
                    </a:lnTo>
                    <a:lnTo>
                      <a:pt x="1854" y="1085"/>
                    </a:lnTo>
                    <a:lnTo>
                      <a:pt x="1846" y="1087"/>
                    </a:lnTo>
                    <a:lnTo>
                      <a:pt x="1838" y="1089"/>
                    </a:lnTo>
                    <a:lnTo>
                      <a:pt x="1832" y="1091"/>
                    </a:lnTo>
                    <a:lnTo>
                      <a:pt x="1813" y="1094"/>
                    </a:lnTo>
                    <a:lnTo>
                      <a:pt x="1797" y="1100"/>
                    </a:lnTo>
                    <a:lnTo>
                      <a:pt x="1779" y="1106"/>
                    </a:lnTo>
                    <a:lnTo>
                      <a:pt x="1763" y="1114"/>
                    </a:lnTo>
                    <a:lnTo>
                      <a:pt x="1746" y="1120"/>
                    </a:lnTo>
                    <a:lnTo>
                      <a:pt x="1728" y="1127"/>
                    </a:lnTo>
                    <a:lnTo>
                      <a:pt x="1711" y="1133"/>
                    </a:lnTo>
                    <a:lnTo>
                      <a:pt x="1695" y="1140"/>
                    </a:lnTo>
                    <a:lnTo>
                      <a:pt x="1713" y="1128"/>
                    </a:lnTo>
                    <a:lnTo>
                      <a:pt x="1731" y="1118"/>
                    </a:lnTo>
                    <a:lnTo>
                      <a:pt x="1750" y="1107"/>
                    </a:lnTo>
                    <a:lnTo>
                      <a:pt x="1770" y="1100"/>
                    </a:lnTo>
                    <a:lnTo>
                      <a:pt x="1789" y="1092"/>
                    </a:lnTo>
                    <a:lnTo>
                      <a:pt x="1809" y="1087"/>
                    </a:lnTo>
                    <a:lnTo>
                      <a:pt x="1830" y="1081"/>
                    </a:lnTo>
                    <a:lnTo>
                      <a:pt x="1851" y="1078"/>
                    </a:lnTo>
                    <a:lnTo>
                      <a:pt x="1857" y="1074"/>
                    </a:lnTo>
                    <a:lnTo>
                      <a:pt x="1861" y="1069"/>
                    </a:lnTo>
                    <a:lnTo>
                      <a:pt x="1863" y="1064"/>
                    </a:lnTo>
                    <a:lnTo>
                      <a:pt x="1864" y="1059"/>
                    </a:lnTo>
                    <a:lnTo>
                      <a:pt x="1856" y="1054"/>
                    </a:lnTo>
                    <a:lnTo>
                      <a:pt x="1851" y="1056"/>
                    </a:lnTo>
                    <a:lnTo>
                      <a:pt x="1845" y="1059"/>
                    </a:lnTo>
                    <a:lnTo>
                      <a:pt x="1838" y="1062"/>
                    </a:lnTo>
                    <a:lnTo>
                      <a:pt x="1817" y="1066"/>
                    </a:lnTo>
                    <a:lnTo>
                      <a:pt x="1800" y="1071"/>
                    </a:lnTo>
                    <a:lnTo>
                      <a:pt x="1784" y="1077"/>
                    </a:lnTo>
                    <a:lnTo>
                      <a:pt x="1769" y="1083"/>
                    </a:lnTo>
                    <a:lnTo>
                      <a:pt x="1753" y="1089"/>
                    </a:lnTo>
                    <a:lnTo>
                      <a:pt x="1737" y="1097"/>
                    </a:lnTo>
                    <a:lnTo>
                      <a:pt x="1721" y="1106"/>
                    </a:lnTo>
                    <a:lnTo>
                      <a:pt x="1704" y="1118"/>
                    </a:lnTo>
                    <a:lnTo>
                      <a:pt x="1698" y="1118"/>
                    </a:lnTo>
                    <a:lnTo>
                      <a:pt x="1712" y="1107"/>
                    </a:lnTo>
                    <a:lnTo>
                      <a:pt x="1727" y="1099"/>
                    </a:lnTo>
                    <a:lnTo>
                      <a:pt x="1743" y="1091"/>
                    </a:lnTo>
                    <a:lnTo>
                      <a:pt x="1758" y="1085"/>
                    </a:lnTo>
                    <a:lnTo>
                      <a:pt x="1773" y="1077"/>
                    </a:lnTo>
                    <a:lnTo>
                      <a:pt x="1789" y="1070"/>
                    </a:lnTo>
                    <a:lnTo>
                      <a:pt x="1805" y="1063"/>
                    </a:lnTo>
                    <a:lnTo>
                      <a:pt x="1821" y="1056"/>
                    </a:lnTo>
                    <a:lnTo>
                      <a:pt x="1821" y="1058"/>
                    </a:lnTo>
                    <a:lnTo>
                      <a:pt x="1826" y="1062"/>
                    </a:lnTo>
                    <a:lnTo>
                      <a:pt x="1830" y="1063"/>
                    </a:lnTo>
                    <a:lnTo>
                      <a:pt x="1835" y="1062"/>
                    </a:lnTo>
                    <a:lnTo>
                      <a:pt x="1838" y="1057"/>
                    </a:lnTo>
                    <a:lnTo>
                      <a:pt x="1843" y="1053"/>
                    </a:lnTo>
                    <a:lnTo>
                      <a:pt x="1846" y="1048"/>
                    </a:lnTo>
                    <a:lnTo>
                      <a:pt x="1845" y="1043"/>
                    </a:lnTo>
                    <a:lnTo>
                      <a:pt x="1838" y="1036"/>
                    </a:lnTo>
                    <a:lnTo>
                      <a:pt x="1820" y="1042"/>
                    </a:lnTo>
                    <a:lnTo>
                      <a:pt x="1805" y="1048"/>
                    </a:lnTo>
                    <a:lnTo>
                      <a:pt x="1788" y="1054"/>
                    </a:lnTo>
                    <a:lnTo>
                      <a:pt x="1773" y="1060"/>
                    </a:lnTo>
                    <a:lnTo>
                      <a:pt x="1758" y="1066"/>
                    </a:lnTo>
                    <a:lnTo>
                      <a:pt x="1744" y="1073"/>
                    </a:lnTo>
                    <a:lnTo>
                      <a:pt x="1729" y="1080"/>
                    </a:lnTo>
                    <a:lnTo>
                      <a:pt x="1717" y="1088"/>
                    </a:lnTo>
                    <a:lnTo>
                      <a:pt x="1731" y="1074"/>
                    </a:lnTo>
                    <a:lnTo>
                      <a:pt x="1749" y="1063"/>
                    </a:lnTo>
                    <a:lnTo>
                      <a:pt x="1767" y="1052"/>
                    </a:lnTo>
                    <a:lnTo>
                      <a:pt x="1787" y="1043"/>
                    </a:lnTo>
                    <a:lnTo>
                      <a:pt x="1805" y="1033"/>
                    </a:lnTo>
                    <a:lnTo>
                      <a:pt x="1826" y="1025"/>
                    </a:lnTo>
                    <a:lnTo>
                      <a:pt x="1845" y="1016"/>
                    </a:lnTo>
                    <a:lnTo>
                      <a:pt x="1864" y="1010"/>
                    </a:lnTo>
                    <a:lnTo>
                      <a:pt x="1884" y="1002"/>
                    </a:lnTo>
                    <a:lnTo>
                      <a:pt x="1908" y="996"/>
                    </a:lnTo>
                    <a:lnTo>
                      <a:pt x="1932" y="990"/>
                    </a:lnTo>
                    <a:lnTo>
                      <a:pt x="1957" y="986"/>
                    </a:lnTo>
                    <a:lnTo>
                      <a:pt x="1981" y="981"/>
                    </a:lnTo>
                    <a:lnTo>
                      <a:pt x="2007" y="978"/>
                    </a:lnTo>
                    <a:lnTo>
                      <a:pt x="2031" y="974"/>
                    </a:lnTo>
                    <a:lnTo>
                      <a:pt x="2056" y="971"/>
                    </a:lnTo>
                    <a:lnTo>
                      <a:pt x="2059" y="964"/>
                    </a:lnTo>
                    <a:lnTo>
                      <a:pt x="2059" y="958"/>
                    </a:lnTo>
                    <a:lnTo>
                      <a:pt x="2066" y="960"/>
                    </a:lnTo>
                    <a:lnTo>
                      <a:pt x="2075" y="961"/>
                    </a:lnTo>
                    <a:lnTo>
                      <a:pt x="2082" y="960"/>
                    </a:lnTo>
                    <a:lnTo>
                      <a:pt x="2090" y="959"/>
                    </a:lnTo>
                    <a:lnTo>
                      <a:pt x="2096" y="956"/>
                    </a:lnTo>
                    <a:lnTo>
                      <a:pt x="2104" y="955"/>
                    </a:lnTo>
                    <a:lnTo>
                      <a:pt x="2112" y="954"/>
                    </a:lnTo>
                    <a:lnTo>
                      <a:pt x="2121" y="955"/>
                    </a:lnTo>
                    <a:lnTo>
                      <a:pt x="2124" y="949"/>
                    </a:lnTo>
                    <a:lnTo>
                      <a:pt x="2128" y="944"/>
                    </a:lnTo>
                    <a:lnTo>
                      <a:pt x="2132" y="938"/>
                    </a:lnTo>
                    <a:lnTo>
                      <a:pt x="2136" y="932"/>
                    </a:lnTo>
                    <a:lnTo>
                      <a:pt x="2139" y="928"/>
                    </a:lnTo>
                    <a:lnTo>
                      <a:pt x="2144" y="927"/>
                    </a:lnTo>
                    <a:lnTo>
                      <a:pt x="2149" y="930"/>
                    </a:lnTo>
                    <a:lnTo>
                      <a:pt x="2157" y="939"/>
                    </a:lnTo>
                    <a:lnTo>
                      <a:pt x="2165" y="937"/>
                    </a:lnTo>
                    <a:lnTo>
                      <a:pt x="2173" y="937"/>
                    </a:lnTo>
                    <a:lnTo>
                      <a:pt x="2176" y="934"/>
                    </a:lnTo>
                    <a:lnTo>
                      <a:pt x="2179" y="933"/>
                    </a:lnTo>
                    <a:lnTo>
                      <a:pt x="2181" y="929"/>
                    </a:lnTo>
                    <a:lnTo>
                      <a:pt x="2183" y="925"/>
                    </a:lnTo>
                    <a:lnTo>
                      <a:pt x="2173" y="918"/>
                    </a:lnTo>
                    <a:lnTo>
                      <a:pt x="2165" y="916"/>
                    </a:lnTo>
                    <a:lnTo>
                      <a:pt x="2157" y="916"/>
                    </a:lnTo>
                    <a:lnTo>
                      <a:pt x="2150" y="915"/>
                    </a:lnTo>
                    <a:lnTo>
                      <a:pt x="2151" y="908"/>
                    </a:lnTo>
                    <a:lnTo>
                      <a:pt x="2147" y="899"/>
                    </a:lnTo>
                    <a:lnTo>
                      <a:pt x="2144" y="896"/>
                    </a:lnTo>
                    <a:lnTo>
                      <a:pt x="2140" y="896"/>
                    </a:lnTo>
                    <a:lnTo>
                      <a:pt x="2131" y="902"/>
                    </a:lnTo>
                    <a:lnTo>
                      <a:pt x="2126" y="910"/>
                    </a:lnTo>
                    <a:lnTo>
                      <a:pt x="2122" y="913"/>
                    </a:lnTo>
                    <a:lnTo>
                      <a:pt x="2118" y="916"/>
                    </a:lnTo>
                    <a:lnTo>
                      <a:pt x="2113" y="918"/>
                    </a:lnTo>
                    <a:lnTo>
                      <a:pt x="2108" y="919"/>
                    </a:lnTo>
                    <a:lnTo>
                      <a:pt x="2088" y="929"/>
                    </a:lnTo>
                    <a:lnTo>
                      <a:pt x="2067" y="939"/>
                    </a:lnTo>
                    <a:lnTo>
                      <a:pt x="2046" y="944"/>
                    </a:lnTo>
                    <a:lnTo>
                      <a:pt x="2025" y="949"/>
                    </a:lnTo>
                    <a:lnTo>
                      <a:pt x="2003" y="952"/>
                    </a:lnTo>
                    <a:lnTo>
                      <a:pt x="1980" y="955"/>
                    </a:lnTo>
                    <a:lnTo>
                      <a:pt x="1958" y="959"/>
                    </a:lnTo>
                    <a:lnTo>
                      <a:pt x="1936" y="965"/>
                    </a:lnTo>
                    <a:lnTo>
                      <a:pt x="1932" y="960"/>
                    </a:lnTo>
                    <a:lnTo>
                      <a:pt x="1928" y="959"/>
                    </a:lnTo>
                    <a:lnTo>
                      <a:pt x="1923" y="959"/>
                    </a:lnTo>
                    <a:lnTo>
                      <a:pt x="1918" y="961"/>
                    </a:lnTo>
                    <a:lnTo>
                      <a:pt x="1912" y="963"/>
                    </a:lnTo>
                    <a:lnTo>
                      <a:pt x="1905" y="965"/>
                    </a:lnTo>
                    <a:lnTo>
                      <a:pt x="1899" y="967"/>
                    </a:lnTo>
                    <a:lnTo>
                      <a:pt x="1893" y="968"/>
                    </a:lnTo>
                    <a:lnTo>
                      <a:pt x="1892" y="960"/>
                    </a:lnTo>
                    <a:lnTo>
                      <a:pt x="1886" y="955"/>
                    </a:lnTo>
                    <a:lnTo>
                      <a:pt x="1867" y="952"/>
                    </a:lnTo>
                    <a:lnTo>
                      <a:pt x="1874" y="950"/>
                    </a:lnTo>
                    <a:lnTo>
                      <a:pt x="1877" y="945"/>
                    </a:lnTo>
                    <a:lnTo>
                      <a:pt x="1873" y="939"/>
                    </a:lnTo>
                    <a:lnTo>
                      <a:pt x="1871" y="933"/>
                    </a:lnTo>
                    <a:lnTo>
                      <a:pt x="1868" y="928"/>
                    </a:lnTo>
                    <a:lnTo>
                      <a:pt x="1867" y="925"/>
                    </a:lnTo>
                    <a:lnTo>
                      <a:pt x="1864" y="921"/>
                    </a:lnTo>
                    <a:lnTo>
                      <a:pt x="1861" y="918"/>
                    </a:lnTo>
                    <a:lnTo>
                      <a:pt x="1856" y="915"/>
                    </a:lnTo>
                    <a:lnTo>
                      <a:pt x="1851" y="912"/>
                    </a:lnTo>
                    <a:lnTo>
                      <a:pt x="1843" y="913"/>
                    </a:lnTo>
                    <a:lnTo>
                      <a:pt x="1835" y="915"/>
                    </a:lnTo>
                    <a:lnTo>
                      <a:pt x="1826" y="916"/>
                    </a:lnTo>
                    <a:lnTo>
                      <a:pt x="1818" y="919"/>
                    </a:lnTo>
                    <a:lnTo>
                      <a:pt x="1828" y="914"/>
                    </a:lnTo>
                    <a:lnTo>
                      <a:pt x="1835" y="909"/>
                    </a:lnTo>
                    <a:lnTo>
                      <a:pt x="1831" y="902"/>
                    </a:lnTo>
                    <a:lnTo>
                      <a:pt x="1825" y="899"/>
                    </a:lnTo>
                    <a:lnTo>
                      <a:pt x="1819" y="897"/>
                    </a:lnTo>
                    <a:lnTo>
                      <a:pt x="1815" y="899"/>
                    </a:lnTo>
                    <a:lnTo>
                      <a:pt x="1816" y="895"/>
                    </a:lnTo>
                    <a:lnTo>
                      <a:pt x="1813" y="893"/>
                    </a:lnTo>
                    <a:lnTo>
                      <a:pt x="1808" y="890"/>
                    </a:lnTo>
                    <a:lnTo>
                      <a:pt x="1805" y="887"/>
                    </a:lnTo>
                    <a:lnTo>
                      <a:pt x="1808" y="883"/>
                    </a:lnTo>
                    <a:lnTo>
                      <a:pt x="1803" y="877"/>
                    </a:lnTo>
                    <a:lnTo>
                      <a:pt x="1797" y="875"/>
                    </a:lnTo>
                    <a:lnTo>
                      <a:pt x="1790" y="873"/>
                    </a:lnTo>
                    <a:lnTo>
                      <a:pt x="1786" y="871"/>
                    </a:lnTo>
                    <a:lnTo>
                      <a:pt x="1795" y="864"/>
                    </a:lnTo>
                    <a:lnTo>
                      <a:pt x="1797" y="859"/>
                    </a:lnTo>
                    <a:lnTo>
                      <a:pt x="1794" y="853"/>
                    </a:lnTo>
                    <a:lnTo>
                      <a:pt x="1790" y="849"/>
                    </a:lnTo>
                    <a:lnTo>
                      <a:pt x="1784" y="843"/>
                    </a:lnTo>
                    <a:lnTo>
                      <a:pt x="1782" y="838"/>
                    </a:lnTo>
                    <a:lnTo>
                      <a:pt x="1784" y="833"/>
                    </a:lnTo>
                    <a:lnTo>
                      <a:pt x="1795" y="828"/>
                    </a:lnTo>
                    <a:lnTo>
                      <a:pt x="1793" y="820"/>
                    </a:lnTo>
                    <a:lnTo>
                      <a:pt x="1795" y="815"/>
                    </a:lnTo>
                    <a:lnTo>
                      <a:pt x="1797" y="809"/>
                    </a:lnTo>
                    <a:lnTo>
                      <a:pt x="1799" y="802"/>
                    </a:lnTo>
                    <a:lnTo>
                      <a:pt x="1783" y="783"/>
                    </a:lnTo>
                    <a:lnTo>
                      <a:pt x="1788" y="778"/>
                    </a:lnTo>
                    <a:lnTo>
                      <a:pt x="1789" y="771"/>
                    </a:lnTo>
                    <a:lnTo>
                      <a:pt x="1788" y="762"/>
                    </a:lnTo>
                    <a:lnTo>
                      <a:pt x="1789" y="753"/>
                    </a:lnTo>
                    <a:lnTo>
                      <a:pt x="1790" y="747"/>
                    </a:lnTo>
                    <a:lnTo>
                      <a:pt x="1794" y="741"/>
                    </a:lnTo>
                    <a:lnTo>
                      <a:pt x="1799" y="735"/>
                    </a:lnTo>
                    <a:lnTo>
                      <a:pt x="1804" y="731"/>
                    </a:lnTo>
                    <a:lnTo>
                      <a:pt x="1807" y="725"/>
                    </a:lnTo>
                    <a:lnTo>
                      <a:pt x="1807" y="721"/>
                    </a:lnTo>
                    <a:lnTo>
                      <a:pt x="1803" y="717"/>
                    </a:lnTo>
                    <a:lnTo>
                      <a:pt x="1795" y="714"/>
                    </a:lnTo>
                    <a:lnTo>
                      <a:pt x="1792" y="705"/>
                    </a:lnTo>
                    <a:lnTo>
                      <a:pt x="1795" y="697"/>
                    </a:lnTo>
                    <a:lnTo>
                      <a:pt x="1799" y="689"/>
                    </a:lnTo>
                    <a:lnTo>
                      <a:pt x="1804" y="682"/>
                    </a:lnTo>
                    <a:lnTo>
                      <a:pt x="1808" y="674"/>
                    </a:lnTo>
                    <a:lnTo>
                      <a:pt x="1810" y="666"/>
                    </a:lnTo>
                    <a:lnTo>
                      <a:pt x="1809" y="659"/>
                    </a:lnTo>
                    <a:lnTo>
                      <a:pt x="1802" y="652"/>
                    </a:lnTo>
                    <a:lnTo>
                      <a:pt x="1805" y="637"/>
                    </a:lnTo>
                    <a:lnTo>
                      <a:pt x="1808" y="622"/>
                    </a:lnTo>
                    <a:lnTo>
                      <a:pt x="1811" y="606"/>
                    </a:lnTo>
                    <a:lnTo>
                      <a:pt x="1814" y="592"/>
                    </a:lnTo>
                    <a:lnTo>
                      <a:pt x="1817" y="576"/>
                    </a:lnTo>
                    <a:lnTo>
                      <a:pt x="1825" y="564"/>
                    </a:lnTo>
                    <a:lnTo>
                      <a:pt x="1835" y="553"/>
                    </a:lnTo>
                    <a:lnTo>
                      <a:pt x="1848" y="545"/>
                    </a:lnTo>
                    <a:lnTo>
                      <a:pt x="1848" y="537"/>
                    </a:lnTo>
                    <a:lnTo>
                      <a:pt x="1852" y="531"/>
                    </a:lnTo>
                    <a:lnTo>
                      <a:pt x="1858" y="526"/>
                    </a:lnTo>
                    <a:lnTo>
                      <a:pt x="1866" y="522"/>
                    </a:lnTo>
                    <a:lnTo>
                      <a:pt x="1871" y="517"/>
                    </a:lnTo>
                    <a:lnTo>
                      <a:pt x="1874" y="513"/>
                    </a:lnTo>
                    <a:lnTo>
                      <a:pt x="1873" y="506"/>
                    </a:lnTo>
                    <a:lnTo>
                      <a:pt x="1867" y="500"/>
                    </a:lnTo>
                    <a:lnTo>
                      <a:pt x="1864" y="491"/>
                    </a:lnTo>
                    <a:lnTo>
                      <a:pt x="1858" y="485"/>
                    </a:lnTo>
                    <a:lnTo>
                      <a:pt x="1850" y="480"/>
                    </a:lnTo>
                    <a:lnTo>
                      <a:pt x="1845" y="480"/>
                    </a:lnTo>
                    <a:lnTo>
                      <a:pt x="1852" y="476"/>
                    </a:lnTo>
                    <a:lnTo>
                      <a:pt x="1861" y="480"/>
                    </a:lnTo>
                    <a:lnTo>
                      <a:pt x="1864" y="480"/>
                    </a:lnTo>
                    <a:lnTo>
                      <a:pt x="1866" y="476"/>
                    </a:lnTo>
                    <a:lnTo>
                      <a:pt x="1867" y="467"/>
                    </a:lnTo>
                    <a:lnTo>
                      <a:pt x="1861" y="461"/>
                    </a:lnTo>
                    <a:lnTo>
                      <a:pt x="1855" y="459"/>
                    </a:lnTo>
                    <a:lnTo>
                      <a:pt x="1849" y="460"/>
                    </a:lnTo>
                    <a:lnTo>
                      <a:pt x="1843" y="463"/>
                    </a:lnTo>
                    <a:lnTo>
                      <a:pt x="1836" y="465"/>
                    </a:lnTo>
                    <a:lnTo>
                      <a:pt x="1829" y="468"/>
                    </a:lnTo>
                    <a:lnTo>
                      <a:pt x="1822" y="470"/>
                    </a:lnTo>
                    <a:lnTo>
                      <a:pt x="1818" y="471"/>
                    </a:lnTo>
                    <a:lnTo>
                      <a:pt x="1816" y="476"/>
                    </a:lnTo>
                    <a:lnTo>
                      <a:pt x="1817" y="480"/>
                    </a:lnTo>
                    <a:lnTo>
                      <a:pt x="1820" y="483"/>
                    </a:lnTo>
                    <a:lnTo>
                      <a:pt x="1826" y="486"/>
                    </a:lnTo>
                    <a:lnTo>
                      <a:pt x="1831" y="488"/>
                    </a:lnTo>
                    <a:lnTo>
                      <a:pt x="1836" y="491"/>
                    </a:lnTo>
                    <a:lnTo>
                      <a:pt x="1841" y="495"/>
                    </a:lnTo>
                    <a:lnTo>
                      <a:pt x="1845" y="500"/>
                    </a:lnTo>
                    <a:lnTo>
                      <a:pt x="1836" y="504"/>
                    </a:lnTo>
                    <a:lnTo>
                      <a:pt x="1832" y="511"/>
                    </a:lnTo>
                    <a:lnTo>
                      <a:pt x="1829" y="519"/>
                    </a:lnTo>
                    <a:lnTo>
                      <a:pt x="1829" y="529"/>
                    </a:lnTo>
                    <a:lnTo>
                      <a:pt x="1820" y="537"/>
                    </a:lnTo>
                    <a:lnTo>
                      <a:pt x="1812" y="545"/>
                    </a:lnTo>
                    <a:lnTo>
                      <a:pt x="1804" y="553"/>
                    </a:lnTo>
                    <a:lnTo>
                      <a:pt x="1797" y="562"/>
                    </a:lnTo>
                    <a:lnTo>
                      <a:pt x="1790" y="571"/>
                    </a:lnTo>
                    <a:lnTo>
                      <a:pt x="1783" y="581"/>
                    </a:lnTo>
                    <a:lnTo>
                      <a:pt x="1777" y="592"/>
                    </a:lnTo>
                    <a:lnTo>
                      <a:pt x="1773" y="604"/>
                    </a:lnTo>
                    <a:lnTo>
                      <a:pt x="1771" y="611"/>
                    </a:lnTo>
                    <a:lnTo>
                      <a:pt x="1767" y="619"/>
                    </a:lnTo>
                    <a:lnTo>
                      <a:pt x="1762" y="627"/>
                    </a:lnTo>
                    <a:lnTo>
                      <a:pt x="1758" y="635"/>
                    </a:lnTo>
                    <a:lnTo>
                      <a:pt x="1753" y="643"/>
                    </a:lnTo>
                    <a:lnTo>
                      <a:pt x="1752" y="652"/>
                    </a:lnTo>
                    <a:lnTo>
                      <a:pt x="1753" y="661"/>
                    </a:lnTo>
                    <a:lnTo>
                      <a:pt x="1760" y="673"/>
                    </a:lnTo>
                    <a:lnTo>
                      <a:pt x="1756" y="682"/>
                    </a:lnTo>
                    <a:lnTo>
                      <a:pt x="1753" y="692"/>
                    </a:lnTo>
                    <a:lnTo>
                      <a:pt x="1750" y="701"/>
                    </a:lnTo>
                    <a:lnTo>
                      <a:pt x="1750" y="712"/>
                    </a:lnTo>
                    <a:lnTo>
                      <a:pt x="1750" y="721"/>
                    </a:lnTo>
                    <a:lnTo>
                      <a:pt x="1752" y="731"/>
                    </a:lnTo>
                    <a:lnTo>
                      <a:pt x="1756" y="740"/>
                    </a:lnTo>
                    <a:lnTo>
                      <a:pt x="1763" y="750"/>
                    </a:lnTo>
                    <a:lnTo>
                      <a:pt x="1763" y="756"/>
                    </a:lnTo>
                    <a:lnTo>
                      <a:pt x="1762" y="754"/>
                    </a:lnTo>
                    <a:lnTo>
                      <a:pt x="1760" y="753"/>
                    </a:lnTo>
                    <a:lnTo>
                      <a:pt x="1760" y="760"/>
                    </a:lnTo>
                    <a:lnTo>
                      <a:pt x="1760" y="769"/>
                    </a:lnTo>
                    <a:lnTo>
                      <a:pt x="1760" y="777"/>
                    </a:lnTo>
                    <a:lnTo>
                      <a:pt x="1760" y="786"/>
                    </a:lnTo>
                    <a:lnTo>
                      <a:pt x="1760" y="794"/>
                    </a:lnTo>
                    <a:lnTo>
                      <a:pt x="1763" y="802"/>
                    </a:lnTo>
                    <a:lnTo>
                      <a:pt x="1766" y="808"/>
                    </a:lnTo>
                    <a:lnTo>
                      <a:pt x="1773" y="815"/>
                    </a:lnTo>
                    <a:lnTo>
                      <a:pt x="1763" y="823"/>
                    </a:lnTo>
                    <a:lnTo>
                      <a:pt x="1757" y="833"/>
                    </a:lnTo>
                    <a:lnTo>
                      <a:pt x="1750" y="843"/>
                    </a:lnTo>
                    <a:lnTo>
                      <a:pt x="1744" y="854"/>
                    </a:lnTo>
                    <a:lnTo>
                      <a:pt x="1749" y="856"/>
                    </a:lnTo>
                    <a:lnTo>
                      <a:pt x="1754" y="859"/>
                    </a:lnTo>
                    <a:lnTo>
                      <a:pt x="1759" y="860"/>
                    </a:lnTo>
                    <a:lnTo>
                      <a:pt x="1763" y="858"/>
                    </a:lnTo>
                    <a:lnTo>
                      <a:pt x="1760" y="861"/>
                    </a:lnTo>
                    <a:lnTo>
                      <a:pt x="1756" y="864"/>
                    </a:lnTo>
                    <a:lnTo>
                      <a:pt x="1753" y="867"/>
                    </a:lnTo>
                    <a:lnTo>
                      <a:pt x="1757" y="874"/>
                    </a:lnTo>
                    <a:lnTo>
                      <a:pt x="1763" y="880"/>
                    </a:lnTo>
                    <a:lnTo>
                      <a:pt x="1759" y="880"/>
                    </a:lnTo>
                    <a:lnTo>
                      <a:pt x="1755" y="880"/>
                    </a:lnTo>
                    <a:lnTo>
                      <a:pt x="1751" y="882"/>
                    </a:lnTo>
                    <a:lnTo>
                      <a:pt x="1750" y="887"/>
                    </a:lnTo>
                    <a:lnTo>
                      <a:pt x="1752" y="894"/>
                    </a:lnTo>
                    <a:lnTo>
                      <a:pt x="1753" y="901"/>
                    </a:lnTo>
                    <a:lnTo>
                      <a:pt x="1752" y="906"/>
                    </a:lnTo>
                    <a:lnTo>
                      <a:pt x="1751" y="911"/>
                    </a:lnTo>
                    <a:lnTo>
                      <a:pt x="1749" y="915"/>
                    </a:lnTo>
                    <a:lnTo>
                      <a:pt x="1749" y="920"/>
                    </a:lnTo>
                    <a:lnTo>
                      <a:pt x="1751" y="926"/>
                    </a:lnTo>
                    <a:lnTo>
                      <a:pt x="1757" y="936"/>
                    </a:lnTo>
                    <a:lnTo>
                      <a:pt x="1751" y="947"/>
                    </a:lnTo>
                    <a:lnTo>
                      <a:pt x="1744" y="954"/>
                    </a:lnTo>
                    <a:lnTo>
                      <a:pt x="1733" y="956"/>
                    </a:lnTo>
                    <a:lnTo>
                      <a:pt x="1723" y="956"/>
                    </a:lnTo>
                    <a:lnTo>
                      <a:pt x="1711" y="953"/>
                    </a:lnTo>
                    <a:lnTo>
                      <a:pt x="1699" y="951"/>
                    </a:lnTo>
                    <a:lnTo>
                      <a:pt x="1688" y="948"/>
                    </a:lnTo>
                    <a:lnTo>
                      <a:pt x="1679" y="949"/>
                    </a:lnTo>
                    <a:lnTo>
                      <a:pt x="1669" y="946"/>
                    </a:lnTo>
                    <a:lnTo>
                      <a:pt x="1662" y="941"/>
                    </a:lnTo>
                    <a:lnTo>
                      <a:pt x="1653" y="936"/>
                    </a:lnTo>
                    <a:lnTo>
                      <a:pt x="1645" y="936"/>
                    </a:lnTo>
                    <a:lnTo>
                      <a:pt x="1644" y="943"/>
                    </a:lnTo>
                    <a:lnTo>
                      <a:pt x="1649" y="951"/>
                    </a:lnTo>
                    <a:lnTo>
                      <a:pt x="1656" y="958"/>
                    </a:lnTo>
                    <a:lnTo>
                      <a:pt x="1666" y="961"/>
                    </a:lnTo>
                    <a:lnTo>
                      <a:pt x="1658" y="960"/>
                    </a:lnTo>
                    <a:lnTo>
                      <a:pt x="1650" y="959"/>
                    </a:lnTo>
                    <a:lnTo>
                      <a:pt x="1644" y="958"/>
                    </a:lnTo>
                    <a:lnTo>
                      <a:pt x="1638" y="957"/>
                    </a:lnTo>
                    <a:lnTo>
                      <a:pt x="1632" y="955"/>
                    </a:lnTo>
                    <a:lnTo>
                      <a:pt x="1626" y="953"/>
                    </a:lnTo>
                    <a:lnTo>
                      <a:pt x="1621" y="951"/>
                    </a:lnTo>
                    <a:lnTo>
                      <a:pt x="1617" y="949"/>
                    </a:lnTo>
                    <a:lnTo>
                      <a:pt x="1614" y="957"/>
                    </a:lnTo>
                    <a:lnTo>
                      <a:pt x="1618" y="965"/>
                    </a:lnTo>
                    <a:lnTo>
                      <a:pt x="1625" y="971"/>
                    </a:lnTo>
                    <a:lnTo>
                      <a:pt x="1633" y="977"/>
                    </a:lnTo>
                    <a:lnTo>
                      <a:pt x="1623" y="984"/>
                    </a:lnTo>
                    <a:lnTo>
                      <a:pt x="1623" y="981"/>
                    </a:lnTo>
                    <a:lnTo>
                      <a:pt x="1617" y="982"/>
                    </a:lnTo>
                    <a:lnTo>
                      <a:pt x="1611" y="980"/>
                    </a:lnTo>
                    <a:lnTo>
                      <a:pt x="1606" y="977"/>
                    </a:lnTo>
                    <a:lnTo>
                      <a:pt x="1601" y="974"/>
                    </a:lnTo>
                    <a:lnTo>
                      <a:pt x="1595" y="969"/>
                    </a:lnTo>
                    <a:lnTo>
                      <a:pt x="1590" y="966"/>
                    </a:lnTo>
                    <a:lnTo>
                      <a:pt x="1584" y="965"/>
                    </a:lnTo>
                    <a:lnTo>
                      <a:pt x="1578" y="968"/>
                    </a:lnTo>
                    <a:lnTo>
                      <a:pt x="1568" y="960"/>
                    </a:lnTo>
                    <a:lnTo>
                      <a:pt x="1563" y="952"/>
                    </a:lnTo>
                    <a:lnTo>
                      <a:pt x="1559" y="947"/>
                    </a:lnTo>
                    <a:lnTo>
                      <a:pt x="1555" y="944"/>
                    </a:lnTo>
                    <a:lnTo>
                      <a:pt x="1550" y="942"/>
                    </a:lnTo>
                    <a:lnTo>
                      <a:pt x="1545" y="942"/>
                    </a:lnTo>
                    <a:lnTo>
                      <a:pt x="1533" y="933"/>
                    </a:lnTo>
                    <a:lnTo>
                      <a:pt x="1523" y="924"/>
                    </a:lnTo>
                    <a:lnTo>
                      <a:pt x="1514" y="913"/>
                    </a:lnTo>
                    <a:lnTo>
                      <a:pt x="1506" y="904"/>
                    </a:lnTo>
                    <a:lnTo>
                      <a:pt x="1496" y="894"/>
                    </a:lnTo>
                    <a:lnTo>
                      <a:pt x="1486" y="887"/>
                    </a:lnTo>
                    <a:lnTo>
                      <a:pt x="1475" y="881"/>
                    </a:lnTo>
                    <a:lnTo>
                      <a:pt x="1463" y="880"/>
                    </a:lnTo>
                    <a:lnTo>
                      <a:pt x="1457" y="876"/>
                    </a:lnTo>
                    <a:lnTo>
                      <a:pt x="1452" y="872"/>
                    </a:lnTo>
                    <a:lnTo>
                      <a:pt x="1448" y="869"/>
                    </a:lnTo>
                    <a:lnTo>
                      <a:pt x="1445" y="866"/>
                    </a:lnTo>
                    <a:lnTo>
                      <a:pt x="1441" y="863"/>
                    </a:lnTo>
                    <a:lnTo>
                      <a:pt x="1437" y="861"/>
                    </a:lnTo>
                    <a:lnTo>
                      <a:pt x="1433" y="860"/>
                    </a:lnTo>
                    <a:lnTo>
                      <a:pt x="1428" y="861"/>
                    </a:lnTo>
                    <a:lnTo>
                      <a:pt x="1438" y="883"/>
                    </a:lnTo>
                    <a:lnTo>
                      <a:pt x="1432" y="880"/>
                    </a:lnTo>
                    <a:lnTo>
                      <a:pt x="1426" y="877"/>
                    </a:lnTo>
                    <a:lnTo>
                      <a:pt x="1420" y="873"/>
                    </a:lnTo>
                    <a:lnTo>
                      <a:pt x="1415" y="871"/>
                    </a:lnTo>
                    <a:lnTo>
                      <a:pt x="1407" y="868"/>
                    </a:lnTo>
                    <a:lnTo>
                      <a:pt x="1401" y="867"/>
                    </a:lnTo>
                    <a:lnTo>
                      <a:pt x="1395" y="867"/>
                    </a:lnTo>
                    <a:lnTo>
                      <a:pt x="1389" y="871"/>
                    </a:lnTo>
                    <a:lnTo>
                      <a:pt x="1377" y="863"/>
                    </a:lnTo>
                    <a:lnTo>
                      <a:pt x="1365" y="857"/>
                    </a:lnTo>
                    <a:lnTo>
                      <a:pt x="1352" y="851"/>
                    </a:lnTo>
                    <a:lnTo>
                      <a:pt x="1340" y="845"/>
                    </a:lnTo>
                    <a:lnTo>
                      <a:pt x="1326" y="838"/>
                    </a:lnTo>
                    <a:lnTo>
                      <a:pt x="1312" y="832"/>
                    </a:lnTo>
                    <a:lnTo>
                      <a:pt x="1300" y="825"/>
                    </a:lnTo>
                    <a:lnTo>
                      <a:pt x="1288" y="818"/>
                    </a:lnTo>
                    <a:lnTo>
                      <a:pt x="1278" y="828"/>
                    </a:lnTo>
                    <a:lnTo>
                      <a:pt x="1281" y="832"/>
                    </a:lnTo>
                    <a:lnTo>
                      <a:pt x="1287" y="836"/>
                    </a:lnTo>
                    <a:lnTo>
                      <a:pt x="1291" y="840"/>
                    </a:lnTo>
                    <a:lnTo>
                      <a:pt x="1296" y="845"/>
                    </a:lnTo>
                    <a:lnTo>
                      <a:pt x="1299" y="850"/>
                    </a:lnTo>
                    <a:lnTo>
                      <a:pt x="1302" y="855"/>
                    </a:lnTo>
                    <a:lnTo>
                      <a:pt x="1302" y="861"/>
                    </a:lnTo>
                    <a:lnTo>
                      <a:pt x="1301" y="867"/>
                    </a:lnTo>
                    <a:lnTo>
                      <a:pt x="1297" y="861"/>
                    </a:lnTo>
                    <a:lnTo>
                      <a:pt x="1291" y="861"/>
                    </a:lnTo>
                    <a:lnTo>
                      <a:pt x="1289" y="865"/>
                    </a:lnTo>
                    <a:lnTo>
                      <a:pt x="1290" y="871"/>
                    </a:lnTo>
                    <a:lnTo>
                      <a:pt x="1290" y="877"/>
                    </a:lnTo>
                    <a:lnTo>
                      <a:pt x="1292" y="883"/>
                    </a:lnTo>
                    <a:lnTo>
                      <a:pt x="1293" y="888"/>
                    </a:lnTo>
                    <a:lnTo>
                      <a:pt x="1295" y="894"/>
                    </a:lnTo>
                    <a:lnTo>
                      <a:pt x="1298" y="900"/>
                    </a:lnTo>
                    <a:lnTo>
                      <a:pt x="1301" y="906"/>
                    </a:lnTo>
                    <a:lnTo>
                      <a:pt x="1307" y="912"/>
                    </a:lnTo>
                    <a:lnTo>
                      <a:pt x="1311" y="902"/>
                    </a:lnTo>
                    <a:lnTo>
                      <a:pt x="1312" y="895"/>
                    </a:lnTo>
                    <a:lnTo>
                      <a:pt x="1312" y="891"/>
                    </a:lnTo>
                    <a:lnTo>
                      <a:pt x="1312" y="887"/>
                    </a:lnTo>
                    <a:lnTo>
                      <a:pt x="1312" y="882"/>
                    </a:lnTo>
                    <a:lnTo>
                      <a:pt x="1314" y="877"/>
                    </a:lnTo>
                    <a:lnTo>
                      <a:pt x="1318" y="882"/>
                    </a:lnTo>
                    <a:lnTo>
                      <a:pt x="1323" y="887"/>
                    </a:lnTo>
                    <a:lnTo>
                      <a:pt x="1328" y="890"/>
                    </a:lnTo>
                    <a:lnTo>
                      <a:pt x="1334" y="894"/>
                    </a:lnTo>
                    <a:lnTo>
                      <a:pt x="1340" y="896"/>
                    </a:lnTo>
                    <a:lnTo>
                      <a:pt x="1347" y="899"/>
                    </a:lnTo>
                    <a:lnTo>
                      <a:pt x="1354" y="902"/>
                    </a:lnTo>
                    <a:lnTo>
                      <a:pt x="1363" y="906"/>
                    </a:lnTo>
                    <a:lnTo>
                      <a:pt x="1365" y="913"/>
                    </a:lnTo>
                    <a:lnTo>
                      <a:pt x="1372" y="919"/>
                    </a:lnTo>
                    <a:lnTo>
                      <a:pt x="1379" y="917"/>
                    </a:lnTo>
                    <a:lnTo>
                      <a:pt x="1389" y="919"/>
                    </a:lnTo>
                    <a:lnTo>
                      <a:pt x="1395" y="922"/>
                    </a:lnTo>
                    <a:lnTo>
                      <a:pt x="1391" y="922"/>
                    </a:lnTo>
                    <a:lnTo>
                      <a:pt x="1387" y="923"/>
                    </a:lnTo>
                    <a:lnTo>
                      <a:pt x="1381" y="924"/>
                    </a:lnTo>
                    <a:lnTo>
                      <a:pt x="1376" y="927"/>
                    </a:lnTo>
                    <a:lnTo>
                      <a:pt x="1371" y="929"/>
                    </a:lnTo>
                    <a:lnTo>
                      <a:pt x="1369" y="933"/>
                    </a:lnTo>
                    <a:lnTo>
                      <a:pt x="1369" y="939"/>
                    </a:lnTo>
                    <a:lnTo>
                      <a:pt x="1372" y="945"/>
                    </a:lnTo>
                    <a:lnTo>
                      <a:pt x="1377" y="953"/>
                    </a:lnTo>
                    <a:lnTo>
                      <a:pt x="1383" y="959"/>
                    </a:lnTo>
                    <a:lnTo>
                      <a:pt x="1390" y="962"/>
                    </a:lnTo>
                    <a:lnTo>
                      <a:pt x="1398" y="966"/>
                    </a:lnTo>
                    <a:lnTo>
                      <a:pt x="1403" y="969"/>
                    </a:lnTo>
                    <a:lnTo>
                      <a:pt x="1407" y="975"/>
                    </a:lnTo>
                    <a:lnTo>
                      <a:pt x="1410" y="982"/>
                    </a:lnTo>
                    <a:lnTo>
                      <a:pt x="1409" y="994"/>
                    </a:lnTo>
                    <a:lnTo>
                      <a:pt x="1422" y="1000"/>
                    </a:lnTo>
                    <a:lnTo>
                      <a:pt x="1417" y="1006"/>
                    </a:lnTo>
                    <a:lnTo>
                      <a:pt x="1418" y="1013"/>
                    </a:lnTo>
                    <a:lnTo>
                      <a:pt x="1427" y="1018"/>
                    </a:lnTo>
                    <a:lnTo>
                      <a:pt x="1435" y="1019"/>
                    </a:lnTo>
                    <a:lnTo>
                      <a:pt x="1430" y="1025"/>
                    </a:lnTo>
                    <a:lnTo>
                      <a:pt x="1432" y="1029"/>
                    </a:lnTo>
                    <a:lnTo>
                      <a:pt x="1435" y="1033"/>
                    </a:lnTo>
                    <a:lnTo>
                      <a:pt x="1438" y="1039"/>
                    </a:lnTo>
                    <a:lnTo>
                      <a:pt x="1444" y="1043"/>
                    </a:lnTo>
                    <a:lnTo>
                      <a:pt x="1439" y="1043"/>
                    </a:lnTo>
                    <a:lnTo>
                      <a:pt x="1435" y="1050"/>
                    </a:lnTo>
                    <a:lnTo>
                      <a:pt x="1433" y="1058"/>
                    </a:lnTo>
                    <a:lnTo>
                      <a:pt x="1435" y="1065"/>
                    </a:lnTo>
                    <a:lnTo>
                      <a:pt x="1428" y="1062"/>
                    </a:lnTo>
                    <a:lnTo>
                      <a:pt x="1422" y="1062"/>
                    </a:lnTo>
                    <a:lnTo>
                      <a:pt x="1415" y="1062"/>
                    </a:lnTo>
                    <a:lnTo>
                      <a:pt x="1409" y="1062"/>
                    </a:lnTo>
                    <a:lnTo>
                      <a:pt x="1402" y="1067"/>
                    </a:lnTo>
                    <a:lnTo>
                      <a:pt x="1396" y="1072"/>
                    </a:lnTo>
                    <a:lnTo>
                      <a:pt x="1388" y="1076"/>
                    </a:lnTo>
                    <a:lnTo>
                      <a:pt x="1380" y="1081"/>
                    </a:lnTo>
                    <a:lnTo>
                      <a:pt x="1371" y="1084"/>
                    </a:lnTo>
                    <a:lnTo>
                      <a:pt x="1362" y="1088"/>
                    </a:lnTo>
                    <a:lnTo>
                      <a:pt x="1354" y="1091"/>
                    </a:lnTo>
                    <a:lnTo>
                      <a:pt x="1347" y="1094"/>
                    </a:lnTo>
                    <a:lnTo>
                      <a:pt x="1304" y="1117"/>
                    </a:lnTo>
                    <a:lnTo>
                      <a:pt x="1262" y="1137"/>
                    </a:lnTo>
                    <a:lnTo>
                      <a:pt x="1217" y="1155"/>
                    </a:lnTo>
                    <a:lnTo>
                      <a:pt x="1173" y="1171"/>
                    </a:lnTo>
                    <a:lnTo>
                      <a:pt x="1127" y="1185"/>
                    </a:lnTo>
                    <a:lnTo>
                      <a:pt x="1083" y="1201"/>
                    </a:lnTo>
                    <a:lnTo>
                      <a:pt x="1038" y="1215"/>
                    </a:lnTo>
                    <a:lnTo>
                      <a:pt x="996" y="1231"/>
                    </a:lnTo>
                    <a:lnTo>
                      <a:pt x="983" y="1236"/>
                    </a:lnTo>
                    <a:lnTo>
                      <a:pt x="971" y="1241"/>
                    </a:lnTo>
                    <a:lnTo>
                      <a:pt x="958" y="1244"/>
                    </a:lnTo>
                    <a:lnTo>
                      <a:pt x="946" y="1248"/>
                    </a:lnTo>
                    <a:lnTo>
                      <a:pt x="932" y="1251"/>
                    </a:lnTo>
                    <a:lnTo>
                      <a:pt x="919" y="1254"/>
                    </a:lnTo>
                    <a:lnTo>
                      <a:pt x="906" y="1257"/>
                    </a:lnTo>
                    <a:lnTo>
                      <a:pt x="894" y="1260"/>
                    </a:lnTo>
                    <a:lnTo>
                      <a:pt x="900" y="1256"/>
                    </a:lnTo>
                    <a:lnTo>
                      <a:pt x="908" y="1254"/>
                    </a:lnTo>
                    <a:lnTo>
                      <a:pt x="917" y="1252"/>
                    </a:lnTo>
                    <a:lnTo>
                      <a:pt x="926" y="1251"/>
                    </a:lnTo>
                    <a:lnTo>
                      <a:pt x="933" y="1247"/>
                    </a:lnTo>
                    <a:lnTo>
                      <a:pt x="940" y="1244"/>
                    </a:lnTo>
                    <a:lnTo>
                      <a:pt x="944" y="1238"/>
                    </a:lnTo>
                    <a:lnTo>
                      <a:pt x="946" y="1231"/>
                    </a:lnTo>
                    <a:lnTo>
                      <a:pt x="940" y="1228"/>
                    </a:lnTo>
                    <a:lnTo>
                      <a:pt x="935" y="1228"/>
                    </a:lnTo>
                    <a:lnTo>
                      <a:pt x="929" y="1229"/>
                    </a:lnTo>
                    <a:lnTo>
                      <a:pt x="924" y="1232"/>
                    </a:lnTo>
                    <a:lnTo>
                      <a:pt x="918" y="1234"/>
                    </a:lnTo>
                    <a:lnTo>
                      <a:pt x="912" y="1237"/>
                    </a:lnTo>
                    <a:lnTo>
                      <a:pt x="905" y="1240"/>
                    </a:lnTo>
                    <a:lnTo>
                      <a:pt x="900" y="1244"/>
                    </a:lnTo>
                    <a:lnTo>
                      <a:pt x="890" y="1244"/>
                    </a:lnTo>
                    <a:lnTo>
                      <a:pt x="880" y="1250"/>
                    </a:lnTo>
                    <a:lnTo>
                      <a:pt x="875" y="1252"/>
                    </a:lnTo>
                    <a:lnTo>
                      <a:pt x="870" y="1255"/>
                    </a:lnTo>
                    <a:lnTo>
                      <a:pt x="864" y="1256"/>
                    </a:lnTo>
                    <a:lnTo>
                      <a:pt x="859" y="1257"/>
                    </a:lnTo>
                    <a:lnTo>
                      <a:pt x="867" y="1251"/>
                    </a:lnTo>
                    <a:lnTo>
                      <a:pt x="875" y="1245"/>
                    </a:lnTo>
                    <a:lnTo>
                      <a:pt x="883" y="1239"/>
                    </a:lnTo>
                    <a:lnTo>
                      <a:pt x="892" y="1234"/>
                    </a:lnTo>
                    <a:lnTo>
                      <a:pt x="901" y="1229"/>
                    </a:lnTo>
                    <a:lnTo>
                      <a:pt x="911" y="1224"/>
                    </a:lnTo>
                    <a:lnTo>
                      <a:pt x="920" y="1219"/>
                    </a:lnTo>
                    <a:lnTo>
                      <a:pt x="930" y="1215"/>
                    </a:lnTo>
                    <a:lnTo>
                      <a:pt x="924" y="1202"/>
                    </a:lnTo>
                    <a:lnTo>
                      <a:pt x="909" y="1207"/>
                    </a:lnTo>
                    <a:lnTo>
                      <a:pt x="895" y="1213"/>
                    </a:lnTo>
                    <a:lnTo>
                      <a:pt x="881" y="1220"/>
                    </a:lnTo>
                    <a:lnTo>
                      <a:pt x="868" y="1229"/>
                    </a:lnTo>
                    <a:lnTo>
                      <a:pt x="854" y="1237"/>
                    </a:lnTo>
                    <a:lnTo>
                      <a:pt x="841" y="1246"/>
                    </a:lnTo>
                    <a:lnTo>
                      <a:pt x="829" y="1254"/>
                    </a:lnTo>
                    <a:lnTo>
                      <a:pt x="816" y="1263"/>
                    </a:lnTo>
                    <a:lnTo>
                      <a:pt x="822" y="1254"/>
                    </a:lnTo>
                    <a:lnTo>
                      <a:pt x="831" y="1245"/>
                    </a:lnTo>
                    <a:lnTo>
                      <a:pt x="840" y="1236"/>
                    </a:lnTo>
                    <a:lnTo>
                      <a:pt x="849" y="1228"/>
                    </a:lnTo>
                    <a:lnTo>
                      <a:pt x="858" y="1219"/>
                    </a:lnTo>
                    <a:lnTo>
                      <a:pt x="868" y="1212"/>
                    </a:lnTo>
                    <a:lnTo>
                      <a:pt x="879" y="1205"/>
                    </a:lnTo>
                    <a:lnTo>
                      <a:pt x="891" y="1198"/>
                    </a:lnTo>
                    <a:lnTo>
                      <a:pt x="896" y="1198"/>
                    </a:lnTo>
                    <a:lnTo>
                      <a:pt x="902" y="1198"/>
                    </a:lnTo>
                    <a:lnTo>
                      <a:pt x="906" y="1196"/>
                    </a:lnTo>
                    <a:lnTo>
                      <a:pt x="911" y="1191"/>
                    </a:lnTo>
                    <a:lnTo>
                      <a:pt x="911" y="1187"/>
                    </a:lnTo>
                    <a:lnTo>
                      <a:pt x="908" y="1185"/>
                    </a:lnTo>
                    <a:lnTo>
                      <a:pt x="905" y="1182"/>
                    </a:lnTo>
                    <a:lnTo>
                      <a:pt x="904" y="1179"/>
                    </a:lnTo>
                    <a:lnTo>
                      <a:pt x="897" y="1179"/>
                    </a:lnTo>
                    <a:lnTo>
                      <a:pt x="905" y="1176"/>
                    </a:lnTo>
                    <a:lnTo>
                      <a:pt x="915" y="1175"/>
                    </a:lnTo>
                    <a:lnTo>
                      <a:pt x="922" y="1175"/>
                    </a:lnTo>
                    <a:lnTo>
                      <a:pt x="929" y="1175"/>
                    </a:lnTo>
                    <a:lnTo>
                      <a:pt x="935" y="1174"/>
                    </a:lnTo>
                    <a:lnTo>
                      <a:pt x="942" y="1174"/>
                    </a:lnTo>
                    <a:lnTo>
                      <a:pt x="948" y="1173"/>
                    </a:lnTo>
                    <a:lnTo>
                      <a:pt x="956" y="1172"/>
                    </a:lnTo>
                    <a:lnTo>
                      <a:pt x="961" y="1180"/>
                    </a:lnTo>
                    <a:lnTo>
                      <a:pt x="967" y="1185"/>
                    </a:lnTo>
                    <a:lnTo>
                      <a:pt x="975" y="1187"/>
                    </a:lnTo>
                    <a:lnTo>
                      <a:pt x="985" y="1185"/>
                    </a:lnTo>
                    <a:lnTo>
                      <a:pt x="985" y="1182"/>
                    </a:lnTo>
                    <a:lnTo>
                      <a:pt x="994" y="1185"/>
                    </a:lnTo>
                    <a:lnTo>
                      <a:pt x="1001" y="1186"/>
                    </a:lnTo>
                    <a:lnTo>
                      <a:pt x="1007" y="1183"/>
                    </a:lnTo>
                    <a:lnTo>
                      <a:pt x="1013" y="1180"/>
                    </a:lnTo>
                    <a:lnTo>
                      <a:pt x="1019" y="1175"/>
                    </a:lnTo>
                    <a:lnTo>
                      <a:pt x="1025" y="1173"/>
                    </a:lnTo>
                    <a:lnTo>
                      <a:pt x="1033" y="1173"/>
                    </a:lnTo>
                    <a:lnTo>
                      <a:pt x="1044" y="1179"/>
                    </a:lnTo>
                    <a:lnTo>
                      <a:pt x="1052" y="1174"/>
                    </a:lnTo>
                    <a:lnTo>
                      <a:pt x="1061" y="1173"/>
                    </a:lnTo>
                    <a:lnTo>
                      <a:pt x="1065" y="1171"/>
                    </a:lnTo>
                    <a:lnTo>
                      <a:pt x="1070" y="1170"/>
                    </a:lnTo>
                    <a:lnTo>
                      <a:pt x="1077" y="1168"/>
                    </a:lnTo>
                    <a:lnTo>
                      <a:pt x="1083" y="1166"/>
                    </a:lnTo>
                    <a:lnTo>
                      <a:pt x="1086" y="1170"/>
                    </a:lnTo>
                    <a:lnTo>
                      <a:pt x="1089" y="1171"/>
                    </a:lnTo>
                    <a:lnTo>
                      <a:pt x="1091" y="1169"/>
                    </a:lnTo>
                    <a:lnTo>
                      <a:pt x="1094" y="1167"/>
                    </a:lnTo>
                    <a:lnTo>
                      <a:pt x="1098" y="1159"/>
                    </a:lnTo>
                    <a:lnTo>
                      <a:pt x="1103" y="1156"/>
                    </a:lnTo>
                    <a:lnTo>
                      <a:pt x="1111" y="1150"/>
                    </a:lnTo>
                    <a:lnTo>
                      <a:pt x="1121" y="1147"/>
                    </a:lnTo>
                    <a:lnTo>
                      <a:pt x="1131" y="1144"/>
                    </a:lnTo>
                    <a:lnTo>
                      <a:pt x="1142" y="1142"/>
                    </a:lnTo>
                    <a:lnTo>
                      <a:pt x="1151" y="1139"/>
                    </a:lnTo>
                    <a:lnTo>
                      <a:pt x="1161" y="1136"/>
                    </a:lnTo>
                    <a:lnTo>
                      <a:pt x="1168" y="1130"/>
                    </a:lnTo>
                    <a:lnTo>
                      <a:pt x="1174" y="1124"/>
                    </a:lnTo>
                    <a:lnTo>
                      <a:pt x="1167" y="1120"/>
                    </a:lnTo>
                    <a:lnTo>
                      <a:pt x="1161" y="1119"/>
                    </a:lnTo>
                    <a:lnTo>
                      <a:pt x="1153" y="1121"/>
                    </a:lnTo>
                    <a:lnTo>
                      <a:pt x="1147" y="1124"/>
                    </a:lnTo>
                    <a:lnTo>
                      <a:pt x="1139" y="1127"/>
                    </a:lnTo>
                    <a:lnTo>
                      <a:pt x="1133" y="1132"/>
                    </a:lnTo>
                    <a:lnTo>
                      <a:pt x="1125" y="1136"/>
                    </a:lnTo>
                    <a:lnTo>
                      <a:pt x="1119" y="1140"/>
                    </a:lnTo>
                    <a:lnTo>
                      <a:pt x="1097" y="1148"/>
                    </a:lnTo>
                    <a:lnTo>
                      <a:pt x="1074" y="1151"/>
                    </a:lnTo>
                    <a:lnTo>
                      <a:pt x="1052" y="1149"/>
                    </a:lnTo>
                    <a:lnTo>
                      <a:pt x="1031" y="1144"/>
                    </a:lnTo>
                    <a:lnTo>
                      <a:pt x="1008" y="1137"/>
                    </a:lnTo>
                    <a:lnTo>
                      <a:pt x="985" y="1131"/>
                    </a:lnTo>
                    <a:lnTo>
                      <a:pt x="963" y="1126"/>
                    </a:lnTo>
                    <a:lnTo>
                      <a:pt x="943" y="1127"/>
                    </a:lnTo>
                    <a:lnTo>
                      <a:pt x="940" y="1124"/>
                    </a:lnTo>
                    <a:lnTo>
                      <a:pt x="933" y="1123"/>
                    </a:lnTo>
                    <a:lnTo>
                      <a:pt x="927" y="1122"/>
                    </a:lnTo>
                    <a:lnTo>
                      <a:pt x="920" y="1119"/>
                    </a:lnTo>
                    <a:lnTo>
                      <a:pt x="914" y="1117"/>
                    </a:lnTo>
                    <a:lnTo>
                      <a:pt x="906" y="1113"/>
                    </a:lnTo>
                    <a:lnTo>
                      <a:pt x="899" y="1108"/>
                    </a:lnTo>
                    <a:lnTo>
                      <a:pt x="893" y="1104"/>
                    </a:lnTo>
                    <a:lnTo>
                      <a:pt x="887" y="1100"/>
                    </a:lnTo>
                    <a:lnTo>
                      <a:pt x="880" y="1095"/>
                    </a:lnTo>
                    <a:lnTo>
                      <a:pt x="874" y="1091"/>
                    </a:lnTo>
                    <a:lnTo>
                      <a:pt x="869" y="1085"/>
                    </a:lnTo>
                    <a:lnTo>
                      <a:pt x="865" y="1078"/>
                    </a:lnTo>
                    <a:lnTo>
                      <a:pt x="853" y="1073"/>
                    </a:lnTo>
                    <a:lnTo>
                      <a:pt x="841" y="1070"/>
                    </a:lnTo>
                    <a:lnTo>
                      <a:pt x="830" y="1067"/>
                    </a:lnTo>
                    <a:lnTo>
                      <a:pt x="819" y="1065"/>
                    </a:lnTo>
                    <a:lnTo>
                      <a:pt x="807" y="1062"/>
                    </a:lnTo>
                    <a:lnTo>
                      <a:pt x="796" y="1059"/>
                    </a:lnTo>
                    <a:lnTo>
                      <a:pt x="785" y="1055"/>
                    </a:lnTo>
                    <a:lnTo>
                      <a:pt x="774" y="1052"/>
                    </a:lnTo>
                    <a:lnTo>
                      <a:pt x="774" y="1049"/>
                    </a:lnTo>
                    <a:lnTo>
                      <a:pt x="781" y="1048"/>
                    </a:lnTo>
                    <a:lnTo>
                      <a:pt x="787" y="1043"/>
                    </a:lnTo>
                    <a:lnTo>
                      <a:pt x="780" y="1033"/>
                    </a:lnTo>
                    <a:lnTo>
                      <a:pt x="774" y="1027"/>
                    </a:lnTo>
                    <a:lnTo>
                      <a:pt x="765" y="1026"/>
                    </a:lnTo>
                    <a:lnTo>
                      <a:pt x="756" y="1026"/>
                    </a:lnTo>
                    <a:lnTo>
                      <a:pt x="748" y="1024"/>
                    </a:lnTo>
                    <a:lnTo>
                      <a:pt x="739" y="1021"/>
                    </a:lnTo>
                    <a:lnTo>
                      <a:pt x="730" y="1018"/>
                    </a:lnTo>
                    <a:lnTo>
                      <a:pt x="721" y="1015"/>
                    </a:lnTo>
                    <a:lnTo>
                      <a:pt x="713" y="1012"/>
                    </a:lnTo>
                    <a:lnTo>
                      <a:pt x="705" y="1010"/>
                    </a:lnTo>
                    <a:lnTo>
                      <a:pt x="707" y="1009"/>
                    </a:lnTo>
                    <a:lnTo>
                      <a:pt x="712" y="1009"/>
                    </a:lnTo>
                    <a:lnTo>
                      <a:pt x="717" y="1009"/>
                    </a:lnTo>
                    <a:lnTo>
                      <a:pt x="723" y="1010"/>
                    </a:lnTo>
                    <a:lnTo>
                      <a:pt x="727" y="1009"/>
                    </a:lnTo>
                    <a:lnTo>
                      <a:pt x="731" y="1008"/>
                    </a:lnTo>
                    <a:lnTo>
                      <a:pt x="734" y="1005"/>
                    </a:lnTo>
                    <a:lnTo>
                      <a:pt x="734" y="1000"/>
                    </a:lnTo>
                    <a:lnTo>
                      <a:pt x="728" y="994"/>
                    </a:lnTo>
                    <a:lnTo>
                      <a:pt x="734" y="989"/>
                    </a:lnTo>
                    <a:lnTo>
                      <a:pt x="740" y="988"/>
                    </a:lnTo>
                    <a:lnTo>
                      <a:pt x="747" y="989"/>
                    </a:lnTo>
                    <a:lnTo>
                      <a:pt x="754" y="991"/>
                    </a:lnTo>
                    <a:lnTo>
                      <a:pt x="758" y="991"/>
                    </a:lnTo>
                    <a:lnTo>
                      <a:pt x="763" y="990"/>
                    </a:lnTo>
                    <a:lnTo>
                      <a:pt x="765" y="986"/>
                    </a:lnTo>
                    <a:lnTo>
                      <a:pt x="767" y="977"/>
                    </a:lnTo>
                    <a:lnTo>
                      <a:pt x="761" y="974"/>
                    </a:lnTo>
                    <a:lnTo>
                      <a:pt x="769" y="974"/>
                    </a:lnTo>
                    <a:lnTo>
                      <a:pt x="774" y="968"/>
                    </a:lnTo>
                    <a:lnTo>
                      <a:pt x="773" y="963"/>
                    </a:lnTo>
                    <a:lnTo>
                      <a:pt x="771" y="960"/>
                    </a:lnTo>
                    <a:lnTo>
                      <a:pt x="768" y="957"/>
                    </a:lnTo>
                    <a:lnTo>
                      <a:pt x="767" y="955"/>
                    </a:lnTo>
                    <a:lnTo>
                      <a:pt x="758" y="956"/>
                    </a:lnTo>
                    <a:lnTo>
                      <a:pt x="750" y="957"/>
                    </a:lnTo>
                    <a:lnTo>
                      <a:pt x="740" y="957"/>
                    </a:lnTo>
                    <a:lnTo>
                      <a:pt x="733" y="958"/>
                    </a:lnTo>
                    <a:lnTo>
                      <a:pt x="724" y="958"/>
                    </a:lnTo>
                    <a:lnTo>
                      <a:pt x="717" y="960"/>
                    </a:lnTo>
                    <a:lnTo>
                      <a:pt x="711" y="963"/>
                    </a:lnTo>
                    <a:lnTo>
                      <a:pt x="705" y="968"/>
                    </a:lnTo>
                    <a:lnTo>
                      <a:pt x="692" y="968"/>
                    </a:lnTo>
                    <a:lnTo>
                      <a:pt x="678" y="971"/>
                    </a:lnTo>
                    <a:lnTo>
                      <a:pt x="663" y="974"/>
                    </a:lnTo>
                    <a:lnTo>
                      <a:pt x="647" y="978"/>
                    </a:lnTo>
                    <a:lnTo>
                      <a:pt x="630" y="981"/>
                    </a:lnTo>
                    <a:lnTo>
                      <a:pt x="615" y="984"/>
                    </a:lnTo>
                    <a:lnTo>
                      <a:pt x="599" y="984"/>
                    </a:lnTo>
                    <a:lnTo>
                      <a:pt x="585" y="984"/>
                    </a:lnTo>
                    <a:lnTo>
                      <a:pt x="582" y="988"/>
                    </a:lnTo>
                    <a:lnTo>
                      <a:pt x="582" y="994"/>
                    </a:lnTo>
                    <a:lnTo>
                      <a:pt x="602" y="1003"/>
                    </a:lnTo>
                    <a:lnTo>
                      <a:pt x="596" y="1005"/>
                    </a:lnTo>
                    <a:lnTo>
                      <a:pt x="590" y="1006"/>
                    </a:lnTo>
                    <a:lnTo>
                      <a:pt x="584" y="1005"/>
                    </a:lnTo>
                    <a:lnTo>
                      <a:pt x="580" y="1005"/>
                    </a:lnTo>
                    <a:lnTo>
                      <a:pt x="573" y="1003"/>
                    </a:lnTo>
                    <a:lnTo>
                      <a:pt x="571" y="1005"/>
                    </a:lnTo>
                    <a:lnTo>
                      <a:pt x="570" y="1009"/>
                    </a:lnTo>
                    <a:lnTo>
                      <a:pt x="572" y="1019"/>
                    </a:lnTo>
                    <a:lnTo>
                      <a:pt x="564" y="1019"/>
                    </a:lnTo>
                    <a:lnTo>
                      <a:pt x="559" y="1022"/>
                    </a:lnTo>
                    <a:lnTo>
                      <a:pt x="559" y="1027"/>
                    </a:lnTo>
                    <a:lnTo>
                      <a:pt x="535" y="1028"/>
                    </a:lnTo>
                    <a:lnTo>
                      <a:pt x="511" y="1033"/>
                    </a:lnTo>
                    <a:lnTo>
                      <a:pt x="486" y="1037"/>
                    </a:lnTo>
                    <a:lnTo>
                      <a:pt x="463" y="1042"/>
                    </a:lnTo>
                    <a:lnTo>
                      <a:pt x="439" y="1045"/>
                    </a:lnTo>
                    <a:lnTo>
                      <a:pt x="417" y="1046"/>
                    </a:lnTo>
                    <a:lnTo>
                      <a:pt x="393" y="1044"/>
                    </a:lnTo>
                    <a:lnTo>
                      <a:pt x="373" y="1039"/>
                    </a:lnTo>
                    <a:lnTo>
                      <a:pt x="364" y="1036"/>
                    </a:lnTo>
                    <a:lnTo>
                      <a:pt x="357" y="1036"/>
                    </a:lnTo>
                    <a:lnTo>
                      <a:pt x="350" y="1036"/>
                    </a:lnTo>
                    <a:lnTo>
                      <a:pt x="343" y="1036"/>
                    </a:lnTo>
                    <a:lnTo>
                      <a:pt x="335" y="1035"/>
                    </a:lnTo>
                    <a:lnTo>
                      <a:pt x="326" y="1035"/>
                    </a:lnTo>
                    <a:lnTo>
                      <a:pt x="317" y="1034"/>
                    </a:lnTo>
                    <a:lnTo>
                      <a:pt x="308" y="1033"/>
                    </a:lnTo>
                    <a:lnTo>
                      <a:pt x="299" y="1043"/>
                    </a:lnTo>
                    <a:lnTo>
                      <a:pt x="300" y="1047"/>
                    </a:lnTo>
                    <a:lnTo>
                      <a:pt x="305" y="1050"/>
                    </a:lnTo>
                    <a:lnTo>
                      <a:pt x="310" y="1050"/>
                    </a:lnTo>
                    <a:lnTo>
                      <a:pt x="315" y="1046"/>
                    </a:lnTo>
                    <a:lnTo>
                      <a:pt x="324" y="1047"/>
                    </a:lnTo>
                    <a:lnTo>
                      <a:pt x="335" y="1048"/>
                    </a:lnTo>
                    <a:lnTo>
                      <a:pt x="344" y="1048"/>
                    </a:lnTo>
                    <a:lnTo>
                      <a:pt x="354" y="1049"/>
                    </a:lnTo>
                    <a:lnTo>
                      <a:pt x="363" y="1049"/>
                    </a:lnTo>
                    <a:lnTo>
                      <a:pt x="372" y="1049"/>
                    </a:lnTo>
                    <a:lnTo>
                      <a:pt x="381" y="1049"/>
                    </a:lnTo>
                    <a:lnTo>
                      <a:pt x="393" y="1052"/>
                    </a:lnTo>
                    <a:lnTo>
                      <a:pt x="388" y="1057"/>
                    </a:lnTo>
                    <a:lnTo>
                      <a:pt x="386" y="1065"/>
                    </a:lnTo>
                    <a:lnTo>
                      <a:pt x="380" y="1065"/>
                    </a:lnTo>
                    <a:lnTo>
                      <a:pt x="378" y="1066"/>
                    </a:lnTo>
                    <a:lnTo>
                      <a:pt x="378" y="1065"/>
                    </a:lnTo>
                    <a:lnTo>
                      <a:pt x="377" y="1061"/>
                    </a:lnTo>
                    <a:lnTo>
                      <a:pt x="377" y="1059"/>
                    </a:lnTo>
                    <a:lnTo>
                      <a:pt x="358" y="1058"/>
                    </a:lnTo>
                    <a:lnTo>
                      <a:pt x="341" y="1057"/>
                    </a:lnTo>
                    <a:lnTo>
                      <a:pt x="323" y="1056"/>
                    </a:lnTo>
                    <a:lnTo>
                      <a:pt x="308" y="1056"/>
                    </a:lnTo>
                    <a:lnTo>
                      <a:pt x="292" y="1056"/>
                    </a:lnTo>
                    <a:lnTo>
                      <a:pt x="276" y="1058"/>
                    </a:lnTo>
                    <a:lnTo>
                      <a:pt x="260" y="1061"/>
                    </a:lnTo>
                    <a:lnTo>
                      <a:pt x="243" y="1068"/>
                    </a:lnTo>
                    <a:lnTo>
                      <a:pt x="249" y="1071"/>
                    </a:lnTo>
                    <a:lnTo>
                      <a:pt x="256" y="1073"/>
                    </a:lnTo>
                    <a:lnTo>
                      <a:pt x="264" y="1072"/>
                    </a:lnTo>
                    <a:lnTo>
                      <a:pt x="274" y="1072"/>
                    </a:lnTo>
                    <a:lnTo>
                      <a:pt x="283" y="1070"/>
                    </a:lnTo>
                    <a:lnTo>
                      <a:pt x="292" y="1069"/>
                    </a:lnTo>
                    <a:lnTo>
                      <a:pt x="301" y="1068"/>
                    </a:lnTo>
                    <a:lnTo>
                      <a:pt x="311" y="1068"/>
                    </a:lnTo>
                    <a:lnTo>
                      <a:pt x="317" y="1069"/>
                    </a:lnTo>
                    <a:lnTo>
                      <a:pt x="324" y="1070"/>
                    </a:lnTo>
                    <a:lnTo>
                      <a:pt x="332" y="1071"/>
                    </a:lnTo>
                    <a:lnTo>
                      <a:pt x="341" y="1073"/>
                    </a:lnTo>
                    <a:lnTo>
                      <a:pt x="350" y="1073"/>
                    </a:lnTo>
                    <a:lnTo>
                      <a:pt x="359" y="1074"/>
                    </a:lnTo>
                    <a:lnTo>
                      <a:pt x="368" y="1074"/>
                    </a:lnTo>
                    <a:lnTo>
                      <a:pt x="377" y="1075"/>
                    </a:lnTo>
                    <a:lnTo>
                      <a:pt x="370" y="1074"/>
                    </a:lnTo>
                    <a:lnTo>
                      <a:pt x="364" y="1074"/>
                    </a:lnTo>
                    <a:lnTo>
                      <a:pt x="357" y="1074"/>
                    </a:lnTo>
                    <a:lnTo>
                      <a:pt x="351" y="1074"/>
                    </a:lnTo>
                    <a:lnTo>
                      <a:pt x="345" y="1074"/>
                    </a:lnTo>
                    <a:lnTo>
                      <a:pt x="341" y="1077"/>
                    </a:lnTo>
                    <a:lnTo>
                      <a:pt x="339" y="1082"/>
                    </a:lnTo>
                    <a:lnTo>
                      <a:pt x="341" y="1091"/>
                    </a:lnTo>
                    <a:lnTo>
                      <a:pt x="332" y="1089"/>
                    </a:lnTo>
                    <a:lnTo>
                      <a:pt x="323" y="1088"/>
                    </a:lnTo>
                    <a:lnTo>
                      <a:pt x="313" y="1087"/>
                    </a:lnTo>
                    <a:lnTo>
                      <a:pt x="304" y="1087"/>
                    </a:lnTo>
                    <a:lnTo>
                      <a:pt x="293" y="1085"/>
                    </a:lnTo>
                    <a:lnTo>
                      <a:pt x="283" y="1084"/>
                    </a:lnTo>
                    <a:lnTo>
                      <a:pt x="272" y="1082"/>
                    </a:lnTo>
                    <a:lnTo>
                      <a:pt x="263" y="1081"/>
                    </a:lnTo>
                    <a:lnTo>
                      <a:pt x="255" y="1079"/>
                    </a:lnTo>
                    <a:lnTo>
                      <a:pt x="249" y="1079"/>
                    </a:lnTo>
                    <a:lnTo>
                      <a:pt x="242" y="1079"/>
                    </a:lnTo>
                    <a:lnTo>
                      <a:pt x="236" y="1081"/>
                    </a:lnTo>
                    <a:lnTo>
                      <a:pt x="230" y="1081"/>
                    </a:lnTo>
                    <a:lnTo>
                      <a:pt x="225" y="1081"/>
                    </a:lnTo>
                    <a:lnTo>
                      <a:pt x="219" y="1080"/>
                    </a:lnTo>
                    <a:lnTo>
                      <a:pt x="214" y="1078"/>
                    </a:lnTo>
                    <a:lnTo>
                      <a:pt x="210" y="1081"/>
                    </a:lnTo>
                    <a:lnTo>
                      <a:pt x="211" y="1088"/>
                    </a:lnTo>
                    <a:lnTo>
                      <a:pt x="226" y="1090"/>
                    </a:lnTo>
                    <a:lnTo>
                      <a:pt x="241" y="1092"/>
                    </a:lnTo>
                    <a:lnTo>
                      <a:pt x="257" y="1093"/>
                    </a:lnTo>
                    <a:lnTo>
                      <a:pt x="272" y="1095"/>
                    </a:lnTo>
                    <a:lnTo>
                      <a:pt x="285" y="1095"/>
                    </a:lnTo>
                    <a:lnTo>
                      <a:pt x="299" y="1096"/>
                    </a:lnTo>
                    <a:lnTo>
                      <a:pt x="313" y="1097"/>
                    </a:lnTo>
                    <a:lnTo>
                      <a:pt x="327" y="1100"/>
                    </a:lnTo>
                    <a:lnTo>
                      <a:pt x="327" y="1107"/>
                    </a:lnTo>
                    <a:lnTo>
                      <a:pt x="319" y="1104"/>
                    </a:lnTo>
                    <a:lnTo>
                      <a:pt x="313" y="1101"/>
                    </a:lnTo>
                    <a:lnTo>
                      <a:pt x="305" y="1100"/>
                    </a:lnTo>
                    <a:lnTo>
                      <a:pt x="299" y="1104"/>
                    </a:lnTo>
                    <a:lnTo>
                      <a:pt x="297" y="1108"/>
                    </a:lnTo>
                    <a:lnTo>
                      <a:pt x="299" y="1114"/>
                    </a:lnTo>
                    <a:lnTo>
                      <a:pt x="292" y="1110"/>
                    </a:lnTo>
                    <a:lnTo>
                      <a:pt x="287" y="1107"/>
                    </a:lnTo>
                    <a:lnTo>
                      <a:pt x="282" y="1105"/>
                    </a:lnTo>
                    <a:lnTo>
                      <a:pt x="276" y="1107"/>
                    </a:lnTo>
                    <a:lnTo>
                      <a:pt x="274" y="1114"/>
                    </a:lnTo>
                    <a:lnTo>
                      <a:pt x="270" y="1117"/>
                    </a:lnTo>
                    <a:lnTo>
                      <a:pt x="263" y="1120"/>
                    </a:lnTo>
                    <a:lnTo>
                      <a:pt x="260" y="1127"/>
                    </a:lnTo>
                    <a:lnTo>
                      <a:pt x="251" y="1127"/>
                    </a:lnTo>
                    <a:lnTo>
                      <a:pt x="241" y="1127"/>
                    </a:lnTo>
                    <a:lnTo>
                      <a:pt x="232" y="1125"/>
                    </a:lnTo>
                    <a:lnTo>
                      <a:pt x="223" y="1124"/>
                    </a:lnTo>
                    <a:lnTo>
                      <a:pt x="213" y="1122"/>
                    </a:lnTo>
                    <a:lnTo>
                      <a:pt x="204" y="1120"/>
                    </a:lnTo>
                    <a:lnTo>
                      <a:pt x="194" y="1118"/>
                    </a:lnTo>
                    <a:lnTo>
                      <a:pt x="185" y="1118"/>
                    </a:lnTo>
                    <a:lnTo>
                      <a:pt x="185" y="1127"/>
                    </a:lnTo>
                    <a:lnTo>
                      <a:pt x="175" y="1124"/>
                    </a:lnTo>
                    <a:lnTo>
                      <a:pt x="166" y="1124"/>
                    </a:lnTo>
                    <a:lnTo>
                      <a:pt x="164" y="1130"/>
                    </a:lnTo>
                    <a:lnTo>
                      <a:pt x="166" y="1134"/>
                    </a:lnTo>
                    <a:lnTo>
                      <a:pt x="171" y="1137"/>
                    </a:lnTo>
                    <a:lnTo>
                      <a:pt x="179" y="1139"/>
                    </a:lnTo>
                    <a:lnTo>
                      <a:pt x="186" y="1140"/>
                    </a:lnTo>
                    <a:lnTo>
                      <a:pt x="193" y="1142"/>
                    </a:lnTo>
                    <a:lnTo>
                      <a:pt x="198" y="1144"/>
                    </a:lnTo>
                    <a:lnTo>
                      <a:pt x="201" y="1150"/>
                    </a:lnTo>
                    <a:lnTo>
                      <a:pt x="196" y="1152"/>
                    </a:lnTo>
                    <a:lnTo>
                      <a:pt x="196" y="1156"/>
                    </a:lnTo>
                    <a:lnTo>
                      <a:pt x="198" y="1159"/>
                    </a:lnTo>
                    <a:lnTo>
                      <a:pt x="201" y="1162"/>
                    </a:lnTo>
                    <a:lnTo>
                      <a:pt x="195" y="1158"/>
                    </a:lnTo>
                    <a:lnTo>
                      <a:pt x="189" y="1158"/>
                    </a:lnTo>
                    <a:lnTo>
                      <a:pt x="183" y="1158"/>
                    </a:lnTo>
                    <a:lnTo>
                      <a:pt x="178" y="1161"/>
                    </a:lnTo>
                    <a:lnTo>
                      <a:pt x="172" y="1162"/>
                    </a:lnTo>
                    <a:lnTo>
                      <a:pt x="166" y="1165"/>
                    </a:lnTo>
                    <a:lnTo>
                      <a:pt x="159" y="1167"/>
                    </a:lnTo>
                    <a:lnTo>
                      <a:pt x="155" y="1169"/>
                    </a:lnTo>
                    <a:lnTo>
                      <a:pt x="120" y="1172"/>
                    </a:lnTo>
                    <a:lnTo>
                      <a:pt x="120" y="1175"/>
                    </a:lnTo>
                    <a:lnTo>
                      <a:pt x="113" y="1175"/>
                    </a:lnTo>
                    <a:lnTo>
                      <a:pt x="113" y="1167"/>
                    </a:lnTo>
                    <a:lnTo>
                      <a:pt x="108" y="1162"/>
                    </a:lnTo>
                    <a:lnTo>
                      <a:pt x="100" y="1159"/>
                    </a:lnTo>
                    <a:lnTo>
                      <a:pt x="94" y="1156"/>
                    </a:lnTo>
                    <a:lnTo>
                      <a:pt x="88" y="1158"/>
                    </a:lnTo>
                    <a:lnTo>
                      <a:pt x="81" y="1154"/>
                    </a:lnTo>
                    <a:lnTo>
                      <a:pt x="76" y="1151"/>
                    </a:lnTo>
                    <a:lnTo>
                      <a:pt x="72" y="1151"/>
                    </a:lnTo>
                    <a:lnTo>
                      <a:pt x="69" y="1153"/>
                    </a:lnTo>
                    <a:lnTo>
                      <a:pt x="67" y="1159"/>
                    </a:lnTo>
                    <a:lnTo>
                      <a:pt x="67" y="1154"/>
                    </a:lnTo>
                    <a:lnTo>
                      <a:pt x="67" y="1147"/>
                    </a:lnTo>
                    <a:lnTo>
                      <a:pt x="64" y="1139"/>
                    </a:lnTo>
                    <a:lnTo>
                      <a:pt x="58" y="1134"/>
                    </a:lnTo>
                    <a:lnTo>
                      <a:pt x="52" y="1130"/>
                    </a:lnTo>
                    <a:lnTo>
                      <a:pt x="46" y="1129"/>
                    </a:lnTo>
                    <a:lnTo>
                      <a:pt x="40" y="1127"/>
                    </a:lnTo>
                    <a:lnTo>
                      <a:pt x="35" y="1127"/>
                    </a:lnTo>
                    <a:lnTo>
                      <a:pt x="29" y="1126"/>
                    </a:lnTo>
                    <a:lnTo>
                      <a:pt x="23" y="1126"/>
                    </a:lnTo>
                    <a:lnTo>
                      <a:pt x="17" y="1125"/>
                    </a:lnTo>
                    <a:lnTo>
                      <a:pt x="13" y="1124"/>
                    </a:lnTo>
                    <a:lnTo>
                      <a:pt x="3" y="1114"/>
                    </a:lnTo>
                    <a:lnTo>
                      <a:pt x="0" y="1114"/>
                    </a:lnTo>
                    <a:lnTo>
                      <a:pt x="0" y="1101"/>
                    </a:lnTo>
                    <a:lnTo>
                      <a:pt x="3" y="1089"/>
                    </a:lnTo>
                    <a:lnTo>
                      <a:pt x="5" y="1077"/>
                    </a:lnTo>
                    <a:lnTo>
                      <a:pt x="9" y="1066"/>
                    </a:lnTo>
                    <a:lnTo>
                      <a:pt x="12" y="1054"/>
                    </a:lnTo>
                    <a:lnTo>
                      <a:pt x="16" y="1043"/>
                    </a:lnTo>
                    <a:lnTo>
                      <a:pt x="20" y="1031"/>
                    </a:lnTo>
                    <a:lnTo>
                      <a:pt x="26" y="1019"/>
                    </a:lnTo>
                    <a:lnTo>
                      <a:pt x="36" y="1004"/>
                    </a:lnTo>
                    <a:lnTo>
                      <a:pt x="48" y="989"/>
                    </a:lnTo>
                    <a:lnTo>
                      <a:pt x="60" y="974"/>
                    </a:lnTo>
                    <a:lnTo>
                      <a:pt x="74" y="960"/>
                    </a:lnTo>
                    <a:lnTo>
                      <a:pt x="87" y="944"/>
                    </a:lnTo>
                    <a:lnTo>
                      <a:pt x="100" y="928"/>
                    </a:lnTo>
                    <a:lnTo>
                      <a:pt x="113" y="912"/>
                    </a:lnTo>
                    <a:lnTo>
                      <a:pt x="126" y="896"/>
                    </a:lnTo>
                    <a:lnTo>
                      <a:pt x="132" y="882"/>
                    </a:lnTo>
                    <a:lnTo>
                      <a:pt x="133" y="868"/>
                    </a:lnTo>
                    <a:lnTo>
                      <a:pt x="131" y="854"/>
                    </a:lnTo>
                    <a:lnTo>
                      <a:pt x="129" y="840"/>
                    </a:lnTo>
                    <a:lnTo>
                      <a:pt x="126" y="826"/>
                    </a:lnTo>
                    <a:lnTo>
                      <a:pt x="126" y="814"/>
                    </a:lnTo>
                    <a:lnTo>
                      <a:pt x="131" y="802"/>
                    </a:lnTo>
                    <a:lnTo>
                      <a:pt x="142" y="792"/>
                    </a:lnTo>
                    <a:lnTo>
                      <a:pt x="147" y="788"/>
                    </a:lnTo>
                    <a:lnTo>
                      <a:pt x="154" y="787"/>
                    </a:lnTo>
                    <a:lnTo>
                      <a:pt x="161" y="788"/>
                    </a:lnTo>
                    <a:lnTo>
                      <a:pt x="171" y="790"/>
                    </a:lnTo>
                    <a:lnTo>
                      <a:pt x="178" y="791"/>
                    </a:lnTo>
                    <a:lnTo>
                      <a:pt x="186" y="791"/>
                    </a:lnTo>
                    <a:lnTo>
                      <a:pt x="192" y="787"/>
                    </a:lnTo>
                    <a:lnTo>
                      <a:pt x="198" y="780"/>
                    </a:lnTo>
                    <a:lnTo>
                      <a:pt x="202" y="776"/>
                    </a:lnTo>
                    <a:lnTo>
                      <a:pt x="206" y="771"/>
                    </a:lnTo>
                    <a:lnTo>
                      <a:pt x="209" y="765"/>
                    </a:lnTo>
                    <a:lnTo>
                      <a:pt x="212" y="758"/>
                    </a:lnTo>
                    <a:lnTo>
                      <a:pt x="213" y="751"/>
                    </a:lnTo>
                    <a:lnTo>
                      <a:pt x="216" y="744"/>
                    </a:lnTo>
                    <a:lnTo>
                      <a:pt x="219" y="738"/>
                    </a:lnTo>
                    <a:lnTo>
                      <a:pt x="224" y="734"/>
                    </a:lnTo>
                    <a:lnTo>
                      <a:pt x="224" y="737"/>
                    </a:lnTo>
                    <a:lnTo>
                      <a:pt x="231" y="722"/>
                    </a:lnTo>
                    <a:lnTo>
                      <a:pt x="240" y="709"/>
                    </a:lnTo>
                    <a:lnTo>
                      <a:pt x="251" y="697"/>
                    </a:lnTo>
                    <a:lnTo>
                      <a:pt x="262" y="687"/>
                    </a:lnTo>
                    <a:lnTo>
                      <a:pt x="272" y="676"/>
                    </a:lnTo>
                    <a:lnTo>
                      <a:pt x="283" y="666"/>
                    </a:lnTo>
                    <a:lnTo>
                      <a:pt x="294" y="657"/>
                    </a:lnTo>
                    <a:lnTo>
                      <a:pt x="305" y="649"/>
                    </a:lnTo>
                    <a:lnTo>
                      <a:pt x="318" y="634"/>
                    </a:lnTo>
                    <a:lnTo>
                      <a:pt x="335" y="623"/>
                    </a:lnTo>
                    <a:lnTo>
                      <a:pt x="351" y="613"/>
                    </a:lnTo>
                    <a:lnTo>
                      <a:pt x="369" y="606"/>
                    </a:lnTo>
                    <a:lnTo>
                      <a:pt x="385" y="598"/>
                    </a:lnTo>
                    <a:lnTo>
                      <a:pt x="402" y="591"/>
                    </a:lnTo>
                    <a:lnTo>
                      <a:pt x="418" y="583"/>
                    </a:lnTo>
                    <a:lnTo>
                      <a:pt x="432" y="574"/>
                    </a:lnTo>
                    <a:lnTo>
                      <a:pt x="437" y="571"/>
                    </a:lnTo>
                    <a:lnTo>
                      <a:pt x="442" y="570"/>
                    </a:lnTo>
                    <a:lnTo>
                      <a:pt x="446" y="568"/>
                    </a:lnTo>
                    <a:lnTo>
                      <a:pt x="451" y="567"/>
                    </a:lnTo>
                    <a:lnTo>
                      <a:pt x="458" y="564"/>
                    </a:lnTo>
                    <a:lnTo>
                      <a:pt x="468" y="561"/>
                    </a:lnTo>
                    <a:lnTo>
                      <a:pt x="473" y="565"/>
                    </a:lnTo>
                    <a:lnTo>
                      <a:pt x="479" y="569"/>
                    </a:lnTo>
                    <a:lnTo>
                      <a:pt x="483" y="568"/>
                    </a:lnTo>
                    <a:lnTo>
                      <a:pt x="490" y="565"/>
                    </a:lnTo>
                    <a:lnTo>
                      <a:pt x="493" y="560"/>
                    </a:lnTo>
                    <a:lnTo>
                      <a:pt x="500" y="554"/>
                    </a:lnTo>
                    <a:lnTo>
                      <a:pt x="507" y="549"/>
                    </a:lnTo>
                    <a:lnTo>
                      <a:pt x="517" y="549"/>
                    </a:lnTo>
                    <a:lnTo>
                      <a:pt x="518" y="551"/>
                    </a:lnTo>
                    <a:lnTo>
                      <a:pt x="523" y="552"/>
                    </a:lnTo>
                    <a:lnTo>
                      <a:pt x="531" y="551"/>
                    </a:lnTo>
                    <a:lnTo>
                      <a:pt x="539" y="551"/>
                    </a:lnTo>
                    <a:lnTo>
                      <a:pt x="546" y="550"/>
                    </a:lnTo>
                    <a:lnTo>
                      <a:pt x="554" y="550"/>
                    </a:lnTo>
                    <a:lnTo>
                      <a:pt x="561" y="550"/>
                    </a:lnTo>
                    <a:lnTo>
                      <a:pt x="568" y="550"/>
                    </a:lnTo>
                    <a:lnTo>
                      <a:pt x="574" y="550"/>
                    </a:lnTo>
                    <a:lnTo>
                      <a:pt x="582" y="552"/>
                    </a:lnTo>
                    <a:lnTo>
                      <a:pt x="590" y="549"/>
                    </a:lnTo>
                    <a:lnTo>
                      <a:pt x="599" y="546"/>
                    </a:lnTo>
                    <a:lnTo>
                      <a:pt x="608" y="544"/>
                    </a:lnTo>
                    <a:lnTo>
                      <a:pt x="618" y="543"/>
                    </a:lnTo>
                    <a:lnTo>
                      <a:pt x="627" y="542"/>
                    </a:lnTo>
                    <a:lnTo>
                      <a:pt x="637" y="542"/>
                    </a:lnTo>
                    <a:lnTo>
                      <a:pt x="647" y="542"/>
                    </a:lnTo>
                    <a:lnTo>
                      <a:pt x="659" y="545"/>
                    </a:lnTo>
                    <a:lnTo>
                      <a:pt x="656" y="548"/>
                    </a:lnTo>
                    <a:lnTo>
                      <a:pt x="659" y="552"/>
                    </a:lnTo>
                    <a:lnTo>
                      <a:pt x="668" y="554"/>
                    </a:lnTo>
                    <a:lnTo>
                      <a:pt x="678" y="550"/>
                    </a:lnTo>
                    <a:lnTo>
                      <a:pt x="687" y="545"/>
                    </a:lnTo>
                    <a:lnTo>
                      <a:pt x="696" y="545"/>
                    </a:lnTo>
                    <a:lnTo>
                      <a:pt x="702" y="541"/>
                    </a:lnTo>
                    <a:lnTo>
                      <a:pt x="708" y="538"/>
                    </a:lnTo>
                    <a:lnTo>
                      <a:pt x="714" y="535"/>
                    </a:lnTo>
                    <a:lnTo>
                      <a:pt x="721" y="533"/>
                    </a:lnTo>
                    <a:lnTo>
                      <a:pt x="726" y="530"/>
                    </a:lnTo>
                    <a:lnTo>
                      <a:pt x="732" y="529"/>
                    </a:lnTo>
                    <a:lnTo>
                      <a:pt x="738" y="529"/>
                    </a:lnTo>
                    <a:lnTo>
                      <a:pt x="745" y="529"/>
                    </a:lnTo>
                    <a:lnTo>
                      <a:pt x="752" y="521"/>
                    </a:lnTo>
                    <a:lnTo>
                      <a:pt x="761" y="515"/>
                    </a:lnTo>
                    <a:lnTo>
                      <a:pt x="770" y="509"/>
                    </a:lnTo>
                    <a:lnTo>
                      <a:pt x="780" y="504"/>
                    </a:lnTo>
                    <a:lnTo>
                      <a:pt x="788" y="497"/>
                    </a:lnTo>
                    <a:lnTo>
                      <a:pt x="797" y="490"/>
                    </a:lnTo>
                    <a:lnTo>
                      <a:pt x="803" y="481"/>
                    </a:lnTo>
                    <a:lnTo>
                      <a:pt x="809" y="471"/>
                    </a:lnTo>
                    <a:lnTo>
                      <a:pt x="814" y="463"/>
                    </a:lnTo>
                    <a:lnTo>
                      <a:pt x="823" y="455"/>
                    </a:lnTo>
                    <a:lnTo>
                      <a:pt x="828" y="450"/>
                    </a:lnTo>
                    <a:lnTo>
                      <a:pt x="834" y="447"/>
                    </a:lnTo>
                    <a:lnTo>
                      <a:pt x="840" y="444"/>
                    </a:lnTo>
                    <a:lnTo>
                      <a:pt x="846" y="442"/>
                    </a:lnTo>
                    <a:lnTo>
                      <a:pt x="844" y="435"/>
                    </a:lnTo>
                    <a:lnTo>
                      <a:pt x="846" y="432"/>
                    </a:lnTo>
                    <a:lnTo>
                      <a:pt x="839" y="427"/>
                    </a:lnTo>
                    <a:lnTo>
                      <a:pt x="833" y="426"/>
                    </a:lnTo>
                    <a:lnTo>
                      <a:pt x="825" y="427"/>
                    </a:lnTo>
                    <a:lnTo>
                      <a:pt x="819" y="430"/>
                    </a:lnTo>
                    <a:lnTo>
                      <a:pt x="812" y="433"/>
                    </a:lnTo>
                    <a:lnTo>
                      <a:pt x="805" y="436"/>
                    </a:lnTo>
                    <a:lnTo>
                      <a:pt x="797" y="438"/>
                    </a:lnTo>
                    <a:lnTo>
                      <a:pt x="790" y="438"/>
                    </a:lnTo>
                    <a:lnTo>
                      <a:pt x="785" y="445"/>
                    </a:lnTo>
                    <a:lnTo>
                      <a:pt x="780" y="452"/>
                    </a:lnTo>
                    <a:lnTo>
                      <a:pt x="774" y="458"/>
                    </a:lnTo>
                    <a:lnTo>
                      <a:pt x="768" y="464"/>
                    </a:lnTo>
                    <a:lnTo>
                      <a:pt x="761" y="468"/>
                    </a:lnTo>
                    <a:lnTo>
                      <a:pt x="754" y="473"/>
                    </a:lnTo>
                    <a:lnTo>
                      <a:pt x="748" y="476"/>
                    </a:lnTo>
                    <a:lnTo>
                      <a:pt x="741" y="480"/>
                    </a:lnTo>
                    <a:lnTo>
                      <a:pt x="743" y="468"/>
                    </a:lnTo>
                    <a:lnTo>
                      <a:pt x="749" y="459"/>
                    </a:lnTo>
                    <a:lnTo>
                      <a:pt x="756" y="451"/>
                    </a:lnTo>
                    <a:lnTo>
                      <a:pt x="765" y="445"/>
                    </a:lnTo>
                    <a:lnTo>
                      <a:pt x="773" y="438"/>
                    </a:lnTo>
                    <a:lnTo>
                      <a:pt x="781" y="432"/>
                    </a:lnTo>
                    <a:lnTo>
                      <a:pt x="787" y="424"/>
                    </a:lnTo>
                    <a:lnTo>
                      <a:pt x="793" y="416"/>
                    </a:lnTo>
                    <a:lnTo>
                      <a:pt x="808" y="411"/>
                    </a:lnTo>
                    <a:lnTo>
                      <a:pt x="821" y="402"/>
                    </a:lnTo>
                    <a:lnTo>
                      <a:pt x="833" y="392"/>
                    </a:lnTo>
                    <a:lnTo>
                      <a:pt x="844" y="381"/>
                    </a:lnTo>
                    <a:lnTo>
                      <a:pt x="854" y="367"/>
                    </a:lnTo>
                    <a:lnTo>
                      <a:pt x="865" y="355"/>
                    </a:lnTo>
                    <a:lnTo>
                      <a:pt x="876" y="343"/>
                    </a:lnTo>
                    <a:lnTo>
                      <a:pt x="891" y="335"/>
                    </a:lnTo>
                    <a:lnTo>
                      <a:pt x="895" y="327"/>
                    </a:lnTo>
                    <a:lnTo>
                      <a:pt x="901" y="320"/>
                    </a:lnTo>
                    <a:lnTo>
                      <a:pt x="908" y="311"/>
                    </a:lnTo>
                    <a:lnTo>
                      <a:pt x="916" y="305"/>
                    </a:lnTo>
                    <a:lnTo>
                      <a:pt x="922" y="297"/>
                    </a:lnTo>
                    <a:lnTo>
                      <a:pt x="929" y="291"/>
                    </a:lnTo>
                    <a:lnTo>
                      <a:pt x="936" y="285"/>
                    </a:lnTo>
                    <a:lnTo>
                      <a:pt x="943" y="279"/>
                    </a:lnTo>
                    <a:lnTo>
                      <a:pt x="950" y="285"/>
                    </a:lnTo>
                    <a:lnTo>
                      <a:pt x="959" y="286"/>
                    </a:lnTo>
                    <a:lnTo>
                      <a:pt x="968" y="282"/>
                    </a:lnTo>
                    <a:lnTo>
                      <a:pt x="978" y="276"/>
                    </a:lnTo>
                    <a:lnTo>
                      <a:pt x="976" y="277"/>
                    </a:lnTo>
                    <a:lnTo>
                      <a:pt x="973" y="281"/>
                    </a:lnTo>
                    <a:lnTo>
                      <a:pt x="971" y="285"/>
                    </a:lnTo>
                    <a:lnTo>
                      <a:pt x="975" y="289"/>
                    </a:lnTo>
                    <a:lnTo>
                      <a:pt x="982" y="291"/>
                    </a:lnTo>
                    <a:lnTo>
                      <a:pt x="990" y="288"/>
                    </a:lnTo>
                    <a:lnTo>
                      <a:pt x="999" y="282"/>
                    </a:lnTo>
                    <a:lnTo>
                      <a:pt x="1008" y="279"/>
                    </a:lnTo>
                    <a:lnTo>
                      <a:pt x="1014" y="267"/>
                    </a:lnTo>
                    <a:lnTo>
                      <a:pt x="1021" y="258"/>
                    </a:lnTo>
                    <a:lnTo>
                      <a:pt x="1029" y="249"/>
                    </a:lnTo>
                    <a:lnTo>
                      <a:pt x="1038" y="241"/>
                    </a:lnTo>
                    <a:lnTo>
                      <a:pt x="1047" y="233"/>
                    </a:lnTo>
                    <a:lnTo>
                      <a:pt x="1056" y="225"/>
                    </a:lnTo>
                    <a:lnTo>
                      <a:pt x="1066" y="217"/>
                    </a:lnTo>
                    <a:lnTo>
                      <a:pt x="1077" y="211"/>
                    </a:lnTo>
                    <a:lnTo>
                      <a:pt x="1079" y="203"/>
                    </a:lnTo>
                    <a:lnTo>
                      <a:pt x="1085" y="199"/>
                    </a:lnTo>
                    <a:lnTo>
                      <a:pt x="1092" y="196"/>
                    </a:lnTo>
                    <a:lnTo>
                      <a:pt x="1099" y="191"/>
                    </a:lnTo>
                    <a:lnTo>
                      <a:pt x="1107" y="185"/>
                    </a:lnTo>
                    <a:lnTo>
                      <a:pt x="1116" y="180"/>
                    </a:lnTo>
                    <a:lnTo>
                      <a:pt x="1125" y="174"/>
                    </a:lnTo>
                    <a:lnTo>
                      <a:pt x="1136" y="168"/>
                    </a:lnTo>
                    <a:lnTo>
                      <a:pt x="1145" y="162"/>
                    </a:lnTo>
                    <a:lnTo>
                      <a:pt x="1156" y="156"/>
                    </a:lnTo>
                    <a:lnTo>
                      <a:pt x="1169" y="150"/>
                    </a:lnTo>
                    <a:lnTo>
                      <a:pt x="1181" y="146"/>
                    </a:lnTo>
                    <a:lnTo>
                      <a:pt x="1183" y="138"/>
                    </a:lnTo>
                    <a:lnTo>
                      <a:pt x="1188" y="134"/>
                    </a:lnTo>
                    <a:lnTo>
                      <a:pt x="1194" y="131"/>
                    </a:lnTo>
                    <a:lnTo>
                      <a:pt x="1203" y="133"/>
                    </a:lnTo>
                    <a:lnTo>
                      <a:pt x="1212" y="124"/>
                    </a:lnTo>
                    <a:lnTo>
                      <a:pt x="1221" y="116"/>
                    </a:lnTo>
                    <a:lnTo>
                      <a:pt x="1230" y="108"/>
                    </a:lnTo>
                    <a:lnTo>
                      <a:pt x="1240" y="101"/>
                    </a:lnTo>
                    <a:lnTo>
                      <a:pt x="1250" y="93"/>
                    </a:lnTo>
                    <a:lnTo>
                      <a:pt x="1261" y="87"/>
                    </a:lnTo>
                    <a:lnTo>
                      <a:pt x="1272" y="81"/>
                    </a:lnTo>
                    <a:lnTo>
                      <a:pt x="1285" y="75"/>
                    </a:lnTo>
                    <a:lnTo>
                      <a:pt x="1287" y="69"/>
                    </a:lnTo>
                    <a:lnTo>
                      <a:pt x="1288" y="65"/>
                    </a:lnTo>
                    <a:lnTo>
                      <a:pt x="1289" y="62"/>
                    </a:lnTo>
                    <a:lnTo>
                      <a:pt x="1294" y="62"/>
                    </a:lnTo>
                    <a:lnTo>
                      <a:pt x="1301" y="69"/>
                    </a:lnTo>
                    <a:lnTo>
                      <a:pt x="1309" y="71"/>
                    </a:lnTo>
                    <a:lnTo>
                      <a:pt x="1317" y="68"/>
                    </a:lnTo>
                    <a:lnTo>
                      <a:pt x="1326" y="62"/>
                    </a:lnTo>
                    <a:lnTo>
                      <a:pt x="1333" y="54"/>
                    </a:lnTo>
                    <a:lnTo>
                      <a:pt x="1341" y="45"/>
                    </a:lnTo>
                    <a:lnTo>
                      <a:pt x="1350" y="38"/>
                    </a:lnTo>
                    <a:lnTo>
                      <a:pt x="1360" y="35"/>
                    </a:lnTo>
                    <a:lnTo>
                      <a:pt x="1366" y="32"/>
                    </a:lnTo>
                    <a:lnTo>
                      <a:pt x="1360" y="37"/>
                    </a:lnTo>
                    <a:lnTo>
                      <a:pt x="1360" y="42"/>
                    </a:lnTo>
                    <a:lnTo>
                      <a:pt x="1367" y="48"/>
                    </a:lnTo>
                    <a:lnTo>
                      <a:pt x="1376" y="48"/>
                    </a:lnTo>
                    <a:lnTo>
                      <a:pt x="1380" y="41"/>
                    </a:lnTo>
                    <a:lnTo>
                      <a:pt x="1388" y="38"/>
                    </a:lnTo>
                    <a:lnTo>
                      <a:pt x="1396" y="35"/>
                    </a:lnTo>
                    <a:lnTo>
                      <a:pt x="1401" y="29"/>
                    </a:lnTo>
                    <a:lnTo>
                      <a:pt x="1402" y="31"/>
                    </a:lnTo>
                    <a:lnTo>
                      <a:pt x="1403" y="35"/>
                    </a:lnTo>
                    <a:lnTo>
                      <a:pt x="1405" y="37"/>
                    </a:lnTo>
                    <a:lnTo>
                      <a:pt x="1412" y="39"/>
                    </a:lnTo>
                    <a:lnTo>
                      <a:pt x="1454" y="16"/>
                    </a:lnTo>
                    <a:lnTo>
                      <a:pt x="1457" y="21"/>
                    </a:lnTo>
                    <a:lnTo>
                      <a:pt x="1461" y="24"/>
                    </a:lnTo>
                    <a:lnTo>
                      <a:pt x="1466" y="24"/>
                    </a:lnTo>
                    <a:lnTo>
                      <a:pt x="1472" y="23"/>
                    </a:lnTo>
                    <a:lnTo>
                      <a:pt x="1482" y="16"/>
                    </a:lnTo>
                    <a:lnTo>
                      <a:pt x="1489" y="13"/>
                    </a:lnTo>
                    <a:lnTo>
                      <a:pt x="1493" y="10"/>
                    </a:lnTo>
                    <a:lnTo>
                      <a:pt x="1494" y="14"/>
                    </a:lnTo>
                    <a:lnTo>
                      <a:pt x="1497" y="18"/>
                    </a:lnTo>
                    <a:lnTo>
                      <a:pt x="1500" y="20"/>
                    </a:lnTo>
                    <a:lnTo>
                      <a:pt x="1503" y="21"/>
                    </a:lnTo>
                    <a:lnTo>
                      <a:pt x="1511" y="20"/>
                    </a:lnTo>
                    <a:lnTo>
                      <a:pt x="1519" y="19"/>
                    </a:lnTo>
                    <a:lnTo>
                      <a:pt x="1522" y="16"/>
                    </a:lnTo>
                    <a:lnTo>
                      <a:pt x="1525" y="17"/>
                    </a:lnTo>
                    <a:lnTo>
                      <a:pt x="1527" y="15"/>
                    </a:lnTo>
                    <a:lnTo>
                      <a:pt x="1528" y="12"/>
                    </a:lnTo>
                    <a:lnTo>
                      <a:pt x="1532" y="13"/>
                    </a:lnTo>
                    <a:lnTo>
                      <a:pt x="1533" y="17"/>
                    </a:lnTo>
                    <a:lnTo>
                      <a:pt x="1537" y="20"/>
                    </a:lnTo>
                    <a:lnTo>
                      <a:pt x="1542" y="20"/>
                    </a:lnTo>
                    <a:lnTo>
                      <a:pt x="1548" y="19"/>
                    </a:lnTo>
                    <a:lnTo>
                      <a:pt x="1564" y="10"/>
                    </a:lnTo>
                    <a:lnTo>
                      <a:pt x="1565" y="14"/>
                    </a:lnTo>
                    <a:lnTo>
                      <a:pt x="1569" y="17"/>
                    </a:lnTo>
                    <a:lnTo>
                      <a:pt x="1575" y="18"/>
                    </a:lnTo>
                    <a:lnTo>
                      <a:pt x="1581" y="19"/>
                    </a:lnTo>
                    <a:lnTo>
                      <a:pt x="1587" y="17"/>
                    </a:lnTo>
                    <a:lnTo>
                      <a:pt x="1594" y="17"/>
                    </a:lnTo>
                    <a:lnTo>
                      <a:pt x="1599" y="16"/>
                    </a:lnTo>
                    <a:lnTo>
                      <a:pt x="1604" y="16"/>
                    </a:lnTo>
                    <a:lnTo>
                      <a:pt x="1625" y="11"/>
                    </a:lnTo>
                    <a:lnTo>
                      <a:pt x="1649" y="9"/>
                    </a:lnTo>
                    <a:lnTo>
                      <a:pt x="1674" y="8"/>
                    </a:lnTo>
                    <a:lnTo>
                      <a:pt x="1698" y="8"/>
                    </a:lnTo>
                    <a:lnTo>
                      <a:pt x="1721" y="7"/>
                    </a:lnTo>
                    <a:lnTo>
                      <a:pt x="1746" y="7"/>
                    </a:lnTo>
                    <a:lnTo>
                      <a:pt x="1769" y="4"/>
                    </a:lnTo>
                    <a:lnTo>
                      <a:pt x="1792" y="0"/>
                    </a:lnTo>
                    <a:close/>
                  </a:path>
                </a:pathLst>
              </a:custGeom>
              <a:solidFill>
                <a:srgbClr val="7f9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541160" y="1269000"/>
                <a:ext cx="83880" cy="135360"/>
              </a:xfrm>
              <a:custGeom>
                <a:avLst/>
                <a:gdLst/>
                <a:ahLst/>
                <a:rect l="l" t="t" r="r" b="b"/>
                <a:pathLst>
                  <a:path w="166" h="205">
                    <a:moveTo>
                      <a:pt x="143" y="82"/>
                    </a:moveTo>
                    <a:lnTo>
                      <a:pt x="138" y="87"/>
                    </a:lnTo>
                    <a:lnTo>
                      <a:pt x="134" y="93"/>
                    </a:lnTo>
                    <a:lnTo>
                      <a:pt x="129" y="97"/>
                    </a:lnTo>
                    <a:lnTo>
                      <a:pt x="125" y="102"/>
                    </a:lnTo>
                    <a:lnTo>
                      <a:pt x="119" y="105"/>
                    </a:lnTo>
                    <a:lnTo>
                      <a:pt x="113" y="108"/>
                    </a:lnTo>
                    <a:lnTo>
                      <a:pt x="107" y="110"/>
                    </a:lnTo>
                    <a:lnTo>
                      <a:pt x="101" y="111"/>
                    </a:lnTo>
                    <a:lnTo>
                      <a:pt x="100" y="117"/>
                    </a:lnTo>
                    <a:lnTo>
                      <a:pt x="104" y="124"/>
                    </a:lnTo>
                    <a:lnTo>
                      <a:pt x="109" y="129"/>
                    </a:lnTo>
                    <a:lnTo>
                      <a:pt x="114" y="133"/>
                    </a:lnTo>
                    <a:lnTo>
                      <a:pt x="121" y="128"/>
                    </a:lnTo>
                    <a:lnTo>
                      <a:pt x="128" y="127"/>
                    </a:lnTo>
                    <a:lnTo>
                      <a:pt x="135" y="127"/>
                    </a:lnTo>
                    <a:lnTo>
                      <a:pt x="143" y="127"/>
                    </a:lnTo>
                    <a:lnTo>
                      <a:pt x="148" y="131"/>
                    </a:lnTo>
                    <a:lnTo>
                      <a:pt x="152" y="141"/>
                    </a:lnTo>
                    <a:lnTo>
                      <a:pt x="153" y="146"/>
                    </a:lnTo>
                    <a:lnTo>
                      <a:pt x="156" y="153"/>
                    </a:lnTo>
                    <a:lnTo>
                      <a:pt x="158" y="158"/>
                    </a:lnTo>
                    <a:lnTo>
                      <a:pt x="163" y="163"/>
                    </a:lnTo>
                    <a:lnTo>
                      <a:pt x="156" y="166"/>
                    </a:lnTo>
                    <a:lnTo>
                      <a:pt x="156" y="163"/>
                    </a:lnTo>
                    <a:lnTo>
                      <a:pt x="160" y="160"/>
                    </a:lnTo>
                    <a:lnTo>
                      <a:pt x="152" y="160"/>
                    </a:lnTo>
                    <a:lnTo>
                      <a:pt x="146" y="162"/>
                    </a:lnTo>
                    <a:lnTo>
                      <a:pt x="139" y="165"/>
                    </a:lnTo>
                    <a:lnTo>
                      <a:pt x="132" y="168"/>
                    </a:lnTo>
                    <a:lnTo>
                      <a:pt x="124" y="171"/>
                    </a:lnTo>
                    <a:lnTo>
                      <a:pt x="117" y="174"/>
                    </a:lnTo>
                    <a:lnTo>
                      <a:pt x="109" y="178"/>
                    </a:lnTo>
                    <a:lnTo>
                      <a:pt x="101" y="182"/>
                    </a:lnTo>
                    <a:lnTo>
                      <a:pt x="101" y="169"/>
                    </a:lnTo>
                    <a:lnTo>
                      <a:pt x="95" y="171"/>
                    </a:lnTo>
                    <a:lnTo>
                      <a:pt x="89" y="174"/>
                    </a:lnTo>
                    <a:lnTo>
                      <a:pt x="83" y="177"/>
                    </a:lnTo>
                    <a:lnTo>
                      <a:pt x="78" y="182"/>
                    </a:lnTo>
                    <a:lnTo>
                      <a:pt x="67" y="187"/>
                    </a:lnTo>
                    <a:lnTo>
                      <a:pt x="58" y="185"/>
                    </a:lnTo>
                    <a:lnTo>
                      <a:pt x="49" y="187"/>
                    </a:lnTo>
                    <a:lnTo>
                      <a:pt x="42" y="192"/>
                    </a:lnTo>
                    <a:lnTo>
                      <a:pt x="35" y="198"/>
                    </a:lnTo>
                    <a:lnTo>
                      <a:pt x="29" y="205"/>
                    </a:lnTo>
                    <a:lnTo>
                      <a:pt x="27" y="198"/>
                    </a:lnTo>
                    <a:lnTo>
                      <a:pt x="23" y="197"/>
                    </a:lnTo>
                    <a:lnTo>
                      <a:pt x="18" y="195"/>
                    </a:lnTo>
                    <a:lnTo>
                      <a:pt x="13" y="192"/>
                    </a:lnTo>
                    <a:lnTo>
                      <a:pt x="46" y="153"/>
                    </a:lnTo>
                    <a:lnTo>
                      <a:pt x="39" y="143"/>
                    </a:lnTo>
                    <a:lnTo>
                      <a:pt x="33" y="140"/>
                    </a:lnTo>
                    <a:lnTo>
                      <a:pt x="26" y="141"/>
                    </a:lnTo>
                    <a:lnTo>
                      <a:pt x="20" y="144"/>
                    </a:lnTo>
                    <a:lnTo>
                      <a:pt x="13" y="147"/>
                    </a:lnTo>
                    <a:lnTo>
                      <a:pt x="7" y="152"/>
                    </a:lnTo>
                    <a:lnTo>
                      <a:pt x="2" y="154"/>
                    </a:lnTo>
                    <a:lnTo>
                      <a:pt x="0" y="153"/>
                    </a:lnTo>
                    <a:lnTo>
                      <a:pt x="7" y="140"/>
                    </a:lnTo>
                    <a:lnTo>
                      <a:pt x="15" y="129"/>
                    </a:lnTo>
                    <a:lnTo>
                      <a:pt x="24" y="118"/>
                    </a:lnTo>
                    <a:lnTo>
                      <a:pt x="34" y="109"/>
                    </a:lnTo>
                    <a:lnTo>
                      <a:pt x="43" y="99"/>
                    </a:lnTo>
                    <a:lnTo>
                      <a:pt x="53" y="90"/>
                    </a:lnTo>
                    <a:lnTo>
                      <a:pt x="63" y="81"/>
                    </a:lnTo>
                    <a:lnTo>
                      <a:pt x="74" y="72"/>
                    </a:lnTo>
                    <a:lnTo>
                      <a:pt x="74" y="66"/>
                    </a:lnTo>
                    <a:lnTo>
                      <a:pt x="87" y="57"/>
                    </a:lnTo>
                    <a:lnTo>
                      <a:pt x="100" y="50"/>
                    </a:lnTo>
                    <a:lnTo>
                      <a:pt x="112" y="43"/>
                    </a:lnTo>
                    <a:lnTo>
                      <a:pt x="125" y="37"/>
                    </a:lnTo>
                    <a:lnTo>
                      <a:pt x="136" y="28"/>
                    </a:lnTo>
                    <a:lnTo>
                      <a:pt x="147" y="20"/>
                    </a:lnTo>
                    <a:lnTo>
                      <a:pt x="156" y="10"/>
                    </a:lnTo>
                    <a:lnTo>
                      <a:pt x="166" y="0"/>
                    </a:lnTo>
                    <a:lnTo>
                      <a:pt x="162" y="9"/>
                    </a:lnTo>
                    <a:lnTo>
                      <a:pt x="157" y="19"/>
                    </a:lnTo>
                    <a:lnTo>
                      <a:pt x="153" y="29"/>
                    </a:lnTo>
                    <a:lnTo>
                      <a:pt x="150" y="39"/>
                    </a:lnTo>
                    <a:lnTo>
                      <a:pt x="147" y="48"/>
                    </a:lnTo>
                    <a:lnTo>
                      <a:pt x="145" y="58"/>
                    </a:lnTo>
                    <a:lnTo>
                      <a:pt x="143" y="69"/>
                    </a:lnTo>
                    <a:lnTo>
                      <a:pt x="143" y="82"/>
                    </a:lnTo>
                    <a:close/>
                  </a:path>
                </a:pathLst>
              </a:custGeom>
              <a:solidFill>
                <a:srgbClr val="617a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69240" y="14043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569240" y="1407600"/>
                <a:ext cx="253800" cy="194400"/>
              </a:xfrm>
              <a:custGeom>
                <a:avLst/>
                <a:gdLst/>
                <a:ahLst/>
                <a:rect l="l" t="t" r="r" b="b"/>
                <a:pathLst>
                  <a:path w="505" h="292">
                    <a:moveTo>
                      <a:pt x="504" y="16"/>
                    </a:moveTo>
                    <a:lnTo>
                      <a:pt x="485" y="27"/>
                    </a:lnTo>
                    <a:lnTo>
                      <a:pt x="465" y="38"/>
                    </a:lnTo>
                    <a:lnTo>
                      <a:pt x="445" y="48"/>
                    </a:lnTo>
                    <a:lnTo>
                      <a:pt x="426" y="60"/>
                    </a:lnTo>
                    <a:lnTo>
                      <a:pt x="407" y="72"/>
                    </a:lnTo>
                    <a:lnTo>
                      <a:pt x="391" y="87"/>
                    </a:lnTo>
                    <a:lnTo>
                      <a:pt x="377" y="104"/>
                    </a:lnTo>
                    <a:lnTo>
                      <a:pt x="368" y="127"/>
                    </a:lnTo>
                    <a:lnTo>
                      <a:pt x="375" y="128"/>
                    </a:lnTo>
                    <a:lnTo>
                      <a:pt x="383" y="130"/>
                    </a:lnTo>
                    <a:lnTo>
                      <a:pt x="391" y="130"/>
                    </a:lnTo>
                    <a:lnTo>
                      <a:pt x="401" y="133"/>
                    </a:lnTo>
                    <a:lnTo>
                      <a:pt x="402" y="136"/>
                    </a:lnTo>
                    <a:lnTo>
                      <a:pt x="404" y="140"/>
                    </a:lnTo>
                    <a:lnTo>
                      <a:pt x="407" y="137"/>
                    </a:lnTo>
                    <a:lnTo>
                      <a:pt x="410" y="137"/>
                    </a:lnTo>
                    <a:lnTo>
                      <a:pt x="400" y="137"/>
                    </a:lnTo>
                    <a:lnTo>
                      <a:pt x="390" y="138"/>
                    </a:lnTo>
                    <a:lnTo>
                      <a:pt x="379" y="138"/>
                    </a:lnTo>
                    <a:lnTo>
                      <a:pt x="369" y="139"/>
                    </a:lnTo>
                    <a:lnTo>
                      <a:pt x="358" y="139"/>
                    </a:lnTo>
                    <a:lnTo>
                      <a:pt x="348" y="143"/>
                    </a:lnTo>
                    <a:lnTo>
                      <a:pt x="340" y="149"/>
                    </a:lnTo>
                    <a:lnTo>
                      <a:pt x="335" y="159"/>
                    </a:lnTo>
                    <a:lnTo>
                      <a:pt x="326" y="169"/>
                    </a:lnTo>
                    <a:lnTo>
                      <a:pt x="331" y="171"/>
                    </a:lnTo>
                    <a:lnTo>
                      <a:pt x="336" y="174"/>
                    </a:lnTo>
                    <a:lnTo>
                      <a:pt x="340" y="177"/>
                    </a:lnTo>
                    <a:lnTo>
                      <a:pt x="342" y="182"/>
                    </a:lnTo>
                    <a:lnTo>
                      <a:pt x="334" y="178"/>
                    </a:lnTo>
                    <a:lnTo>
                      <a:pt x="327" y="175"/>
                    </a:lnTo>
                    <a:lnTo>
                      <a:pt x="318" y="175"/>
                    </a:lnTo>
                    <a:lnTo>
                      <a:pt x="313" y="182"/>
                    </a:lnTo>
                    <a:lnTo>
                      <a:pt x="307" y="186"/>
                    </a:lnTo>
                    <a:lnTo>
                      <a:pt x="303" y="192"/>
                    </a:lnTo>
                    <a:lnTo>
                      <a:pt x="299" y="197"/>
                    </a:lnTo>
                    <a:lnTo>
                      <a:pt x="296" y="203"/>
                    </a:lnTo>
                    <a:lnTo>
                      <a:pt x="291" y="209"/>
                    </a:lnTo>
                    <a:lnTo>
                      <a:pt x="287" y="215"/>
                    </a:lnTo>
                    <a:lnTo>
                      <a:pt x="282" y="219"/>
                    </a:lnTo>
                    <a:lnTo>
                      <a:pt x="277" y="224"/>
                    </a:lnTo>
                    <a:lnTo>
                      <a:pt x="283" y="224"/>
                    </a:lnTo>
                    <a:lnTo>
                      <a:pt x="287" y="231"/>
                    </a:lnTo>
                    <a:lnTo>
                      <a:pt x="278" y="227"/>
                    </a:lnTo>
                    <a:lnTo>
                      <a:pt x="268" y="229"/>
                    </a:lnTo>
                    <a:lnTo>
                      <a:pt x="258" y="233"/>
                    </a:lnTo>
                    <a:lnTo>
                      <a:pt x="248" y="240"/>
                    </a:lnTo>
                    <a:lnTo>
                      <a:pt x="236" y="246"/>
                    </a:lnTo>
                    <a:lnTo>
                      <a:pt x="225" y="252"/>
                    </a:lnTo>
                    <a:lnTo>
                      <a:pt x="213" y="255"/>
                    </a:lnTo>
                    <a:lnTo>
                      <a:pt x="202" y="256"/>
                    </a:lnTo>
                    <a:lnTo>
                      <a:pt x="189" y="253"/>
                    </a:lnTo>
                    <a:lnTo>
                      <a:pt x="177" y="253"/>
                    </a:lnTo>
                    <a:lnTo>
                      <a:pt x="167" y="254"/>
                    </a:lnTo>
                    <a:lnTo>
                      <a:pt x="158" y="257"/>
                    </a:lnTo>
                    <a:lnTo>
                      <a:pt x="149" y="260"/>
                    </a:lnTo>
                    <a:lnTo>
                      <a:pt x="140" y="263"/>
                    </a:lnTo>
                    <a:lnTo>
                      <a:pt x="130" y="264"/>
                    </a:lnTo>
                    <a:lnTo>
                      <a:pt x="121" y="266"/>
                    </a:lnTo>
                    <a:lnTo>
                      <a:pt x="112" y="264"/>
                    </a:lnTo>
                    <a:lnTo>
                      <a:pt x="105" y="263"/>
                    </a:lnTo>
                    <a:lnTo>
                      <a:pt x="96" y="263"/>
                    </a:lnTo>
                    <a:lnTo>
                      <a:pt x="90" y="264"/>
                    </a:lnTo>
                    <a:lnTo>
                      <a:pt x="83" y="264"/>
                    </a:lnTo>
                    <a:lnTo>
                      <a:pt x="76" y="267"/>
                    </a:lnTo>
                    <a:lnTo>
                      <a:pt x="69" y="269"/>
                    </a:lnTo>
                    <a:lnTo>
                      <a:pt x="62" y="273"/>
                    </a:lnTo>
                    <a:lnTo>
                      <a:pt x="65" y="277"/>
                    </a:lnTo>
                    <a:lnTo>
                      <a:pt x="72" y="279"/>
                    </a:lnTo>
                    <a:lnTo>
                      <a:pt x="77" y="281"/>
                    </a:lnTo>
                    <a:lnTo>
                      <a:pt x="78" y="289"/>
                    </a:lnTo>
                    <a:lnTo>
                      <a:pt x="75" y="292"/>
                    </a:lnTo>
                    <a:lnTo>
                      <a:pt x="72" y="289"/>
                    </a:lnTo>
                    <a:lnTo>
                      <a:pt x="67" y="291"/>
                    </a:lnTo>
                    <a:lnTo>
                      <a:pt x="63" y="290"/>
                    </a:lnTo>
                    <a:lnTo>
                      <a:pt x="59" y="286"/>
                    </a:lnTo>
                    <a:lnTo>
                      <a:pt x="56" y="285"/>
                    </a:lnTo>
                    <a:lnTo>
                      <a:pt x="55" y="279"/>
                    </a:lnTo>
                    <a:lnTo>
                      <a:pt x="53" y="273"/>
                    </a:lnTo>
                    <a:lnTo>
                      <a:pt x="51" y="267"/>
                    </a:lnTo>
                    <a:lnTo>
                      <a:pt x="51" y="262"/>
                    </a:lnTo>
                    <a:lnTo>
                      <a:pt x="50" y="256"/>
                    </a:lnTo>
                    <a:lnTo>
                      <a:pt x="51" y="251"/>
                    </a:lnTo>
                    <a:lnTo>
                      <a:pt x="53" y="245"/>
                    </a:lnTo>
                    <a:lnTo>
                      <a:pt x="59" y="240"/>
                    </a:lnTo>
                    <a:lnTo>
                      <a:pt x="74" y="222"/>
                    </a:lnTo>
                    <a:lnTo>
                      <a:pt x="90" y="206"/>
                    </a:lnTo>
                    <a:lnTo>
                      <a:pt x="107" y="192"/>
                    </a:lnTo>
                    <a:lnTo>
                      <a:pt x="123" y="182"/>
                    </a:lnTo>
                    <a:lnTo>
                      <a:pt x="139" y="172"/>
                    </a:lnTo>
                    <a:lnTo>
                      <a:pt x="156" y="164"/>
                    </a:lnTo>
                    <a:lnTo>
                      <a:pt x="174" y="156"/>
                    </a:lnTo>
                    <a:lnTo>
                      <a:pt x="196" y="150"/>
                    </a:lnTo>
                    <a:lnTo>
                      <a:pt x="197" y="144"/>
                    </a:lnTo>
                    <a:lnTo>
                      <a:pt x="200" y="141"/>
                    </a:lnTo>
                    <a:lnTo>
                      <a:pt x="204" y="139"/>
                    </a:lnTo>
                    <a:lnTo>
                      <a:pt x="209" y="139"/>
                    </a:lnTo>
                    <a:lnTo>
                      <a:pt x="218" y="139"/>
                    </a:lnTo>
                    <a:lnTo>
                      <a:pt x="225" y="137"/>
                    </a:lnTo>
                    <a:lnTo>
                      <a:pt x="231" y="134"/>
                    </a:lnTo>
                    <a:lnTo>
                      <a:pt x="237" y="132"/>
                    </a:lnTo>
                    <a:lnTo>
                      <a:pt x="243" y="128"/>
                    </a:lnTo>
                    <a:lnTo>
                      <a:pt x="251" y="125"/>
                    </a:lnTo>
                    <a:lnTo>
                      <a:pt x="257" y="121"/>
                    </a:lnTo>
                    <a:lnTo>
                      <a:pt x="265" y="117"/>
                    </a:lnTo>
                    <a:lnTo>
                      <a:pt x="273" y="114"/>
                    </a:lnTo>
                    <a:lnTo>
                      <a:pt x="281" y="113"/>
                    </a:lnTo>
                    <a:lnTo>
                      <a:pt x="281" y="111"/>
                    </a:lnTo>
                    <a:lnTo>
                      <a:pt x="281" y="107"/>
                    </a:lnTo>
                    <a:lnTo>
                      <a:pt x="283" y="106"/>
                    </a:lnTo>
                    <a:lnTo>
                      <a:pt x="289" y="106"/>
                    </a:lnTo>
                    <a:lnTo>
                      <a:pt x="294" y="105"/>
                    </a:lnTo>
                    <a:lnTo>
                      <a:pt x="300" y="104"/>
                    </a:lnTo>
                    <a:lnTo>
                      <a:pt x="318" y="95"/>
                    </a:lnTo>
                    <a:lnTo>
                      <a:pt x="339" y="86"/>
                    </a:lnTo>
                    <a:lnTo>
                      <a:pt x="360" y="76"/>
                    </a:lnTo>
                    <a:lnTo>
                      <a:pt x="382" y="66"/>
                    </a:lnTo>
                    <a:lnTo>
                      <a:pt x="402" y="55"/>
                    </a:lnTo>
                    <a:lnTo>
                      <a:pt x="422" y="44"/>
                    </a:lnTo>
                    <a:lnTo>
                      <a:pt x="441" y="33"/>
                    </a:lnTo>
                    <a:lnTo>
                      <a:pt x="459" y="22"/>
                    </a:lnTo>
                    <a:lnTo>
                      <a:pt x="450" y="21"/>
                    </a:lnTo>
                    <a:lnTo>
                      <a:pt x="441" y="21"/>
                    </a:lnTo>
                    <a:lnTo>
                      <a:pt x="431" y="22"/>
                    </a:lnTo>
                    <a:lnTo>
                      <a:pt x="423" y="25"/>
                    </a:lnTo>
                    <a:lnTo>
                      <a:pt x="413" y="27"/>
                    </a:lnTo>
                    <a:lnTo>
                      <a:pt x="404" y="31"/>
                    </a:lnTo>
                    <a:lnTo>
                      <a:pt x="394" y="33"/>
                    </a:lnTo>
                    <a:lnTo>
                      <a:pt x="385" y="36"/>
                    </a:lnTo>
                    <a:lnTo>
                      <a:pt x="378" y="38"/>
                    </a:lnTo>
                    <a:lnTo>
                      <a:pt x="372" y="41"/>
                    </a:lnTo>
                    <a:lnTo>
                      <a:pt x="364" y="44"/>
                    </a:lnTo>
                    <a:lnTo>
                      <a:pt x="356" y="48"/>
                    </a:lnTo>
                    <a:lnTo>
                      <a:pt x="346" y="51"/>
                    </a:lnTo>
                    <a:lnTo>
                      <a:pt x="338" y="56"/>
                    </a:lnTo>
                    <a:lnTo>
                      <a:pt x="329" y="62"/>
                    </a:lnTo>
                    <a:lnTo>
                      <a:pt x="322" y="68"/>
                    </a:lnTo>
                    <a:lnTo>
                      <a:pt x="308" y="74"/>
                    </a:lnTo>
                    <a:lnTo>
                      <a:pt x="294" y="78"/>
                    </a:lnTo>
                    <a:lnTo>
                      <a:pt x="280" y="81"/>
                    </a:lnTo>
                    <a:lnTo>
                      <a:pt x="265" y="84"/>
                    </a:lnTo>
                    <a:lnTo>
                      <a:pt x="251" y="86"/>
                    </a:lnTo>
                    <a:lnTo>
                      <a:pt x="238" y="89"/>
                    </a:lnTo>
                    <a:lnTo>
                      <a:pt x="226" y="93"/>
                    </a:lnTo>
                    <a:lnTo>
                      <a:pt x="215" y="100"/>
                    </a:lnTo>
                    <a:lnTo>
                      <a:pt x="203" y="100"/>
                    </a:lnTo>
                    <a:lnTo>
                      <a:pt x="191" y="101"/>
                    </a:lnTo>
                    <a:lnTo>
                      <a:pt x="179" y="102"/>
                    </a:lnTo>
                    <a:lnTo>
                      <a:pt x="170" y="106"/>
                    </a:lnTo>
                    <a:lnTo>
                      <a:pt x="160" y="109"/>
                    </a:lnTo>
                    <a:lnTo>
                      <a:pt x="152" y="116"/>
                    </a:lnTo>
                    <a:lnTo>
                      <a:pt x="143" y="123"/>
                    </a:lnTo>
                    <a:lnTo>
                      <a:pt x="137" y="133"/>
                    </a:lnTo>
                    <a:lnTo>
                      <a:pt x="130" y="137"/>
                    </a:lnTo>
                    <a:lnTo>
                      <a:pt x="123" y="142"/>
                    </a:lnTo>
                    <a:lnTo>
                      <a:pt x="115" y="148"/>
                    </a:lnTo>
                    <a:lnTo>
                      <a:pt x="107" y="154"/>
                    </a:lnTo>
                    <a:lnTo>
                      <a:pt x="97" y="160"/>
                    </a:lnTo>
                    <a:lnTo>
                      <a:pt x="89" y="166"/>
                    </a:lnTo>
                    <a:lnTo>
                      <a:pt x="81" y="172"/>
                    </a:lnTo>
                    <a:lnTo>
                      <a:pt x="75" y="178"/>
                    </a:lnTo>
                    <a:lnTo>
                      <a:pt x="67" y="190"/>
                    </a:lnTo>
                    <a:lnTo>
                      <a:pt x="58" y="201"/>
                    </a:lnTo>
                    <a:lnTo>
                      <a:pt x="47" y="212"/>
                    </a:lnTo>
                    <a:lnTo>
                      <a:pt x="36" y="222"/>
                    </a:lnTo>
                    <a:lnTo>
                      <a:pt x="26" y="231"/>
                    </a:lnTo>
                    <a:lnTo>
                      <a:pt x="19" y="241"/>
                    </a:lnTo>
                    <a:lnTo>
                      <a:pt x="17" y="251"/>
                    </a:lnTo>
                    <a:lnTo>
                      <a:pt x="24" y="263"/>
                    </a:lnTo>
                    <a:lnTo>
                      <a:pt x="14" y="262"/>
                    </a:lnTo>
                    <a:lnTo>
                      <a:pt x="9" y="258"/>
                    </a:lnTo>
                    <a:lnTo>
                      <a:pt x="5" y="251"/>
                    </a:lnTo>
                    <a:lnTo>
                      <a:pt x="3" y="244"/>
                    </a:lnTo>
                    <a:lnTo>
                      <a:pt x="0" y="235"/>
                    </a:lnTo>
                    <a:lnTo>
                      <a:pt x="2" y="230"/>
                    </a:lnTo>
                    <a:lnTo>
                      <a:pt x="6" y="225"/>
                    </a:lnTo>
                    <a:lnTo>
                      <a:pt x="12" y="222"/>
                    </a:lnTo>
                    <a:lnTo>
                      <a:pt x="17" y="218"/>
                    </a:lnTo>
                    <a:lnTo>
                      <a:pt x="22" y="214"/>
                    </a:lnTo>
                    <a:lnTo>
                      <a:pt x="23" y="208"/>
                    </a:lnTo>
                    <a:lnTo>
                      <a:pt x="19" y="201"/>
                    </a:lnTo>
                    <a:lnTo>
                      <a:pt x="24" y="190"/>
                    </a:lnTo>
                    <a:lnTo>
                      <a:pt x="29" y="181"/>
                    </a:lnTo>
                    <a:lnTo>
                      <a:pt x="33" y="171"/>
                    </a:lnTo>
                    <a:lnTo>
                      <a:pt x="39" y="162"/>
                    </a:lnTo>
                    <a:lnTo>
                      <a:pt x="44" y="153"/>
                    </a:lnTo>
                    <a:lnTo>
                      <a:pt x="50" y="145"/>
                    </a:lnTo>
                    <a:lnTo>
                      <a:pt x="56" y="138"/>
                    </a:lnTo>
                    <a:lnTo>
                      <a:pt x="65" y="133"/>
                    </a:lnTo>
                    <a:lnTo>
                      <a:pt x="67" y="125"/>
                    </a:lnTo>
                    <a:lnTo>
                      <a:pt x="72" y="118"/>
                    </a:lnTo>
                    <a:lnTo>
                      <a:pt x="77" y="113"/>
                    </a:lnTo>
                    <a:lnTo>
                      <a:pt x="84" y="110"/>
                    </a:lnTo>
                    <a:lnTo>
                      <a:pt x="90" y="106"/>
                    </a:lnTo>
                    <a:lnTo>
                      <a:pt x="97" y="103"/>
                    </a:lnTo>
                    <a:lnTo>
                      <a:pt x="103" y="100"/>
                    </a:lnTo>
                    <a:lnTo>
                      <a:pt x="111" y="97"/>
                    </a:lnTo>
                    <a:lnTo>
                      <a:pt x="116" y="96"/>
                    </a:lnTo>
                    <a:lnTo>
                      <a:pt x="122" y="94"/>
                    </a:lnTo>
                    <a:lnTo>
                      <a:pt x="127" y="91"/>
                    </a:lnTo>
                    <a:lnTo>
                      <a:pt x="132" y="89"/>
                    </a:lnTo>
                    <a:lnTo>
                      <a:pt x="140" y="85"/>
                    </a:lnTo>
                    <a:lnTo>
                      <a:pt x="150" y="88"/>
                    </a:lnTo>
                    <a:lnTo>
                      <a:pt x="160" y="84"/>
                    </a:lnTo>
                    <a:lnTo>
                      <a:pt x="160" y="88"/>
                    </a:lnTo>
                    <a:lnTo>
                      <a:pt x="176" y="83"/>
                    </a:lnTo>
                    <a:lnTo>
                      <a:pt x="194" y="79"/>
                    </a:lnTo>
                    <a:lnTo>
                      <a:pt x="211" y="73"/>
                    </a:lnTo>
                    <a:lnTo>
                      <a:pt x="229" y="70"/>
                    </a:lnTo>
                    <a:lnTo>
                      <a:pt x="246" y="65"/>
                    </a:lnTo>
                    <a:lnTo>
                      <a:pt x="263" y="63"/>
                    </a:lnTo>
                    <a:lnTo>
                      <a:pt x="280" y="61"/>
                    </a:lnTo>
                    <a:lnTo>
                      <a:pt x="297" y="62"/>
                    </a:lnTo>
                    <a:lnTo>
                      <a:pt x="305" y="57"/>
                    </a:lnTo>
                    <a:lnTo>
                      <a:pt x="314" y="52"/>
                    </a:lnTo>
                    <a:lnTo>
                      <a:pt x="323" y="46"/>
                    </a:lnTo>
                    <a:lnTo>
                      <a:pt x="332" y="41"/>
                    </a:lnTo>
                    <a:lnTo>
                      <a:pt x="341" y="35"/>
                    </a:lnTo>
                    <a:lnTo>
                      <a:pt x="350" y="33"/>
                    </a:lnTo>
                    <a:lnTo>
                      <a:pt x="360" y="31"/>
                    </a:lnTo>
                    <a:lnTo>
                      <a:pt x="372" y="33"/>
                    </a:lnTo>
                    <a:lnTo>
                      <a:pt x="384" y="26"/>
                    </a:lnTo>
                    <a:lnTo>
                      <a:pt x="399" y="20"/>
                    </a:lnTo>
                    <a:lnTo>
                      <a:pt x="414" y="15"/>
                    </a:lnTo>
                    <a:lnTo>
                      <a:pt x="430" y="12"/>
                    </a:lnTo>
                    <a:lnTo>
                      <a:pt x="446" y="8"/>
                    </a:lnTo>
                    <a:lnTo>
                      <a:pt x="463" y="5"/>
                    </a:lnTo>
                    <a:lnTo>
                      <a:pt x="478" y="2"/>
                    </a:lnTo>
                    <a:lnTo>
                      <a:pt x="495" y="0"/>
                    </a:lnTo>
                    <a:lnTo>
                      <a:pt x="499" y="0"/>
                    </a:lnTo>
                    <a:lnTo>
                      <a:pt x="504" y="4"/>
                    </a:lnTo>
                    <a:lnTo>
                      <a:pt x="505" y="9"/>
                    </a:lnTo>
                    <a:lnTo>
                      <a:pt x="50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52840" y="1426320"/>
                <a:ext cx="983880" cy="802080"/>
              </a:xfrm>
              <a:custGeom>
                <a:avLst/>
                <a:gdLst/>
                <a:ahLst/>
                <a:rect l="l" t="t" r="r" b="b"/>
                <a:pathLst>
                  <a:path w="1968" h="1200">
                    <a:moveTo>
                      <a:pt x="1705" y="2"/>
                    </a:moveTo>
                    <a:lnTo>
                      <a:pt x="1718" y="11"/>
                    </a:lnTo>
                    <a:lnTo>
                      <a:pt x="1733" y="19"/>
                    </a:lnTo>
                    <a:lnTo>
                      <a:pt x="1748" y="26"/>
                    </a:lnTo>
                    <a:lnTo>
                      <a:pt x="1764" y="34"/>
                    </a:lnTo>
                    <a:lnTo>
                      <a:pt x="1778" y="40"/>
                    </a:lnTo>
                    <a:lnTo>
                      <a:pt x="1793" y="50"/>
                    </a:lnTo>
                    <a:lnTo>
                      <a:pt x="1806" y="61"/>
                    </a:lnTo>
                    <a:lnTo>
                      <a:pt x="1820" y="76"/>
                    </a:lnTo>
                    <a:lnTo>
                      <a:pt x="1827" y="77"/>
                    </a:lnTo>
                    <a:lnTo>
                      <a:pt x="1834" y="81"/>
                    </a:lnTo>
                    <a:lnTo>
                      <a:pt x="1839" y="87"/>
                    </a:lnTo>
                    <a:lnTo>
                      <a:pt x="1845" y="97"/>
                    </a:lnTo>
                    <a:lnTo>
                      <a:pt x="1850" y="105"/>
                    </a:lnTo>
                    <a:lnTo>
                      <a:pt x="1856" y="113"/>
                    </a:lnTo>
                    <a:lnTo>
                      <a:pt x="1862" y="119"/>
                    </a:lnTo>
                    <a:lnTo>
                      <a:pt x="1871" y="125"/>
                    </a:lnTo>
                    <a:lnTo>
                      <a:pt x="1911" y="177"/>
                    </a:lnTo>
                    <a:lnTo>
                      <a:pt x="1907" y="170"/>
                    </a:lnTo>
                    <a:lnTo>
                      <a:pt x="1901" y="177"/>
                    </a:lnTo>
                    <a:lnTo>
                      <a:pt x="1913" y="185"/>
                    </a:lnTo>
                    <a:lnTo>
                      <a:pt x="1924" y="197"/>
                    </a:lnTo>
                    <a:lnTo>
                      <a:pt x="1932" y="210"/>
                    </a:lnTo>
                    <a:lnTo>
                      <a:pt x="1939" y="226"/>
                    </a:lnTo>
                    <a:lnTo>
                      <a:pt x="1944" y="241"/>
                    </a:lnTo>
                    <a:lnTo>
                      <a:pt x="1950" y="258"/>
                    </a:lnTo>
                    <a:lnTo>
                      <a:pt x="1956" y="275"/>
                    </a:lnTo>
                    <a:lnTo>
                      <a:pt x="1962" y="291"/>
                    </a:lnTo>
                    <a:lnTo>
                      <a:pt x="1956" y="288"/>
                    </a:lnTo>
                    <a:lnTo>
                      <a:pt x="1953" y="282"/>
                    </a:lnTo>
                    <a:lnTo>
                      <a:pt x="1949" y="275"/>
                    </a:lnTo>
                    <a:lnTo>
                      <a:pt x="1943" y="271"/>
                    </a:lnTo>
                    <a:lnTo>
                      <a:pt x="1939" y="277"/>
                    </a:lnTo>
                    <a:lnTo>
                      <a:pt x="1939" y="284"/>
                    </a:lnTo>
                    <a:lnTo>
                      <a:pt x="1943" y="288"/>
                    </a:lnTo>
                    <a:lnTo>
                      <a:pt x="1948" y="293"/>
                    </a:lnTo>
                    <a:lnTo>
                      <a:pt x="1951" y="299"/>
                    </a:lnTo>
                    <a:lnTo>
                      <a:pt x="1955" y="305"/>
                    </a:lnTo>
                    <a:lnTo>
                      <a:pt x="1957" y="311"/>
                    </a:lnTo>
                    <a:lnTo>
                      <a:pt x="1958" y="317"/>
                    </a:lnTo>
                    <a:lnTo>
                      <a:pt x="1957" y="323"/>
                    </a:lnTo>
                    <a:lnTo>
                      <a:pt x="1956" y="329"/>
                    </a:lnTo>
                    <a:lnTo>
                      <a:pt x="1959" y="333"/>
                    </a:lnTo>
                    <a:lnTo>
                      <a:pt x="1962" y="332"/>
                    </a:lnTo>
                    <a:lnTo>
                      <a:pt x="1962" y="329"/>
                    </a:lnTo>
                    <a:lnTo>
                      <a:pt x="1968" y="329"/>
                    </a:lnTo>
                    <a:lnTo>
                      <a:pt x="1966" y="349"/>
                    </a:lnTo>
                    <a:lnTo>
                      <a:pt x="1965" y="370"/>
                    </a:lnTo>
                    <a:lnTo>
                      <a:pt x="1963" y="390"/>
                    </a:lnTo>
                    <a:lnTo>
                      <a:pt x="1962" y="410"/>
                    </a:lnTo>
                    <a:lnTo>
                      <a:pt x="1958" y="429"/>
                    </a:lnTo>
                    <a:lnTo>
                      <a:pt x="1953" y="449"/>
                    </a:lnTo>
                    <a:lnTo>
                      <a:pt x="1947" y="467"/>
                    </a:lnTo>
                    <a:lnTo>
                      <a:pt x="1939" y="485"/>
                    </a:lnTo>
                    <a:lnTo>
                      <a:pt x="1939" y="478"/>
                    </a:lnTo>
                    <a:lnTo>
                      <a:pt x="1939" y="471"/>
                    </a:lnTo>
                    <a:lnTo>
                      <a:pt x="1939" y="463"/>
                    </a:lnTo>
                    <a:lnTo>
                      <a:pt x="1939" y="457"/>
                    </a:lnTo>
                    <a:lnTo>
                      <a:pt x="1937" y="450"/>
                    </a:lnTo>
                    <a:lnTo>
                      <a:pt x="1935" y="444"/>
                    </a:lnTo>
                    <a:lnTo>
                      <a:pt x="1931" y="438"/>
                    </a:lnTo>
                    <a:lnTo>
                      <a:pt x="1927" y="436"/>
                    </a:lnTo>
                    <a:lnTo>
                      <a:pt x="1922" y="444"/>
                    </a:lnTo>
                    <a:lnTo>
                      <a:pt x="1923" y="451"/>
                    </a:lnTo>
                    <a:lnTo>
                      <a:pt x="1925" y="458"/>
                    </a:lnTo>
                    <a:lnTo>
                      <a:pt x="1927" y="466"/>
                    </a:lnTo>
                    <a:lnTo>
                      <a:pt x="1924" y="475"/>
                    </a:lnTo>
                    <a:lnTo>
                      <a:pt x="1924" y="486"/>
                    </a:lnTo>
                    <a:lnTo>
                      <a:pt x="1922" y="496"/>
                    </a:lnTo>
                    <a:lnTo>
                      <a:pt x="1917" y="505"/>
                    </a:lnTo>
                    <a:lnTo>
                      <a:pt x="1918" y="507"/>
                    </a:lnTo>
                    <a:lnTo>
                      <a:pt x="1923" y="508"/>
                    </a:lnTo>
                    <a:lnTo>
                      <a:pt x="1911" y="519"/>
                    </a:lnTo>
                    <a:lnTo>
                      <a:pt x="1899" y="532"/>
                    </a:lnTo>
                    <a:lnTo>
                      <a:pt x="1887" y="542"/>
                    </a:lnTo>
                    <a:lnTo>
                      <a:pt x="1877" y="553"/>
                    </a:lnTo>
                    <a:lnTo>
                      <a:pt x="1866" y="562"/>
                    </a:lnTo>
                    <a:lnTo>
                      <a:pt x="1855" y="572"/>
                    </a:lnTo>
                    <a:lnTo>
                      <a:pt x="1843" y="580"/>
                    </a:lnTo>
                    <a:lnTo>
                      <a:pt x="1832" y="589"/>
                    </a:lnTo>
                    <a:lnTo>
                      <a:pt x="1834" y="579"/>
                    </a:lnTo>
                    <a:lnTo>
                      <a:pt x="1836" y="570"/>
                    </a:lnTo>
                    <a:lnTo>
                      <a:pt x="1835" y="562"/>
                    </a:lnTo>
                    <a:lnTo>
                      <a:pt x="1829" y="557"/>
                    </a:lnTo>
                    <a:lnTo>
                      <a:pt x="1822" y="557"/>
                    </a:lnTo>
                    <a:lnTo>
                      <a:pt x="1819" y="560"/>
                    </a:lnTo>
                    <a:lnTo>
                      <a:pt x="1818" y="563"/>
                    </a:lnTo>
                    <a:lnTo>
                      <a:pt x="1819" y="569"/>
                    </a:lnTo>
                    <a:lnTo>
                      <a:pt x="1819" y="574"/>
                    </a:lnTo>
                    <a:lnTo>
                      <a:pt x="1819" y="579"/>
                    </a:lnTo>
                    <a:lnTo>
                      <a:pt x="1818" y="584"/>
                    </a:lnTo>
                    <a:lnTo>
                      <a:pt x="1816" y="589"/>
                    </a:lnTo>
                    <a:lnTo>
                      <a:pt x="1805" y="600"/>
                    </a:lnTo>
                    <a:lnTo>
                      <a:pt x="1794" y="609"/>
                    </a:lnTo>
                    <a:lnTo>
                      <a:pt x="1781" y="618"/>
                    </a:lnTo>
                    <a:lnTo>
                      <a:pt x="1769" y="625"/>
                    </a:lnTo>
                    <a:lnTo>
                      <a:pt x="1755" y="631"/>
                    </a:lnTo>
                    <a:lnTo>
                      <a:pt x="1742" y="638"/>
                    </a:lnTo>
                    <a:lnTo>
                      <a:pt x="1730" y="644"/>
                    </a:lnTo>
                    <a:lnTo>
                      <a:pt x="1718" y="654"/>
                    </a:lnTo>
                    <a:lnTo>
                      <a:pt x="1717" y="651"/>
                    </a:lnTo>
                    <a:lnTo>
                      <a:pt x="1715" y="648"/>
                    </a:lnTo>
                    <a:lnTo>
                      <a:pt x="1705" y="649"/>
                    </a:lnTo>
                    <a:lnTo>
                      <a:pt x="1698" y="653"/>
                    </a:lnTo>
                    <a:lnTo>
                      <a:pt x="1691" y="658"/>
                    </a:lnTo>
                    <a:lnTo>
                      <a:pt x="1687" y="665"/>
                    </a:lnTo>
                    <a:lnTo>
                      <a:pt x="1682" y="671"/>
                    </a:lnTo>
                    <a:lnTo>
                      <a:pt x="1677" y="677"/>
                    </a:lnTo>
                    <a:lnTo>
                      <a:pt x="1671" y="681"/>
                    </a:lnTo>
                    <a:lnTo>
                      <a:pt x="1663" y="683"/>
                    </a:lnTo>
                    <a:lnTo>
                      <a:pt x="1641" y="692"/>
                    </a:lnTo>
                    <a:lnTo>
                      <a:pt x="1621" y="701"/>
                    </a:lnTo>
                    <a:lnTo>
                      <a:pt x="1600" y="709"/>
                    </a:lnTo>
                    <a:lnTo>
                      <a:pt x="1580" y="716"/>
                    </a:lnTo>
                    <a:lnTo>
                      <a:pt x="1558" y="722"/>
                    </a:lnTo>
                    <a:lnTo>
                      <a:pt x="1538" y="728"/>
                    </a:lnTo>
                    <a:lnTo>
                      <a:pt x="1517" y="734"/>
                    </a:lnTo>
                    <a:lnTo>
                      <a:pt x="1497" y="742"/>
                    </a:lnTo>
                    <a:lnTo>
                      <a:pt x="1498" y="740"/>
                    </a:lnTo>
                    <a:lnTo>
                      <a:pt x="1501" y="736"/>
                    </a:lnTo>
                    <a:lnTo>
                      <a:pt x="1502" y="729"/>
                    </a:lnTo>
                    <a:lnTo>
                      <a:pt x="1497" y="726"/>
                    </a:lnTo>
                    <a:lnTo>
                      <a:pt x="1485" y="735"/>
                    </a:lnTo>
                    <a:lnTo>
                      <a:pt x="1473" y="742"/>
                    </a:lnTo>
                    <a:lnTo>
                      <a:pt x="1462" y="748"/>
                    </a:lnTo>
                    <a:lnTo>
                      <a:pt x="1451" y="753"/>
                    </a:lnTo>
                    <a:lnTo>
                      <a:pt x="1438" y="756"/>
                    </a:lnTo>
                    <a:lnTo>
                      <a:pt x="1425" y="759"/>
                    </a:lnTo>
                    <a:lnTo>
                      <a:pt x="1411" y="762"/>
                    </a:lnTo>
                    <a:lnTo>
                      <a:pt x="1397" y="765"/>
                    </a:lnTo>
                    <a:lnTo>
                      <a:pt x="1392" y="765"/>
                    </a:lnTo>
                    <a:lnTo>
                      <a:pt x="1397" y="760"/>
                    </a:lnTo>
                    <a:lnTo>
                      <a:pt x="1400" y="756"/>
                    </a:lnTo>
                    <a:lnTo>
                      <a:pt x="1400" y="750"/>
                    </a:lnTo>
                    <a:lnTo>
                      <a:pt x="1400" y="745"/>
                    </a:lnTo>
                    <a:lnTo>
                      <a:pt x="1397" y="742"/>
                    </a:lnTo>
                    <a:lnTo>
                      <a:pt x="1386" y="750"/>
                    </a:lnTo>
                    <a:lnTo>
                      <a:pt x="1376" y="758"/>
                    </a:lnTo>
                    <a:lnTo>
                      <a:pt x="1365" y="765"/>
                    </a:lnTo>
                    <a:lnTo>
                      <a:pt x="1355" y="772"/>
                    </a:lnTo>
                    <a:lnTo>
                      <a:pt x="1343" y="777"/>
                    </a:lnTo>
                    <a:lnTo>
                      <a:pt x="1332" y="780"/>
                    </a:lnTo>
                    <a:lnTo>
                      <a:pt x="1319" y="781"/>
                    </a:lnTo>
                    <a:lnTo>
                      <a:pt x="1305" y="781"/>
                    </a:lnTo>
                    <a:lnTo>
                      <a:pt x="1309" y="775"/>
                    </a:lnTo>
                    <a:lnTo>
                      <a:pt x="1314" y="769"/>
                    </a:lnTo>
                    <a:lnTo>
                      <a:pt x="1315" y="763"/>
                    </a:lnTo>
                    <a:lnTo>
                      <a:pt x="1318" y="758"/>
                    </a:lnTo>
                    <a:lnTo>
                      <a:pt x="1311" y="752"/>
                    </a:lnTo>
                    <a:lnTo>
                      <a:pt x="1276" y="787"/>
                    </a:lnTo>
                    <a:lnTo>
                      <a:pt x="1220" y="794"/>
                    </a:lnTo>
                    <a:lnTo>
                      <a:pt x="1225" y="787"/>
                    </a:lnTo>
                    <a:lnTo>
                      <a:pt x="1234" y="780"/>
                    </a:lnTo>
                    <a:lnTo>
                      <a:pt x="1237" y="775"/>
                    </a:lnTo>
                    <a:lnTo>
                      <a:pt x="1240" y="771"/>
                    </a:lnTo>
                    <a:lnTo>
                      <a:pt x="1242" y="766"/>
                    </a:lnTo>
                    <a:lnTo>
                      <a:pt x="1243" y="761"/>
                    </a:lnTo>
                    <a:lnTo>
                      <a:pt x="1234" y="758"/>
                    </a:lnTo>
                    <a:lnTo>
                      <a:pt x="1227" y="763"/>
                    </a:lnTo>
                    <a:lnTo>
                      <a:pt x="1223" y="769"/>
                    </a:lnTo>
                    <a:lnTo>
                      <a:pt x="1217" y="776"/>
                    </a:lnTo>
                    <a:lnTo>
                      <a:pt x="1213" y="783"/>
                    </a:lnTo>
                    <a:lnTo>
                      <a:pt x="1207" y="788"/>
                    </a:lnTo>
                    <a:lnTo>
                      <a:pt x="1202" y="792"/>
                    </a:lnTo>
                    <a:lnTo>
                      <a:pt x="1196" y="794"/>
                    </a:lnTo>
                    <a:lnTo>
                      <a:pt x="1191" y="794"/>
                    </a:lnTo>
                    <a:lnTo>
                      <a:pt x="1186" y="794"/>
                    </a:lnTo>
                    <a:lnTo>
                      <a:pt x="1181" y="798"/>
                    </a:lnTo>
                    <a:lnTo>
                      <a:pt x="1177" y="803"/>
                    </a:lnTo>
                    <a:lnTo>
                      <a:pt x="1168" y="806"/>
                    </a:lnTo>
                    <a:lnTo>
                      <a:pt x="1163" y="807"/>
                    </a:lnTo>
                    <a:lnTo>
                      <a:pt x="1158" y="808"/>
                    </a:lnTo>
                    <a:lnTo>
                      <a:pt x="1152" y="810"/>
                    </a:lnTo>
                    <a:lnTo>
                      <a:pt x="1149" y="814"/>
                    </a:lnTo>
                    <a:lnTo>
                      <a:pt x="1141" y="815"/>
                    </a:lnTo>
                    <a:lnTo>
                      <a:pt x="1135" y="820"/>
                    </a:lnTo>
                    <a:lnTo>
                      <a:pt x="1135" y="812"/>
                    </a:lnTo>
                    <a:lnTo>
                      <a:pt x="1129" y="807"/>
                    </a:lnTo>
                    <a:lnTo>
                      <a:pt x="1124" y="808"/>
                    </a:lnTo>
                    <a:lnTo>
                      <a:pt x="1122" y="813"/>
                    </a:lnTo>
                    <a:lnTo>
                      <a:pt x="1121" y="817"/>
                    </a:lnTo>
                    <a:lnTo>
                      <a:pt x="1119" y="820"/>
                    </a:lnTo>
                    <a:lnTo>
                      <a:pt x="1119" y="823"/>
                    </a:lnTo>
                    <a:lnTo>
                      <a:pt x="1109" y="825"/>
                    </a:lnTo>
                    <a:lnTo>
                      <a:pt x="1100" y="828"/>
                    </a:lnTo>
                    <a:lnTo>
                      <a:pt x="1090" y="830"/>
                    </a:lnTo>
                    <a:lnTo>
                      <a:pt x="1080" y="833"/>
                    </a:lnTo>
                    <a:lnTo>
                      <a:pt x="1069" y="836"/>
                    </a:lnTo>
                    <a:lnTo>
                      <a:pt x="1059" y="839"/>
                    </a:lnTo>
                    <a:lnTo>
                      <a:pt x="1049" y="843"/>
                    </a:lnTo>
                    <a:lnTo>
                      <a:pt x="1041" y="849"/>
                    </a:lnTo>
                    <a:lnTo>
                      <a:pt x="1041" y="842"/>
                    </a:lnTo>
                    <a:lnTo>
                      <a:pt x="1044" y="835"/>
                    </a:lnTo>
                    <a:lnTo>
                      <a:pt x="1043" y="831"/>
                    </a:lnTo>
                    <a:lnTo>
                      <a:pt x="1043" y="827"/>
                    </a:lnTo>
                    <a:lnTo>
                      <a:pt x="1040" y="824"/>
                    </a:lnTo>
                    <a:lnTo>
                      <a:pt x="1035" y="823"/>
                    </a:lnTo>
                    <a:lnTo>
                      <a:pt x="1031" y="830"/>
                    </a:lnTo>
                    <a:lnTo>
                      <a:pt x="1028" y="839"/>
                    </a:lnTo>
                    <a:lnTo>
                      <a:pt x="1025" y="846"/>
                    </a:lnTo>
                    <a:lnTo>
                      <a:pt x="1025" y="852"/>
                    </a:lnTo>
                    <a:lnTo>
                      <a:pt x="953" y="885"/>
                    </a:lnTo>
                    <a:lnTo>
                      <a:pt x="954" y="880"/>
                    </a:lnTo>
                    <a:lnTo>
                      <a:pt x="953" y="877"/>
                    </a:lnTo>
                    <a:lnTo>
                      <a:pt x="949" y="874"/>
                    </a:lnTo>
                    <a:lnTo>
                      <a:pt x="944" y="871"/>
                    </a:lnTo>
                    <a:lnTo>
                      <a:pt x="939" y="883"/>
                    </a:lnTo>
                    <a:lnTo>
                      <a:pt x="931" y="893"/>
                    </a:lnTo>
                    <a:lnTo>
                      <a:pt x="920" y="900"/>
                    </a:lnTo>
                    <a:lnTo>
                      <a:pt x="909" y="907"/>
                    </a:lnTo>
                    <a:lnTo>
                      <a:pt x="895" y="912"/>
                    </a:lnTo>
                    <a:lnTo>
                      <a:pt x="882" y="918"/>
                    </a:lnTo>
                    <a:lnTo>
                      <a:pt x="868" y="925"/>
                    </a:lnTo>
                    <a:lnTo>
                      <a:pt x="856" y="933"/>
                    </a:lnTo>
                    <a:lnTo>
                      <a:pt x="843" y="924"/>
                    </a:lnTo>
                    <a:lnTo>
                      <a:pt x="839" y="929"/>
                    </a:lnTo>
                    <a:lnTo>
                      <a:pt x="837" y="935"/>
                    </a:lnTo>
                    <a:lnTo>
                      <a:pt x="837" y="940"/>
                    </a:lnTo>
                    <a:lnTo>
                      <a:pt x="837" y="946"/>
                    </a:lnTo>
                    <a:lnTo>
                      <a:pt x="826" y="949"/>
                    </a:lnTo>
                    <a:lnTo>
                      <a:pt x="817" y="954"/>
                    </a:lnTo>
                    <a:lnTo>
                      <a:pt x="807" y="958"/>
                    </a:lnTo>
                    <a:lnTo>
                      <a:pt x="799" y="964"/>
                    </a:lnTo>
                    <a:lnTo>
                      <a:pt x="790" y="971"/>
                    </a:lnTo>
                    <a:lnTo>
                      <a:pt x="781" y="977"/>
                    </a:lnTo>
                    <a:lnTo>
                      <a:pt x="771" y="983"/>
                    </a:lnTo>
                    <a:lnTo>
                      <a:pt x="762" y="989"/>
                    </a:lnTo>
                    <a:lnTo>
                      <a:pt x="764" y="987"/>
                    </a:lnTo>
                    <a:lnTo>
                      <a:pt x="765" y="983"/>
                    </a:lnTo>
                    <a:lnTo>
                      <a:pt x="760" y="981"/>
                    </a:lnTo>
                    <a:lnTo>
                      <a:pt x="758" y="978"/>
                    </a:lnTo>
                    <a:lnTo>
                      <a:pt x="755" y="975"/>
                    </a:lnTo>
                    <a:lnTo>
                      <a:pt x="752" y="976"/>
                    </a:lnTo>
                    <a:lnTo>
                      <a:pt x="747" y="989"/>
                    </a:lnTo>
                    <a:lnTo>
                      <a:pt x="740" y="1000"/>
                    </a:lnTo>
                    <a:lnTo>
                      <a:pt x="728" y="1008"/>
                    </a:lnTo>
                    <a:lnTo>
                      <a:pt x="717" y="1016"/>
                    </a:lnTo>
                    <a:lnTo>
                      <a:pt x="704" y="1022"/>
                    </a:lnTo>
                    <a:lnTo>
                      <a:pt x="691" y="1029"/>
                    </a:lnTo>
                    <a:lnTo>
                      <a:pt x="678" y="1036"/>
                    </a:lnTo>
                    <a:lnTo>
                      <a:pt x="667" y="1047"/>
                    </a:lnTo>
                    <a:lnTo>
                      <a:pt x="660" y="1042"/>
                    </a:lnTo>
                    <a:lnTo>
                      <a:pt x="651" y="1037"/>
                    </a:lnTo>
                    <a:lnTo>
                      <a:pt x="648" y="1042"/>
                    </a:lnTo>
                    <a:lnTo>
                      <a:pt x="648" y="1048"/>
                    </a:lnTo>
                    <a:lnTo>
                      <a:pt x="647" y="1054"/>
                    </a:lnTo>
                    <a:lnTo>
                      <a:pt x="647" y="1061"/>
                    </a:lnTo>
                    <a:lnTo>
                      <a:pt x="593" y="1093"/>
                    </a:lnTo>
                    <a:lnTo>
                      <a:pt x="593" y="1086"/>
                    </a:lnTo>
                    <a:lnTo>
                      <a:pt x="585" y="1085"/>
                    </a:lnTo>
                    <a:lnTo>
                      <a:pt x="578" y="1088"/>
                    </a:lnTo>
                    <a:lnTo>
                      <a:pt x="572" y="1093"/>
                    </a:lnTo>
                    <a:lnTo>
                      <a:pt x="567" y="1100"/>
                    </a:lnTo>
                    <a:lnTo>
                      <a:pt x="560" y="1106"/>
                    </a:lnTo>
                    <a:lnTo>
                      <a:pt x="556" y="1112"/>
                    </a:lnTo>
                    <a:lnTo>
                      <a:pt x="551" y="1117"/>
                    </a:lnTo>
                    <a:lnTo>
                      <a:pt x="547" y="1122"/>
                    </a:lnTo>
                    <a:lnTo>
                      <a:pt x="537" y="1126"/>
                    </a:lnTo>
                    <a:lnTo>
                      <a:pt x="529" y="1131"/>
                    </a:lnTo>
                    <a:lnTo>
                      <a:pt x="521" y="1136"/>
                    </a:lnTo>
                    <a:lnTo>
                      <a:pt x="514" y="1141"/>
                    </a:lnTo>
                    <a:lnTo>
                      <a:pt x="514" y="1135"/>
                    </a:lnTo>
                    <a:lnTo>
                      <a:pt x="511" y="1131"/>
                    </a:lnTo>
                    <a:lnTo>
                      <a:pt x="504" y="1130"/>
                    </a:lnTo>
                    <a:lnTo>
                      <a:pt x="499" y="1133"/>
                    </a:lnTo>
                    <a:lnTo>
                      <a:pt x="494" y="1136"/>
                    </a:lnTo>
                    <a:lnTo>
                      <a:pt x="490" y="1141"/>
                    </a:lnTo>
                    <a:lnTo>
                      <a:pt x="486" y="1145"/>
                    </a:lnTo>
                    <a:lnTo>
                      <a:pt x="481" y="1150"/>
                    </a:lnTo>
                    <a:lnTo>
                      <a:pt x="477" y="1153"/>
                    </a:lnTo>
                    <a:lnTo>
                      <a:pt x="472" y="1155"/>
                    </a:lnTo>
                    <a:lnTo>
                      <a:pt x="466" y="1155"/>
                    </a:lnTo>
                    <a:lnTo>
                      <a:pt x="460" y="1157"/>
                    </a:lnTo>
                    <a:lnTo>
                      <a:pt x="453" y="1159"/>
                    </a:lnTo>
                    <a:lnTo>
                      <a:pt x="446" y="1161"/>
                    </a:lnTo>
                    <a:lnTo>
                      <a:pt x="437" y="1161"/>
                    </a:lnTo>
                    <a:lnTo>
                      <a:pt x="430" y="1161"/>
                    </a:lnTo>
                    <a:lnTo>
                      <a:pt x="424" y="1159"/>
                    </a:lnTo>
                    <a:lnTo>
                      <a:pt x="420" y="1155"/>
                    </a:lnTo>
                    <a:lnTo>
                      <a:pt x="412" y="1156"/>
                    </a:lnTo>
                    <a:lnTo>
                      <a:pt x="406" y="1160"/>
                    </a:lnTo>
                    <a:lnTo>
                      <a:pt x="399" y="1166"/>
                    </a:lnTo>
                    <a:lnTo>
                      <a:pt x="397" y="1174"/>
                    </a:lnTo>
                    <a:lnTo>
                      <a:pt x="388" y="1174"/>
                    </a:lnTo>
                    <a:lnTo>
                      <a:pt x="379" y="1177"/>
                    </a:lnTo>
                    <a:lnTo>
                      <a:pt x="370" y="1179"/>
                    </a:lnTo>
                    <a:lnTo>
                      <a:pt x="361" y="1182"/>
                    </a:lnTo>
                    <a:lnTo>
                      <a:pt x="352" y="1183"/>
                    </a:lnTo>
                    <a:lnTo>
                      <a:pt x="345" y="1185"/>
                    </a:lnTo>
                    <a:lnTo>
                      <a:pt x="338" y="1184"/>
                    </a:lnTo>
                    <a:lnTo>
                      <a:pt x="332" y="1184"/>
                    </a:lnTo>
                    <a:lnTo>
                      <a:pt x="307" y="1193"/>
                    </a:lnTo>
                    <a:lnTo>
                      <a:pt x="285" y="1199"/>
                    </a:lnTo>
                    <a:lnTo>
                      <a:pt x="263" y="1200"/>
                    </a:lnTo>
                    <a:lnTo>
                      <a:pt x="242" y="1200"/>
                    </a:lnTo>
                    <a:lnTo>
                      <a:pt x="218" y="1196"/>
                    </a:lnTo>
                    <a:lnTo>
                      <a:pt x="196" y="1192"/>
                    </a:lnTo>
                    <a:lnTo>
                      <a:pt x="171" y="1187"/>
                    </a:lnTo>
                    <a:lnTo>
                      <a:pt x="146" y="1184"/>
                    </a:lnTo>
                    <a:lnTo>
                      <a:pt x="123" y="1181"/>
                    </a:lnTo>
                    <a:lnTo>
                      <a:pt x="104" y="1178"/>
                    </a:lnTo>
                    <a:lnTo>
                      <a:pt x="85" y="1172"/>
                    </a:lnTo>
                    <a:lnTo>
                      <a:pt x="69" y="1167"/>
                    </a:lnTo>
                    <a:lnTo>
                      <a:pt x="50" y="1159"/>
                    </a:lnTo>
                    <a:lnTo>
                      <a:pt x="34" y="1151"/>
                    </a:lnTo>
                    <a:lnTo>
                      <a:pt x="17" y="1140"/>
                    </a:lnTo>
                    <a:lnTo>
                      <a:pt x="0" y="1131"/>
                    </a:lnTo>
                    <a:lnTo>
                      <a:pt x="12" y="1137"/>
                    </a:lnTo>
                    <a:lnTo>
                      <a:pt x="25" y="1142"/>
                    </a:lnTo>
                    <a:lnTo>
                      <a:pt x="39" y="1145"/>
                    </a:lnTo>
                    <a:lnTo>
                      <a:pt x="54" y="1150"/>
                    </a:lnTo>
                    <a:lnTo>
                      <a:pt x="70" y="1150"/>
                    </a:lnTo>
                    <a:lnTo>
                      <a:pt x="85" y="1150"/>
                    </a:lnTo>
                    <a:lnTo>
                      <a:pt x="101" y="1149"/>
                    </a:lnTo>
                    <a:lnTo>
                      <a:pt x="117" y="1148"/>
                    </a:lnTo>
                    <a:lnTo>
                      <a:pt x="120" y="1154"/>
                    </a:lnTo>
                    <a:lnTo>
                      <a:pt x="127" y="1158"/>
                    </a:lnTo>
                    <a:lnTo>
                      <a:pt x="133" y="1152"/>
                    </a:lnTo>
                    <a:lnTo>
                      <a:pt x="133" y="1148"/>
                    </a:lnTo>
                    <a:lnTo>
                      <a:pt x="182" y="1148"/>
                    </a:lnTo>
                    <a:lnTo>
                      <a:pt x="183" y="1153"/>
                    </a:lnTo>
                    <a:lnTo>
                      <a:pt x="186" y="1158"/>
                    </a:lnTo>
                    <a:lnTo>
                      <a:pt x="192" y="1161"/>
                    </a:lnTo>
                    <a:lnTo>
                      <a:pt x="193" y="1155"/>
                    </a:lnTo>
                    <a:lnTo>
                      <a:pt x="197" y="1152"/>
                    </a:lnTo>
                    <a:lnTo>
                      <a:pt x="202" y="1150"/>
                    </a:lnTo>
                    <a:lnTo>
                      <a:pt x="209" y="1152"/>
                    </a:lnTo>
                    <a:lnTo>
                      <a:pt x="215" y="1152"/>
                    </a:lnTo>
                    <a:lnTo>
                      <a:pt x="223" y="1154"/>
                    </a:lnTo>
                    <a:lnTo>
                      <a:pt x="230" y="1154"/>
                    </a:lnTo>
                    <a:lnTo>
                      <a:pt x="238" y="1155"/>
                    </a:lnTo>
                    <a:lnTo>
                      <a:pt x="233" y="1160"/>
                    </a:lnTo>
                    <a:lnTo>
                      <a:pt x="231" y="1167"/>
                    </a:lnTo>
                    <a:lnTo>
                      <a:pt x="230" y="1172"/>
                    </a:lnTo>
                    <a:lnTo>
                      <a:pt x="238" y="1177"/>
                    </a:lnTo>
                    <a:lnTo>
                      <a:pt x="243" y="1174"/>
                    </a:lnTo>
                    <a:lnTo>
                      <a:pt x="246" y="1169"/>
                    </a:lnTo>
                    <a:lnTo>
                      <a:pt x="247" y="1163"/>
                    </a:lnTo>
                    <a:lnTo>
                      <a:pt x="251" y="1158"/>
                    </a:lnTo>
                    <a:lnTo>
                      <a:pt x="255" y="1157"/>
                    </a:lnTo>
                    <a:lnTo>
                      <a:pt x="261" y="1157"/>
                    </a:lnTo>
                    <a:lnTo>
                      <a:pt x="267" y="1157"/>
                    </a:lnTo>
                    <a:lnTo>
                      <a:pt x="273" y="1157"/>
                    </a:lnTo>
                    <a:lnTo>
                      <a:pt x="278" y="1156"/>
                    </a:lnTo>
                    <a:lnTo>
                      <a:pt x="284" y="1155"/>
                    </a:lnTo>
                    <a:lnTo>
                      <a:pt x="290" y="1153"/>
                    </a:lnTo>
                    <a:lnTo>
                      <a:pt x="296" y="1152"/>
                    </a:lnTo>
                    <a:lnTo>
                      <a:pt x="296" y="1159"/>
                    </a:lnTo>
                    <a:lnTo>
                      <a:pt x="299" y="1168"/>
                    </a:lnTo>
                    <a:lnTo>
                      <a:pt x="305" y="1166"/>
                    </a:lnTo>
                    <a:lnTo>
                      <a:pt x="309" y="1160"/>
                    </a:lnTo>
                    <a:lnTo>
                      <a:pt x="310" y="1152"/>
                    </a:lnTo>
                    <a:lnTo>
                      <a:pt x="312" y="1148"/>
                    </a:lnTo>
                    <a:lnTo>
                      <a:pt x="319" y="1145"/>
                    </a:lnTo>
                    <a:lnTo>
                      <a:pt x="327" y="1143"/>
                    </a:lnTo>
                    <a:lnTo>
                      <a:pt x="335" y="1140"/>
                    </a:lnTo>
                    <a:lnTo>
                      <a:pt x="344" y="1137"/>
                    </a:lnTo>
                    <a:lnTo>
                      <a:pt x="352" y="1134"/>
                    </a:lnTo>
                    <a:lnTo>
                      <a:pt x="360" y="1131"/>
                    </a:lnTo>
                    <a:lnTo>
                      <a:pt x="367" y="1130"/>
                    </a:lnTo>
                    <a:lnTo>
                      <a:pt x="374" y="1131"/>
                    </a:lnTo>
                    <a:lnTo>
                      <a:pt x="372" y="1137"/>
                    </a:lnTo>
                    <a:lnTo>
                      <a:pt x="371" y="1144"/>
                    </a:lnTo>
                    <a:lnTo>
                      <a:pt x="377" y="1152"/>
                    </a:lnTo>
                    <a:lnTo>
                      <a:pt x="380" y="1141"/>
                    </a:lnTo>
                    <a:lnTo>
                      <a:pt x="385" y="1134"/>
                    </a:lnTo>
                    <a:lnTo>
                      <a:pt x="390" y="1127"/>
                    </a:lnTo>
                    <a:lnTo>
                      <a:pt x="397" y="1122"/>
                    </a:lnTo>
                    <a:lnTo>
                      <a:pt x="404" y="1117"/>
                    </a:lnTo>
                    <a:lnTo>
                      <a:pt x="413" y="1115"/>
                    </a:lnTo>
                    <a:lnTo>
                      <a:pt x="422" y="1112"/>
                    </a:lnTo>
                    <a:lnTo>
                      <a:pt x="433" y="1112"/>
                    </a:lnTo>
                    <a:lnTo>
                      <a:pt x="431" y="1120"/>
                    </a:lnTo>
                    <a:lnTo>
                      <a:pt x="429" y="1129"/>
                    </a:lnTo>
                    <a:lnTo>
                      <a:pt x="429" y="1135"/>
                    </a:lnTo>
                    <a:lnTo>
                      <a:pt x="436" y="1141"/>
                    </a:lnTo>
                    <a:lnTo>
                      <a:pt x="442" y="1134"/>
                    </a:lnTo>
                    <a:lnTo>
                      <a:pt x="445" y="1124"/>
                    </a:lnTo>
                    <a:lnTo>
                      <a:pt x="446" y="1113"/>
                    </a:lnTo>
                    <a:lnTo>
                      <a:pt x="449" y="1106"/>
                    </a:lnTo>
                    <a:lnTo>
                      <a:pt x="502" y="1080"/>
                    </a:lnTo>
                    <a:lnTo>
                      <a:pt x="504" y="1086"/>
                    </a:lnTo>
                    <a:lnTo>
                      <a:pt x="504" y="1096"/>
                    </a:lnTo>
                    <a:lnTo>
                      <a:pt x="504" y="1100"/>
                    </a:lnTo>
                    <a:lnTo>
                      <a:pt x="506" y="1105"/>
                    </a:lnTo>
                    <a:lnTo>
                      <a:pt x="508" y="1107"/>
                    </a:lnTo>
                    <a:lnTo>
                      <a:pt x="514" y="1109"/>
                    </a:lnTo>
                    <a:lnTo>
                      <a:pt x="512" y="1094"/>
                    </a:lnTo>
                    <a:lnTo>
                      <a:pt x="514" y="1083"/>
                    </a:lnTo>
                    <a:lnTo>
                      <a:pt x="518" y="1073"/>
                    </a:lnTo>
                    <a:lnTo>
                      <a:pt x="526" y="1066"/>
                    </a:lnTo>
                    <a:lnTo>
                      <a:pt x="533" y="1057"/>
                    </a:lnTo>
                    <a:lnTo>
                      <a:pt x="542" y="1051"/>
                    </a:lnTo>
                    <a:lnTo>
                      <a:pt x="550" y="1044"/>
                    </a:lnTo>
                    <a:lnTo>
                      <a:pt x="559" y="1037"/>
                    </a:lnTo>
                    <a:lnTo>
                      <a:pt x="562" y="1031"/>
                    </a:lnTo>
                    <a:lnTo>
                      <a:pt x="567" y="1029"/>
                    </a:lnTo>
                    <a:lnTo>
                      <a:pt x="571" y="1030"/>
                    </a:lnTo>
                    <a:lnTo>
                      <a:pt x="575" y="1034"/>
                    </a:lnTo>
                    <a:lnTo>
                      <a:pt x="578" y="1038"/>
                    </a:lnTo>
                    <a:lnTo>
                      <a:pt x="581" y="1043"/>
                    </a:lnTo>
                    <a:lnTo>
                      <a:pt x="583" y="1048"/>
                    </a:lnTo>
                    <a:lnTo>
                      <a:pt x="586" y="1053"/>
                    </a:lnTo>
                    <a:lnTo>
                      <a:pt x="584" y="1060"/>
                    </a:lnTo>
                    <a:lnTo>
                      <a:pt x="589" y="1067"/>
                    </a:lnTo>
                    <a:lnTo>
                      <a:pt x="594" y="1062"/>
                    </a:lnTo>
                    <a:lnTo>
                      <a:pt x="594" y="1054"/>
                    </a:lnTo>
                    <a:lnTo>
                      <a:pt x="592" y="1046"/>
                    </a:lnTo>
                    <a:lnTo>
                      <a:pt x="593" y="1040"/>
                    </a:lnTo>
                    <a:lnTo>
                      <a:pt x="591" y="1035"/>
                    </a:lnTo>
                    <a:lnTo>
                      <a:pt x="590" y="1030"/>
                    </a:lnTo>
                    <a:lnTo>
                      <a:pt x="588" y="1024"/>
                    </a:lnTo>
                    <a:lnTo>
                      <a:pt x="583" y="1021"/>
                    </a:lnTo>
                    <a:lnTo>
                      <a:pt x="658" y="973"/>
                    </a:lnTo>
                    <a:lnTo>
                      <a:pt x="663" y="975"/>
                    </a:lnTo>
                    <a:lnTo>
                      <a:pt x="667" y="980"/>
                    </a:lnTo>
                    <a:lnTo>
                      <a:pt x="668" y="986"/>
                    </a:lnTo>
                    <a:lnTo>
                      <a:pt x="670" y="994"/>
                    </a:lnTo>
                    <a:lnTo>
                      <a:pt x="671" y="999"/>
                    </a:lnTo>
                    <a:lnTo>
                      <a:pt x="674" y="1004"/>
                    </a:lnTo>
                    <a:lnTo>
                      <a:pt x="677" y="1005"/>
                    </a:lnTo>
                    <a:lnTo>
                      <a:pt x="684" y="1002"/>
                    </a:lnTo>
                    <a:lnTo>
                      <a:pt x="683" y="992"/>
                    </a:lnTo>
                    <a:lnTo>
                      <a:pt x="682" y="983"/>
                    </a:lnTo>
                    <a:lnTo>
                      <a:pt x="679" y="975"/>
                    </a:lnTo>
                    <a:lnTo>
                      <a:pt x="674" y="969"/>
                    </a:lnTo>
                    <a:lnTo>
                      <a:pt x="669" y="965"/>
                    </a:lnTo>
                    <a:lnTo>
                      <a:pt x="667" y="959"/>
                    </a:lnTo>
                    <a:lnTo>
                      <a:pt x="725" y="917"/>
                    </a:lnTo>
                    <a:lnTo>
                      <a:pt x="727" y="920"/>
                    </a:lnTo>
                    <a:lnTo>
                      <a:pt x="731" y="923"/>
                    </a:lnTo>
                    <a:lnTo>
                      <a:pt x="737" y="925"/>
                    </a:lnTo>
                    <a:lnTo>
                      <a:pt x="743" y="928"/>
                    </a:lnTo>
                    <a:lnTo>
                      <a:pt x="747" y="930"/>
                    </a:lnTo>
                    <a:lnTo>
                      <a:pt x="752" y="934"/>
                    </a:lnTo>
                    <a:lnTo>
                      <a:pt x="754" y="938"/>
                    </a:lnTo>
                    <a:lnTo>
                      <a:pt x="755" y="946"/>
                    </a:lnTo>
                    <a:lnTo>
                      <a:pt x="752" y="952"/>
                    </a:lnTo>
                    <a:lnTo>
                      <a:pt x="755" y="959"/>
                    </a:lnTo>
                    <a:lnTo>
                      <a:pt x="762" y="956"/>
                    </a:lnTo>
                    <a:lnTo>
                      <a:pt x="765" y="950"/>
                    </a:lnTo>
                    <a:lnTo>
                      <a:pt x="764" y="944"/>
                    </a:lnTo>
                    <a:lnTo>
                      <a:pt x="764" y="938"/>
                    </a:lnTo>
                    <a:lnTo>
                      <a:pt x="762" y="932"/>
                    </a:lnTo>
                    <a:lnTo>
                      <a:pt x="761" y="927"/>
                    </a:lnTo>
                    <a:lnTo>
                      <a:pt x="758" y="921"/>
                    </a:lnTo>
                    <a:lnTo>
                      <a:pt x="755" y="917"/>
                    </a:lnTo>
                    <a:lnTo>
                      <a:pt x="751" y="913"/>
                    </a:lnTo>
                    <a:lnTo>
                      <a:pt x="746" y="911"/>
                    </a:lnTo>
                    <a:lnTo>
                      <a:pt x="733" y="914"/>
                    </a:lnTo>
                    <a:lnTo>
                      <a:pt x="743" y="906"/>
                    </a:lnTo>
                    <a:lnTo>
                      <a:pt x="753" y="900"/>
                    </a:lnTo>
                    <a:lnTo>
                      <a:pt x="763" y="893"/>
                    </a:lnTo>
                    <a:lnTo>
                      <a:pt x="773" y="887"/>
                    </a:lnTo>
                    <a:lnTo>
                      <a:pt x="782" y="879"/>
                    </a:lnTo>
                    <a:lnTo>
                      <a:pt x="793" y="872"/>
                    </a:lnTo>
                    <a:lnTo>
                      <a:pt x="804" y="863"/>
                    </a:lnTo>
                    <a:lnTo>
                      <a:pt x="817" y="855"/>
                    </a:lnTo>
                    <a:lnTo>
                      <a:pt x="814" y="858"/>
                    </a:lnTo>
                    <a:lnTo>
                      <a:pt x="812" y="861"/>
                    </a:lnTo>
                    <a:lnTo>
                      <a:pt x="817" y="865"/>
                    </a:lnTo>
                    <a:lnTo>
                      <a:pt x="825" y="868"/>
                    </a:lnTo>
                    <a:lnTo>
                      <a:pt x="831" y="874"/>
                    </a:lnTo>
                    <a:lnTo>
                      <a:pt x="833" y="877"/>
                    </a:lnTo>
                    <a:lnTo>
                      <a:pt x="835" y="883"/>
                    </a:lnTo>
                    <a:lnTo>
                      <a:pt x="836" y="889"/>
                    </a:lnTo>
                    <a:lnTo>
                      <a:pt x="837" y="895"/>
                    </a:lnTo>
                    <a:lnTo>
                      <a:pt x="836" y="899"/>
                    </a:lnTo>
                    <a:lnTo>
                      <a:pt x="838" y="903"/>
                    </a:lnTo>
                    <a:lnTo>
                      <a:pt x="842" y="905"/>
                    </a:lnTo>
                    <a:lnTo>
                      <a:pt x="846" y="905"/>
                    </a:lnTo>
                    <a:lnTo>
                      <a:pt x="848" y="898"/>
                    </a:lnTo>
                    <a:lnTo>
                      <a:pt x="850" y="892"/>
                    </a:lnTo>
                    <a:lnTo>
                      <a:pt x="850" y="886"/>
                    </a:lnTo>
                    <a:lnTo>
                      <a:pt x="851" y="880"/>
                    </a:lnTo>
                    <a:lnTo>
                      <a:pt x="850" y="874"/>
                    </a:lnTo>
                    <a:lnTo>
                      <a:pt x="848" y="868"/>
                    </a:lnTo>
                    <a:lnTo>
                      <a:pt x="844" y="863"/>
                    </a:lnTo>
                    <a:lnTo>
                      <a:pt x="840" y="859"/>
                    </a:lnTo>
                    <a:lnTo>
                      <a:pt x="836" y="855"/>
                    </a:lnTo>
                    <a:lnTo>
                      <a:pt x="832" y="854"/>
                    </a:lnTo>
                    <a:lnTo>
                      <a:pt x="826" y="853"/>
                    </a:lnTo>
                    <a:lnTo>
                      <a:pt x="824" y="852"/>
                    </a:lnTo>
                    <a:lnTo>
                      <a:pt x="836" y="842"/>
                    </a:lnTo>
                    <a:lnTo>
                      <a:pt x="848" y="835"/>
                    </a:lnTo>
                    <a:lnTo>
                      <a:pt x="860" y="828"/>
                    </a:lnTo>
                    <a:lnTo>
                      <a:pt x="874" y="823"/>
                    </a:lnTo>
                    <a:lnTo>
                      <a:pt x="887" y="817"/>
                    </a:lnTo>
                    <a:lnTo>
                      <a:pt x="902" y="813"/>
                    </a:lnTo>
                    <a:lnTo>
                      <a:pt x="916" y="808"/>
                    </a:lnTo>
                    <a:lnTo>
                      <a:pt x="931" y="804"/>
                    </a:lnTo>
                    <a:lnTo>
                      <a:pt x="928" y="804"/>
                    </a:lnTo>
                    <a:lnTo>
                      <a:pt x="930" y="808"/>
                    </a:lnTo>
                    <a:lnTo>
                      <a:pt x="932" y="813"/>
                    </a:lnTo>
                    <a:lnTo>
                      <a:pt x="934" y="819"/>
                    </a:lnTo>
                    <a:lnTo>
                      <a:pt x="936" y="825"/>
                    </a:lnTo>
                    <a:lnTo>
                      <a:pt x="939" y="835"/>
                    </a:lnTo>
                    <a:lnTo>
                      <a:pt x="941" y="846"/>
                    </a:lnTo>
                    <a:lnTo>
                      <a:pt x="947" y="843"/>
                    </a:lnTo>
                    <a:lnTo>
                      <a:pt x="950" y="836"/>
                    </a:lnTo>
                    <a:lnTo>
                      <a:pt x="950" y="831"/>
                    </a:lnTo>
                    <a:lnTo>
                      <a:pt x="950" y="826"/>
                    </a:lnTo>
                    <a:lnTo>
                      <a:pt x="950" y="820"/>
                    </a:lnTo>
                    <a:lnTo>
                      <a:pt x="950" y="817"/>
                    </a:lnTo>
                    <a:lnTo>
                      <a:pt x="945" y="812"/>
                    </a:lnTo>
                    <a:lnTo>
                      <a:pt x="943" y="808"/>
                    </a:lnTo>
                    <a:lnTo>
                      <a:pt x="940" y="804"/>
                    </a:lnTo>
                    <a:lnTo>
                      <a:pt x="934" y="804"/>
                    </a:lnTo>
                    <a:lnTo>
                      <a:pt x="943" y="798"/>
                    </a:lnTo>
                    <a:lnTo>
                      <a:pt x="953" y="792"/>
                    </a:lnTo>
                    <a:lnTo>
                      <a:pt x="963" y="788"/>
                    </a:lnTo>
                    <a:lnTo>
                      <a:pt x="973" y="785"/>
                    </a:lnTo>
                    <a:lnTo>
                      <a:pt x="983" y="781"/>
                    </a:lnTo>
                    <a:lnTo>
                      <a:pt x="994" y="778"/>
                    </a:lnTo>
                    <a:lnTo>
                      <a:pt x="1004" y="774"/>
                    </a:lnTo>
                    <a:lnTo>
                      <a:pt x="1015" y="771"/>
                    </a:lnTo>
                    <a:lnTo>
                      <a:pt x="1019" y="773"/>
                    </a:lnTo>
                    <a:lnTo>
                      <a:pt x="1023" y="779"/>
                    </a:lnTo>
                    <a:lnTo>
                      <a:pt x="1026" y="784"/>
                    </a:lnTo>
                    <a:lnTo>
                      <a:pt x="1029" y="791"/>
                    </a:lnTo>
                    <a:lnTo>
                      <a:pt x="1030" y="797"/>
                    </a:lnTo>
                    <a:lnTo>
                      <a:pt x="1033" y="803"/>
                    </a:lnTo>
                    <a:lnTo>
                      <a:pt x="1036" y="806"/>
                    </a:lnTo>
                    <a:lnTo>
                      <a:pt x="1041" y="807"/>
                    </a:lnTo>
                    <a:lnTo>
                      <a:pt x="1044" y="798"/>
                    </a:lnTo>
                    <a:lnTo>
                      <a:pt x="1044" y="788"/>
                    </a:lnTo>
                    <a:lnTo>
                      <a:pt x="1040" y="777"/>
                    </a:lnTo>
                    <a:lnTo>
                      <a:pt x="1035" y="768"/>
                    </a:lnTo>
                    <a:lnTo>
                      <a:pt x="1033" y="768"/>
                    </a:lnTo>
                    <a:lnTo>
                      <a:pt x="1032" y="765"/>
                    </a:lnTo>
                    <a:lnTo>
                      <a:pt x="1039" y="759"/>
                    </a:lnTo>
                    <a:lnTo>
                      <a:pt x="1048" y="755"/>
                    </a:lnTo>
                    <a:lnTo>
                      <a:pt x="1058" y="752"/>
                    </a:lnTo>
                    <a:lnTo>
                      <a:pt x="1071" y="749"/>
                    </a:lnTo>
                    <a:lnTo>
                      <a:pt x="1082" y="746"/>
                    </a:lnTo>
                    <a:lnTo>
                      <a:pt x="1094" y="743"/>
                    </a:lnTo>
                    <a:lnTo>
                      <a:pt x="1105" y="741"/>
                    </a:lnTo>
                    <a:lnTo>
                      <a:pt x="1116" y="739"/>
                    </a:lnTo>
                    <a:lnTo>
                      <a:pt x="1119" y="736"/>
                    </a:lnTo>
                    <a:lnTo>
                      <a:pt x="1117" y="743"/>
                    </a:lnTo>
                    <a:lnTo>
                      <a:pt x="1119" y="751"/>
                    </a:lnTo>
                    <a:lnTo>
                      <a:pt x="1124" y="759"/>
                    </a:lnTo>
                    <a:lnTo>
                      <a:pt x="1129" y="768"/>
                    </a:lnTo>
                    <a:lnTo>
                      <a:pt x="1132" y="770"/>
                    </a:lnTo>
                    <a:lnTo>
                      <a:pt x="1135" y="771"/>
                    </a:lnTo>
                    <a:lnTo>
                      <a:pt x="1135" y="765"/>
                    </a:lnTo>
                    <a:lnTo>
                      <a:pt x="1136" y="760"/>
                    </a:lnTo>
                    <a:lnTo>
                      <a:pt x="1135" y="755"/>
                    </a:lnTo>
                    <a:lnTo>
                      <a:pt x="1135" y="752"/>
                    </a:lnTo>
                    <a:lnTo>
                      <a:pt x="1131" y="744"/>
                    </a:lnTo>
                    <a:lnTo>
                      <a:pt x="1126" y="736"/>
                    </a:lnTo>
                    <a:lnTo>
                      <a:pt x="1137" y="732"/>
                    </a:lnTo>
                    <a:lnTo>
                      <a:pt x="1149" y="729"/>
                    </a:lnTo>
                    <a:lnTo>
                      <a:pt x="1159" y="726"/>
                    </a:lnTo>
                    <a:lnTo>
                      <a:pt x="1169" y="724"/>
                    </a:lnTo>
                    <a:lnTo>
                      <a:pt x="1178" y="722"/>
                    </a:lnTo>
                    <a:lnTo>
                      <a:pt x="1188" y="720"/>
                    </a:lnTo>
                    <a:lnTo>
                      <a:pt x="1197" y="718"/>
                    </a:lnTo>
                    <a:lnTo>
                      <a:pt x="1207" y="716"/>
                    </a:lnTo>
                    <a:lnTo>
                      <a:pt x="1209" y="719"/>
                    </a:lnTo>
                    <a:lnTo>
                      <a:pt x="1211" y="725"/>
                    </a:lnTo>
                    <a:lnTo>
                      <a:pt x="1212" y="730"/>
                    </a:lnTo>
                    <a:lnTo>
                      <a:pt x="1213" y="736"/>
                    </a:lnTo>
                    <a:lnTo>
                      <a:pt x="1213" y="741"/>
                    </a:lnTo>
                    <a:lnTo>
                      <a:pt x="1215" y="747"/>
                    </a:lnTo>
                    <a:lnTo>
                      <a:pt x="1216" y="751"/>
                    </a:lnTo>
                    <a:lnTo>
                      <a:pt x="1220" y="755"/>
                    </a:lnTo>
                    <a:lnTo>
                      <a:pt x="1224" y="748"/>
                    </a:lnTo>
                    <a:lnTo>
                      <a:pt x="1226" y="741"/>
                    </a:lnTo>
                    <a:lnTo>
                      <a:pt x="1226" y="733"/>
                    </a:lnTo>
                    <a:lnTo>
                      <a:pt x="1226" y="727"/>
                    </a:lnTo>
                    <a:lnTo>
                      <a:pt x="1225" y="720"/>
                    </a:lnTo>
                    <a:lnTo>
                      <a:pt x="1226" y="715"/>
                    </a:lnTo>
                    <a:lnTo>
                      <a:pt x="1228" y="711"/>
                    </a:lnTo>
                    <a:lnTo>
                      <a:pt x="1234" y="710"/>
                    </a:lnTo>
                    <a:lnTo>
                      <a:pt x="1301" y="690"/>
                    </a:lnTo>
                    <a:lnTo>
                      <a:pt x="1301" y="693"/>
                    </a:lnTo>
                    <a:lnTo>
                      <a:pt x="1305" y="696"/>
                    </a:lnTo>
                    <a:lnTo>
                      <a:pt x="1311" y="693"/>
                    </a:lnTo>
                    <a:lnTo>
                      <a:pt x="1312" y="700"/>
                    </a:lnTo>
                    <a:lnTo>
                      <a:pt x="1315" y="710"/>
                    </a:lnTo>
                    <a:lnTo>
                      <a:pt x="1315" y="719"/>
                    </a:lnTo>
                    <a:lnTo>
                      <a:pt x="1315" y="729"/>
                    </a:lnTo>
                    <a:lnTo>
                      <a:pt x="1319" y="730"/>
                    </a:lnTo>
                    <a:lnTo>
                      <a:pt x="1324" y="727"/>
                    </a:lnTo>
                    <a:lnTo>
                      <a:pt x="1326" y="721"/>
                    </a:lnTo>
                    <a:lnTo>
                      <a:pt x="1328" y="716"/>
                    </a:lnTo>
                    <a:lnTo>
                      <a:pt x="1328" y="708"/>
                    </a:lnTo>
                    <a:lnTo>
                      <a:pt x="1328" y="699"/>
                    </a:lnTo>
                    <a:lnTo>
                      <a:pt x="1327" y="691"/>
                    </a:lnTo>
                    <a:lnTo>
                      <a:pt x="1325" y="686"/>
                    </a:lnTo>
                    <a:lnTo>
                      <a:pt x="1333" y="682"/>
                    </a:lnTo>
                    <a:lnTo>
                      <a:pt x="1342" y="679"/>
                    </a:lnTo>
                    <a:lnTo>
                      <a:pt x="1351" y="677"/>
                    </a:lnTo>
                    <a:lnTo>
                      <a:pt x="1361" y="675"/>
                    </a:lnTo>
                    <a:lnTo>
                      <a:pt x="1370" y="673"/>
                    </a:lnTo>
                    <a:lnTo>
                      <a:pt x="1379" y="671"/>
                    </a:lnTo>
                    <a:lnTo>
                      <a:pt x="1387" y="669"/>
                    </a:lnTo>
                    <a:lnTo>
                      <a:pt x="1397" y="667"/>
                    </a:lnTo>
                    <a:lnTo>
                      <a:pt x="1403" y="673"/>
                    </a:lnTo>
                    <a:lnTo>
                      <a:pt x="1407" y="683"/>
                    </a:lnTo>
                    <a:lnTo>
                      <a:pt x="1410" y="692"/>
                    </a:lnTo>
                    <a:lnTo>
                      <a:pt x="1416" y="699"/>
                    </a:lnTo>
                    <a:lnTo>
                      <a:pt x="1419" y="690"/>
                    </a:lnTo>
                    <a:lnTo>
                      <a:pt x="1420" y="682"/>
                    </a:lnTo>
                    <a:lnTo>
                      <a:pt x="1419" y="673"/>
                    </a:lnTo>
                    <a:lnTo>
                      <a:pt x="1416" y="667"/>
                    </a:lnTo>
                    <a:lnTo>
                      <a:pt x="1413" y="661"/>
                    </a:lnTo>
                    <a:lnTo>
                      <a:pt x="1510" y="625"/>
                    </a:lnTo>
                    <a:lnTo>
                      <a:pt x="1512" y="634"/>
                    </a:lnTo>
                    <a:lnTo>
                      <a:pt x="1515" y="644"/>
                    </a:lnTo>
                    <a:lnTo>
                      <a:pt x="1516" y="654"/>
                    </a:lnTo>
                    <a:lnTo>
                      <a:pt x="1517" y="664"/>
                    </a:lnTo>
                    <a:lnTo>
                      <a:pt x="1516" y="673"/>
                    </a:lnTo>
                    <a:lnTo>
                      <a:pt x="1515" y="683"/>
                    </a:lnTo>
                    <a:lnTo>
                      <a:pt x="1512" y="693"/>
                    </a:lnTo>
                    <a:lnTo>
                      <a:pt x="1510" y="703"/>
                    </a:lnTo>
                    <a:lnTo>
                      <a:pt x="1513" y="710"/>
                    </a:lnTo>
                    <a:lnTo>
                      <a:pt x="1519" y="700"/>
                    </a:lnTo>
                    <a:lnTo>
                      <a:pt x="1524" y="692"/>
                    </a:lnTo>
                    <a:lnTo>
                      <a:pt x="1527" y="683"/>
                    </a:lnTo>
                    <a:lnTo>
                      <a:pt x="1531" y="674"/>
                    </a:lnTo>
                    <a:lnTo>
                      <a:pt x="1531" y="663"/>
                    </a:lnTo>
                    <a:lnTo>
                      <a:pt x="1531" y="653"/>
                    </a:lnTo>
                    <a:lnTo>
                      <a:pt x="1530" y="642"/>
                    </a:lnTo>
                    <a:lnTo>
                      <a:pt x="1529" y="632"/>
                    </a:lnTo>
                    <a:lnTo>
                      <a:pt x="1523" y="622"/>
                    </a:lnTo>
                    <a:lnTo>
                      <a:pt x="1531" y="616"/>
                    </a:lnTo>
                    <a:lnTo>
                      <a:pt x="1539" y="612"/>
                    </a:lnTo>
                    <a:lnTo>
                      <a:pt x="1547" y="606"/>
                    </a:lnTo>
                    <a:lnTo>
                      <a:pt x="1556" y="601"/>
                    </a:lnTo>
                    <a:lnTo>
                      <a:pt x="1564" y="595"/>
                    </a:lnTo>
                    <a:lnTo>
                      <a:pt x="1572" y="589"/>
                    </a:lnTo>
                    <a:lnTo>
                      <a:pt x="1580" y="583"/>
                    </a:lnTo>
                    <a:lnTo>
                      <a:pt x="1588" y="579"/>
                    </a:lnTo>
                    <a:lnTo>
                      <a:pt x="1596" y="579"/>
                    </a:lnTo>
                    <a:lnTo>
                      <a:pt x="1603" y="585"/>
                    </a:lnTo>
                    <a:lnTo>
                      <a:pt x="1608" y="592"/>
                    </a:lnTo>
                    <a:lnTo>
                      <a:pt x="1614" y="599"/>
                    </a:lnTo>
                    <a:lnTo>
                      <a:pt x="1615" y="611"/>
                    </a:lnTo>
                    <a:lnTo>
                      <a:pt x="1616" y="624"/>
                    </a:lnTo>
                    <a:lnTo>
                      <a:pt x="1616" y="637"/>
                    </a:lnTo>
                    <a:lnTo>
                      <a:pt x="1616" y="650"/>
                    </a:lnTo>
                    <a:lnTo>
                      <a:pt x="1614" y="662"/>
                    </a:lnTo>
                    <a:lnTo>
                      <a:pt x="1613" y="675"/>
                    </a:lnTo>
                    <a:lnTo>
                      <a:pt x="1610" y="687"/>
                    </a:lnTo>
                    <a:lnTo>
                      <a:pt x="1608" y="699"/>
                    </a:lnTo>
                    <a:lnTo>
                      <a:pt x="1616" y="693"/>
                    </a:lnTo>
                    <a:lnTo>
                      <a:pt x="1622" y="687"/>
                    </a:lnTo>
                    <a:lnTo>
                      <a:pt x="1625" y="678"/>
                    </a:lnTo>
                    <a:lnTo>
                      <a:pt x="1627" y="670"/>
                    </a:lnTo>
                    <a:lnTo>
                      <a:pt x="1627" y="659"/>
                    </a:lnTo>
                    <a:lnTo>
                      <a:pt x="1627" y="650"/>
                    </a:lnTo>
                    <a:lnTo>
                      <a:pt x="1628" y="640"/>
                    </a:lnTo>
                    <a:lnTo>
                      <a:pt x="1630" y="632"/>
                    </a:lnTo>
                    <a:lnTo>
                      <a:pt x="1631" y="623"/>
                    </a:lnTo>
                    <a:lnTo>
                      <a:pt x="1631" y="613"/>
                    </a:lnTo>
                    <a:lnTo>
                      <a:pt x="1630" y="605"/>
                    </a:lnTo>
                    <a:lnTo>
                      <a:pt x="1628" y="597"/>
                    </a:lnTo>
                    <a:lnTo>
                      <a:pt x="1624" y="589"/>
                    </a:lnTo>
                    <a:lnTo>
                      <a:pt x="1619" y="582"/>
                    </a:lnTo>
                    <a:lnTo>
                      <a:pt x="1613" y="576"/>
                    </a:lnTo>
                    <a:lnTo>
                      <a:pt x="1608" y="570"/>
                    </a:lnTo>
                    <a:lnTo>
                      <a:pt x="1617" y="563"/>
                    </a:lnTo>
                    <a:lnTo>
                      <a:pt x="1626" y="557"/>
                    </a:lnTo>
                    <a:lnTo>
                      <a:pt x="1635" y="551"/>
                    </a:lnTo>
                    <a:lnTo>
                      <a:pt x="1644" y="545"/>
                    </a:lnTo>
                    <a:lnTo>
                      <a:pt x="1653" y="538"/>
                    </a:lnTo>
                    <a:lnTo>
                      <a:pt x="1662" y="532"/>
                    </a:lnTo>
                    <a:lnTo>
                      <a:pt x="1670" y="524"/>
                    </a:lnTo>
                    <a:lnTo>
                      <a:pt x="1679" y="517"/>
                    </a:lnTo>
                    <a:lnTo>
                      <a:pt x="1687" y="518"/>
                    </a:lnTo>
                    <a:lnTo>
                      <a:pt x="1697" y="523"/>
                    </a:lnTo>
                    <a:lnTo>
                      <a:pt x="1706" y="530"/>
                    </a:lnTo>
                    <a:lnTo>
                      <a:pt x="1715" y="538"/>
                    </a:lnTo>
                    <a:lnTo>
                      <a:pt x="1719" y="545"/>
                    </a:lnTo>
                    <a:lnTo>
                      <a:pt x="1723" y="555"/>
                    </a:lnTo>
                    <a:lnTo>
                      <a:pt x="1724" y="565"/>
                    </a:lnTo>
                    <a:lnTo>
                      <a:pt x="1725" y="577"/>
                    </a:lnTo>
                    <a:lnTo>
                      <a:pt x="1724" y="588"/>
                    </a:lnTo>
                    <a:lnTo>
                      <a:pt x="1724" y="599"/>
                    </a:lnTo>
                    <a:lnTo>
                      <a:pt x="1724" y="610"/>
                    </a:lnTo>
                    <a:lnTo>
                      <a:pt x="1724" y="622"/>
                    </a:lnTo>
                    <a:lnTo>
                      <a:pt x="1731" y="620"/>
                    </a:lnTo>
                    <a:lnTo>
                      <a:pt x="1735" y="613"/>
                    </a:lnTo>
                    <a:lnTo>
                      <a:pt x="1737" y="605"/>
                    </a:lnTo>
                    <a:lnTo>
                      <a:pt x="1741" y="599"/>
                    </a:lnTo>
                    <a:lnTo>
                      <a:pt x="1741" y="591"/>
                    </a:lnTo>
                    <a:lnTo>
                      <a:pt x="1742" y="583"/>
                    </a:lnTo>
                    <a:lnTo>
                      <a:pt x="1741" y="574"/>
                    </a:lnTo>
                    <a:lnTo>
                      <a:pt x="1740" y="567"/>
                    </a:lnTo>
                    <a:lnTo>
                      <a:pt x="1738" y="558"/>
                    </a:lnTo>
                    <a:lnTo>
                      <a:pt x="1736" y="551"/>
                    </a:lnTo>
                    <a:lnTo>
                      <a:pt x="1734" y="544"/>
                    </a:lnTo>
                    <a:lnTo>
                      <a:pt x="1732" y="538"/>
                    </a:lnTo>
                    <a:lnTo>
                      <a:pt x="1699" y="508"/>
                    </a:lnTo>
                    <a:lnTo>
                      <a:pt x="1695" y="508"/>
                    </a:lnTo>
                    <a:lnTo>
                      <a:pt x="1700" y="502"/>
                    </a:lnTo>
                    <a:lnTo>
                      <a:pt x="1707" y="497"/>
                    </a:lnTo>
                    <a:lnTo>
                      <a:pt x="1714" y="492"/>
                    </a:lnTo>
                    <a:lnTo>
                      <a:pt x="1722" y="487"/>
                    </a:lnTo>
                    <a:lnTo>
                      <a:pt x="1730" y="480"/>
                    </a:lnTo>
                    <a:lnTo>
                      <a:pt x="1737" y="474"/>
                    </a:lnTo>
                    <a:lnTo>
                      <a:pt x="1742" y="467"/>
                    </a:lnTo>
                    <a:lnTo>
                      <a:pt x="1748" y="460"/>
                    </a:lnTo>
                    <a:lnTo>
                      <a:pt x="1753" y="458"/>
                    </a:lnTo>
                    <a:lnTo>
                      <a:pt x="1760" y="458"/>
                    </a:lnTo>
                    <a:lnTo>
                      <a:pt x="1767" y="457"/>
                    </a:lnTo>
                    <a:lnTo>
                      <a:pt x="1775" y="459"/>
                    </a:lnTo>
                    <a:lnTo>
                      <a:pt x="1781" y="461"/>
                    </a:lnTo>
                    <a:lnTo>
                      <a:pt x="1788" y="465"/>
                    </a:lnTo>
                    <a:lnTo>
                      <a:pt x="1793" y="470"/>
                    </a:lnTo>
                    <a:lnTo>
                      <a:pt x="1796" y="479"/>
                    </a:lnTo>
                    <a:lnTo>
                      <a:pt x="1799" y="485"/>
                    </a:lnTo>
                    <a:lnTo>
                      <a:pt x="1802" y="493"/>
                    </a:lnTo>
                    <a:lnTo>
                      <a:pt x="1804" y="499"/>
                    </a:lnTo>
                    <a:lnTo>
                      <a:pt x="1806" y="507"/>
                    </a:lnTo>
                    <a:lnTo>
                      <a:pt x="1807" y="514"/>
                    </a:lnTo>
                    <a:lnTo>
                      <a:pt x="1808" y="522"/>
                    </a:lnTo>
                    <a:lnTo>
                      <a:pt x="1808" y="530"/>
                    </a:lnTo>
                    <a:lnTo>
                      <a:pt x="1809" y="538"/>
                    </a:lnTo>
                    <a:lnTo>
                      <a:pt x="1820" y="538"/>
                    </a:lnTo>
                    <a:lnTo>
                      <a:pt x="1819" y="523"/>
                    </a:lnTo>
                    <a:lnTo>
                      <a:pt x="1819" y="509"/>
                    </a:lnTo>
                    <a:lnTo>
                      <a:pt x="1817" y="496"/>
                    </a:lnTo>
                    <a:lnTo>
                      <a:pt x="1815" y="484"/>
                    </a:lnTo>
                    <a:lnTo>
                      <a:pt x="1808" y="472"/>
                    </a:lnTo>
                    <a:lnTo>
                      <a:pt x="1802" y="462"/>
                    </a:lnTo>
                    <a:lnTo>
                      <a:pt x="1793" y="453"/>
                    </a:lnTo>
                    <a:lnTo>
                      <a:pt x="1783" y="447"/>
                    </a:lnTo>
                    <a:lnTo>
                      <a:pt x="1764" y="444"/>
                    </a:lnTo>
                    <a:lnTo>
                      <a:pt x="1773" y="435"/>
                    </a:lnTo>
                    <a:lnTo>
                      <a:pt x="1780" y="426"/>
                    </a:lnTo>
                    <a:lnTo>
                      <a:pt x="1785" y="416"/>
                    </a:lnTo>
                    <a:lnTo>
                      <a:pt x="1791" y="406"/>
                    </a:lnTo>
                    <a:lnTo>
                      <a:pt x="1796" y="396"/>
                    </a:lnTo>
                    <a:lnTo>
                      <a:pt x="1803" y="387"/>
                    </a:lnTo>
                    <a:lnTo>
                      <a:pt x="1812" y="379"/>
                    </a:lnTo>
                    <a:lnTo>
                      <a:pt x="1823" y="375"/>
                    </a:lnTo>
                    <a:lnTo>
                      <a:pt x="1835" y="374"/>
                    </a:lnTo>
                    <a:lnTo>
                      <a:pt x="1847" y="377"/>
                    </a:lnTo>
                    <a:lnTo>
                      <a:pt x="1857" y="382"/>
                    </a:lnTo>
                    <a:lnTo>
                      <a:pt x="1868" y="388"/>
                    </a:lnTo>
                    <a:lnTo>
                      <a:pt x="1877" y="394"/>
                    </a:lnTo>
                    <a:lnTo>
                      <a:pt x="1887" y="402"/>
                    </a:lnTo>
                    <a:lnTo>
                      <a:pt x="1897" y="410"/>
                    </a:lnTo>
                    <a:lnTo>
                      <a:pt x="1907" y="417"/>
                    </a:lnTo>
                    <a:lnTo>
                      <a:pt x="1904" y="407"/>
                    </a:lnTo>
                    <a:lnTo>
                      <a:pt x="1900" y="399"/>
                    </a:lnTo>
                    <a:lnTo>
                      <a:pt x="1892" y="390"/>
                    </a:lnTo>
                    <a:lnTo>
                      <a:pt x="1886" y="384"/>
                    </a:lnTo>
                    <a:lnTo>
                      <a:pt x="1878" y="377"/>
                    </a:lnTo>
                    <a:lnTo>
                      <a:pt x="1870" y="371"/>
                    </a:lnTo>
                    <a:lnTo>
                      <a:pt x="1861" y="366"/>
                    </a:lnTo>
                    <a:lnTo>
                      <a:pt x="1855" y="362"/>
                    </a:lnTo>
                    <a:lnTo>
                      <a:pt x="1849" y="360"/>
                    </a:lnTo>
                    <a:lnTo>
                      <a:pt x="1843" y="359"/>
                    </a:lnTo>
                    <a:lnTo>
                      <a:pt x="1837" y="359"/>
                    </a:lnTo>
                    <a:lnTo>
                      <a:pt x="1832" y="359"/>
                    </a:lnTo>
                    <a:lnTo>
                      <a:pt x="1826" y="359"/>
                    </a:lnTo>
                    <a:lnTo>
                      <a:pt x="1820" y="359"/>
                    </a:lnTo>
                    <a:lnTo>
                      <a:pt x="1814" y="360"/>
                    </a:lnTo>
                    <a:lnTo>
                      <a:pt x="1809" y="362"/>
                    </a:lnTo>
                    <a:lnTo>
                      <a:pt x="1808" y="355"/>
                    </a:lnTo>
                    <a:lnTo>
                      <a:pt x="1808" y="346"/>
                    </a:lnTo>
                    <a:lnTo>
                      <a:pt x="1808" y="338"/>
                    </a:lnTo>
                    <a:lnTo>
                      <a:pt x="1810" y="331"/>
                    </a:lnTo>
                    <a:lnTo>
                      <a:pt x="1812" y="323"/>
                    </a:lnTo>
                    <a:lnTo>
                      <a:pt x="1816" y="316"/>
                    </a:lnTo>
                    <a:lnTo>
                      <a:pt x="1821" y="310"/>
                    </a:lnTo>
                    <a:lnTo>
                      <a:pt x="1829" y="307"/>
                    </a:lnTo>
                    <a:lnTo>
                      <a:pt x="1834" y="302"/>
                    </a:lnTo>
                    <a:lnTo>
                      <a:pt x="1842" y="298"/>
                    </a:lnTo>
                    <a:lnTo>
                      <a:pt x="1848" y="294"/>
                    </a:lnTo>
                    <a:lnTo>
                      <a:pt x="1855" y="291"/>
                    </a:lnTo>
                    <a:lnTo>
                      <a:pt x="1862" y="285"/>
                    </a:lnTo>
                    <a:lnTo>
                      <a:pt x="1871" y="282"/>
                    </a:lnTo>
                    <a:lnTo>
                      <a:pt x="1878" y="279"/>
                    </a:lnTo>
                    <a:lnTo>
                      <a:pt x="1887" y="278"/>
                    </a:lnTo>
                    <a:lnTo>
                      <a:pt x="1896" y="275"/>
                    </a:lnTo>
                    <a:lnTo>
                      <a:pt x="1904" y="275"/>
                    </a:lnTo>
                    <a:lnTo>
                      <a:pt x="1913" y="275"/>
                    </a:lnTo>
                    <a:lnTo>
                      <a:pt x="1923" y="275"/>
                    </a:lnTo>
                    <a:lnTo>
                      <a:pt x="1930" y="268"/>
                    </a:lnTo>
                    <a:lnTo>
                      <a:pt x="1912" y="261"/>
                    </a:lnTo>
                    <a:lnTo>
                      <a:pt x="1896" y="260"/>
                    </a:lnTo>
                    <a:lnTo>
                      <a:pt x="1878" y="263"/>
                    </a:lnTo>
                    <a:lnTo>
                      <a:pt x="1863" y="270"/>
                    </a:lnTo>
                    <a:lnTo>
                      <a:pt x="1847" y="277"/>
                    </a:lnTo>
                    <a:lnTo>
                      <a:pt x="1833" y="287"/>
                    </a:lnTo>
                    <a:lnTo>
                      <a:pt x="1819" y="296"/>
                    </a:lnTo>
                    <a:lnTo>
                      <a:pt x="1806" y="307"/>
                    </a:lnTo>
                    <a:lnTo>
                      <a:pt x="1793" y="258"/>
                    </a:lnTo>
                    <a:lnTo>
                      <a:pt x="1797" y="246"/>
                    </a:lnTo>
                    <a:lnTo>
                      <a:pt x="1803" y="235"/>
                    </a:lnTo>
                    <a:lnTo>
                      <a:pt x="1809" y="224"/>
                    </a:lnTo>
                    <a:lnTo>
                      <a:pt x="1818" y="214"/>
                    </a:lnTo>
                    <a:lnTo>
                      <a:pt x="1825" y="204"/>
                    </a:lnTo>
                    <a:lnTo>
                      <a:pt x="1834" y="195"/>
                    </a:lnTo>
                    <a:lnTo>
                      <a:pt x="1843" y="187"/>
                    </a:lnTo>
                    <a:lnTo>
                      <a:pt x="1855" y="181"/>
                    </a:lnTo>
                    <a:lnTo>
                      <a:pt x="1859" y="175"/>
                    </a:lnTo>
                    <a:lnTo>
                      <a:pt x="1864" y="174"/>
                    </a:lnTo>
                    <a:lnTo>
                      <a:pt x="1870" y="174"/>
                    </a:lnTo>
                    <a:lnTo>
                      <a:pt x="1876" y="175"/>
                    </a:lnTo>
                    <a:lnTo>
                      <a:pt x="1880" y="174"/>
                    </a:lnTo>
                    <a:lnTo>
                      <a:pt x="1883" y="173"/>
                    </a:lnTo>
                    <a:lnTo>
                      <a:pt x="1883" y="169"/>
                    </a:lnTo>
                    <a:lnTo>
                      <a:pt x="1881" y="163"/>
                    </a:lnTo>
                    <a:lnTo>
                      <a:pt x="1866" y="163"/>
                    </a:lnTo>
                    <a:lnTo>
                      <a:pt x="1852" y="167"/>
                    </a:lnTo>
                    <a:lnTo>
                      <a:pt x="1839" y="172"/>
                    </a:lnTo>
                    <a:lnTo>
                      <a:pt x="1828" y="181"/>
                    </a:lnTo>
                    <a:lnTo>
                      <a:pt x="1817" y="189"/>
                    </a:lnTo>
                    <a:lnTo>
                      <a:pt x="1807" y="200"/>
                    </a:lnTo>
                    <a:lnTo>
                      <a:pt x="1799" y="211"/>
                    </a:lnTo>
                    <a:lnTo>
                      <a:pt x="1793" y="225"/>
                    </a:lnTo>
                    <a:lnTo>
                      <a:pt x="1786" y="235"/>
                    </a:lnTo>
                    <a:lnTo>
                      <a:pt x="1784" y="232"/>
                    </a:lnTo>
                    <a:lnTo>
                      <a:pt x="1782" y="228"/>
                    </a:lnTo>
                    <a:lnTo>
                      <a:pt x="1780" y="222"/>
                    </a:lnTo>
                    <a:lnTo>
                      <a:pt x="1778" y="216"/>
                    </a:lnTo>
                    <a:lnTo>
                      <a:pt x="1774" y="209"/>
                    </a:lnTo>
                    <a:lnTo>
                      <a:pt x="1771" y="203"/>
                    </a:lnTo>
                    <a:lnTo>
                      <a:pt x="1766" y="197"/>
                    </a:lnTo>
                    <a:lnTo>
                      <a:pt x="1761" y="193"/>
                    </a:lnTo>
                    <a:lnTo>
                      <a:pt x="1762" y="179"/>
                    </a:lnTo>
                    <a:lnTo>
                      <a:pt x="1765" y="166"/>
                    </a:lnTo>
                    <a:lnTo>
                      <a:pt x="1770" y="153"/>
                    </a:lnTo>
                    <a:lnTo>
                      <a:pt x="1776" y="143"/>
                    </a:lnTo>
                    <a:lnTo>
                      <a:pt x="1782" y="132"/>
                    </a:lnTo>
                    <a:lnTo>
                      <a:pt x="1791" y="124"/>
                    </a:lnTo>
                    <a:lnTo>
                      <a:pt x="1800" y="117"/>
                    </a:lnTo>
                    <a:lnTo>
                      <a:pt x="1813" y="112"/>
                    </a:lnTo>
                    <a:lnTo>
                      <a:pt x="1813" y="106"/>
                    </a:lnTo>
                    <a:lnTo>
                      <a:pt x="1802" y="106"/>
                    </a:lnTo>
                    <a:lnTo>
                      <a:pt x="1794" y="107"/>
                    </a:lnTo>
                    <a:lnTo>
                      <a:pt x="1787" y="111"/>
                    </a:lnTo>
                    <a:lnTo>
                      <a:pt x="1780" y="119"/>
                    </a:lnTo>
                    <a:lnTo>
                      <a:pt x="1773" y="125"/>
                    </a:lnTo>
                    <a:lnTo>
                      <a:pt x="1767" y="131"/>
                    </a:lnTo>
                    <a:lnTo>
                      <a:pt x="1762" y="137"/>
                    </a:lnTo>
                    <a:lnTo>
                      <a:pt x="1758" y="144"/>
                    </a:lnTo>
                    <a:lnTo>
                      <a:pt x="1754" y="151"/>
                    </a:lnTo>
                    <a:lnTo>
                      <a:pt x="1751" y="158"/>
                    </a:lnTo>
                    <a:lnTo>
                      <a:pt x="1748" y="165"/>
                    </a:lnTo>
                    <a:lnTo>
                      <a:pt x="1745" y="173"/>
                    </a:lnTo>
                    <a:lnTo>
                      <a:pt x="1735" y="164"/>
                    </a:lnTo>
                    <a:lnTo>
                      <a:pt x="1725" y="159"/>
                    </a:lnTo>
                    <a:lnTo>
                      <a:pt x="1720" y="156"/>
                    </a:lnTo>
                    <a:lnTo>
                      <a:pt x="1715" y="155"/>
                    </a:lnTo>
                    <a:lnTo>
                      <a:pt x="1710" y="152"/>
                    </a:lnTo>
                    <a:lnTo>
                      <a:pt x="1705" y="151"/>
                    </a:lnTo>
                    <a:lnTo>
                      <a:pt x="1703" y="134"/>
                    </a:lnTo>
                    <a:lnTo>
                      <a:pt x="1703" y="118"/>
                    </a:lnTo>
                    <a:lnTo>
                      <a:pt x="1705" y="102"/>
                    </a:lnTo>
                    <a:lnTo>
                      <a:pt x="1710" y="86"/>
                    </a:lnTo>
                    <a:lnTo>
                      <a:pt x="1716" y="70"/>
                    </a:lnTo>
                    <a:lnTo>
                      <a:pt x="1725" y="57"/>
                    </a:lnTo>
                    <a:lnTo>
                      <a:pt x="1737" y="44"/>
                    </a:lnTo>
                    <a:lnTo>
                      <a:pt x="1751" y="34"/>
                    </a:lnTo>
                    <a:lnTo>
                      <a:pt x="1746" y="29"/>
                    </a:lnTo>
                    <a:lnTo>
                      <a:pt x="1741" y="30"/>
                    </a:lnTo>
                    <a:lnTo>
                      <a:pt x="1734" y="32"/>
                    </a:lnTo>
                    <a:lnTo>
                      <a:pt x="1729" y="34"/>
                    </a:lnTo>
                    <a:lnTo>
                      <a:pt x="1720" y="39"/>
                    </a:lnTo>
                    <a:lnTo>
                      <a:pt x="1715" y="47"/>
                    </a:lnTo>
                    <a:lnTo>
                      <a:pt x="1709" y="53"/>
                    </a:lnTo>
                    <a:lnTo>
                      <a:pt x="1702" y="57"/>
                    </a:lnTo>
                    <a:lnTo>
                      <a:pt x="1697" y="65"/>
                    </a:lnTo>
                    <a:lnTo>
                      <a:pt x="1694" y="74"/>
                    </a:lnTo>
                    <a:lnTo>
                      <a:pt x="1691" y="83"/>
                    </a:lnTo>
                    <a:lnTo>
                      <a:pt x="1690" y="95"/>
                    </a:lnTo>
                    <a:lnTo>
                      <a:pt x="1688" y="104"/>
                    </a:lnTo>
                    <a:lnTo>
                      <a:pt x="1687" y="115"/>
                    </a:lnTo>
                    <a:lnTo>
                      <a:pt x="1686" y="124"/>
                    </a:lnTo>
                    <a:lnTo>
                      <a:pt x="1686" y="135"/>
                    </a:lnTo>
                    <a:lnTo>
                      <a:pt x="1678" y="133"/>
                    </a:lnTo>
                    <a:lnTo>
                      <a:pt x="1672" y="131"/>
                    </a:lnTo>
                    <a:lnTo>
                      <a:pt x="1666" y="126"/>
                    </a:lnTo>
                    <a:lnTo>
                      <a:pt x="1661" y="121"/>
                    </a:lnTo>
                    <a:lnTo>
                      <a:pt x="1656" y="114"/>
                    </a:lnTo>
                    <a:lnTo>
                      <a:pt x="1652" y="108"/>
                    </a:lnTo>
                    <a:lnTo>
                      <a:pt x="1649" y="102"/>
                    </a:lnTo>
                    <a:lnTo>
                      <a:pt x="1647" y="96"/>
                    </a:lnTo>
                    <a:lnTo>
                      <a:pt x="1646" y="85"/>
                    </a:lnTo>
                    <a:lnTo>
                      <a:pt x="1647" y="75"/>
                    </a:lnTo>
                    <a:lnTo>
                      <a:pt x="1648" y="65"/>
                    </a:lnTo>
                    <a:lnTo>
                      <a:pt x="1651" y="56"/>
                    </a:lnTo>
                    <a:lnTo>
                      <a:pt x="1653" y="47"/>
                    </a:lnTo>
                    <a:lnTo>
                      <a:pt x="1655" y="38"/>
                    </a:lnTo>
                    <a:lnTo>
                      <a:pt x="1657" y="29"/>
                    </a:lnTo>
                    <a:lnTo>
                      <a:pt x="1660" y="21"/>
                    </a:lnTo>
                    <a:lnTo>
                      <a:pt x="1664" y="18"/>
                    </a:lnTo>
                    <a:lnTo>
                      <a:pt x="1665" y="16"/>
                    </a:lnTo>
                    <a:lnTo>
                      <a:pt x="1664" y="12"/>
                    </a:lnTo>
                    <a:lnTo>
                      <a:pt x="1663" y="9"/>
                    </a:lnTo>
                    <a:lnTo>
                      <a:pt x="1662" y="5"/>
                    </a:lnTo>
                    <a:lnTo>
                      <a:pt x="1663" y="2"/>
                    </a:lnTo>
                    <a:lnTo>
                      <a:pt x="1666" y="1"/>
                    </a:lnTo>
                    <a:lnTo>
                      <a:pt x="1673" y="2"/>
                    </a:lnTo>
                    <a:lnTo>
                      <a:pt x="1681" y="0"/>
                    </a:lnTo>
                    <a:lnTo>
                      <a:pt x="1690" y="4"/>
                    </a:lnTo>
                    <a:lnTo>
                      <a:pt x="1694" y="5"/>
                    </a:lnTo>
                    <a:lnTo>
                      <a:pt x="1698" y="7"/>
                    </a:lnTo>
                    <a:lnTo>
                      <a:pt x="1701" y="6"/>
                    </a:lnTo>
                    <a:lnTo>
                      <a:pt x="1705" y="2"/>
                    </a:lnTo>
                    <a:close/>
                  </a:path>
                </a:pathLst>
              </a:custGeom>
              <a:solidFill>
                <a:srgbClr val="f7c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67320" y="1428480"/>
                <a:ext cx="82080" cy="106920"/>
              </a:xfrm>
              <a:custGeom>
                <a:avLst/>
                <a:gdLst/>
                <a:ahLst/>
                <a:rect l="l" t="t" r="r" b="b"/>
                <a:pathLst>
                  <a:path w="164" h="162">
                    <a:moveTo>
                      <a:pt x="67" y="27"/>
                    </a:moveTo>
                    <a:lnTo>
                      <a:pt x="79" y="25"/>
                    </a:lnTo>
                    <a:lnTo>
                      <a:pt x="90" y="27"/>
                    </a:lnTo>
                    <a:lnTo>
                      <a:pt x="100" y="32"/>
                    </a:lnTo>
                    <a:lnTo>
                      <a:pt x="109" y="39"/>
                    </a:lnTo>
                    <a:lnTo>
                      <a:pt x="116" y="46"/>
                    </a:lnTo>
                    <a:lnTo>
                      <a:pt x="125" y="53"/>
                    </a:lnTo>
                    <a:lnTo>
                      <a:pt x="135" y="58"/>
                    </a:lnTo>
                    <a:lnTo>
                      <a:pt x="148" y="62"/>
                    </a:lnTo>
                    <a:lnTo>
                      <a:pt x="155" y="71"/>
                    </a:lnTo>
                    <a:lnTo>
                      <a:pt x="157" y="83"/>
                    </a:lnTo>
                    <a:lnTo>
                      <a:pt x="155" y="96"/>
                    </a:lnTo>
                    <a:lnTo>
                      <a:pt x="153" y="108"/>
                    </a:lnTo>
                    <a:lnTo>
                      <a:pt x="150" y="120"/>
                    </a:lnTo>
                    <a:lnTo>
                      <a:pt x="150" y="132"/>
                    </a:lnTo>
                    <a:lnTo>
                      <a:pt x="154" y="144"/>
                    </a:lnTo>
                    <a:lnTo>
                      <a:pt x="164" y="156"/>
                    </a:lnTo>
                    <a:lnTo>
                      <a:pt x="158" y="162"/>
                    </a:lnTo>
                    <a:lnTo>
                      <a:pt x="151" y="161"/>
                    </a:lnTo>
                    <a:lnTo>
                      <a:pt x="147" y="157"/>
                    </a:lnTo>
                    <a:lnTo>
                      <a:pt x="142" y="152"/>
                    </a:lnTo>
                    <a:lnTo>
                      <a:pt x="135" y="150"/>
                    </a:lnTo>
                    <a:lnTo>
                      <a:pt x="132" y="141"/>
                    </a:lnTo>
                    <a:lnTo>
                      <a:pt x="130" y="132"/>
                    </a:lnTo>
                    <a:lnTo>
                      <a:pt x="127" y="123"/>
                    </a:lnTo>
                    <a:lnTo>
                      <a:pt x="126" y="114"/>
                    </a:lnTo>
                    <a:lnTo>
                      <a:pt x="123" y="105"/>
                    </a:lnTo>
                    <a:lnTo>
                      <a:pt x="122" y="96"/>
                    </a:lnTo>
                    <a:lnTo>
                      <a:pt x="122" y="86"/>
                    </a:lnTo>
                    <a:lnTo>
                      <a:pt x="122" y="78"/>
                    </a:lnTo>
                    <a:lnTo>
                      <a:pt x="129" y="75"/>
                    </a:lnTo>
                    <a:lnTo>
                      <a:pt x="120" y="65"/>
                    </a:lnTo>
                    <a:lnTo>
                      <a:pt x="111" y="57"/>
                    </a:lnTo>
                    <a:lnTo>
                      <a:pt x="106" y="53"/>
                    </a:lnTo>
                    <a:lnTo>
                      <a:pt x="101" y="51"/>
                    </a:lnTo>
                    <a:lnTo>
                      <a:pt x="95" y="49"/>
                    </a:lnTo>
                    <a:lnTo>
                      <a:pt x="89" y="49"/>
                    </a:lnTo>
                    <a:lnTo>
                      <a:pt x="82" y="42"/>
                    </a:lnTo>
                    <a:lnTo>
                      <a:pt x="76" y="39"/>
                    </a:lnTo>
                    <a:lnTo>
                      <a:pt x="69" y="36"/>
                    </a:lnTo>
                    <a:lnTo>
                      <a:pt x="62" y="35"/>
                    </a:lnTo>
                    <a:lnTo>
                      <a:pt x="54" y="32"/>
                    </a:lnTo>
                    <a:lnTo>
                      <a:pt x="47" y="30"/>
                    </a:lnTo>
                    <a:lnTo>
                      <a:pt x="41" y="24"/>
                    </a:lnTo>
                    <a:lnTo>
                      <a:pt x="38" y="17"/>
                    </a:lnTo>
                    <a:lnTo>
                      <a:pt x="29" y="14"/>
                    </a:lnTo>
                    <a:lnTo>
                      <a:pt x="21" y="14"/>
                    </a:lnTo>
                    <a:lnTo>
                      <a:pt x="13" y="15"/>
                    </a:lnTo>
                    <a:lnTo>
                      <a:pt x="5" y="17"/>
                    </a:lnTo>
                    <a:lnTo>
                      <a:pt x="0" y="10"/>
                    </a:lnTo>
                    <a:lnTo>
                      <a:pt x="5" y="4"/>
                    </a:lnTo>
                    <a:lnTo>
                      <a:pt x="14" y="6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38" y="1"/>
                    </a:lnTo>
                    <a:lnTo>
                      <a:pt x="6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81200" y="1463040"/>
                <a:ext cx="73800" cy="85680"/>
              </a:xfrm>
              <a:custGeom>
                <a:avLst/>
                <a:gdLst/>
                <a:ahLst/>
                <a:rect l="l" t="t" r="r" b="b"/>
                <a:pathLst>
                  <a:path w="150" h="128">
                    <a:moveTo>
                      <a:pt x="129" y="37"/>
                    </a:moveTo>
                    <a:lnTo>
                      <a:pt x="123" y="37"/>
                    </a:lnTo>
                    <a:lnTo>
                      <a:pt x="117" y="38"/>
                    </a:lnTo>
                    <a:lnTo>
                      <a:pt x="111" y="37"/>
                    </a:lnTo>
                    <a:lnTo>
                      <a:pt x="105" y="37"/>
                    </a:lnTo>
                    <a:lnTo>
                      <a:pt x="99" y="34"/>
                    </a:lnTo>
                    <a:lnTo>
                      <a:pt x="93" y="34"/>
                    </a:lnTo>
                    <a:lnTo>
                      <a:pt x="87" y="36"/>
                    </a:lnTo>
                    <a:lnTo>
                      <a:pt x="84" y="40"/>
                    </a:lnTo>
                    <a:lnTo>
                      <a:pt x="86" y="44"/>
                    </a:lnTo>
                    <a:lnTo>
                      <a:pt x="90" y="47"/>
                    </a:lnTo>
                    <a:lnTo>
                      <a:pt x="94" y="47"/>
                    </a:lnTo>
                    <a:lnTo>
                      <a:pt x="100" y="48"/>
                    </a:lnTo>
                    <a:lnTo>
                      <a:pt x="105" y="47"/>
                    </a:lnTo>
                    <a:lnTo>
                      <a:pt x="111" y="47"/>
                    </a:lnTo>
                    <a:lnTo>
                      <a:pt x="116" y="47"/>
                    </a:lnTo>
                    <a:lnTo>
                      <a:pt x="120" y="49"/>
                    </a:lnTo>
                    <a:lnTo>
                      <a:pt x="115" y="54"/>
                    </a:lnTo>
                    <a:lnTo>
                      <a:pt x="113" y="62"/>
                    </a:lnTo>
                    <a:lnTo>
                      <a:pt x="113" y="59"/>
                    </a:lnTo>
                    <a:lnTo>
                      <a:pt x="107" y="62"/>
                    </a:lnTo>
                    <a:lnTo>
                      <a:pt x="101" y="66"/>
                    </a:lnTo>
                    <a:lnTo>
                      <a:pt x="95" y="69"/>
                    </a:lnTo>
                    <a:lnTo>
                      <a:pt x="90" y="73"/>
                    </a:lnTo>
                    <a:lnTo>
                      <a:pt x="80" y="75"/>
                    </a:lnTo>
                    <a:lnTo>
                      <a:pt x="71" y="72"/>
                    </a:lnTo>
                    <a:lnTo>
                      <a:pt x="65" y="71"/>
                    </a:lnTo>
                    <a:lnTo>
                      <a:pt x="62" y="75"/>
                    </a:lnTo>
                    <a:lnTo>
                      <a:pt x="62" y="81"/>
                    </a:lnTo>
                    <a:lnTo>
                      <a:pt x="68" y="83"/>
                    </a:lnTo>
                    <a:lnTo>
                      <a:pt x="74" y="83"/>
                    </a:lnTo>
                    <a:lnTo>
                      <a:pt x="81" y="85"/>
                    </a:lnTo>
                    <a:lnTo>
                      <a:pt x="75" y="89"/>
                    </a:lnTo>
                    <a:lnTo>
                      <a:pt x="70" y="95"/>
                    </a:lnTo>
                    <a:lnTo>
                      <a:pt x="66" y="101"/>
                    </a:lnTo>
                    <a:lnTo>
                      <a:pt x="63" y="108"/>
                    </a:lnTo>
                    <a:lnTo>
                      <a:pt x="58" y="113"/>
                    </a:lnTo>
                    <a:lnTo>
                      <a:pt x="54" y="119"/>
                    </a:lnTo>
                    <a:lnTo>
                      <a:pt x="47" y="124"/>
                    </a:lnTo>
                    <a:lnTo>
                      <a:pt x="42" y="128"/>
                    </a:lnTo>
                    <a:lnTo>
                      <a:pt x="37" y="121"/>
                    </a:lnTo>
                    <a:lnTo>
                      <a:pt x="32" y="118"/>
                    </a:lnTo>
                    <a:lnTo>
                      <a:pt x="26" y="115"/>
                    </a:lnTo>
                    <a:lnTo>
                      <a:pt x="20" y="112"/>
                    </a:lnTo>
                    <a:lnTo>
                      <a:pt x="14" y="108"/>
                    </a:lnTo>
                    <a:lnTo>
                      <a:pt x="8" y="105"/>
                    </a:lnTo>
                    <a:lnTo>
                      <a:pt x="3" y="101"/>
                    </a:lnTo>
                    <a:lnTo>
                      <a:pt x="0" y="98"/>
                    </a:lnTo>
                    <a:lnTo>
                      <a:pt x="8" y="95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3" y="98"/>
                    </a:lnTo>
                    <a:lnTo>
                      <a:pt x="41" y="99"/>
                    </a:lnTo>
                    <a:lnTo>
                      <a:pt x="51" y="100"/>
                    </a:lnTo>
                    <a:lnTo>
                      <a:pt x="59" y="99"/>
                    </a:lnTo>
                    <a:lnTo>
                      <a:pt x="68" y="98"/>
                    </a:lnTo>
                    <a:lnTo>
                      <a:pt x="68" y="91"/>
                    </a:lnTo>
                    <a:lnTo>
                      <a:pt x="13" y="85"/>
                    </a:lnTo>
                    <a:lnTo>
                      <a:pt x="18" y="75"/>
                    </a:lnTo>
                    <a:lnTo>
                      <a:pt x="25" y="71"/>
                    </a:lnTo>
                    <a:lnTo>
                      <a:pt x="34" y="69"/>
                    </a:lnTo>
                    <a:lnTo>
                      <a:pt x="43" y="70"/>
                    </a:lnTo>
                    <a:lnTo>
                      <a:pt x="52" y="71"/>
                    </a:lnTo>
                    <a:lnTo>
                      <a:pt x="60" y="72"/>
                    </a:lnTo>
                    <a:lnTo>
                      <a:pt x="66" y="70"/>
                    </a:lnTo>
                    <a:lnTo>
                      <a:pt x="71" y="66"/>
                    </a:lnTo>
                    <a:lnTo>
                      <a:pt x="65" y="63"/>
                    </a:lnTo>
                    <a:lnTo>
                      <a:pt x="58" y="61"/>
                    </a:lnTo>
                    <a:lnTo>
                      <a:pt x="50" y="59"/>
                    </a:lnTo>
                    <a:lnTo>
                      <a:pt x="42" y="59"/>
                    </a:lnTo>
                    <a:lnTo>
                      <a:pt x="55" y="50"/>
                    </a:lnTo>
                    <a:lnTo>
                      <a:pt x="67" y="43"/>
                    </a:lnTo>
                    <a:lnTo>
                      <a:pt x="80" y="36"/>
                    </a:lnTo>
                    <a:lnTo>
                      <a:pt x="94" y="29"/>
                    </a:lnTo>
                    <a:lnTo>
                      <a:pt x="107" y="22"/>
                    </a:lnTo>
                    <a:lnTo>
                      <a:pt x="121" y="15"/>
                    </a:lnTo>
                    <a:lnTo>
                      <a:pt x="136" y="7"/>
                    </a:lnTo>
                    <a:lnTo>
                      <a:pt x="150" y="0"/>
                    </a:lnTo>
                    <a:lnTo>
                      <a:pt x="129" y="37"/>
                    </a:lnTo>
                    <a:close/>
                  </a:path>
                </a:pathLst>
              </a:custGeom>
              <a:solidFill>
                <a:srgbClr val="ffd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23240" y="1527120"/>
                <a:ext cx="73800" cy="48240"/>
              </a:xfrm>
              <a:custGeom>
                <a:avLst/>
                <a:gdLst/>
                <a:ahLst/>
                <a:rect l="l" t="t" r="r" b="b"/>
                <a:pathLst>
                  <a:path w="146" h="71">
                    <a:moveTo>
                      <a:pt x="111" y="16"/>
                    </a:moveTo>
                    <a:lnTo>
                      <a:pt x="116" y="16"/>
                    </a:lnTo>
                    <a:lnTo>
                      <a:pt x="120" y="18"/>
                    </a:lnTo>
                    <a:lnTo>
                      <a:pt x="124" y="20"/>
                    </a:lnTo>
                    <a:lnTo>
                      <a:pt x="128" y="23"/>
                    </a:lnTo>
                    <a:lnTo>
                      <a:pt x="131" y="27"/>
                    </a:lnTo>
                    <a:lnTo>
                      <a:pt x="135" y="30"/>
                    </a:lnTo>
                    <a:lnTo>
                      <a:pt x="140" y="33"/>
                    </a:lnTo>
                    <a:lnTo>
                      <a:pt x="146" y="36"/>
                    </a:lnTo>
                    <a:lnTo>
                      <a:pt x="137" y="38"/>
                    </a:lnTo>
                    <a:lnTo>
                      <a:pt x="129" y="44"/>
                    </a:lnTo>
                    <a:lnTo>
                      <a:pt x="120" y="50"/>
                    </a:lnTo>
                    <a:lnTo>
                      <a:pt x="112" y="56"/>
                    </a:lnTo>
                    <a:lnTo>
                      <a:pt x="103" y="60"/>
                    </a:lnTo>
                    <a:lnTo>
                      <a:pt x="94" y="62"/>
                    </a:lnTo>
                    <a:lnTo>
                      <a:pt x="85" y="60"/>
                    </a:lnTo>
                    <a:lnTo>
                      <a:pt x="77" y="55"/>
                    </a:lnTo>
                    <a:lnTo>
                      <a:pt x="68" y="57"/>
                    </a:lnTo>
                    <a:lnTo>
                      <a:pt x="59" y="60"/>
                    </a:lnTo>
                    <a:lnTo>
                      <a:pt x="50" y="62"/>
                    </a:lnTo>
                    <a:lnTo>
                      <a:pt x="41" y="65"/>
                    </a:lnTo>
                    <a:lnTo>
                      <a:pt x="30" y="67"/>
                    </a:lnTo>
                    <a:lnTo>
                      <a:pt x="20" y="69"/>
                    </a:lnTo>
                    <a:lnTo>
                      <a:pt x="10" y="70"/>
                    </a:lnTo>
                    <a:lnTo>
                      <a:pt x="0" y="71"/>
                    </a:lnTo>
                    <a:lnTo>
                      <a:pt x="5" y="66"/>
                    </a:lnTo>
                    <a:lnTo>
                      <a:pt x="8" y="61"/>
                    </a:lnTo>
                    <a:lnTo>
                      <a:pt x="9" y="54"/>
                    </a:lnTo>
                    <a:lnTo>
                      <a:pt x="13" y="49"/>
                    </a:lnTo>
                    <a:lnTo>
                      <a:pt x="7" y="42"/>
                    </a:lnTo>
                    <a:lnTo>
                      <a:pt x="20" y="35"/>
                    </a:lnTo>
                    <a:lnTo>
                      <a:pt x="33" y="31"/>
                    </a:lnTo>
                    <a:lnTo>
                      <a:pt x="45" y="28"/>
                    </a:lnTo>
                    <a:lnTo>
                      <a:pt x="57" y="26"/>
                    </a:lnTo>
                    <a:lnTo>
                      <a:pt x="68" y="22"/>
                    </a:lnTo>
                    <a:lnTo>
                      <a:pt x="80" y="20"/>
                    </a:lnTo>
                    <a:lnTo>
                      <a:pt x="92" y="16"/>
                    </a:lnTo>
                    <a:lnTo>
                      <a:pt x="104" y="12"/>
                    </a:lnTo>
                    <a:lnTo>
                      <a:pt x="111" y="0"/>
                    </a:lnTo>
                    <a:lnTo>
                      <a:pt x="106" y="7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d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60960" y="1564560"/>
                <a:ext cx="7920" cy="154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9" y="23"/>
                    </a:moveTo>
                    <a:lnTo>
                      <a:pt x="11" y="24"/>
                    </a:lnTo>
                    <a:lnTo>
                      <a:pt x="3" y="19"/>
                    </a:lnTo>
                    <a:lnTo>
                      <a:pt x="1" y="13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2"/>
                    </a:lnTo>
                    <a:lnTo>
                      <a:pt x="12" y="5"/>
                    </a:lnTo>
                    <a:lnTo>
                      <a:pt x="14" y="8"/>
                    </a:lnTo>
                    <a:lnTo>
                      <a:pt x="16" y="15"/>
                    </a:lnTo>
                    <a:lnTo>
                      <a:pt x="1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49000" y="1634040"/>
                <a:ext cx="86040" cy="42120"/>
              </a:xfrm>
              <a:custGeom>
                <a:avLst/>
                <a:gdLst/>
                <a:ahLst/>
                <a:rect l="l" t="t" r="r" b="b"/>
                <a:pathLst>
                  <a:path w="173" h="65">
                    <a:moveTo>
                      <a:pt x="40" y="26"/>
                    </a:moveTo>
                    <a:lnTo>
                      <a:pt x="49" y="20"/>
                    </a:lnTo>
                    <a:lnTo>
                      <a:pt x="59" y="16"/>
                    </a:lnTo>
                    <a:lnTo>
                      <a:pt x="69" y="13"/>
                    </a:lnTo>
                    <a:lnTo>
                      <a:pt x="80" y="12"/>
                    </a:lnTo>
                    <a:lnTo>
                      <a:pt x="90" y="10"/>
                    </a:lnTo>
                    <a:lnTo>
                      <a:pt x="102" y="9"/>
                    </a:lnTo>
                    <a:lnTo>
                      <a:pt x="112" y="7"/>
                    </a:lnTo>
                    <a:lnTo>
                      <a:pt x="124" y="6"/>
                    </a:lnTo>
                    <a:lnTo>
                      <a:pt x="130" y="7"/>
                    </a:lnTo>
                    <a:lnTo>
                      <a:pt x="136" y="8"/>
                    </a:lnTo>
                    <a:lnTo>
                      <a:pt x="142" y="9"/>
                    </a:lnTo>
                    <a:lnTo>
                      <a:pt x="148" y="11"/>
                    </a:lnTo>
                    <a:lnTo>
                      <a:pt x="154" y="12"/>
                    </a:lnTo>
                    <a:lnTo>
                      <a:pt x="160" y="13"/>
                    </a:lnTo>
                    <a:lnTo>
                      <a:pt x="166" y="14"/>
                    </a:lnTo>
                    <a:lnTo>
                      <a:pt x="173" y="16"/>
                    </a:lnTo>
                    <a:lnTo>
                      <a:pt x="173" y="24"/>
                    </a:lnTo>
                    <a:lnTo>
                      <a:pt x="171" y="31"/>
                    </a:lnTo>
                    <a:lnTo>
                      <a:pt x="166" y="36"/>
                    </a:lnTo>
                    <a:lnTo>
                      <a:pt x="160" y="43"/>
                    </a:lnTo>
                    <a:lnTo>
                      <a:pt x="152" y="47"/>
                    </a:lnTo>
                    <a:lnTo>
                      <a:pt x="144" y="51"/>
                    </a:lnTo>
                    <a:lnTo>
                      <a:pt x="136" y="56"/>
                    </a:lnTo>
                    <a:lnTo>
                      <a:pt x="131" y="62"/>
                    </a:lnTo>
                    <a:lnTo>
                      <a:pt x="122" y="64"/>
                    </a:lnTo>
                    <a:lnTo>
                      <a:pt x="114" y="65"/>
                    </a:lnTo>
                    <a:lnTo>
                      <a:pt x="104" y="64"/>
                    </a:lnTo>
                    <a:lnTo>
                      <a:pt x="94" y="63"/>
                    </a:lnTo>
                    <a:lnTo>
                      <a:pt x="83" y="60"/>
                    </a:lnTo>
                    <a:lnTo>
                      <a:pt x="73" y="59"/>
                    </a:lnTo>
                    <a:lnTo>
                      <a:pt x="64" y="58"/>
                    </a:lnTo>
                    <a:lnTo>
                      <a:pt x="56" y="59"/>
                    </a:lnTo>
                    <a:lnTo>
                      <a:pt x="51" y="55"/>
                    </a:lnTo>
                    <a:lnTo>
                      <a:pt x="47" y="54"/>
                    </a:lnTo>
                    <a:lnTo>
                      <a:pt x="41" y="54"/>
                    </a:lnTo>
                    <a:lnTo>
                      <a:pt x="35" y="56"/>
                    </a:lnTo>
                    <a:lnTo>
                      <a:pt x="28" y="56"/>
                    </a:lnTo>
                    <a:lnTo>
                      <a:pt x="22" y="56"/>
                    </a:lnTo>
                    <a:lnTo>
                      <a:pt x="16" y="53"/>
                    </a:lnTo>
                    <a:lnTo>
                      <a:pt x="14" y="49"/>
                    </a:lnTo>
                    <a:lnTo>
                      <a:pt x="6" y="41"/>
                    </a:lnTo>
                    <a:lnTo>
                      <a:pt x="2" y="33"/>
                    </a:lnTo>
                    <a:lnTo>
                      <a:pt x="0" y="24"/>
                    </a:lnTo>
                    <a:lnTo>
                      <a:pt x="3" y="16"/>
                    </a:lnTo>
                    <a:lnTo>
                      <a:pt x="3" y="10"/>
                    </a:lnTo>
                    <a:lnTo>
                      <a:pt x="6" y="4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22" y="8"/>
                    </a:lnTo>
                    <a:lnTo>
                      <a:pt x="27" y="15"/>
                    </a:lnTo>
                    <a:lnTo>
                      <a:pt x="33" y="20"/>
                    </a:lnTo>
                    <a:lnTo>
                      <a:pt x="4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97240" y="1649880"/>
                <a:ext cx="28080" cy="16200"/>
              </a:xfrm>
              <a:custGeom>
                <a:avLst/>
                <a:gdLst/>
                <a:ahLst/>
                <a:rect l="l" t="t" r="r" b="b"/>
                <a:pathLst>
                  <a:path w="59" h="26">
                    <a:moveTo>
                      <a:pt x="59" y="3"/>
                    </a:moveTo>
                    <a:lnTo>
                      <a:pt x="51" y="8"/>
                    </a:lnTo>
                    <a:lnTo>
                      <a:pt x="44" y="14"/>
                    </a:lnTo>
                    <a:lnTo>
                      <a:pt x="37" y="18"/>
                    </a:lnTo>
                    <a:lnTo>
                      <a:pt x="30" y="23"/>
                    </a:lnTo>
                    <a:lnTo>
                      <a:pt x="22" y="24"/>
                    </a:lnTo>
                    <a:lnTo>
                      <a:pt x="15" y="26"/>
                    </a:lnTo>
                    <a:lnTo>
                      <a:pt x="8" y="26"/>
                    </a:lnTo>
                    <a:lnTo>
                      <a:pt x="0" y="26"/>
                    </a:lnTo>
                    <a:lnTo>
                      <a:pt x="1" y="17"/>
                    </a:lnTo>
                    <a:lnTo>
                      <a:pt x="0" y="12"/>
                    </a:lnTo>
                    <a:lnTo>
                      <a:pt x="8" y="9"/>
                    </a:lnTo>
                    <a:lnTo>
                      <a:pt x="16" y="7"/>
                    </a:lnTo>
                    <a:lnTo>
                      <a:pt x="23" y="4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ff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17320" y="1706040"/>
                <a:ext cx="37440" cy="3420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67" y="16"/>
                    </a:moveTo>
                    <a:lnTo>
                      <a:pt x="59" y="18"/>
                    </a:lnTo>
                    <a:lnTo>
                      <a:pt x="51" y="21"/>
                    </a:lnTo>
                    <a:lnTo>
                      <a:pt x="43" y="25"/>
                    </a:lnTo>
                    <a:lnTo>
                      <a:pt x="36" y="30"/>
                    </a:lnTo>
                    <a:lnTo>
                      <a:pt x="27" y="34"/>
                    </a:lnTo>
                    <a:lnTo>
                      <a:pt x="18" y="40"/>
                    </a:lnTo>
                    <a:lnTo>
                      <a:pt x="9" y="46"/>
                    </a:lnTo>
                    <a:lnTo>
                      <a:pt x="0" y="52"/>
                    </a:lnTo>
                    <a:lnTo>
                      <a:pt x="0" y="43"/>
                    </a:lnTo>
                    <a:lnTo>
                      <a:pt x="8" y="37"/>
                    </a:lnTo>
                    <a:lnTo>
                      <a:pt x="17" y="31"/>
                    </a:lnTo>
                    <a:lnTo>
                      <a:pt x="26" y="25"/>
                    </a:lnTo>
                    <a:lnTo>
                      <a:pt x="35" y="19"/>
                    </a:lnTo>
                    <a:lnTo>
                      <a:pt x="44" y="14"/>
                    </a:lnTo>
                    <a:lnTo>
                      <a:pt x="53" y="9"/>
                    </a:lnTo>
                    <a:lnTo>
                      <a:pt x="62" y="4"/>
                    </a:lnTo>
                    <a:lnTo>
                      <a:pt x="71" y="0"/>
                    </a:lnTo>
                    <a:lnTo>
                      <a:pt x="74" y="4"/>
                    </a:lnTo>
                    <a:lnTo>
                      <a:pt x="73" y="9"/>
                    </a:lnTo>
                    <a:lnTo>
                      <a:pt x="70" y="12"/>
                    </a:lnTo>
                    <a:lnTo>
                      <a:pt x="6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72960" y="1490400"/>
                <a:ext cx="1800" cy="100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3" y="13"/>
                    </a:moveTo>
                    <a:lnTo>
                      <a:pt x="3" y="6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20920" y="1729800"/>
                <a:ext cx="21960" cy="162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41" y="2"/>
                    </a:moveTo>
                    <a:lnTo>
                      <a:pt x="35" y="9"/>
                    </a:lnTo>
                    <a:lnTo>
                      <a:pt x="26" y="13"/>
                    </a:lnTo>
                    <a:lnTo>
                      <a:pt x="16" y="17"/>
                    </a:lnTo>
                    <a:lnTo>
                      <a:pt x="9" y="25"/>
                    </a:lnTo>
                    <a:lnTo>
                      <a:pt x="4" y="22"/>
                    </a:lnTo>
                    <a:lnTo>
                      <a:pt x="0" y="19"/>
                    </a:lnTo>
                    <a:lnTo>
                      <a:pt x="3" y="14"/>
                    </a:lnTo>
                    <a:lnTo>
                      <a:pt x="8" y="11"/>
                    </a:lnTo>
                    <a:lnTo>
                      <a:pt x="14" y="7"/>
                    </a:lnTo>
                    <a:lnTo>
                      <a:pt x="20" y="4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913040" y="1746000"/>
                <a:ext cx="61920" cy="24120"/>
              </a:xfrm>
              <a:custGeom>
                <a:avLst/>
                <a:gdLst/>
                <a:ahLst/>
                <a:rect l="l" t="t" r="r" b="b"/>
                <a:pathLst>
                  <a:path w="124" h="33">
                    <a:moveTo>
                      <a:pt x="120" y="13"/>
                    </a:moveTo>
                    <a:lnTo>
                      <a:pt x="124" y="13"/>
                    </a:lnTo>
                    <a:lnTo>
                      <a:pt x="119" y="17"/>
                    </a:lnTo>
                    <a:lnTo>
                      <a:pt x="114" y="21"/>
                    </a:lnTo>
                    <a:lnTo>
                      <a:pt x="107" y="22"/>
                    </a:lnTo>
                    <a:lnTo>
                      <a:pt x="100" y="24"/>
                    </a:lnTo>
                    <a:lnTo>
                      <a:pt x="91" y="24"/>
                    </a:lnTo>
                    <a:lnTo>
                      <a:pt x="84" y="24"/>
                    </a:lnTo>
                    <a:lnTo>
                      <a:pt x="76" y="24"/>
                    </a:lnTo>
                    <a:lnTo>
                      <a:pt x="71" y="26"/>
                    </a:lnTo>
                    <a:lnTo>
                      <a:pt x="64" y="26"/>
                    </a:lnTo>
                    <a:lnTo>
                      <a:pt x="56" y="28"/>
                    </a:lnTo>
                    <a:lnTo>
                      <a:pt x="47" y="30"/>
                    </a:lnTo>
                    <a:lnTo>
                      <a:pt x="38" y="33"/>
                    </a:lnTo>
                    <a:lnTo>
                      <a:pt x="28" y="33"/>
                    </a:lnTo>
                    <a:lnTo>
                      <a:pt x="19" y="33"/>
                    </a:lnTo>
                    <a:lnTo>
                      <a:pt x="11" y="30"/>
                    </a:lnTo>
                    <a:lnTo>
                      <a:pt x="4" y="26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3" y="15"/>
                    </a:lnTo>
                    <a:lnTo>
                      <a:pt x="20" y="16"/>
                    </a:lnTo>
                    <a:lnTo>
                      <a:pt x="18" y="8"/>
                    </a:lnTo>
                    <a:lnTo>
                      <a:pt x="22" y="5"/>
                    </a:lnTo>
                    <a:lnTo>
                      <a:pt x="29" y="2"/>
                    </a:lnTo>
                    <a:lnTo>
                      <a:pt x="39" y="0"/>
                    </a:lnTo>
                    <a:lnTo>
                      <a:pt x="47" y="2"/>
                    </a:lnTo>
                    <a:lnTo>
                      <a:pt x="57" y="4"/>
                    </a:lnTo>
                    <a:lnTo>
                      <a:pt x="68" y="5"/>
                    </a:lnTo>
                    <a:lnTo>
                      <a:pt x="79" y="6"/>
                    </a:lnTo>
                    <a:lnTo>
                      <a:pt x="90" y="6"/>
                    </a:lnTo>
                    <a:lnTo>
                      <a:pt x="101" y="8"/>
                    </a:lnTo>
                    <a:lnTo>
                      <a:pt x="110" y="9"/>
                    </a:lnTo>
                    <a:lnTo>
                      <a:pt x="1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10840" y="175140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5"/>
                    </a:moveTo>
                    <a:lnTo>
                      <a:pt x="12" y="10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79388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6"/>
                    </a:moveTo>
                    <a:lnTo>
                      <a:pt x="24" y="7"/>
                    </a:lnTo>
                    <a:lnTo>
                      <a:pt x="15" y="6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7f9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35200" y="1825920"/>
                <a:ext cx="43920" cy="50760"/>
              </a:xfrm>
              <a:custGeom>
                <a:avLst/>
                <a:gdLst/>
                <a:ahLst/>
                <a:rect l="l" t="t" r="r" b="b"/>
                <a:pathLst>
                  <a:path w="88" h="75">
                    <a:moveTo>
                      <a:pt x="88" y="0"/>
                    </a:moveTo>
                    <a:lnTo>
                      <a:pt x="74" y="6"/>
                    </a:lnTo>
                    <a:lnTo>
                      <a:pt x="62" y="14"/>
                    </a:lnTo>
                    <a:lnTo>
                      <a:pt x="50" y="23"/>
                    </a:lnTo>
                    <a:lnTo>
                      <a:pt x="40" y="32"/>
                    </a:lnTo>
                    <a:lnTo>
                      <a:pt x="29" y="41"/>
                    </a:lnTo>
                    <a:lnTo>
                      <a:pt x="19" y="51"/>
                    </a:lnTo>
                    <a:lnTo>
                      <a:pt x="9" y="62"/>
                    </a:lnTo>
                    <a:lnTo>
                      <a:pt x="0" y="75"/>
                    </a:lnTo>
                    <a:lnTo>
                      <a:pt x="6" y="66"/>
                    </a:lnTo>
                    <a:lnTo>
                      <a:pt x="12" y="56"/>
                    </a:lnTo>
                    <a:lnTo>
                      <a:pt x="18" y="45"/>
                    </a:lnTo>
                    <a:lnTo>
                      <a:pt x="28" y="35"/>
                    </a:lnTo>
                    <a:lnTo>
                      <a:pt x="36" y="24"/>
                    </a:lnTo>
                    <a:lnTo>
                      <a:pt x="46" y="14"/>
                    </a:lnTo>
                    <a:lnTo>
                      <a:pt x="56" y="5"/>
                    </a:lnTo>
                    <a:lnTo>
                      <a:pt x="6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f9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914400" y="182736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C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74880" y="487692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UCS</a:t>
              </a:r>
              <a:r>
                <a:rPr b="1" lang="en-US" sz="32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14400" y="22399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(ra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520" y="52578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(loud noise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3" name=""/>
            <p:cNvGraphicFramePr/>
            <p:nvPr/>
          </p:nvGraphicFramePr>
          <p:xfrm>
            <a:off x="6553080" y="2589120"/>
            <a:ext cx="175284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589120"/>
                      <a:ext cx="175284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5562720" y="3657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C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5960" y="413244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UC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65840" y="37638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(fear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13560" y="365760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90920" y="4114800"/>
              <a:ext cx="29718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43200" y="1905120"/>
              <a:ext cx="2819520" cy="19810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Operant Conditioning: Learning from the Consequences of Your Behavior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m of learning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sequences of behavior lead to change based on probability of consequences occurr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orndike and the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uzzle bo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searching animal intellig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Law of effec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consequences determine response occurring in futu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Operant Conditio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ree types of desirable and undesirable consequences that influence behavi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ositive reinforc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gative reinforc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unishmen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ositive Reinforcemen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consequences – behavior occurs mor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frequentl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ie: praise given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s in teach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spitalized schizophrenics more normal behavio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mployees within the workpla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Operant respons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– changed behavior becomes more frequ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 rot="2287800">
            <a:off x="-185400" y="3087360"/>
            <a:ext cx="10103040" cy="6094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80880" y="380880"/>
            <a:ext cx="7620120" cy="5931000"/>
            <a:chOff x="380880" y="380880"/>
            <a:chExt cx="7620120" cy="5931000"/>
          </a:xfrm>
        </p:grpSpPr>
        <p:grpSp>
          <p:nvGrpSpPr>
            <p:cNvPr id="362" name=""/>
            <p:cNvGrpSpPr/>
            <p:nvPr/>
          </p:nvGrpSpPr>
          <p:grpSpPr>
            <a:xfrm>
              <a:off x="1828800" y="3616200"/>
              <a:ext cx="6019560" cy="2057400"/>
              <a:chOff x="1828800" y="3616200"/>
              <a:chExt cx="6019560" cy="2057400"/>
            </a:xfrm>
          </p:grpSpPr>
          <p:sp>
            <p:nvSpPr>
              <p:cNvPr id="363" name=""/>
              <p:cNvSpPr/>
              <p:nvPr/>
            </p:nvSpPr>
            <p:spPr>
              <a:xfrm>
                <a:off x="34290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28800" y="5673600"/>
                <a:ext cx="601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1828800" y="3768840"/>
                <a:ext cx="6019200" cy="1523880"/>
                <a:chOff x="1828800" y="3768840"/>
                <a:chExt cx="6019200" cy="15238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28800" y="491184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28800" y="453060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28800" y="414972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28800" y="376884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28800" y="529272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1828800" y="361620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576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862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724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004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3434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720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006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148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2578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864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150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292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722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008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294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9436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866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152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438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580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718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2860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146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432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57400" y="3616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219320" y="399744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437832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4759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9320" y="514044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19320" y="54864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9320" y="358128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828800" y="1330200"/>
              <a:ext cx="6019560" cy="2057400"/>
              <a:chOff x="1828800" y="1330200"/>
              <a:chExt cx="6019560" cy="2057400"/>
            </a:xfrm>
          </p:grpSpPr>
          <p:sp>
            <p:nvSpPr>
              <p:cNvPr id="404" name=""/>
              <p:cNvSpPr/>
              <p:nvPr/>
            </p:nvSpPr>
            <p:spPr>
              <a:xfrm>
                <a:off x="34290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28800" y="3387600"/>
                <a:ext cx="6019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828800" y="1482840"/>
                <a:ext cx="6019200" cy="1523880"/>
                <a:chOff x="1828800" y="1482840"/>
                <a:chExt cx="6019200" cy="15238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28800" y="262584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828800" y="224460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828800" y="186372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828800" y="148284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828800" y="3006720"/>
                  <a:ext cx="601920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>
                <a:off x="1828800" y="133020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576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862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724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2004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434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720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006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148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578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864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150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292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722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008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294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436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866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438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8580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718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2860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146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432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57400" y="1330200"/>
                <a:ext cx="0" cy="205740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219320" y="171144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19320" y="209232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19320" y="2473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19320" y="285444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19320" y="32004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129528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71800" y="563868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29000" y="563868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63868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78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57400" y="563868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14600" y="5638680"/>
              <a:ext cx="38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22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150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438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434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29400" y="5638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495680" y="14475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638680" y="14475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124080" y="14475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38080" y="380880"/>
              <a:ext cx="12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Percent of interaction spent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880" y="44337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hild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19320" y="1143000"/>
              <a:ext cx="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95680" y="59436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D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21337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Ad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362320" y="1522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e of Positive Reinforcement Increases Time Spent With Other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36232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0" y="2362320"/>
            <a:ext cx="228600" cy="304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14600" y="2666880"/>
            <a:ext cx="228600" cy="152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743200" y="2590560"/>
            <a:ext cx="228600" cy="228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7400" y="5257440"/>
            <a:ext cx="228600" cy="2286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5257800"/>
            <a:ext cx="228600" cy="152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5410080"/>
            <a:ext cx="228600" cy="763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43200" y="5486400"/>
            <a:ext cx="2286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00400" y="2971800"/>
            <a:ext cx="228600" cy="763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048120"/>
            <a:ext cx="228600" cy="759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657600" y="2895120"/>
            <a:ext cx="228600" cy="228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86200" y="2895480"/>
            <a:ext cx="228600" cy="763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2971800"/>
            <a:ext cx="228600" cy="763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236232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2362320"/>
            <a:ext cx="228600" cy="4572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029200" y="2514240"/>
            <a:ext cx="228600" cy="304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2514600"/>
            <a:ext cx="228600" cy="15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715000" y="2895120"/>
            <a:ext cx="228600" cy="228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943600" y="2590920"/>
            <a:ext cx="228600" cy="304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72200" y="2590920"/>
            <a:ext cx="228600" cy="3808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400800" y="2895480"/>
            <a:ext cx="457200" cy="763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0" y="2895480"/>
            <a:ext cx="228600" cy="763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086600" y="2895480"/>
            <a:ext cx="228600" cy="763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7315200" y="2742840"/>
            <a:ext cx="228600" cy="152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4572000"/>
            <a:ext cx="228600" cy="152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429000" y="4647960"/>
            <a:ext cx="228600" cy="759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657600" y="4266720"/>
            <a:ext cx="228600" cy="3812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86200" y="4267080"/>
            <a:ext cx="228600" cy="152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14800" y="4343400"/>
            <a:ext cx="228600" cy="763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5333760"/>
            <a:ext cx="228600" cy="759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00600" y="5334120"/>
            <a:ext cx="228600" cy="759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029200" y="5105520"/>
            <a:ext cx="228600" cy="304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5105520"/>
            <a:ext cx="228600" cy="3045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15000" y="4800600"/>
            <a:ext cx="228600" cy="763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4876920"/>
            <a:ext cx="228600" cy="2286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172200" y="4266720"/>
            <a:ext cx="228600" cy="838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00800" y="4267080"/>
            <a:ext cx="228600" cy="6098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629400" y="4647960"/>
            <a:ext cx="228600" cy="2286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6858000" y="4495680"/>
            <a:ext cx="228600" cy="152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086600" y="4114800"/>
            <a:ext cx="228600" cy="3808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5200" y="4114800"/>
            <a:ext cx="228600" cy="3808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ositive Reinforcemen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wo important iss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Timin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reinforcer following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ay of reinforcemen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 the greater the delay between response and reinforcer, the slower the learning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Consistency in delivery of reinforc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chedules of reinforc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einforcemen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sitive reinforcers – learned and inbor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imary reinforcement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nately reinforcing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amples: food, water, warmth, physical activ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ary reinforce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arned through classical conditio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amples: rewards, money, prai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finition of Lear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lative permanent change in behavior brought about through experience or interactions with the environ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all changes result from lear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nge in behavior not always immedia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ears of isolating and studying behavior produced different principles of lear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33520" y="838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rimary reinfor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91120" y="47689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econdary reinfor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990720" y="1523880"/>
            <a:ext cx="2971800" cy="2667240"/>
            <a:chOff x="990720" y="1523880"/>
            <a:chExt cx="2971800" cy="2667240"/>
          </a:xfrm>
        </p:grpSpPr>
        <p:sp>
          <p:nvSpPr>
            <p:cNvPr id="517" name=""/>
            <p:cNvSpPr/>
            <p:nvPr/>
          </p:nvSpPr>
          <p:spPr>
            <a:xfrm>
              <a:off x="990720" y="1523880"/>
              <a:ext cx="2971800" cy="2667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e7c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j0112568" descr=""/>
            <p:cNvPicPr/>
            <p:nvPr/>
          </p:nvPicPr>
          <p:blipFill>
            <a:blip r:embed="rId1"/>
            <a:stretch/>
          </p:blipFill>
          <p:spPr>
            <a:xfrm>
              <a:off x="1371600" y="1676520"/>
              <a:ext cx="15667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FD01608_" descr=""/>
            <p:cNvPicPr/>
            <p:nvPr/>
          </p:nvPicPr>
          <p:blipFill>
            <a:blip r:embed="rId2"/>
            <a:stretch/>
          </p:blipFill>
          <p:spPr>
            <a:xfrm>
              <a:off x="2057400" y="3200400"/>
              <a:ext cx="106668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FD00403_" descr=""/>
            <p:cNvPicPr/>
            <p:nvPr/>
          </p:nvPicPr>
          <p:blipFill>
            <a:blip r:embed="rId3"/>
            <a:stretch/>
          </p:blipFill>
          <p:spPr>
            <a:xfrm>
              <a:off x="2895480" y="2590920"/>
              <a:ext cx="914400" cy="77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3114720" y="2509920"/>
              <a:ext cx="162000" cy="127080"/>
            </a:xfrm>
            <a:custGeom>
              <a:avLst/>
              <a:gdLst/>
              <a:ahLst/>
              <a:rect l="l" t="t" r="r" b="b"/>
              <a:pathLst>
                <a:path w="306" h="238">
                  <a:moveTo>
                    <a:pt x="195" y="0"/>
                  </a:moveTo>
                  <a:lnTo>
                    <a:pt x="199" y="1"/>
                  </a:lnTo>
                  <a:lnTo>
                    <a:pt x="201" y="2"/>
                  </a:lnTo>
                  <a:lnTo>
                    <a:pt x="206" y="5"/>
                  </a:lnTo>
                  <a:lnTo>
                    <a:pt x="211" y="7"/>
                  </a:lnTo>
                  <a:lnTo>
                    <a:pt x="217" y="11"/>
                  </a:lnTo>
                  <a:lnTo>
                    <a:pt x="220" y="13"/>
                  </a:lnTo>
                  <a:lnTo>
                    <a:pt x="224" y="16"/>
                  </a:lnTo>
                  <a:lnTo>
                    <a:pt x="228" y="18"/>
                  </a:lnTo>
                  <a:lnTo>
                    <a:pt x="233" y="22"/>
                  </a:lnTo>
                  <a:lnTo>
                    <a:pt x="236" y="24"/>
                  </a:lnTo>
                  <a:lnTo>
                    <a:pt x="240" y="27"/>
                  </a:lnTo>
                  <a:lnTo>
                    <a:pt x="245" y="30"/>
                  </a:lnTo>
                  <a:lnTo>
                    <a:pt x="249" y="34"/>
                  </a:lnTo>
                  <a:lnTo>
                    <a:pt x="254" y="38"/>
                  </a:lnTo>
                  <a:lnTo>
                    <a:pt x="259" y="42"/>
                  </a:lnTo>
                  <a:lnTo>
                    <a:pt x="263" y="46"/>
                  </a:lnTo>
                  <a:lnTo>
                    <a:pt x="269" y="51"/>
                  </a:lnTo>
                  <a:lnTo>
                    <a:pt x="272" y="56"/>
                  </a:lnTo>
                  <a:lnTo>
                    <a:pt x="277" y="60"/>
                  </a:lnTo>
                  <a:lnTo>
                    <a:pt x="282" y="65"/>
                  </a:lnTo>
                  <a:lnTo>
                    <a:pt x="287" y="71"/>
                  </a:lnTo>
                  <a:lnTo>
                    <a:pt x="292" y="77"/>
                  </a:lnTo>
                  <a:lnTo>
                    <a:pt x="296" y="82"/>
                  </a:lnTo>
                  <a:lnTo>
                    <a:pt x="301" y="89"/>
                  </a:lnTo>
                  <a:lnTo>
                    <a:pt x="306" y="95"/>
                  </a:lnTo>
                  <a:lnTo>
                    <a:pt x="305" y="98"/>
                  </a:lnTo>
                  <a:lnTo>
                    <a:pt x="302" y="102"/>
                  </a:lnTo>
                  <a:lnTo>
                    <a:pt x="301" y="104"/>
                  </a:lnTo>
                  <a:lnTo>
                    <a:pt x="299" y="108"/>
                  </a:lnTo>
                  <a:lnTo>
                    <a:pt x="296" y="111"/>
                  </a:lnTo>
                  <a:lnTo>
                    <a:pt x="294" y="116"/>
                  </a:lnTo>
                  <a:lnTo>
                    <a:pt x="292" y="121"/>
                  </a:lnTo>
                  <a:lnTo>
                    <a:pt x="289" y="126"/>
                  </a:lnTo>
                  <a:lnTo>
                    <a:pt x="286" y="132"/>
                  </a:lnTo>
                  <a:lnTo>
                    <a:pt x="282" y="138"/>
                  </a:lnTo>
                  <a:lnTo>
                    <a:pt x="278" y="144"/>
                  </a:lnTo>
                  <a:lnTo>
                    <a:pt x="275" y="149"/>
                  </a:lnTo>
                  <a:lnTo>
                    <a:pt x="271" y="156"/>
                  </a:lnTo>
                  <a:lnTo>
                    <a:pt x="269" y="162"/>
                  </a:lnTo>
                  <a:lnTo>
                    <a:pt x="264" y="168"/>
                  </a:lnTo>
                  <a:lnTo>
                    <a:pt x="260" y="175"/>
                  </a:lnTo>
                  <a:lnTo>
                    <a:pt x="255" y="181"/>
                  </a:lnTo>
                  <a:lnTo>
                    <a:pt x="252" y="187"/>
                  </a:lnTo>
                  <a:lnTo>
                    <a:pt x="247" y="193"/>
                  </a:lnTo>
                  <a:lnTo>
                    <a:pt x="243" y="199"/>
                  </a:lnTo>
                  <a:lnTo>
                    <a:pt x="240" y="204"/>
                  </a:lnTo>
                  <a:lnTo>
                    <a:pt x="236" y="210"/>
                  </a:lnTo>
                  <a:lnTo>
                    <a:pt x="231" y="215"/>
                  </a:lnTo>
                  <a:lnTo>
                    <a:pt x="228" y="220"/>
                  </a:lnTo>
                  <a:lnTo>
                    <a:pt x="224" y="224"/>
                  </a:lnTo>
                  <a:lnTo>
                    <a:pt x="220" y="227"/>
                  </a:lnTo>
                  <a:lnTo>
                    <a:pt x="216" y="230"/>
                  </a:lnTo>
                  <a:lnTo>
                    <a:pt x="212" y="233"/>
                  </a:lnTo>
                  <a:lnTo>
                    <a:pt x="210" y="236"/>
                  </a:lnTo>
                  <a:lnTo>
                    <a:pt x="206" y="237"/>
                  </a:lnTo>
                  <a:lnTo>
                    <a:pt x="202" y="237"/>
                  </a:lnTo>
                  <a:lnTo>
                    <a:pt x="198" y="238"/>
                  </a:lnTo>
                  <a:lnTo>
                    <a:pt x="193" y="238"/>
                  </a:lnTo>
                  <a:lnTo>
                    <a:pt x="188" y="238"/>
                  </a:lnTo>
                  <a:lnTo>
                    <a:pt x="181" y="238"/>
                  </a:lnTo>
                  <a:lnTo>
                    <a:pt x="175" y="237"/>
                  </a:lnTo>
                  <a:lnTo>
                    <a:pt x="170" y="237"/>
                  </a:lnTo>
                  <a:lnTo>
                    <a:pt x="166" y="237"/>
                  </a:lnTo>
                  <a:lnTo>
                    <a:pt x="163" y="236"/>
                  </a:lnTo>
                  <a:lnTo>
                    <a:pt x="159" y="236"/>
                  </a:lnTo>
                  <a:lnTo>
                    <a:pt x="155" y="234"/>
                  </a:lnTo>
                  <a:lnTo>
                    <a:pt x="150" y="234"/>
                  </a:lnTo>
                  <a:lnTo>
                    <a:pt x="146" y="233"/>
                  </a:lnTo>
                  <a:lnTo>
                    <a:pt x="142" y="233"/>
                  </a:lnTo>
                  <a:lnTo>
                    <a:pt x="137" y="232"/>
                  </a:lnTo>
                  <a:lnTo>
                    <a:pt x="134" y="231"/>
                  </a:lnTo>
                  <a:lnTo>
                    <a:pt x="130" y="230"/>
                  </a:lnTo>
                  <a:lnTo>
                    <a:pt x="125" y="230"/>
                  </a:lnTo>
                  <a:lnTo>
                    <a:pt x="120" y="228"/>
                  </a:lnTo>
                  <a:lnTo>
                    <a:pt x="117" y="227"/>
                  </a:lnTo>
                  <a:lnTo>
                    <a:pt x="112" y="226"/>
                  </a:lnTo>
                  <a:lnTo>
                    <a:pt x="107" y="226"/>
                  </a:lnTo>
                  <a:lnTo>
                    <a:pt x="102" y="225"/>
                  </a:lnTo>
                  <a:lnTo>
                    <a:pt x="99" y="224"/>
                  </a:lnTo>
                  <a:lnTo>
                    <a:pt x="94" y="224"/>
                  </a:lnTo>
                  <a:lnTo>
                    <a:pt x="90" y="222"/>
                  </a:lnTo>
                  <a:lnTo>
                    <a:pt x="85" y="221"/>
                  </a:lnTo>
                  <a:lnTo>
                    <a:pt x="81" y="220"/>
                  </a:lnTo>
                  <a:lnTo>
                    <a:pt x="76" y="219"/>
                  </a:lnTo>
                  <a:lnTo>
                    <a:pt x="72" y="218"/>
                  </a:lnTo>
                  <a:lnTo>
                    <a:pt x="67" y="216"/>
                  </a:lnTo>
                  <a:lnTo>
                    <a:pt x="62" y="216"/>
                  </a:lnTo>
                  <a:lnTo>
                    <a:pt x="59" y="215"/>
                  </a:lnTo>
                  <a:lnTo>
                    <a:pt x="55" y="214"/>
                  </a:lnTo>
                  <a:lnTo>
                    <a:pt x="52" y="213"/>
                  </a:lnTo>
                  <a:lnTo>
                    <a:pt x="48" y="213"/>
                  </a:lnTo>
                  <a:lnTo>
                    <a:pt x="43" y="211"/>
                  </a:lnTo>
                  <a:lnTo>
                    <a:pt x="39" y="210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9" y="207"/>
                  </a:lnTo>
                  <a:lnTo>
                    <a:pt x="26" y="207"/>
                  </a:lnTo>
                  <a:lnTo>
                    <a:pt x="20" y="205"/>
                  </a:lnTo>
                  <a:lnTo>
                    <a:pt x="15" y="203"/>
                  </a:lnTo>
                  <a:lnTo>
                    <a:pt x="9" y="202"/>
                  </a:lnTo>
                  <a:lnTo>
                    <a:pt x="7" y="202"/>
                  </a:lnTo>
                  <a:lnTo>
                    <a:pt x="1" y="201"/>
                  </a:lnTo>
                  <a:lnTo>
                    <a:pt x="0" y="201"/>
                  </a:lnTo>
                  <a:lnTo>
                    <a:pt x="29" y="0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db0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62280" y="2344680"/>
              <a:ext cx="447480" cy="393840"/>
            </a:xfrm>
            <a:custGeom>
              <a:avLst/>
              <a:gdLst/>
              <a:ahLst/>
              <a:rect l="l" t="t" r="r" b="b"/>
              <a:pathLst>
                <a:path w="845" h="744">
                  <a:moveTo>
                    <a:pt x="845" y="532"/>
                  </a:moveTo>
                  <a:lnTo>
                    <a:pt x="801" y="0"/>
                  </a:lnTo>
                  <a:lnTo>
                    <a:pt x="330" y="71"/>
                  </a:lnTo>
                  <a:lnTo>
                    <a:pt x="9" y="231"/>
                  </a:lnTo>
                  <a:lnTo>
                    <a:pt x="8" y="231"/>
                  </a:lnTo>
                  <a:lnTo>
                    <a:pt x="8" y="232"/>
                  </a:lnTo>
                  <a:lnTo>
                    <a:pt x="7" y="234"/>
                  </a:lnTo>
                  <a:lnTo>
                    <a:pt x="7" y="238"/>
                  </a:lnTo>
                  <a:lnTo>
                    <a:pt x="6" y="242"/>
                  </a:lnTo>
                  <a:lnTo>
                    <a:pt x="4" y="246"/>
                  </a:lnTo>
                  <a:lnTo>
                    <a:pt x="3" y="252"/>
                  </a:lnTo>
                  <a:lnTo>
                    <a:pt x="3" y="257"/>
                  </a:lnTo>
                  <a:lnTo>
                    <a:pt x="2" y="263"/>
                  </a:lnTo>
                  <a:lnTo>
                    <a:pt x="1" y="269"/>
                  </a:lnTo>
                  <a:lnTo>
                    <a:pt x="0" y="275"/>
                  </a:lnTo>
                  <a:lnTo>
                    <a:pt x="0" y="281"/>
                  </a:lnTo>
                  <a:lnTo>
                    <a:pt x="0" y="289"/>
                  </a:lnTo>
                  <a:lnTo>
                    <a:pt x="0" y="295"/>
                  </a:lnTo>
                  <a:lnTo>
                    <a:pt x="0" y="301"/>
                  </a:lnTo>
                  <a:lnTo>
                    <a:pt x="1" y="306"/>
                  </a:lnTo>
                  <a:lnTo>
                    <a:pt x="1" y="312"/>
                  </a:lnTo>
                  <a:lnTo>
                    <a:pt x="1" y="316"/>
                  </a:lnTo>
                  <a:lnTo>
                    <a:pt x="2" y="323"/>
                  </a:lnTo>
                  <a:lnTo>
                    <a:pt x="3" y="329"/>
                  </a:lnTo>
                  <a:lnTo>
                    <a:pt x="3" y="335"/>
                  </a:lnTo>
                  <a:lnTo>
                    <a:pt x="4" y="341"/>
                  </a:lnTo>
                  <a:lnTo>
                    <a:pt x="6" y="347"/>
                  </a:lnTo>
                  <a:lnTo>
                    <a:pt x="8" y="353"/>
                  </a:lnTo>
                  <a:lnTo>
                    <a:pt x="8" y="359"/>
                  </a:lnTo>
                  <a:lnTo>
                    <a:pt x="8" y="365"/>
                  </a:lnTo>
                  <a:lnTo>
                    <a:pt x="9" y="371"/>
                  </a:lnTo>
                  <a:lnTo>
                    <a:pt x="9" y="377"/>
                  </a:lnTo>
                  <a:lnTo>
                    <a:pt x="9" y="383"/>
                  </a:lnTo>
                  <a:lnTo>
                    <a:pt x="9" y="389"/>
                  </a:lnTo>
                  <a:lnTo>
                    <a:pt x="8" y="394"/>
                  </a:lnTo>
                  <a:lnTo>
                    <a:pt x="8" y="400"/>
                  </a:lnTo>
                  <a:lnTo>
                    <a:pt x="6" y="403"/>
                  </a:lnTo>
                  <a:lnTo>
                    <a:pt x="4" y="408"/>
                  </a:lnTo>
                  <a:lnTo>
                    <a:pt x="3" y="413"/>
                  </a:lnTo>
                  <a:lnTo>
                    <a:pt x="2" y="418"/>
                  </a:lnTo>
                  <a:lnTo>
                    <a:pt x="2" y="423"/>
                  </a:lnTo>
                  <a:lnTo>
                    <a:pt x="1" y="429"/>
                  </a:lnTo>
                  <a:lnTo>
                    <a:pt x="1" y="434"/>
                  </a:lnTo>
                  <a:lnTo>
                    <a:pt x="2" y="438"/>
                  </a:lnTo>
                  <a:lnTo>
                    <a:pt x="2" y="443"/>
                  </a:lnTo>
                  <a:lnTo>
                    <a:pt x="2" y="448"/>
                  </a:lnTo>
                  <a:lnTo>
                    <a:pt x="3" y="452"/>
                  </a:lnTo>
                  <a:lnTo>
                    <a:pt x="4" y="458"/>
                  </a:lnTo>
                  <a:lnTo>
                    <a:pt x="6" y="461"/>
                  </a:lnTo>
                  <a:lnTo>
                    <a:pt x="9" y="467"/>
                  </a:lnTo>
                  <a:lnTo>
                    <a:pt x="10" y="471"/>
                  </a:lnTo>
                  <a:lnTo>
                    <a:pt x="14" y="476"/>
                  </a:lnTo>
                  <a:lnTo>
                    <a:pt x="16" y="481"/>
                  </a:lnTo>
                  <a:lnTo>
                    <a:pt x="19" y="486"/>
                  </a:lnTo>
                  <a:lnTo>
                    <a:pt x="20" y="492"/>
                  </a:lnTo>
                  <a:lnTo>
                    <a:pt x="22" y="499"/>
                  </a:lnTo>
                  <a:lnTo>
                    <a:pt x="22" y="505"/>
                  </a:lnTo>
                  <a:lnTo>
                    <a:pt x="24" y="512"/>
                  </a:lnTo>
                  <a:lnTo>
                    <a:pt x="24" y="516"/>
                  </a:lnTo>
                  <a:lnTo>
                    <a:pt x="24" y="519"/>
                  </a:lnTo>
                  <a:lnTo>
                    <a:pt x="24" y="524"/>
                  </a:lnTo>
                  <a:lnTo>
                    <a:pt x="24" y="528"/>
                  </a:lnTo>
                  <a:lnTo>
                    <a:pt x="24" y="532"/>
                  </a:lnTo>
                  <a:lnTo>
                    <a:pt x="24" y="536"/>
                  </a:lnTo>
                  <a:lnTo>
                    <a:pt x="24" y="540"/>
                  </a:lnTo>
                  <a:lnTo>
                    <a:pt x="24" y="544"/>
                  </a:lnTo>
                  <a:lnTo>
                    <a:pt x="24" y="548"/>
                  </a:lnTo>
                  <a:lnTo>
                    <a:pt x="24" y="552"/>
                  </a:lnTo>
                  <a:lnTo>
                    <a:pt x="24" y="557"/>
                  </a:lnTo>
                  <a:lnTo>
                    <a:pt x="24" y="561"/>
                  </a:lnTo>
                  <a:lnTo>
                    <a:pt x="24" y="564"/>
                  </a:lnTo>
                  <a:lnTo>
                    <a:pt x="24" y="569"/>
                  </a:lnTo>
                  <a:lnTo>
                    <a:pt x="24" y="574"/>
                  </a:lnTo>
                  <a:lnTo>
                    <a:pt x="25" y="577"/>
                  </a:lnTo>
                  <a:lnTo>
                    <a:pt x="25" y="582"/>
                  </a:lnTo>
                  <a:lnTo>
                    <a:pt x="26" y="587"/>
                  </a:lnTo>
                  <a:lnTo>
                    <a:pt x="26" y="591"/>
                  </a:lnTo>
                  <a:lnTo>
                    <a:pt x="27" y="596"/>
                  </a:lnTo>
                  <a:lnTo>
                    <a:pt x="27" y="599"/>
                  </a:lnTo>
                  <a:lnTo>
                    <a:pt x="28" y="604"/>
                  </a:lnTo>
                  <a:lnTo>
                    <a:pt x="28" y="608"/>
                  </a:lnTo>
                  <a:lnTo>
                    <a:pt x="30" y="612"/>
                  </a:lnTo>
                  <a:lnTo>
                    <a:pt x="30" y="617"/>
                  </a:lnTo>
                  <a:lnTo>
                    <a:pt x="30" y="622"/>
                  </a:lnTo>
                  <a:lnTo>
                    <a:pt x="31" y="627"/>
                  </a:lnTo>
                  <a:lnTo>
                    <a:pt x="32" y="632"/>
                  </a:lnTo>
                  <a:lnTo>
                    <a:pt x="32" y="637"/>
                  </a:lnTo>
                  <a:lnTo>
                    <a:pt x="33" y="641"/>
                  </a:lnTo>
                  <a:lnTo>
                    <a:pt x="33" y="646"/>
                  </a:lnTo>
                  <a:lnTo>
                    <a:pt x="35" y="651"/>
                  </a:lnTo>
                  <a:lnTo>
                    <a:pt x="35" y="656"/>
                  </a:lnTo>
                  <a:lnTo>
                    <a:pt x="36" y="661"/>
                  </a:lnTo>
                  <a:lnTo>
                    <a:pt x="37" y="666"/>
                  </a:lnTo>
                  <a:lnTo>
                    <a:pt x="39" y="672"/>
                  </a:lnTo>
                  <a:lnTo>
                    <a:pt x="39" y="675"/>
                  </a:lnTo>
                  <a:lnTo>
                    <a:pt x="41" y="680"/>
                  </a:lnTo>
                  <a:lnTo>
                    <a:pt x="43" y="685"/>
                  </a:lnTo>
                  <a:lnTo>
                    <a:pt x="45" y="690"/>
                  </a:lnTo>
                  <a:lnTo>
                    <a:pt x="47" y="693"/>
                  </a:lnTo>
                  <a:lnTo>
                    <a:pt x="49" y="698"/>
                  </a:lnTo>
                  <a:lnTo>
                    <a:pt x="51" y="702"/>
                  </a:lnTo>
                  <a:lnTo>
                    <a:pt x="55" y="708"/>
                  </a:lnTo>
                  <a:lnTo>
                    <a:pt x="57" y="712"/>
                  </a:lnTo>
                  <a:lnTo>
                    <a:pt x="60" y="715"/>
                  </a:lnTo>
                  <a:lnTo>
                    <a:pt x="63" y="719"/>
                  </a:lnTo>
                  <a:lnTo>
                    <a:pt x="67" y="722"/>
                  </a:lnTo>
                  <a:lnTo>
                    <a:pt x="71" y="726"/>
                  </a:lnTo>
                  <a:lnTo>
                    <a:pt x="74" y="730"/>
                  </a:lnTo>
                  <a:lnTo>
                    <a:pt x="79" y="733"/>
                  </a:lnTo>
                  <a:lnTo>
                    <a:pt x="84" y="737"/>
                  </a:lnTo>
                  <a:lnTo>
                    <a:pt x="89" y="738"/>
                  </a:lnTo>
                  <a:lnTo>
                    <a:pt x="95" y="741"/>
                  </a:lnTo>
                  <a:lnTo>
                    <a:pt x="97" y="742"/>
                  </a:lnTo>
                  <a:lnTo>
                    <a:pt x="100" y="742"/>
                  </a:lnTo>
                  <a:lnTo>
                    <a:pt x="104" y="743"/>
                  </a:lnTo>
                  <a:lnTo>
                    <a:pt x="108" y="743"/>
                  </a:lnTo>
                  <a:lnTo>
                    <a:pt x="111" y="743"/>
                  </a:lnTo>
                  <a:lnTo>
                    <a:pt x="115" y="744"/>
                  </a:lnTo>
                  <a:lnTo>
                    <a:pt x="119" y="744"/>
                  </a:lnTo>
                  <a:lnTo>
                    <a:pt x="123" y="744"/>
                  </a:lnTo>
                  <a:lnTo>
                    <a:pt x="126" y="744"/>
                  </a:lnTo>
                  <a:lnTo>
                    <a:pt x="131" y="744"/>
                  </a:lnTo>
                  <a:lnTo>
                    <a:pt x="136" y="744"/>
                  </a:lnTo>
                  <a:lnTo>
                    <a:pt x="139" y="744"/>
                  </a:lnTo>
                  <a:lnTo>
                    <a:pt x="143" y="744"/>
                  </a:lnTo>
                  <a:lnTo>
                    <a:pt x="148" y="743"/>
                  </a:lnTo>
                  <a:lnTo>
                    <a:pt x="153" y="743"/>
                  </a:lnTo>
                  <a:lnTo>
                    <a:pt x="156" y="743"/>
                  </a:lnTo>
                  <a:lnTo>
                    <a:pt x="161" y="742"/>
                  </a:lnTo>
                  <a:lnTo>
                    <a:pt x="166" y="742"/>
                  </a:lnTo>
                  <a:lnTo>
                    <a:pt x="171" y="741"/>
                  </a:lnTo>
                  <a:lnTo>
                    <a:pt x="176" y="741"/>
                  </a:lnTo>
                  <a:lnTo>
                    <a:pt x="180" y="739"/>
                  </a:lnTo>
                  <a:lnTo>
                    <a:pt x="185" y="738"/>
                  </a:lnTo>
                  <a:lnTo>
                    <a:pt x="190" y="737"/>
                  </a:lnTo>
                  <a:lnTo>
                    <a:pt x="195" y="737"/>
                  </a:lnTo>
                  <a:lnTo>
                    <a:pt x="200" y="736"/>
                  </a:lnTo>
                  <a:lnTo>
                    <a:pt x="205" y="734"/>
                  </a:lnTo>
                  <a:lnTo>
                    <a:pt x="209" y="734"/>
                  </a:lnTo>
                  <a:lnTo>
                    <a:pt x="215" y="733"/>
                  </a:lnTo>
                  <a:lnTo>
                    <a:pt x="219" y="732"/>
                  </a:lnTo>
                  <a:lnTo>
                    <a:pt x="224" y="731"/>
                  </a:lnTo>
                  <a:lnTo>
                    <a:pt x="229" y="730"/>
                  </a:lnTo>
                  <a:lnTo>
                    <a:pt x="234" y="728"/>
                  </a:lnTo>
                  <a:lnTo>
                    <a:pt x="238" y="727"/>
                  </a:lnTo>
                  <a:lnTo>
                    <a:pt x="243" y="726"/>
                  </a:lnTo>
                  <a:lnTo>
                    <a:pt x="248" y="725"/>
                  </a:lnTo>
                  <a:lnTo>
                    <a:pt x="253" y="724"/>
                  </a:lnTo>
                  <a:lnTo>
                    <a:pt x="258" y="722"/>
                  </a:lnTo>
                  <a:lnTo>
                    <a:pt x="263" y="721"/>
                  </a:lnTo>
                  <a:lnTo>
                    <a:pt x="266" y="720"/>
                  </a:lnTo>
                  <a:lnTo>
                    <a:pt x="271" y="719"/>
                  </a:lnTo>
                  <a:lnTo>
                    <a:pt x="276" y="718"/>
                  </a:lnTo>
                  <a:lnTo>
                    <a:pt x="281" y="716"/>
                  </a:lnTo>
                  <a:lnTo>
                    <a:pt x="284" y="715"/>
                  </a:lnTo>
                  <a:lnTo>
                    <a:pt x="289" y="714"/>
                  </a:lnTo>
                  <a:lnTo>
                    <a:pt x="293" y="713"/>
                  </a:lnTo>
                  <a:lnTo>
                    <a:pt x="296" y="712"/>
                  </a:lnTo>
                  <a:lnTo>
                    <a:pt x="301" y="710"/>
                  </a:lnTo>
                  <a:lnTo>
                    <a:pt x="305" y="709"/>
                  </a:lnTo>
                  <a:lnTo>
                    <a:pt x="310" y="708"/>
                  </a:lnTo>
                  <a:lnTo>
                    <a:pt x="313" y="708"/>
                  </a:lnTo>
                  <a:lnTo>
                    <a:pt x="317" y="707"/>
                  </a:lnTo>
                  <a:lnTo>
                    <a:pt x="320" y="706"/>
                  </a:lnTo>
                  <a:lnTo>
                    <a:pt x="326" y="703"/>
                  </a:lnTo>
                  <a:lnTo>
                    <a:pt x="334" y="702"/>
                  </a:lnTo>
                  <a:lnTo>
                    <a:pt x="340" y="699"/>
                  </a:lnTo>
                  <a:lnTo>
                    <a:pt x="346" y="699"/>
                  </a:lnTo>
                  <a:lnTo>
                    <a:pt x="349" y="697"/>
                  </a:lnTo>
                  <a:lnTo>
                    <a:pt x="355" y="696"/>
                  </a:lnTo>
                  <a:lnTo>
                    <a:pt x="360" y="695"/>
                  </a:lnTo>
                  <a:lnTo>
                    <a:pt x="365" y="695"/>
                  </a:lnTo>
                  <a:lnTo>
                    <a:pt x="371" y="692"/>
                  </a:lnTo>
                  <a:lnTo>
                    <a:pt x="376" y="691"/>
                  </a:lnTo>
                  <a:lnTo>
                    <a:pt x="382" y="690"/>
                  </a:lnTo>
                  <a:lnTo>
                    <a:pt x="388" y="689"/>
                  </a:lnTo>
                  <a:lnTo>
                    <a:pt x="394" y="687"/>
                  </a:lnTo>
                  <a:lnTo>
                    <a:pt x="399" y="686"/>
                  </a:lnTo>
                  <a:lnTo>
                    <a:pt x="406" y="685"/>
                  </a:lnTo>
                  <a:lnTo>
                    <a:pt x="412" y="684"/>
                  </a:lnTo>
                  <a:lnTo>
                    <a:pt x="418" y="683"/>
                  </a:lnTo>
                  <a:lnTo>
                    <a:pt x="425" y="683"/>
                  </a:lnTo>
                  <a:lnTo>
                    <a:pt x="431" y="680"/>
                  </a:lnTo>
                  <a:lnTo>
                    <a:pt x="439" y="680"/>
                  </a:lnTo>
                  <a:lnTo>
                    <a:pt x="443" y="678"/>
                  </a:lnTo>
                  <a:lnTo>
                    <a:pt x="451" y="678"/>
                  </a:lnTo>
                  <a:lnTo>
                    <a:pt x="457" y="677"/>
                  </a:lnTo>
                  <a:lnTo>
                    <a:pt x="463" y="675"/>
                  </a:lnTo>
                  <a:lnTo>
                    <a:pt x="469" y="674"/>
                  </a:lnTo>
                  <a:lnTo>
                    <a:pt x="476" y="674"/>
                  </a:lnTo>
                  <a:lnTo>
                    <a:pt x="482" y="673"/>
                  </a:lnTo>
                  <a:lnTo>
                    <a:pt x="488" y="672"/>
                  </a:lnTo>
                  <a:lnTo>
                    <a:pt x="494" y="670"/>
                  </a:lnTo>
                  <a:lnTo>
                    <a:pt x="500" y="669"/>
                  </a:lnTo>
                  <a:lnTo>
                    <a:pt x="506" y="669"/>
                  </a:lnTo>
                  <a:lnTo>
                    <a:pt x="512" y="668"/>
                  </a:lnTo>
                  <a:lnTo>
                    <a:pt x="518" y="668"/>
                  </a:lnTo>
                  <a:lnTo>
                    <a:pt x="524" y="667"/>
                  </a:lnTo>
                  <a:lnTo>
                    <a:pt x="530" y="667"/>
                  </a:lnTo>
                  <a:lnTo>
                    <a:pt x="535" y="667"/>
                  </a:lnTo>
                  <a:lnTo>
                    <a:pt x="540" y="666"/>
                  </a:lnTo>
                  <a:lnTo>
                    <a:pt x="546" y="666"/>
                  </a:lnTo>
                  <a:lnTo>
                    <a:pt x="552" y="664"/>
                  </a:lnTo>
                  <a:lnTo>
                    <a:pt x="558" y="663"/>
                  </a:lnTo>
                  <a:lnTo>
                    <a:pt x="562" y="662"/>
                  </a:lnTo>
                  <a:lnTo>
                    <a:pt x="565" y="662"/>
                  </a:lnTo>
                  <a:lnTo>
                    <a:pt x="569" y="661"/>
                  </a:lnTo>
                  <a:lnTo>
                    <a:pt x="573" y="660"/>
                  </a:lnTo>
                  <a:lnTo>
                    <a:pt x="576" y="658"/>
                  </a:lnTo>
                  <a:lnTo>
                    <a:pt x="580" y="657"/>
                  </a:lnTo>
                  <a:lnTo>
                    <a:pt x="583" y="657"/>
                  </a:lnTo>
                  <a:lnTo>
                    <a:pt x="588" y="656"/>
                  </a:lnTo>
                  <a:lnTo>
                    <a:pt x="592" y="655"/>
                  </a:lnTo>
                  <a:lnTo>
                    <a:pt x="595" y="654"/>
                  </a:lnTo>
                  <a:lnTo>
                    <a:pt x="599" y="652"/>
                  </a:lnTo>
                  <a:lnTo>
                    <a:pt x="603" y="651"/>
                  </a:lnTo>
                  <a:lnTo>
                    <a:pt x="606" y="650"/>
                  </a:lnTo>
                  <a:lnTo>
                    <a:pt x="611" y="649"/>
                  </a:lnTo>
                  <a:lnTo>
                    <a:pt x="615" y="646"/>
                  </a:lnTo>
                  <a:lnTo>
                    <a:pt x="620" y="646"/>
                  </a:lnTo>
                  <a:lnTo>
                    <a:pt x="623" y="644"/>
                  </a:lnTo>
                  <a:lnTo>
                    <a:pt x="628" y="643"/>
                  </a:lnTo>
                  <a:lnTo>
                    <a:pt x="633" y="641"/>
                  </a:lnTo>
                  <a:lnTo>
                    <a:pt x="637" y="641"/>
                  </a:lnTo>
                  <a:lnTo>
                    <a:pt x="640" y="639"/>
                  </a:lnTo>
                  <a:lnTo>
                    <a:pt x="645" y="638"/>
                  </a:lnTo>
                  <a:lnTo>
                    <a:pt x="650" y="637"/>
                  </a:lnTo>
                  <a:lnTo>
                    <a:pt x="653" y="635"/>
                  </a:lnTo>
                  <a:lnTo>
                    <a:pt x="658" y="634"/>
                  </a:lnTo>
                  <a:lnTo>
                    <a:pt x="662" y="633"/>
                  </a:lnTo>
                  <a:lnTo>
                    <a:pt x="665" y="632"/>
                  </a:lnTo>
                  <a:lnTo>
                    <a:pt x="670" y="631"/>
                  </a:lnTo>
                  <a:lnTo>
                    <a:pt x="674" y="628"/>
                  </a:lnTo>
                  <a:lnTo>
                    <a:pt x="679" y="627"/>
                  </a:lnTo>
                  <a:lnTo>
                    <a:pt x="682" y="626"/>
                  </a:lnTo>
                  <a:lnTo>
                    <a:pt x="686" y="625"/>
                  </a:lnTo>
                  <a:lnTo>
                    <a:pt x="691" y="622"/>
                  </a:lnTo>
                  <a:lnTo>
                    <a:pt x="694" y="622"/>
                  </a:lnTo>
                  <a:lnTo>
                    <a:pt x="698" y="620"/>
                  </a:lnTo>
                  <a:lnTo>
                    <a:pt x="702" y="620"/>
                  </a:lnTo>
                  <a:lnTo>
                    <a:pt x="705" y="619"/>
                  </a:lnTo>
                  <a:lnTo>
                    <a:pt x="709" y="617"/>
                  </a:lnTo>
                  <a:lnTo>
                    <a:pt x="714" y="616"/>
                  </a:lnTo>
                  <a:lnTo>
                    <a:pt x="717" y="616"/>
                  </a:lnTo>
                  <a:lnTo>
                    <a:pt x="723" y="614"/>
                  </a:lnTo>
                  <a:lnTo>
                    <a:pt x="731" y="611"/>
                  </a:lnTo>
                  <a:lnTo>
                    <a:pt x="737" y="610"/>
                  </a:lnTo>
                  <a:lnTo>
                    <a:pt x="744" y="609"/>
                  </a:lnTo>
                  <a:lnTo>
                    <a:pt x="750" y="608"/>
                  </a:lnTo>
                  <a:lnTo>
                    <a:pt x="755" y="606"/>
                  </a:lnTo>
                  <a:lnTo>
                    <a:pt x="760" y="606"/>
                  </a:lnTo>
                  <a:lnTo>
                    <a:pt x="764" y="606"/>
                  </a:lnTo>
                  <a:lnTo>
                    <a:pt x="768" y="606"/>
                  </a:lnTo>
                  <a:lnTo>
                    <a:pt x="773" y="605"/>
                  </a:lnTo>
                  <a:lnTo>
                    <a:pt x="776" y="605"/>
                  </a:lnTo>
                  <a:lnTo>
                    <a:pt x="780" y="604"/>
                  </a:lnTo>
                  <a:lnTo>
                    <a:pt x="784" y="603"/>
                  </a:lnTo>
                  <a:lnTo>
                    <a:pt x="787" y="602"/>
                  </a:lnTo>
                  <a:lnTo>
                    <a:pt x="791" y="600"/>
                  </a:lnTo>
                  <a:lnTo>
                    <a:pt x="796" y="599"/>
                  </a:lnTo>
                  <a:lnTo>
                    <a:pt x="799" y="597"/>
                  </a:lnTo>
                  <a:lnTo>
                    <a:pt x="803" y="596"/>
                  </a:lnTo>
                  <a:lnTo>
                    <a:pt x="807" y="593"/>
                  </a:lnTo>
                  <a:lnTo>
                    <a:pt x="810" y="592"/>
                  </a:lnTo>
                  <a:lnTo>
                    <a:pt x="816" y="586"/>
                  </a:lnTo>
                  <a:lnTo>
                    <a:pt x="822" y="582"/>
                  </a:lnTo>
                  <a:lnTo>
                    <a:pt x="827" y="576"/>
                  </a:lnTo>
                  <a:lnTo>
                    <a:pt x="832" y="570"/>
                  </a:lnTo>
                  <a:lnTo>
                    <a:pt x="836" y="564"/>
                  </a:lnTo>
                  <a:lnTo>
                    <a:pt x="839" y="558"/>
                  </a:lnTo>
                  <a:lnTo>
                    <a:pt x="842" y="551"/>
                  </a:lnTo>
                  <a:lnTo>
                    <a:pt x="844" y="545"/>
                  </a:lnTo>
                  <a:lnTo>
                    <a:pt x="844" y="539"/>
                  </a:lnTo>
                  <a:lnTo>
                    <a:pt x="845" y="532"/>
                  </a:lnTo>
                  <a:lnTo>
                    <a:pt x="845" y="5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54360" y="2212920"/>
              <a:ext cx="436680" cy="262080"/>
            </a:xfrm>
            <a:custGeom>
              <a:avLst/>
              <a:gdLst/>
              <a:ahLst/>
              <a:rect l="l" t="t" r="r" b="b"/>
              <a:pathLst>
                <a:path w="824" h="497">
                  <a:moveTo>
                    <a:pt x="824" y="209"/>
                  </a:moveTo>
                  <a:lnTo>
                    <a:pt x="823" y="208"/>
                  </a:lnTo>
                  <a:lnTo>
                    <a:pt x="822" y="207"/>
                  </a:lnTo>
                  <a:lnTo>
                    <a:pt x="819" y="204"/>
                  </a:lnTo>
                  <a:lnTo>
                    <a:pt x="818" y="201"/>
                  </a:lnTo>
                  <a:lnTo>
                    <a:pt x="816" y="197"/>
                  </a:lnTo>
                  <a:lnTo>
                    <a:pt x="813" y="192"/>
                  </a:lnTo>
                  <a:lnTo>
                    <a:pt x="808" y="187"/>
                  </a:lnTo>
                  <a:lnTo>
                    <a:pt x="806" y="182"/>
                  </a:lnTo>
                  <a:lnTo>
                    <a:pt x="801" y="176"/>
                  </a:lnTo>
                  <a:lnTo>
                    <a:pt x="796" y="170"/>
                  </a:lnTo>
                  <a:lnTo>
                    <a:pt x="790" y="166"/>
                  </a:lnTo>
                  <a:lnTo>
                    <a:pt x="785" y="160"/>
                  </a:lnTo>
                  <a:lnTo>
                    <a:pt x="779" y="153"/>
                  </a:lnTo>
                  <a:lnTo>
                    <a:pt x="772" y="149"/>
                  </a:lnTo>
                  <a:lnTo>
                    <a:pt x="766" y="144"/>
                  </a:lnTo>
                  <a:lnTo>
                    <a:pt x="759" y="140"/>
                  </a:lnTo>
                  <a:lnTo>
                    <a:pt x="755" y="138"/>
                  </a:lnTo>
                  <a:lnTo>
                    <a:pt x="752" y="135"/>
                  </a:lnTo>
                  <a:lnTo>
                    <a:pt x="747" y="134"/>
                  </a:lnTo>
                  <a:lnTo>
                    <a:pt x="743" y="132"/>
                  </a:lnTo>
                  <a:lnTo>
                    <a:pt x="740" y="129"/>
                  </a:lnTo>
                  <a:lnTo>
                    <a:pt x="736" y="127"/>
                  </a:lnTo>
                  <a:lnTo>
                    <a:pt x="732" y="124"/>
                  </a:lnTo>
                  <a:lnTo>
                    <a:pt x="730" y="122"/>
                  </a:lnTo>
                  <a:lnTo>
                    <a:pt x="723" y="117"/>
                  </a:lnTo>
                  <a:lnTo>
                    <a:pt x="717" y="112"/>
                  </a:lnTo>
                  <a:lnTo>
                    <a:pt x="709" y="108"/>
                  </a:lnTo>
                  <a:lnTo>
                    <a:pt x="705" y="104"/>
                  </a:lnTo>
                  <a:lnTo>
                    <a:pt x="697" y="98"/>
                  </a:lnTo>
                  <a:lnTo>
                    <a:pt x="691" y="94"/>
                  </a:lnTo>
                  <a:lnTo>
                    <a:pt x="685" y="89"/>
                  </a:lnTo>
                  <a:lnTo>
                    <a:pt x="679" y="87"/>
                  </a:lnTo>
                  <a:lnTo>
                    <a:pt x="673" y="83"/>
                  </a:lnTo>
                  <a:lnTo>
                    <a:pt x="667" y="81"/>
                  </a:lnTo>
                  <a:lnTo>
                    <a:pt x="661" y="79"/>
                  </a:lnTo>
                  <a:lnTo>
                    <a:pt x="655" y="79"/>
                  </a:lnTo>
                  <a:lnTo>
                    <a:pt x="652" y="77"/>
                  </a:lnTo>
                  <a:lnTo>
                    <a:pt x="649" y="77"/>
                  </a:lnTo>
                  <a:lnTo>
                    <a:pt x="644" y="76"/>
                  </a:lnTo>
                  <a:lnTo>
                    <a:pt x="641" y="76"/>
                  </a:lnTo>
                  <a:lnTo>
                    <a:pt x="637" y="76"/>
                  </a:lnTo>
                  <a:lnTo>
                    <a:pt x="632" y="75"/>
                  </a:lnTo>
                  <a:lnTo>
                    <a:pt x="629" y="75"/>
                  </a:lnTo>
                  <a:lnTo>
                    <a:pt x="625" y="75"/>
                  </a:lnTo>
                  <a:lnTo>
                    <a:pt x="619" y="75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6" y="74"/>
                  </a:lnTo>
                  <a:lnTo>
                    <a:pt x="600" y="74"/>
                  </a:lnTo>
                  <a:lnTo>
                    <a:pt x="596" y="74"/>
                  </a:lnTo>
                  <a:lnTo>
                    <a:pt x="591" y="74"/>
                  </a:lnTo>
                  <a:lnTo>
                    <a:pt x="586" y="74"/>
                  </a:lnTo>
                  <a:lnTo>
                    <a:pt x="580" y="73"/>
                  </a:lnTo>
                  <a:lnTo>
                    <a:pt x="576" y="73"/>
                  </a:lnTo>
                  <a:lnTo>
                    <a:pt x="571" y="71"/>
                  </a:lnTo>
                  <a:lnTo>
                    <a:pt x="566" y="71"/>
                  </a:lnTo>
                  <a:lnTo>
                    <a:pt x="561" y="70"/>
                  </a:lnTo>
                  <a:lnTo>
                    <a:pt x="556" y="70"/>
                  </a:lnTo>
                  <a:lnTo>
                    <a:pt x="551" y="69"/>
                  </a:lnTo>
                  <a:lnTo>
                    <a:pt x="547" y="69"/>
                  </a:lnTo>
                  <a:lnTo>
                    <a:pt x="542" y="68"/>
                  </a:lnTo>
                  <a:lnTo>
                    <a:pt x="537" y="66"/>
                  </a:lnTo>
                  <a:lnTo>
                    <a:pt x="533" y="65"/>
                  </a:lnTo>
                  <a:lnTo>
                    <a:pt x="530" y="65"/>
                  </a:lnTo>
                  <a:lnTo>
                    <a:pt x="525" y="63"/>
                  </a:lnTo>
                  <a:lnTo>
                    <a:pt x="521" y="63"/>
                  </a:lnTo>
                  <a:lnTo>
                    <a:pt x="518" y="60"/>
                  </a:lnTo>
                  <a:lnTo>
                    <a:pt x="515" y="60"/>
                  </a:lnTo>
                  <a:lnTo>
                    <a:pt x="512" y="57"/>
                  </a:lnTo>
                  <a:lnTo>
                    <a:pt x="507" y="56"/>
                  </a:lnTo>
                  <a:lnTo>
                    <a:pt x="503" y="53"/>
                  </a:lnTo>
                  <a:lnTo>
                    <a:pt x="501" y="52"/>
                  </a:lnTo>
                  <a:lnTo>
                    <a:pt x="496" y="48"/>
                  </a:lnTo>
                  <a:lnTo>
                    <a:pt x="492" y="47"/>
                  </a:lnTo>
                  <a:lnTo>
                    <a:pt x="489" y="44"/>
                  </a:lnTo>
                  <a:lnTo>
                    <a:pt x="485" y="41"/>
                  </a:lnTo>
                  <a:lnTo>
                    <a:pt x="479" y="39"/>
                  </a:lnTo>
                  <a:lnTo>
                    <a:pt x="475" y="36"/>
                  </a:lnTo>
                  <a:lnTo>
                    <a:pt x="471" y="33"/>
                  </a:lnTo>
                  <a:lnTo>
                    <a:pt x="466" y="30"/>
                  </a:lnTo>
                  <a:lnTo>
                    <a:pt x="461" y="28"/>
                  </a:lnTo>
                  <a:lnTo>
                    <a:pt x="456" y="25"/>
                  </a:lnTo>
                  <a:lnTo>
                    <a:pt x="452" y="22"/>
                  </a:lnTo>
                  <a:lnTo>
                    <a:pt x="448" y="21"/>
                  </a:lnTo>
                  <a:lnTo>
                    <a:pt x="443" y="17"/>
                  </a:lnTo>
                  <a:lnTo>
                    <a:pt x="437" y="15"/>
                  </a:lnTo>
                  <a:lnTo>
                    <a:pt x="432" y="12"/>
                  </a:lnTo>
                  <a:lnTo>
                    <a:pt x="428" y="11"/>
                  </a:lnTo>
                  <a:lnTo>
                    <a:pt x="422" y="8"/>
                  </a:lnTo>
                  <a:lnTo>
                    <a:pt x="417" y="7"/>
                  </a:lnTo>
                  <a:lnTo>
                    <a:pt x="413" y="5"/>
                  </a:lnTo>
                  <a:lnTo>
                    <a:pt x="408" y="5"/>
                  </a:lnTo>
                  <a:lnTo>
                    <a:pt x="402" y="2"/>
                  </a:lnTo>
                  <a:lnTo>
                    <a:pt x="398" y="2"/>
                  </a:lnTo>
                  <a:lnTo>
                    <a:pt x="392" y="1"/>
                  </a:lnTo>
                  <a:lnTo>
                    <a:pt x="387" y="1"/>
                  </a:lnTo>
                  <a:lnTo>
                    <a:pt x="382" y="0"/>
                  </a:lnTo>
                  <a:lnTo>
                    <a:pt x="378" y="1"/>
                  </a:lnTo>
                  <a:lnTo>
                    <a:pt x="373" y="1"/>
                  </a:lnTo>
                  <a:lnTo>
                    <a:pt x="368" y="4"/>
                  </a:lnTo>
                  <a:lnTo>
                    <a:pt x="363" y="4"/>
                  </a:lnTo>
                  <a:lnTo>
                    <a:pt x="360" y="5"/>
                  </a:lnTo>
                  <a:lnTo>
                    <a:pt x="355" y="6"/>
                  </a:lnTo>
                  <a:lnTo>
                    <a:pt x="351" y="7"/>
                  </a:lnTo>
                  <a:lnTo>
                    <a:pt x="346" y="8"/>
                  </a:lnTo>
                  <a:lnTo>
                    <a:pt x="343" y="10"/>
                  </a:lnTo>
                  <a:lnTo>
                    <a:pt x="339" y="11"/>
                  </a:lnTo>
                  <a:lnTo>
                    <a:pt x="334" y="12"/>
                  </a:lnTo>
                  <a:lnTo>
                    <a:pt x="331" y="15"/>
                  </a:lnTo>
                  <a:lnTo>
                    <a:pt x="327" y="16"/>
                  </a:lnTo>
                  <a:lnTo>
                    <a:pt x="325" y="17"/>
                  </a:lnTo>
                  <a:lnTo>
                    <a:pt x="321" y="19"/>
                  </a:lnTo>
                  <a:lnTo>
                    <a:pt x="315" y="23"/>
                  </a:lnTo>
                  <a:lnTo>
                    <a:pt x="309" y="27"/>
                  </a:lnTo>
                  <a:lnTo>
                    <a:pt x="304" y="30"/>
                  </a:lnTo>
                  <a:lnTo>
                    <a:pt x="298" y="35"/>
                  </a:lnTo>
                  <a:lnTo>
                    <a:pt x="293" y="40"/>
                  </a:lnTo>
                  <a:lnTo>
                    <a:pt x="287" y="45"/>
                  </a:lnTo>
                  <a:lnTo>
                    <a:pt x="282" y="50"/>
                  </a:lnTo>
                  <a:lnTo>
                    <a:pt x="279" y="56"/>
                  </a:lnTo>
                  <a:lnTo>
                    <a:pt x="273" y="62"/>
                  </a:lnTo>
                  <a:lnTo>
                    <a:pt x="269" y="68"/>
                  </a:lnTo>
                  <a:lnTo>
                    <a:pt x="264" y="74"/>
                  </a:lnTo>
                  <a:lnTo>
                    <a:pt x="261" y="80"/>
                  </a:lnTo>
                  <a:lnTo>
                    <a:pt x="257" y="85"/>
                  </a:lnTo>
                  <a:lnTo>
                    <a:pt x="252" y="89"/>
                  </a:lnTo>
                  <a:lnTo>
                    <a:pt x="249" y="93"/>
                  </a:lnTo>
                  <a:lnTo>
                    <a:pt x="245" y="97"/>
                  </a:lnTo>
                  <a:lnTo>
                    <a:pt x="243" y="100"/>
                  </a:lnTo>
                  <a:lnTo>
                    <a:pt x="239" y="104"/>
                  </a:lnTo>
                  <a:lnTo>
                    <a:pt x="233" y="108"/>
                  </a:lnTo>
                  <a:lnTo>
                    <a:pt x="228" y="112"/>
                  </a:lnTo>
                  <a:lnTo>
                    <a:pt x="222" y="117"/>
                  </a:lnTo>
                  <a:lnTo>
                    <a:pt x="218" y="123"/>
                  </a:lnTo>
                  <a:lnTo>
                    <a:pt x="215" y="128"/>
                  </a:lnTo>
                  <a:lnTo>
                    <a:pt x="211" y="133"/>
                  </a:lnTo>
                  <a:lnTo>
                    <a:pt x="209" y="138"/>
                  </a:lnTo>
                  <a:lnTo>
                    <a:pt x="206" y="141"/>
                  </a:lnTo>
                  <a:lnTo>
                    <a:pt x="204" y="145"/>
                  </a:lnTo>
                  <a:lnTo>
                    <a:pt x="202" y="151"/>
                  </a:lnTo>
                  <a:lnTo>
                    <a:pt x="199" y="155"/>
                  </a:lnTo>
                  <a:lnTo>
                    <a:pt x="197" y="161"/>
                  </a:lnTo>
                  <a:lnTo>
                    <a:pt x="193" y="166"/>
                  </a:lnTo>
                  <a:lnTo>
                    <a:pt x="191" y="172"/>
                  </a:lnTo>
                  <a:lnTo>
                    <a:pt x="187" y="178"/>
                  </a:lnTo>
                  <a:lnTo>
                    <a:pt x="185" y="184"/>
                  </a:lnTo>
                  <a:lnTo>
                    <a:pt x="181" y="189"/>
                  </a:lnTo>
                  <a:lnTo>
                    <a:pt x="179" y="196"/>
                  </a:lnTo>
                  <a:lnTo>
                    <a:pt x="175" y="201"/>
                  </a:lnTo>
                  <a:lnTo>
                    <a:pt x="173" y="207"/>
                  </a:lnTo>
                  <a:lnTo>
                    <a:pt x="169" y="213"/>
                  </a:lnTo>
                  <a:lnTo>
                    <a:pt x="167" y="219"/>
                  </a:lnTo>
                  <a:lnTo>
                    <a:pt x="163" y="224"/>
                  </a:lnTo>
                  <a:lnTo>
                    <a:pt x="161" y="230"/>
                  </a:lnTo>
                  <a:lnTo>
                    <a:pt x="157" y="236"/>
                  </a:lnTo>
                  <a:lnTo>
                    <a:pt x="156" y="242"/>
                  </a:lnTo>
                  <a:lnTo>
                    <a:pt x="152" y="245"/>
                  </a:lnTo>
                  <a:lnTo>
                    <a:pt x="150" y="250"/>
                  </a:lnTo>
                  <a:lnTo>
                    <a:pt x="147" y="255"/>
                  </a:lnTo>
                  <a:lnTo>
                    <a:pt x="145" y="259"/>
                  </a:lnTo>
                  <a:lnTo>
                    <a:pt x="144" y="262"/>
                  </a:lnTo>
                  <a:lnTo>
                    <a:pt x="141" y="266"/>
                  </a:lnTo>
                  <a:lnTo>
                    <a:pt x="140" y="268"/>
                  </a:lnTo>
                  <a:lnTo>
                    <a:pt x="138" y="272"/>
                  </a:lnTo>
                  <a:lnTo>
                    <a:pt x="134" y="277"/>
                  </a:lnTo>
                  <a:lnTo>
                    <a:pt x="129" y="282"/>
                  </a:lnTo>
                  <a:lnTo>
                    <a:pt x="127" y="284"/>
                  </a:lnTo>
                  <a:lnTo>
                    <a:pt x="124" y="288"/>
                  </a:lnTo>
                  <a:lnTo>
                    <a:pt x="122" y="291"/>
                  </a:lnTo>
                  <a:lnTo>
                    <a:pt x="119" y="295"/>
                  </a:lnTo>
                  <a:lnTo>
                    <a:pt x="115" y="298"/>
                  </a:lnTo>
                  <a:lnTo>
                    <a:pt x="112" y="302"/>
                  </a:lnTo>
                  <a:lnTo>
                    <a:pt x="109" y="306"/>
                  </a:lnTo>
                  <a:lnTo>
                    <a:pt x="106" y="311"/>
                  </a:lnTo>
                  <a:lnTo>
                    <a:pt x="103" y="314"/>
                  </a:lnTo>
                  <a:lnTo>
                    <a:pt x="99" y="318"/>
                  </a:lnTo>
                  <a:lnTo>
                    <a:pt x="97" y="323"/>
                  </a:lnTo>
                  <a:lnTo>
                    <a:pt x="93" y="327"/>
                  </a:lnTo>
                  <a:lnTo>
                    <a:pt x="89" y="331"/>
                  </a:lnTo>
                  <a:lnTo>
                    <a:pt x="86" y="335"/>
                  </a:lnTo>
                  <a:lnTo>
                    <a:pt x="83" y="338"/>
                  </a:lnTo>
                  <a:lnTo>
                    <a:pt x="80" y="343"/>
                  </a:lnTo>
                  <a:lnTo>
                    <a:pt x="76" y="347"/>
                  </a:lnTo>
                  <a:lnTo>
                    <a:pt x="74" y="352"/>
                  </a:lnTo>
                  <a:lnTo>
                    <a:pt x="70" y="355"/>
                  </a:lnTo>
                  <a:lnTo>
                    <a:pt x="68" y="360"/>
                  </a:lnTo>
                  <a:lnTo>
                    <a:pt x="65" y="362"/>
                  </a:lnTo>
                  <a:lnTo>
                    <a:pt x="63" y="367"/>
                  </a:lnTo>
                  <a:lnTo>
                    <a:pt x="62" y="370"/>
                  </a:lnTo>
                  <a:lnTo>
                    <a:pt x="60" y="373"/>
                  </a:lnTo>
                  <a:lnTo>
                    <a:pt x="58" y="377"/>
                  </a:lnTo>
                  <a:lnTo>
                    <a:pt x="57" y="381"/>
                  </a:lnTo>
                  <a:lnTo>
                    <a:pt x="56" y="383"/>
                  </a:lnTo>
                  <a:lnTo>
                    <a:pt x="56" y="387"/>
                  </a:lnTo>
                  <a:lnTo>
                    <a:pt x="53" y="391"/>
                  </a:lnTo>
                  <a:lnTo>
                    <a:pt x="51" y="396"/>
                  </a:lnTo>
                  <a:lnTo>
                    <a:pt x="47" y="402"/>
                  </a:lnTo>
                  <a:lnTo>
                    <a:pt x="43" y="407"/>
                  </a:lnTo>
                  <a:lnTo>
                    <a:pt x="40" y="412"/>
                  </a:lnTo>
                  <a:lnTo>
                    <a:pt x="36" y="416"/>
                  </a:lnTo>
                  <a:lnTo>
                    <a:pt x="31" y="420"/>
                  </a:lnTo>
                  <a:lnTo>
                    <a:pt x="28" y="425"/>
                  </a:lnTo>
                  <a:lnTo>
                    <a:pt x="23" y="429"/>
                  </a:lnTo>
                  <a:lnTo>
                    <a:pt x="18" y="435"/>
                  </a:lnTo>
                  <a:lnTo>
                    <a:pt x="15" y="439"/>
                  </a:lnTo>
                  <a:lnTo>
                    <a:pt x="11" y="445"/>
                  </a:lnTo>
                  <a:lnTo>
                    <a:pt x="7" y="449"/>
                  </a:lnTo>
                  <a:lnTo>
                    <a:pt x="5" y="454"/>
                  </a:lnTo>
                  <a:lnTo>
                    <a:pt x="2" y="460"/>
                  </a:lnTo>
                  <a:lnTo>
                    <a:pt x="1" y="466"/>
                  </a:lnTo>
                  <a:lnTo>
                    <a:pt x="0" y="470"/>
                  </a:lnTo>
                  <a:lnTo>
                    <a:pt x="0" y="475"/>
                  </a:lnTo>
                  <a:lnTo>
                    <a:pt x="0" y="480"/>
                  </a:lnTo>
                  <a:lnTo>
                    <a:pt x="2" y="483"/>
                  </a:lnTo>
                  <a:lnTo>
                    <a:pt x="5" y="489"/>
                  </a:lnTo>
                  <a:lnTo>
                    <a:pt x="11" y="493"/>
                  </a:lnTo>
                  <a:lnTo>
                    <a:pt x="13" y="494"/>
                  </a:lnTo>
                  <a:lnTo>
                    <a:pt x="17" y="495"/>
                  </a:lnTo>
                  <a:lnTo>
                    <a:pt x="21" y="495"/>
                  </a:lnTo>
                  <a:lnTo>
                    <a:pt x="25" y="497"/>
                  </a:lnTo>
                  <a:lnTo>
                    <a:pt x="29" y="497"/>
                  </a:lnTo>
                  <a:lnTo>
                    <a:pt x="34" y="497"/>
                  </a:lnTo>
                  <a:lnTo>
                    <a:pt x="39" y="495"/>
                  </a:lnTo>
                  <a:lnTo>
                    <a:pt x="45" y="495"/>
                  </a:lnTo>
                  <a:lnTo>
                    <a:pt x="47" y="494"/>
                  </a:lnTo>
                  <a:lnTo>
                    <a:pt x="52" y="493"/>
                  </a:lnTo>
                  <a:lnTo>
                    <a:pt x="54" y="492"/>
                  </a:lnTo>
                  <a:lnTo>
                    <a:pt x="58" y="491"/>
                  </a:lnTo>
                  <a:lnTo>
                    <a:pt x="62" y="489"/>
                  </a:lnTo>
                  <a:lnTo>
                    <a:pt x="66" y="489"/>
                  </a:lnTo>
                  <a:lnTo>
                    <a:pt x="70" y="487"/>
                  </a:lnTo>
                  <a:lnTo>
                    <a:pt x="75" y="485"/>
                  </a:lnTo>
                  <a:lnTo>
                    <a:pt x="80" y="483"/>
                  </a:lnTo>
                  <a:lnTo>
                    <a:pt x="86" y="481"/>
                  </a:lnTo>
                  <a:lnTo>
                    <a:pt x="91" y="478"/>
                  </a:lnTo>
                  <a:lnTo>
                    <a:pt x="97" y="476"/>
                  </a:lnTo>
                  <a:lnTo>
                    <a:pt x="101" y="474"/>
                  </a:lnTo>
                  <a:lnTo>
                    <a:pt x="109" y="472"/>
                  </a:lnTo>
                  <a:lnTo>
                    <a:pt x="113" y="469"/>
                  </a:lnTo>
                  <a:lnTo>
                    <a:pt x="121" y="466"/>
                  </a:lnTo>
                  <a:lnTo>
                    <a:pt x="127" y="463"/>
                  </a:lnTo>
                  <a:lnTo>
                    <a:pt x="134" y="460"/>
                  </a:lnTo>
                  <a:lnTo>
                    <a:pt x="141" y="458"/>
                  </a:lnTo>
                  <a:lnTo>
                    <a:pt x="147" y="456"/>
                  </a:lnTo>
                  <a:lnTo>
                    <a:pt x="156" y="452"/>
                  </a:lnTo>
                  <a:lnTo>
                    <a:pt x="163" y="449"/>
                  </a:lnTo>
                  <a:lnTo>
                    <a:pt x="170" y="446"/>
                  </a:lnTo>
                  <a:lnTo>
                    <a:pt x="177" y="442"/>
                  </a:lnTo>
                  <a:lnTo>
                    <a:pt x="186" y="439"/>
                  </a:lnTo>
                  <a:lnTo>
                    <a:pt x="193" y="436"/>
                  </a:lnTo>
                  <a:lnTo>
                    <a:pt x="200" y="433"/>
                  </a:lnTo>
                  <a:lnTo>
                    <a:pt x="209" y="429"/>
                  </a:lnTo>
                  <a:lnTo>
                    <a:pt x="216" y="427"/>
                  </a:lnTo>
                  <a:lnTo>
                    <a:pt x="224" y="424"/>
                  </a:lnTo>
                  <a:lnTo>
                    <a:pt x="232" y="420"/>
                  </a:lnTo>
                  <a:lnTo>
                    <a:pt x="239" y="417"/>
                  </a:lnTo>
                  <a:lnTo>
                    <a:pt x="246" y="413"/>
                  </a:lnTo>
                  <a:lnTo>
                    <a:pt x="255" y="411"/>
                  </a:lnTo>
                  <a:lnTo>
                    <a:pt x="261" y="406"/>
                  </a:lnTo>
                  <a:lnTo>
                    <a:pt x="268" y="404"/>
                  </a:lnTo>
                  <a:lnTo>
                    <a:pt x="275" y="400"/>
                  </a:lnTo>
                  <a:lnTo>
                    <a:pt x="282" y="398"/>
                  </a:lnTo>
                  <a:lnTo>
                    <a:pt x="290" y="394"/>
                  </a:lnTo>
                  <a:lnTo>
                    <a:pt x="296" y="391"/>
                  </a:lnTo>
                  <a:lnTo>
                    <a:pt x="303" y="388"/>
                  </a:lnTo>
                  <a:lnTo>
                    <a:pt x="309" y="385"/>
                  </a:lnTo>
                  <a:lnTo>
                    <a:pt x="316" y="382"/>
                  </a:lnTo>
                  <a:lnTo>
                    <a:pt x="322" y="379"/>
                  </a:lnTo>
                  <a:lnTo>
                    <a:pt x="328" y="377"/>
                  </a:lnTo>
                  <a:lnTo>
                    <a:pt x="334" y="375"/>
                  </a:lnTo>
                  <a:lnTo>
                    <a:pt x="339" y="372"/>
                  </a:lnTo>
                  <a:lnTo>
                    <a:pt x="344" y="370"/>
                  </a:lnTo>
                  <a:lnTo>
                    <a:pt x="349" y="367"/>
                  </a:lnTo>
                  <a:lnTo>
                    <a:pt x="354" y="366"/>
                  </a:lnTo>
                  <a:lnTo>
                    <a:pt x="357" y="364"/>
                  </a:lnTo>
                  <a:lnTo>
                    <a:pt x="362" y="361"/>
                  </a:lnTo>
                  <a:lnTo>
                    <a:pt x="366" y="360"/>
                  </a:lnTo>
                  <a:lnTo>
                    <a:pt x="370" y="359"/>
                  </a:lnTo>
                  <a:lnTo>
                    <a:pt x="375" y="356"/>
                  </a:lnTo>
                  <a:lnTo>
                    <a:pt x="380" y="355"/>
                  </a:lnTo>
                  <a:lnTo>
                    <a:pt x="382" y="354"/>
                  </a:lnTo>
                  <a:lnTo>
                    <a:pt x="384" y="354"/>
                  </a:lnTo>
                  <a:lnTo>
                    <a:pt x="824" y="209"/>
                  </a:lnTo>
                  <a:lnTo>
                    <a:pt x="824" y="209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3720" y="2305080"/>
              <a:ext cx="471600" cy="352440"/>
            </a:xfrm>
            <a:custGeom>
              <a:avLst/>
              <a:gdLst/>
              <a:ahLst/>
              <a:rect l="l" t="t" r="r" b="b"/>
              <a:pathLst>
                <a:path w="891" h="667">
                  <a:moveTo>
                    <a:pt x="0" y="319"/>
                  </a:moveTo>
                  <a:lnTo>
                    <a:pt x="0" y="314"/>
                  </a:lnTo>
                  <a:lnTo>
                    <a:pt x="2" y="309"/>
                  </a:lnTo>
                  <a:lnTo>
                    <a:pt x="5" y="307"/>
                  </a:lnTo>
                  <a:lnTo>
                    <a:pt x="8" y="304"/>
                  </a:lnTo>
                  <a:lnTo>
                    <a:pt x="11" y="301"/>
                  </a:lnTo>
                  <a:lnTo>
                    <a:pt x="14" y="300"/>
                  </a:lnTo>
                  <a:lnTo>
                    <a:pt x="19" y="296"/>
                  </a:lnTo>
                  <a:lnTo>
                    <a:pt x="23" y="294"/>
                  </a:lnTo>
                  <a:lnTo>
                    <a:pt x="26" y="290"/>
                  </a:lnTo>
                  <a:lnTo>
                    <a:pt x="33" y="288"/>
                  </a:lnTo>
                  <a:lnTo>
                    <a:pt x="37" y="284"/>
                  </a:lnTo>
                  <a:lnTo>
                    <a:pt x="43" y="282"/>
                  </a:lnTo>
                  <a:lnTo>
                    <a:pt x="49" y="278"/>
                  </a:lnTo>
                  <a:lnTo>
                    <a:pt x="55" y="275"/>
                  </a:lnTo>
                  <a:lnTo>
                    <a:pt x="61" y="272"/>
                  </a:lnTo>
                  <a:lnTo>
                    <a:pt x="68" y="269"/>
                  </a:lnTo>
                  <a:lnTo>
                    <a:pt x="74" y="266"/>
                  </a:lnTo>
                  <a:lnTo>
                    <a:pt x="81" y="263"/>
                  </a:lnTo>
                  <a:lnTo>
                    <a:pt x="86" y="260"/>
                  </a:lnTo>
                  <a:lnTo>
                    <a:pt x="93" y="257"/>
                  </a:lnTo>
                  <a:lnTo>
                    <a:pt x="99" y="254"/>
                  </a:lnTo>
                  <a:lnTo>
                    <a:pt x="106" y="253"/>
                  </a:lnTo>
                  <a:lnTo>
                    <a:pt x="112" y="249"/>
                  </a:lnTo>
                  <a:lnTo>
                    <a:pt x="117" y="246"/>
                  </a:lnTo>
                  <a:lnTo>
                    <a:pt x="123" y="244"/>
                  </a:lnTo>
                  <a:lnTo>
                    <a:pt x="129" y="243"/>
                  </a:lnTo>
                  <a:lnTo>
                    <a:pt x="134" y="240"/>
                  </a:lnTo>
                  <a:lnTo>
                    <a:pt x="139" y="238"/>
                  </a:lnTo>
                  <a:lnTo>
                    <a:pt x="144" y="237"/>
                  </a:lnTo>
                  <a:lnTo>
                    <a:pt x="148" y="236"/>
                  </a:lnTo>
                  <a:lnTo>
                    <a:pt x="152" y="232"/>
                  </a:lnTo>
                  <a:lnTo>
                    <a:pt x="157" y="231"/>
                  </a:lnTo>
                  <a:lnTo>
                    <a:pt x="162" y="228"/>
                  </a:lnTo>
                  <a:lnTo>
                    <a:pt x="168" y="226"/>
                  </a:lnTo>
                  <a:lnTo>
                    <a:pt x="174" y="224"/>
                  </a:lnTo>
                  <a:lnTo>
                    <a:pt x="180" y="221"/>
                  </a:lnTo>
                  <a:lnTo>
                    <a:pt x="186" y="219"/>
                  </a:lnTo>
                  <a:lnTo>
                    <a:pt x="193" y="216"/>
                  </a:lnTo>
                  <a:lnTo>
                    <a:pt x="199" y="211"/>
                  </a:lnTo>
                  <a:lnTo>
                    <a:pt x="206" y="209"/>
                  </a:lnTo>
                  <a:lnTo>
                    <a:pt x="209" y="207"/>
                  </a:lnTo>
                  <a:lnTo>
                    <a:pt x="213" y="205"/>
                  </a:lnTo>
                  <a:lnTo>
                    <a:pt x="217" y="204"/>
                  </a:lnTo>
                  <a:lnTo>
                    <a:pt x="221" y="203"/>
                  </a:lnTo>
                  <a:lnTo>
                    <a:pt x="224" y="201"/>
                  </a:lnTo>
                  <a:lnTo>
                    <a:pt x="228" y="199"/>
                  </a:lnTo>
                  <a:lnTo>
                    <a:pt x="232" y="197"/>
                  </a:lnTo>
                  <a:lnTo>
                    <a:pt x="235" y="196"/>
                  </a:lnTo>
                  <a:lnTo>
                    <a:pt x="240" y="195"/>
                  </a:lnTo>
                  <a:lnTo>
                    <a:pt x="244" y="193"/>
                  </a:lnTo>
                  <a:lnTo>
                    <a:pt x="247" y="192"/>
                  </a:lnTo>
                  <a:lnTo>
                    <a:pt x="251" y="191"/>
                  </a:lnTo>
                  <a:lnTo>
                    <a:pt x="255" y="188"/>
                  </a:lnTo>
                  <a:lnTo>
                    <a:pt x="258" y="186"/>
                  </a:lnTo>
                  <a:lnTo>
                    <a:pt x="262" y="185"/>
                  </a:lnTo>
                  <a:lnTo>
                    <a:pt x="265" y="184"/>
                  </a:lnTo>
                  <a:lnTo>
                    <a:pt x="269" y="182"/>
                  </a:lnTo>
                  <a:lnTo>
                    <a:pt x="274" y="180"/>
                  </a:lnTo>
                  <a:lnTo>
                    <a:pt x="277" y="179"/>
                  </a:lnTo>
                  <a:lnTo>
                    <a:pt x="281" y="178"/>
                  </a:lnTo>
                  <a:lnTo>
                    <a:pt x="285" y="175"/>
                  </a:lnTo>
                  <a:lnTo>
                    <a:pt x="288" y="174"/>
                  </a:lnTo>
                  <a:lnTo>
                    <a:pt x="292" y="173"/>
                  </a:lnTo>
                  <a:lnTo>
                    <a:pt x="296" y="172"/>
                  </a:lnTo>
                  <a:lnTo>
                    <a:pt x="299" y="170"/>
                  </a:lnTo>
                  <a:lnTo>
                    <a:pt x="303" y="169"/>
                  </a:lnTo>
                  <a:lnTo>
                    <a:pt x="308" y="168"/>
                  </a:lnTo>
                  <a:lnTo>
                    <a:pt x="311" y="167"/>
                  </a:lnTo>
                  <a:lnTo>
                    <a:pt x="317" y="164"/>
                  </a:lnTo>
                  <a:lnTo>
                    <a:pt x="323" y="162"/>
                  </a:lnTo>
                  <a:lnTo>
                    <a:pt x="331" y="161"/>
                  </a:lnTo>
                  <a:lnTo>
                    <a:pt x="337" y="159"/>
                  </a:lnTo>
                  <a:lnTo>
                    <a:pt x="343" y="157"/>
                  </a:lnTo>
                  <a:lnTo>
                    <a:pt x="349" y="156"/>
                  </a:lnTo>
                  <a:lnTo>
                    <a:pt x="355" y="156"/>
                  </a:lnTo>
                  <a:lnTo>
                    <a:pt x="359" y="156"/>
                  </a:lnTo>
                  <a:lnTo>
                    <a:pt x="364" y="155"/>
                  </a:lnTo>
                  <a:lnTo>
                    <a:pt x="369" y="153"/>
                  </a:lnTo>
                  <a:lnTo>
                    <a:pt x="373" y="153"/>
                  </a:lnTo>
                  <a:lnTo>
                    <a:pt x="378" y="152"/>
                  </a:lnTo>
                  <a:lnTo>
                    <a:pt x="380" y="151"/>
                  </a:lnTo>
                  <a:lnTo>
                    <a:pt x="384" y="150"/>
                  </a:lnTo>
                  <a:lnTo>
                    <a:pt x="388" y="149"/>
                  </a:lnTo>
                  <a:lnTo>
                    <a:pt x="392" y="149"/>
                  </a:lnTo>
                  <a:lnTo>
                    <a:pt x="398" y="144"/>
                  </a:lnTo>
                  <a:lnTo>
                    <a:pt x="404" y="141"/>
                  </a:lnTo>
                  <a:lnTo>
                    <a:pt x="410" y="138"/>
                  </a:lnTo>
                  <a:lnTo>
                    <a:pt x="416" y="135"/>
                  </a:lnTo>
                  <a:lnTo>
                    <a:pt x="422" y="130"/>
                  </a:lnTo>
                  <a:lnTo>
                    <a:pt x="427" y="127"/>
                  </a:lnTo>
                  <a:lnTo>
                    <a:pt x="433" y="124"/>
                  </a:lnTo>
                  <a:lnTo>
                    <a:pt x="439" y="121"/>
                  </a:lnTo>
                  <a:lnTo>
                    <a:pt x="446" y="117"/>
                  </a:lnTo>
                  <a:lnTo>
                    <a:pt x="452" y="116"/>
                  </a:lnTo>
                  <a:lnTo>
                    <a:pt x="457" y="115"/>
                  </a:lnTo>
                  <a:lnTo>
                    <a:pt x="461" y="114"/>
                  </a:lnTo>
                  <a:lnTo>
                    <a:pt x="464" y="114"/>
                  </a:lnTo>
                  <a:lnTo>
                    <a:pt x="469" y="114"/>
                  </a:lnTo>
                  <a:lnTo>
                    <a:pt x="472" y="112"/>
                  </a:lnTo>
                  <a:lnTo>
                    <a:pt x="475" y="111"/>
                  </a:lnTo>
                  <a:lnTo>
                    <a:pt x="480" y="110"/>
                  </a:lnTo>
                  <a:lnTo>
                    <a:pt x="484" y="109"/>
                  </a:lnTo>
                  <a:lnTo>
                    <a:pt x="490" y="108"/>
                  </a:lnTo>
                  <a:lnTo>
                    <a:pt x="496" y="105"/>
                  </a:lnTo>
                  <a:lnTo>
                    <a:pt x="501" y="103"/>
                  </a:lnTo>
                  <a:lnTo>
                    <a:pt x="507" y="99"/>
                  </a:lnTo>
                  <a:lnTo>
                    <a:pt x="511" y="97"/>
                  </a:lnTo>
                  <a:lnTo>
                    <a:pt x="516" y="94"/>
                  </a:lnTo>
                  <a:lnTo>
                    <a:pt x="521" y="91"/>
                  </a:lnTo>
                  <a:lnTo>
                    <a:pt x="525" y="86"/>
                  </a:lnTo>
                  <a:lnTo>
                    <a:pt x="531" y="82"/>
                  </a:lnTo>
                  <a:lnTo>
                    <a:pt x="536" y="80"/>
                  </a:lnTo>
                  <a:lnTo>
                    <a:pt x="542" y="75"/>
                  </a:lnTo>
                  <a:lnTo>
                    <a:pt x="548" y="71"/>
                  </a:lnTo>
                  <a:lnTo>
                    <a:pt x="551" y="69"/>
                  </a:lnTo>
                  <a:lnTo>
                    <a:pt x="555" y="68"/>
                  </a:lnTo>
                  <a:lnTo>
                    <a:pt x="559" y="65"/>
                  </a:lnTo>
                  <a:lnTo>
                    <a:pt x="563" y="63"/>
                  </a:lnTo>
                  <a:lnTo>
                    <a:pt x="566" y="60"/>
                  </a:lnTo>
                  <a:lnTo>
                    <a:pt x="569" y="59"/>
                  </a:lnTo>
                  <a:lnTo>
                    <a:pt x="573" y="58"/>
                  </a:lnTo>
                  <a:lnTo>
                    <a:pt x="577" y="57"/>
                  </a:lnTo>
                  <a:lnTo>
                    <a:pt x="583" y="56"/>
                  </a:lnTo>
                  <a:lnTo>
                    <a:pt x="590" y="56"/>
                  </a:lnTo>
                  <a:lnTo>
                    <a:pt x="595" y="56"/>
                  </a:lnTo>
                  <a:lnTo>
                    <a:pt x="601" y="57"/>
                  </a:lnTo>
                  <a:lnTo>
                    <a:pt x="607" y="58"/>
                  </a:lnTo>
                  <a:lnTo>
                    <a:pt x="613" y="59"/>
                  </a:lnTo>
                  <a:lnTo>
                    <a:pt x="618" y="60"/>
                  </a:lnTo>
                  <a:lnTo>
                    <a:pt x="624" y="60"/>
                  </a:lnTo>
                  <a:lnTo>
                    <a:pt x="628" y="60"/>
                  </a:lnTo>
                  <a:lnTo>
                    <a:pt x="636" y="60"/>
                  </a:lnTo>
                  <a:lnTo>
                    <a:pt x="639" y="59"/>
                  </a:lnTo>
                  <a:lnTo>
                    <a:pt x="643" y="58"/>
                  </a:lnTo>
                  <a:lnTo>
                    <a:pt x="647" y="57"/>
                  </a:lnTo>
                  <a:lnTo>
                    <a:pt x="650" y="56"/>
                  </a:lnTo>
                  <a:lnTo>
                    <a:pt x="654" y="53"/>
                  </a:lnTo>
                  <a:lnTo>
                    <a:pt x="659" y="52"/>
                  </a:lnTo>
                  <a:lnTo>
                    <a:pt x="662" y="50"/>
                  </a:lnTo>
                  <a:lnTo>
                    <a:pt x="668" y="47"/>
                  </a:lnTo>
                  <a:lnTo>
                    <a:pt x="672" y="42"/>
                  </a:lnTo>
                  <a:lnTo>
                    <a:pt x="677" y="40"/>
                  </a:lnTo>
                  <a:lnTo>
                    <a:pt x="680" y="37"/>
                  </a:lnTo>
                  <a:lnTo>
                    <a:pt x="685" y="35"/>
                  </a:lnTo>
                  <a:lnTo>
                    <a:pt x="690" y="33"/>
                  </a:lnTo>
                  <a:lnTo>
                    <a:pt x="694" y="29"/>
                  </a:lnTo>
                  <a:lnTo>
                    <a:pt x="698" y="28"/>
                  </a:lnTo>
                  <a:lnTo>
                    <a:pt x="703" y="25"/>
                  </a:lnTo>
                  <a:lnTo>
                    <a:pt x="707" y="24"/>
                  </a:lnTo>
                  <a:lnTo>
                    <a:pt x="712" y="22"/>
                  </a:lnTo>
                  <a:lnTo>
                    <a:pt x="715" y="19"/>
                  </a:lnTo>
                  <a:lnTo>
                    <a:pt x="719" y="18"/>
                  </a:lnTo>
                  <a:lnTo>
                    <a:pt x="724" y="17"/>
                  </a:lnTo>
                  <a:lnTo>
                    <a:pt x="727" y="16"/>
                  </a:lnTo>
                  <a:lnTo>
                    <a:pt x="731" y="15"/>
                  </a:lnTo>
                  <a:lnTo>
                    <a:pt x="736" y="15"/>
                  </a:lnTo>
                  <a:lnTo>
                    <a:pt x="738" y="12"/>
                  </a:lnTo>
                  <a:lnTo>
                    <a:pt x="742" y="12"/>
                  </a:lnTo>
                  <a:lnTo>
                    <a:pt x="746" y="11"/>
                  </a:lnTo>
                  <a:lnTo>
                    <a:pt x="749" y="10"/>
                  </a:lnTo>
                  <a:lnTo>
                    <a:pt x="755" y="8"/>
                  </a:lnTo>
                  <a:lnTo>
                    <a:pt x="762" y="7"/>
                  </a:lnTo>
                  <a:lnTo>
                    <a:pt x="768" y="6"/>
                  </a:lnTo>
                  <a:lnTo>
                    <a:pt x="774" y="5"/>
                  </a:lnTo>
                  <a:lnTo>
                    <a:pt x="780" y="5"/>
                  </a:lnTo>
                  <a:lnTo>
                    <a:pt x="787" y="4"/>
                  </a:lnTo>
                  <a:lnTo>
                    <a:pt x="790" y="2"/>
                  </a:lnTo>
                  <a:lnTo>
                    <a:pt x="796" y="1"/>
                  </a:lnTo>
                  <a:lnTo>
                    <a:pt x="802" y="0"/>
                  </a:lnTo>
                  <a:lnTo>
                    <a:pt x="809" y="0"/>
                  </a:lnTo>
                  <a:lnTo>
                    <a:pt x="814" y="0"/>
                  </a:lnTo>
                  <a:lnTo>
                    <a:pt x="822" y="1"/>
                  </a:lnTo>
                  <a:lnTo>
                    <a:pt x="828" y="2"/>
                  </a:lnTo>
                  <a:lnTo>
                    <a:pt x="835" y="5"/>
                  </a:lnTo>
                  <a:lnTo>
                    <a:pt x="840" y="8"/>
                  </a:lnTo>
                  <a:lnTo>
                    <a:pt x="846" y="13"/>
                  </a:lnTo>
                  <a:lnTo>
                    <a:pt x="847" y="16"/>
                  </a:lnTo>
                  <a:lnTo>
                    <a:pt x="850" y="19"/>
                  </a:lnTo>
                  <a:lnTo>
                    <a:pt x="852" y="23"/>
                  </a:lnTo>
                  <a:lnTo>
                    <a:pt x="854" y="28"/>
                  </a:lnTo>
                  <a:lnTo>
                    <a:pt x="855" y="33"/>
                  </a:lnTo>
                  <a:lnTo>
                    <a:pt x="858" y="37"/>
                  </a:lnTo>
                  <a:lnTo>
                    <a:pt x="859" y="44"/>
                  </a:lnTo>
                  <a:lnTo>
                    <a:pt x="860" y="50"/>
                  </a:lnTo>
                  <a:lnTo>
                    <a:pt x="860" y="53"/>
                  </a:lnTo>
                  <a:lnTo>
                    <a:pt x="861" y="57"/>
                  </a:lnTo>
                  <a:lnTo>
                    <a:pt x="861" y="60"/>
                  </a:lnTo>
                  <a:lnTo>
                    <a:pt x="863" y="64"/>
                  </a:lnTo>
                  <a:lnTo>
                    <a:pt x="863" y="68"/>
                  </a:lnTo>
                  <a:lnTo>
                    <a:pt x="863" y="71"/>
                  </a:lnTo>
                  <a:lnTo>
                    <a:pt x="863" y="76"/>
                  </a:lnTo>
                  <a:lnTo>
                    <a:pt x="864" y="81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4" y="93"/>
                  </a:lnTo>
                  <a:lnTo>
                    <a:pt x="864" y="98"/>
                  </a:lnTo>
                  <a:lnTo>
                    <a:pt x="864" y="102"/>
                  </a:lnTo>
                  <a:lnTo>
                    <a:pt x="864" y="105"/>
                  </a:lnTo>
                  <a:lnTo>
                    <a:pt x="864" y="109"/>
                  </a:lnTo>
                  <a:lnTo>
                    <a:pt x="864" y="114"/>
                  </a:lnTo>
                  <a:lnTo>
                    <a:pt x="864" y="117"/>
                  </a:lnTo>
                  <a:lnTo>
                    <a:pt x="864" y="121"/>
                  </a:lnTo>
                  <a:lnTo>
                    <a:pt x="864" y="124"/>
                  </a:lnTo>
                  <a:lnTo>
                    <a:pt x="864" y="128"/>
                  </a:lnTo>
                  <a:lnTo>
                    <a:pt x="864" y="130"/>
                  </a:lnTo>
                  <a:lnTo>
                    <a:pt x="864" y="135"/>
                  </a:lnTo>
                  <a:lnTo>
                    <a:pt x="864" y="138"/>
                  </a:lnTo>
                  <a:lnTo>
                    <a:pt x="865" y="141"/>
                  </a:lnTo>
                  <a:lnTo>
                    <a:pt x="865" y="147"/>
                  </a:lnTo>
                  <a:lnTo>
                    <a:pt x="865" y="153"/>
                  </a:lnTo>
                  <a:lnTo>
                    <a:pt x="865" y="159"/>
                  </a:lnTo>
                  <a:lnTo>
                    <a:pt x="866" y="164"/>
                  </a:lnTo>
                  <a:lnTo>
                    <a:pt x="866" y="170"/>
                  </a:lnTo>
                  <a:lnTo>
                    <a:pt x="866" y="175"/>
                  </a:lnTo>
                  <a:lnTo>
                    <a:pt x="867" y="180"/>
                  </a:lnTo>
                  <a:lnTo>
                    <a:pt x="869" y="185"/>
                  </a:lnTo>
                  <a:lnTo>
                    <a:pt x="869" y="188"/>
                  </a:lnTo>
                  <a:lnTo>
                    <a:pt x="869" y="193"/>
                  </a:lnTo>
                  <a:lnTo>
                    <a:pt x="870" y="198"/>
                  </a:lnTo>
                  <a:lnTo>
                    <a:pt x="870" y="203"/>
                  </a:lnTo>
                  <a:lnTo>
                    <a:pt x="871" y="207"/>
                  </a:lnTo>
                  <a:lnTo>
                    <a:pt x="871" y="210"/>
                  </a:lnTo>
                  <a:lnTo>
                    <a:pt x="872" y="214"/>
                  </a:lnTo>
                  <a:lnTo>
                    <a:pt x="873" y="219"/>
                  </a:lnTo>
                  <a:lnTo>
                    <a:pt x="873" y="222"/>
                  </a:lnTo>
                  <a:lnTo>
                    <a:pt x="875" y="226"/>
                  </a:lnTo>
                  <a:lnTo>
                    <a:pt x="875" y="230"/>
                  </a:lnTo>
                  <a:lnTo>
                    <a:pt x="876" y="234"/>
                  </a:lnTo>
                  <a:lnTo>
                    <a:pt x="877" y="238"/>
                  </a:lnTo>
                  <a:lnTo>
                    <a:pt x="878" y="242"/>
                  </a:lnTo>
                  <a:lnTo>
                    <a:pt x="878" y="246"/>
                  </a:lnTo>
                  <a:lnTo>
                    <a:pt x="879" y="250"/>
                  </a:lnTo>
                  <a:lnTo>
                    <a:pt x="881" y="254"/>
                  </a:lnTo>
                  <a:lnTo>
                    <a:pt x="881" y="257"/>
                  </a:lnTo>
                  <a:lnTo>
                    <a:pt x="882" y="261"/>
                  </a:lnTo>
                  <a:lnTo>
                    <a:pt x="882" y="265"/>
                  </a:lnTo>
                  <a:lnTo>
                    <a:pt x="882" y="268"/>
                  </a:lnTo>
                  <a:lnTo>
                    <a:pt x="882" y="272"/>
                  </a:lnTo>
                  <a:lnTo>
                    <a:pt x="882" y="275"/>
                  </a:lnTo>
                  <a:lnTo>
                    <a:pt x="883" y="279"/>
                  </a:lnTo>
                  <a:lnTo>
                    <a:pt x="882" y="286"/>
                  </a:lnTo>
                  <a:lnTo>
                    <a:pt x="882" y="294"/>
                  </a:lnTo>
                  <a:lnTo>
                    <a:pt x="881" y="296"/>
                  </a:lnTo>
                  <a:lnTo>
                    <a:pt x="881" y="300"/>
                  </a:lnTo>
                  <a:lnTo>
                    <a:pt x="881" y="303"/>
                  </a:lnTo>
                  <a:lnTo>
                    <a:pt x="881" y="307"/>
                  </a:lnTo>
                  <a:lnTo>
                    <a:pt x="879" y="313"/>
                  </a:lnTo>
                  <a:lnTo>
                    <a:pt x="878" y="319"/>
                  </a:lnTo>
                  <a:lnTo>
                    <a:pt x="877" y="324"/>
                  </a:lnTo>
                  <a:lnTo>
                    <a:pt x="877" y="331"/>
                  </a:lnTo>
                  <a:lnTo>
                    <a:pt x="877" y="336"/>
                  </a:lnTo>
                  <a:lnTo>
                    <a:pt x="876" y="342"/>
                  </a:lnTo>
                  <a:lnTo>
                    <a:pt x="876" y="347"/>
                  </a:lnTo>
                  <a:lnTo>
                    <a:pt x="877" y="353"/>
                  </a:lnTo>
                  <a:lnTo>
                    <a:pt x="877" y="356"/>
                  </a:lnTo>
                  <a:lnTo>
                    <a:pt x="878" y="362"/>
                  </a:lnTo>
                  <a:lnTo>
                    <a:pt x="879" y="367"/>
                  </a:lnTo>
                  <a:lnTo>
                    <a:pt x="882" y="373"/>
                  </a:lnTo>
                  <a:lnTo>
                    <a:pt x="883" y="379"/>
                  </a:lnTo>
                  <a:lnTo>
                    <a:pt x="885" y="385"/>
                  </a:lnTo>
                  <a:lnTo>
                    <a:pt x="887" y="391"/>
                  </a:lnTo>
                  <a:lnTo>
                    <a:pt x="888" y="399"/>
                  </a:lnTo>
                  <a:lnTo>
                    <a:pt x="889" y="404"/>
                  </a:lnTo>
                  <a:lnTo>
                    <a:pt x="890" y="411"/>
                  </a:lnTo>
                  <a:lnTo>
                    <a:pt x="890" y="414"/>
                  </a:lnTo>
                  <a:lnTo>
                    <a:pt x="890" y="418"/>
                  </a:lnTo>
                  <a:lnTo>
                    <a:pt x="891" y="422"/>
                  </a:lnTo>
                  <a:lnTo>
                    <a:pt x="891" y="425"/>
                  </a:lnTo>
                  <a:lnTo>
                    <a:pt x="891" y="429"/>
                  </a:lnTo>
                  <a:lnTo>
                    <a:pt x="891" y="433"/>
                  </a:lnTo>
                  <a:lnTo>
                    <a:pt x="890" y="436"/>
                  </a:lnTo>
                  <a:lnTo>
                    <a:pt x="890" y="441"/>
                  </a:lnTo>
                  <a:lnTo>
                    <a:pt x="890" y="445"/>
                  </a:lnTo>
                  <a:lnTo>
                    <a:pt x="889" y="448"/>
                  </a:lnTo>
                  <a:lnTo>
                    <a:pt x="889" y="452"/>
                  </a:lnTo>
                  <a:lnTo>
                    <a:pt x="888" y="457"/>
                  </a:lnTo>
                  <a:lnTo>
                    <a:pt x="887" y="460"/>
                  </a:lnTo>
                  <a:lnTo>
                    <a:pt x="885" y="464"/>
                  </a:lnTo>
                  <a:lnTo>
                    <a:pt x="883" y="468"/>
                  </a:lnTo>
                  <a:lnTo>
                    <a:pt x="883" y="471"/>
                  </a:lnTo>
                  <a:lnTo>
                    <a:pt x="882" y="476"/>
                  </a:lnTo>
                  <a:lnTo>
                    <a:pt x="881" y="480"/>
                  </a:lnTo>
                  <a:lnTo>
                    <a:pt x="879" y="483"/>
                  </a:lnTo>
                  <a:lnTo>
                    <a:pt x="879" y="488"/>
                  </a:lnTo>
                  <a:lnTo>
                    <a:pt x="878" y="492"/>
                  </a:lnTo>
                  <a:lnTo>
                    <a:pt x="878" y="495"/>
                  </a:lnTo>
                  <a:lnTo>
                    <a:pt x="877" y="500"/>
                  </a:lnTo>
                  <a:lnTo>
                    <a:pt x="877" y="504"/>
                  </a:lnTo>
                  <a:lnTo>
                    <a:pt x="877" y="507"/>
                  </a:lnTo>
                  <a:lnTo>
                    <a:pt x="877" y="511"/>
                  </a:lnTo>
                  <a:lnTo>
                    <a:pt x="877" y="515"/>
                  </a:lnTo>
                  <a:lnTo>
                    <a:pt x="877" y="520"/>
                  </a:lnTo>
                  <a:lnTo>
                    <a:pt x="876" y="523"/>
                  </a:lnTo>
                  <a:lnTo>
                    <a:pt x="876" y="527"/>
                  </a:lnTo>
                  <a:lnTo>
                    <a:pt x="876" y="529"/>
                  </a:lnTo>
                  <a:lnTo>
                    <a:pt x="876" y="534"/>
                  </a:lnTo>
                  <a:lnTo>
                    <a:pt x="876" y="540"/>
                  </a:lnTo>
                  <a:lnTo>
                    <a:pt x="876" y="547"/>
                  </a:lnTo>
                  <a:lnTo>
                    <a:pt x="876" y="553"/>
                  </a:lnTo>
                  <a:lnTo>
                    <a:pt x="877" y="559"/>
                  </a:lnTo>
                  <a:lnTo>
                    <a:pt x="877" y="565"/>
                  </a:lnTo>
                  <a:lnTo>
                    <a:pt x="878" y="570"/>
                  </a:lnTo>
                  <a:lnTo>
                    <a:pt x="878" y="575"/>
                  </a:lnTo>
                  <a:lnTo>
                    <a:pt x="879" y="580"/>
                  </a:lnTo>
                  <a:lnTo>
                    <a:pt x="879" y="585"/>
                  </a:lnTo>
                  <a:lnTo>
                    <a:pt x="881" y="591"/>
                  </a:lnTo>
                  <a:lnTo>
                    <a:pt x="879" y="596"/>
                  </a:lnTo>
                  <a:lnTo>
                    <a:pt x="879" y="602"/>
                  </a:lnTo>
                  <a:lnTo>
                    <a:pt x="879" y="607"/>
                  </a:lnTo>
                  <a:lnTo>
                    <a:pt x="879" y="613"/>
                  </a:lnTo>
                  <a:lnTo>
                    <a:pt x="877" y="616"/>
                  </a:lnTo>
                  <a:lnTo>
                    <a:pt x="876" y="622"/>
                  </a:lnTo>
                  <a:lnTo>
                    <a:pt x="873" y="626"/>
                  </a:lnTo>
                  <a:lnTo>
                    <a:pt x="871" y="632"/>
                  </a:lnTo>
                  <a:lnTo>
                    <a:pt x="867" y="636"/>
                  </a:lnTo>
                  <a:lnTo>
                    <a:pt x="864" y="639"/>
                  </a:lnTo>
                  <a:lnTo>
                    <a:pt x="859" y="644"/>
                  </a:lnTo>
                  <a:lnTo>
                    <a:pt x="855" y="648"/>
                  </a:lnTo>
                  <a:lnTo>
                    <a:pt x="849" y="650"/>
                  </a:lnTo>
                  <a:lnTo>
                    <a:pt x="843" y="652"/>
                  </a:lnTo>
                  <a:lnTo>
                    <a:pt x="837" y="655"/>
                  </a:lnTo>
                  <a:lnTo>
                    <a:pt x="834" y="658"/>
                  </a:lnTo>
                  <a:lnTo>
                    <a:pt x="829" y="660"/>
                  </a:lnTo>
                  <a:lnTo>
                    <a:pt x="824" y="662"/>
                  </a:lnTo>
                  <a:lnTo>
                    <a:pt x="819" y="663"/>
                  </a:lnTo>
                  <a:lnTo>
                    <a:pt x="815" y="666"/>
                  </a:lnTo>
                  <a:lnTo>
                    <a:pt x="811" y="667"/>
                  </a:lnTo>
                  <a:lnTo>
                    <a:pt x="807" y="667"/>
                  </a:lnTo>
                  <a:lnTo>
                    <a:pt x="803" y="667"/>
                  </a:lnTo>
                  <a:lnTo>
                    <a:pt x="800" y="667"/>
                  </a:lnTo>
                  <a:lnTo>
                    <a:pt x="795" y="663"/>
                  </a:lnTo>
                  <a:lnTo>
                    <a:pt x="790" y="658"/>
                  </a:lnTo>
                  <a:lnTo>
                    <a:pt x="788" y="656"/>
                  </a:lnTo>
                  <a:lnTo>
                    <a:pt x="788" y="652"/>
                  </a:lnTo>
                  <a:lnTo>
                    <a:pt x="787" y="649"/>
                  </a:lnTo>
                  <a:lnTo>
                    <a:pt x="787" y="646"/>
                  </a:lnTo>
                  <a:lnTo>
                    <a:pt x="785" y="642"/>
                  </a:lnTo>
                  <a:lnTo>
                    <a:pt x="785" y="637"/>
                  </a:lnTo>
                  <a:lnTo>
                    <a:pt x="785" y="632"/>
                  </a:lnTo>
                  <a:lnTo>
                    <a:pt x="785" y="627"/>
                  </a:lnTo>
                  <a:lnTo>
                    <a:pt x="785" y="622"/>
                  </a:lnTo>
                  <a:lnTo>
                    <a:pt x="785" y="616"/>
                  </a:lnTo>
                  <a:lnTo>
                    <a:pt x="785" y="610"/>
                  </a:lnTo>
                  <a:lnTo>
                    <a:pt x="785" y="604"/>
                  </a:lnTo>
                  <a:lnTo>
                    <a:pt x="785" y="598"/>
                  </a:lnTo>
                  <a:lnTo>
                    <a:pt x="785" y="591"/>
                  </a:lnTo>
                  <a:lnTo>
                    <a:pt x="785" y="585"/>
                  </a:lnTo>
                  <a:lnTo>
                    <a:pt x="785" y="579"/>
                  </a:lnTo>
                  <a:lnTo>
                    <a:pt x="785" y="571"/>
                  </a:lnTo>
                  <a:lnTo>
                    <a:pt x="785" y="565"/>
                  </a:lnTo>
                  <a:lnTo>
                    <a:pt x="785" y="558"/>
                  </a:lnTo>
                  <a:lnTo>
                    <a:pt x="785" y="551"/>
                  </a:lnTo>
                  <a:lnTo>
                    <a:pt x="785" y="545"/>
                  </a:lnTo>
                  <a:lnTo>
                    <a:pt x="785" y="538"/>
                  </a:lnTo>
                  <a:lnTo>
                    <a:pt x="785" y="532"/>
                  </a:lnTo>
                  <a:lnTo>
                    <a:pt x="785" y="526"/>
                  </a:lnTo>
                  <a:lnTo>
                    <a:pt x="784" y="520"/>
                  </a:lnTo>
                  <a:lnTo>
                    <a:pt x="784" y="513"/>
                  </a:lnTo>
                  <a:lnTo>
                    <a:pt x="783" y="509"/>
                  </a:lnTo>
                  <a:lnTo>
                    <a:pt x="783" y="504"/>
                  </a:lnTo>
                  <a:lnTo>
                    <a:pt x="782" y="499"/>
                  </a:lnTo>
                  <a:lnTo>
                    <a:pt x="782" y="494"/>
                  </a:lnTo>
                  <a:lnTo>
                    <a:pt x="779" y="491"/>
                  </a:lnTo>
                  <a:lnTo>
                    <a:pt x="779" y="488"/>
                  </a:lnTo>
                  <a:lnTo>
                    <a:pt x="777" y="483"/>
                  </a:lnTo>
                  <a:lnTo>
                    <a:pt x="776" y="481"/>
                  </a:lnTo>
                  <a:lnTo>
                    <a:pt x="774" y="478"/>
                  </a:lnTo>
                  <a:lnTo>
                    <a:pt x="773" y="476"/>
                  </a:lnTo>
                  <a:lnTo>
                    <a:pt x="770" y="472"/>
                  </a:lnTo>
                  <a:lnTo>
                    <a:pt x="766" y="470"/>
                  </a:lnTo>
                  <a:lnTo>
                    <a:pt x="762" y="469"/>
                  </a:lnTo>
                  <a:lnTo>
                    <a:pt x="759" y="468"/>
                  </a:lnTo>
                  <a:lnTo>
                    <a:pt x="755" y="468"/>
                  </a:lnTo>
                  <a:lnTo>
                    <a:pt x="752" y="469"/>
                  </a:lnTo>
                  <a:lnTo>
                    <a:pt x="748" y="470"/>
                  </a:lnTo>
                  <a:lnTo>
                    <a:pt x="743" y="471"/>
                  </a:lnTo>
                  <a:lnTo>
                    <a:pt x="739" y="472"/>
                  </a:lnTo>
                  <a:lnTo>
                    <a:pt x="736" y="475"/>
                  </a:lnTo>
                  <a:lnTo>
                    <a:pt x="731" y="476"/>
                  </a:lnTo>
                  <a:lnTo>
                    <a:pt x="726" y="478"/>
                  </a:lnTo>
                  <a:lnTo>
                    <a:pt x="723" y="480"/>
                  </a:lnTo>
                  <a:lnTo>
                    <a:pt x="718" y="481"/>
                  </a:lnTo>
                  <a:lnTo>
                    <a:pt x="714" y="481"/>
                  </a:lnTo>
                  <a:lnTo>
                    <a:pt x="712" y="481"/>
                  </a:lnTo>
                  <a:lnTo>
                    <a:pt x="707" y="482"/>
                  </a:lnTo>
                  <a:lnTo>
                    <a:pt x="702" y="483"/>
                  </a:lnTo>
                  <a:lnTo>
                    <a:pt x="696" y="483"/>
                  </a:lnTo>
                  <a:lnTo>
                    <a:pt x="691" y="484"/>
                  </a:lnTo>
                  <a:lnTo>
                    <a:pt x="685" y="484"/>
                  </a:lnTo>
                  <a:lnTo>
                    <a:pt x="679" y="487"/>
                  </a:lnTo>
                  <a:lnTo>
                    <a:pt x="676" y="487"/>
                  </a:lnTo>
                  <a:lnTo>
                    <a:pt x="672" y="488"/>
                  </a:lnTo>
                  <a:lnTo>
                    <a:pt x="668" y="488"/>
                  </a:lnTo>
                  <a:lnTo>
                    <a:pt x="665" y="489"/>
                  </a:lnTo>
                  <a:lnTo>
                    <a:pt x="660" y="489"/>
                  </a:lnTo>
                  <a:lnTo>
                    <a:pt x="656" y="489"/>
                  </a:lnTo>
                  <a:lnTo>
                    <a:pt x="653" y="491"/>
                  </a:lnTo>
                  <a:lnTo>
                    <a:pt x="649" y="491"/>
                  </a:lnTo>
                  <a:lnTo>
                    <a:pt x="645" y="491"/>
                  </a:lnTo>
                  <a:lnTo>
                    <a:pt x="642" y="492"/>
                  </a:lnTo>
                  <a:lnTo>
                    <a:pt x="637" y="492"/>
                  </a:lnTo>
                  <a:lnTo>
                    <a:pt x="633" y="493"/>
                  </a:lnTo>
                  <a:lnTo>
                    <a:pt x="628" y="494"/>
                  </a:lnTo>
                  <a:lnTo>
                    <a:pt x="625" y="494"/>
                  </a:lnTo>
                  <a:lnTo>
                    <a:pt x="620" y="495"/>
                  </a:lnTo>
                  <a:lnTo>
                    <a:pt x="616" y="497"/>
                  </a:lnTo>
                  <a:lnTo>
                    <a:pt x="612" y="497"/>
                  </a:lnTo>
                  <a:lnTo>
                    <a:pt x="608" y="498"/>
                  </a:lnTo>
                  <a:lnTo>
                    <a:pt x="602" y="498"/>
                  </a:lnTo>
                  <a:lnTo>
                    <a:pt x="598" y="499"/>
                  </a:lnTo>
                  <a:lnTo>
                    <a:pt x="593" y="499"/>
                  </a:lnTo>
                  <a:lnTo>
                    <a:pt x="590" y="500"/>
                  </a:lnTo>
                  <a:lnTo>
                    <a:pt x="585" y="500"/>
                  </a:lnTo>
                  <a:lnTo>
                    <a:pt x="581" y="501"/>
                  </a:lnTo>
                  <a:lnTo>
                    <a:pt x="577" y="501"/>
                  </a:lnTo>
                  <a:lnTo>
                    <a:pt x="572" y="503"/>
                  </a:lnTo>
                  <a:lnTo>
                    <a:pt x="568" y="503"/>
                  </a:lnTo>
                  <a:lnTo>
                    <a:pt x="565" y="504"/>
                  </a:lnTo>
                  <a:lnTo>
                    <a:pt x="560" y="505"/>
                  </a:lnTo>
                  <a:lnTo>
                    <a:pt x="556" y="505"/>
                  </a:lnTo>
                  <a:lnTo>
                    <a:pt x="552" y="506"/>
                  </a:lnTo>
                  <a:lnTo>
                    <a:pt x="549" y="507"/>
                  </a:lnTo>
                  <a:lnTo>
                    <a:pt x="544" y="507"/>
                  </a:lnTo>
                  <a:lnTo>
                    <a:pt x="540" y="509"/>
                  </a:lnTo>
                  <a:lnTo>
                    <a:pt x="537" y="509"/>
                  </a:lnTo>
                  <a:lnTo>
                    <a:pt x="533" y="510"/>
                  </a:lnTo>
                  <a:lnTo>
                    <a:pt x="526" y="511"/>
                  </a:lnTo>
                  <a:lnTo>
                    <a:pt x="520" y="512"/>
                  </a:lnTo>
                  <a:lnTo>
                    <a:pt x="513" y="513"/>
                  </a:lnTo>
                  <a:lnTo>
                    <a:pt x="508" y="515"/>
                  </a:lnTo>
                  <a:lnTo>
                    <a:pt x="502" y="516"/>
                  </a:lnTo>
                  <a:lnTo>
                    <a:pt x="498" y="517"/>
                  </a:lnTo>
                  <a:lnTo>
                    <a:pt x="493" y="517"/>
                  </a:lnTo>
                  <a:lnTo>
                    <a:pt x="487" y="518"/>
                  </a:lnTo>
                  <a:lnTo>
                    <a:pt x="483" y="520"/>
                  </a:lnTo>
                  <a:lnTo>
                    <a:pt x="476" y="522"/>
                  </a:lnTo>
                  <a:lnTo>
                    <a:pt x="469" y="523"/>
                  </a:lnTo>
                  <a:lnTo>
                    <a:pt x="463" y="524"/>
                  </a:lnTo>
                  <a:lnTo>
                    <a:pt x="456" y="527"/>
                  </a:lnTo>
                  <a:lnTo>
                    <a:pt x="450" y="528"/>
                  </a:lnTo>
                  <a:lnTo>
                    <a:pt x="446" y="529"/>
                  </a:lnTo>
                  <a:lnTo>
                    <a:pt x="441" y="530"/>
                  </a:lnTo>
                  <a:lnTo>
                    <a:pt x="438" y="532"/>
                  </a:lnTo>
                  <a:lnTo>
                    <a:pt x="434" y="533"/>
                  </a:lnTo>
                  <a:lnTo>
                    <a:pt x="431" y="533"/>
                  </a:lnTo>
                  <a:lnTo>
                    <a:pt x="427" y="535"/>
                  </a:lnTo>
                  <a:lnTo>
                    <a:pt x="423" y="535"/>
                  </a:lnTo>
                  <a:lnTo>
                    <a:pt x="419" y="538"/>
                  </a:lnTo>
                  <a:lnTo>
                    <a:pt x="415" y="538"/>
                  </a:lnTo>
                  <a:lnTo>
                    <a:pt x="411" y="539"/>
                  </a:lnTo>
                  <a:lnTo>
                    <a:pt x="407" y="540"/>
                  </a:lnTo>
                  <a:lnTo>
                    <a:pt x="403" y="542"/>
                  </a:lnTo>
                  <a:lnTo>
                    <a:pt x="399" y="544"/>
                  </a:lnTo>
                  <a:lnTo>
                    <a:pt x="396" y="545"/>
                  </a:lnTo>
                  <a:lnTo>
                    <a:pt x="392" y="546"/>
                  </a:lnTo>
                  <a:lnTo>
                    <a:pt x="388" y="547"/>
                  </a:lnTo>
                  <a:lnTo>
                    <a:pt x="384" y="549"/>
                  </a:lnTo>
                  <a:lnTo>
                    <a:pt x="380" y="550"/>
                  </a:lnTo>
                  <a:lnTo>
                    <a:pt x="375" y="551"/>
                  </a:lnTo>
                  <a:lnTo>
                    <a:pt x="372" y="552"/>
                  </a:lnTo>
                  <a:lnTo>
                    <a:pt x="368" y="553"/>
                  </a:lnTo>
                  <a:lnTo>
                    <a:pt x="363" y="555"/>
                  </a:lnTo>
                  <a:lnTo>
                    <a:pt x="359" y="556"/>
                  </a:lnTo>
                  <a:lnTo>
                    <a:pt x="356" y="557"/>
                  </a:lnTo>
                  <a:lnTo>
                    <a:pt x="351" y="558"/>
                  </a:lnTo>
                  <a:lnTo>
                    <a:pt x="347" y="559"/>
                  </a:lnTo>
                  <a:lnTo>
                    <a:pt x="344" y="561"/>
                  </a:lnTo>
                  <a:lnTo>
                    <a:pt x="340" y="562"/>
                  </a:lnTo>
                  <a:lnTo>
                    <a:pt x="337" y="563"/>
                  </a:lnTo>
                  <a:lnTo>
                    <a:pt x="333" y="564"/>
                  </a:lnTo>
                  <a:lnTo>
                    <a:pt x="329" y="565"/>
                  </a:lnTo>
                  <a:lnTo>
                    <a:pt x="326" y="568"/>
                  </a:lnTo>
                  <a:lnTo>
                    <a:pt x="322" y="568"/>
                  </a:lnTo>
                  <a:lnTo>
                    <a:pt x="318" y="569"/>
                  </a:lnTo>
                  <a:lnTo>
                    <a:pt x="315" y="570"/>
                  </a:lnTo>
                  <a:lnTo>
                    <a:pt x="312" y="571"/>
                  </a:lnTo>
                  <a:lnTo>
                    <a:pt x="305" y="574"/>
                  </a:lnTo>
                  <a:lnTo>
                    <a:pt x="300" y="576"/>
                  </a:lnTo>
                  <a:lnTo>
                    <a:pt x="294" y="579"/>
                  </a:lnTo>
                  <a:lnTo>
                    <a:pt x="288" y="580"/>
                  </a:lnTo>
                  <a:lnTo>
                    <a:pt x="283" y="582"/>
                  </a:lnTo>
                  <a:lnTo>
                    <a:pt x="280" y="585"/>
                  </a:lnTo>
                  <a:lnTo>
                    <a:pt x="275" y="586"/>
                  </a:lnTo>
                  <a:lnTo>
                    <a:pt x="270" y="587"/>
                  </a:lnTo>
                  <a:lnTo>
                    <a:pt x="264" y="588"/>
                  </a:lnTo>
                  <a:lnTo>
                    <a:pt x="258" y="591"/>
                  </a:lnTo>
                  <a:lnTo>
                    <a:pt x="252" y="592"/>
                  </a:lnTo>
                  <a:lnTo>
                    <a:pt x="246" y="593"/>
                  </a:lnTo>
                  <a:lnTo>
                    <a:pt x="240" y="594"/>
                  </a:lnTo>
                  <a:lnTo>
                    <a:pt x="234" y="596"/>
                  </a:lnTo>
                  <a:lnTo>
                    <a:pt x="230" y="596"/>
                  </a:lnTo>
                  <a:lnTo>
                    <a:pt x="227" y="596"/>
                  </a:lnTo>
                  <a:lnTo>
                    <a:pt x="223" y="597"/>
                  </a:lnTo>
                  <a:lnTo>
                    <a:pt x="220" y="598"/>
                  </a:lnTo>
                  <a:lnTo>
                    <a:pt x="216" y="598"/>
                  </a:lnTo>
                  <a:lnTo>
                    <a:pt x="212" y="598"/>
                  </a:lnTo>
                  <a:lnTo>
                    <a:pt x="209" y="599"/>
                  </a:lnTo>
                  <a:lnTo>
                    <a:pt x="205" y="599"/>
                  </a:lnTo>
                  <a:lnTo>
                    <a:pt x="201" y="599"/>
                  </a:lnTo>
                  <a:lnTo>
                    <a:pt x="198" y="600"/>
                  </a:lnTo>
                  <a:lnTo>
                    <a:pt x="194" y="600"/>
                  </a:lnTo>
                  <a:lnTo>
                    <a:pt x="191" y="600"/>
                  </a:lnTo>
                  <a:lnTo>
                    <a:pt x="187" y="600"/>
                  </a:lnTo>
                  <a:lnTo>
                    <a:pt x="183" y="602"/>
                  </a:lnTo>
                  <a:lnTo>
                    <a:pt x="180" y="602"/>
                  </a:lnTo>
                  <a:lnTo>
                    <a:pt x="176" y="603"/>
                  </a:lnTo>
                  <a:lnTo>
                    <a:pt x="172" y="603"/>
                  </a:lnTo>
                  <a:lnTo>
                    <a:pt x="169" y="603"/>
                  </a:lnTo>
                  <a:lnTo>
                    <a:pt x="165" y="603"/>
                  </a:lnTo>
                  <a:lnTo>
                    <a:pt x="162" y="603"/>
                  </a:lnTo>
                  <a:lnTo>
                    <a:pt x="158" y="603"/>
                  </a:lnTo>
                  <a:lnTo>
                    <a:pt x="154" y="604"/>
                  </a:lnTo>
                  <a:lnTo>
                    <a:pt x="151" y="604"/>
                  </a:lnTo>
                  <a:lnTo>
                    <a:pt x="147" y="604"/>
                  </a:lnTo>
                  <a:lnTo>
                    <a:pt x="140" y="604"/>
                  </a:lnTo>
                  <a:lnTo>
                    <a:pt x="134" y="605"/>
                  </a:lnTo>
                  <a:lnTo>
                    <a:pt x="128" y="605"/>
                  </a:lnTo>
                  <a:lnTo>
                    <a:pt x="122" y="607"/>
                  </a:lnTo>
                  <a:lnTo>
                    <a:pt x="116" y="607"/>
                  </a:lnTo>
                  <a:lnTo>
                    <a:pt x="110" y="607"/>
                  </a:lnTo>
                  <a:lnTo>
                    <a:pt x="105" y="607"/>
                  </a:lnTo>
                  <a:lnTo>
                    <a:pt x="100" y="608"/>
                  </a:lnTo>
                  <a:lnTo>
                    <a:pt x="95" y="608"/>
                  </a:lnTo>
                  <a:lnTo>
                    <a:pt x="93" y="609"/>
                  </a:lnTo>
                  <a:lnTo>
                    <a:pt x="89" y="609"/>
                  </a:lnTo>
                  <a:lnTo>
                    <a:pt x="87" y="610"/>
                  </a:lnTo>
                  <a:lnTo>
                    <a:pt x="81" y="610"/>
                  </a:lnTo>
                  <a:lnTo>
                    <a:pt x="76" y="611"/>
                  </a:lnTo>
                  <a:lnTo>
                    <a:pt x="70" y="613"/>
                  </a:lnTo>
                  <a:lnTo>
                    <a:pt x="65" y="615"/>
                  </a:lnTo>
                  <a:lnTo>
                    <a:pt x="59" y="616"/>
                  </a:lnTo>
                  <a:lnTo>
                    <a:pt x="54" y="619"/>
                  </a:lnTo>
                  <a:lnTo>
                    <a:pt x="49" y="621"/>
                  </a:lnTo>
                  <a:lnTo>
                    <a:pt x="45" y="622"/>
                  </a:lnTo>
                  <a:lnTo>
                    <a:pt x="39" y="623"/>
                  </a:lnTo>
                  <a:lnTo>
                    <a:pt x="35" y="625"/>
                  </a:lnTo>
                  <a:lnTo>
                    <a:pt x="30" y="625"/>
                  </a:lnTo>
                  <a:lnTo>
                    <a:pt x="26" y="625"/>
                  </a:lnTo>
                  <a:lnTo>
                    <a:pt x="22" y="622"/>
                  </a:lnTo>
                  <a:lnTo>
                    <a:pt x="18" y="621"/>
                  </a:lnTo>
                  <a:lnTo>
                    <a:pt x="14" y="619"/>
                  </a:lnTo>
                  <a:lnTo>
                    <a:pt x="12" y="615"/>
                  </a:lnTo>
                  <a:lnTo>
                    <a:pt x="10" y="610"/>
                  </a:lnTo>
                  <a:lnTo>
                    <a:pt x="7" y="605"/>
                  </a:lnTo>
                  <a:lnTo>
                    <a:pt x="6" y="599"/>
                  </a:lnTo>
                  <a:lnTo>
                    <a:pt x="4" y="593"/>
                  </a:lnTo>
                  <a:lnTo>
                    <a:pt x="2" y="587"/>
                  </a:lnTo>
                  <a:lnTo>
                    <a:pt x="1" y="580"/>
                  </a:lnTo>
                  <a:lnTo>
                    <a:pt x="1" y="574"/>
                  </a:lnTo>
                  <a:lnTo>
                    <a:pt x="1" y="568"/>
                  </a:lnTo>
                  <a:lnTo>
                    <a:pt x="1" y="561"/>
                  </a:lnTo>
                  <a:lnTo>
                    <a:pt x="2" y="555"/>
                  </a:lnTo>
                  <a:lnTo>
                    <a:pt x="4" y="547"/>
                  </a:lnTo>
                  <a:lnTo>
                    <a:pt x="6" y="542"/>
                  </a:lnTo>
                  <a:lnTo>
                    <a:pt x="8" y="536"/>
                  </a:lnTo>
                  <a:lnTo>
                    <a:pt x="12" y="532"/>
                  </a:lnTo>
                  <a:lnTo>
                    <a:pt x="16" y="527"/>
                  </a:lnTo>
                  <a:lnTo>
                    <a:pt x="20" y="524"/>
                  </a:lnTo>
                  <a:lnTo>
                    <a:pt x="23" y="522"/>
                  </a:lnTo>
                  <a:lnTo>
                    <a:pt x="25" y="521"/>
                  </a:lnTo>
                  <a:lnTo>
                    <a:pt x="29" y="520"/>
                  </a:lnTo>
                  <a:lnTo>
                    <a:pt x="33" y="517"/>
                  </a:lnTo>
                  <a:lnTo>
                    <a:pt x="36" y="516"/>
                  </a:lnTo>
                  <a:lnTo>
                    <a:pt x="42" y="515"/>
                  </a:lnTo>
                  <a:lnTo>
                    <a:pt x="46" y="513"/>
                  </a:lnTo>
                  <a:lnTo>
                    <a:pt x="52" y="513"/>
                  </a:lnTo>
                  <a:lnTo>
                    <a:pt x="57" y="511"/>
                  </a:lnTo>
                  <a:lnTo>
                    <a:pt x="63" y="511"/>
                  </a:lnTo>
                  <a:lnTo>
                    <a:pt x="69" y="510"/>
                  </a:lnTo>
                  <a:lnTo>
                    <a:pt x="75" y="509"/>
                  </a:lnTo>
                  <a:lnTo>
                    <a:pt x="82" y="507"/>
                  </a:lnTo>
                  <a:lnTo>
                    <a:pt x="89" y="506"/>
                  </a:lnTo>
                  <a:lnTo>
                    <a:pt x="92" y="506"/>
                  </a:lnTo>
                  <a:lnTo>
                    <a:pt x="95" y="505"/>
                  </a:lnTo>
                  <a:lnTo>
                    <a:pt x="99" y="505"/>
                  </a:lnTo>
                  <a:lnTo>
                    <a:pt x="102" y="505"/>
                  </a:lnTo>
                  <a:lnTo>
                    <a:pt x="109" y="504"/>
                  </a:lnTo>
                  <a:lnTo>
                    <a:pt x="116" y="504"/>
                  </a:lnTo>
                  <a:lnTo>
                    <a:pt x="119" y="503"/>
                  </a:lnTo>
                  <a:lnTo>
                    <a:pt x="123" y="503"/>
                  </a:lnTo>
                  <a:lnTo>
                    <a:pt x="127" y="501"/>
                  </a:lnTo>
                  <a:lnTo>
                    <a:pt x="130" y="501"/>
                  </a:lnTo>
                  <a:lnTo>
                    <a:pt x="136" y="500"/>
                  </a:lnTo>
                  <a:lnTo>
                    <a:pt x="144" y="500"/>
                  </a:lnTo>
                  <a:lnTo>
                    <a:pt x="147" y="500"/>
                  </a:lnTo>
                  <a:lnTo>
                    <a:pt x="151" y="499"/>
                  </a:lnTo>
                  <a:lnTo>
                    <a:pt x="153" y="499"/>
                  </a:lnTo>
                  <a:lnTo>
                    <a:pt x="158" y="499"/>
                  </a:lnTo>
                  <a:lnTo>
                    <a:pt x="164" y="498"/>
                  </a:lnTo>
                  <a:lnTo>
                    <a:pt x="170" y="498"/>
                  </a:lnTo>
                  <a:lnTo>
                    <a:pt x="176" y="497"/>
                  </a:lnTo>
                  <a:lnTo>
                    <a:pt x="182" y="495"/>
                  </a:lnTo>
                  <a:lnTo>
                    <a:pt x="187" y="494"/>
                  </a:lnTo>
                  <a:lnTo>
                    <a:pt x="193" y="494"/>
                  </a:lnTo>
                  <a:lnTo>
                    <a:pt x="198" y="493"/>
                  </a:lnTo>
                  <a:lnTo>
                    <a:pt x="203" y="493"/>
                  </a:lnTo>
                  <a:lnTo>
                    <a:pt x="206" y="492"/>
                  </a:lnTo>
                  <a:lnTo>
                    <a:pt x="212" y="491"/>
                  </a:lnTo>
                  <a:lnTo>
                    <a:pt x="217" y="488"/>
                  </a:lnTo>
                  <a:lnTo>
                    <a:pt x="223" y="487"/>
                  </a:lnTo>
                  <a:lnTo>
                    <a:pt x="230" y="484"/>
                  </a:lnTo>
                  <a:lnTo>
                    <a:pt x="238" y="482"/>
                  </a:lnTo>
                  <a:lnTo>
                    <a:pt x="241" y="481"/>
                  </a:lnTo>
                  <a:lnTo>
                    <a:pt x="245" y="480"/>
                  </a:lnTo>
                  <a:lnTo>
                    <a:pt x="248" y="478"/>
                  </a:lnTo>
                  <a:lnTo>
                    <a:pt x="253" y="478"/>
                  </a:lnTo>
                  <a:lnTo>
                    <a:pt x="257" y="476"/>
                  </a:lnTo>
                  <a:lnTo>
                    <a:pt x="261" y="475"/>
                  </a:lnTo>
                  <a:lnTo>
                    <a:pt x="264" y="472"/>
                  </a:lnTo>
                  <a:lnTo>
                    <a:pt x="268" y="471"/>
                  </a:lnTo>
                  <a:lnTo>
                    <a:pt x="273" y="470"/>
                  </a:lnTo>
                  <a:lnTo>
                    <a:pt x="276" y="469"/>
                  </a:lnTo>
                  <a:lnTo>
                    <a:pt x="281" y="468"/>
                  </a:lnTo>
                  <a:lnTo>
                    <a:pt x="286" y="466"/>
                  </a:lnTo>
                  <a:lnTo>
                    <a:pt x="289" y="464"/>
                  </a:lnTo>
                  <a:lnTo>
                    <a:pt x="294" y="463"/>
                  </a:lnTo>
                  <a:lnTo>
                    <a:pt x="298" y="460"/>
                  </a:lnTo>
                  <a:lnTo>
                    <a:pt x="303" y="459"/>
                  </a:lnTo>
                  <a:lnTo>
                    <a:pt x="308" y="458"/>
                  </a:lnTo>
                  <a:lnTo>
                    <a:pt x="312" y="457"/>
                  </a:lnTo>
                  <a:lnTo>
                    <a:pt x="317" y="456"/>
                  </a:lnTo>
                  <a:lnTo>
                    <a:pt x="322" y="454"/>
                  </a:lnTo>
                  <a:lnTo>
                    <a:pt x="326" y="452"/>
                  </a:lnTo>
                  <a:lnTo>
                    <a:pt x="332" y="449"/>
                  </a:lnTo>
                  <a:lnTo>
                    <a:pt x="335" y="448"/>
                  </a:lnTo>
                  <a:lnTo>
                    <a:pt x="340" y="447"/>
                  </a:lnTo>
                  <a:lnTo>
                    <a:pt x="345" y="446"/>
                  </a:lnTo>
                  <a:lnTo>
                    <a:pt x="350" y="443"/>
                  </a:lnTo>
                  <a:lnTo>
                    <a:pt x="355" y="442"/>
                  </a:lnTo>
                  <a:lnTo>
                    <a:pt x="359" y="441"/>
                  </a:lnTo>
                  <a:lnTo>
                    <a:pt x="363" y="439"/>
                  </a:lnTo>
                  <a:lnTo>
                    <a:pt x="368" y="437"/>
                  </a:lnTo>
                  <a:lnTo>
                    <a:pt x="372" y="436"/>
                  </a:lnTo>
                  <a:lnTo>
                    <a:pt x="378" y="435"/>
                  </a:lnTo>
                  <a:lnTo>
                    <a:pt x="381" y="434"/>
                  </a:lnTo>
                  <a:lnTo>
                    <a:pt x="386" y="433"/>
                  </a:lnTo>
                  <a:lnTo>
                    <a:pt x="391" y="431"/>
                  </a:lnTo>
                  <a:lnTo>
                    <a:pt x="396" y="430"/>
                  </a:lnTo>
                  <a:lnTo>
                    <a:pt x="399" y="428"/>
                  </a:lnTo>
                  <a:lnTo>
                    <a:pt x="404" y="428"/>
                  </a:lnTo>
                  <a:lnTo>
                    <a:pt x="408" y="425"/>
                  </a:lnTo>
                  <a:lnTo>
                    <a:pt x="413" y="425"/>
                  </a:lnTo>
                  <a:lnTo>
                    <a:pt x="416" y="424"/>
                  </a:lnTo>
                  <a:lnTo>
                    <a:pt x="420" y="423"/>
                  </a:lnTo>
                  <a:lnTo>
                    <a:pt x="423" y="422"/>
                  </a:lnTo>
                  <a:lnTo>
                    <a:pt x="428" y="422"/>
                  </a:lnTo>
                  <a:lnTo>
                    <a:pt x="431" y="420"/>
                  </a:lnTo>
                  <a:lnTo>
                    <a:pt x="435" y="420"/>
                  </a:lnTo>
                  <a:lnTo>
                    <a:pt x="438" y="419"/>
                  </a:lnTo>
                  <a:lnTo>
                    <a:pt x="441" y="419"/>
                  </a:lnTo>
                  <a:lnTo>
                    <a:pt x="449" y="419"/>
                  </a:lnTo>
                  <a:lnTo>
                    <a:pt x="456" y="419"/>
                  </a:lnTo>
                  <a:lnTo>
                    <a:pt x="461" y="418"/>
                  </a:lnTo>
                  <a:lnTo>
                    <a:pt x="466" y="418"/>
                  </a:lnTo>
                  <a:lnTo>
                    <a:pt x="472" y="417"/>
                  </a:lnTo>
                  <a:lnTo>
                    <a:pt x="478" y="417"/>
                  </a:lnTo>
                  <a:lnTo>
                    <a:pt x="483" y="416"/>
                  </a:lnTo>
                  <a:lnTo>
                    <a:pt x="487" y="416"/>
                  </a:lnTo>
                  <a:lnTo>
                    <a:pt x="493" y="416"/>
                  </a:lnTo>
                  <a:lnTo>
                    <a:pt x="498" y="416"/>
                  </a:lnTo>
                  <a:lnTo>
                    <a:pt x="502" y="416"/>
                  </a:lnTo>
                  <a:lnTo>
                    <a:pt x="507" y="416"/>
                  </a:lnTo>
                  <a:lnTo>
                    <a:pt x="510" y="414"/>
                  </a:lnTo>
                  <a:lnTo>
                    <a:pt x="515" y="414"/>
                  </a:lnTo>
                  <a:lnTo>
                    <a:pt x="519" y="414"/>
                  </a:lnTo>
                  <a:lnTo>
                    <a:pt x="524" y="414"/>
                  </a:lnTo>
                  <a:lnTo>
                    <a:pt x="527" y="413"/>
                  </a:lnTo>
                  <a:lnTo>
                    <a:pt x="532" y="413"/>
                  </a:lnTo>
                  <a:lnTo>
                    <a:pt x="538" y="412"/>
                  </a:lnTo>
                  <a:lnTo>
                    <a:pt x="545" y="411"/>
                  </a:lnTo>
                  <a:lnTo>
                    <a:pt x="551" y="410"/>
                  </a:lnTo>
                  <a:lnTo>
                    <a:pt x="559" y="408"/>
                  </a:lnTo>
                  <a:lnTo>
                    <a:pt x="565" y="405"/>
                  </a:lnTo>
                  <a:lnTo>
                    <a:pt x="571" y="402"/>
                  </a:lnTo>
                  <a:lnTo>
                    <a:pt x="577" y="400"/>
                  </a:lnTo>
                  <a:lnTo>
                    <a:pt x="583" y="396"/>
                  </a:lnTo>
                  <a:lnTo>
                    <a:pt x="589" y="393"/>
                  </a:lnTo>
                  <a:lnTo>
                    <a:pt x="595" y="389"/>
                  </a:lnTo>
                  <a:lnTo>
                    <a:pt x="601" y="385"/>
                  </a:lnTo>
                  <a:lnTo>
                    <a:pt x="608" y="384"/>
                  </a:lnTo>
                  <a:lnTo>
                    <a:pt x="614" y="382"/>
                  </a:lnTo>
                  <a:lnTo>
                    <a:pt x="621" y="379"/>
                  </a:lnTo>
                  <a:lnTo>
                    <a:pt x="624" y="378"/>
                  </a:lnTo>
                  <a:lnTo>
                    <a:pt x="627" y="378"/>
                  </a:lnTo>
                  <a:lnTo>
                    <a:pt x="631" y="377"/>
                  </a:lnTo>
                  <a:lnTo>
                    <a:pt x="635" y="377"/>
                  </a:lnTo>
                  <a:lnTo>
                    <a:pt x="638" y="376"/>
                  </a:lnTo>
                  <a:lnTo>
                    <a:pt x="642" y="376"/>
                  </a:lnTo>
                  <a:lnTo>
                    <a:pt x="645" y="375"/>
                  </a:lnTo>
                  <a:lnTo>
                    <a:pt x="649" y="375"/>
                  </a:lnTo>
                  <a:lnTo>
                    <a:pt x="651" y="375"/>
                  </a:lnTo>
                  <a:lnTo>
                    <a:pt x="656" y="373"/>
                  </a:lnTo>
                  <a:lnTo>
                    <a:pt x="660" y="373"/>
                  </a:lnTo>
                  <a:lnTo>
                    <a:pt x="663" y="373"/>
                  </a:lnTo>
                  <a:lnTo>
                    <a:pt x="667" y="372"/>
                  </a:lnTo>
                  <a:lnTo>
                    <a:pt x="671" y="372"/>
                  </a:lnTo>
                  <a:lnTo>
                    <a:pt x="673" y="371"/>
                  </a:lnTo>
                  <a:lnTo>
                    <a:pt x="678" y="371"/>
                  </a:lnTo>
                  <a:lnTo>
                    <a:pt x="682" y="370"/>
                  </a:lnTo>
                  <a:lnTo>
                    <a:pt x="685" y="370"/>
                  </a:lnTo>
                  <a:lnTo>
                    <a:pt x="689" y="370"/>
                  </a:lnTo>
                  <a:lnTo>
                    <a:pt x="692" y="370"/>
                  </a:lnTo>
                  <a:lnTo>
                    <a:pt x="696" y="370"/>
                  </a:lnTo>
                  <a:lnTo>
                    <a:pt x="700" y="369"/>
                  </a:lnTo>
                  <a:lnTo>
                    <a:pt x="703" y="369"/>
                  </a:lnTo>
                  <a:lnTo>
                    <a:pt x="707" y="369"/>
                  </a:lnTo>
                  <a:lnTo>
                    <a:pt x="711" y="367"/>
                  </a:lnTo>
                  <a:lnTo>
                    <a:pt x="714" y="367"/>
                  </a:lnTo>
                  <a:lnTo>
                    <a:pt x="718" y="367"/>
                  </a:lnTo>
                  <a:lnTo>
                    <a:pt x="721" y="367"/>
                  </a:lnTo>
                  <a:lnTo>
                    <a:pt x="725" y="366"/>
                  </a:lnTo>
                  <a:lnTo>
                    <a:pt x="729" y="366"/>
                  </a:lnTo>
                  <a:lnTo>
                    <a:pt x="731" y="365"/>
                  </a:lnTo>
                  <a:lnTo>
                    <a:pt x="736" y="365"/>
                  </a:lnTo>
                  <a:lnTo>
                    <a:pt x="742" y="364"/>
                  </a:lnTo>
                  <a:lnTo>
                    <a:pt x="749" y="362"/>
                  </a:lnTo>
                  <a:lnTo>
                    <a:pt x="754" y="360"/>
                  </a:lnTo>
                  <a:lnTo>
                    <a:pt x="760" y="358"/>
                  </a:lnTo>
                  <a:lnTo>
                    <a:pt x="765" y="355"/>
                  </a:lnTo>
                  <a:lnTo>
                    <a:pt x="768" y="353"/>
                  </a:lnTo>
                  <a:lnTo>
                    <a:pt x="772" y="349"/>
                  </a:lnTo>
                  <a:lnTo>
                    <a:pt x="776" y="346"/>
                  </a:lnTo>
                  <a:lnTo>
                    <a:pt x="777" y="341"/>
                  </a:lnTo>
                  <a:lnTo>
                    <a:pt x="779" y="337"/>
                  </a:lnTo>
                  <a:lnTo>
                    <a:pt x="778" y="333"/>
                  </a:lnTo>
                  <a:lnTo>
                    <a:pt x="778" y="331"/>
                  </a:lnTo>
                  <a:lnTo>
                    <a:pt x="778" y="327"/>
                  </a:lnTo>
                  <a:lnTo>
                    <a:pt x="778" y="324"/>
                  </a:lnTo>
                  <a:lnTo>
                    <a:pt x="778" y="320"/>
                  </a:lnTo>
                  <a:lnTo>
                    <a:pt x="777" y="317"/>
                  </a:lnTo>
                  <a:lnTo>
                    <a:pt x="777" y="313"/>
                  </a:lnTo>
                  <a:lnTo>
                    <a:pt x="776" y="309"/>
                  </a:lnTo>
                  <a:lnTo>
                    <a:pt x="774" y="306"/>
                  </a:lnTo>
                  <a:lnTo>
                    <a:pt x="774" y="301"/>
                  </a:lnTo>
                  <a:lnTo>
                    <a:pt x="773" y="297"/>
                  </a:lnTo>
                  <a:lnTo>
                    <a:pt x="772" y="294"/>
                  </a:lnTo>
                  <a:lnTo>
                    <a:pt x="771" y="289"/>
                  </a:lnTo>
                  <a:lnTo>
                    <a:pt x="771" y="285"/>
                  </a:lnTo>
                  <a:lnTo>
                    <a:pt x="768" y="282"/>
                  </a:lnTo>
                  <a:lnTo>
                    <a:pt x="768" y="277"/>
                  </a:lnTo>
                  <a:lnTo>
                    <a:pt x="767" y="273"/>
                  </a:lnTo>
                  <a:lnTo>
                    <a:pt x="766" y="268"/>
                  </a:lnTo>
                  <a:lnTo>
                    <a:pt x="765" y="263"/>
                  </a:lnTo>
                  <a:lnTo>
                    <a:pt x="765" y="260"/>
                  </a:lnTo>
                  <a:lnTo>
                    <a:pt x="764" y="256"/>
                  </a:lnTo>
                  <a:lnTo>
                    <a:pt x="762" y="253"/>
                  </a:lnTo>
                  <a:lnTo>
                    <a:pt x="761" y="249"/>
                  </a:lnTo>
                  <a:lnTo>
                    <a:pt x="761" y="245"/>
                  </a:lnTo>
                  <a:lnTo>
                    <a:pt x="761" y="242"/>
                  </a:lnTo>
                  <a:lnTo>
                    <a:pt x="760" y="238"/>
                  </a:lnTo>
                  <a:lnTo>
                    <a:pt x="760" y="234"/>
                  </a:lnTo>
                  <a:lnTo>
                    <a:pt x="760" y="232"/>
                  </a:lnTo>
                  <a:lnTo>
                    <a:pt x="761" y="227"/>
                  </a:lnTo>
                  <a:lnTo>
                    <a:pt x="762" y="224"/>
                  </a:lnTo>
                  <a:lnTo>
                    <a:pt x="764" y="219"/>
                  </a:lnTo>
                  <a:lnTo>
                    <a:pt x="765" y="215"/>
                  </a:lnTo>
                  <a:lnTo>
                    <a:pt x="767" y="209"/>
                  </a:lnTo>
                  <a:lnTo>
                    <a:pt x="768" y="204"/>
                  </a:lnTo>
                  <a:lnTo>
                    <a:pt x="771" y="197"/>
                  </a:lnTo>
                  <a:lnTo>
                    <a:pt x="773" y="191"/>
                  </a:lnTo>
                  <a:lnTo>
                    <a:pt x="773" y="186"/>
                  </a:lnTo>
                  <a:lnTo>
                    <a:pt x="774" y="184"/>
                  </a:lnTo>
                  <a:lnTo>
                    <a:pt x="774" y="180"/>
                  </a:lnTo>
                  <a:lnTo>
                    <a:pt x="776" y="176"/>
                  </a:lnTo>
                  <a:lnTo>
                    <a:pt x="776" y="173"/>
                  </a:lnTo>
                  <a:lnTo>
                    <a:pt x="776" y="169"/>
                  </a:lnTo>
                  <a:lnTo>
                    <a:pt x="776" y="164"/>
                  </a:lnTo>
                  <a:lnTo>
                    <a:pt x="777" y="162"/>
                  </a:lnTo>
                  <a:lnTo>
                    <a:pt x="777" y="155"/>
                  </a:lnTo>
                  <a:lnTo>
                    <a:pt x="776" y="149"/>
                  </a:lnTo>
                  <a:lnTo>
                    <a:pt x="774" y="141"/>
                  </a:lnTo>
                  <a:lnTo>
                    <a:pt x="772" y="137"/>
                  </a:lnTo>
                  <a:lnTo>
                    <a:pt x="767" y="130"/>
                  </a:lnTo>
                  <a:lnTo>
                    <a:pt x="764" y="127"/>
                  </a:lnTo>
                  <a:lnTo>
                    <a:pt x="761" y="124"/>
                  </a:lnTo>
                  <a:lnTo>
                    <a:pt x="758" y="122"/>
                  </a:lnTo>
                  <a:lnTo>
                    <a:pt x="754" y="121"/>
                  </a:lnTo>
                  <a:lnTo>
                    <a:pt x="750" y="121"/>
                  </a:lnTo>
                  <a:lnTo>
                    <a:pt x="744" y="120"/>
                  </a:lnTo>
                  <a:lnTo>
                    <a:pt x="741" y="120"/>
                  </a:lnTo>
                  <a:lnTo>
                    <a:pt x="736" y="120"/>
                  </a:lnTo>
                  <a:lnTo>
                    <a:pt x="730" y="120"/>
                  </a:lnTo>
                  <a:lnTo>
                    <a:pt x="724" y="120"/>
                  </a:lnTo>
                  <a:lnTo>
                    <a:pt x="718" y="121"/>
                  </a:lnTo>
                  <a:lnTo>
                    <a:pt x="712" y="122"/>
                  </a:lnTo>
                  <a:lnTo>
                    <a:pt x="706" y="123"/>
                  </a:lnTo>
                  <a:lnTo>
                    <a:pt x="700" y="124"/>
                  </a:lnTo>
                  <a:lnTo>
                    <a:pt x="694" y="127"/>
                  </a:lnTo>
                  <a:lnTo>
                    <a:pt x="688" y="128"/>
                  </a:lnTo>
                  <a:lnTo>
                    <a:pt x="680" y="130"/>
                  </a:lnTo>
                  <a:lnTo>
                    <a:pt x="677" y="132"/>
                  </a:lnTo>
                  <a:lnTo>
                    <a:pt x="673" y="133"/>
                  </a:lnTo>
                  <a:lnTo>
                    <a:pt x="670" y="133"/>
                  </a:lnTo>
                  <a:lnTo>
                    <a:pt x="667" y="135"/>
                  </a:lnTo>
                  <a:lnTo>
                    <a:pt x="662" y="135"/>
                  </a:lnTo>
                  <a:lnTo>
                    <a:pt x="659" y="137"/>
                  </a:lnTo>
                  <a:lnTo>
                    <a:pt x="656" y="138"/>
                  </a:lnTo>
                  <a:lnTo>
                    <a:pt x="653" y="140"/>
                  </a:lnTo>
                  <a:lnTo>
                    <a:pt x="645" y="141"/>
                  </a:lnTo>
                  <a:lnTo>
                    <a:pt x="639" y="145"/>
                  </a:lnTo>
                  <a:lnTo>
                    <a:pt x="632" y="147"/>
                  </a:lnTo>
                  <a:lnTo>
                    <a:pt x="626" y="151"/>
                  </a:lnTo>
                  <a:lnTo>
                    <a:pt x="619" y="152"/>
                  </a:lnTo>
                  <a:lnTo>
                    <a:pt x="613" y="156"/>
                  </a:lnTo>
                  <a:lnTo>
                    <a:pt x="606" y="158"/>
                  </a:lnTo>
                  <a:lnTo>
                    <a:pt x="601" y="162"/>
                  </a:lnTo>
                  <a:lnTo>
                    <a:pt x="595" y="163"/>
                  </a:lnTo>
                  <a:lnTo>
                    <a:pt x="589" y="167"/>
                  </a:lnTo>
                  <a:lnTo>
                    <a:pt x="584" y="169"/>
                  </a:lnTo>
                  <a:lnTo>
                    <a:pt x="579" y="173"/>
                  </a:lnTo>
                  <a:lnTo>
                    <a:pt x="574" y="174"/>
                  </a:lnTo>
                  <a:lnTo>
                    <a:pt x="568" y="176"/>
                  </a:lnTo>
                  <a:lnTo>
                    <a:pt x="563" y="178"/>
                  </a:lnTo>
                  <a:lnTo>
                    <a:pt x="557" y="181"/>
                  </a:lnTo>
                  <a:lnTo>
                    <a:pt x="551" y="182"/>
                  </a:lnTo>
                  <a:lnTo>
                    <a:pt x="545" y="185"/>
                  </a:lnTo>
                  <a:lnTo>
                    <a:pt x="540" y="186"/>
                  </a:lnTo>
                  <a:lnTo>
                    <a:pt x="534" y="188"/>
                  </a:lnTo>
                  <a:lnTo>
                    <a:pt x="527" y="190"/>
                  </a:lnTo>
                  <a:lnTo>
                    <a:pt x="521" y="192"/>
                  </a:lnTo>
                  <a:lnTo>
                    <a:pt x="515" y="193"/>
                  </a:lnTo>
                  <a:lnTo>
                    <a:pt x="508" y="195"/>
                  </a:lnTo>
                  <a:lnTo>
                    <a:pt x="501" y="196"/>
                  </a:lnTo>
                  <a:lnTo>
                    <a:pt x="496" y="197"/>
                  </a:lnTo>
                  <a:lnTo>
                    <a:pt x="489" y="198"/>
                  </a:lnTo>
                  <a:lnTo>
                    <a:pt x="483" y="201"/>
                  </a:lnTo>
                  <a:lnTo>
                    <a:pt x="475" y="201"/>
                  </a:lnTo>
                  <a:lnTo>
                    <a:pt x="469" y="203"/>
                  </a:lnTo>
                  <a:lnTo>
                    <a:pt x="463" y="203"/>
                  </a:lnTo>
                  <a:lnTo>
                    <a:pt x="457" y="204"/>
                  </a:lnTo>
                  <a:lnTo>
                    <a:pt x="450" y="205"/>
                  </a:lnTo>
                  <a:lnTo>
                    <a:pt x="445" y="207"/>
                  </a:lnTo>
                  <a:lnTo>
                    <a:pt x="439" y="207"/>
                  </a:lnTo>
                  <a:lnTo>
                    <a:pt x="433" y="208"/>
                  </a:lnTo>
                  <a:lnTo>
                    <a:pt x="427" y="209"/>
                  </a:lnTo>
                  <a:lnTo>
                    <a:pt x="422" y="209"/>
                  </a:lnTo>
                  <a:lnTo>
                    <a:pt x="416" y="210"/>
                  </a:lnTo>
                  <a:lnTo>
                    <a:pt x="411" y="211"/>
                  </a:lnTo>
                  <a:lnTo>
                    <a:pt x="407" y="211"/>
                  </a:lnTo>
                  <a:lnTo>
                    <a:pt x="402" y="214"/>
                  </a:lnTo>
                  <a:lnTo>
                    <a:pt x="398" y="214"/>
                  </a:lnTo>
                  <a:lnTo>
                    <a:pt x="394" y="215"/>
                  </a:lnTo>
                  <a:lnTo>
                    <a:pt x="390" y="215"/>
                  </a:lnTo>
                  <a:lnTo>
                    <a:pt x="385" y="216"/>
                  </a:lnTo>
                  <a:lnTo>
                    <a:pt x="381" y="216"/>
                  </a:lnTo>
                  <a:lnTo>
                    <a:pt x="376" y="219"/>
                  </a:lnTo>
                  <a:lnTo>
                    <a:pt x="372" y="219"/>
                  </a:lnTo>
                  <a:lnTo>
                    <a:pt x="367" y="220"/>
                  </a:lnTo>
                  <a:lnTo>
                    <a:pt x="361" y="222"/>
                  </a:lnTo>
                  <a:lnTo>
                    <a:pt x="356" y="225"/>
                  </a:lnTo>
                  <a:lnTo>
                    <a:pt x="350" y="226"/>
                  </a:lnTo>
                  <a:lnTo>
                    <a:pt x="344" y="227"/>
                  </a:lnTo>
                  <a:lnTo>
                    <a:pt x="338" y="230"/>
                  </a:lnTo>
                  <a:lnTo>
                    <a:pt x="333" y="231"/>
                  </a:lnTo>
                  <a:lnTo>
                    <a:pt x="326" y="233"/>
                  </a:lnTo>
                  <a:lnTo>
                    <a:pt x="320" y="236"/>
                  </a:lnTo>
                  <a:lnTo>
                    <a:pt x="314" y="238"/>
                  </a:lnTo>
                  <a:lnTo>
                    <a:pt x="308" y="240"/>
                  </a:lnTo>
                  <a:lnTo>
                    <a:pt x="303" y="242"/>
                  </a:lnTo>
                  <a:lnTo>
                    <a:pt x="300" y="243"/>
                  </a:lnTo>
                  <a:lnTo>
                    <a:pt x="297" y="244"/>
                  </a:lnTo>
                  <a:lnTo>
                    <a:pt x="293" y="245"/>
                  </a:lnTo>
                  <a:lnTo>
                    <a:pt x="286" y="248"/>
                  </a:lnTo>
                  <a:lnTo>
                    <a:pt x="280" y="250"/>
                  </a:lnTo>
                  <a:lnTo>
                    <a:pt x="276" y="251"/>
                  </a:lnTo>
                  <a:lnTo>
                    <a:pt x="273" y="253"/>
                  </a:lnTo>
                  <a:lnTo>
                    <a:pt x="269" y="254"/>
                  </a:lnTo>
                  <a:lnTo>
                    <a:pt x="265" y="256"/>
                  </a:lnTo>
                  <a:lnTo>
                    <a:pt x="262" y="257"/>
                  </a:lnTo>
                  <a:lnTo>
                    <a:pt x="258" y="259"/>
                  </a:lnTo>
                  <a:lnTo>
                    <a:pt x="255" y="260"/>
                  </a:lnTo>
                  <a:lnTo>
                    <a:pt x="252" y="262"/>
                  </a:lnTo>
                  <a:lnTo>
                    <a:pt x="248" y="263"/>
                  </a:lnTo>
                  <a:lnTo>
                    <a:pt x="244" y="265"/>
                  </a:lnTo>
                  <a:lnTo>
                    <a:pt x="241" y="266"/>
                  </a:lnTo>
                  <a:lnTo>
                    <a:pt x="238" y="267"/>
                  </a:lnTo>
                  <a:lnTo>
                    <a:pt x="234" y="269"/>
                  </a:lnTo>
                  <a:lnTo>
                    <a:pt x="230" y="271"/>
                  </a:lnTo>
                  <a:lnTo>
                    <a:pt x="227" y="272"/>
                  </a:lnTo>
                  <a:lnTo>
                    <a:pt x="223" y="274"/>
                  </a:lnTo>
                  <a:lnTo>
                    <a:pt x="217" y="277"/>
                  </a:lnTo>
                  <a:lnTo>
                    <a:pt x="210" y="280"/>
                  </a:lnTo>
                  <a:lnTo>
                    <a:pt x="204" y="284"/>
                  </a:lnTo>
                  <a:lnTo>
                    <a:pt x="197" y="288"/>
                  </a:lnTo>
                  <a:lnTo>
                    <a:pt x="191" y="290"/>
                  </a:lnTo>
                  <a:lnTo>
                    <a:pt x="183" y="294"/>
                  </a:lnTo>
                  <a:lnTo>
                    <a:pt x="176" y="296"/>
                  </a:lnTo>
                  <a:lnTo>
                    <a:pt x="171" y="298"/>
                  </a:lnTo>
                  <a:lnTo>
                    <a:pt x="164" y="301"/>
                  </a:lnTo>
                  <a:lnTo>
                    <a:pt x="158" y="304"/>
                  </a:lnTo>
                  <a:lnTo>
                    <a:pt x="152" y="307"/>
                  </a:lnTo>
                  <a:lnTo>
                    <a:pt x="147" y="309"/>
                  </a:lnTo>
                  <a:lnTo>
                    <a:pt x="140" y="312"/>
                  </a:lnTo>
                  <a:lnTo>
                    <a:pt x="135" y="314"/>
                  </a:lnTo>
                  <a:lnTo>
                    <a:pt x="129" y="317"/>
                  </a:lnTo>
                  <a:lnTo>
                    <a:pt x="124" y="319"/>
                  </a:lnTo>
                  <a:lnTo>
                    <a:pt x="118" y="321"/>
                  </a:lnTo>
                  <a:lnTo>
                    <a:pt x="113" y="323"/>
                  </a:lnTo>
                  <a:lnTo>
                    <a:pt x="107" y="325"/>
                  </a:lnTo>
                  <a:lnTo>
                    <a:pt x="104" y="327"/>
                  </a:lnTo>
                  <a:lnTo>
                    <a:pt x="98" y="329"/>
                  </a:lnTo>
                  <a:lnTo>
                    <a:pt x="93" y="330"/>
                  </a:lnTo>
                  <a:lnTo>
                    <a:pt x="88" y="331"/>
                  </a:lnTo>
                  <a:lnTo>
                    <a:pt x="83" y="332"/>
                  </a:lnTo>
                  <a:lnTo>
                    <a:pt x="80" y="333"/>
                  </a:lnTo>
                  <a:lnTo>
                    <a:pt x="75" y="335"/>
                  </a:lnTo>
                  <a:lnTo>
                    <a:pt x="70" y="335"/>
                  </a:lnTo>
                  <a:lnTo>
                    <a:pt x="66" y="336"/>
                  </a:lnTo>
                  <a:lnTo>
                    <a:pt x="61" y="336"/>
                  </a:lnTo>
                  <a:lnTo>
                    <a:pt x="58" y="337"/>
                  </a:lnTo>
                  <a:lnTo>
                    <a:pt x="54" y="338"/>
                  </a:lnTo>
                  <a:lnTo>
                    <a:pt x="51" y="338"/>
                  </a:lnTo>
                  <a:lnTo>
                    <a:pt x="43" y="338"/>
                  </a:lnTo>
                  <a:lnTo>
                    <a:pt x="37" y="338"/>
                  </a:lnTo>
                  <a:lnTo>
                    <a:pt x="34" y="338"/>
                  </a:lnTo>
                  <a:lnTo>
                    <a:pt x="30" y="338"/>
                  </a:lnTo>
                  <a:lnTo>
                    <a:pt x="26" y="338"/>
                  </a:lnTo>
                  <a:lnTo>
                    <a:pt x="24" y="338"/>
                  </a:lnTo>
                  <a:lnTo>
                    <a:pt x="19" y="337"/>
                  </a:lnTo>
                  <a:lnTo>
                    <a:pt x="16" y="337"/>
                  </a:lnTo>
                  <a:lnTo>
                    <a:pt x="12" y="336"/>
                  </a:lnTo>
                  <a:lnTo>
                    <a:pt x="10" y="336"/>
                  </a:lnTo>
                  <a:lnTo>
                    <a:pt x="7" y="336"/>
                  </a:lnTo>
                  <a:lnTo>
                    <a:pt x="6" y="335"/>
                  </a:lnTo>
                  <a:lnTo>
                    <a:pt x="2" y="332"/>
                  </a:lnTo>
                  <a:lnTo>
                    <a:pt x="1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40120" y="2573280"/>
              <a:ext cx="226800" cy="131760"/>
            </a:xfrm>
            <a:custGeom>
              <a:avLst/>
              <a:gdLst/>
              <a:ahLst/>
              <a:rect l="l" t="t" r="r" b="b"/>
              <a:pathLst>
                <a:path w="429" h="249">
                  <a:moveTo>
                    <a:pt x="392" y="0"/>
                  </a:moveTo>
                  <a:lnTo>
                    <a:pt x="388" y="2"/>
                  </a:lnTo>
                  <a:lnTo>
                    <a:pt x="383" y="4"/>
                  </a:lnTo>
                  <a:lnTo>
                    <a:pt x="378" y="5"/>
                  </a:lnTo>
                  <a:lnTo>
                    <a:pt x="372" y="6"/>
                  </a:lnTo>
                  <a:lnTo>
                    <a:pt x="367" y="6"/>
                  </a:lnTo>
                  <a:lnTo>
                    <a:pt x="361" y="8"/>
                  </a:lnTo>
                  <a:lnTo>
                    <a:pt x="355" y="9"/>
                  </a:lnTo>
                  <a:lnTo>
                    <a:pt x="349" y="10"/>
                  </a:lnTo>
                  <a:lnTo>
                    <a:pt x="343" y="10"/>
                  </a:lnTo>
                  <a:lnTo>
                    <a:pt x="336" y="10"/>
                  </a:lnTo>
                  <a:lnTo>
                    <a:pt x="330" y="10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5" y="11"/>
                  </a:lnTo>
                  <a:lnTo>
                    <a:pt x="312" y="11"/>
                  </a:lnTo>
                  <a:lnTo>
                    <a:pt x="309" y="13"/>
                  </a:lnTo>
                  <a:lnTo>
                    <a:pt x="302" y="13"/>
                  </a:lnTo>
                  <a:lnTo>
                    <a:pt x="296" y="14"/>
                  </a:lnTo>
                  <a:lnTo>
                    <a:pt x="291" y="14"/>
                  </a:lnTo>
                  <a:lnTo>
                    <a:pt x="287" y="14"/>
                  </a:lnTo>
                  <a:lnTo>
                    <a:pt x="284" y="14"/>
                  </a:lnTo>
                  <a:lnTo>
                    <a:pt x="280" y="14"/>
                  </a:lnTo>
                  <a:lnTo>
                    <a:pt x="277" y="14"/>
                  </a:lnTo>
                  <a:lnTo>
                    <a:pt x="274" y="14"/>
                  </a:lnTo>
                  <a:lnTo>
                    <a:pt x="269" y="14"/>
                  </a:lnTo>
                  <a:lnTo>
                    <a:pt x="267" y="15"/>
                  </a:lnTo>
                  <a:lnTo>
                    <a:pt x="260" y="15"/>
                  </a:lnTo>
                  <a:lnTo>
                    <a:pt x="254" y="16"/>
                  </a:lnTo>
                  <a:lnTo>
                    <a:pt x="246" y="17"/>
                  </a:lnTo>
                  <a:lnTo>
                    <a:pt x="240" y="19"/>
                  </a:lnTo>
                  <a:lnTo>
                    <a:pt x="233" y="20"/>
                  </a:lnTo>
                  <a:lnTo>
                    <a:pt x="227" y="21"/>
                  </a:lnTo>
                  <a:lnTo>
                    <a:pt x="221" y="23"/>
                  </a:lnTo>
                  <a:lnTo>
                    <a:pt x="216" y="26"/>
                  </a:lnTo>
                  <a:lnTo>
                    <a:pt x="210" y="27"/>
                  </a:lnTo>
                  <a:lnTo>
                    <a:pt x="205" y="31"/>
                  </a:lnTo>
                  <a:lnTo>
                    <a:pt x="199" y="33"/>
                  </a:lnTo>
                  <a:lnTo>
                    <a:pt x="196" y="38"/>
                  </a:lnTo>
                  <a:lnTo>
                    <a:pt x="191" y="40"/>
                  </a:lnTo>
                  <a:lnTo>
                    <a:pt x="187" y="43"/>
                  </a:lnTo>
                  <a:lnTo>
                    <a:pt x="184" y="46"/>
                  </a:lnTo>
                  <a:lnTo>
                    <a:pt x="180" y="50"/>
                  </a:lnTo>
                  <a:lnTo>
                    <a:pt x="175" y="52"/>
                  </a:lnTo>
                  <a:lnTo>
                    <a:pt x="172" y="55"/>
                  </a:lnTo>
                  <a:lnTo>
                    <a:pt x="169" y="57"/>
                  </a:lnTo>
                  <a:lnTo>
                    <a:pt x="166" y="61"/>
                  </a:lnTo>
                  <a:lnTo>
                    <a:pt x="160" y="64"/>
                  </a:lnTo>
                  <a:lnTo>
                    <a:pt x="154" y="69"/>
                  </a:lnTo>
                  <a:lnTo>
                    <a:pt x="148" y="73"/>
                  </a:lnTo>
                  <a:lnTo>
                    <a:pt x="140" y="77"/>
                  </a:lnTo>
                  <a:lnTo>
                    <a:pt x="137" y="78"/>
                  </a:lnTo>
                  <a:lnTo>
                    <a:pt x="133" y="80"/>
                  </a:lnTo>
                  <a:lnTo>
                    <a:pt x="129" y="81"/>
                  </a:lnTo>
                  <a:lnTo>
                    <a:pt x="126" y="83"/>
                  </a:lnTo>
                  <a:lnTo>
                    <a:pt x="122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0" y="87"/>
                  </a:lnTo>
                  <a:lnTo>
                    <a:pt x="104" y="89"/>
                  </a:lnTo>
                  <a:lnTo>
                    <a:pt x="99" y="90"/>
                  </a:lnTo>
                  <a:lnTo>
                    <a:pt x="94" y="91"/>
                  </a:lnTo>
                  <a:lnTo>
                    <a:pt x="90" y="92"/>
                  </a:lnTo>
                  <a:lnTo>
                    <a:pt x="82" y="93"/>
                  </a:lnTo>
                  <a:lnTo>
                    <a:pt x="78" y="95"/>
                  </a:lnTo>
                  <a:lnTo>
                    <a:pt x="70" y="96"/>
                  </a:lnTo>
                  <a:lnTo>
                    <a:pt x="64" y="97"/>
                  </a:lnTo>
                  <a:lnTo>
                    <a:pt x="59" y="97"/>
                  </a:lnTo>
                  <a:lnTo>
                    <a:pt x="56" y="98"/>
                  </a:lnTo>
                  <a:lnTo>
                    <a:pt x="52" y="98"/>
                  </a:lnTo>
                  <a:lnTo>
                    <a:pt x="50" y="100"/>
                  </a:lnTo>
                  <a:lnTo>
                    <a:pt x="44" y="101"/>
                  </a:lnTo>
                  <a:lnTo>
                    <a:pt x="38" y="103"/>
                  </a:lnTo>
                  <a:lnTo>
                    <a:pt x="32" y="104"/>
                  </a:lnTo>
                  <a:lnTo>
                    <a:pt x="27" y="107"/>
                  </a:lnTo>
                  <a:lnTo>
                    <a:pt x="23" y="109"/>
                  </a:lnTo>
                  <a:lnTo>
                    <a:pt x="20" y="112"/>
                  </a:lnTo>
                  <a:lnTo>
                    <a:pt x="15" y="114"/>
                  </a:lnTo>
                  <a:lnTo>
                    <a:pt x="12" y="118"/>
                  </a:lnTo>
                  <a:lnTo>
                    <a:pt x="9" y="120"/>
                  </a:lnTo>
                  <a:lnTo>
                    <a:pt x="8" y="124"/>
                  </a:lnTo>
                  <a:lnTo>
                    <a:pt x="3" y="130"/>
                  </a:lnTo>
                  <a:lnTo>
                    <a:pt x="2" y="137"/>
                  </a:lnTo>
                  <a:lnTo>
                    <a:pt x="0" y="143"/>
                  </a:lnTo>
                  <a:lnTo>
                    <a:pt x="2" y="150"/>
                  </a:lnTo>
                  <a:lnTo>
                    <a:pt x="3" y="156"/>
                  </a:lnTo>
                  <a:lnTo>
                    <a:pt x="8" y="164"/>
                  </a:lnTo>
                  <a:lnTo>
                    <a:pt x="11" y="170"/>
                  </a:lnTo>
                  <a:lnTo>
                    <a:pt x="18" y="176"/>
                  </a:lnTo>
                  <a:lnTo>
                    <a:pt x="22" y="178"/>
                  </a:lnTo>
                  <a:lnTo>
                    <a:pt x="26" y="180"/>
                  </a:lnTo>
                  <a:lnTo>
                    <a:pt x="29" y="183"/>
                  </a:lnTo>
                  <a:lnTo>
                    <a:pt x="34" y="185"/>
                  </a:lnTo>
                  <a:lnTo>
                    <a:pt x="38" y="188"/>
                  </a:lnTo>
                  <a:lnTo>
                    <a:pt x="43" y="189"/>
                  </a:lnTo>
                  <a:lnTo>
                    <a:pt x="45" y="191"/>
                  </a:lnTo>
                  <a:lnTo>
                    <a:pt x="49" y="195"/>
                  </a:lnTo>
                  <a:lnTo>
                    <a:pt x="53" y="200"/>
                  </a:lnTo>
                  <a:lnTo>
                    <a:pt x="58" y="206"/>
                  </a:lnTo>
                  <a:lnTo>
                    <a:pt x="61" y="211"/>
                  </a:lnTo>
                  <a:lnTo>
                    <a:pt x="64" y="217"/>
                  </a:lnTo>
                  <a:lnTo>
                    <a:pt x="67" y="223"/>
                  </a:lnTo>
                  <a:lnTo>
                    <a:pt x="69" y="229"/>
                  </a:lnTo>
                  <a:lnTo>
                    <a:pt x="70" y="232"/>
                  </a:lnTo>
                  <a:lnTo>
                    <a:pt x="73" y="237"/>
                  </a:lnTo>
                  <a:lnTo>
                    <a:pt x="76" y="241"/>
                  </a:lnTo>
                  <a:lnTo>
                    <a:pt x="80" y="245"/>
                  </a:lnTo>
                  <a:lnTo>
                    <a:pt x="84" y="247"/>
                  </a:lnTo>
                  <a:lnTo>
                    <a:pt x="88" y="248"/>
                  </a:lnTo>
                  <a:lnTo>
                    <a:pt x="92" y="248"/>
                  </a:lnTo>
                  <a:lnTo>
                    <a:pt x="94" y="249"/>
                  </a:lnTo>
                  <a:lnTo>
                    <a:pt x="99" y="249"/>
                  </a:lnTo>
                  <a:lnTo>
                    <a:pt x="104" y="249"/>
                  </a:lnTo>
                  <a:lnTo>
                    <a:pt x="108" y="248"/>
                  </a:lnTo>
                  <a:lnTo>
                    <a:pt x="113" y="247"/>
                  </a:lnTo>
                  <a:lnTo>
                    <a:pt x="116" y="246"/>
                  </a:lnTo>
                  <a:lnTo>
                    <a:pt x="121" y="245"/>
                  </a:lnTo>
                  <a:lnTo>
                    <a:pt x="125" y="243"/>
                  </a:lnTo>
                  <a:lnTo>
                    <a:pt x="129" y="242"/>
                  </a:lnTo>
                  <a:lnTo>
                    <a:pt x="133" y="241"/>
                  </a:lnTo>
                  <a:lnTo>
                    <a:pt x="138" y="240"/>
                  </a:lnTo>
                  <a:lnTo>
                    <a:pt x="141" y="237"/>
                  </a:lnTo>
                  <a:lnTo>
                    <a:pt x="146" y="236"/>
                  </a:lnTo>
                  <a:lnTo>
                    <a:pt x="150" y="235"/>
                  </a:lnTo>
                  <a:lnTo>
                    <a:pt x="154" y="234"/>
                  </a:lnTo>
                  <a:lnTo>
                    <a:pt x="158" y="231"/>
                  </a:lnTo>
                  <a:lnTo>
                    <a:pt x="162" y="230"/>
                  </a:lnTo>
                  <a:lnTo>
                    <a:pt x="167" y="229"/>
                  </a:lnTo>
                  <a:lnTo>
                    <a:pt x="172" y="228"/>
                  </a:lnTo>
                  <a:lnTo>
                    <a:pt x="175" y="225"/>
                  </a:lnTo>
                  <a:lnTo>
                    <a:pt x="180" y="223"/>
                  </a:lnTo>
                  <a:lnTo>
                    <a:pt x="184" y="222"/>
                  </a:lnTo>
                  <a:lnTo>
                    <a:pt x="189" y="220"/>
                  </a:lnTo>
                  <a:lnTo>
                    <a:pt x="193" y="218"/>
                  </a:lnTo>
                  <a:lnTo>
                    <a:pt x="198" y="217"/>
                  </a:lnTo>
                  <a:lnTo>
                    <a:pt x="202" y="214"/>
                  </a:lnTo>
                  <a:lnTo>
                    <a:pt x="208" y="213"/>
                  </a:lnTo>
                  <a:lnTo>
                    <a:pt x="213" y="212"/>
                  </a:lnTo>
                  <a:lnTo>
                    <a:pt x="219" y="211"/>
                  </a:lnTo>
                  <a:lnTo>
                    <a:pt x="224" y="209"/>
                  </a:lnTo>
                  <a:lnTo>
                    <a:pt x="230" y="208"/>
                  </a:lnTo>
                  <a:lnTo>
                    <a:pt x="236" y="206"/>
                  </a:lnTo>
                  <a:lnTo>
                    <a:pt x="242" y="206"/>
                  </a:lnTo>
                  <a:lnTo>
                    <a:pt x="248" y="203"/>
                  </a:lnTo>
                  <a:lnTo>
                    <a:pt x="255" y="203"/>
                  </a:lnTo>
                  <a:lnTo>
                    <a:pt x="261" y="201"/>
                  </a:lnTo>
                  <a:lnTo>
                    <a:pt x="268" y="201"/>
                  </a:lnTo>
                  <a:lnTo>
                    <a:pt x="274" y="200"/>
                  </a:lnTo>
                  <a:lnTo>
                    <a:pt x="281" y="200"/>
                  </a:lnTo>
                  <a:lnTo>
                    <a:pt x="287" y="199"/>
                  </a:lnTo>
                  <a:lnTo>
                    <a:pt x="295" y="197"/>
                  </a:lnTo>
                  <a:lnTo>
                    <a:pt x="301" y="197"/>
                  </a:lnTo>
                  <a:lnTo>
                    <a:pt x="308" y="197"/>
                  </a:lnTo>
                  <a:lnTo>
                    <a:pt x="314" y="196"/>
                  </a:lnTo>
                  <a:lnTo>
                    <a:pt x="321" y="196"/>
                  </a:lnTo>
                  <a:lnTo>
                    <a:pt x="326" y="195"/>
                  </a:lnTo>
                  <a:lnTo>
                    <a:pt x="333" y="195"/>
                  </a:lnTo>
                  <a:lnTo>
                    <a:pt x="339" y="194"/>
                  </a:lnTo>
                  <a:lnTo>
                    <a:pt x="345" y="194"/>
                  </a:lnTo>
                  <a:lnTo>
                    <a:pt x="351" y="193"/>
                  </a:lnTo>
                  <a:lnTo>
                    <a:pt x="357" y="193"/>
                  </a:lnTo>
                  <a:lnTo>
                    <a:pt x="362" y="191"/>
                  </a:lnTo>
                  <a:lnTo>
                    <a:pt x="368" y="190"/>
                  </a:lnTo>
                  <a:lnTo>
                    <a:pt x="373" y="189"/>
                  </a:lnTo>
                  <a:lnTo>
                    <a:pt x="379" y="188"/>
                  </a:lnTo>
                  <a:lnTo>
                    <a:pt x="383" y="187"/>
                  </a:lnTo>
                  <a:lnTo>
                    <a:pt x="389" y="185"/>
                  </a:lnTo>
                  <a:lnTo>
                    <a:pt x="392" y="183"/>
                  </a:lnTo>
                  <a:lnTo>
                    <a:pt x="397" y="182"/>
                  </a:lnTo>
                  <a:lnTo>
                    <a:pt x="401" y="179"/>
                  </a:lnTo>
                  <a:lnTo>
                    <a:pt x="404" y="177"/>
                  </a:lnTo>
                  <a:lnTo>
                    <a:pt x="408" y="174"/>
                  </a:lnTo>
                  <a:lnTo>
                    <a:pt x="412" y="172"/>
                  </a:lnTo>
                  <a:lnTo>
                    <a:pt x="414" y="168"/>
                  </a:lnTo>
                  <a:lnTo>
                    <a:pt x="417" y="166"/>
                  </a:lnTo>
                  <a:lnTo>
                    <a:pt x="419" y="162"/>
                  </a:lnTo>
                  <a:lnTo>
                    <a:pt x="421" y="160"/>
                  </a:lnTo>
                  <a:lnTo>
                    <a:pt x="424" y="155"/>
                  </a:lnTo>
                  <a:lnTo>
                    <a:pt x="425" y="151"/>
                  </a:lnTo>
                  <a:lnTo>
                    <a:pt x="425" y="147"/>
                  </a:lnTo>
                  <a:lnTo>
                    <a:pt x="426" y="142"/>
                  </a:lnTo>
                  <a:lnTo>
                    <a:pt x="427" y="137"/>
                  </a:lnTo>
                  <a:lnTo>
                    <a:pt x="427" y="132"/>
                  </a:lnTo>
                  <a:lnTo>
                    <a:pt x="429" y="127"/>
                  </a:lnTo>
                  <a:lnTo>
                    <a:pt x="429" y="122"/>
                  </a:lnTo>
                  <a:lnTo>
                    <a:pt x="429" y="118"/>
                  </a:lnTo>
                  <a:lnTo>
                    <a:pt x="429" y="113"/>
                  </a:lnTo>
                  <a:lnTo>
                    <a:pt x="429" y="108"/>
                  </a:lnTo>
                  <a:lnTo>
                    <a:pt x="429" y="103"/>
                  </a:lnTo>
                  <a:lnTo>
                    <a:pt x="429" y="97"/>
                  </a:lnTo>
                  <a:lnTo>
                    <a:pt x="429" y="92"/>
                  </a:lnTo>
                  <a:lnTo>
                    <a:pt x="427" y="87"/>
                  </a:lnTo>
                  <a:lnTo>
                    <a:pt x="427" y="83"/>
                  </a:lnTo>
                  <a:lnTo>
                    <a:pt x="426" y="77"/>
                  </a:lnTo>
                  <a:lnTo>
                    <a:pt x="426" y="73"/>
                  </a:lnTo>
                  <a:lnTo>
                    <a:pt x="425" y="67"/>
                  </a:lnTo>
                  <a:lnTo>
                    <a:pt x="424" y="63"/>
                  </a:lnTo>
                  <a:lnTo>
                    <a:pt x="423" y="58"/>
                  </a:lnTo>
                  <a:lnTo>
                    <a:pt x="421" y="54"/>
                  </a:lnTo>
                  <a:lnTo>
                    <a:pt x="421" y="50"/>
                  </a:lnTo>
                  <a:lnTo>
                    <a:pt x="420" y="46"/>
                  </a:lnTo>
                  <a:lnTo>
                    <a:pt x="419" y="42"/>
                  </a:lnTo>
                  <a:lnTo>
                    <a:pt x="419" y="38"/>
                  </a:lnTo>
                  <a:lnTo>
                    <a:pt x="418" y="34"/>
                  </a:lnTo>
                  <a:lnTo>
                    <a:pt x="417" y="31"/>
                  </a:lnTo>
                  <a:lnTo>
                    <a:pt x="415" y="26"/>
                  </a:lnTo>
                  <a:lnTo>
                    <a:pt x="414" y="22"/>
                  </a:lnTo>
                  <a:lnTo>
                    <a:pt x="411" y="16"/>
                  </a:lnTo>
                  <a:lnTo>
                    <a:pt x="407" y="10"/>
                  </a:lnTo>
                  <a:lnTo>
                    <a:pt x="403" y="6"/>
                  </a:lnTo>
                  <a:lnTo>
                    <a:pt x="401" y="4"/>
                  </a:lnTo>
                  <a:lnTo>
                    <a:pt x="394" y="2"/>
                  </a:lnTo>
                  <a:lnTo>
                    <a:pt x="392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7600" y="2494080"/>
              <a:ext cx="41040" cy="8244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4" y="8"/>
                  </a:moveTo>
                  <a:lnTo>
                    <a:pt x="1" y="12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9" y="40"/>
                  </a:lnTo>
                  <a:lnTo>
                    <a:pt x="11" y="43"/>
                  </a:lnTo>
                  <a:lnTo>
                    <a:pt x="12" y="48"/>
                  </a:lnTo>
                  <a:lnTo>
                    <a:pt x="15" y="52"/>
                  </a:lnTo>
                  <a:lnTo>
                    <a:pt x="17" y="57"/>
                  </a:lnTo>
                  <a:lnTo>
                    <a:pt x="18" y="61"/>
                  </a:lnTo>
                  <a:lnTo>
                    <a:pt x="19" y="66"/>
                  </a:lnTo>
                  <a:lnTo>
                    <a:pt x="19" y="71"/>
                  </a:lnTo>
                  <a:lnTo>
                    <a:pt x="21" y="76"/>
                  </a:lnTo>
                  <a:lnTo>
                    <a:pt x="19" y="81"/>
                  </a:lnTo>
                  <a:lnTo>
                    <a:pt x="18" y="86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5" y="101"/>
                  </a:lnTo>
                  <a:lnTo>
                    <a:pt x="15" y="107"/>
                  </a:lnTo>
                  <a:lnTo>
                    <a:pt x="13" y="112"/>
                  </a:lnTo>
                  <a:lnTo>
                    <a:pt x="13" y="118"/>
                  </a:lnTo>
                  <a:lnTo>
                    <a:pt x="12" y="122"/>
                  </a:lnTo>
                  <a:lnTo>
                    <a:pt x="12" y="127"/>
                  </a:lnTo>
                  <a:lnTo>
                    <a:pt x="12" y="132"/>
                  </a:lnTo>
                  <a:lnTo>
                    <a:pt x="13" y="135"/>
                  </a:lnTo>
                  <a:lnTo>
                    <a:pt x="15" y="139"/>
                  </a:lnTo>
                  <a:lnTo>
                    <a:pt x="17" y="142"/>
                  </a:lnTo>
                  <a:lnTo>
                    <a:pt x="19" y="145"/>
                  </a:lnTo>
                  <a:lnTo>
                    <a:pt x="23" y="148"/>
                  </a:lnTo>
                  <a:lnTo>
                    <a:pt x="27" y="150"/>
                  </a:lnTo>
                  <a:lnTo>
                    <a:pt x="31" y="152"/>
                  </a:lnTo>
                  <a:lnTo>
                    <a:pt x="35" y="152"/>
                  </a:lnTo>
                  <a:lnTo>
                    <a:pt x="39" y="153"/>
                  </a:lnTo>
                  <a:lnTo>
                    <a:pt x="44" y="154"/>
                  </a:lnTo>
                  <a:lnTo>
                    <a:pt x="47" y="154"/>
                  </a:lnTo>
                  <a:lnTo>
                    <a:pt x="52" y="154"/>
                  </a:lnTo>
                  <a:lnTo>
                    <a:pt x="56" y="156"/>
                  </a:lnTo>
                  <a:lnTo>
                    <a:pt x="59" y="154"/>
                  </a:lnTo>
                  <a:lnTo>
                    <a:pt x="63" y="154"/>
                  </a:lnTo>
                  <a:lnTo>
                    <a:pt x="66" y="153"/>
                  </a:lnTo>
                  <a:lnTo>
                    <a:pt x="69" y="153"/>
                  </a:lnTo>
                  <a:lnTo>
                    <a:pt x="74" y="151"/>
                  </a:lnTo>
                  <a:lnTo>
                    <a:pt x="77" y="147"/>
                  </a:lnTo>
                  <a:lnTo>
                    <a:pt x="76" y="142"/>
                  </a:lnTo>
                  <a:lnTo>
                    <a:pt x="71" y="141"/>
                  </a:lnTo>
                  <a:lnTo>
                    <a:pt x="68" y="140"/>
                  </a:lnTo>
                  <a:lnTo>
                    <a:pt x="65" y="139"/>
                  </a:lnTo>
                  <a:lnTo>
                    <a:pt x="60" y="138"/>
                  </a:lnTo>
                  <a:lnTo>
                    <a:pt x="57" y="138"/>
                  </a:lnTo>
                  <a:lnTo>
                    <a:pt x="52" y="136"/>
                  </a:lnTo>
                  <a:lnTo>
                    <a:pt x="47" y="135"/>
                  </a:lnTo>
                  <a:lnTo>
                    <a:pt x="44" y="134"/>
                  </a:lnTo>
                  <a:lnTo>
                    <a:pt x="41" y="133"/>
                  </a:lnTo>
                  <a:lnTo>
                    <a:pt x="35" y="128"/>
                  </a:lnTo>
                  <a:lnTo>
                    <a:pt x="34" y="122"/>
                  </a:lnTo>
                  <a:lnTo>
                    <a:pt x="34" y="118"/>
                  </a:lnTo>
                  <a:lnTo>
                    <a:pt x="35" y="116"/>
                  </a:lnTo>
                  <a:lnTo>
                    <a:pt x="36" y="112"/>
                  </a:lnTo>
                  <a:lnTo>
                    <a:pt x="39" y="110"/>
                  </a:lnTo>
                  <a:lnTo>
                    <a:pt x="41" y="106"/>
                  </a:lnTo>
                  <a:lnTo>
                    <a:pt x="45" y="103"/>
                  </a:lnTo>
                  <a:lnTo>
                    <a:pt x="46" y="98"/>
                  </a:lnTo>
                  <a:lnTo>
                    <a:pt x="48" y="94"/>
                  </a:lnTo>
                  <a:lnTo>
                    <a:pt x="48" y="90"/>
                  </a:lnTo>
                  <a:lnTo>
                    <a:pt x="50" y="88"/>
                  </a:lnTo>
                  <a:lnTo>
                    <a:pt x="50" y="84"/>
                  </a:lnTo>
                  <a:lnTo>
                    <a:pt x="50" y="81"/>
                  </a:lnTo>
                  <a:lnTo>
                    <a:pt x="47" y="76"/>
                  </a:lnTo>
                  <a:lnTo>
                    <a:pt x="46" y="72"/>
                  </a:lnTo>
                  <a:lnTo>
                    <a:pt x="45" y="68"/>
                  </a:lnTo>
                  <a:lnTo>
                    <a:pt x="42" y="64"/>
                  </a:lnTo>
                  <a:lnTo>
                    <a:pt x="39" y="60"/>
                  </a:lnTo>
                  <a:lnTo>
                    <a:pt x="37" y="55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0" y="45"/>
                  </a:lnTo>
                  <a:lnTo>
                    <a:pt x="27" y="41"/>
                  </a:lnTo>
                  <a:lnTo>
                    <a:pt x="25" y="39"/>
                  </a:lnTo>
                  <a:lnTo>
                    <a:pt x="24" y="36"/>
                  </a:lnTo>
                  <a:lnTo>
                    <a:pt x="22" y="30"/>
                  </a:lnTo>
                  <a:lnTo>
                    <a:pt x="23" y="25"/>
                  </a:lnTo>
                  <a:lnTo>
                    <a:pt x="24" y="19"/>
                  </a:lnTo>
                  <a:lnTo>
                    <a:pt x="23" y="14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71800" y="2371680"/>
              <a:ext cx="200160" cy="150840"/>
            </a:xfrm>
            <a:custGeom>
              <a:avLst/>
              <a:gdLst/>
              <a:ahLst/>
              <a:rect l="l" t="t" r="r" b="b"/>
              <a:pathLst>
                <a:path w="379" h="285">
                  <a:moveTo>
                    <a:pt x="348" y="1"/>
                  </a:moveTo>
                  <a:lnTo>
                    <a:pt x="344" y="0"/>
                  </a:lnTo>
                  <a:lnTo>
                    <a:pt x="341" y="0"/>
                  </a:lnTo>
                  <a:lnTo>
                    <a:pt x="337" y="0"/>
                  </a:lnTo>
                  <a:lnTo>
                    <a:pt x="333" y="1"/>
                  </a:lnTo>
                  <a:lnTo>
                    <a:pt x="330" y="1"/>
                  </a:lnTo>
                  <a:lnTo>
                    <a:pt x="326" y="2"/>
                  </a:lnTo>
                  <a:lnTo>
                    <a:pt x="323" y="2"/>
                  </a:lnTo>
                  <a:lnTo>
                    <a:pt x="320" y="5"/>
                  </a:lnTo>
                  <a:lnTo>
                    <a:pt x="317" y="6"/>
                  </a:lnTo>
                  <a:lnTo>
                    <a:pt x="313" y="7"/>
                  </a:lnTo>
                  <a:lnTo>
                    <a:pt x="309" y="10"/>
                  </a:lnTo>
                  <a:lnTo>
                    <a:pt x="306" y="11"/>
                  </a:lnTo>
                  <a:lnTo>
                    <a:pt x="302" y="13"/>
                  </a:lnTo>
                  <a:lnTo>
                    <a:pt x="298" y="15"/>
                  </a:lnTo>
                  <a:lnTo>
                    <a:pt x="295" y="18"/>
                  </a:lnTo>
                  <a:lnTo>
                    <a:pt x="291" y="21"/>
                  </a:lnTo>
                  <a:lnTo>
                    <a:pt x="286" y="22"/>
                  </a:lnTo>
                  <a:lnTo>
                    <a:pt x="283" y="24"/>
                  </a:lnTo>
                  <a:lnTo>
                    <a:pt x="279" y="27"/>
                  </a:lnTo>
                  <a:lnTo>
                    <a:pt x="276" y="29"/>
                  </a:lnTo>
                  <a:lnTo>
                    <a:pt x="271" y="31"/>
                  </a:lnTo>
                  <a:lnTo>
                    <a:pt x="266" y="34"/>
                  </a:lnTo>
                  <a:lnTo>
                    <a:pt x="262" y="36"/>
                  </a:lnTo>
                  <a:lnTo>
                    <a:pt x="257" y="39"/>
                  </a:lnTo>
                  <a:lnTo>
                    <a:pt x="253" y="41"/>
                  </a:lnTo>
                  <a:lnTo>
                    <a:pt x="249" y="44"/>
                  </a:lnTo>
                  <a:lnTo>
                    <a:pt x="243" y="46"/>
                  </a:lnTo>
                  <a:lnTo>
                    <a:pt x="239" y="48"/>
                  </a:lnTo>
                  <a:lnTo>
                    <a:pt x="233" y="50"/>
                  </a:lnTo>
                  <a:lnTo>
                    <a:pt x="228" y="53"/>
                  </a:lnTo>
                  <a:lnTo>
                    <a:pt x="224" y="54"/>
                  </a:lnTo>
                  <a:lnTo>
                    <a:pt x="219" y="57"/>
                  </a:lnTo>
                  <a:lnTo>
                    <a:pt x="213" y="58"/>
                  </a:lnTo>
                  <a:lnTo>
                    <a:pt x="207" y="60"/>
                  </a:lnTo>
                  <a:lnTo>
                    <a:pt x="201" y="63"/>
                  </a:lnTo>
                  <a:lnTo>
                    <a:pt x="196" y="64"/>
                  </a:lnTo>
                  <a:lnTo>
                    <a:pt x="190" y="67"/>
                  </a:lnTo>
                  <a:lnTo>
                    <a:pt x="184" y="68"/>
                  </a:lnTo>
                  <a:lnTo>
                    <a:pt x="178" y="70"/>
                  </a:lnTo>
                  <a:lnTo>
                    <a:pt x="173" y="71"/>
                  </a:lnTo>
                  <a:lnTo>
                    <a:pt x="167" y="74"/>
                  </a:lnTo>
                  <a:lnTo>
                    <a:pt x="161" y="76"/>
                  </a:lnTo>
                  <a:lnTo>
                    <a:pt x="155" y="77"/>
                  </a:lnTo>
                  <a:lnTo>
                    <a:pt x="150" y="80"/>
                  </a:lnTo>
                  <a:lnTo>
                    <a:pt x="145" y="81"/>
                  </a:lnTo>
                  <a:lnTo>
                    <a:pt x="139" y="83"/>
                  </a:lnTo>
                  <a:lnTo>
                    <a:pt x="134" y="86"/>
                  </a:lnTo>
                  <a:lnTo>
                    <a:pt x="128" y="88"/>
                  </a:lnTo>
                  <a:lnTo>
                    <a:pt x="123" y="89"/>
                  </a:lnTo>
                  <a:lnTo>
                    <a:pt x="117" y="92"/>
                  </a:lnTo>
                  <a:lnTo>
                    <a:pt x="113" y="93"/>
                  </a:lnTo>
                  <a:lnTo>
                    <a:pt x="107" y="96"/>
                  </a:lnTo>
                  <a:lnTo>
                    <a:pt x="102" y="98"/>
                  </a:lnTo>
                  <a:lnTo>
                    <a:pt x="98" y="99"/>
                  </a:lnTo>
                  <a:lnTo>
                    <a:pt x="92" y="102"/>
                  </a:lnTo>
                  <a:lnTo>
                    <a:pt x="89" y="104"/>
                  </a:lnTo>
                  <a:lnTo>
                    <a:pt x="82" y="105"/>
                  </a:lnTo>
                  <a:lnTo>
                    <a:pt x="79" y="108"/>
                  </a:lnTo>
                  <a:lnTo>
                    <a:pt x="74" y="110"/>
                  </a:lnTo>
                  <a:lnTo>
                    <a:pt x="70" y="111"/>
                  </a:lnTo>
                  <a:lnTo>
                    <a:pt x="67" y="114"/>
                  </a:lnTo>
                  <a:lnTo>
                    <a:pt x="63" y="116"/>
                  </a:lnTo>
                  <a:lnTo>
                    <a:pt x="58" y="118"/>
                  </a:lnTo>
                  <a:lnTo>
                    <a:pt x="56" y="121"/>
                  </a:lnTo>
                  <a:lnTo>
                    <a:pt x="49" y="125"/>
                  </a:lnTo>
                  <a:lnTo>
                    <a:pt x="43" y="131"/>
                  </a:lnTo>
                  <a:lnTo>
                    <a:pt x="39" y="134"/>
                  </a:lnTo>
                  <a:lnTo>
                    <a:pt x="37" y="138"/>
                  </a:lnTo>
                  <a:lnTo>
                    <a:pt x="33" y="141"/>
                  </a:lnTo>
                  <a:lnTo>
                    <a:pt x="32" y="146"/>
                  </a:lnTo>
                  <a:lnTo>
                    <a:pt x="28" y="150"/>
                  </a:lnTo>
                  <a:lnTo>
                    <a:pt x="26" y="155"/>
                  </a:lnTo>
                  <a:lnTo>
                    <a:pt x="23" y="160"/>
                  </a:lnTo>
                  <a:lnTo>
                    <a:pt x="22" y="164"/>
                  </a:lnTo>
                  <a:lnTo>
                    <a:pt x="20" y="169"/>
                  </a:lnTo>
                  <a:lnTo>
                    <a:pt x="17" y="174"/>
                  </a:lnTo>
                  <a:lnTo>
                    <a:pt x="15" y="180"/>
                  </a:lnTo>
                  <a:lnTo>
                    <a:pt x="14" y="185"/>
                  </a:lnTo>
                  <a:lnTo>
                    <a:pt x="13" y="191"/>
                  </a:lnTo>
                  <a:lnTo>
                    <a:pt x="10" y="196"/>
                  </a:lnTo>
                  <a:lnTo>
                    <a:pt x="9" y="201"/>
                  </a:lnTo>
                  <a:lnTo>
                    <a:pt x="8" y="207"/>
                  </a:lnTo>
                  <a:lnTo>
                    <a:pt x="6" y="212"/>
                  </a:lnTo>
                  <a:lnTo>
                    <a:pt x="5" y="216"/>
                  </a:lnTo>
                  <a:lnTo>
                    <a:pt x="4" y="222"/>
                  </a:lnTo>
                  <a:lnTo>
                    <a:pt x="3" y="227"/>
                  </a:lnTo>
                  <a:lnTo>
                    <a:pt x="2" y="232"/>
                  </a:lnTo>
                  <a:lnTo>
                    <a:pt x="2" y="237"/>
                  </a:lnTo>
                  <a:lnTo>
                    <a:pt x="0" y="242"/>
                  </a:lnTo>
                  <a:lnTo>
                    <a:pt x="0" y="248"/>
                  </a:lnTo>
                  <a:lnTo>
                    <a:pt x="0" y="251"/>
                  </a:lnTo>
                  <a:lnTo>
                    <a:pt x="0" y="256"/>
                  </a:lnTo>
                  <a:lnTo>
                    <a:pt x="0" y="260"/>
                  </a:lnTo>
                  <a:lnTo>
                    <a:pt x="0" y="265"/>
                  </a:lnTo>
                  <a:lnTo>
                    <a:pt x="0" y="268"/>
                  </a:lnTo>
                  <a:lnTo>
                    <a:pt x="0" y="271"/>
                  </a:lnTo>
                  <a:lnTo>
                    <a:pt x="0" y="273"/>
                  </a:lnTo>
                  <a:lnTo>
                    <a:pt x="3" y="277"/>
                  </a:lnTo>
                  <a:lnTo>
                    <a:pt x="6" y="280"/>
                  </a:lnTo>
                  <a:lnTo>
                    <a:pt x="10" y="283"/>
                  </a:lnTo>
                  <a:lnTo>
                    <a:pt x="15" y="284"/>
                  </a:lnTo>
                  <a:lnTo>
                    <a:pt x="22" y="285"/>
                  </a:lnTo>
                  <a:lnTo>
                    <a:pt x="25" y="284"/>
                  </a:lnTo>
                  <a:lnTo>
                    <a:pt x="29" y="284"/>
                  </a:lnTo>
                  <a:lnTo>
                    <a:pt x="33" y="284"/>
                  </a:lnTo>
                  <a:lnTo>
                    <a:pt x="37" y="284"/>
                  </a:lnTo>
                  <a:lnTo>
                    <a:pt x="40" y="283"/>
                  </a:lnTo>
                  <a:lnTo>
                    <a:pt x="44" y="283"/>
                  </a:lnTo>
                  <a:lnTo>
                    <a:pt x="47" y="282"/>
                  </a:lnTo>
                  <a:lnTo>
                    <a:pt x="52" y="280"/>
                  </a:lnTo>
                  <a:lnTo>
                    <a:pt x="56" y="279"/>
                  </a:lnTo>
                  <a:lnTo>
                    <a:pt x="62" y="278"/>
                  </a:lnTo>
                  <a:lnTo>
                    <a:pt x="66" y="277"/>
                  </a:lnTo>
                  <a:lnTo>
                    <a:pt x="70" y="276"/>
                  </a:lnTo>
                  <a:lnTo>
                    <a:pt x="74" y="274"/>
                  </a:lnTo>
                  <a:lnTo>
                    <a:pt x="79" y="273"/>
                  </a:lnTo>
                  <a:lnTo>
                    <a:pt x="82" y="272"/>
                  </a:lnTo>
                  <a:lnTo>
                    <a:pt x="87" y="271"/>
                  </a:lnTo>
                  <a:lnTo>
                    <a:pt x="91" y="270"/>
                  </a:lnTo>
                  <a:lnTo>
                    <a:pt x="96" y="270"/>
                  </a:lnTo>
                  <a:lnTo>
                    <a:pt x="99" y="268"/>
                  </a:lnTo>
                  <a:lnTo>
                    <a:pt x="104" y="268"/>
                  </a:lnTo>
                  <a:lnTo>
                    <a:pt x="108" y="267"/>
                  </a:lnTo>
                  <a:lnTo>
                    <a:pt x="111" y="267"/>
                  </a:lnTo>
                  <a:lnTo>
                    <a:pt x="115" y="265"/>
                  </a:lnTo>
                  <a:lnTo>
                    <a:pt x="119" y="265"/>
                  </a:lnTo>
                  <a:lnTo>
                    <a:pt x="123" y="263"/>
                  </a:lnTo>
                  <a:lnTo>
                    <a:pt x="127" y="263"/>
                  </a:lnTo>
                  <a:lnTo>
                    <a:pt x="132" y="262"/>
                  </a:lnTo>
                  <a:lnTo>
                    <a:pt x="137" y="262"/>
                  </a:lnTo>
                  <a:lnTo>
                    <a:pt x="140" y="261"/>
                  </a:lnTo>
                  <a:lnTo>
                    <a:pt x="145" y="260"/>
                  </a:lnTo>
                  <a:lnTo>
                    <a:pt x="149" y="259"/>
                  </a:lnTo>
                  <a:lnTo>
                    <a:pt x="154" y="259"/>
                  </a:lnTo>
                  <a:lnTo>
                    <a:pt x="157" y="257"/>
                  </a:lnTo>
                  <a:lnTo>
                    <a:pt x="162" y="256"/>
                  </a:lnTo>
                  <a:lnTo>
                    <a:pt x="166" y="256"/>
                  </a:lnTo>
                  <a:lnTo>
                    <a:pt x="172" y="255"/>
                  </a:lnTo>
                  <a:lnTo>
                    <a:pt x="175" y="254"/>
                  </a:lnTo>
                  <a:lnTo>
                    <a:pt x="180" y="253"/>
                  </a:lnTo>
                  <a:lnTo>
                    <a:pt x="184" y="251"/>
                  </a:lnTo>
                  <a:lnTo>
                    <a:pt x="187" y="251"/>
                  </a:lnTo>
                  <a:lnTo>
                    <a:pt x="192" y="250"/>
                  </a:lnTo>
                  <a:lnTo>
                    <a:pt x="196" y="249"/>
                  </a:lnTo>
                  <a:lnTo>
                    <a:pt x="201" y="248"/>
                  </a:lnTo>
                  <a:lnTo>
                    <a:pt x="206" y="248"/>
                  </a:lnTo>
                  <a:lnTo>
                    <a:pt x="208" y="247"/>
                  </a:lnTo>
                  <a:lnTo>
                    <a:pt x="212" y="245"/>
                  </a:lnTo>
                  <a:lnTo>
                    <a:pt x="216" y="244"/>
                  </a:lnTo>
                  <a:lnTo>
                    <a:pt x="220" y="244"/>
                  </a:lnTo>
                  <a:lnTo>
                    <a:pt x="222" y="242"/>
                  </a:lnTo>
                  <a:lnTo>
                    <a:pt x="227" y="242"/>
                  </a:lnTo>
                  <a:lnTo>
                    <a:pt x="230" y="241"/>
                  </a:lnTo>
                  <a:lnTo>
                    <a:pt x="233" y="239"/>
                  </a:lnTo>
                  <a:lnTo>
                    <a:pt x="237" y="238"/>
                  </a:lnTo>
                  <a:lnTo>
                    <a:pt x="241" y="237"/>
                  </a:lnTo>
                  <a:lnTo>
                    <a:pt x="244" y="237"/>
                  </a:lnTo>
                  <a:lnTo>
                    <a:pt x="248" y="237"/>
                  </a:lnTo>
                  <a:lnTo>
                    <a:pt x="251" y="236"/>
                  </a:lnTo>
                  <a:lnTo>
                    <a:pt x="255" y="236"/>
                  </a:lnTo>
                  <a:lnTo>
                    <a:pt x="260" y="236"/>
                  </a:lnTo>
                  <a:lnTo>
                    <a:pt x="265" y="237"/>
                  </a:lnTo>
                  <a:lnTo>
                    <a:pt x="268" y="237"/>
                  </a:lnTo>
                  <a:lnTo>
                    <a:pt x="274" y="237"/>
                  </a:lnTo>
                  <a:lnTo>
                    <a:pt x="278" y="237"/>
                  </a:lnTo>
                  <a:lnTo>
                    <a:pt x="284" y="237"/>
                  </a:lnTo>
                  <a:lnTo>
                    <a:pt x="289" y="237"/>
                  </a:lnTo>
                  <a:lnTo>
                    <a:pt x="294" y="238"/>
                  </a:lnTo>
                  <a:lnTo>
                    <a:pt x="298" y="238"/>
                  </a:lnTo>
                  <a:lnTo>
                    <a:pt x="304" y="239"/>
                  </a:lnTo>
                  <a:lnTo>
                    <a:pt x="309" y="238"/>
                  </a:lnTo>
                  <a:lnTo>
                    <a:pt x="314" y="238"/>
                  </a:lnTo>
                  <a:lnTo>
                    <a:pt x="319" y="238"/>
                  </a:lnTo>
                  <a:lnTo>
                    <a:pt x="324" y="238"/>
                  </a:lnTo>
                  <a:lnTo>
                    <a:pt x="329" y="238"/>
                  </a:lnTo>
                  <a:lnTo>
                    <a:pt x="332" y="238"/>
                  </a:lnTo>
                  <a:lnTo>
                    <a:pt x="337" y="237"/>
                  </a:lnTo>
                  <a:lnTo>
                    <a:pt x="342" y="237"/>
                  </a:lnTo>
                  <a:lnTo>
                    <a:pt x="345" y="236"/>
                  </a:lnTo>
                  <a:lnTo>
                    <a:pt x="349" y="234"/>
                  </a:lnTo>
                  <a:lnTo>
                    <a:pt x="354" y="232"/>
                  </a:lnTo>
                  <a:lnTo>
                    <a:pt x="358" y="230"/>
                  </a:lnTo>
                  <a:lnTo>
                    <a:pt x="360" y="227"/>
                  </a:lnTo>
                  <a:lnTo>
                    <a:pt x="364" y="226"/>
                  </a:lnTo>
                  <a:lnTo>
                    <a:pt x="367" y="222"/>
                  </a:lnTo>
                  <a:lnTo>
                    <a:pt x="370" y="220"/>
                  </a:lnTo>
                  <a:lnTo>
                    <a:pt x="372" y="216"/>
                  </a:lnTo>
                  <a:lnTo>
                    <a:pt x="373" y="213"/>
                  </a:lnTo>
                  <a:lnTo>
                    <a:pt x="374" y="208"/>
                  </a:lnTo>
                  <a:lnTo>
                    <a:pt x="377" y="205"/>
                  </a:lnTo>
                  <a:lnTo>
                    <a:pt x="377" y="202"/>
                  </a:lnTo>
                  <a:lnTo>
                    <a:pt x="378" y="198"/>
                  </a:lnTo>
                  <a:lnTo>
                    <a:pt x="379" y="195"/>
                  </a:lnTo>
                  <a:lnTo>
                    <a:pt x="379" y="191"/>
                  </a:lnTo>
                  <a:lnTo>
                    <a:pt x="379" y="187"/>
                  </a:lnTo>
                  <a:lnTo>
                    <a:pt x="379" y="184"/>
                  </a:lnTo>
                  <a:lnTo>
                    <a:pt x="378" y="180"/>
                  </a:lnTo>
                  <a:lnTo>
                    <a:pt x="378" y="176"/>
                  </a:lnTo>
                  <a:lnTo>
                    <a:pt x="378" y="173"/>
                  </a:lnTo>
                  <a:lnTo>
                    <a:pt x="377" y="169"/>
                  </a:lnTo>
                  <a:lnTo>
                    <a:pt x="377" y="166"/>
                  </a:lnTo>
                  <a:lnTo>
                    <a:pt x="376" y="162"/>
                  </a:lnTo>
                  <a:lnTo>
                    <a:pt x="374" y="158"/>
                  </a:lnTo>
                  <a:lnTo>
                    <a:pt x="373" y="155"/>
                  </a:lnTo>
                  <a:lnTo>
                    <a:pt x="372" y="151"/>
                  </a:lnTo>
                  <a:lnTo>
                    <a:pt x="371" y="147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8" y="137"/>
                  </a:lnTo>
                  <a:lnTo>
                    <a:pt x="367" y="134"/>
                  </a:lnTo>
                  <a:lnTo>
                    <a:pt x="366" y="131"/>
                  </a:lnTo>
                  <a:lnTo>
                    <a:pt x="366" y="126"/>
                  </a:lnTo>
                  <a:lnTo>
                    <a:pt x="365" y="122"/>
                  </a:lnTo>
                  <a:lnTo>
                    <a:pt x="365" y="120"/>
                  </a:lnTo>
                  <a:lnTo>
                    <a:pt x="362" y="112"/>
                  </a:lnTo>
                  <a:lnTo>
                    <a:pt x="362" y="105"/>
                  </a:lnTo>
                  <a:lnTo>
                    <a:pt x="362" y="102"/>
                  </a:lnTo>
                  <a:lnTo>
                    <a:pt x="362" y="98"/>
                  </a:lnTo>
                  <a:lnTo>
                    <a:pt x="362" y="94"/>
                  </a:lnTo>
                  <a:lnTo>
                    <a:pt x="364" y="91"/>
                  </a:lnTo>
                  <a:lnTo>
                    <a:pt x="365" y="86"/>
                  </a:lnTo>
                  <a:lnTo>
                    <a:pt x="365" y="82"/>
                  </a:lnTo>
                  <a:lnTo>
                    <a:pt x="366" y="79"/>
                  </a:lnTo>
                  <a:lnTo>
                    <a:pt x="367" y="75"/>
                  </a:lnTo>
                  <a:lnTo>
                    <a:pt x="367" y="70"/>
                  </a:lnTo>
                  <a:lnTo>
                    <a:pt x="368" y="67"/>
                  </a:lnTo>
                  <a:lnTo>
                    <a:pt x="368" y="62"/>
                  </a:lnTo>
                  <a:lnTo>
                    <a:pt x="370" y="58"/>
                  </a:lnTo>
                  <a:lnTo>
                    <a:pt x="371" y="54"/>
                  </a:lnTo>
                  <a:lnTo>
                    <a:pt x="371" y="50"/>
                  </a:lnTo>
                  <a:lnTo>
                    <a:pt x="372" y="46"/>
                  </a:lnTo>
                  <a:lnTo>
                    <a:pt x="373" y="42"/>
                  </a:lnTo>
                  <a:lnTo>
                    <a:pt x="373" y="39"/>
                  </a:lnTo>
                  <a:lnTo>
                    <a:pt x="373" y="35"/>
                  </a:lnTo>
                  <a:lnTo>
                    <a:pt x="373" y="31"/>
                  </a:lnTo>
                  <a:lnTo>
                    <a:pt x="373" y="28"/>
                  </a:lnTo>
                  <a:lnTo>
                    <a:pt x="372" y="21"/>
                  </a:lnTo>
                  <a:lnTo>
                    <a:pt x="370" y="16"/>
                  </a:lnTo>
                  <a:lnTo>
                    <a:pt x="366" y="10"/>
                  </a:lnTo>
                  <a:lnTo>
                    <a:pt x="361" y="7"/>
                  </a:lnTo>
                  <a:lnTo>
                    <a:pt x="359" y="5"/>
                  </a:lnTo>
                  <a:lnTo>
                    <a:pt x="356" y="2"/>
                  </a:lnTo>
                  <a:lnTo>
                    <a:pt x="353" y="1"/>
                  </a:lnTo>
                  <a:lnTo>
                    <a:pt x="348" y="1"/>
                  </a:lnTo>
                  <a:lnTo>
                    <a:pt x="348" y="1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55800" y="2209680"/>
              <a:ext cx="479520" cy="446040"/>
            </a:xfrm>
            <a:custGeom>
              <a:avLst/>
              <a:gdLst/>
              <a:ahLst/>
              <a:rect l="l" t="t" r="r" b="b"/>
              <a:pathLst>
                <a:path w="906" h="844">
                  <a:moveTo>
                    <a:pt x="809" y="835"/>
                  </a:moveTo>
                  <a:lnTo>
                    <a:pt x="806" y="830"/>
                  </a:lnTo>
                  <a:lnTo>
                    <a:pt x="806" y="825"/>
                  </a:lnTo>
                  <a:lnTo>
                    <a:pt x="805" y="818"/>
                  </a:lnTo>
                  <a:lnTo>
                    <a:pt x="804" y="813"/>
                  </a:lnTo>
                  <a:lnTo>
                    <a:pt x="804" y="808"/>
                  </a:lnTo>
                  <a:lnTo>
                    <a:pt x="803" y="805"/>
                  </a:lnTo>
                  <a:lnTo>
                    <a:pt x="803" y="801"/>
                  </a:lnTo>
                  <a:lnTo>
                    <a:pt x="803" y="798"/>
                  </a:lnTo>
                  <a:lnTo>
                    <a:pt x="802" y="794"/>
                  </a:lnTo>
                  <a:lnTo>
                    <a:pt x="802" y="790"/>
                  </a:lnTo>
                  <a:lnTo>
                    <a:pt x="802" y="787"/>
                  </a:lnTo>
                  <a:lnTo>
                    <a:pt x="802" y="783"/>
                  </a:lnTo>
                  <a:lnTo>
                    <a:pt x="800" y="779"/>
                  </a:lnTo>
                  <a:lnTo>
                    <a:pt x="800" y="775"/>
                  </a:lnTo>
                  <a:lnTo>
                    <a:pt x="799" y="771"/>
                  </a:lnTo>
                  <a:lnTo>
                    <a:pt x="799" y="767"/>
                  </a:lnTo>
                  <a:lnTo>
                    <a:pt x="799" y="763"/>
                  </a:lnTo>
                  <a:lnTo>
                    <a:pt x="798" y="759"/>
                  </a:lnTo>
                  <a:lnTo>
                    <a:pt x="798" y="755"/>
                  </a:lnTo>
                  <a:lnTo>
                    <a:pt x="798" y="750"/>
                  </a:lnTo>
                  <a:lnTo>
                    <a:pt x="798" y="747"/>
                  </a:lnTo>
                  <a:lnTo>
                    <a:pt x="797" y="743"/>
                  </a:lnTo>
                  <a:lnTo>
                    <a:pt x="797" y="740"/>
                  </a:lnTo>
                  <a:lnTo>
                    <a:pt x="797" y="736"/>
                  </a:lnTo>
                  <a:lnTo>
                    <a:pt x="797" y="732"/>
                  </a:lnTo>
                  <a:lnTo>
                    <a:pt x="797" y="729"/>
                  </a:lnTo>
                  <a:lnTo>
                    <a:pt x="797" y="726"/>
                  </a:lnTo>
                  <a:lnTo>
                    <a:pt x="797" y="724"/>
                  </a:lnTo>
                  <a:lnTo>
                    <a:pt x="797" y="717"/>
                  </a:lnTo>
                  <a:lnTo>
                    <a:pt x="797" y="711"/>
                  </a:lnTo>
                  <a:lnTo>
                    <a:pt x="798" y="705"/>
                  </a:lnTo>
                  <a:lnTo>
                    <a:pt x="798" y="700"/>
                  </a:lnTo>
                  <a:lnTo>
                    <a:pt x="798" y="694"/>
                  </a:lnTo>
                  <a:lnTo>
                    <a:pt x="799" y="688"/>
                  </a:lnTo>
                  <a:lnTo>
                    <a:pt x="799" y="682"/>
                  </a:lnTo>
                  <a:lnTo>
                    <a:pt x="800" y="678"/>
                  </a:lnTo>
                  <a:lnTo>
                    <a:pt x="799" y="672"/>
                  </a:lnTo>
                  <a:lnTo>
                    <a:pt x="799" y="668"/>
                  </a:lnTo>
                  <a:lnTo>
                    <a:pt x="798" y="663"/>
                  </a:lnTo>
                  <a:lnTo>
                    <a:pt x="798" y="660"/>
                  </a:lnTo>
                  <a:lnTo>
                    <a:pt x="793" y="655"/>
                  </a:lnTo>
                  <a:lnTo>
                    <a:pt x="788" y="651"/>
                  </a:lnTo>
                  <a:lnTo>
                    <a:pt x="783" y="650"/>
                  </a:lnTo>
                  <a:lnTo>
                    <a:pt x="777" y="650"/>
                  </a:lnTo>
                  <a:lnTo>
                    <a:pt x="774" y="650"/>
                  </a:lnTo>
                  <a:lnTo>
                    <a:pt x="770" y="650"/>
                  </a:lnTo>
                  <a:lnTo>
                    <a:pt x="765" y="651"/>
                  </a:lnTo>
                  <a:lnTo>
                    <a:pt x="762" y="653"/>
                  </a:lnTo>
                  <a:lnTo>
                    <a:pt x="757" y="653"/>
                  </a:lnTo>
                  <a:lnTo>
                    <a:pt x="752" y="654"/>
                  </a:lnTo>
                  <a:lnTo>
                    <a:pt x="746" y="655"/>
                  </a:lnTo>
                  <a:lnTo>
                    <a:pt x="741" y="656"/>
                  </a:lnTo>
                  <a:lnTo>
                    <a:pt x="735" y="657"/>
                  </a:lnTo>
                  <a:lnTo>
                    <a:pt x="730" y="659"/>
                  </a:lnTo>
                  <a:lnTo>
                    <a:pt x="726" y="660"/>
                  </a:lnTo>
                  <a:lnTo>
                    <a:pt x="719" y="661"/>
                  </a:lnTo>
                  <a:lnTo>
                    <a:pt x="713" y="662"/>
                  </a:lnTo>
                  <a:lnTo>
                    <a:pt x="707" y="663"/>
                  </a:lnTo>
                  <a:lnTo>
                    <a:pt x="703" y="665"/>
                  </a:lnTo>
                  <a:lnTo>
                    <a:pt x="697" y="667"/>
                  </a:lnTo>
                  <a:lnTo>
                    <a:pt x="691" y="668"/>
                  </a:lnTo>
                  <a:lnTo>
                    <a:pt x="685" y="670"/>
                  </a:lnTo>
                  <a:lnTo>
                    <a:pt x="680" y="671"/>
                  </a:lnTo>
                  <a:lnTo>
                    <a:pt x="675" y="673"/>
                  </a:lnTo>
                  <a:lnTo>
                    <a:pt x="669" y="674"/>
                  </a:lnTo>
                  <a:lnTo>
                    <a:pt x="663" y="677"/>
                  </a:lnTo>
                  <a:lnTo>
                    <a:pt x="658" y="678"/>
                  </a:lnTo>
                  <a:lnTo>
                    <a:pt x="653" y="679"/>
                  </a:lnTo>
                  <a:lnTo>
                    <a:pt x="648" y="680"/>
                  </a:lnTo>
                  <a:lnTo>
                    <a:pt x="643" y="682"/>
                  </a:lnTo>
                  <a:lnTo>
                    <a:pt x="640" y="683"/>
                  </a:lnTo>
                  <a:lnTo>
                    <a:pt x="637" y="685"/>
                  </a:lnTo>
                  <a:lnTo>
                    <a:pt x="633" y="685"/>
                  </a:lnTo>
                  <a:lnTo>
                    <a:pt x="628" y="686"/>
                  </a:lnTo>
                  <a:lnTo>
                    <a:pt x="623" y="688"/>
                  </a:lnTo>
                  <a:lnTo>
                    <a:pt x="618" y="689"/>
                  </a:lnTo>
                  <a:lnTo>
                    <a:pt x="613" y="689"/>
                  </a:lnTo>
                  <a:lnTo>
                    <a:pt x="608" y="689"/>
                  </a:lnTo>
                  <a:lnTo>
                    <a:pt x="604" y="690"/>
                  </a:lnTo>
                  <a:lnTo>
                    <a:pt x="598" y="690"/>
                  </a:lnTo>
                  <a:lnTo>
                    <a:pt x="593" y="690"/>
                  </a:lnTo>
                  <a:lnTo>
                    <a:pt x="587" y="691"/>
                  </a:lnTo>
                  <a:lnTo>
                    <a:pt x="581" y="691"/>
                  </a:lnTo>
                  <a:lnTo>
                    <a:pt x="575" y="691"/>
                  </a:lnTo>
                  <a:lnTo>
                    <a:pt x="570" y="691"/>
                  </a:lnTo>
                  <a:lnTo>
                    <a:pt x="564" y="692"/>
                  </a:lnTo>
                  <a:lnTo>
                    <a:pt x="558" y="692"/>
                  </a:lnTo>
                  <a:lnTo>
                    <a:pt x="553" y="694"/>
                  </a:lnTo>
                  <a:lnTo>
                    <a:pt x="547" y="694"/>
                  </a:lnTo>
                  <a:lnTo>
                    <a:pt x="541" y="694"/>
                  </a:lnTo>
                  <a:lnTo>
                    <a:pt x="535" y="694"/>
                  </a:lnTo>
                  <a:lnTo>
                    <a:pt x="530" y="695"/>
                  </a:lnTo>
                  <a:lnTo>
                    <a:pt x="524" y="695"/>
                  </a:lnTo>
                  <a:lnTo>
                    <a:pt x="519" y="696"/>
                  </a:lnTo>
                  <a:lnTo>
                    <a:pt x="513" y="696"/>
                  </a:lnTo>
                  <a:lnTo>
                    <a:pt x="510" y="699"/>
                  </a:lnTo>
                  <a:lnTo>
                    <a:pt x="504" y="700"/>
                  </a:lnTo>
                  <a:lnTo>
                    <a:pt x="500" y="701"/>
                  </a:lnTo>
                  <a:lnTo>
                    <a:pt x="495" y="702"/>
                  </a:lnTo>
                  <a:lnTo>
                    <a:pt x="491" y="703"/>
                  </a:lnTo>
                  <a:lnTo>
                    <a:pt x="488" y="706"/>
                  </a:lnTo>
                  <a:lnTo>
                    <a:pt x="484" y="707"/>
                  </a:lnTo>
                  <a:lnTo>
                    <a:pt x="481" y="709"/>
                  </a:lnTo>
                  <a:lnTo>
                    <a:pt x="478" y="713"/>
                  </a:lnTo>
                  <a:lnTo>
                    <a:pt x="475" y="714"/>
                  </a:lnTo>
                  <a:lnTo>
                    <a:pt x="472" y="717"/>
                  </a:lnTo>
                  <a:lnTo>
                    <a:pt x="467" y="719"/>
                  </a:lnTo>
                  <a:lnTo>
                    <a:pt x="463" y="723"/>
                  </a:lnTo>
                  <a:lnTo>
                    <a:pt x="458" y="724"/>
                  </a:lnTo>
                  <a:lnTo>
                    <a:pt x="453" y="726"/>
                  </a:lnTo>
                  <a:lnTo>
                    <a:pt x="447" y="729"/>
                  </a:lnTo>
                  <a:lnTo>
                    <a:pt x="442" y="732"/>
                  </a:lnTo>
                  <a:lnTo>
                    <a:pt x="435" y="734"/>
                  </a:lnTo>
                  <a:lnTo>
                    <a:pt x="429" y="736"/>
                  </a:lnTo>
                  <a:lnTo>
                    <a:pt x="422" y="738"/>
                  </a:lnTo>
                  <a:lnTo>
                    <a:pt x="415" y="741"/>
                  </a:lnTo>
                  <a:lnTo>
                    <a:pt x="412" y="742"/>
                  </a:lnTo>
                  <a:lnTo>
                    <a:pt x="408" y="743"/>
                  </a:lnTo>
                  <a:lnTo>
                    <a:pt x="405" y="744"/>
                  </a:lnTo>
                  <a:lnTo>
                    <a:pt x="401" y="746"/>
                  </a:lnTo>
                  <a:lnTo>
                    <a:pt x="397" y="747"/>
                  </a:lnTo>
                  <a:lnTo>
                    <a:pt x="395" y="748"/>
                  </a:lnTo>
                  <a:lnTo>
                    <a:pt x="391" y="749"/>
                  </a:lnTo>
                  <a:lnTo>
                    <a:pt x="388" y="750"/>
                  </a:lnTo>
                  <a:lnTo>
                    <a:pt x="384" y="752"/>
                  </a:lnTo>
                  <a:lnTo>
                    <a:pt x="380" y="753"/>
                  </a:lnTo>
                  <a:lnTo>
                    <a:pt x="376" y="753"/>
                  </a:lnTo>
                  <a:lnTo>
                    <a:pt x="372" y="755"/>
                  </a:lnTo>
                  <a:lnTo>
                    <a:pt x="368" y="755"/>
                  </a:lnTo>
                  <a:lnTo>
                    <a:pt x="365" y="757"/>
                  </a:lnTo>
                  <a:lnTo>
                    <a:pt x="361" y="758"/>
                  </a:lnTo>
                  <a:lnTo>
                    <a:pt x="358" y="759"/>
                  </a:lnTo>
                  <a:lnTo>
                    <a:pt x="353" y="759"/>
                  </a:lnTo>
                  <a:lnTo>
                    <a:pt x="349" y="760"/>
                  </a:lnTo>
                  <a:lnTo>
                    <a:pt x="346" y="760"/>
                  </a:lnTo>
                  <a:lnTo>
                    <a:pt x="342" y="761"/>
                  </a:lnTo>
                  <a:lnTo>
                    <a:pt x="338" y="763"/>
                  </a:lnTo>
                  <a:lnTo>
                    <a:pt x="335" y="764"/>
                  </a:lnTo>
                  <a:lnTo>
                    <a:pt x="331" y="764"/>
                  </a:lnTo>
                  <a:lnTo>
                    <a:pt x="327" y="766"/>
                  </a:lnTo>
                  <a:lnTo>
                    <a:pt x="324" y="766"/>
                  </a:lnTo>
                  <a:lnTo>
                    <a:pt x="320" y="766"/>
                  </a:lnTo>
                  <a:lnTo>
                    <a:pt x="317" y="767"/>
                  </a:lnTo>
                  <a:lnTo>
                    <a:pt x="314" y="767"/>
                  </a:lnTo>
                  <a:lnTo>
                    <a:pt x="307" y="769"/>
                  </a:lnTo>
                  <a:lnTo>
                    <a:pt x="301" y="770"/>
                  </a:lnTo>
                  <a:lnTo>
                    <a:pt x="294" y="771"/>
                  </a:lnTo>
                  <a:lnTo>
                    <a:pt x="289" y="771"/>
                  </a:lnTo>
                  <a:lnTo>
                    <a:pt x="283" y="772"/>
                  </a:lnTo>
                  <a:lnTo>
                    <a:pt x="278" y="773"/>
                  </a:lnTo>
                  <a:lnTo>
                    <a:pt x="272" y="773"/>
                  </a:lnTo>
                  <a:lnTo>
                    <a:pt x="267" y="773"/>
                  </a:lnTo>
                  <a:lnTo>
                    <a:pt x="261" y="773"/>
                  </a:lnTo>
                  <a:lnTo>
                    <a:pt x="256" y="775"/>
                  </a:lnTo>
                  <a:lnTo>
                    <a:pt x="250" y="775"/>
                  </a:lnTo>
                  <a:lnTo>
                    <a:pt x="244" y="775"/>
                  </a:lnTo>
                  <a:lnTo>
                    <a:pt x="238" y="775"/>
                  </a:lnTo>
                  <a:lnTo>
                    <a:pt x="233" y="776"/>
                  </a:lnTo>
                  <a:lnTo>
                    <a:pt x="226" y="776"/>
                  </a:lnTo>
                  <a:lnTo>
                    <a:pt x="221" y="777"/>
                  </a:lnTo>
                  <a:lnTo>
                    <a:pt x="214" y="777"/>
                  </a:lnTo>
                  <a:lnTo>
                    <a:pt x="209" y="778"/>
                  </a:lnTo>
                  <a:lnTo>
                    <a:pt x="203" y="778"/>
                  </a:lnTo>
                  <a:lnTo>
                    <a:pt x="197" y="778"/>
                  </a:lnTo>
                  <a:lnTo>
                    <a:pt x="191" y="779"/>
                  </a:lnTo>
                  <a:lnTo>
                    <a:pt x="186" y="779"/>
                  </a:lnTo>
                  <a:lnTo>
                    <a:pt x="179" y="779"/>
                  </a:lnTo>
                  <a:lnTo>
                    <a:pt x="174" y="779"/>
                  </a:lnTo>
                  <a:lnTo>
                    <a:pt x="168" y="781"/>
                  </a:lnTo>
                  <a:lnTo>
                    <a:pt x="163" y="781"/>
                  </a:lnTo>
                  <a:lnTo>
                    <a:pt x="157" y="781"/>
                  </a:lnTo>
                  <a:lnTo>
                    <a:pt x="152" y="782"/>
                  </a:lnTo>
                  <a:lnTo>
                    <a:pt x="146" y="782"/>
                  </a:lnTo>
                  <a:lnTo>
                    <a:pt x="143" y="783"/>
                  </a:lnTo>
                  <a:lnTo>
                    <a:pt x="138" y="783"/>
                  </a:lnTo>
                  <a:lnTo>
                    <a:pt x="133" y="784"/>
                  </a:lnTo>
                  <a:lnTo>
                    <a:pt x="130" y="784"/>
                  </a:lnTo>
                  <a:lnTo>
                    <a:pt x="126" y="786"/>
                  </a:lnTo>
                  <a:lnTo>
                    <a:pt x="121" y="787"/>
                  </a:lnTo>
                  <a:lnTo>
                    <a:pt x="117" y="788"/>
                  </a:lnTo>
                  <a:lnTo>
                    <a:pt x="115" y="789"/>
                  </a:lnTo>
                  <a:lnTo>
                    <a:pt x="113" y="790"/>
                  </a:lnTo>
                  <a:lnTo>
                    <a:pt x="107" y="792"/>
                  </a:lnTo>
                  <a:lnTo>
                    <a:pt x="101" y="794"/>
                  </a:lnTo>
                  <a:lnTo>
                    <a:pt x="95" y="796"/>
                  </a:lnTo>
                  <a:lnTo>
                    <a:pt x="89" y="800"/>
                  </a:lnTo>
                  <a:lnTo>
                    <a:pt x="83" y="801"/>
                  </a:lnTo>
                  <a:lnTo>
                    <a:pt x="75" y="804"/>
                  </a:lnTo>
                  <a:lnTo>
                    <a:pt x="70" y="806"/>
                  </a:lnTo>
                  <a:lnTo>
                    <a:pt x="64" y="808"/>
                  </a:lnTo>
                  <a:lnTo>
                    <a:pt x="60" y="811"/>
                  </a:lnTo>
                  <a:lnTo>
                    <a:pt x="54" y="812"/>
                  </a:lnTo>
                  <a:lnTo>
                    <a:pt x="50" y="813"/>
                  </a:lnTo>
                  <a:lnTo>
                    <a:pt x="46" y="813"/>
                  </a:lnTo>
                  <a:lnTo>
                    <a:pt x="41" y="812"/>
                  </a:lnTo>
                  <a:lnTo>
                    <a:pt x="39" y="811"/>
                  </a:lnTo>
                  <a:lnTo>
                    <a:pt x="37" y="808"/>
                  </a:lnTo>
                  <a:lnTo>
                    <a:pt x="35" y="806"/>
                  </a:lnTo>
                  <a:lnTo>
                    <a:pt x="34" y="802"/>
                  </a:lnTo>
                  <a:lnTo>
                    <a:pt x="33" y="799"/>
                  </a:lnTo>
                  <a:lnTo>
                    <a:pt x="31" y="795"/>
                  </a:lnTo>
                  <a:lnTo>
                    <a:pt x="31" y="792"/>
                  </a:lnTo>
                  <a:lnTo>
                    <a:pt x="29" y="788"/>
                  </a:lnTo>
                  <a:lnTo>
                    <a:pt x="29" y="783"/>
                  </a:lnTo>
                  <a:lnTo>
                    <a:pt x="28" y="779"/>
                  </a:lnTo>
                  <a:lnTo>
                    <a:pt x="28" y="775"/>
                  </a:lnTo>
                  <a:lnTo>
                    <a:pt x="28" y="771"/>
                  </a:lnTo>
                  <a:lnTo>
                    <a:pt x="27" y="766"/>
                  </a:lnTo>
                  <a:lnTo>
                    <a:pt x="27" y="761"/>
                  </a:lnTo>
                  <a:lnTo>
                    <a:pt x="27" y="758"/>
                  </a:lnTo>
                  <a:lnTo>
                    <a:pt x="26" y="753"/>
                  </a:lnTo>
                  <a:lnTo>
                    <a:pt x="26" y="749"/>
                  </a:lnTo>
                  <a:lnTo>
                    <a:pt x="25" y="746"/>
                  </a:lnTo>
                  <a:lnTo>
                    <a:pt x="25" y="741"/>
                  </a:lnTo>
                  <a:lnTo>
                    <a:pt x="23" y="737"/>
                  </a:lnTo>
                  <a:lnTo>
                    <a:pt x="22" y="734"/>
                  </a:lnTo>
                  <a:lnTo>
                    <a:pt x="22" y="729"/>
                  </a:lnTo>
                  <a:lnTo>
                    <a:pt x="23" y="726"/>
                  </a:lnTo>
                  <a:lnTo>
                    <a:pt x="23" y="723"/>
                  </a:lnTo>
                  <a:lnTo>
                    <a:pt x="25" y="719"/>
                  </a:lnTo>
                  <a:lnTo>
                    <a:pt x="26" y="715"/>
                  </a:lnTo>
                  <a:lnTo>
                    <a:pt x="28" y="713"/>
                  </a:lnTo>
                  <a:lnTo>
                    <a:pt x="32" y="707"/>
                  </a:lnTo>
                  <a:lnTo>
                    <a:pt x="38" y="703"/>
                  </a:lnTo>
                  <a:lnTo>
                    <a:pt x="40" y="701"/>
                  </a:lnTo>
                  <a:lnTo>
                    <a:pt x="45" y="700"/>
                  </a:lnTo>
                  <a:lnTo>
                    <a:pt x="49" y="699"/>
                  </a:lnTo>
                  <a:lnTo>
                    <a:pt x="54" y="697"/>
                  </a:lnTo>
                  <a:lnTo>
                    <a:pt x="56" y="696"/>
                  </a:lnTo>
                  <a:lnTo>
                    <a:pt x="58" y="695"/>
                  </a:lnTo>
                  <a:lnTo>
                    <a:pt x="62" y="694"/>
                  </a:lnTo>
                  <a:lnTo>
                    <a:pt x="67" y="694"/>
                  </a:lnTo>
                  <a:lnTo>
                    <a:pt x="72" y="692"/>
                  </a:lnTo>
                  <a:lnTo>
                    <a:pt x="78" y="691"/>
                  </a:lnTo>
                  <a:lnTo>
                    <a:pt x="84" y="690"/>
                  </a:lnTo>
                  <a:lnTo>
                    <a:pt x="90" y="690"/>
                  </a:lnTo>
                  <a:lnTo>
                    <a:pt x="97" y="689"/>
                  </a:lnTo>
                  <a:lnTo>
                    <a:pt x="104" y="688"/>
                  </a:lnTo>
                  <a:lnTo>
                    <a:pt x="108" y="685"/>
                  </a:lnTo>
                  <a:lnTo>
                    <a:pt x="111" y="685"/>
                  </a:lnTo>
                  <a:lnTo>
                    <a:pt x="115" y="684"/>
                  </a:lnTo>
                  <a:lnTo>
                    <a:pt x="119" y="684"/>
                  </a:lnTo>
                  <a:lnTo>
                    <a:pt x="122" y="683"/>
                  </a:lnTo>
                  <a:lnTo>
                    <a:pt x="127" y="683"/>
                  </a:lnTo>
                  <a:lnTo>
                    <a:pt x="131" y="682"/>
                  </a:lnTo>
                  <a:lnTo>
                    <a:pt x="134" y="682"/>
                  </a:lnTo>
                  <a:lnTo>
                    <a:pt x="139" y="682"/>
                  </a:lnTo>
                  <a:lnTo>
                    <a:pt x="143" y="680"/>
                  </a:lnTo>
                  <a:lnTo>
                    <a:pt x="148" y="680"/>
                  </a:lnTo>
                  <a:lnTo>
                    <a:pt x="152" y="680"/>
                  </a:lnTo>
                  <a:lnTo>
                    <a:pt x="156" y="679"/>
                  </a:lnTo>
                  <a:lnTo>
                    <a:pt x="160" y="678"/>
                  </a:lnTo>
                  <a:lnTo>
                    <a:pt x="163" y="678"/>
                  </a:lnTo>
                  <a:lnTo>
                    <a:pt x="168" y="677"/>
                  </a:lnTo>
                  <a:lnTo>
                    <a:pt x="172" y="676"/>
                  </a:lnTo>
                  <a:lnTo>
                    <a:pt x="175" y="676"/>
                  </a:lnTo>
                  <a:lnTo>
                    <a:pt x="179" y="674"/>
                  </a:lnTo>
                  <a:lnTo>
                    <a:pt x="184" y="674"/>
                  </a:lnTo>
                  <a:lnTo>
                    <a:pt x="187" y="673"/>
                  </a:lnTo>
                  <a:lnTo>
                    <a:pt x="191" y="672"/>
                  </a:lnTo>
                  <a:lnTo>
                    <a:pt x="196" y="672"/>
                  </a:lnTo>
                  <a:lnTo>
                    <a:pt x="200" y="671"/>
                  </a:lnTo>
                  <a:lnTo>
                    <a:pt x="203" y="671"/>
                  </a:lnTo>
                  <a:lnTo>
                    <a:pt x="207" y="670"/>
                  </a:lnTo>
                  <a:lnTo>
                    <a:pt x="210" y="670"/>
                  </a:lnTo>
                  <a:lnTo>
                    <a:pt x="214" y="670"/>
                  </a:lnTo>
                  <a:lnTo>
                    <a:pt x="221" y="667"/>
                  </a:lnTo>
                  <a:lnTo>
                    <a:pt x="227" y="667"/>
                  </a:lnTo>
                  <a:lnTo>
                    <a:pt x="233" y="666"/>
                  </a:lnTo>
                  <a:lnTo>
                    <a:pt x="238" y="665"/>
                  </a:lnTo>
                  <a:lnTo>
                    <a:pt x="243" y="663"/>
                  </a:lnTo>
                  <a:lnTo>
                    <a:pt x="248" y="663"/>
                  </a:lnTo>
                  <a:lnTo>
                    <a:pt x="250" y="662"/>
                  </a:lnTo>
                  <a:lnTo>
                    <a:pt x="255" y="662"/>
                  </a:lnTo>
                  <a:lnTo>
                    <a:pt x="256" y="661"/>
                  </a:lnTo>
                  <a:lnTo>
                    <a:pt x="260" y="660"/>
                  </a:lnTo>
                  <a:lnTo>
                    <a:pt x="265" y="659"/>
                  </a:lnTo>
                  <a:lnTo>
                    <a:pt x="270" y="657"/>
                  </a:lnTo>
                  <a:lnTo>
                    <a:pt x="274" y="656"/>
                  </a:lnTo>
                  <a:lnTo>
                    <a:pt x="280" y="654"/>
                  </a:lnTo>
                  <a:lnTo>
                    <a:pt x="283" y="653"/>
                  </a:lnTo>
                  <a:lnTo>
                    <a:pt x="286" y="651"/>
                  </a:lnTo>
                  <a:lnTo>
                    <a:pt x="290" y="650"/>
                  </a:lnTo>
                  <a:lnTo>
                    <a:pt x="294" y="650"/>
                  </a:lnTo>
                  <a:lnTo>
                    <a:pt x="301" y="648"/>
                  </a:lnTo>
                  <a:lnTo>
                    <a:pt x="307" y="645"/>
                  </a:lnTo>
                  <a:lnTo>
                    <a:pt x="312" y="643"/>
                  </a:lnTo>
                  <a:lnTo>
                    <a:pt x="315" y="643"/>
                  </a:lnTo>
                  <a:lnTo>
                    <a:pt x="319" y="641"/>
                  </a:lnTo>
                  <a:lnTo>
                    <a:pt x="324" y="639"/>
                  </a:lnTo>
                  <a:lnTo>
                    <a:pt x="327" y="638"/>
                  </a:lnTo>
                  <a:lnTo>
                    <a:pt x="331" y="637"/>
                  </a:lnTo>
                  <a:lnTo>
                    <a:pt x="336" y="636"/>
                  </a:lnTo>
                  <a:lnTo>
                    <a:pt x="339" y="635"/>
                  </a:lnTo>
                  <a:lnTo>
                    <a:pt x="343" y="633"/>
                  </a:lnTo>
                  <a:lnTo>
                    <a:pt x="348" y="632"/>
                  </a:lnTo>
                  <a:lnTo>
                    <a:pt x="353" y="630"/>
                  </a:lnTo>
                  <a:lnTo>
                    <a:pt x="358" y="630"/>
                  </a:lnTo>
                  <a:lnTo>
                    <a:pt x="361" y="627"/>
                  </a:lnTo>
                  <a:lnTo>
                    <a:pt x="365" y="626"/>
                  </a:lnTo>
                  <a:lnTo>
                    <a:pt x="370" y="625"/>
                  </a:lnTo>
                  <a:lnTo>
                    <a:pt x="373" y="624"/>
                  </a:lnTo>
                  <a:lnTo>
                    <a:pt x="377" y="622"/>
                  </a:lnTo>
                  <a:lnTo>
                    <a:pt x="382" y="621"/>
                  </a:lnTo>
                  <a:lnTo>
                    <a:pt x="385" y="620"/>
                  </a:lnTo>
                  <a:lnTo>
                    <a:pt x="390" y="618"/>
                  </a:lnTo>
                  <a:lnTo>
                    <a:pt x="394" y="616"/>
                  </a:lnTo>
                  <a:lnTo>
                    <a:pt x="397" y="615"/>
                  </a:lnTo>
                  <a:lnTo>
                    <a:pt x="401" y="614"/>
                  </a:lnTo>
                  <a:lnTo>
                    <a:pt x="406" y="613"/>
                  </a:lnTo>
                  <a:lnTo>
                    <a:pt x="409" y="612"/>
                  </a:lnTo>
                  <a:lnTo>
                    <a:pt x="414" y="610"/>
                  </a:lnTo>
                  <a:lnTo>
                    <a:pt x="418" y="609"/>
                  </a:lnTo>
                  <a:lnTo>
                    <a:pt x="422" y="608"/>
                  </a:lnTo>
                  <a:lnTo>
                    <a:pt x="429" y="606"/>
                  </a:lnTo>
                  <a:lnTo>
                    <a:pt x="435" y="603"/>
                  </a:lnTo>
                  <a:lnTo>
                    <a:pt x="442" y="602"/>
                  </a:lnTo>
                  <a:lnTo>
                    <a:pt x="449" y="601"/>
                  </a:lnTo>
                  <a:lnTo>
                    <a:pt x="454" y="598"/>
                  </a:lnTo>
                  <a:lnTo>
                    <a:pt x="460" y="598"/>
                  </a:lnTo>
                  <a:lnTo>
                    <a:pt x="464" y="597"/>
                  </a:lnTo>
                  <a:lnTo>
                    <a:pt x="469" y="597"/>
                  </a:lnTo>
                  <a:lnTo>
                    <a:pt x="472" y="595"/>
                  </a:lnTo>
                  <a:lnTo>
                    <a:pt x="476" y="595"/>
                  </a:lnTo>
                  <a:lnTo>
                    <a:pt x="478" y="593"/>
                  </a:lnTo>
                  <a:lnTo>
                    <a:pt x="483" y="593"/>
                  </a:lnTo>
                  <a:lnTo>
                    <a:pt x="489" y="592"/>
                  </a:lnTo>
                  <a:lnTo>
                    <a:pt x="496" y="592"/>
                  </a:lnTo>
                  <a:lnTo>
                    <a:pt x="501" y="591"/>
                  </a:lnTo>
                  <a:lnTo>
                    <a:pt x="507" y="590"/>
                  </a:lnTo>
                  <a:lnTo>
                    <a:pt x="512" y="589"/>
                  </a:lnTo>
                  <a:lnTo>
                    <a:pt x="518" y="589"/>
                  </a:lnTo>
                  <a:lnTo>
                    <a:pt x="523" y="587"/>
                  </a:lnTo>
                  <a:lnTo>
                    <a:pt x="529" y="586"/>
                  </a:lnTo>
                  <a:lnTo>
                    <a:pt x="535" y="584"/>
                  </a:lnTo>
                  <a:lnTo>
                    <a:pt x="540" y="583"/>
                  </a:lnTo>
                  <a:lnTo>
                    <a:pt x="546" y="581"/>
                  </a:lnTo>
                  <a:lnTo>
                    <a:pt x="553" y="580"/>
                  </a:lnTo>
                  <a:lnTo>
                    <a:pt x="557" y="579"/>
                  </a:lnTo>
                  <a:lnTo>
                    <a:pt x="560" y="578"/>
                  </a:lnTo>
                  <a:lnTo>
                    <a:pt x="564" y="578"/>
                  </a:lnTo>
                  <a:lnTo>
                    <a:pt x="569" y="577"/>
                  </a:lnTo>
                  <a:lnTo>
                    <a:pt x="571" y="575"/>
                  </a:lnTo>
                  <a:lnTo>
                    <a:pt x="575" y="574"/>
                  </a:lnTo>
                  <a:lnTo>
                    <a:pt x="580" y="572"/>
                  </a:lnTo>
                  <a:lnTo>
                    <a:pt x="583" y="572"/>
                  </a:lnTo>
                  <a:lnTo>
                    <a:pt x="589" y="569"/>
                  </a:lnTo>
                  <a:lnTo>
                    <a:pt x="596" y="567"/>
                  </a:lnTo>
                  <a:lnTo>
                    <a:pt x="602" y="563"/>
                  </a:lnTo>
                  <a:lnTo>
                    <a:pt x="608" y="561"/>
                  </a:lnTo>
                  <a:lnTo>
                    <a:pt x="616" y="558"/>
                  </a:lnTo>
                  <a:lnTo>
                    <a:pt x="622" y="556"/>
                  </a:lnTo>
                  <a:lnTo>
                    <a:pt x="628" y="554"/>
                  </a:lnTo>
                  <a:lnTo>
                    <a:pt x="634" y="552"/>
                  </a:lnTo>
                  <a:lnTo>
                    <a:pt x="637" y="551"/>
                  </a:lnTo>
                  <a:lnTo>
                    <a:pt x="640" y="550"/>
                  </a:lnTo>
                  <a:lnTo>
                    <a:pt x="643" y="549"/>
                  </a:lnTo>
                  <a:lnTo>
                    <a:pt x="648" y="549"/>
                  </a:lnTo>
                  <a:lnTo>
                    <a:pt x="651" y="549"/>
                  </a:lnTo>
                  <a:lnTo>
                    <a:pt x="654" y="548"/>
                  </a:lnTo>
                  <a:lnTo>
                    <a:pt x="658" y="548"/>
                  </a:lnTo>
                  <a:lnTo>
                    <a:pt x="663" y="548"/>
                  </a:lnTo>
                  <a:lnTo>
                    <a:pt x="666" y="548"/>
                  </a:lnTo>
                  <a:lnTo>
                    <a:pt x="670" y="548"/>
                  </a:lnTo>
                  <a:lnTo>
                    <a:pt x="675" y="548"/>
                  </a:lnTo>
                  <a:lnTo>
                    <a:pt x="680" y="549"/>
                  </a:lnTo>
                  <a:lnTo>
                    <a:pt x="683" y="549"/>
                  </a:lnTo>
                  <a:lnTo>
                    <a:pt x="688" y="549"/>
                  </a:lnTo>
                  <a:lnTo>
                    <a:pt x="693" y="549"/>
                  </a:lnTo>
                  <a:lnTo>
                    <a:pt x="698" y="550"/>
                  </a:lnTo>
                  <a:lnTo>
                    <a:pt x="701" y="549"/>
                  </a:lnTo>
                  <a:lnTo>
                    <a:pt x="706" y="549"/>
                  </a:lnTo>
                  <a:lnTo>
                    <a:pt x="711" y="549"/>
                  </a:lnTo>
                  <a:lnTo>
                    <a:pt x="716" y="549"/>
                  </a:lnTo>
                  <a:lnTo>
                    <a:pt x="721" y="548"/>
                  </a:lnTo>
                  <a:lnTo>
                    <a:pt x="726" y="548"/>
                  </a:lnTo>
                  <a:lnTo>
                    <a:pt x="729" y="546"/>
                  </a:lnTo>
                  <a:lnTo>
                    <a:pt x="734" y="546"/>
                  </a:lnTo>
                  <a:lnTo>
                    <a:pt x="739" y="545"/>
                  </a:lnTo>
                  <a:lnTo>
                    <a:pt x="744" y="545"/>
                  </a:lnTo>
                  <a:lnTo>
                    <a:pt x="747" y="544"/>
                  </a:lnTo>
                  <a:lnTo>
                    <a:pt x="752" y="543"/>
                  </a:lnTo>
                  <a:lnTo>
                    <a:pt x="756" y="541"/>
                  </a:lnTo>
                  <a:lnTo>
                    <a:pt x="759" y="540"/>
                  </a:lnTo>
                  <a:lnTo>
                    <a:pt x="763" y="538"/>
                  </a:lnTo>
                  <a:lnTo>
                    <a:pt x="767" y="537"/>
                  </a:lnTo>
                  <a:lnTo>
                    <a:pt x="770" y="535"/>
                  </a:lnTo>
                  <a:lnTo>
                    <a:pt x="774" y="534"/>
                  </a:lnTo>
                  <a:lnTo>
                    <a:pt x="777" y="532"/>
                  </a:lnTo>
                  <a:lnTo>
                    <a:pt x="780" y="531"/>
                  </a:lnTo>
                  <a:lnTo>
                    <a:pt x="785" y="527"/>
                  </a:lnTo>
                  <a:lnTo>
                    <a:pt x="789" y="523"/>
                  </a:lnTo>
                  <a:lnTo>
                    <a:pt x="792" y="520"/>
                  </a:lnTo>
                  <a:lnTo>
                    <a:pt x="794" y="516"/>
                  </a:lnTo>
                  <a:lnTo>
                    <a:pt x="794" y="510"/>
                  </a:lnTo>
                  <a:lnTo>
                    <a:pt x="794" y="505"/>
                  </a:lnTo>
                  <a:lnTo>
                    <a:pt x="794" y="502"/>
                  </a:lnTo>
                  <a:lnTo>
                    <a:pt x="794" y="498"/>
                  </a:lnTo>
                  <a:lnTo>
                    <a:pt x="793" y="494"/>
                  </a:lnTo>
                  <a:lnTo>
                    <a:pt x="793" y="491"/>
                  </a:lnTo>
                  <a:lnTo>
                    <a:pt x="792" y="486"/>
                  </a:lnTo>
                  <a:lnTo>
                    <a:pt x="792" y="482"/>
                  </a:lnTo>
                  <a:lnTo>
                    <a:pt x="791" y="477"/>
                  </a:lnTo>
                  <a:lnTo>
                    <a:pt x="791" y="474"/>
                  </a:lnTo>
                  <a:lnTo>
                    <a:pt x="789" y="469"/>
                  </a:lnTo>
                  <a:lnTo>
                    <a:pt x="789" y="465"/>
                  </a:lnTo>
                  <a:lnTo>
                    <a:pt x="788" y="461"/>
                  </a:lnTo>
                  <a:lnTo>
                    <a:pt x="788" y="456"/>
                  </a:lnTo>
                  <a:lnTo>
                    <a:pt x="787" y="451"/>
                  </a:lnTo>
                  <a:lnTo>
                    <a:pt x="787" y="446"/>
                  </a:lnTo>
                  <a:lnTo>
                    <a:pt x="786" y="441"/>
                  </a:lnTo>
                  <a:lnTo>
                    <a:pt x="786" y="438"/>
                  </a:lnTo>
                  <a:lnTo>
                    <a:pt x="785" y="433"/>
                  </a:lnTo>
                  <a:lnTo>
                    <a:pt x="783" y="428"/>
                  </a:lnTo>
                  <a:lnTo>
                    <a:pt x="783" y="423"/>
                  </a:lnTo>
                  <a:lnTo>
                    <a:pt x="783" y="419"/>
                  </a:lnTo>
                  <a:lnTo>
                    <a:pt x="782" y="415"/>
                  </a:lnTo>
                  <a:lnTo>
                    <a:pt x="782" y="410"/>
                  </a:lnTo>
                  <a:lnTo>
                    <a:pt x="782" y="406"/>
                  </a:lnTo>
                  <a:lnTo>
                    <a:pt x="782" y="403"/>
                  </a:lnTo>
                  <a:lnTo>
                    <a:pt x="782" y="399"/>
                  </a:lnTo>
                  <a:lnTo>
                    <a:pt x="782" y="395"/>
                  </a:lnTo>
                  <a:lnTo>
                    <a:pt x="783" y="392"/>
                  </a:lnTo>
                  <a:lnTo>
                    <a:pt x="785" y="389"/>
                  </a:lnTo>
                  <a:lnTo>
                    <a:pt x="786" y="382"/>
                  </a:lnTo>
                  <a:lnTo>
                    <a:pt x="786" y="376"/>
                  </a:lnTo>
                  <a:lnTo>
                    <a:pt x="786" y="372"/>
                  </a:lnTo>
                  <a:lnTo>
                    <a:pt x="787" y="367"/>
                  </a:lnTo>
                  <a:lnTo>
                    <a:pt x="787" y="364"/>
                  </a:lnTo>
                  <a:lnTo>
                    <a:pt x="788" y="361"/>
                  </a:lnTo>
                  <a:lnTo>
                    <a:pt x="788" y="357"/>
                  </a:lnTo>
                  <a:lnTo>
                    <a:pt x="788" y="353"/>
                  </a:lnTo>
                  <a:lnTo>
                    <a:pt x="788" y="349"/>
                  </a:lnTo>
                  <a:lnTo>
                    <a:pt x="788" y="346"/>
                  </a:lnTo>
                  <a:lnTo>
                    <a:pt x="788" y="340"/>
                  </a:lnTo>
                  <a:lnTo>
                    <a:pt x="788" y="332"/>
                  </a:lnTo>
                  <a:lnTo>
                    <a:pt x="787" y="326"/>
                  </a:lnTo>
                  <a:lnTo>
                    <a:pt x="787" y="320"/>
                  </a:lnTo>
                  <a:lnTo>
                    <a:pt x="786" y="314"/>
                  </a:lnTo>
                  <a:lnTo>
                    <a:pt x="783" y="311"/>
                  </a:lnTo>
                  <a:lnTo>
                    <a:pt x="782" y="307"/>
                  </a:lnTo>
                  <a:lnTo>
                    <a:pt x="780" y="305"/>
                  </a:lnTo>
                  <a:lnTo>
                    <a:pt x="777" y="301"/>
                  </a:lnTo>
                  <a:lnTo>
                    <a:pt x="775" y="301"/>
                  </a:lnTo>
                  <a:lnTo>
                    <a:pt x="770" y="301"/>
                  </a:lnTo>
                  <a:lnTo>
                    <a:pt x="765" y="301"/>
                  </a:lnTo>
                  <a:lnTo>
                    <a:pt x="762" y="301"/>
                  </a:lnTo>
                  <a:lnTo>
                    <a:pt x="758" y="301"/>
                  </a:lnTo>
                  <a:lnTo>
                    <a:pt x="754" y="301"/>
                  </a:lnTo>
                  <a:lnTo>
                    <a:pt x="751" y="302"/>
                  </a:lnTo>
                  <a:lnTo>
                    <a:pt x="746" y="302"/>
                  </a:lnTo>
                  <a:lnTo>
                    <a:pt x="741" y="303"/>
                  </a:lnTo>
                  <a:lnTo>
                    <a:pt x="736" y="303"/>
                  </a:lnTo>
                  <a:lnTo>
                    <a:pt x="732" y="305"/>
                  </a:lnTo>
                  <a:lnTo>
                    <a:pt x="727" y="305"/>
                  </a:lnTo>
                  <a:lnTo>
                    <a:pt x="722" y="306"/>
                  </a:lnTo>
                  <a:lnTo>
                    <a:pt x="717" y="307"/>
                  </a:lnTo>
                  <a:lnTo>
                    <a:pt x="711" y="308"/>
                  </a:lnTo>
                  <a:lnTo>
                    <a:pt x="706" y="309"/>
                  </a:lnTo>
                  <a:lnTo>
                    <a:pt x="700" y="311"/>
                  </a:lnTo>
                  <a:lnTo>
                    <a:pt x="695" y="311"/>
                  </a:lnTo>
                  <a:lnTo>
                    <a:pt x="689" y="313"/>
                  </a:lnTo>
                  <a:lnTo>
                    <a:pt x="685" y="314"/>
                  </a:lnTo>
                  <a:lnTo>
                    <a:pt x="680" y="316"/>
                  </a:lnTo>
                  <a:lnTo>
                    <a:pt x="675" y="318"/>
                  </a:lnTo>
                  <a:lnTo>
                    <a:pt x="670" y="319"/>
                  </a:lnTo>
                  <a:lnTo>
                    <a:pt x="664" y="320"/>
                  </a:lnTo>
                  <a:lnTo>
                    <a:pt x="660" y="323"/>
                  </a:lnTo>
                  <a:lnTo>
                    <a:pt x="656" y="325"/>
                  </a:lnTo>
                  <a:lnTo>
                    <a:pt x="652" y="326"/>
                  </a:lnTo>
                  <a:lnTo>
                    <a:pt x="648" y="329"/>
                  </a:lnTo>
                  <a:lnTo>
                    <a:pt x="643" y="331"/>
                  </a:lnTo>
                  <a:lnTo>
                    <a:pt x="641" y="334"/>
                  </a:lnTo>
                  <a:lnTo>
                    <a:pt x="639" y="336"/>
                  </a:lnTo>
                  <a:lnTo>
                    <a:pt x="635" y="338"/>
                  </a:lnTo>
                  <a:lnTo>
                    <a:pt x="630" y="341"/>
                  </a:lnTo>
                  <a:lnTo>
                    <a:pt x="625" y="342"/>
                  </a:lnTo>
                  <a:lnTo>
                    <a:pt x="621" y="345"/>
                  </a:lnTo>
                  <a:lnTo>
                    <a:pt x="615" y="347"/>
                  </a:lnTo>
                  <a:lnTo>
                    <a:pt x="608" y="349"/>
                  </a:lnTo>
                  <a:lnTo>
                    <a:pt x="605" y="349"/>
                  </a:lnTo>
                  <a:lnTo>
                    <a:pt x="601" y="351"/>
                  </a:lnTo>
                  <a:lnTo>
                    <a:pt x="598" y="352"/>
                  </a:lnTo>
                  <a:lnTo>
                    <a:pt x="594" y="353"/>
                  </a:lnTo>
                  <a:lnTo>
                    <a:pt x="590" y="354"/>
                  </a:lnTo>
                  <a:lnTo>
                    <a:pt x="586" y="355"/>
                  </a:lnTo>
                  <a:lnTo>
                    <a:pt x="581" y="355"/>
                  </a:lnTo>
                  <a:lnTo>
                    <a:pt x="577" y="357"/>
                  </a:lnTo>
                  <a:lnTo>
                    <a:pt x="572" y="358"/>
                  </a:lnTo>
                  <a:lnTo>
                    <a:pt x="569" y="359"/>
                  </a:lnTo>
                  <a:lnTo>
                    <a:pt x="564" y="360"/>
                  </a:lnTo>
                  <a:lnTo>
                    <a:pt x="560" y="361"/>
                  </a:lnTo>
                  <a:lnTo>
                    <a:pt x="555" y="361"/>
                  </a:lnTo>
                  <a:lnTo>
                    <a:pt x="551" y="363"/>
                  </a:lnTo>
                  <a:lnTo>
                    <a:pt x="546" y="364"/>
                  </a:lnTo>
                  <a:lnTo>
                    <a:pt x="541" y="365"/>
                  </a:lnTo>
                  <a:lnTo>
                    <a:pt x="536" y="365"/>
                  </a:lnTo>
                  <a:lnTo>
                    <a:pt x="531" y="366"/>
                  </a:lnTo>
                  <a:lnTo>
                    <a:pt x="526" y="367"/>
                  </a:lnTo>
                  <a:lnTo>
                    <a:pt x="523" y="370"/>
                  </a:lnTo>
                  <a:lnTo>
                    <a:pt x="517" y="370"/>
                  </a:lnTo>
                  <a:lnTo>
                    <a:pt x="512" y="371"/>
                  </a:lnTo>
                  <a:lnTo>
                    <a:pt x="507" y="372"/>
                  </a:lnTo>
                  <a:lnTo>
                    <a:pt x="502" y="374"/>
                  </a:lnTo>
                  <a:lnTo>
                    <a:pt x="498" y="374"/>
                  </a:lnTo>
                  <a:lnTo>
                    <a:pt x="493" y="375"/>
                  </a:lnTo>
                  <a:lnTo>
                    <a:pt x="488" y="376"/>
                  </a:lnTo>
                  <a:lnTo>
                    <a:pt x="483" y="377"/>
                  </a:lnTo>
                  <a:lnTo>
                    <a:pt x="477" y="377"/>
                  </a:lnTo>
                  <a:lnTo>
                    <a:pt x="473" y="378"/>
                  </a:lnTo>
                  <a:lnTo>
                    <a:pt x="467" y="380"/>
                  </a:lnTo>
                  <a:lnTo>
                    <a:pt x="464" y="381"/>
                  </a:lnTo>
                  <a:lnTo>
                    <a:pt x="458" y="382"/>
                  </a:lnTo>
                  <a:lnTo>
                    <a:pt x="454" y="383"/>
                  </a:lnTo>
                  <a:lnTo>
                    <a:pt x="449" y="383"/>
                  </a:lnTo>
                  <a:lnTo>
                    <a:pt x="446" y="384"/>
                  </a:lnTo>
                  <a:lnTo>
                    <a:pt x="441" y="386"/>
                  </a:lnTo>
                  <a:lnTo>
                    <a:pt x="436" y="387"/>
                  </a:lnTo>
                  <a:lnTo>
                    <a:pt x="431" y="387"/>
                  </a:lnTo>
                  <a:lnTo>
                    <a:pt x="428" y="388"/>
                  </a:lnTo>
                  <a:lnTo>
                    <a:pt x="424" y="389"/>
                  </a:lnTo>
                  <a:lnTo>
                    <a:pt x="420" y="390"/>
                  </a:lnTo>
                  <a:lnTo>
                    <a:pt x="417" y="392"/>
                  </a:lnTo>
                  <a:lnTo>
                    <a:pt x="412" y="393"/>
                  </a:lnTo>
                  <a:lnTo>
                    <a:pt x="408" y="394"/>
                  </a:lnTo>
                  <a:lnTo>
                    <a:pt x="405" y="395"/>
                  </a:lnTo>
                  <a:lnTo>
                    <a:pt x="401" y="396"/>
                  </a:lnTo>
                  <a:lnTo>
                    <a:pt x="399" y="398"/>
                  </a:lnTo>
                  <a:lnTo>
                    <a:pt x="393" y="400"/>
                  </a:lnTo>
                  <a:lnTo>
                    <a:pt x="388" y="403"/>
                  </a:lnTo>
                  <a:lnTo>
                    <a:pt x="382" y="405"/>
                  </a:lnTo>
                  <a:lnTo>
                    <a:pt x="376" y="407"/>
                  </a:lnTo>
                  <a:lnTo>
                    <a:pt x="371" y="410"/>
                  </a:lnTo>
                  <a:lnTo>
                    <a:pt x="365" y="412"/>
                  </a:lnTo>
                  <a:lnTo>
                    <a:pt x="359" y="416"/>
                  </a:lnTo>
                  <a:lnTo>
                    <a:pt x="352" y="418"/>
                  </a:lnTo>
                  <a:lnTo>
                    <a:pt x="346" y="421"/>
                  </a:lnTo>
                  <a:lnTo>
                    <a:pt x="339" y="424"/>
                  </a:lnTo>
                  <a:lnTo>
                    <a:pt x="336" y="425"/>
                  </a:lnTo>
                  <a:lnTo>
                    <a:pt x="332" y="427"/>
                  </a:lnTo>
                  <a:lnTo>
                    <a:pt x="329" y="428"/>
                  </a:lnTo>
                  <a:lnTo>
                    <a:pt x="325" y="430"/>
                  </a:lnTo>
                  <a:lnTo>
                    <a:pt x="321" y="432"/>
                  </a:lnTo>
                  <a:lnTo>
                    <a:pt x="318" y="433"/>
                  </a:lnTo>
                  <a:lnTo>
                    <a:pt x="314" y="434"/>
                  </a:lnTo>
                  <a:lnTo>
                    <a:pt x="312" y="436"/>
                  </a:lnTo>
                  <a:lnTo>
                    <a:pt x="307" y="438"/>
                  </a:lnTo>
                  <a:lnTo>
                    <a:pt x="304" y="439"/>
                  </a:lnTo>
                  <a:lnTo>
                    <a:pt x="301" y="440"/>
                  </a:lnTo>
                  <a:lnTo>
                    <a:pt x="297" y="442"/>
                  </a:lnTo>
                  <a:lnTo>
                    <a:pt x="290" y="445"/>
                  </a:lnTo>
                  <a:lnTo>
                    <a:pt x="284" y="448"/>
                  </a:lnTo>
                  <a:lnTo>
                    <a:pt x="280" y="450"/>
                  </a:lnTo>
                  <a:lnTo>
                    <a:pt x="277" y="451"/>
                  </a:lnTo>
                  <a:lnTo>
                    <a:pt x="273" y="452"/>
                  </a:lnTo>
                  <a:lnTo>
                    <a:pt x="270" y="453"/>
                  </a:lnTo>
                  <a:lnTo>
                    <a:pt x="266" y="454"/>
                  </a:lnTo>
                  <a:lnTo>
                    <a:pt x="262" y="456"/>
                  </a:lnTo>
                  <a:lnTo>
                    <a:pt x="259" y="457"/>
                  </a:lnTo>
                  <a:lnTo>
                    <a:pt x="256" y="459"/>
                  </a:lnTo>
                  <a:lnTo>
                    <a:pt x="249" y="462"/>
                  </a:lnTo>
                  <a:lnTo>
                    <a:pt x="243" y="464"/>
                  </a:lnTo>
                  <a:lnTo>
                    <a:pt x="236" y="467"/>
                  </a:lnTo>
                  <a:lnTo>
                    <a:pt x="230" y="469"/>
                  </a:lnTo>
                  <a:lnTo>
                    <a:pt x="222" y="470"/>
                  </a:lnTo>
                  <a:lnTo>
                    <a:pt x="216" y="473"/>
                  </a:lnTo>
                  <a:lnTo>
                    <a:pt x="210" y="474"/>
                  </a:lnTo>
                  <a:lnTo>
                    <a:pt x="206" y="476"/>
                  </a:lnTo>
                  <a:lnTo>
                    <a:pt x="200" y="477"/>
                  </a:lnTo>
                  <a:lnTo>
                    <a:pt x="195" y="479"/>
                  </a:lnTo>
                  <a:lnTo>
                    <a:pt x="189" y="480"/>
                  </a:lnTo>
                  <a:lnTo>
                    <a:pt x="185" y="481"/>
                  </a:lnTo>
                  <a:lnTo>
                    <a:pt x="179" y="481"/>
                  </a:lnTo>
                  <a:lnTo>
                    <a:pt x="174" y="483"/>
                  </a:lnTo>
                  <a:lnTo>
                    <a:pt x="168" y="483"/>
                  </a:lnTo>
                  <a:lnTo>
                    <a:pt x="163" y="486"/>
                  </a:lnTo>
                  <a:lnTo>
                    <a:pt x="156" y="487"/>
                  </a:lnTo>
                  <a:lnTo>
                    <a:pt x="151" y="488"/>
                  </a:lnTo>
                  <a:lnTo>
                    <a:pt x="145" y="491"/>
                  </a:lnTo>
                  <a:lnTo>
                    <a:pt x="139" y="492"/>
                  </a:lnTo>
                  <a:lnTo>
                    <a:pt x="132" y="494"/>
                  </a:lnTo>
                  <a:lnTo>
                    <a:pt x="127" y="497"/>
                  </a:lnTo>
                  <a:lnTo>
                    <a:pt x="120" y="498"/>
                  </a:lnTo>
                  <a:lnTo>
                    <a:pt x="114" y="500"/>
                  </a:lnTo>
                  <a:lnTo>
                    <a:pt x="108" y="502"/>
                  </a:lnTo>
                  <a:lnTo>
                    <a:pt x="101" y="505"/>
                  </a:lnTo>
                  <a:lnTo>
                    <a:pt x="96" y="506"/>
                  </a:lnTo>
                  <a:lnTo>
                    <a:pt x="90" y="509"/>
                  </a:lnTo>
                  <a:lnTo>
                    <a:pt x="84" y="510"/>
                  </a:lnTo>
                  <a:lnTo>
                    <a:pt x="76" y="512"/>
                  </a:lnTo>
                  <a:lnTo>
                    <a:pt x="72" y="514"/>
                  </a:lnTo>
                  <a:lnTo>
                    <a:pt x="66" y="516"/>
                  </a:lnTo>
                  <a:lnTo>
                    <a:pt x="60" y="517"/>
                  </a:lnTo>
                  <a:lnTo>
                    <a:pt x="55" y="520"/>
                  </a:lnTo>
                  <a:lnTo>
                    <a:pt x="50" y="521"/>
                  </a:lnTo>
                  <a:lnTo>
                    <a:pt x="46" y="522"/>
                  </a:lnTo>
                  <a:lnTo>
                    <a:pt x="40" y="523"/>
                  </a:lnTo>
                  <a:lnTo>
                    <a:pt x="37" y="523"/>
                  </a:lnTo>
                  <a:lnTo>
                    <a:pt x="33" y="525"/>
                  </a:lnTo>
                  <a:lnTo>
                    <a:pt x="29" y="526"/>
                  </a:lnTo>
                  <a:lnTo>
                    <a:pt x="25" y="526"/>
                  </a:lnTo>
                  <a:lnTo>
                    <a:pt x="21" y="527"/>
                  </a:lnTo>
                  <a:lnTo>
                    <a:pt x="14" y="525"/>
                  </a:lnTo>
                  <a:lnTo>
                    <a:pt x="9" y="522"/>
                  </a:lnTo>
                  <a:lnTo>
                    <a:pt x="4" y="520"/>
                  </a:lnTo>
                  <a:lnTo>
                    <a:pt x="3" y="516"/>
                  </a:lnTo>
                  <a:lnTo>
                    <a:pt x="0" y="511"/>
                  </a:lnTo>
                  <a:lnTo>
                    <a:pt x="2" y="506"/>
                  </a:lnTo>
                  <a:lnTo>
                    <a:pt x="2" y="503"/>
                  </a:lnTo>
                  <a:lnTo>
                    <a:pt x="3" y="499"/>
                  </a:lnTo>
                  <a:lnTo>
                    <a:pt x="5" y="496"/>
                  </a:lnTo>
                  <a:lnTo>
                    <a:pt x="8" y="492"/>
                  </a:lnTo>
                  <a:lnTo>
                    <a:pt x="10" y="488"/>
                  </a:lnTo>
                  <a:lnTo>
                    <a:pt x="13" y="485"/>
                  </a:lnTo>
                  <a:lnTo>
                    <a:pt x="16" y="481"/>
                  </a:lnTo>
                  <a:lnTo>
                    <a:pt x="20" y="480"/>
                  </a:lnTo>
                  <a:lnTo>
                    <a:pt x="23" y="476"/>
                  </a:lnTo>
                  <a:lnTo>
                    <a:pt x="28" y="475"/>
                  </a:lnTo>
                  <a:lnTo>
                    <a:pt x="33" y="473"/>
                  </a:lnTo>
                  <a:lnTo>
                    <a:pt x="39" y="471"/>
                  </a:lnTo>
                  <a:lnTo>
                    <a:pt x="43" y="468"/>
                  </a:lnTo>
                  <a:lnTo>
                    <a:pt x="49" y="465"/>
                  </a:lnTo>
                  <a:lnTo>
                    <a:pt x="54" y="463"/>
                  </a:lnTo>
                  <a:lnTo>
                    <a:pt x="60" y="461"/>
                  </a:lnTo>
                  <a:lnTo>
                    <a:pt x="64" y="457"/>
                  </a:lnTo>
                  <a:lnTo>
                    <a:pt x="70" y="454"/>
                  </a:lnTo>
                  <a:lnTo>
                    <a:pt x="76" y="450"/>
                  </a:lnTo>
                  <a:lnTo>
                    <a:pt x="83" y="446"/>
                  </a:lnTo>
                  <a:lnTo>
                    <a:pt x="87" y="441"/>
                  </a:lnTo>
                  <a:lnTo>
                    <a:pt x="93" y="438"/>
                  </a:lnTo>
                  <a:lnTo>
                    <a:pt x="96" y="435"/>
                  </a:lnTo>
                  <a:lnTo>
                    <a:pt x="99" y="433"/>
                  </a:lnTo>
                  <a:lnTo>
                    <a:pt x="103" y="432"/>
                  </a:lnTo>
                  <a:lnTo>
                    <a:pt x="107" y="430"/>
                  </a:lnTo>
                  <a:lnTo>
                    <a:pt x="110" y="428"/>
                  </a:lnTo>
                  <a:lnTo>
                    <a:pt x="114" y="427"/>
                  </a:lnTo>
                  <a:lnTo>
                    <a:pt x="117" y="425"/>
                  </a:lnTo>
                  <a:lnTo>
                    <a:pt x="122" y="423"/>
                  </a:lnTo>
                  <a:lnTo>
                    <a:pt x="126" y="422"/>
                  </a:lnTo>
                  <a:lnTo>
                    <a:pt x="131" y="419"/>
                  </a:lnTo>
                  <a:lnTo>
                    <a:pt x="134" y="418"/>
                  </a:lnTo>
                  <a:lnTo>
                    <a:pt x="140" y="417"/>
                  </a:lnTo>
                  <a:lnTo>
                    <a:pt x="144" y="416"/>
                  </a:lnTo>
                  <a:lnTo>
                    <a:pt x="149" y="413"/>
                  </a:lnTo>
                  <a:lnTo>
                    <a:pt x="154" y="411"/>
                  </a:lnTo>
                  <a:lnTo>
                    <a:pt x="159" y="410"/>
                  </a:lnTo>
                  <a:lnTo>
                    <a:pt x="163" y="407"/>
                  </a:lnTo>
                  <a:lnTo>
                    <a:pt x="168" y="406"/>
                  </a:lnTo>
                  <a:lnTo>
                    <a:pt x="174" y="404"/>
                  </a:lnTo>
                  <a:lnTo>
                    <a:pt x="179" y="401"/>
                  </a:lnTo>
                  <a:lnTo>
                    <a:pt x="185" y="399"/>
                  </a:lnTo>
                  <a:lnTo>
                    <a:pt x="190" y="396"/>
                  </a:lnTo>
                  <a:lnTo>
                    <a:pt x="196" y="394"/>
                  </a:lnTo>
                  <a:lnTo>
                    <a:pt x="201" y="393"/>
                  </a:lnTo>
                  <a:lnTo>
                    <a:pt x="207" y="389"/>
                  </a:lnTo>
                  <a:lnTo>
                    <a:pt x="213" y="387"/>
                  </a:lnTo>
                  <a:lnTo>
                    <a:pt x="219" y="383"/>
                  </a:lnTo>
                  <a:lnTo>
                    <a:pt x="225" y="381"/>
                  </a:lnTo>
                  <a:lnTo>
                    <a:pt x="231" y="377"/>
                  </a:lnTo>
                  <a:lnTo>
                    <a:pt x="236" y="374"/>
                  </a:lnTo>
                  <a:lnTo>
                    <a:pt x="243" y="371"/>
                  </a:lnTo>
                  <a:lnTo>
                    <a:pt x="249" y="367"/>
                  </a:lnTo>
                  <a:lnTo>
                    <a:pt x="255" y="364"/>
                  </a:lnTo>
                  <a:lnTo>
                    <a:pt x="260" y="361"/>
                  </a:lnTo>
                  <a:lnTo>
                    <a:pt x="267" y="359"/>
                  </a:lnTo>
                  <a:lnTo>
                    <a:pt x="273" y="357"/>
                  </a:lnTo>
                  <a:lnTo>
                    <a:pt x="279" y="354"/>
                  </a:lnTo>
                  <a:lnTo>
                    <a:pt x="285" y="352"/>
                  </a:lnTo>
                  <a:lnTo>
                    <a:pt x="291" y="349"/>
                  </a:lnTo>
                  <a:lnTo>
                    <a:pt x="297" y="348"/>
                  </a:lnTo>
                  <a:lnTo>
                    <a:pt x="303" y="346"/>
                  </a:lnTo>
                  <a:lnTo>
                    <a:pt x="308" y="343"/>
                  </a:lnTo>
                  <a:lnTo>
                    <a:pt x="314" y="342"/>
                  </a:lnTo>
                  <a:lnTo>
                    <a:pt x="320" y="341"/>
                  </a:lnTo>
                  <a:lnTo>
                    <a:pt x="325" y="338"/>
                  </a:lnTo>
                  <a:lnTo>
                    <a:pt x="330" y="337"/>
                  </a:lnTo>
                  <a:lnTo>
                    <a:pt x="336" y="335"/>
                  </a:lnTo>
                  <a:lnTo>
                    <a:pt x="341" y="334"/>
                  </a:lnTo>
                  <a:lnTo>
                    <a:pt x="346" y="332"/>
                  </a:lnTo>
                  <a:lnTo>
                    <a:pt x="350" y="331"/>
                  </a:lnTo>
                  <a:lnTo>
                    <a:pt x="355" y="330"/>
                  </a:lnTo>
                  <a:lnTo>
                    <a:pt x="361" y="330"/>
                  </a:lnTo>
                  <a:lnTo>
                    <a:pt x="365" y="329"/>
                  </a:lnTo>
                  <a:lnTo>
                    <a:pt x="370" y="328"/>
                  </a:lnTo>
                  <a:lnTo>
                    <a:pt x="373" y="326"/>
                  </a:lnTo>
                  <a:lnTo>
                    <a:pt x="378" y="326"/>
                  </a:lnTo>
                  <a:lnTo>
                    <a:pt x="382" y="326"/>
                  </a:lnTo>
                  <a:lnTo>
                    <a:pt x="385" y="325"/>
                  </a:lnTo>
                  <a:lnTo>
                    <a:pt x="389" y="325"/>
                  </a:lnTo>
                  <a:lnTo>
                    <a:pt x="393" y="325"/>
                  </a:lnTo>
                  <a:lnTo>
                    <a:pt x="397" y="324"/>
                  </a:lnTo>
                  <a:lnTo>
                    <a:pt x="403" y="323"/>
                  </a:lnTo>
                  <a:lnTo>
                    <a:pt x="407" y="320"/>
                  </a:lnTo>
                  <a:lnTo>
                    <a:pt x="412" y="319"/>
                  </a:lnTo>
                  <a:lnTo>
                    <a:pt x="418" y="313"/>
                  </a:lnTo>
                  <a:lnTo>
                    <a:pt x="424" y="307"/>
                  </a:lnTo>
                  <a:lnTo>
                    <a:pt x="429" y="300"/>
                  </a:lnTo>
                  <a:lnTo>
                    <a:pt x="435" y="295"/>
                  </a:lnTo>
                  <a:lnTo>
                    <a:pt x="438" y="291"/>
                  </a:lnTo>
                  <a:lnTo>
                    <a:pt x="442" y="289"/>
                  </a:lnTo>
                  <a:lnTo>
                    <a:pt x="446" y="288"/>
                  </a:lnTo>
                  <a:lnTo>
                    <a:pt x="452" y="288"/>
                  </a:lnTo>
                  <a:lnTo>
                    <a:pt x="456" y="287"/>
                  </a:lnTo>
                  <a:lnTo>
                    <a:pt x="463" y="287"/>
                  </a:lnTo>
                  <a:lnTo>
                    <a:pt x="469" y="287"/>
                  </a:lnTo>
                  <a:lnTo>
                    <a:pt x="475" y="288"/>
                  </a:lnTo>
                  <a:lnTo>
                    <a:pt x="479" y="288"/>
                  </a:lnTo>
                  <a:lnTo>
                    <a:pt x="487" y="288"/>
                  </a:lnTo>
                  <a:lnTo>
                    <a:pt x="493" y="288"/>
                  </a:lnTo>
                  <a:lnTo>
                    <a:pt x="499" y="289"/>
                  </a:lnTo>
                  <a:lnTo>
                    <a:pt x="504" y="288"/>
                  </a:lnTo>
                  <a:lnTo>
                    <a:pt x="510" y="288"/>
                  </a:lnTo>
                  <a:lnTo>
                    <a:pt x="516" y="288"/>
                  </a:lnTo>
                  <a:lnTo>
                    <a:pt x="522" y="288"/>
                  </a:lnTo>
                  <a:lnTo>
                    <a:pt x="525" y="285"/>
                  </a:lnTo>
                  <a:lnTo>
                    <a:pt x="530" y="284"/>
                  </a:lnTo>
                  <a:lnTo>
                    <a:pt x="534" y="282"/>
                  </a:lnTo>
                  <a:lnTo>
                    <a:pt x="537" y="279"/>
                  </a:lnTo>
                  <a:lnTo>
                    <a:pt x="540" y="276"/>
                  </a:lnTo>
                  <a:lnTo>
                    <a:pt x="543" y="272"/>
                  </a:lnTo>
                  <a:lnTo>
                    <a:pt x="546" y="268"/>
                  </a:lnTo>
                  <a:lnTo>
                    <a:pt x="548" y="264"/>
                  </a:lnTo>
                  <a:lnTo>
                    <a:pt x="554" y="258"/>
                  </a:lnTo>
                  <a:lnTo>
                    <a:pt x="559" y="252"/>
                  </a:lnTo>
                  <a:lnTo>
                    <a:pt x="561" y="248"/>
                  </a:lnTo>
                  <a:lnTo>
                    <a:pt x="565" y="245"/>
                  </a:lnTo>
                  <a:lnTo>
                    <a:pt x="569" y="243"/>
                  </a:lnTo>
                  <a:lnTo>
                    <a:pt x="574" y="242"/>
                  </a:lnTo>
                  <a:lnTo>
                    <a:pt x="577" y="241"/>
                  </a:lnTo>
                  <a:lnTo>
                    <a:pt x="583" y="241"/>
                  </a:lnTo>
                  <a:lnTo>
                    <a:pt x="588" y="239"/>
                  </a:lnTo>
                  <a:lnTo>
                    <a:pt x="594" y="241"/>
                  </a:lnTo>
                  <a:lnTo>
                    <a:pt x="600" y="241"/>
                  </a:lnTo>
                  <a:lnTo>
                    <a:pt x="606" y="242"/>
                  </a:lnTo>
                  <a:lnTo>
                    <a:pt x="612" y="242"/>
                  </a:lnTo>
                  <a:lnTo>
                    <a:pt x="617" y="243"/>
                  </a:lnTo>
                  <a:lnTo>
                    <a:pt x="623" y="243"/>
                  </a:lnTo>
                  <a:lnTo>
                    <a:pt x="628" y="244"/>
                  </a:lnTo>
                  <a:lnTo>
                    <a:pt x="634" y="245"/>
                  </a:lnTo>
                  <a:lnTo>
                    <a:pt x="640" y="245"/>
                  </a:lnTo>
                  <a:lnTo>
                    <a:pt x="645" y="245"/>
                  </a:lnTo>
                  <a:lnTo>
                    <a:pt x="650" y="245"/>
                  </a:lnTo>
                  <a:lnTo>
                    <a:pt x="654" y="244"/>
                  </a:lnTo>
                  <a:lnTo>
                    <a:pt x="660" y="243"/>
                  </a:lnTo>
                  <a:lnTo>
                    <a:pt x="665" y="242"/>
                  </a:lnTo>
                  <a:lnTo>
                    <a:pt x="671" y="241"/>
                  </a:lnTo>
                  <a:lnTo>
                    <a:pt x="677" y="238"/>
                  </a:lnTo>
                  <a:lnTo>
                    <a:pt x="683" y="237"/>
                  </a:lnTo>
                  <a:lnTo>
                    <a:pt x="688" y="232"/>
                  </a:lnTo>
                  <a:lnTo>
                    <a:pt x="693" y="230"/>
                  </a:lnTo>
                  <a:lnTo>
                    <a:pt x="698" y="226"/>
                  </a:lnTo>
                  <a:lnTo>
                    <a:pt x="704" y="223"/>
                  </a:lnTo>
                  <a:lnTo>
                    <a:pt x="707" y="219"/>
                  </a:lnTo>
                  <a:lnTo>
                    <a:pt x="711" y="215"/>
                  </a:lnTo>
                  <a:lnTo>
                    <a:pt x="716" y="212"/>
                  </a:lnTo>
                  <a:lnTo>
                    <a:pt x="719" y="209"/>
                  </a:lnTo>
                  <a:lnTo>
                    <a:pt x="723" y="206"/>
                  </a:lnTo>
                  <a:lnTo>
                    <a:pt x="727" y="203"/>
                  </a:lnTo>
                  <a:lnTo>
                    <a:pt x="730" y="202"/>
                  </a:lnTo>
                  <a:lnTo>
                    <a:pt x="734" y="201"/>
                  </a:lnTo>
                  <a:lnTo>
                    <a:pt x="740" y="198"/>
                  </a:lnTo>
                  <a:lnTo>
                    <a:pt x="746" y="202"/>
                  </a:lnTo>
                  <a:lnTo>
                    <a:pt x="750" y="207"/>
                  </a:lnTo>
                  <a:lnTo>
                    <a:pt x="748" y="213"/>
                  </a:lnTo>
                  <a:lnTo>
                    <a:pt x="746" y="216"/>
                  </a:lnTo>
                  <a:lnTo>
                    <a:pt x="744" y="220"/>
                  </a:lnTo>
                  <a:lnTo>
                    <a:pt x="740" y="225"/>
                  </a:lnTo>
                  <a:lnTo>
                    <a:pt x="738" y="229"/>
                  </a:lnTo>
                  <a:lnTo>
                    <a:pt x="732" y="232"/>
                  </a:lnTo>
                  <a:lnTo>
                    <a:pt x="727" y="236"/>
                  </a:lnTo>
                  <a:lnTo>
                    <a:pt x="719" y="239"/>
                  </a:lnTo>
                  <a:lnTo>
                    <a:pt x="715" y="243"/>
                  </a:lnTo>
                  <a:lnTo>
                    <a:pt x="710" y="245"/>
                  </a:lnTo>
                  <a:lnTo>
                    <a:pt x="706" y="247"/>
                  </a:lnTo>
                  <a:lnTo>
                    <a:pt x="703" y="248"/>
                  </a:lnTo>
                  <a:lnTo>
                    <a:pt x="699" y="249"/>
                  </a:lnTo>
                  <a:lnTo>
                    <a:pt x="694" y="250"/>
                  </a:lnTo>
                  <a:lnTo>
                    <a:pt x="691" y="252"/>
                  </a:lnTo>
                  <a:lnTo>
                    <a:pt x="687" y="253"/>
                  </a:lnTo>
                  <a:lnTo>
                    <a:pt x="683" y="254"/>
                  </a:lnTo>
                  <a:lnTo>
                    <a:pt x="678" y="255"/>
                  </a:lnTo>
                  <a:lnTo>
                    <a:pt x="674" y="255"/>
                  </a:lnTo>
                  <a:lnTo>
                    <a:pt x="670" y="255"/>
                  </a:lnTo>
                  <a:lnTo>
                    <a:pt x="665" y="256"/>
                  </a:lnTo>
                  <a:lnTo>
                    <a:pt x="662" y="256"/>
                  </a:lnTo>
                  <a:lnTo>
                    <a:pt x="657" y="256"/>
                  </a:lnTo>
                  <a:lnTo>
                    <a:pt x="653" y="256"/>
                  </a:lnTo>
                  <a:lnTo>
                    <a:pt x="650" y="258"/>
                  </a:lnTo>
                  <a:lnTo>
                    <a:pt x="645" y="256"/>
                  </a:lnTo>
                  <a:lnTo>
                    <a:pt x="641" y="256"/>
                  </a:lnTo>
                  <a:lnTo>
                    <a:pt x="637" y="256"/>
                  </a:lnTo>
                  <a:lnTo>
                    <a:pt x="634" y="256"/>
                  </a:lnTo>
                  <a:lnTo>
                    <a:pt x="629" y="255"/>
                  </a:lnTo>
                  <a:lnTo>
                    <a:pt x="625" y="255"/>
                  </a:lnTo>
                  <a:lnTo>
                    <a:pt x="623" y="255"/>
                  </a:lnTo>
                  <a:lnTo>
                    <a:pt x="619" y="255"/>
                  </a:lnTo>
                  <a:lnTo>
                    <a:pt x="616" y="255"/>
                  </a:lnTo>
                  <a:lnTo>
                    <a:pt x="612" y="254"/>
                  </a:lnTo>
                  <a:lnTo>
                    <a:pt x="608" y="254"/>
                  </a:lnTo>
                  <a:lnTo>
                    <a:pt x="606" y="254"/>
                  </a:lnTo>
                  <a:lnTo>
                    <a:pt x="600" y="254"/>
                  </a:lnTo>
                  <a:lnTo>
                    <a:pt x="595" y="254"/>
                  </a:lnTo>
                  <a:lnTo>
                    <a:pt x="589" y="254"/>
                  </a:lnTo>
                  <a:lnTo>
                    <a:pt x="586" y="255"/>
                  </a:lnTo>
                  <a:lnTo>
                    <a:pt x="582" y="258"/>
                  </a:lnTo>
                  <a:lnTo>
                    <a:pt x="580" y="260"/>
                  </a:lnTo>
                  <a:lnTo>
                    <a:pt x="574" y="266"/>
                  </a:lnTo>
                  <a:lnTo>
                    <a:pt x="570" y="272"/>
                  </a:lnTo>
                  <a:lnTo>
                    <a:pt x="565" y="278"/>
                  </a:lnTo>
                  <a:lnTo>
                    <a:pt x="560" y="284"/>
                  </a:lnTo>
                  <a:lnTo>
                    <a:pt x="555" y="289"/>
                  </a:lnTo>
                  <a:lnTo>
                    <a:pt x="549" y="295"/>
                  </a:lnTo>
                  <a:lnTo>
                    <a:pt x="545" y="296"/>
                  </a:lnTo>
                  <a:lnTo>
                    <a:pt x="541" y="299"/>
                  </a:lnTo>
                  <a:lnTo>
                    <a:pt x="536" y="301"/>
                  </a:lnTo>
                  <a:lnTo>
                    <a:pt x="532" y="303"/>
                  </a:lnTo>
                  <a:lnTo>
                    <a:pt x="526" y="303"/>
                  </a:lnTo>
                  <a:lnTo>
                    <a:pt x="520" y="305"/>
                  </a:lnTo>
                  <a:lnTo>
                    <a:pt x="514" y="305"/>
                  </a:lnTo>
                  <a:lnTo>
                    <a:pt x="510" y="306"/>
                  </a:lnTo>
                  <a:lnTo>
                    <a:pt x="504" y="305"/>
                  </a:lnTo>
                  <a:lnTo>
                    <a:pt x="498" y="305"/>
                  </a:lnTo>
                  <a:lnTo>
                    <a:pt x="491" y="305"/>
                  </a:lnTo>
                  <a:lnTo>
                    <a:pt x="487" y="305"/>
                  </a:lnTo>
                  <a:lnTo>
                    <a:pt x="481" y="305"/>
                  </a:lnTo>
                  <a:lnTo>
                    <a:pt x="475" y="303"/>
                  </a:lnTo>
                  <a:lnTo>
                    <a:pt x="469" y="303"/>
                  </a:lnTo>
                  <a:lnTo>
                    <a:pt x="465" y="303"/>
                  </a:lnTo>
                  <a:lnTo>
                    <a:pt x="460" y="303"/>
                  </a:lnTo>
                  <a:lnTo>
                    <a:pt x="456" y="305"/>
                  </a:lnTo>
                  <a:lnTo>
                    <a:pt x="453" y="306"/>
                  </a:lnTo>
                  <a:lnTo>
                    <a:pt x="450" y="308"/>
                  </a:lnTo>
                  <a:lnTo>
                    <a:pt x="444" y="312"/>
                  </a:lnTo>
                  <a:lnTo>
                    <a:pt x="438" y="318"/>
                  </a:lnTo>
                  <a:lnTo>
                    <a:pt x="434" y="320"/>
                  </a:lnTo>
                  <a:lnTo>
                    <a:pt x="431" y="324"/>
                  </a:lnTo>
                  <a:lnTo>
                    <a:pt x="428" y="328"/>
                  </a:lnTo>
                  <a:lnTo>
                    <a:pt x="424" y="331"/>
                  </a:lnTo>
                  <a:lnTo>
                    <a:pt x="419" y="334"/>
                  </a:lnTo>
                  <a:lnTo>
                    <a:pt x="415" y="336"/>
                  </a:lnTo>
                  <a:lnTo>
                    <a:pt x="412" y="338"/>
                  </a:lnTo>
                  <a:lnTo>
                    <a:pt x="408" y="341"/>
                  </a:lnTo>
                  <a:lnTo>
                    <a:pt x="403" y="343"/>
                  </a:lnTo>
                  <a:lnTo>
                    <a:pt x="400" y="345"/>
                  </a:lnTo>
                  <a:lnTo>
                    <a:pt x="395" y="346"/>
                  </a:lnTo>
                  <a:lnTo>
                    <a:pt x="391" y="348"/>
                  </a:lnTo>
                  <a:lnTo>
                    <a:pt x="385" y="348"/>
                  </a:lnTo>
                  <a:lnTo>
                    <a:pt x="379" y="349"/>
                  </a:lnTo>
                  <a:lnTo>
                    <a:pt x="374" y="349"/>
                  </a:lnTo>
                  <a:lnTo>
                    <a:pt x="371" y="349"/>
                  </a:lnTo>
                  <a:lnTo>
                    <a:pt x="367" y="351"/>
                  </a:lnTo>
                  <a:lnTo>
                    <a:pt x="364" y="352"/>
                  </a:lnTo>
                  <a:lnTo>
                    <a:pt x="359" y="352"/>
                  </a:lnTo>
                  <a:lnTo>
                    <a:pt x="354" y="353"/>
                  </a:lnTo>
                  <a:lnTo>
                    <a:pt x="349" y="353"/>
                  </a:lnTo>
                  <a:lnTo>
                    <a:pt x="344" y="354"/>
                  </a:lnTo>
                  <a:lnTo>
                    <a:pt x="339" y="354"/>
                  </a:lnTo>
                  <a:lnTo>
                    <a:pt x="335" y="355"/>
                  </a:lnTo>
                  <a:lnTo>
                    <a:pt x="329" y="357"/>
                  </a:lnTo>
                  <a:lnTo>
                    <a:pt x="325" y="359"/>
                  </a:lnTo>
                  <a:lnTo>
                    <a:pt x="319" y="359"/>
                  </a:lnTo>
                  <a:lnTo>
                    <a:pt x="314" y="360"/>
                  </a:lnTo>
                  <a:lnTo>
                    <a:pt x="308" y="361"/>
                  </a:lnTo>
                  <a:lnTo>
                    <a:pt x="303" y="363"/>
                  </a:lnTo>
                  <a:lnTo>
                    <a:pt x="297" y="364"/>
                  </a:lnTo>
                  <a:lnTo>
                    <a:pt x="294" y="365"/>
                  </a:lnTo>
                  <a:lnTo>
                    <a:pt x="289" y="366"/>
                  </a:lnTo>
                  <a:lnTo>
                    <a:pt x="284" y="369"/>
                  </a:lnTo>
                  <a:lnTo>
                    <a:pt x="279" y="370"/>
                  </a:lnTo>
                  <a:lnTo>
                    <a:pt x="276" y="371"/>
                  </a:lnTo>
                  <a:lnTo>
                    <a:pt x="271" y="374"/>
                  </a:lnTo>
                  <a:lnTo>
                    <a:pt x="267" y="375"/>
                  </a:lnTo>
                  <a:lnTo>
                    <a:pt x="263" y="377"/>
                  </a:lnTo>
                  <a:lnTo>
                    <a:pt x="260" y="378"/>
                  </a:lnTo>
                  <a:lnTo>
                    <a:pt x="256" y="381"/>
                  </a:lnTo>
                  <a:lnTo>
                    <a:pt x="255" y="383"/>
                  </a:lnTo>
                  <a:lnTo>
                    <a:pt x="250" y="386"/>
                  </a:lnTo>
                  <a:lnTo>
                    <a:pt x="248" y="387"/>
                  </a:lnTo>
                  <a:lnTo>
                    <a:pt x="244" y="389"/>
                  </a:lnTo>
                  <a:lnTo>
                    <a:pt x="241" y="390"/>
                  </a:lnTo>
                  <a:lnTo>
                    <a:pt x="236" y="393"/>
                  </a:lnTo>
                  <a:lnTo>
                    <a:pt x="232" y="395"/>
                  </a:lnTo>
                  <a:lnTo>
                    <a:pt x="228" y="396"/>
                  </a:lnTo>
                  <a:lnTo>
                    <a:pt x="224" y="399"/>
                  </a:lnTo>
                  <a:lnTo>
                    <a:pt x="219" y="401"/>
                  </a:lnTo>
                  <a:lnTo>
                    <a:pt x="213" y="404"/>
                  </a:lnTo>
                  <a:lnTo>
                    <a:pt x="208" y="405"/>
                  </a:lnTo>
                  <a:lnTo>
                    <a:pt x="203" y="407"/>
                  </a:lnTo>
                  <a:lnTo>
                    <a:pt x="198" y="409"/>
                  </a:lnTo>
                  <a:lnTo>
                    <a:pt x="193" y="411"/>
                  </a:lnTo>
                  <a:lnTo>
                    <a:pt x="189" y="412"/>
                  </a:lnTo>
                  <a:lnTo>
                    <a:pt x="184" y="416"/>
                  </a:lnTo>
                  <a:lnTo>
                    <a:pt x="178" y="417"/>
                  </a:lnTo>
                  <a:lnTo>
                    <a:pt x="173" y="418"/>
                  </a:lnTo>
                  <a:lnTo>
                    <a:pt x="167" y="421"/>
                  </a:lnTo>
                  <a:lnTo>
                    <a:pt x="162" y="422"/>
                  </a:lnTo>
                  <a:lnTo>
                    <a:pt x="157" y="424"/>
                  </a:lnTo>
                  <a:lnTo>
                    <a:pt x="152" y="427"/>
                  </a:lnTo>
                  <a:lnTo>
                    <a:pt x="148" y="428"/>
                  </a:lnTo>
                  <a:lnTo>
                    <a:pt x="144" y="430"/>
                  </a:lnTo>
                  <a:lnTo>
                    <a:pt x="139" y="432"/>
                  </a:lnTo>
                  <a:lnTo>
                    <a:pt x="134" y="433"/>
                  </a:lnTo>
                  <a:lnTo>
                    <a:pt x="131" y="435"/>
                  </a:lnTo>
                  <a:lnTo>
                    <a:pt x="127" y="438"/>
                  </a:lnTo>
                  <a:lnTo>
                    <a:pt x="124" y="439"/>
                  </a:lnTo>
                  <a:lnTo>
                    <a:pt x="120" y="440"/>
                  </a:lnTo>
                  <a:lnTo>
                    <a:pt x="117" y="442"/>
                  </a:lnTo>
                  <a:lnTo>
                    <a:pt x="115" y="444"/>
                  </a:lnTo>
                  <a:lnTo>
                    <a:pt x="109" y="446"/>
                  </a:lnTo>
                  <a:lnTo>
                    <a:pt x="104" y="451"/>
                  </a:lnTo>
                  <a:lnTo>
                    <a:pt x="98" y="453"/>
                  </a:lnTo>
                  <a:lnTo>
                    <a:pt x="92" y="457"/>
                  </a:lnTo>
                  <a:lnTo>
                    <a:pt x="85" y="459"/>
                  </a:lnTo>
                  <a:lnTo>
                    <a:pt x="78" y="463"/>
                  </a:lnTo>
                  <a:lnTo>
                    <a:pt x="72" y="465"/>
                  </a:lnTo>
                  <a:lnTo>
                    <a:pt x="66" y="468"/>
                  </a:lnTo>
                  <a:lnTo>
                    <a:pt x="60" y="471"/>
                  </a:lnTo>
                  <a:lnTo>
                    <a:pt x="54" y="474"/>
                  </a:lnTo>
                  <a:lnTo>
                    <a:pt x="50" y="476"/>
                  </a:lnTo>
                  <a:lnTo>
                    <a:pt x="46" y="479"/>
                  </a:lnTo>
                  <a:lnTo>
                    <a:pt x="41" y="485"/>
                  </a:lnTo>
                  <a:lnTo>
                    <a:pt x="44" y="490"/>
                  </a:lnTo>
                  <a:lnTo>
                    <a:pt x="46" y="492"/>
                  </a:lnTo>
                  <a:lnTo>
                    <a:pt x="51" y="493"/>
                  </a:lnTo>
                  <a:lnTo>
                    <a:pt x="52" y="493"/>
                  </a:lnTo>
                  <a:lnTo>
                    <a:pt x="56" y="493"/>
                  </a:lnTo>
                  <a:lnTo>
                    <a:pt x="60" y="493"/>
                  </a:lnTo>
                  <a:lnTo>
                    <a:pt x="63" y="493"/>
                  </a:lnTo>
                  <a:lnTo>
                    <a:pt x="67" y="492"/>
                  </a:lnTo>
                  <a:lnTo>
                    <a:pt x="70" y="491"/>
                  </a:lnTo>
                  <a:lnTo>
                    <a:pt x="75" y="491"/>
                  </a:lnTo>
                  <a:lnTo>
                    <a:pt x="80" y="490"/>
                  </a:lnTo>
                  <a:lnTo>
                    <a:pt x="84" y="488"/>
                  </a:lnTo>
                  <a:lnTo>
                    <a:pt x="89" y="487"/>
                  </a:lnTo>
                  <a:lnTo>
                    <a:pt x="93" y="486"/>
                  </a:lnTo>
                  <a:lnTo>
                    <a:pt x="99" y="485"/>
                  </a:lnTo>
                  <a:lnTo>
                    <a:pt x="104" y="483"/>
                  </a:lnTo>
                  <a:lnTo>
                    <a:pt x="109" y="481"/>
                  </a:lnTo>
                  <a:lnTo>
                    <a:pt x="113" y="479"/>
                  </a:lnTo>
                  <a:lnTo>
                    <a:pt x="119" y="477"/>
                  </a:lnTo>
                  <a:lnTo>
                    <a:pt x="122" y="476"/>
                  </a:lnTo>
                  <a:lnTo>
                    <a:pt x="128" y="475"/>
                  </a:lnTo>
                  <a:lnTo>
                    <a:pt x="132" y="473"/>
                  </a:lnTo>
                  <a:lnTo>
                    <a:pt x="138" y="471"/>
                  </a:lnTo>
                  <a:lnTo>
                    <a:pt x="142" y="469"/>
                  </a:lnTo>
                  <a:lnTo>
                    <a:pt x="145" y="468"/>
                  </a:lnTo>
                  <a:lnTo>
                    <a:pt x="150" y="467"/>
                  </a:lnTo>
                  <a:lnTo>
                    <a:pt x="154" y="465"/>
                  </a:lnTo>
                  <a:lnTo>
                    <a:pt x="161" y="463"/>
                  </a:lnTo>
                  <a:lnTo>
                    <a:pt x="167" y="461"/>
                  </a:lnTo>
                  <a:lnTo>
                    <a:pt x="171" y="458"/>
                  </a:lnTo>
                  <a:lnTo>
                    <a:pt x="175" y="456"/>
                  </a:lnTo>
                  <a:lnTo>
                    <a:pt x="180" y="454"/>
                  </a:lnTo>
                  <a:lnTo>
                    <a:pt x="185" y="453"/>
                  </a:lnTo>
                  <a:lnTo>
                    <a:pt x="190" y="452"/>
                  </a:lnTo>
                  <a:lnTo>
                    <a:pt x="196" y="452"/>
                  </a:lnTo>
                  <a:lnTo>
                    <a:pt x="200" y="451"/>
                  </a:lnTo>
                  <a:lnTo>
                    <a:pt x="206" y="450"/>
                  </a:lnTo>
                  <a:lnTo>
                    <a:pt x="210" y="448"/>
                  </a:lnTo>
                  <a:lnTo>
                    <a:pt x="215" y="447"/>
                  </a:lnTo>
                  <a:lnTo>
                    <a:pt x="221" y="446"/>
                  </a:lnTo>
                  <a:lnTo>
                    <a:pt x="227" y="445"/>
                  </a:lnTo>
                  <a:lnTo>
                    <a:pt x="233" y="444"/>
                  </a:lnTo>
                  <a:lnTo>
                    <a:pt x="238" y="442"/>
                  </a:lnTo>
                  <a:lnTo>
                    <a:pt x="244" y="440"/>
                  </a:lnTo>
                  <a:lnTo>
                    <a:pt x="250" y="439"/>
                  </a:lnTo>
                  <a:lnTo>
                    <a:pt x="254" y="438"/>
                  </a:lnTo>
                  <a:lnTo>
                    <a:pt x="256" y="435"/>
                  </a:lnTo>
                  <a:lnTo>
                    <a:pt x="260" y="434"/>
                  </a:lnTo>
                  <a:lnTo>
                    <a:pt x="265" y="432"/>
                  </a:lnTo>
                  <a:lnTo>
                    <a:pt x="268" y="429"/>
                  </a:lnTo>
                  <a:lnTo>
                    <a:pt x="273" y="428"/>
                  </a:lnTo>
                  <a:lnTo>
                    <a:pt x="278" y="425"/>
                  </a:lnTo>
                  <a:lnTo>
                    <a:pt x="283" y="423"/>
                  </a:lnTo>
                  <a:lnTo>
                    <a:pt x="288" y="419"/>
                  </a:lnTo>
                  <a:lnTo>
                    <a:pt x="292" y="417"/>
                  </a:lnTo>
                  <a:lnTo>
                    <a:pt x="297" y="415"/>
                  </a:lnTo>
                  <a:lnTo>
                    <a:pt x="303" y="412"/>
                  </a:lnTo>
                  <a:lnTo>
                    <a:pt x="308" y="409"/>
                  </a:lnTo>
                  <a:lnTo>
                    <a:pt x="314" y="407"/>
                  </a:lnTo>
                  <a:lnTo>
                    <a:pt x="320" y="404"/>
                  </a:lnTo>
                  <a:lnTo>
                    <a:pt x="326" y="401"/>
                  </a:lnTo>
                  <a:lnTo>
                    <a:pt x="331" y="399"/>
                  </a:lnTo>
                  <a:lnTo>
                    <a:pt x="337" y="396"/>
                  </a:lnTo>
                  <a:lnTo>
                    <a:pt x="342" y="393"/>
                  </a:lnTo>
                  <a:lnTo>
                    <a:pt x="348" y="390"/>
                  </a:lnTo>
                  <a:lnTo>
                    <a:pt x="353" y="388"/>
                  </a:lnTo>
                  <a:lnTo>
                    <a:pt x="359" y="386"/>
                  </a:lnTo>
                  <a:lnTo>
                    <a:pt x="364" y="384"/>
                  </a:lnTo>
                  <a:lnTo>
                    <a:pt x="368" y="382"/>
                  </a:lnTo>
                  <a:lnTo>
                    <a:pt x="373" y="380"/>
                  </a:lnTo>
                  <a:lnTo>
                    <a:pt x="377" y="378"/>
                  </a:lnTo>
                  <a:lnTo>
                    <a:pt x="382" y="376"/>
                  </a:lnTo>
                  <a:lnTo>
                    <a:pt x="387" y="376"/>
                  </a:lnTo>
                  <a:lnTo>
                    <a:pt x="391" y="375"/>
                  </a:lnTo>
                  <a:lnTo>
                    <a:pt x="395" y="374"/>
                  </a:lnTo>
                  <a:lnTo>
                    <a:pt x="399" y="374"/>
                  </a:lnTo>
                  <a:lnTo>
                    <a:pt x="402" y="374"/>
                  </a:lnTo>
                  <a:lnTo>
                    <a:pt x="405" y="374"/>
                  </a:lnTo>
                  <a:lnTo>
                    <a:pt x="409" y="374"/>
                  </a:lnTo>
                  <a:lnTo>
                    <a:pt x="413" y="372"/>
                  </a:lnTo>
                  <a:lnTo>
                    <a:pt x="418" y="372"/>
                  </a:lnTo>
                  <a:lnTo>
                    <a:pt x="423" y="372"/>
                  </a:lnTo>
                  <a:lnTo>
                    <a:pt x="429" y="372"/>
                  </a:lnTo>
                  <a:lnTo>
                    <a:pt x="435" y="371"/>
                  </a:lnTo>
                  <a:lnTo>
                    <a:pt x="442" y="371"/>
                  </a:lnTo>
                  <a:lnTo>
                    <a:pt x="449" y="370"/>
                  </a:lnTo>
                  <a:lnTo>
                    <a:pt x="455" y="370"/>
                  </a:lnTo>
                  <a:lnTo>
                    <a:pt x="459" y="369"/>
                  </a:lnTo>
                  <a:lnTo>
                    <a:pt x="463" y="369"/>
                  </a:lnTo>
                  <a:lnTo>
                    <a:pt x="466" y="367"/>
                  </a:lnTo>
                  <a:lnTo>
                    <a:pt x="471" y="367"/>
                  </a:lnTo>
                  <a:lnTo>
                    <a:pt x="475" y="367"/>
                  </a:lnTo>
                  <a:lnTo>
                    <a:pt x="478" y="366"/>
                  </a:lnTo>
                  <a:lnTo>
                    <a:pt x="482" y="366"/>
                  </a:lnTo>
                  <a:lnTo>
                    <a:pt x="485" y="366"/>
                  </a:lnTo>
                  <a:lnTo>
                    <a:pt x="489" y="365"/>
                  </a:lnTo>
                  <a:lnTo>
                    <a:pt x="493" y="365"/>
                  </a:lnTo>
                  <a:lnTo>
                    <a:pt x="498" y="365"/>
                  </a:lnTo>
                  <a:lnTo>
                    <a:pt x="501" y="365"/>
                  </a:lnTo>
                  <a:lnTo>
                    <a:pt x="505" y="364"/>
                  </a:lnTo>
                  <a:lnTo>
                    <a:pt x="508" y="363"/>
                  </a:lnTo>
                  <a:lnTo>
                    <a:pt x="512" y="363"/>
                  </a:lnTo>
                  <a:lnTo>
                    <a:pt x="516" y="361"/>
                  </a:lnTo>
                  <a:lnTo>
                    <a:pt x="520" y="360"/>
                  </a:lnTo>
                  <a:lnTo>
                    <a:pt x="524" y="360"/>
                  </a:lnTo>
                  <a:lnTo>
                    <a:pt x="528" y="359"/>
                  </a:lnTo>
                  <a:lnTo>
                    <a:pt x="531" y="359"/>
                  </a:lnTo>
                  <a:lnTo>
                    <a:pt x="535" y="358"/>
                  </a:lnTo>
                  <a:lnTo>
                    <a:pt x="539" y="357"/>
                  </a:lnTo>
                  <a:lnTo>
                    <a:pt x="542" y="357"/>
                  </a:lnTo>
                  <a:lnTo>
                    <a:pt x="546" y="355"/>
                  </a:lnTo>
                  <a:lnTo>
                    <a:pt x="549" y="354"/>
                  </a:lnTo>
                  <a:lnTo>
                    <a:pt x="553" y="354"/>
                  </a:lnTo>
                  <a:lnTo>
                    <a:pt x="557" y="353"/>
                  </a:lnTo>
                  <a:lnTo>
                    <a:pt x="560" y="353"/>
                  </a:lnTo>
                  <a:lnTo>
                    <a:pt x="566" y="352"/>
                  </a:lnTo>
                  <a:lnTo>
                    <a:pt x="571" y="349"/>
                  </a:lnTo>
                  <a:lnTo>
                    <a:pt x="577" y="348"/>
                  </a:lnTo>
                  <a:lnTo>
                    <a:pt x="583" y="346"/>
                  </a:lnTo>
                  <a:lnTo>
                    <a:pt x="587" y="343"/>
                  </a:lnTo>
                  <a:lnTo>
                    <a:pt x="592" y="341"/>
                  </a:lnTo>
                  <a:lnTo>
                    <a:pt x="595" y="338"/>
                  </a:lnTo>
                  <a:lnTo>
                    <a:pt x="600" y="336"/>
                  </a:lnTo>
                  <a:lnTo>
                    <a:pt x="605" y="330"/>
                  </a:lnTo>
                  <a:lnTo>
                    <a:pt x="612" y="326"/>
                  </a:lnTo>
                  <a:lnTo>
                    <a:pt x="616" y="323"/>
                  </a:lnTo>
                  <a:lnTo>
                    <a:pt x="619" y="320"/>
                  </a:lnTo>
                  <a:lnTo>
                    <a:pt x="624" y="319"/>
                  </a:lnTo>
                  <a:lnTo>
                    <a:pt x="629" y="317"/>
                  </a:lnTo>
                  <a:lnTo>
                    <a:pt x="634" y="314"/>
                  </a:lnTo>
                  <a:lnTo>
                    <a:pt x="637" y="312"/>
                  </a:lnTo>
                  <a:lnTo>
                    <a:pt x="642" y="311"/>
                  </a:lnTo>
                  <a:lnTo>
                    <a:pt x="647" y="308"/>
                  </a:lnTo>
                  <a:lnTo>
                    <a:pt x="652" y="307"/>
                  </a:lnTo>
                  <a:lnTo>
                    <a:pt x="657" y="305"/>
                  </a:lnTo>
                  <a:lnTo>
                    <a:pt x="662" y="303"/>
                  </a:lnTo>
                  <a:lnTo>
                    <a:pt x="666" y="301"/>
                  </a:lnTo>
                  <a:lnTo>
                    <a:pt x="671" y="300"/>
                  </a:lnTo>
                  <a:lnTo>
                    <a:pt x="676" y="297"/>
                  </a:lnTo>
                  <a:lnTo>
                    <a:pt x="681" y="296"/>
                  </a:lnTo>
                  <a:lnTo>
                    <a:pt x="686" y="295"/>
                  </a:lnTo>
                  <a:lnTo>
                    <a:pt x="689" y="293"/>
                  </a:lnTo>
                  <a:lnTo>
                    <a:pt x="694" y="291"/>
                  </a:lnTo>
                  <a:lnTo>
                    <a:pt x="699" y="290"/>
                  </a:lnTo>
                  <a:lnTo>
                    <a:pt x="704" y="289"/>
                  </a:lnTo>
                  <a:lnTo>
                    <a:pt x="707" y="288"/>
                  </a:lnTo>
                  <a:lnTo>
                    <a:pt x="711" y="287"/>
                  </a:lnTo>
                  <a:lnTo>
                    <a:pt x="715" y="285"/>
                  </a:lnTo>
                  <a:lnTo>
                    <a:pt x="719" y="284"/>
                  </a:lnTo>
                  <a:lnTo>
                    <a:pt x="722" y="283"/>
                  </a:lnTo>
                  <a:lnTo>
                    <a:pt x="727" y="283"/>
                  </a:lnTo>
                  <a:lnTo>
                    <a:pt x="729" y="282"/>
                  </a:lnTo>
                  <a:lnTo>
                    <a:pt x="733" y="282"/>
                  </a:lnTo>
                  <a:lnTo>
                    <a:pt x="738" y="279"/>
                  </a:lnTo>
                  <a:lnTo>
                    <a:pt x="744" y="277"/>
                  </a:lnTo>
                  <a:lnTo>
                    <a:pt x="748" y="276"/>
                  </a:lnTo>
                  <a:lnTo>
                    <a:pt x="754" y="274"/>
                  </a:lnTo>
                  <a:lnTo>
                    <a:pt x="758" y="273"/>
                  </a:lnTo>
                  <a:lnTo>
                    <a:pt x="764" y="273"/>
                  </a:lnTo>
                  <a:lnTo>
                    <a:pt x="769" y="273"/>
                  </a:lnTo>
                  <a:lnTo>
                    <a:pt x="774" y="273"/>
                  </a:lnTo>
                  <a:lnTo>
                    <a:pt x="777" y="273"/>
                  </a:lnTo>
                  <a:lnTo>
                    <a:pt x="782" y="274"/>
                  </a:lnTo>
                  <a:lnTo>
                    <a:pt x="786" y="276"/>
                  </a:lnTo>
                  <a:lnTo>
                    <a:pt x="789" y="277"/>
                  </a:lnTo>
                  <a:lnTo>
                    <a:pt x="793" y="278"/>
                  </a:lnTo>
                  <a:lnTo>
                    <a:pt x="797" y="282"/>
                  </a:lnTo>
                  <a:lnTo>
                    <a:pt x="799" y="284"/>
                  </a:lnTo>
                  <a:lnTo>
                    <a:pt x="803" y="288"/>
                  </a:lnTo>
                  <a:lnTo>
                    <a:pt x="804" y="291"/>
                  </a:lnTo>
                  <a:lnTo>
                    <a:pt x="806" y="296"/>
                  </a:lnTo>
                  <a:lnTo>
                    <a:pt x="806" y="299"/>
                  </a:lnTo>
                  <a:lnTo>
                    <a:pt x="808" y="301"/>
                  </a:lnTo>
                  <a:lnTo>
                    <a:pt x="809" y="306"/>
                  </a:lnTo>
                  <a:lnTo>
                    <a:pt x="810" y="309"/>
                  </a:lnTo>
                  <a:lnTo>
                    <a:pt x="810" y="312"/>
                  </a:lnTo>
                  <a:lnTo>
                    <a:pt x="810" y="317"/>
                  </a:lnTo>
                  <a:lnTo>
                    <a:pt x="810" y="320"/>
                  </a:lnTo>
                  <a:lnTo>
                    <a:pt x="811" y="324"/>
                  </a:lnTo>
                  <a:lnTo>
                    <a:pt x="811" y="328"/>
                  </a:lnTo>
                  <a:lnTo>
                    <a:pt x="811" y="332"/>
                  </a:lnTo>
                  <a:lnTo>
                    <a:pt x="811" y="337"/>
                  </a:lnTo>
                  <a:lnTo>
                    <a:pt x="811" y="341"/>
                  </a:lnTo>
                  <a:lnTo>
                    <a:pt x="811" y="345"/>
                  </a:lnTo>
                  <a:lnTo>
                    <a:pt x="811" y="349"/>
                  </a:lnTo>
                  <a:lnTo>
                    <a:pt x="811" y="353"/>
                  </a:lnTo>
                  <a:lnTo>
                    <a:pt x="811" y="357"/>
                  </a:lnTo>
                  <a:lnTo>
                    <a:pt x="810" y="361"/>
                  </a:lnTo>
                  <a:lnTo>
                    <a:pt x="810" y="365"/>
                  </a:lnTo>
                  <a:lnTo>
                    <a:pt x="810" y="370"/>
                  </a:lnTo>
                  <a:lnTo>
                    <a:pt x="810" y="374"/>
                  </a:lnTo>
                  <a:lnTo>
                    <a:pt x="810" y="377"/>
                  </a:lnTo>
                  <a:lnTo>
                    <a:pt x="809" y="381"/>
                  </a:lnTo>
                  <a:lnTo>
                    <a:pt x="809" y="384"/>
                  </a:lnTo>
                  <a:lnTo>
                    <a:pt x="809" y="388"/>
                  </a:lnTo>
                  <a:lnTo>
                    <a:pt x="808" y="394"/>
                  </a:lnTo>
                  <a:lnTo>
                    <a:pt x="806" y="400"/>
                  </a:lnTo>
                  <a:lnTo>
                    <a:pt x="805" y="405"/>
                  </a:lnTo>
                  <a:lnTo>
                    <a:pt x="805" y="411"/>
                  </a:lnTo>
                  <a:lnTo>
                    <a:pt x="805" y="413"/>
                  </a:lnTo>
                  <a:lnTo>
                    <a:pt x="805" y="417"/>
                  </a:lnTo>
                  <a:lnTo>
                    <a:pt x="805" y="421"/>
                  </a:lnTo>
                  <a:lnTo>
                    <a:pt x="805" y="424"/>
                  </a:lnTo>
                  <a:lnTo>
                    <a:pt x="805" y="428"/>
                  </a:lnTo>
                  <a:lnTo>
                    <a:pt x="805" y="432"/>
                  </a:lnTo>
                  <a:lnTo>
                    <a:pt x="806" y="435"/>
                  </a:lnTo>
                  <a:lnTo>
                    <a:pt x="806" y="440"/>
                  </a:lnTo>
                  <a:lnTo>
                    <a:pt x="806" y="444"/>
                  </a:lnTo>
                  <a:lnTo>
                    <a:pt x="808" y="448"/>
                  </a:lnTo>
                  <a:lnTo>
                    <a:pt x="809" y="452"/>
                  </a:lnTo>
                  <a:lnTo>
                    <a:pt x="810" y="456"/>
                  </a:lnTo>
                  <a:lnTo>
                    <a:pt x="810" y="461"/>
                  </a:lnTo>
                  <a:lnTo>
                    <a:pt x="810" y="464"/>
                  </a:lnTo>
                  <a:lnTo>
                    <a:pt x="810" y="468"/>
                  </a:lnTo>
                  <a:lnTo>
                    <a:pt x="811" y="471"/>
                  </a:lnTo>
                  <a:lnTo>
                    <a:pt x="811" y="475"/>
                  </a:lnTo>
                  <a:lnTo>
                    <a:pt x="811" y="479"/>
                  </a:lnTo>
                  <a:lnTo>
                    <a:pt x="812" y="483"/>
                  </a:lnTo>
                  <a:lnTo>
                    <a:pt x="812" y="487"/>
                  </a:lnTo>
                  <a:lnTo>
                    <a:pt x="812" y="493"/>
                  </a:lnTo>
                  <a:lnTo>
                    <a:pt x="814" y="499"/>
                  </a:lnTo>
                  <a:lnTo>
                    <a:pt x="814" y="505"/>
                  </a:lnTo>
                  <a:lnTo>
                    <a:pt x="814" y="510"/>
                  </a:lnTo>
                  <a:lnTo>
                    <a:pt x="812" y="514"/>
                  </a:lnTo>
                  <a:lnTo>
                    <a:pt x="811" y="519"/>
                  </a:lnTo>
                  <a:lnTo>
                    <a:pt x="811" y="522"/>
                  </a:lnTo>
                  <a:lnTo>
                    <a:pt x="810" y="526"/>
                  </a:lnTo>
                  <a:lnTo>
                    <a:pt x="809" y="531"/>
                  </a:lnTo>
                  <a:lnTo>
                    <a:pt x="808" y="534"/>
                  </a:lnTo>
                  <a:lnTo>
                    <a:pt x="806" y="537"/>
                  </a:lnTo>
                  <a:lnTo>
                    <a:pt x="805" y="541"/>
                  </a:lnTo>
                  <a:lnTo>
                    <a:pt x="800" y="546"/>
                  </a:lnTo>
                  <a:lnTo>
                    <a:pt x="794" y="551"/>
                  </a:lnTo>
                  <a:lnTo>
                    <a:pt x="791" y="552"/>
                  </a:lnTo>
                  <a:lnTo>
                    <a:pt x="788" y="554"/>
                  </a:lnTo>
                  <a:lnTo>
                    <a:pt x="783" y="554"/>
                  </a:lnTo>
                  <a:lnTo>
                    <a:pt x="780" y="555"/>
                  </a:lnTo>
                  <a:lnTo>
                    <a:pt x="777" y="555"/>
                  </a:lnTo>
                  <a:lnTo>
                    <a:pt x="775" y="555"/>
                  </a:lnTo>
                  <a:lnTo>
                    <a:pt x="771" y="555"/>
                  </a:lnTo>
                  <a:lnTo>
                    <a:pt x="768" y="556"/>
                  </a:lnTo>
                  <a:lnTo>
                    <a:pt x="764" y="556"/>
                  </a:lnTo>
                  <a:lnTo>
                    <a:pt x="759" y="556"/>
                  </a:lnTo>
                  <a:lnTo>
                    <a:pt x="756" y="556"/>
                  </a:lnTo>
                  <a:lnTo>
                    <a:pt x="751" y="557"/>
                  </a:lnTo>
                  <a:lnTo>
                    <a:pt x="746" y="557"/>
                  </a:lnTo>
                  <a:lnTo>
                    <a:pt x="741" y="557"/>
                  </a:lnTo>
                  <a:lnTo>
                    <a:pt x="735" y="558"/>
                  </a:lnTo>
                  <a:lnTo>
                    <a:pt x="730" y="558"/>
                  </a:lnTo>
                  <a:lnTo>
                    <a:pt x="724" y="558"/>
                  </a:lnTo>
                  <a:lnTo>
                    <a:pt x="719" y="560"/>
                  </a:lnTo>
                  <a:lnTo>
                    <a:pt x="713" y="560"/>
                  </a:lnTo>
                  <a:lnTo>
                    <a:pt x="709" y="561"/>
                  </a:lnTo>
                  <a:lnTo>
                    <a:pt x="703" y="561"/>
                  </a:lnTo>
                  <a:lnTo>
                    <a:pt x="697" y="562"/>
                  </a:lnTo>
                  <a:lnTo>
                    <a:pt x="692" y="563"/>
                  </a:lnTo>
                  <a:lnTo>
                    <a:pt x="686" y="563"/>
                  </a:lnTo>
                  <a:lnTo>
                    <a:pt x="680" y="563"/>
                  </a:lnTo>
                  <a:lnTo>
                    <a:pt x="675" y="564"/>
                  </a:lnTo>
                  <a:lnTo>
                    <a:pt x="670" y="564"/>
                  </a:lnTo>
                  <a:lnTo>
                    <a:pt x="665" y="566"/>
                  </a:lnTo>
                  <a:lnTo>
                    <a:pt x="660" y="566"/>
                  </a:lnTo>
                  <a:lnTo>
                    <a:pt x="656" y="566"/>
                  </a:lnTo>
                  <a:lnTo>
                    <a:pt x="652" y="567"/>
                  </a:lnTo>
                  <a:lnTo>
                    <a:pt x="648" y="568"/>
                  </a:lnTo>
                  <a:lnTo>
                    <a:pt x="641" y="568"/>
                  </a:lnTo>
                  <a:lnTo>
                    <a:pt x="637" y="570"/>
                  </a:lnTo>
                  <a:lnTo>
                    <a:pt x="631" y="570"/>
                  </a:lnTo>
                  <a:lnTo>
                    <a:pt x="628" y="573"/>
                  </a:lnTo>
                  <a:lnTo>
                    <a:pt x="623" y="575"/>
                  </a:lnTo>
                  <a:lnTo>
                    <a:pt x="618" y="578"/>
                  </a:lnTo>
                  <a:lnTo>
                    <a:pt x="613" y="579"/>
                  </a:lnTo>
                  <a:lnTo>
                    <a:pt x="607" y="583"/>
                  </a:lnTo>
                  <a:lnTo>
                    <a:pt x="602" y="585"/>
                  </a:lnTo>
                  <a:lnTo>
                    <a:pt x="596" y="589"/>
                  </a:lnTo>
                  <a:lnTo>
                    <a:pt x="590" y="591"/>
                  </a:lnTo>
                  <a:lnTo>
                    <a:pt x="584" y="593"/>
                  </a:lnTo>
                  <a:lnTo>
                    <a:pt x="578" y="596"/>
                  </a:lnTo>
                  <a:lnTo>
                    <a:pt x="572" y="598"/>
                  </a:lnTo>
                  <a:lnTo>
                    <a:pt x="565" y="599"/>
                  </a:lnTo>
                  <a:lnTo>
                    <a:pt x="559" y="602"/>
                  </a:lnTo>
                  <a:lnTo>
                    <a:pt x="552" y="602"/>
                  </a:lnTo>
                  <a:lnTo>
                    <a:pt x="546" y="603"/>
                  </a:lnTo>
                  <a:lnTo>
                    <a:pt x="542" y="603"/>
                  </a:lnTo>
                  <a:lnTo>
                    <a:pt x="539" y="603"/>
                  </a:lnTo>
                  <a:lnTo>
                    <a:pt x="535" y="603"/>
                  </a:lnTo>
                  <a:lnTo>
                    <a:pt x="532" y="603"/>
                  </a:lnTo>
                  <a:lnTo>
                    <a:pt x="528" y="603"/>
                  </a:lnTo>
                  <a:lnTo>
                    <a:pt x="525" y="604"/>
                  </a:lnTo>
                  <a:lnTo>
                    <a:pt x="522" y="604"/>
                  </a:lnTo>
                  <a:lnTo>
                    <a:pt x="518" y="604"/>
                  </a:lnTo>
                  <a:lnTo>
                    <a:pt x="511" y="604"/>
                  </a:lnTo>
                  <a:lnTo>
                    <a:pt x="505" y="606"/>
                  </a:lnTo>
                  <a:lnTo>
                    <a:pt x="498" y="607"/>
                  </a:lnTo>
                  <a:lnTo>
                    <a:pt x="491" y="608"/>
                  </a:lnTo>
                  <a:lnTo>
                    <a:pt x="485" y="609"/>
                  </a:lnTo>
                  <a:lnTo>
                    <a:pt x="479" y="610"/>
                  </a:lnTo>
                  <a:lnTo>
                    <a:pt x="473" y="612"/>
                  </a:lnTo>
                  <a:lnTo>
                    <a:pt x="469" y="613"/>
                  </a:lnTo>
                  <a:lnTo>
                    <a:pt x="464" y="614"/>
                  </a:lnTo>
                  <a:lnTo>
                    <a:pt x="460" y="615"/>
                  </a:lnTo>
                  <a:lnTo>
                    <a:pt x="455" y="616"/>
                  </a:lnTo>
                  <a:lnTo>
                    <a:pt x="454" y="619"/>
                  </a:lnTo>
                  <a:lnTo>
                    <a:pt x="449" y="620"/>
                  </a:lnTo>
                  <a:lnTo>
                    <a:pt x="443" y="622"/>
                  </a:lnTo>
                  <a:lnTo>
                    <a:pt x="440" y="624"/>
                  </a:lnTo>
                  <a:lnTo>
                    <a:pt x="436" y="625"/>
                  </a:lnTo>
                  <a:lnTo>
                    <a:pt x="431" y="627"/>
                  </a:lnTo>
                  <a:lnTo>
                    <a:pt x="426" y="628"/>
                  </a:lnTo>
                  <a:lnTo>
                    <a:pt x="420" y="630"/>
                  </a:lnTo>
                  <a:lnTo>
                    <a:pt x="415" y="632"/>
                  </a:lnTo>
                  <a:lnTo>
                    <a:pt x="408" y="635"/>
                  </a:lnTo>
                  <a:lnTo>
                    <a:pt x="402" y="637"/>
                  </a:lnTo>
                  <a:lnTo>
                    <a:pt x="395" y="638"/>
                  </a:lnTo>
                  <a:lnTo>
                    <a:pt x="389" y="641"/>
                  </a:lnTo>
                  <a:lnTo>
                    <a:pt x="385" y="643"/>
                  </a:lnTo>
                  <a:lnTo>
                    <a:pt x="382" y="644"/>
                  </a:lnTo>
                  <a:lnTo>
                    <a:pt x="378" y="645"/>
                  </a:lnTo>
                  <a:lnTo>
                    <a:pt x="374" y="647"/>
                  </a:lnTo>
                  <a:lnTo>
                    <a:pt x="371" y="648"/>
                  </a:lnTo>
                  <a:lnTo>
                    <a:pt x="366" y="649"/>
                  </a:lnTo>
                  <a:lnTo>
                    <a:pt x="362" y="650"/>
                  </a:lnTo>
                  <a:lnTo>
                    <a:pt x="359" y="651"/>
                  </a:lnTo>
                  <a:lnTo>
                    <a:pt x="354" y="653"/>
                  </a:lnTo>
                  <a:lnTo>
                    <a:pt x="350" y="654"/>
                  </a:lnTo>
                  <a:lnTo>
                    <a:pt x="347" y="655"/>
                  </a:lnTo>
                  <a:lnTo>
                    <a:pt x="343" y="657"/>
                  </a:lnTo>
                  <a:lnTo>
                    <a:pt x="338" y="657"/>
                  </a:lnTo>
                  <a:lnTo>
                    <a:pt x="335" y="659"/>
                  </a:lnTo>
                  <a:lnTo>
                    <a:pt x="330" y="660"/>
                  </a:lnTo>
                  <a:lnTo>
                    <a:pt x="326" y="662"/>
                  </a:lnTo>
                  <a:lnTo>
                    <a:pt x="323" y="662"/>
                  </a:lnTo>
                  <a:lnTo>
                    <a:pt x="318" y="663"/>
                  </a:lnTo>
                  <a:lnTo>
                    <a:pt x="314" y="666"/>
                  </a:lnTo>
                  <a:lnTo>
                    <a:pt x="309" y="667"/>
                  </a:lnTo>
                  <a:lnTo>
                    <a:pt x="306" y="668"/>
                  </a:lnTo>
                  <a:lnTo>
                    <a:pt x="301" y="670"/>
                  </a:lnTo>
                  <a:lnTo>
                    <a:pt x="296" y="671"/>
                  </a:lnTo>
                  <a:lnTo>
                    <a:pt x="292" y="672"/>
                  </a:lnTo>
                  <a:lnTo>
                    <a:pt x="289" y="672"/>
                  </a:lnTo>
                  <a:lnTo>
                    <a:pt x="284" y="674"/>
                  </a:lnTo>
                  <a:lnTo>
                    <a:pt x="280" y="674"/>
                  </a:lnTo>
                  <a:lnTo>
                    <a:pt x="277" y="677"/>
                  </a:lnTo>
                  <a:lnTo>
                    <a:pt x="272" y="678"/>
                  </a:lnTo>
                  <a:lnTo>
                    <a:pt x="268" y="679"/>
                  </a:lnTo>
                  <a:lnTo>
                    <a:pt x="265" y="679"/>
                  </a:lnTo>
                  <a:lnTo>
                    <a:pt x="260" y="680"/>
                  </a:lnTo>
                  <a:lnTo>
                    <a:pt x="256" y="682"/>
                  </a:lnTo>
                  <a:lnTo>
                    <a:pt x="253" y="683"/>
                  </a:lnTo>
                  <a:lnTo>
                    <a:pt x="249" y="684"/>
                  </a:lnTo>
                  <a:lnTo>
                    <a:pt x="245" y="685"/>
                  </a:lnTo>
                  <a:lnTo>
                    <a:pt x="241" y="685"/>
                  </a:lnTo>
                  <a:lnTo>
                    <a:pt x="237" y="686"/>
                  </a:lnTo>
                  <a:lnTo>
                    <a:pt x="233" y="686"/>
                  </a:lnTo>
                  <a:lnTo>
                    <a:pt x="230" y="688"/>
                  </a:lnTo>
                  <a:lnTo>
                    <a:pt x="225" y="688"/>
                  </a:lnTo>
                  <a:lnTo>
                    <a:pt x="221" y="689"/>
                  </a:lnTo>
                  <a:lnTo>
                    <a:pt x="218" y="689"/>
                  </a:lnTo>
                  <a:lnTo>
                    <a:pt x="214" y="690"/>
                  </a:lnTo>
                  <a:lnTo>
                    <a:pt x="210" y="690"/>
                  </a:lnTo>
                  <a:lnTo>
                    <a:pt x="207" y="691"/>
                  </a:lnTo>
                  <a:lnTo>
                    <a:pt x="202" y="691"/>
                  </a:lnTo>
                  <a:lnTo>
                    <a:pt x="198" y="692"/>
                  </a:lnTo>
                  <a:lnTo>
                    <a:pt x="195" y="692"/>
                  </a:lnTo>
                  <a:lnTo>
                    <a:pt x="191" y="692"/>
                  </a:lnTo>
                  <a:lnTo>
                    <a:pt x="187" y="694"/>
                  </a:lnTo>
                  <a:lnTo>
                    <a:pt x="185" y="694"/>
                  </a:lnTo>
                  <a:lnTo>
                    <a:pt x="180" y="694"/>
                  </a:lnTo>
                  <a:lnTo>
                    <a:pt x="177" y="695"/>
                  </a:lnTo>
                  <a:lnTo>
                    <a:pt x="173" y="695"/>
                  </a:lnTo>
                  <a:lnTo>
                    <a:pt x="169" y="695"/>
                  </a:lnTo>
                  <a:lnTo>
                    <a:pt x="163" y="696"/>
                  </a:lnTo>
                  <a:lnTo>
                    <a:pt x="156" y="696"/>
                  </a:lnTo>
                  <a:lnTo>
                    <a:pt x="150" y="697"/>
                  </a:lnTo>
                  <a:lnTo>
                    <a:pt x="143" y="699"/>
                  </a:lnTo>
                  <a:lnTo>
                    <a:pt x="137" y="699"/>
                  </a:lnTo>
                  <a:lnTo>
                    <a:pt x="131" y="700"/>
                  </a:lnTo>
                  <a:lnTo>
                    <a:pt x="125" y="700"/>
                  </a:lnTo>
                  <a:lnTo>
                    <a:pt x="119" y="701"/>
                  </a:lnTo>
                  <a:lnTo>
                    <a:pt x="113" y="701"/>
                  </a:lnTo>
                  <a:lnTo>
                    <a:pt x="108" y="702"/>
                  </a:lnTo>
                  <a:lnTo>
                    <a:pt x="103" y="703"/>
                  </a:lnTo>
                  <a:lnTo>
                    <a:pt x="98" y="705"/>
                  </a:lnTo>
                  <a:lnTo>
                    <a:pt x="93" y="705"/>
                  </a:lnTo>
                  <a:lnTo>
                    <a:pt x="89" y="706"/>
                  </a:lnTo>
                  <a:lnTo>
                    <a:pt x="85" y="707"/>
                  </a:lnTo>
                  <a:lnTo>
                    <a:pt x="81" y="708"/>
                  </a:lnTo>
                  <a:lnTo>
                    <a:pt x="76" y="709"/>
                  </a:lnTo>
                  <a:lnTo>
                    <a:pt x="74" y="712"/>
                  </a:lnTo>
                  <a:lnTo>
                    <a:pt x="68" y="715"/>
                  </a:lnTo>
                  <a:lnTo>
                    <a:pt x="64" y="719"/>
                  </a:lnTo>
                  <a:lnTo>
                    <a:pt x="61" y="724"/>
                  </a:lnTo>
                  <a:lnTo>
                    <a:pt x="57" y="729"/>
                  </a:lnTo>
                  <a:lnTo>
                    <a:pt x="55" y="735"/>
                  </a:lnTo>
                  <a:lnTo>
                    <a:pt x="54" y="740"/>
                  </a:lnTo>
                  <a:lnTo>
                    <a:pt x="51" y="746"/>
                  </a:lnTo>
                  <a:lnTo>
                    <a:pt x="51" y="750"/>
                  </a:lnTo>
                  <a:lnTo>
                    <a:pt x="51" y="755"/>
                  </a:lnTo>
                  <a:lnTo>
                    <a:pt x="51" y="760"/>
                  </a:lnTo>
                  <a:lnTo>
                    <a:pt x="51" y="764"/>
                  </a:lnTo>
                  <a:lnTo>
                    <a:pt x="52" y="769"/>
                  </a:lnTo>
                  <a:lnTo>
                    <a:pt x="55" y="771"/>
                  </a:lnTo>
                  <a:lnTo>
                    <a:pt x="57" y="773"/>
                  </a:lnTo>
                  <a:lnTo>
                    <a:pt x="58" y="775"/>
                  </a:lnTo>
                  <a:lnTo>
                    <a:pt x="62" y="777"/>
                  </a:lnTo>
                  <a:lnTo>
                    <a:pt x="66" y="776"/>
                  </a:lnTo>
                  <a:lnTo>
                    <a:pt x="70" y="775"/>
                  </a:lnTo>
                  <a:lnTo>
                    <a:pt x="74" y="772"/>
                  </a:lnTo>
                  <a:lnTo>
                    <a:pt x="79" y="771"/>
                  </a:lnTo>
                  <a:lnTo>
                    <a:pt x="85" y="769"/>
                  </a:lnTo>
                  <a:lnTo>
                    <a:pt x="92" y="766"/>
                  </a:lnTo>
                  <a:lnTo>
                    <a:pt x="95" y="765"/>
                  </a:lnTo>
                  <a:lnTo>
                    <a:pt x="98" y="764"/>
                  </a:lnTo>
                  <a:lnTo>
                    <a:pt x="103" y="763"/>
                  </a:lnTo>
                  <a:lnTo>
                    <a:pt x="107" y="763"/>
                  </a:lnTo>
                  <a:lnTo>
                    <a:pt x="110" y="761"/>
                  </a:lnTo>
                  <a:lnTo>
                    <a:pt x="115" y="760"/>
                  </a:lnTo>
                  <a:lnTo>
                    <a:pt x="119" y="759"/>
                  </a:lnTo>
                  <a:lnTo>
                    <a:pt x="122" y="759"/>
                  </a:lnTo>
                  <a:lnTo>
                    <a:pt x="127" y="758"/>
                  </a:lnTo>
                  <a:lnTo>
                    <a:pt x="131" y="758"/>
                  </a:lnTo>
                  <a:lnTo>
                    <a:pt x="134" y="757"/>
                  </a:lnTo>
                  <a:lnTo>
                    <a:pt x="139" y="755"/>
                  </a:lnTo>
                  <a:lnTo>
                    <a:pt x="143" y="755"/>
                  </a:lnTo>
                  <a:lnTo>
                    <a:pt x="146" y="754"/>
                  </a:lnTo>
                  <a:lnTo>
                    <a:pt x="150" y="753"/>
                  </a:lnTo>
                  <a:lnTo>
                    <a:pt x="154" y="753"/>
                  </a:lnTo>
                  <a:lnTo>
                    <a:pt x="157" y="753"/>
                  </a:lnTo>
                  <a:lnTo>
                    <a:pt x="161" y="752"/>
                  </a:lnTo>
                  <a:lnTo>
                    <a:pt x="165" y="752"/>
                  </a:lnTo>
                  <a:lnTo>
                    <a:pt x="167" y="752"/>
                  </a:lnTo>
                  <a:lnTo>
                    <a:pt x="173" y="752"/>
                  </a:lnTo>
                  <a:lnTo>
                    <a:pt x="179" y="752"/>
                  </a:lnTo>
                  <a:lnTo>
                    <a:pt x="183" y="750"/>
                  </a:lnTo>
                  <a:lnTo>
                    <a:pt x="187" y="750"/>
                  </a:lnTo>
                  <a:lnTo>
                    <a:pt x="192" y="750"/>
                  </a:lnTo>
                  <a:lnTo>
                    <a:pt x="198" y="752"/>
                  </a:lnTo>
                  <a:lnTo>
                    <a:pt x="203" y="752"/>
                  </a:lnTo>
                  <a:lnTo>
                    <a:pt x="209" y="753"/>
                  </a:lnTo>
                  <a:lnTo>
                    <a:pt x="214" y="754"/>
                  </a:lnTo>
                  <a:lnTo>
                    <a:pt x="221" y="755"/>
                  </a:lnTo>
                  <a:lnTo>
                    <a:pt x="226" y="755"/>
                  </a:lnTo>
                  <a:lnTo>
                    <a:pt x="233" y="757"/>
                  </a:lnTo>
                  <a:lnTo>
                    <a:pt x="237" y="757"/>
                  </a:lnTo>
                  <a:lnTo>
                    <a:pt x="241" y="757"/>
                  </a:lnTo>
                  <a:lnTo>
                    <a:pt x="244" y="757"/>
                  </a:lnTo>
                  <a:lnTo>
                    <a:pt x="248" y="757"/>
                  </a:lnTo>
                  <a:lnTo>
                    <a:pt x="250" y="757"/>
                  </a:lnTo>
                  <a:lnTo>
                    <a:pt x="255" y="757"/>
                  </a:lnTo>
                  <a:lnTo>
                    <a:pt x="259" y="755"/>
                  </a:lnTo>
                  <a:lnTo>
                    <a:pt x="262" y="755"/>
                  </a:lnTo>
                  <a:lnTo>
                    <a:pt x="266" y="755"/>
                  </a:lnTo>
                  <a:lnTo>
                    <a:pt x="270" y="754"/>
                  </a:lnTo>
                  <a:lnTo>
                    <a:pt x="273" y="753"/>
                  </a:lnTo>
                  <a:lnTo>
                    <a:pt x="278" y="753"/>
                  </a:lnTo>
                  <a:lnTo>
                    <a:pt x="282" y="750"/>
                  </a:lnTo>
                  <a:lnTo>
                    <a:pt x="286" y="749"/>
                  </a:lnTo>
                  <a:lnTo>
                    <a:pt x="291" y="748"/>
                  </a:lnTo>
                  <a:lnTo>
                    <a:pt x="297" y="746"/>
                  </a:lnTo>
                  <a:lnTo>
                    <a:pt x="303" y="743"/>
                  </a:lnTo>
                  <a:lnTo>
                    <a:pt x="308" y="741"/>
                  </a:lnTo>
                  <a:lnTo>
                    <a:pt x="312" y="740"/>
                  </a:lnTo>
                  <a:lnTo>
                    <a:pt x="315" y="738"/>
                  </a:lnTo>
                  <a:lnTo>
                    <a:pt x="319" y="737"/>
                  </a:lnTo>
                  <a:lnTo>
                    <a:pt x="323" y="737"/>
                  </a:lnTo>
                  <a:lnTo>
                    <a:pt x="326" y="735"/>
                  </a:lnTo>
                  <a:lnTo>
                    <a:pt x="329" y="734"/>
                  </a:lnTo>
                  <a:lnTo>
                    <a:pt x="332" y="732"/>
                  </a:lnTo>
                  <a:lnTo>
                    <a:pt x="337" y="731"/>
                  </a:lnTo>
                  <a:lnTo>
                    <a:pt x="341" y="729"/>
                  </a:lnTo>
                  <a:lnTo>
                    <a:pt x="344" y="728"/>
                  </a:lnTo>
                  <a:lnTo>
                    <a:pt x="348" y="726"/>
                  </a:lnTo>
                  <a:lnTo>
                    <a:pt x="352" y="725"/>
                  </a:lnTo>
                  <a:lnTo>
                    <a:pt x="355" y="724"/>
                  </a:lnTo>
                  <a:lnTo>
                    <a:pt x="360" y="723"/>
                  </a:lnTo>
                  <a:lnTo>
                    <a:pt x="364" y="720"/>
                  </a:lnTo>
                  <a:lnTo>
                    <a:pt x="367" y="719"/>
                  </a:lnTo>
                  <a:lnTo>
                    <a:pt x="371" y="717"/>
                  </a:lnTo>
                  <a:lnTo>
                    <a:pt x="374" y="715"/>
                  </a:lnTo>
                  <a:lnTo>
                    <a:pt x="378" y="714"/>
                  </a:lnTo>
                  <a:lnTo>
                    <a:pt x="383" y="713"/>
                  </a:lnTo>
                  <a:lnTo>
                    <a:pt x="387" y="712"/>
                  </a:lnTo>
                  <a:lnTo>
                    <a:pt x="391" y="709"/>
                  </a:lnTo>
                  <a:lnTo>
                    <a:pt x="395" y="708"/>
                  </a:lnTo>
                  <a:lnTo>
                    <a:pt x="399" y="707"/>
                  </a:lnTo>
                  <a:lnTo>
                    <a:pt x="402" y="705"/>
                  </a:lnTo>
                  <a:lnTo>
                    <a:pt x="406" y="703"/>
                  </a:lnTo>
                  <a:lnTo>
                    <a:pt x="409" y="702"/>
                  </a:lnTo>
                  <a:lnTo>
                    <a:pt x="414" y="701"/>
                  </a:lnTo>
                  <a:lnTo>
                    <a:pt x="418" y="700"/>
                  </a:lnTo>
                  <a:lnTo>
                    <a:pt x="422" y="699"/>
                  </a:lnTo>
                  <a:lnTo>
                    <a:pt x="425" y="696"/>
                  </a:lnTo>
                  <a:lnTo>
                    <a:pt x="429" y="695"/>
                  </a:lnTo>
                  <a:lnTo>
                    <a:pt x="432" y="694"/>
                  </a:lnTo>
                  <a:lnTo>
                    <a:pt x="437" y="692"/>
                  </a:lnTo>
                  <a:lnTo>
                    <a:pt x="441" y="691"/>
                  </a:lnTo>
                  <a:lnTo>
                    <a:pt x="444" y="691"/>
                  </a:lnTo>
                  <a:lnTo>
                    <a:pt x="450" y="689"/>
                  </a:lnTo>
                  <a:lnTo>
                    <a:pt x="456" y="685"/>
                  </a:lnTo>
                  <a:lnTo>
                    <a:pt x="464" y="684"/>
                  </a:lnTo>
                  <a:lnTo>
                    <a:pt x="470" y="683"/>
                  </a:lnTo>
                  <a:lnTo>
                    <a:pt x="476" y="680"/>
                  </a:lnTo>
                  <a:lnTo>
                    <a:pt x="481" y="679"/>
                  </a:lnTo>
                  <a:lnTo>
                    <a:pt x="485" y="678"/>
                  </a:lnTo>
                  <a:lnTo>
                    <a:pt x="490" y="678"/>
                  </a:lnTo>
                  <a:lnTo>
                    <a:pt x="495" y="677"/>
                  </a:lnTo>
                  <a:lnTo>
                    <a:pt x="499" y="677"/>
                  </a:lnTo>
                  <a:lnTo>
                    <a:pt x="504" y="674"/>
                  </a:lnTo>
                  <a:lnTo>
                    <a:pt x="508" y="674"/>
                  </a:lnTo>
                  <a:lnTo>
                    <a:pt x="513" y="674"/>
                  </a:lnTo>
                  <a:lnTo>
                    <a:pt x="518" y="674"/>
                  </a:lnTo>
                  <a:lnTo>
                    <a:pt x="523" y="674"/>
                  </a:lnTo>
                  <a:lnTo>
                    <a:pt x="528" y="674"/>
                  </a:lnTo>
                  <a:lnTo>
                    <a:pt x="532" y="673"/>
                  </a:lnTo>
                  <a:lnTo>
                    <a:pt x="537" y="673"/>
                  </a:lnTo>
                  <a:lnTo>
                    <a:pt x="543" y="673"/>
                  </a:lnTo>
                  <a:lnTo>
                    <a:pt x="548" y="673"/>
                  </a:lnTo>
                  <a:lnTo>
                    <a:pt x="552" y="673"/>
                  </a:lnTo>
                  <a:lnTo>
                    <a:pt x="558" y="673"/>
                  </a:lnTo>
                  <a:lnTo>
                    <a:pt x="563" y="673"/>
                  </a:lnTo>
                  <a:lnTo>
                    <a:pt x="567" y="673"/>
                  </a:lnTo>
                  <a:lnTo>
                    <a:pt x="572" y="672"/>
                  </a:lnTo>
                  <a:lnTo>
                    <a:pt x="577" y="672"/>
                  </a:lnTo>
                  <a:lnTo>
                    <a:pt x="581" y="672"/>
                  </a:lnTo>
                  <a:lnTo>
                    <a:pt x="586" y="672"/>
                  </a:lnTo>
                  <a:lnTo>
                    <a:pt x="589" y="671"/>
                  </a:lnTo>
                  <a:lnTo>
                    <a:pt x="593" y="671"/>
                  </a:lnTo>
                  <a:lnTo>
                    <a:pt x="596" y="671"/>
                  </a:lnTo>
                  <a:lnTo>
                    <a:pt x="601" y="671"/>
                  </a:lnTo>
                  <a:lnTo>
                    <a:pt x="605" y="670"/>
                  </a:lnTo>
                  <a:lnTo>
                    <a:pt x="608" y="668"/>
                  </a:lnTo>
                  <a:lnTo>
                    <a:pt x="612" y="668"/>
                  </a:lnTo>
                  <a:lnTo>
                    <a:pt x="615" y="667"/>
                  </a:lnTo>
                  <a:lnTo>
                    <a:pt x="619" y="665"/>
                  </a:lnTo>
                  <a:lnTo>
                    <a:pt x="624" y="662"/>
                  </a:lnTo>
                  <a:lnTo>
                    <a:pt x="628" y="659"/>
                  </a:lnTo>
                  <a:lnTo>
                    <a:pt x="633" y="657"/>
                  </a:lnTo>
                  <a:lnTo>
                    <a:pt x="637" y="655"/>
                  </a:lnTo>
                  <a:lnTo>
                    <a:pt x="643" y="654"/>
                  </a:lnTo>
                  <a:lnTo>
                    <a:pt x="647" y="653"/>
                  </a:lnTo>
                  <a:lnTo>
                    <a:pt x="651" y="651"/>
                  </a:lnTo>
                  <a:lnTo>
                    <a:pt x="654" y="651"/>
                  </a:lnTo>
                  <a:lnTo>
                    <a:pt x="658" y="651"/>
                  </a:lnTo>
                  <a:lnTo>
                    <a:pt x="662" y="650"/>
                  </a:lnTo>
                  <a:lnTo>
                    <a:pt x="665" y="650"/>
                  </a:lnTo>
                  <a:lnTo>
                    <a:pt x="670" y="650"/>
                  </a:lnTo>
                  <a:lnTo>
                    <a:pt x="674" y="650"/>
                  </a:lnTo>
                  <a:lnTo>
                    <a:pt x="677" y="649"/>
                  </a:lnTo>
                  <a:lnTo>
                    <a:pt x="681" y="649"/>
                  </a:lnTo>
                  <a:lnTo>
                    <a:pt x="685" y="648"/>
                  </a:lnTo>
                  <a:lnTo>
                    <a:pt x="688" y="648"/>
                  </a:lnTo>
                  <a:lnTo>
                    <a:pt x="693" y="648"/>
                  </a:lnTo>
                  <a:lnTo>
                    <a:pt x="697" y="647"/>
                  </a:lnTo>
                  <a:lnTo>
                    <a:pt x="700" y="647"/>
                  </a:lnTo>
                  <a:lnTo>
                    <a:pt x="704" y="647"/>
                  </a:lnTo>
                  <a:lnTo>
                    <a:pt x="707" y="645"/>
                  </a:lnTo>
                  <a:lnTo>
                    <a:pt x="711" y="644"/>
                  </a:lnTo>
                  <a:lnTo>
                    <a:pt x="715" y="643"/>
                  </a:lnTo>
                  <a:lnTo>
                    <a:pt x="718" y="643"/>
                  </a:lnTo>
                  <a:lnTo>
                    <a:pt x="724" y="639"/>
                  </a:lnTo>
                  <a:lnTo>
                    <a:pt x="730" y="638"/>
                  </a:lnTo>
                  <a:lnTo>
                    <a:pt x="736" y="635"/>
                  </a:lnTo>
                  <a:lnTo>
                    <a:pt x="742" y="632"/>
                  </a:lnTo>
                  <a:lnTo>
                    <a:pt x="747" y="628"/>
                  </a:lnTo>
                  <a:lnTo>
                    <a:pt x="753" y="626"/>
                  </a:lnTo>
                  <a:lnTo>
                    <a:pt x="759" y="624"/>
                  </a:lnTo>
                  <a:lnTo>
                    <a:pt x="765" y="622"/>
                  </a:lnTo>
                  <a:lnTo>
                    <a:pt x="770" y="620"/>
                  </a:lnTo>
                  <a:lnTo>
                    <a:pt x="777" y="620"/>
                  </a:lnTo>
                  <a:lnTo>
                    <a:pt x="782" y="619"/>
                  </a:lnTo>
                  <a:lnTo>
                    <a:pt x="787" y="620"/>
                  </a:lnTo>
                  <a:lnTo>
                    <a:pt x="792" y="620"/>
                  </a:lnTo>
                  <a:lnTo>
                    <a:pt x="797" y="622"/>
                  </a:lnTo>
                  <a:lnTo>
                    <a:pt x="800" y="624"/>
                  </a:lnTo>
                  <a:lnTo>
                    <a:pt x="805" y="627"/>
                  </a:lnTo>
                  <a:lnTo>
                    <a:pt x="809" y="631"/>
                  </a:lnTo>
                  <a:lnTo>
                    <a:pt x="812" y="637"/>
                  </a:lnTo>
                  <a:lnTo>
                    <a:pt x="812" y="638"/>
                  </a:lnTo>
                  <a:lnTo>
                    <a:pt x="814" y="643"/>
                  </a:lnTo>
                  <a:lnTo>
                    <a:pt x="815" y="647"/>
                  </a:lnTo>
                  <a:lnTo>
                    <a:pt x="816" y="651"/>
                  </a:lnTo>
                  <a:lnTo>
                    <a:pt x="816" y="656"/>
                  </a:lnTo>
                  <a:lnTo>
                    <a:pt x="817" y="662"/>
                  </a:lnTo>
                  <a:lnTo>
                    <a:pt x="817" y="668"/>
                  </a:lnTo>
                  <a:lnTo>
                    <a:pt x="818" y="674"/>
                  </a:lnTo>
                  <a:lnTo>
                    <a:pt x="818" y="680"/>
                  </a:lnTo>
                  <a:lnTo>
                    <a:pt x="818" y="688"/>
                  </a:lnTo>
                  <a:lnTo>
                    <a:pt x="818" y="691"/>
                  </a:lnTo>
                  <a:lnTo>
                    <a:pt x="818" y="694"/>
                  </a:lnTo>
                  <a:lnTo>
                    <a:pt x="818" y="699"/>
                  </a:lnTo>
                  <a:lnTo>
                    <a:pt x="820" y="702"/>
                  </a:lnTo>
                  <a:lnTo>
                    <a:pt x="820" y="705"/>
                  </a:lnTo>
                  <a:lnTo>
                    <a:pt x="820" y="708"/>
                  </a:lnTo>
                  <a:lnTo>
                    <a:pt x="820" y="713"/>
                  </a:lnTo>
                  <a:lnTo>
                    <a:pt x="820" y="717"/>
                  </a:lnTo>
                  <a:lnTo>
                    <a:pt x="820" y="719"/>
                  </a:lnTo>
                  <a:lnTo>
                    <a:pt x="820" y="724"/>
                  </a:lnTo>
                  <a:lnTo>
                    <a:pt x="820" y="728"/>
                  </a:lnTo>
                  <a:lnTo>
                    <a:pt x="821" y="731"/>
                  </a:lnTo>
                  <a:lnTo>
                    <a:pt x="821" y="735"/>
                  </a:lnTo>
                  <a:lnTo>
                    <a:pt x="821" y="738"/>
                  </a:lnTo>
                  <a:lnTo>
                    <a:pt x="821" y="741"/>
                  </a:lnTo>
                  <a:lnTo>
                    <a:pt x="821" y="746"/>
                  </a:lnTo>
                  <a:lnTo>
                    <a:pt x="821" y="748"/>
                  </a:lnTo>
                  <a:lnTo>
                    <a:pt x="821" y="752"/>
                  </a:lnTo>
                  <a:lnTo>
                    <a:pt x="821" y="755"/>
                  </a:lnTo>
                  <a:lnTo>
                    <a:pt x="821" y="759"/>
                  </a:lnTo>
                  <a:lnTo>
                    <a:pt x="821" y="766"/>
                  </a:lnTo>
                  <a:lnTo>
                    <a:pt x="821" y="772"/>
                  </a:lnTo>
                  <a:lnTo>
                    <a:pt x="821" y="778"/>
                  </a:lnTo>
                  <a:lnTo>
                    <a:pt x="822" y="784"/>
                  </a:lnTo>
                  <a:lnTo>
                    <a:pt x="822" y="789"/>
                  </a:lnTo>
                  <a:lnTo>
                    <a:pt x="822" y="794"/>
                  </a:lnTo>
                  <a:lnTo>
                    <a:pt x="822" y="798"/>
                  </a:lnTo>
                  <a:lnTo>
                    <a:pt x="823" y="802"/>
                  </a:lnTo>
                  <a:lnTo>
                    <a:pt x="824" y="805"/>
                  </a:lnTo>
                  <a:lnTo>
                    <a:pt x="826" y="807"/>
                  </a:lnTo>
                  <a:lnTo>
                    <a:pt x="827" y="810"/>
                  </a:lnTo>
                  <a:lnTo>
                    <a:pt x="828" y="812"/>
                  </a:lnTo>
                  <a:lnTo>
                    <a:pt x="834" y="815"/>
                  </a:lnTo>
                  <a:lnTo>
                    <a:pt x="841" y="817"/>
                  </a:lnTo>
                  <a:lnTo>
                    <a:pt x="845" y="817"/>
                  </a:lnTo>
                  <a:lnTo>
                    <a:pt x="849" y="817"/>
                  </a:lnTo>
                  <a:lnTo>
                    <a:pt x="852" y="816"/>
                  </a:lnTo>
                  <a:lnTo>
                    <a:pt x="856" y="816"/>
                  </a:lnTo>
                  <a:lnTo>
                    <a:pt x="862" y="812"/>
                  </a:lnTo>
                  <a:lnTo>
                    <a:pt x="869" y="807"/>
                  </a:lnTo>
                  <a:lnTo>
                    <a:pt x="870" y="804"/>
                  </a:lnTo>
                  <a:lnTo>
                    <a:pt x="873" y="801"/>
                  </a:lnTo>
                  <a:lnTo>
                    <a:pt x="874" y="796"/>
                  </a:lnTo>
                  <a:lnTo>
                    <a:pt x="875" y="793"/>
                  </a:lnTo>
                  <a:lnTo>
                    <a:pt x="875" y="790"/>
                  </a:lnTo>
                  <a:lnTo>
                    <a:pt x="875" y="788"/>
                  </a:lnTo>
                  <a:lnTo>
                    <a:pt x="875" y="783"/>
                  </a:lnTo>
                  <a:lnTo>
                    <a:pt x="875" y="779"/>
                  </a:lnTo>
                  <a:lnTo>
                    <a:pt x="875" y="775"/>
                  </a:lnTo>
                  <a:lnTo>
                    <a:pt x="875" y="771"/>
                  </a:lnTo>
                  <a:lnTo>
                    <a:pt x="875" y="767"/>
                  </a:lnTo>
                  <a:lnTo>
                    <a:pt x="875" y="763"/>
                  </a:lnTo>
                  <a:lnTo>
                    <a:pt x="874" y="757"/>
                  </a:lnTo>
                  <a:lnTo>
                    <a:pt x="874" y="752"/>
                  </a:lnTo>
                  <a:lnTo>
                    <a:pt x="874" y="746"/>
                  </a:lnTo>
                  <a:lnTo>
                    <a:pt x="874" y="741"/>
                  </a:lnTo>
                  <a:lnTo>
                    <a:pt x="873" y="735"/>
                  </a:lnTo>
                  <a:lnTo>
                    <a:pt x="873" y="729"/>
                  </a:lnTo>
                  <a:lnTo>
                    <a:pt x="873" y="724"/>
                  </a:lnTo>
                  <a:lnTo>
                    <a:pt x="873" y="718"/>
                  </a:lnTo>
                  <a:lnTo>
                    <a:pt x="871" y="713"/>
                  </a:lnTo>
                  <a:lnTo>
                    <a:pt x="871" y="707"/>
                  </a:lnTo>
                  <a:lnTo>
                    <a:pt x="871" y="701"/>
                  </a:lnTo>
                  <a:lnTo>
                    <a:pt x="871" y="696"/>
                  </a:lnTo>
                  <a:lnTo>
                    <a:pt x="870" y="690"/>
                  </a:lnTo>
                  <a:lnTo>
                    <a:pt x="870" y="685"/>
                  </a:lnTo>
                  <a:lnTo>
                    <a:pt x="870" y="680"/>
                  </a:lnTo>
                  <a:lnTo>
                    <a:pt x="870" y="677"/>
                  </a:lnTo>
                  <a:lnTo>
                    <a:pt x="870" y="671"/>
                  </a:lnTo>
                  <a:lnTo>
                    <a:pt x="870" y="667"/>
                  </a:lnTo>
                  <a:lnTo>
                    <a:pt x="870" y="663"/>
                  </a:lnTo>
                  <a:lnTo>
                    <a:pt x="870" y="660"/>
                  </a:lnTo>
                  <a:lnTo>
                    <a:pt x="870" y="655"/>
                  </a:lnTo>
                  <a:lnTo>
                    <a:pt x="871" y="651"/>
                  </a:lnTo>
                  <a:lnTo>
                    <a:pt x="873" y="647"/>
                  </a:lnTo>
                  <a:lnTo>
                    <a:pt x="875" y="641"/>
                  </a:lnTo>
                  <a:lnTo>
                    <a:pt x="879" y="635"/>
                  </a:lnTo>
                  <a:lnTo>
                    <a:pt x="881" y="630"/>
                  </a:lnTo>
                  <a:lnTo>
                    <a:pt x="882" y="624"/>
                  </a:lnTo>
                  <a:lnTo>
                    <a:pt x="885" y="618"/>
                  </a:lnTo>
                  <a:lnTo>
                    <a:pt x="885" y="612"/>
                  </a:lnTo>
                  <a:lnTo>
                    <a:pt x="884" y="604"/>
                  </a:lnTo>
                  <a:lnTo>
                    <a:pt x="882" y="601"/>
                  </a:lnTo>
                  <a:lnTo>
                    <a:pt x="881" y="596"/>
                  </a:lnTo>
                  <a:lnTo>
                    <a:pt x="880" y="590"/>
                  </a:lnTo>
                  <a:lnTo>
                    <a:pt x="879" y="584"/>
                  </a:lnTo>
                  <a:lnTo>
                    <a:pt x="878" y="580"/>
                  </a:lnTo>
                  <a:lnTo>
                    <a:pt x="876" y="577"/>
                  </a:lnTo>
                  <a:lnTo>
                    <a:pt x="875" y="573"/>
                  </a:lnTo>
                  <a:lnTo>
                    <a:pt x="875" y="569"/>
                  </a:lnTo>
                  <a:lnTo>
                    <a:pt x="874" y="566"/>
                  </a:lnTo>
                  <a:lnTo>
                    <a:pt x="874" y="563"/>
                  </a:lnTo>
                  <a:lnTo>
                    <a:pt x="873" y="558"/>
                  </a:lnTo>
                  <a:lnTo>
                    <a:pt x="873" y="556"/>
                  </a:lnTo>
                  <a:lnTo>
                    <a:pt x="871" y="552"/>
                  </a:lnTo>
                  <a:lnTo>
                    <a:pt x="870" y="548"/>
                  </a:lnTo>
                  <a:lnTo>
                    <a:pt x="870" y="544"/>
                  </a:lnTo>
                  <a:lnTo>
                    <a:pt x="869" y="541"/>
                  </a:lnTo>
                  <a:lnTo>
                    <a:pt x="869" y="537"/>
                  </a:lnTo>
                  <a:lnTo>
                    <a:pt x="868" y="534"/>
                  </a:lnTo>
                  <a:lnTo>
                    <a:pt x="868" y="531"/>
                  </a:lnTo>
                  <a:lnTo>
                    <a:pt x="868" y="528"/>
                  </a:lnTo>
                  <a:lnTo>
                    <a:pt x="867" y="522"/>
                  </a:lnTo>
                  <a:lnTo>
                    <a:pt x="867" y="519"/>
                  </a:lnTo>
                  <a:lnTo>
                    <a:pt x="867" y="514"/>
                  </a:lnTo>
                  <a:lnTo>
                    <a:pt x="867" y="512"/>
                  </a:lnTo>
                  <a:lnTo>
                    <a:pt x="867" y="509"/>
                  </a:lnTo>
                  <a:lnTo>
                    <a:pt x="867" y="505"/>
                  </a:lnTo>
                  <a:lnTo>
                    <a:pt x="867" y="500"/>
                  </a:lnTo>
                  <a:lnTo>
                    <a:pt x="868" y="496"/>
                  </a:lnTo>
                  <a:lnTo>
                    <a:pt x="869" y="488"/>
                  </a:lnTo>
                  <a:lnTo>
                    <a:pt x="870" y="482"/>
                  </a:lnTo>
                  <a:lnTo>
                    <a:pt x="870" y="479"/>
                  </a:lnTo>
                  <a:lnTo>
                    <a:pt x="871" y="475"/>
                  </a:lnTo>
                  <a:lnTo>
                    <a:pt x="871" y="471"/>
                  </a:lnTo>
                  <a:lnTo>
                    <a:pt x="873" y="468"/>
                  </a:lnTo>
                  <a:lnTo>
                    <a:pt x="873" y="464"/>
                  </a:lnTo>
                  <a:lnTo>
                    <a:pt x="873" y="461"/>
                  </a:lnTo>
                  <a:lnTo>
                    <a:pt x="873" y="456"/>
                  </a:lnTo>
                  <a:lnTo>
                    <a:pt x="874" y="452"/>
                  </a:lnTo>
                  <a:lnTo>
                    <a:pt x="874" y="448"/>
                  </a:lnTo>
                  <a:lnTo>
                    <a:pt x="874" y="445"/>
                  </a:lnTo>
                  <a:lnTo>
                    <a:pt x="874" y="441"/>
                  </a:lnTo>
                  <a:lnTo>
                    <a:pt x="874" y="438"/>
                  </a:lnTo>
                  <a:lnTo>
                    <a:pt x="874" y="433"/>
                  </a:lnTo>
                  <a:lnTo>
                    <a:pt x="874" y="429"/>
                  </a:lnTo>
                  <a:lnTo>
                    <a:pt x="874" y="427"/>
                  </a:lnTo>
                  <a:lnTo>
                    <a:pt x="874" y="423"/>
                  </a:lnTo>
                  <a:lnTo>
                    <a:pt x="873" y="416"/>
                  </a:lnTo>
                  <a:lnTo>
                    <a:pt x="871" y="411"/>
                  </a:lnTo>
                  <a:lnTo>
                    <a:pt x="870" y="405"/>
                  </a:lnTo>
                  <a:lnTo>
                    <a:pt x="868" y="398"/>
                  </a:lnTo>
                  <a:lnTo>
                    <a:pt x="867" y="392"/>
                  </a:lnTo>
                  <a:lnTo>
                    <a:pt x="864" y="386"/>
                  </a:lnTo>
                  <a:lnTo>
                    <a:pt x="862" y="378"/>
                  </a:lnTo>
                  <a:lnTo>
                    <a:pt x="861" y="372"/>
                  </a:lnTo>
                  <a:lnTo>
                    <a:pt x="859" y="365"/>
                  </a:lnTo>
                  <a:lnTo>
                    <a:pt x="858" y="359"/>
                  </a:lnTo>
                  <a:lnTo>
                    <a:pt x="857" y="352"/>
                  </a:lnTo>
                  <a:lnTo>
                    <a:pt x="856" y="346"/>
                  </a:lnTo>
                  <a:lnTo>
                    <a:pt x="856" y="340"/>
                  </a:lnTo>
                  <a:lnTo>
                    <a:pt x="856" y="334"/>
                  </a:lnTo>
                  <a:lnTo>
                    <a:pt x="855" y="329"/>
                  </a:lnTo>
                  <a:lnTo>
                    <a:pt x="855" y="323"/>
                  </a:lnTo>
                  <a:lnTo>
                    <a:pt x="856" y="318"/>
                  </a:lnTo>
                  <a:lnTo>
                    <a:pt x="857" y="314"/>
                  </a:lnTo>
                  <a:lnTo>
                    <a:pt x="857" y="309"/>
                  </a:lnTo>
                  <a:lnTo>
                    <a:pt x="858" y="303"/>
                  </a:lnTo>
                  <a:lnTo>
                    <a:pt x="858" y="297"/>
                  </a:lnTo>
                  <a:lnTo>
                    <a:pt x="859" y="291"/>
                  </a:lnTo>
                  <a:lnTo>
                    <a:pt x="859" y="287"/>
                  </a:lnTo>
                  <a:lnTo>
                    <a:pt x="861" y="283"/>
                  </a:lnTo>
                  <a:lnTo>
                    <a:pt x="861" y="279"/>
                  </a:lnTo>
                  <a:lnTo>
                    <a:pt x="862" y="276"/>
                  </a:lnTo>
                  <a:lnTo>
                    <a:pt x="862" y="272"/>
                  </a:lnTo>
                  <a:lnTo>
                    <a:pt x="862" y="268"/>
                  </a:lnTo>
                  <a:lnTo>
                    <a:pt x="863" y="265"/>
                  </a:lnTo>
                  <a:lnTo>
                    <a:pt x="863" y="261"/>
                  </a:lnTo>
                  <a:lnTo>
                    <a:pt x="863" y="256"/>
                  </a:lnTo>
                  <a:lnTo>
                    <a:pt x="863" y="253"/>
                  </a:lnTo>
                  <a:lnTo>
                    <a:pt x="863" y="249"/>
                  </a:lnTo>
                  <a:lnTo>
                    <a:pt x="863" y="245"/>
                  </a:lnTo>
                  <a:lnTo>
                    <a:pt x="863" y="241"/>
                  </a:lnTo>
                  <a:lnTo>
                    <a:pt x="863" y="237"/>
                  </a:lnTo>
                  <a:lnTo>
                    <a:pt x="863" y="235"/>
                  </a:lnTo>
                  <a:lnTo>
                    <a:pt x="863" y="231"/>
                  </a:lnTo>
                  <a:lnTo>
                    <a:pt x="861" y="224"/>
                  </a:lnTo>
                  <a:lnTo>
                    <a:pt x="859" y="218"/>
                  </a:lnTo>
                  <a:lnTo>
                    <a:pt x="857" y="213"/>
                  </a:lnTo>
                  <a:lnTo>
                    <a:pt x="856" y="209"/>
                  </a:lnTo>
                  <a:lnTo>
                    <a:pt x="851" y="204"/>
                  </a:lnTo>
                  <a:lnTo>
                    <a:pt x="847" y="202"/>
                  </a:lnTo>
                  <a:lnTo>
                    <a:pt x="843" y="198"/>
                  </a:lnTo>
                  <a:lnTo>
                    <a:pt x="837" y="196"/>
                  </a:lnTo>
                  <a:lnTo>
                    <a:pt x="830" y="194"/>
                  </a:lnTo>
                  <a:lnTo>
                    <a:pt x="824" y="191"/>
                  </a:lnTo>
                  <a:lnTo>
                    <a:pt x="817" y="190"/>
                  </a:lnTo>
                  <a:lnTo>
                    <a:pt x="811" y="189"/>
                  </a:lnTo>
                  <a:lnTo>
                    <a:pt x="808" y="186"/>
                  </a:lnTo>
                  <a:lnTo>
                    <a:pt x="804" y="186"/>
                  </a:lnTo>
                  <a:lnTo>
                    <a:pt x="800" y="185"/>
                  </a:lnTo>
                  <a:lnTo>
                    <a:pt x="798" y="184"/>
                  </a:lnTo>
                  <a:lnTo>
                    <a:pt x="791" y="183"/>
                  </a:lnTo>
                  <a:lnTo>
                    <a:pt x="785" y="181"/>
                  </a:lnTo>
                  <a:lnTo>
                    <a:pt x="779" y="180"/>
                  </a:lnTo>
                  <a:lnTo>
                    <a:pt x="773" y="179"/>
                  </a:lnTo>
                  <a:lnTo>
                    <a:pt x="768" y="178"/>
                  </a:lnTo>
                  <a:lnTo>
                    <a:pt x="764" y="175"/>
                  </a:lnTo>
                  <a:lnTo>
                    <a:pt x="758" y="173"/>
                  </a:lnTo>
                  <a:lnTo>
                    <a:pt x="753" y="169"/>
                  </a:lnTo>
                  <a:lnTo>
                    <a:pt x="747" y="166"/>
                  </a:lnTo>
                  <a:lnTo>
                    <a:pt x="741" y="161"/>
                  </a:lnTo>
                  <a:lnTo>
                    <a:pt x="738" y="158"/>
                  </a:lnTo>
                  <a:lnTo>
                    <a:pt x="733" y="156"/>
                  </a:lnTo>
                  <a:lnTo>
                    <a:pt x="729" y="152"/>
                  </a:lnTo>
                  <a:lnTo>
                    <a:pt x="726" y="150"/>
                  </a:lnTo>
                  <a:lnTo>
                    <a:pt x="721" y="148"/>
                  </a:lnTo>
                  <a:lnTo>
                    <a:pt x="717" y="145"/>
                  </a:lnTo>
                  <a:lnTo>
                    <a:pt x="713" y="143"/>
                  </a:lnTo>
                  <a:lnTo>
                    <a:pt x="710" y="140"/>
                  </a:lnTo>
                  <a:lnTo>
                    <a:pt x="705" y="137"/>
                  </a:lnTo>
                  <a:lnTo>
                    <a:pt x="700" y="134"/>
                  </a:lnTo>
                  <a:lnTo>
                    <a:pt x="697" y="132"/>
                  </a:lnTo>
                  <a:lnTo>
                    <a:pt x="693" y="129"/>
                  </a:lnTo>
                  <a:lnTo>
                    <a:pt x="688" y="127"/>
                  </a:lnTo>
                  <a:lnTo>
                    <a:pt x="683" y="125"/>
                  </a:lnTo>
                  <a:lnTo>
                    <a:pt x="680" y="123"/>
                  </a:lnTo>
                  <a:lnTo>
                    <a:pt x="676" y="122"/>
                  </a:lnTo>
                  <a:lnTo>
                    <a:pt x="672" y="120"/>
                  </a:lnTo>
                  <a:lnTo>
                    <a:pt x="669" y="117"/>
                  </a:lnTo>
                  <a:lnTo>
                    <a:pt x="664" y="116"/>
                  </a:lnTo>
                  <a:lnTo>
                    <a:pt x="660" y="116"/>
                  </a:lnTo>
                  <a:lnTo>
                    <a:pt x="653" y="114"/>
                  </a:lnTo>
                  <a:lnTo>
                    <a:pt x="648" y="115"/>
                  </a:lnTo>
                  <a:lnTo>
                    <a:pt x="641" y="114"/>
                  </a:lnTo>
                  <a:lnTo>
                    <a:pt x="635" y="114"/>
                  </a:lnTo>
                  <a:lnTo>
                    <a:pt x="628" y="114"/>
                  </a:lnTo>
                  <a:lnTo>
                    <a:pt x="621" y="113"/>
                  </a:lnTo>
                  <a:lnTo>
                    <a:pt x="617" y="111"/>
                  </a:lnTo>
                  <a:lnTo>
                    <a:pt x="613" y="111"/>
                  </a:lnTo>
                  <a:lnTo>
                    <a:pt x="610" y="110"/>
                  </a:lnTo>
                  <a:lnTo>
                    <a:pt x="606" y="110"/>
                  </a:lnTo>
                  <a:lnTo>
                    <a:pt x="602" y="109"/>
                  </a:lnTo>
                  <a:lnTo>
                    <a:pt x="598" y="108"/>
                  </a:lnTo>
                  <a:lnTo>
                    <a:pt x="594" y="107"/>
                  </a:lnTo>
                  <a:lnTo>
                    <a:pt x="590" y="107"/>
                  </a:lnTo>
                  <a:lnTo>
                    <a:pt x="586" y="104"/>
                  </a:lnTo>
                  <a:lnTo>
                    <a:pt x="582" y="104"/>
                  </a:lnTo>
                  <a:lnTo>
                    <a:pt x="578" y="102"/>
                  </a:lnTo>
                  <a:lnTo>
                    <a:pt x="574" y="102"/>
                  </a:lnTo>
                  <a:lnTo>
                    <a:pt x="570" y="99"/>
                  </a:lnTo>
                  <a:lnTo>
                    <a:pt x="566" y="99"/>
                  </a:lnTo>
                  <a:lnTo>
                    <a:pt x="563" y="97"/>
                  </a:lnTo>
                  <a:lnTo>
                    <a:pt x="559" y="97"/>
                  </a:lnTo>
                  <a:lnTo>
                    <a:pt x="555" y="94"/>
                  </a:lnTo>
                  <a:lnTo>
                    <a:pt x="551" y="93"/>
                  </a:lnTo>
                  <a:lnTo>
                    <a:pt x="547" y="92"/>
                  </a:lnTo>
                  <a:lnTo>
                    <a:pt x="543" y="91"/>
                  </a:lnTo>
                  <a:lnTo>
                    <a:pt x="540" y="88"/>
                  </a:lnTo>
                  <a:lnTo>
                    <a:pt x="536" y="87"/>
                  </a:lnTo>
                  <a:lnTo>
                    <a:pt x="532" y="86"/>
                  </a:lnTo>
                  <a:lnTo>
                    <a:pt x="530" y="85"/>
                  </a:lnTo>
                  <a:lnTo>
                    <a:pt x="525" y="82"/>
                  </a:lnTo>
                  <a:lnTo>
                    <a:pt x="522" y="81"/>
                  </a:lnTo>
                  <a:lnTo>
                    <a:pt x="517" y="79"/>
                  </a:lnTo>
                  <a:lnTo>
                    <a:pt x="513" y="78"/>
                  </a:lnTo>
                  <a:lnTo>
                    <a:pt x="510" y="75"/>
                  </a:lnTo>
                  <a:lnTo>
                    <a:pt x="505" y="73"/>
                  </a:lnTo>
                  <a:lnTo>
                    <a:pt x="501" y="71"/>
                  </a:lnTo>
                  <a:lnTo>
                    <a:pt x="498" y="70"/>
                  </a:lnTo>
                  <a:lnTo>
                    <a:pt x="491" y="68"/>
                  </a:lnTo>
                  <a:lnTo>
                    <a:pt x="488" y="65"/>
                  </a:lnTo>
                  <a:lnTo>
                    <a:pt x="483" y="63"/>
                  </a:lnTo>
                  <a:lnTo>
                    <a:pt x="479" y="61"/>
                  </a:lnTo>
                  <a:lnTo>
                    <a:pt x="475" y="59"/>
                  </a:lnTo>
                  <a:lnTo>
                    <a:pt x="471" y="57"/>
                  </a:lnTo>
                  <a:lnTo>
                    <a:pt x="466" y="56"/>
                  </a:lnTo>
                  <a:lnTo>
                    <a:pt x="463" y="53"/>
                  </a:lnTo>
                  <a:lnTo>
                    <a:pt x="456" y="52"/>
                  </a:lnTo>
                  <a:lnTo>
                    <a:pt x="453" y="50"/>
                  </a:lnTo>
                  <a:lnTo>
                    <a:pt x="448" y="47"/>
                  </a:lnTo>
                  <a:lnTo>
                    <a:pt x="443" y="46"/>
                  </a:lnTo>
                  <a:lnTo>
                    <a:pt x="440" y="44"/>
                  </a:lnTo>
                  <a:lnTo>
                    <a:pt x="435" y="42"/>
                  </a:lnTo>
                  <a:lnTo>
                    <a:pt x="431" y="41"/>
                  </a:lnTo>
                  <a:lnTo>
                    <a:pt x="428" y="39"/>
                  </a:lnTo>
                  <a:lnTo>
                    <a:pt x="424" y="38"/>
                  </a:lnTo>
                  <a:lnTo>
                    <a:pt x="420" y="36"/>
                  </a:lnTo>
                  <a:lnTo>
                    <a:pt x="417" y="35"/>
                  </a:lnTo>
                  <a:lnTo>
                    <a:pt x="413" y="35"/>
                  </a:lnTo>
                  <a:lnTo>
                    <a:pt x="406" y="33"/>
                  </a:lnTo>
                  <a:lnTo>
                    <a:pt x="401" y="33"/>
                  </a:lnTo>
                  <a:lnTo>
                    <a:pt x="395" y="32"/>
                  </a:lnTo>
                  <a:lnTo>
                    <a:pt x="391" y="32"/>
                  </a:lnTo>
                  <a:lnTo>
                    <a:pt x="387" y="30"/>
                  </a:lnTo>
                  <a:lnTo>
                    <a:pt x="383" y="29"/>
                  </a:lnTo>
                  <a:lnTo>
                    <a:pt x="378" y="28"/>
                  </a:lnTo>
                  <a:lnTo>
                    <a:pt x="376" y="28"/>
                  </a:lnTo>
                  <a:lnTo>
                    <a:pt x="372" y="27"/>
                  </a:lnTo>
                  <a:lnTo>
                    <a:pt x="370" y="27"/>
                  </a:lnTo>
                  <a:lnTo>
                    <a:pt x="365" y="27"/>
                  </a:lnTo>
                  <a:lnTo>
                    <a:pt x="361" y="27"/>
                  </a:lnTo>
                  <a:lnTo>
                    <a:pt x="358" y="27"/>
                  </a:lnTo>
                  <a:lnTo>
                    <a:pt x="354" y="28"/>
                  </a:lnTo>
                  <a:lnTo>
                    <a:pt x="349" y="28"/>
                  </a:lnTo>
                  <a:lnTo>
                    <a:pt x="343" y="30"/>
                  </a:lnTo>
                  <a:lnTo>
                    <a:pt x="338" y="33"/>
                  </a:lnTo>
                  <a:lnTo>
                    <a:pt x="332" y="35"/>
                  </a:lnTo>
                  <a:lnTo>
                    <a:pt x="329" y="35"/>
                  </a:lnTo>
                  <a:lnTo>
                    <a:pt x="325" y="36"/>
                  </a:lnTo>
                  <a:lnTo>
                    <a:pt x="321" y="38"/>
                  </a:lnTo>
                  <a:lnTo>
                    <a:pt x="319" y="39"/>
                  </a:lnTo>
                  <a:lnTo>
                    <a:pt x="313" y="42"/>
                  </a:lnTo>
                  <a:lnTo>
                    <a:pt x="308" y="45"/>
                  </a:lnTo>
                  <a:lnTo>
                    <a:pt x="303" y="47"/>
                  </a:lnTo>
                  <a:lnTo>
                    <a:pt x="298" y="51"/>
                  </a:lnTo>
                  <a:lnTo>
                    <a:pt x="295" y="55"/>
                  </a:lnTo>
                  <a:lnTo>
                    <a:pt x="291" y="58"/>
                  </a:lnTo>
                  <a:lnTo>
                    <a:pt x="288" y="62"/>
                  </a:lnTo>
                  <a:lnTo>
                    <a:pt x="285" y="67"/>
                  </a:lnTo>
                  <a:lnTo>
                    <a:pt x="282" y="70"/>
                  </a:lnTo>
                  <a:lnTo>
                    <a:pt x="280" y="75"/>
                  </a:lnTo>
                  <a:lnTo>
                    <a:pt x="278" y="79"/>
                  </a:lnTo>
                  <a:lnTo>
                    <a:pt x="276" y="84"/>
                  </a:lnTo>
                  <a:lnTo>
                    <a:pt x="273" y="88"/>
                  </a:lnTo>
                  <a:lnTo>
                    <a:pt x="271" y="94"/>
                  </a:lnTo>
                  <a:lnTo>
                    <a:pt x="268" y="99"/>
                  </a:lnTo>
                  <a:lnTo>
                    <a:pt x="265" y="104"/>
                  </a:lnTo>
                  <a:lnTo>
                    <a:pt x="260" y="111"/>
                  </a:lnTo>
                  <a:lnTo>
                    <a:pt x="256" y="117"/>
                  </a:lnTo>
                  <a:lnTo>
                    <a:pt x="250" y="123"/>
                  </a:lnTo>
                  <a:lnTo>
                    <a:pt x="245" y="131"/>
                  </a:lnTo>
                  <a:lnTo>
                    <a:pt x="243" y="134"/>
                  </a:lnTo>
                  <a:lnTo>
                    <a:pt x="241" y="138"/>
                  </a:lnTo>
                  <a:lnTo>
                    <a:pt x="237" y="140"/>
                  </a:lnTo>
                  <a:lnTo>
                    <a:pt x="235" y="145"/>
                  </a:lnTo>
                  <a:lnTo>
                    <a:pt x="228" y="151"/>
                  </a:lnTo>
                  <a:lnTo>
                    <a:pt x="222" y="157"/>
                  </a:lnTo>
                  <a:lnTo>
                    <a:pt x="218" y="163"/>
                  </a:lnTo>
                  <a:lnTo>
                    <a:pt x="213" y="169"/>
                  </a:lnTo>
                  <a:lnTo>
                    <a:pt x="207" y="174"/>
                  </a:lnTo>
                  <a:lnTo>
                    <a:pt x="203" y="180"/>
                  </a:lnTo>
                  <a:lnTo>
                    <a:pt x="200" y="184"/>
                  </a:lnTo>
                  <a:lnTo>
                    <a:pt x="197" y="189"/>
                  </a:lnTo>
                  <a:lnTo>
                    <a:pt x="193" y="191"/>
                  </a:lnTo>
                  <a:lnTo>
                    <a:pt x="191" y="197"/>
                  </a:lnTo>
                  <a:lnTo>
                    <a:pt x="190" y="198"/>
                  </a:lnTo>
                  <a:lnTo>
                    <a:pt x="189" y="202"/>
                  </a:lnTo>
                  <a:lnTo>
                    <a:pt x="187" y="206"/>
                  </a:lnTo>
                  <a:lnTo>
                    <a:pt x="186" y="209"/>
                  </a:lnTo>
                  <a:lnTo>
                    <a:pt x="184" y="213"/>
                  </a:lnTo>
                  <a:lnTo>
                    <a:pt x="183" y="216"/>
                  </a:lnTo>
                  <a:lnTo>
                    <a:pt x="181" y="220"/>
                  </a:lnTo>
                  <a:lnTo>
                    <a:pt x="180" y="225"/>
                  </a:lnTo>
                  <a:lnTo>
                    <a:pt x="178" y="229"/>
                  </a:lnTo>
                  <a:lnTo>
                    <a:pt x="177" y="233"/>
                  </a:lnTo>
                  <a:lnTo>
                    <a:pt x="175" y="238"/>
                  </a:lnTo>
                  <a:lnTo>
                    <a:pt x="174" y="242"/>
                  </a:lnTo>
                  <a:lnTo>
                    <a:pt x="173" y="247"/>
                  </a:lnTo>
                  <a:lnTo>
                    <a:pt x="171" y="250"/>
                  </a:lnTo>
                  <a:lnTo>
                    <a:pt x="168" y="254"/>
                  </a:lnTo>
                  <a:lnTo>
                    <a:pt x="167" y="259"/>
                  </a:lnTo>
                  <a:lnTo>
                    <a:pt x="166" y="262"/>
                  </a:lnTo>
                  <a:lnTo>
                    <a:pt x="165" y="266"/>
                  </a:lnTo>
                  <a:lnTo>
                    <a:pt x="162" y="271"/>
                  </a:lnTo>
                  <a:lnTo>
                    <a:pt x="161" y="274"/>
                  </a:lnTo>
                  <a:lnTo>
                    <a:pt x="160" y="278"/>
                  </a:lnTo>
                  <a:lnTo>
                    <a:pt x="157" y="282"/>
                  </a:lnTo>
                  <a:lnTo>
                    <a:pt x="155" y="285"/>
                  </a:lnTo>
                  <a:lnTo>
                    <a:pt x="154" y="289"/>
                  </a:lnTo>
                  <a:lnTo>
                    <a:pt x="150" y="295"/>
                  </a:lnTo>
                  <a:lnTo>
                    <a:pt x="146" y="301"/>
                  </a:lnTo>
                  <a:lnTo>
                    <a:pt x="143" y="306"/>
                  </a:lnTo>
                  <a:lnTo>
                    <a:pt x="139" y="311"/>
                  </a:lnTo>
                  <a:lnTo>
                    <a:pt x="134" y="316"/>
                  </a:lnTo>
                  <a:lnTo>
                    <a:pt x="131" y="319"/>
                  </a:lnTo>
                  <a:lnTo>
                    <a:pt x="127" y="323"/>
                  </a:lnTo>
                  <a:lnTo>
                    <a:pt x="122" y="328"/>
                  </a:lnTo>
                  <a:lnTo>
                    <a:pt x="117" y="331"/>
                  </a:lnTo>
                  <a:lnTo>
                    <a:pt x="114" y="335"/>
                  </a:lnTo>
                  <a:lnTo>
                    <a:pt x="109" y="340"/>
                  </a:lnTo>
                  <a:lnTo>
                    <a:pt x="105" y="343"/>
                  </a:lnTo>
                  <a:lnTo>
                    <a:pt x="101" y="347"/>
                  </a:lnTo>
                  <a:lnTo>
                    <a:pt x="97" y="352"/>
                  </a:lnTo>
                  <a:lnTo>
                    <a:pt x="93" y="355"/>
                  </a:lnTo>
                  <a:lnTo>
                    <a:pt x="91" y="360"/>
                  </a:lnTo>
                  <a:lnTo>
                    <a:pt x="89" y="364"/>
                  </a:lnTo>
                  <a:lnTo>
                    <a:pt x="86" y="370"/>
                  </a:lnTo>
                  <a:lnTo>
                    <a:pt x="84" y="374"/>
                  </a:lnTo>
                  <a:lnTo>
                    <a:pt x="81" y="380"/>
                  </a:lnTo>
                  <a:lnTo>
                    <a:pt x="78" y="386"/>
                  </a:lnTo>
                  <a:lnTo>
                    <a:pt x="75" y="390"/>
                  </a:lnTo>
                  <a:lnTo>
                    <a:pt x="72" y="396"/>
                  </a:lnTo>
                  <a:lnTo>
                    <a:pt x="69" y="404"/>
                  </a:lnTo>
                  <a:lnTo>
                    <a:pt x="66" y="409"/>
                  </a:lnTo>
                  <a:lnTo>
                    <a:pt x="62" y="416"/>
                  </a:lnTo>
                  <a:lnTo>
                    <a:pt x="58" y="421"/>
                  </a:lnTo>
                  <a:lnTo>
                    <a:pt x="56" y="427"/>
                  </a:lnTo>
                  <a:lnTo>
                    <a:pt x="52" y="432"/>
                  </a:lnTo>
                  <a:lnTo>
                    <a:pt x="50" y="436"/>
                  </a:lnTo>
                  <a:lnTo>
                    <a:pt x="46" y="440"/>
                  </a:lnTo>
                  <a:lnTo>
                    <a:pt x="44" y="444"/>
                  </a:lnTo>
                  <a:lnTo>
                    <a:pt x="41" y="447"/>
                  </a:lnTo>
                  <a:lnTo>
                    <a:pt x="40" y="450"/>
                  </a:lnTo>
                  <a:lnTo>
                    <a:pt x="37" y="452"/>
                  </a:lnTo>
                  <a:lnTo>
                    <a:pt x="33" y="453"/>
                  </a:lnTo>
                  <a:lnTo>
                    <a:pt x="28" y="453"/>
                  </a:lnTo>
                  <a:lnTo>
                    <a:pt x="26" y="452"/>
                  </a:lnTo>
                  <a:lnTo>
                    <a:pt x="22" y="448"/>
                  </a:lnTo>
                  <a:lnTo>
                    <a:pt x="22" y="445"/>
                  </a:lnTo>
                  <a:lnTo>
                    <a:pt x="22" y="441"/>
                  </a:lnTo>
                  <a:lnTo>
                    <a:pt x="25" y="438"/>
                  </a:lnTo>
                  <a:lnTo>
                    <a:pt x="27" y="432"/>
                  </a:lnTo>
                  <a:lnTo>
                    <a:pt x="29" y="427"/>
                  </a:lnTo>
                  <a:lnTo>
                    <a:pt x="34" y="419"/>
                  </a:lnTo>
                  <a:lnTo>
                    <a:pt x="38" y="415"/>
                  </a:lnTo>
                  <a:lnTo>
                    <a:pt x="40" y="410"/>
                  </a:lnTo>
                  <a:lnTo>
                    <a:pt x="41" y="406"/>
                  </a:lnTo>
                  <a:lnTo>
                    <a:pt x="44" y="401"/>
                  </a:lnTo>
                  <a:lnTo>
                    <a:pt x="46" y="398"/>
                  </a:lnTo>
                  <a:lnTo>
                    <a:pt x="48" y="393"/>
                  </a:lnTo>
                  <a:lnTo>
                    <a:pt x="49" y="388"/>
                  </a:lnTo>
                  <a:lnTo>
                    <a:pt x="50" y="383"/>
                  </a:lnTo>
                  <a:lnTo>
                    <a:pt x="52" y="378"/>
                  </a:lnTo>
                  <a:lnTo>
                    <a:pt x="52" y="374"/>
                  </a:lnTo>
                  <a:lnTo>
                    <a:pt x="56" y="367"/>
                  </a:lnTo>
                  <a:lnTo>
                    <a:pt x="57" y="363"/>
                  </a:lnTo>
                  <a:lnTo>
                    <a:pt x="61" y="357"/>
                  </a:lnTo>
                  <a:lnTo>
                    <a:pt x="63" y="352"/>
                  </a:lnTo>
                  <a:lnTo>
                    <a:pt x="68" y="348"/>
                  </a:lnTo>
                  <a:lnTo>
                    <a:pt x="72" y="342"/>
                  </a:lnTo>
                  <a:lnTo>
                    <a:pt x="76" y="338"/>
                  </a:lnTo>
                  <a:lnTo>
                    <a:pt x="81" y="332"/>
                  </a:lnTo>
                  <a:lnTo>
                    <a:pt x="86" y="329"/>
                  </a:lnTo>
                  <a:lnTo>
                    <a:pt x="90" y="325"/>
                  </a:lnTo>
                  <a:lnTo>
                    <a:pt x="96" y="320"/>
                  </a:lnTo>
                  <a:lnTo>
                    <a:pt x="99" y="317"/>
                  </a:lnTo>
                  <a:lnTo>
                    <a:pt x="104" y="313"/>
                  </a:lnTo>
                  <a:lnTo>
                    <a:pt x="108" y="309"/>
                  </a:lnTo>
                  <a:lnTo>
                    <a:pt x="113" y="307"/>
                  </a:lnTo>
                  <a:lnTo>
                    <a:pt x="116" y="303"/>
                  </a:lnTo>
                  <a:lnTo>
                    <a:pt x="119" y="299"/>
                  </a:lnTo>
                  <a:lnTo>
                    <a:pt x="122" y="293"/>
                  </a:lnTo>
                  <a:lnTo>
                    <a:pt x="126" y="285"/>
                  </a:lnTo>
                  <a:lnTo>
                    <a:pt x="127" y="282"/>
                  </a:lnTo>
                  <a:lnTo>
                    <a:pt x="130" y="277"/>
                  </a:lnTo>
                  <a:lnTo>
                    <a:pt x="131" y="273"/>
                  </a:lnTo>
                  <a:lnTo>
                    <a:pt x="132" y="270"/>
                  </a:lnTo>
                  <a:lnTo>
                    <a:pt x="134" y="265"/>
                  </a:lnTo>
                  <a:lnTo>
                    <a:pt x="136" y="261"/>
                  </a:lnTo>
                  <a:lnTo>
                    <a:pt x="138" y="256"/>
                  </a:lnTo>
                  <a:lnTo>
                    <a:pt x="140" y="253"/>
                  </a:lnTo>
                  <a:lnTo>
                    <a:pt x="142" y="248"/>
                  </a:lnTo>
                  <a:lnTo>
                    <a:pt x="143" y="243"/>
                  </a:lnTo>
                  <a:lnTo>
                    <a:pt x="145" y="238"/>
                  </a:lnTo>
                  <a:lnTo>
                    <a:pt x="146" y="235"/>
                  </a:lnTo>
                  <a:lnTo>
                    <a:pt x="149" y="229"/>
                  </a:lnTo>
                  <a:lnTo>
                    <a:pt x="150" y="225"/>
                  </a:lnTo>
                  <a:lnTo>
                    <a:pt x="152" y="220"/>
                  </a:lnTo>
                  <a:lnTo>
                    <a:pt x="154" y="216"/>
                  </a:lnTo>
                  <a:lnTo>
                    <a:pt x="155" y="212"/>
                  </a:lnTo>
                  <a:lnTo>
                    <a:pt x="157" y="207"/>
                  </a:lnTo>
                  <a:lnTo>
                    <a:pt x="160" y="203"/>
                  </a:lnTo>
                  <a:lnTo>
                    <a:pt x="161" y="198"/>
                  </a:lnTo>
                  <a:lnTo>
                    <a:pt x="162" y="195"/>
                  </a:lnTo>
                  <a:lnTo>
                    <a:pt x="165" y="191"/>
                  </a:lnTo>
                  <a:lnTo>
                    <a:pt x="166" y="189"/>
                  </a:lnTo>
                  <a:lnTo>
                    <a:pt x="168" y="185"/>
                  </a:lnTo>
                  <a:lnTo>
                    <a:pt x="172" y="179"/>
                  </a:lnTo>
                  <a:lnTo>
                    <a:pt x="175" y="173"/>
                  </a:lnTo>
                  <a:lnTo>
                    <a:pt x="180" y="167"/>
                  </a:lnTo>
                  <a:lnTo>
                    <a:pt x="186" y="161"/>
                  </a:lnTo>
                  <a:lnTo>
                    <a:pt x="191" y="156"/>
                  </a:lnTo>
                  <a:lnTo>
                    <a:pt x="197" y="150"/>
                  </a:lnTo>
                  <a:lnTo>
                    <a:pt x="203" y="145"/>
                  </a:lnTo>
                  <a:lnTo>
                    <a:pt x="210" y="140"/>
                  </a:lnTo>
                  <a:lnTo>
                    <a:pt x="215" y="136"/>
                  </a:lnTo>
                  <a:lnTo>
                    <a:pt x="221" y="131"/>
                  </a:lnTo>
                  <a:lnTo>
                    <a:pt x="226" y="126"/>
                  </a:lnTo>
                  <a:lnTo>
                    <a:pt x="232" y="121"/>
                  </a:lnTo>
                  <a:lnTo>
                    <a:pt x="236" y="116"/>
                  </a:lnTo>
                  <a:lnTo>
                    <a:pt x="241" y="113"/>
                  </a:lnTo>
                  <a:lnTo>
                    <a:pt x="243" y="108"/>
                  </a:lnTo>
                  <a:lnTo>
                    <a:pt x="245" y="104"/>
                  </a:lnTo>
                  <a:lnTo>
                    <a:pt x="245" y="99"/>
                  </a:lnTo>
                  <a:lnTo>
                    <a:pt x="247" y="94"/>
                  </a:lnTo>
                  <a:lnTo>
                    <a:pt x="248" y="90"/>
                  </a:lnTo>
                  <a:lnTo>
                    <a:pt x="249" y="85"/>
                  </a:lnTo>
                  <a:lnTo>
                    <a:pt x="250" y="80"/>
                  </a:lnTo>
                  <a:lnTo>
                    <a:pt x="251" y="75"/>
                  </a:lnTo>
                  <a:lnTo>
                    <a:pt x="253" y="70"/>
                  </a:lnTo>
                  <a:lnTo>
                    <a:pt x="254" y="67"/>
                  </a:lnTo>
                  <a:lnTo>
                    <a:pt x="255" y="61"/>
                  </a:lnTo>
                  <a:lnTo>
                    <a:pt x="257" y="57"/>
                  </a:lnTo>
                  <a:lnTo>
                    <a:pt x="260" y="53"/>
                  </a:lnTo>
                  <a:lnTo>
                    <a:pt x="263" y="49"/>
                  </a:lnTo>
                  <a:lnTo>
                    <a:pt x="266" y="45"/>
                  </a:lnTo>
                  <a:lnTo>
                    <a:pt x="271" y="41"/>
                  </a:lnTo>
                  <a:lnTo>
                    <a:pt x="276" y="38"/>
                  </a:lnTo>
                  <a:lnTo>
                    <a:pt x="282" y="35"/>
                  </a:lnTo>
                  <a:lnTo>
                    <a:pt x="285" y="32"/>
                  </a:lnTo>
                  <a:lnTo>
                    <a:pt x="291" y="28"/>
                  </a:lnTo>
                  <a:lnTo>
                    <a:pt x="295" y="26"/>
                  </a:lnTo>
                  <a:lnTo>
                    <a:pt x="300" y="23"/>
                  </a:lnTo>
                  <a:lnTo>
                    <a:pt x="303" y="21"/>
                  </a:lnTo>
                  <a:lnTo>
                    <a:pt x="307" y="18"/>
                  </a:lnTo>
                  <a:lnTo>
                    <a:pt x="309" y="16"/>
                  </a:lnTo>
                  <a:lnTo>
                    <a:pt x="314" y="15"/>
                  </a:lnTo>
                  <a:lnTo>
                    <a:pt x="317" y="12"/>
                  </a:lnTo>
                  <a:lnTo>
                    <a:pt x="320" y="11"/>
                  </a:lnTo>
                  <a:lnTo>
                    <a:pt x="325" y="9"/>
                  </a:lnTo>
                  <a:lnTo>
                    <a:pt x="330" y="7"/>
                  </a:lnTo>
                  <a:lnTo>
                    <a:pt x="335" y="5"/>
                  </a:lnTo>
                  <a:lnTo>
                    <a:pt x="339" y="5"/>
                  </a:lnTo>
                  <a:lnTo>
                    <a:pt x="342" y="4"/>
                  </a:lnTo>
                  <a:lnTo>
                    <a:pt x="346" y="4"/>
                  </a:lnTo>
                  <a:lnTo>
                    <a:pt x="349" y="3"/>
                  </a:lnTo>
                  <a:lnTo>
                    <a:pt x="353" y="3"/>
                  </a:lnTo>
                  <a:lnTo>
                    <a:pt x="359" y="1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7" y="1"/>
                  </a:lnTo>
                  <a:lnTo>
                    <a:pt x="402" y="1"/>
                  </a:lnTo>
                  <a:lnTo>
                    <a:pt x="407" y="3"/>
                  </a:lnTo>
                  <a:lnTo>
                    <a:pt x="412" y="5"/>
                  </a:lnTo>
                  <a:lnTo>
                    <a:pt x="418" y="7"/>
                  </a:lnTo>
                  <a:lnTo>
                    <a:pt x="423" y="9"/>
                  </a:lnTo>
                  <a:lnTo>
                    <a:pt x="428" y="11"/>
                  </a:lnTo>
                  <a:lnTo>
                    <a:pt x="434" y="15"/>
                  </a:lnTo>
                  <a:lnTo>
                    <a:pt x="440" y="18"/>
                  </a:lnTo>
                  <a:lnTo>
                    <a:pt x="446" y="22"/>
                  </a:lnTo>
                  <a:lnTo>
                    <a:pt x="452" y="26"/>
                  </a:lnTo>
                  <a:lnTo>
                    <a:pt x="458" y="29"/>
                  </a:lnTo>
                  <a:lnTo>
                    <a:pt x="465" y="33"/>
                  </a:lnTo>
                  <a:lnTo>
                    <a:pt x="467" y="35"/>
                  </a:lnTo>
                  <a:lnTo>
                    <a:pt x="472" y="36"/>
                  </a:lnTo>
                  <a:lnTo>
                    <a:pt x="475" y="39"/>
                  </a:lnTo>
                  <a:lnTo>
                    <a:pt x="478" y="41"/>
                  </a:lnTo>
                  <a:lnTo>
                    <a:pt x="482" y="42"/>
                  </a:lnTo>
                  <a:lnTo>
                    <a:pt x="485" y="45"/>
                  </a:lnTo>
                  <a:lnTo>
                    <a:pt x="489" y="46"/>
                  </a:lnTo>
                  <a:lnTo>
                    <a:pt x="493" y="49"/>
                  </a:lnTo>
                  <a:lnTo>
                    <a:pt x="496" y="50"/>
                  </a:lnTo>
                  <a:lnTo>
                    <a:pt x="500" y="52"/>
                  </a:lnTo>
                  <a:lnTo>
                    <a:pt x="504" y="53"/>
                  </a:lnTo>
                  <a:lnTo>
                    <a:pt x="507" y="55"/>
                  </a:lnTo>
                  <a:lnTo>
                    <a:pt x="511" y="56"/>
                  </a:lnTo>
                  <a:lnTo>
                    <a:pt x="514" y="57"/>
                  </a:lnTo>
                  <a:lnTo>
                    <a:pt x="518" y="58"/>
                  </a:lnTo>
                  <a:lnTo>
                    <a:pt x="522" y="61"/>
                  </a:lnTo>
                  <a:lnTo>
                    <a:pt x="528" y="62"/>
                  </a:lnTo>
                  <a:lnTo>
                    <a:pt x="535" y="64"/>
                  </a:lnTo>
                  <a:lnTo>
                    <a:pt x="542" y="65"/>
                  </a:lnTo>
                  <a:lnTo>
                    <a:pt x="548" y="67"/>
                  </a:lnTo>
                  <a:lnTo>
                    <a:pt x="554" y="67"/>
                  </a:lnTo>
                  <a:lnTo>
                    <a:pt x="560" y="67"/>
                  </a:lnTo>
                  <a:lnTo>
                    <a:pt x="566" y="68"/>
                  </a:lnTo>
                  <a:lnTo>
                    <a:pt x="571" y="68"/>
                  </a:lnTo>
                  <a:lnTo>
                    <a:pt x="577" y="68"/>
                  </a:lnTo>
                  <a:lnTo>
                    <a:pt x="583" y="69"/>
                  </a:lnTo>
                  <a:lnTo>
                    <a:pt x="589" y="69"/>
                  </a:lnTo>
                  <a:lnTo>
                    <a:pt x="595" y="71"/>
                  </a:lnTo>
                  <a:lnTo>
                    <a:pt x="601" y="71"/>
                  </a:lnTo>
                  <a:lnTo>
                    <a:pt x="607" y="73"/>
                  </a:lnTo>
                  <a:lnTo>
                    <a:pt x="613" y="75"/>
                  </a:lnTo>
                  <a:lnTo>
                    <a:pt x="619" y="78"/>
                  </a:lnTo>
                  <a:lnTo>
                    <a:pt x="627" y="80"/>
                  </a:lnTo>
                  <a:lnTo>
                    <a:pt x="634" y="82"/>
                  </a:lnTo>
                  <a:lnTo>
                    <a:pt x="640" y="85"/>
                  </a:lnTo>
                  <a:lnTo>
                    <a:pt x="647" y="88"/>
                  </a:lnTo>
                  <a:lnTo>
                    <a:pt x="652" y="92"/>
                  </a:lnTo>
                  <a:lnTo>
                    <a:pt x="659" y="96"/>
                  </a:lnTo>
                  <a:lnTo>
                    <a:pt x="665" y="99"/>
                  </a:lnTo>
                  <a:lnTo>
                    <a:pt x="671" y="103"/>
                  </a:lnTo>
                  <a:lnTo>
                    <a:pt x="677" y="107"/>
                  </a:lnTo>
                  <a:lnTo>
                    <a:pt x="683" y="111"/>
                  </a:lnTo>
                  <a:lnTo>
                    <a:pt x="688" y="115"/>
                  </a:lnTo>
                  <a:lnTo>
                    <a:pt x="695" y="120"/>
                  </a:lnTo>
                  <a:lnTo>
                    <a:pt x="700" y="123"/>
                  </a:lnTo>
                  <a:lnTo>
                    <a:pt x="705" y="127"/>
                  </a:lnTo>
                  <a:lnTo>
                    <a:pt x="710" y="129"/>
                  </a:lnTo>
                  <a:lnTo>
                    <a:pt x="716" y="133"/>
                  </a:lnTo>
                  <a:lnTo>
                    <a:pt x="719" y="136"/>
                  </a:lnTo>
                  <a:lnTo>
                    <a:pt x="724" y="137"/>
                  </a:lnTo>
                  <a:lnTo>
                    <a:pt x="728" y="138"/>
                  </a:lnTo>
                  <a:lnTo>
                    <a:pt x="733" y="139"/>
                  </a:lnTo>
                  <a:lnTo>
                    <a:pt x="736" y="139"/>
                  </a:lnTo>
                  <a:lnTo>
                    <a:pt x="741" y="140"/>
                  </a:lnTo>
                  <a:lnTo>
                    <a:pt x="746" y="142"/>
                  </a:lnTo>
                  <a:lnTo>
                    <a:pt x="753" y="144"/>
                  </a:lnTo>
                  <a:lnTo>
                    <a:pt x="758" y="145"/>
                  </a:lnTo>
                  <a:lnTo>
                    <a:pt x="765" y="146"/>
                  </a:lnTo>
                  <a:lnTo>
                    <a:pt x="769" y="148"/>
                  </a:lnTo>
                  <a:lnTo>
                    <a:pt x="774" y="149"/>
                  </a:lnTo>
                  <a:lnTo>
                    <a:pt x="777" y="149"/>
                  </a:lnTo>
                  <a:lnTo>
                    <a:pt x="781" y="150"/>
                  </a:lnTo>
                  <a:lnTo>
                    <a:pt x="783" y="151"/>
                  </a:lnTo>
                  <a:lnTo>
                    <a:pt x="788" y="152"/>
                  </a:lnTo>
                  <a:lnTo>
                    <a:pt x="791" y="152"/>
                  </a:lnTo>
                  <a:lnTo>
                    <a:pt x="794" y="155"/>
                  </a:lnTo>
                  <a:lnTo>
                    <a:pt x="798" y="155"/>
                  </a:lnTo>
                  <a:lnTo>
                    <a:pt x="802" y="156"/>
                  </a:lnTo>
                  <a:lnTo>
                    <a:pt x="805" y="157"/>
                  </a:lnTo>
                  <a:lnTo>
                    <a:pt x="810" y="158"/>
                  </a:lnTo>
                  <a:lnTo>
                    <a:pt x="816" y="161"/>
                  </a:lnTo>
                  <a:lnTo>
                    <a:pt x="823" y="162"/>
                  </a:lnTo>
                  <a:lnTo>
                    <a:pt x="828" y="166"/>
                  </a:lnTo>
                  <a:lnTo>
                    <a:pt x="834" y="168"/>
                  </a:lnTo>
                  <a:lnTo>
                    <a:pt x="839" y="169"/>
                  </a:lnTo>
                  <a:lnTo>
                    <a:pt x="844" y="172"/>
                  </a:lnTo>
                  <a:lnTo>
                    <a:pt x="847" y="174"/>
                  </a:lnTo>
                  <a:lnTo>
                    <a:pt x="851" y="177"/>
                  </a:lnTo>
                  <a:lnTo>
                    <a:pt x="856" y="179"/>
                  </a:lnTo>
                  <a:lnTo>
                    <a:pt x="859" y="181"/>
                  </a:lnTo>
                  <a:lnTo>
                    <a:pt x="862" y="185"/>
                  </a:lnTo>
                  <a:lnTo>
                    <a:pt x="867" y="189"/>
                  </a:lnTo>
                  <a:lnTo>
                    <a:pt x="869" y="192"/>
                  </a:lnTo>
                  <a:lnTo>
                    <a:pt x="871" y="196"/>
                  </a:lnTo>
                  <a:lnTo>
                    <a:pt x="874" y="200"/>
                  </a:lnTo>
                  <a:lnTo>
                    <a:pt x="876" y="206"/>
                  </a:lnTo>
                  <a:lnTo>
                    <a:pt x="879" y="209"/>
                  </a:lnTo>
                  <a:lnTo>
                    <a:pt x="880" y="216"/>
                  </a:lnTo>
                  <a:lnTo>
                    <a:pt x="881" y="219"/>
                  </a:lnTo>
                  <a:lnTo>
                    <a:pt x="882" y="221"/>
                  </a:lnTo>
                  <a:lnTo>
                    <a:pt x="882" y="226"/>
                  </a:lnTo>
                  <a:lnTo>
                    <a:pt x="884" y="230"/>
                  </a:lnTo>
                  <a:lnTo>
                    <a:pt x="884" y="232"/>
                  </a:lnTo>
                  <a:lnTo>
                    <a:pt x="885" y="237"/>
                  </a:lnTo>
                  <a:lnTo>
                    <a:pt x="885" y="239"/>
                  </a:lnTo>
                  <a:lnTo>
                    <a:pt x="885" y="243"/>
                  </a:lnTo>
                  <a:lnTo>
                    <a:pt x="885" y="248"/>
                  </a:lnTo>
                  <a:lnTo>
                    <a:pt x="885" y="252"/>
                  </a:lnTo>
                  <a:lnTo>
                    <a:pt x="885" y="255"/>
                  </a:lnTo>
                  <a:lnTo>
                    <a:pt x="886" y="259"/>
                  </a:lnTo>
                  <a:lnTo>
                    <a:pt x="885" y="262"/>
                  </a:lnTo>
                  <a:lnTo>
                    <a:pt x="885" y="266"/>
                  </a:lnTo>
                  <a:lnTo>
                    <a:pt x="885" y="270"/>
                  </a:lnTo>
                  <a:lnTo>
                    <a:pt x="885" y="273"/>
                  </a:lnTo>
                  <a:lnTo>
                    <a:pt x="884" y="277"/>
                  </a:lnTo>
                  <a:lnTo>
                    <a:pt x="884" y="281"/>
                  </a:lnTo>
                  <a:lnTo>
                    <a:pt x="884" y="284"/>
                  </a:lnTo>
                  <a:lnTo>
                    <a:pt x="884" y="288"/>
                  </a:lnTo>
                  <a:lnTo>
                    <a:pt x="882" y="295"/>
                  </a:lnTo>
                  <a:lnTo>
                    <a:pt x="881" y="301"/>
                  </a:lnTo>
                  <a:lnTo>
                    <a:pt x="880" y="307"/>
                  </a:lnTo>
                  <a:lnTo>
                    <a:pt x="880" y="314"/>
                  </a:lnTo>
                  <a:lnTo>
                    <a:pt x="880" y="319"/>
                  </a:lnTo>
                  <a:lnTo>
                    <a:pt x="880" y="325"/>
                  </a:lnTo>
                  <a:lnTo>
                    <a:pt x="880" y="330"/>
                  </a:lnTo>
                  <a:lnTo>
                    <a:pt x="881" y="335"/>
                  </a:lnTo>
                  <a:lnTo>
                    <a:pt x="882" y="338"/>
                  </a:lnTo>
                  <a:lnTo>
                    <a:pt x="884" y="345"/>
                  </a:lnTo>
                  <a:lnTo>
                    <a:pt x="885" y="351"/>
                  </a:lnTo>
                  <a:lnTo>
                    <a:pt x="887" y="357"/>
                  </a:lnTo>
                  <a:lnTo>
                    <a:pt x="887" y="360"/>
                  </a:lnTo>
                  <a:lnTo>
                    <a:pt x="888" y="364"/>
                  </a:lnTo>
                  <a:lnTo>
                    <a:pt x="890" y="367"/>
                  </a:lnTo>
                  <a:lnTo>
                    <a:pt x="891" y="372"/>
                  </a:lnTo>
                  <a:lnTo>
                    <a:pt x="891" y="376"/>
                  </a:lnTo>
                  <a:lnTo>
                    <a:pt x="892" y="380"/>
                  </a:lnTo>
                  <a:lnTo>
                    <a:pt x="893" y="383"/>
                  </a:lnTo>
                  <a:lnTo>
                    <a:pt x="894" y="388"/>
                  </a:lnTo>
                  <a:lnTo>
                    <a:pt x="896" y="392"/>
                  </a:lnTo>
                  <a:lnTo>
                    <a:pt x="896" y="395"/>
                  </a:lnTo>
                  <a:lnTo>
                    <a:pt x="897" y="399"/>
                  </a:lnTo>
                  <a:lnTo>
                    <a:pt x="898" y="404"/>
                  </a:lnTo>
                  <a:lnTo>
                    <a:pt x="898" y="407"/>
                  </a:lnTo>
                  <a:lnTo>
                    <a:pt x="900" y="411"/>
                  </a:lnTo>
                  <a:lnTo>
                    <a:pt x="900" y="415"/>
                  </a:lnTo>
                  <a:lnTo>
                    <a:pt x="902" y="418"/>
                  </a:lnTo>
                  <a:lnTo>
                    <a:pt x="903" y="425"/>
                  </a:lnTo>
                  <a:lnTo>
                    <a:pt x="904" y="432"/>
                  </a:lnTo>
                  <a:lnTo>
                    <a:pt x="904" y="438"/>
                  </a:lnTo>
                  <a:lnTo>
                    <a:pt x="905" y="444"/>
                  </a:lnTo>
                  <a:lnTo>
                    <a:pt x="904" y="448"/>
                  </a:lnTo>
                  <a:lnTo>
                    <a:pt x="904" y="453"/>
                  </a:lnTo>
                  <a:lnTo>
                    <a:pt x="903" y="458"/>
                  </a:lnTo>
                  <a:lnTo>
                    <a:pt x="903" y="463"/>
                  </a:lnTo>
                  <a:lnTo>
                    <a:pt x="902" y="468"/>
                  </a:lnTo>
                  <a:lnTo>
                    <a:pt x="900" y="473"/>
                  </a:lnTo>
                  <a:lnTo>
                    <a:pt x="898" y="477"/>
                  </a:lnTo>
                  <a:lnTo>
                    <a:pt x="898" y="483"/>
                  </a:lnTo>
                  <a:lnTo>
                    <a:pt x="896" y="487"/>
                  </a:lnTo>
                  <a:lnTo>
                    <a:pt x="896" y="492"/>
                  </a:lnTo>
                  <a:lnTo>
                    <a:pt x="894" y="497"/>
                  </a:lnTo>
                  <a:lnTo>
                    <a:pt x="894" y="503"/>
                  </a:lnTo>
                  <a:lnTo>
                    <a:pt x="893" y="508"/>
                  </a:lnTo>
                  <a:lnTo>
                    <a:pt x="893" y="512"/>
                  </a:lnTo>
                  <a:lnTo>
                    <a:pt x="893" y="517"/>
                  </a:lnTo>
                  <a:lnTo>
                    <a:pt x="894" y="523"/>
                  </a:lnTo>
                  <a:lnTo>
                    <a:pt x="896" y="528"/>
                  </a:lnTo>
                  <a:lnTo>
                    <a:pt x="897" y="534"/>
                  </a:lnTo>
                  <a:lnTo>
                    <a:pt x="897" y="540"/>
                  </a:lnTo>
                  <a:lnTo>
                    <a:pt x="899" y="546"/>
                  </a:lnTo>
                  <a:lnTo>
                    <a:pt x="900" y="552"/>
                  </a:lnTo>
                  <a:lnTo>
                    <a:pt x="902" y="558"/>
                  </a:lnTo>
                  <a:lnTo>
                    <a:pt x="903" y="564"/>
                  </a:lnTo>
                  <a:lnTo>
                    <a:pt x="904" y="570"/>
                  </a:lnTo>
                  <a:lnTo>
                    <a:pt x="904" y="577"/>
                  </a:lnTo>
                  <a:lnTo>
                    <a:pt x="905" y="583"/>
                  </a:lnTo>
                  <a:lnTo>
                    <a:pt x="905" y="589"/>
                  </a:lnTo>
                  <a:lnTo>
                    <a:pt x="906" y="595"/>
                  </a:lnTo>
                  <a:lnTo>
                    <a:pt x="906" y="599"/>
                  </a:lnTo>
                  <a:lnTo>
                    <a:pt x="906" y="604"/>
                  </a:lnTo>
                  <a:lnTo>
                    <a:pt x="906" y="609"/>
                  </a:lnTo>
                  <a:lnTo>
                    <a:pt x="906" y="614"/>
                  </a:lnTo>
                  <a:lnTo>
                    <a:pt x="905" y="618"/>
                  </a:lnTo>
                  <a:lnTo>
                    <a:pt x="904" y="622"/>
                  </a:lnTo>
                  <a:lnTo>
                    <a:pt x="903" y="627"/>
                  </a:lnTo>
                  <a:lnTo>
                    <a:pt x="903" y="633"/>
                  </a:lnTo>
                  <a:lnTo>
                    <a:pt x="902" y="638"/>
                  </a:lnTo>
                  <a:lnTo>
                    <a:pt x="900" y="644"/>
                  </a:lnTo>
                  <a:lnTo>
                    <a:pt x="898" y="649"/>
                  </a:lnTo>
                  <a:lnTo>
                    <a:pt x="898" y="655"/>
                  </a:lnTo>
                  <a:lnTo>
                    <a:pt x="897" y="661"/>
                  </a:lnTo>
                  <a:lnTo>
                    <a:pt x="896" y="667"/>
                  </a:lnTo>
                  <a:lnTo>
                    <a:pt x="894" y="672"/>
                  </a:lnTo>
                  <a:lnTo>
                    <a:pt x="894" y="678"/>
                  </a:lnTo>
                  <a:lnTo>
                    <a:pt x="894" y="684"/>
                  </a:lnTo>
                  <a:lnTo>
                    <a:pt x="894" y="690"/>
                  </a:lnTo>
                  <a:lnTo>
                    <a:pt x="894" y="695"/>
                  </a:lnTo>
                  <a:lnTo>
                    <a:pt x="894" y="702"/>
                  </a:lnTo>
                  <a:lnTo>
                    <a:pt x="894" y="707"/>
                  </a:lnTo>
                  <a:lnTo>
                    <a:pt x="896" y="713"/>
                  </a:lnTo>
                  <a:lnTo>
                    <a:pt x="896" y="717"/>
                  </a:lnTo>
                  <a:lnTo>
                    <a:pt x="896" y="720"/>
                  </a:lnTo>
                  <a:lnTo>
                    <a:pt x="896" y="724"/>
                  </a:lnTo>
                  <a:lnTo>
                    <a:pt x="896" y="729"/>
                  </a:lnTo>
                  <a:lnTo>
                    <a:pt x="896" y="732"/>
                  </a:lnTo>
                  <a:lnTo>
                    <a:pt x="896" y="736"/>
                  </a:lnTo>
                  <a:lnTo>
                    <a:pt x="896" y="740"/>
                  </a:lnTo>
                  <a:lnTo>
                    <a:pt x="896" y="744"/>
                  </a:lnTo>
                  <a:lnTo>
                    <a:pt x="896" y="748"/>
                  </a:lnTo>
                  <a:lnTo>
                    <a:pt x="896" y="753"/>
                  </a:lnTo>
                  <a:lnTo>
                    <a:pt x="896" y="758"/>
                  </a:lnTo>
                  <a:lnTo>
                    <a:pt x="896" y="761"/>
                  </a:lnTo>
                  <a:lnTo>
                    <a:pt x="896" y="766"/>
                  </a:lnTo>
                  <a:lnTo>
                    <a:pt x="896" y="770"/>
                  </a:lnTo>
                  <a:lnTo>
                    <a:pt x="894" y="773"/>
                  </a:lnTo>
                  <a:lnTo>
                    <a:pt x="894" y="778"/>
                  </a:lnTo>
                  <a:lnTo>
                    <a:pt x="894" y="782"/>
                  </a:lnTo>
                  <a:lnTo>
                    <a:pt x="893" y="786"/>
                  </a:lnTo>
                  <a:lnTo>
                    <a:pt x="893" y="789"/>
                  </a:lnTo>
                  <a:lnTo>
                    <a:pt x="893" y="793"/>
                  </a:lnTo>
                  <a:lnTo>
                    <a:pt x="891" y="799"/>
                  </a:lnTo>
                  <a:lnTo>
                    <a:pt x="890" y="805"/>
                  </a:lnTo>
                  <a:lnTo>
                    <a:pt x="888" y="811"/>
                  </a:lnTo>
                  <a:lnTo>
                    <a:pt x="886" y="815"/>
                  </a:lnTo>
                  <a:lnTo>
                    <a:pt x="881" y="821"/>
                  </a:lnTo>
                  <a:lnTo>
                    <a:pt x="878" y="827"/>
                  </a:lnTo>
                  <a:lnTo>
                    <a:pt x="871" y="831"/>
                  </a:lnTo>
                  <a:lnTo>
                    <a:pt x="868" y="836"/>
                  </a:lnTo>
                  <a:lnTo>
                    <a:pt x="862" y="839"/>
                  </a:lnTo>
                  <a:lnTo>
                    <a:pt x="856" y="841"/>
                  </a:lnTo>
                  <a:lnTo>
                    <a:pt x="850" y="842"/>
                  </a:lnTo>
                  <a:lnTo>
                    <a:pt x="845" y="844"/>
                  </a:lnTo>
                  <a:lnTo>
                    <a:pt x="839" y="844"/>
                  </a:lnTo>
                  <a:lnTo>
                    <a:pt x="833" y="842"/>
                  </a:lnTo>
                  <a:lnTo>
                    <a:pt x="826" y="840"/>
                  </a:lnTo>
                  <a:lnTo>
                    <a:pt x="821" y="839"/>
                  </a:lnTo>
                  <a:lnTo>
                    <a:pt x="815" y="837"/>
                  </a:lnTo>
                  <a:lnTo>
                    <a:pt x="811" y="836"/>
                  </a:lnTo>
                  <a:lnTo>
                    <a:pt x="809" y="835"/>
                  </a:lnTo>
                  <a:lnTo>
                    <a:pt x="809" y="835"/>
                  </a:lnTo>
                  <a:lnTo>
                    <a:pt x="809" y="835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70200" y="2644920"/>
              <a:ext cx="403200" cy="95040"/>
            </a:xfrm>
            <a:custGeom>
              <a:avLst/>
              <a:gdLst/>
              <a:ahLst/>
              <a:rect l="l" t="t" r="r" b="b"/>
              <a:pathLst>
                <a:path w="761" h="178">
                  <a:moveTo>
                    <a:pt x="5" y="6"/>
                  </a:moveTo>
                  <a:lnTo>
                    <a:pt x="1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50"/>
                  </a:lnTo>
                  <a:lnTo>
                    <a:pt x="6" y="54"/>
                  </a:lnTo>
                  <a:lnTo>
                    <a:pt x="7" y="62"/>
                  </a:lnTo>
                  <a:lnTo>
                    <a:pt x="9" y="69"/>
                  </a:lnTo>
                  <a:lnTo>
                    <a:pt x="10" y="75"/>
                  </a:lnTo>
                  <a:lnTo>
                    <a:pt x="10" y="79"/>
                  </a:lnTo>
                  <a:lnTo>
                    <a:pt x="11" y="82"/>
                  </a:lnTo>
                  <a:lnTo>
                    <a:pt x="11" y="86"/>
                  </a:lnTo>
                  <a:lnTo>
                    <a:pt x="12" y="89"/>
                  </a:lnTo>
                  <a:lnTo>
                    <a:pt x="12" y="93"/>
                  </a:lnTo>
                  <a:lnTo>
                    <a:pt x="13" y="97"/>
                  </a:lnTo>
                  <a:lnTo>
                    <a:pt x="13" y="100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7"/>
                  </a:lnTo>
                  <a:lnTo>
                    <a:pt x="15" y="122"/>
                  </a:lnTo>
                  <a:lnTo>
                    <a:pt x="15" y="128"/>
                  </a:lnTo>
                  <a:lnTo>
                    <a:pt x="15" y="133"/>
                  </a:lnTo>
                  <a:lnTo>
                    <a:pt x="16" y="138"/>
                  </a:lnTo>
                  <a:lnTo>
                    <a:pt x="17" y="143"/>
                  </a:lnTo>
                  <a:lnTo>
                    <a:pt x="18" y="147"/>
                  </a:lnTo>
                  <a:lnTo>
                    <a:pt x="20" y="151"/>
                  </a:lnTo>
                  <a:lnTo>
                    <a:pt x="22" y="155"/>
                  </a:lnTo>
                  <a:lnTo>
                    <a:pt x="23" y="158"/>
                  </a:lnTo>
                  <a:lnTo>
                    <a:pt x="28" y="162"/>
                  </a:lnTo>
                  <a:lnTo>
                    <a:pt x="30" y="165"/>
                  </a:lnTo>
                  <a:lnTo>
                    <a:pt x="35" y="168"/>
                  </a:lnTo>
                  <a:lnTo>
                    <a:pt x="40" y="172"/>
                  </a:lnTo>
                  <a:lnTo>
                    <a:pt x="46" y="175"/>
                  </a:lnTo>
                  <a:lnTo>
                    <a:pt x="48" y="175"/>
                  </a:lnTo>
                  <a:lnTo>
                    <a:pt x="53" y="176"/>
                  </a:lnTo>
                  <a:lnTo>
                    <a:pt x="58" y="176"/>
                  </a:lnTo>
                  <a:lnTo>
                    <a:pt x="64" y="178"/>
                  </a:lnTo>
                  <a:lnTo>
                    <a:pt x="68" y="178"/>
                  </a:lnTo>
                  <a:lnTo>
                    <a:pt x="70" y="178"/>
                  </a:lnTo>
                  <a:lnTo>
                    <a:pt x="75" y="178"/>
                  </a:lnTo>
                  <a:lnTo>
                    <a:pt x="79" y="178"/>
                  </a:lnTo>
                  <a:lnTo>
                    <a:pt x="82" y="178"/>
                  </a:lnTo>
                  <a:lnTo>
                    <a:pt x="86" y="178"/>
                  </a:lnTo>
                  <a:lnTo>
                    <a:pt x="91" y="178"/>
                  </a:lnTo>
                  <a:lnTo>
                    <a:pt x="96" y="178"/>
                  </a:lnTo>
                  <a:lnTo>
                    <a:pt x="99" y="176"/>
                  </a:lnTo>
                  <a:lnTo>
                    <a:pt x="104" y="176"/>
                  </a:lnTo>
                  <a:lnTo>
                    <a:pt x="109" y="175"/>
                  </a:lnTo>
                  <a:lnTo>
                    <a:pt x="114" y="175"/>
                  </a:lnTo>
                  <a:lnTo>
                    <a:pt x="118" y="175"/>
                  </a:lnTo>
                  <a:lnTo>
                    <a:pt x="124" y="174"/>
                  </a:lnTo>
                  <a:lnTo>
                    <a:pt x="129" y="174"/>
                  </a:lnTo>
                  <a:lnTo>
                    <a:pt x="135" y="174"/>
                  </a:lnTo>
                  <a:lnTo>
                    <a:pt x="140" y="173"/>
                  </a:lnTo>
                  <a:lnTo>
                    <a:pt x="145" y="173"/>
                  </a:lnTo>
                  <a:lnTo>
                    <a:pt x="150" y="172"/>
                  </a:lnTo>
                  <a:lnTo>
                    <a:pt x="156" y="172"/>
                  </a:lnTo>
                  <a:lnTo>
                    <a:pt x="162" y="169"/>
                  </a:lnTo>
                  <a:lnTo>
                    <a:pt x="168" y="169"/>
                  </a:lnTo>
                  <a:lnTo>
                    <a:pt x="173" y="168"/>
                  </a:lnTo>
                  <a:lnTo>
                    <a:pt x="179" y="168"/>
                  </a:lnTo>
                  <a:lnTo>
                    <a:pt x="184" y="167"/>
                  </a:lnTo>
                  <a:lnTo>
                    <a:pt x="190" y="167"/>
                  </a:lnTo>
                  <a:lnTo>
                    <a:pt x="194" y="165"/>
                  </a:lnTo>
                  <a:lnTo>
                    <a:pt x="200" y="164"/>
                  </a:lnTo>
                  <a:lnTo>
                    <a:pt x="205" y="163"/>
                  </a:lnTo>
                  <a:lnTo>
                    <a:pt x="211" y="163"/>
                  </a:lnTo>
                  <a:lnTo>
                    <a:pt x="216" y="162"/>
                  </a:lnTo>
                  <a:lnTo>
                    <a:pt x="222" y="161"/>
                  </a:lnTo>
                  <a:lnTo>
                    <a:pt x="227" y="159"/>
                  </a:lnTo>
                  <a:lnTo>
                    <a:pt x="232" y="159"/>
                  </a:lnTo>
                  <a:lnTo>
                    <a:pt x="238" y="157"/>
                  </a:lnTo>
                  <a:lnTo>
                    <a:pt x="243" y="157"/>
                  </a:lnTo>
                  <a:lnTo>
                    <a:pt x="248" y="156"/>
                  </a:lnTo>
                  <a:lnTo>
                    <a:pt x="252" y="155"/>
                  </a:lnTo>
                  <a:lnTo>
                    <a:pt x="257" y="155"/>
                  </a:lnTo>
                  <a:lnTo>
                    <a:pt x="262" y="153"/>
                  </a:lnTo>
                  <a:lnTo>
                    <a:pt x="266" y="152"/>
                  </a:lnTo>
                  <a:lnTo>
                    <a:pt x="270" y="152"/>
                  </a:lnTo>
                  <a:lnTo>
                    <a:pt x="274" y="151"/>
                  </a:lnTo>
                  <a:lnTo>
                    <a:pt x="279" y="150"/>
                  </a:lnTo>
                  <a:lnTo>
                    <a:pt x="283" y="149"/>
                  </a:lnTo>
                  <a:lnTo>
                    <a:pt x="286" y="149"/>
                  </a:lnTo>
                  <a:lnTo>
                    <a:pt x="290" y="146"/>
                  </a:lnTo>
                  <a:lnTo>
                    <a:pt x="295" y="146"/>
                  </a:lnTo>
                  <a:lnTo>
                    <a:pt x="301" y="144"/>
                  </a:lnTo>
                  <a:lnTo>
                    <a:pt x="307" y="143"/>
                  </a:lnTo>
                  <a:lnTo>
                    <a:pt x="310" y="141"/>
                  </a:lnTo>
                  <a:lnTo>
                    <a:pt x="315" y="140"/>
                  </a:lnTo>
                  <a:lnTo>
                    <a:pt x="319" y="138"/>
                  </a:lnTo>
                  <a:lnTo>
                    <a:pt x="322" y="137"/>
                  </a:lnTo>
                  <a:lnTo>
                    <a:pt x="326" y="134"/>
                  </a:lnTo>
                  <a:lnTo>
                    <a:pt x="331" y="134"/>
                  </a:lnTo>
                  <a:lnTo>
                    <a:pt x="334" y="133"/>
                  </a:lnTo>
                  <a:lnTo>
                    <a:pt x="340" y="132"/>
                  </a:lnTo>
                  <a:lnTo>
                    <a:pt x="345" y="132"/>
                  </a:lnTo>
                  <a:lnTo>
                    <a:pt x="351" y="132"/>
                  </a:lnTo>
                  <a:lnTo>
                    <a:pt x="357" y="130"/>
                  </a:lnTo>
                  <a:lnTo>
                    <a:pt x="363" y="129"/>
                  </a:lnTo>
                  <a:lnTo>
                    <a:pt x="368" y="129"/>
                  </a:lnTo>
                  <a:lnTo>
                    <a:pt x="375" y="129"/>
                  </a:lnTo>
                  <a:lnTo>
                    <a:pt x="380" y="128"/>
                  </a:lnTo>
                  <a:lnTo>
                    <a:pt x="387" y="128"/>
                  </a:lnTo>
                  <a:lnTo>
                    <a:pt x="394" y="128"/>
                  </a:lnTo>
                  <a:lnTo>
                    <a:pt x="401" y="128"/>
                  </a:lnTo>
                  <a:lnTo>
                    <a:pt x="406" y="128"/>
                  </a:lnTo>
                  <a:lnTo>
                    <a:pt x="413" y="127"/>
                  </a:lnTo>
                  <a:lnTo>
                    <a:pt x="418" y="127"/>
                  </a:lnTo>
                  <a:lnTo>
                    <a:pt x="425" y="126"/>
                  </a:lnTo>
                  <a:lnTo>
                    <a:pt x="430" y="126"/>
                  </a:lnTo>
                  <a:lnTo>
                    <a:pt x="436" y="124"/>
                  </a:lnTo>
                  <a:lnTo>
                    <a:pt x="442" y="123"/>
                  </a:lnTo>
                  <a:lnTo>
                    <a:pt x="448" y="123"/>
                  </a:lnTo>
                  <a:lnTo>
                    <a:pt x="453" y="122"/>
                  </a:lnTo>
                  <a:lnTo>
                    <a:pt x="457" y="121"/>
                  </a:lnTo>
                  <a:lnTo>
                    <a:pt x="462" y="120"/>
                  </a:lnTo>
                  <a:lnTo>
                    <a:pt x="467" y="120"/>
                  </a:lnTo>
                  <a:lnTo>
                    <a:pt x="471" y="118"/>
                  </a:lnTo>
                  <a:lnTo>
                    <a:pt x="474" y="117"/>
                  </a:lnTo>
                  <a:lnTo>
                    <a:pt x="479" y="115"/>
                  </a:lnTo>
                  <a:lnTo>
                    <a:pt x="483" y="114"/>
                  </a:lnTo>
                  <a:lnTo>
                    <a:pt x="488" y="109"/>
                  </a:lnTo>
                  <a:lnTo>
                    <a:pt x="494" y="105"/>
                  </a:lnTo>
                  <a:lnTo>
                    <a:pt x="500" y="101"/>
                  </a:lnTo>
                  <a:lnTo>
                    <a:pt x="507" y="98"/>
                  </a:lnTo>
                  <a:lnTo>
                    <a:pt x="509" y="97"/>
                  </a:lnTo>
                  <a:lnTo>
                    <a:pt x="514" y="94"/>
                  </a:lnTo>
                  <a:lnTo>
                    <a:pt x="518" y="93"/>
                  </a:lnTo>
                  <a:lnTo>
                    <a:pt x="521" y="91"/>
                  </a:lnTo>
                  <a:lnTo>
                    <a:pt x="525" y="88"/>
                  </a:lnTo>
                  <a:lnTo>
                    <a:pt x="529" y="87"/>
                  </a:lnTo>
                  <a:lnTo>
                    <a:pt x="532" y="86"/>
                  </a:lnTo>
                  <a:lnTo>
                    <a:pt x="537" y="86"/>
                  </a:lnTo>
                  <a:lnTo>
                    <a:pt x="541" y="83"/>
                  </a:lnTo>
                  <a:lnTo>
                    <a:pt x="544" y="82"/>
                  </a:lnTo>
                  <a:lnTo>
                    <a:pt x="549" y="81"/>
                  </a:lnTo>
                  <a:lnTo>
                    <a:pt x="554" y="81"/>
                  </a:lnTo>
                  <a:lnTo>
                    <a:pt x="558" y="80"/>
                  </a:lnTo>
                  <a:lnTo>
                    <a:pt x="562" y="79"/>
                  </a:lnTo>
                  <a:lnTo>
                    <a:pt x="566" y="77"/>
                  </a:lnTo>
                  <a:lnTo>
                    <a:pt x="571" y="77"/>
                  </a:lnTo>
                  <a:lnTo>
                    <a:pt x="574" y="76"/>
                  </a:lnTo>
                  <a:lnTo>
                    <a:pt x="579" y="76"/>
                  </a:lnTo>
                  <a:lnTo>
                    <a:pt x="584" y="76"/>
                  </a:lnTo>
                  <a:lnTo>
                    <a:pt x="589" y="76"/>
                  </a:lnTo>
                  <a:lnTo>
                    <a:pt x="594" y="76"/>
                  </a:lnTo>
                  <a:lnTo>
                    <a:pt x="599" y="76"/>
                  </a:lnTo>
                  <a:lnTo>
                    <a:pt x="603" y="76"/>
                  </a:lnTo>
                  <a:lnTo>
                    <a:pt x="609" y="77"/>
                  </a:lnTo>
                  <a:lnTo>
                    <a:pt x="613" y="77"/>
                  </a:lnTo>
                  <a:lnTo>
                    <a:pt x="619" y="77"/>
                  </a:lnTo>
                  <a:lnTo>
                    <a:pt x="623" y="77"/>
                  </a:lnTo>
                  <a:lnTo>
                    <a:pt x="629" y="77"/>
                  </a:lnTo>
                  <a:lnTo>
                    <a:pt x="634" y="77"/>
                  </a:lnTo>
                  <a:lnTo>
                    <a:pt x="638" y="76"/>
                  </a:lnTo>
                  <a:lnTo>
                    <a:pt x="644" y="76"/>
                  </a:lnTo>
                  <a:lnTo>
                    <a:pt x="649" y="75"/>
                  </a:lnTo>
                  <a:lnTo>
                    <a:pt x="655" y="74"/>
                  </a:lnTo>
                  <a:lnTo>
                    <a:pt x="660" y="72"/>
                  </a:lnTo>
                  <a:lnTo>
                    <a:pt x="666" y="71"/>
                  </a:lnTo>
                  <a:lnTo>
                    <a:pt x="671" y="71"/>
                  </a:lnTo>
                  <a:lnTo>
                    <a:pt x="677" y="69"/>
                  </a:lnTo>
                  <a:lnTo>
                    <a:pt x="682" y="68"/>
                  </a:lnTo>
                  <a:lnTo>
                    <a:pt x="688" y="66"/>
                  </a:lnTo>
                  <a:lnTo>
                    <a:pt x="693" y="65"/>
                  </a:lnTo>
                  <a:lnTo>
                    <a:pt x="698" y="63"/>
                  </a:lnTo>
                  <a:lnTo>
                    <a:pt x="702" y="62"/>
                  </a:lnTo>
                  <a:lnTo>
                    <a:pt x="707" y="59"/>
                  </a:lnTo>
                  <a:lnTo>
                    <a:pt x="713" y="58"/>
                  </a:lnTo>
                  <a:lnTo>
                    <a:pt x="717" y="56"/>
                  </a:lnTo>
                  <a:lnTo>
                    <a:pt x="722" y="53"/>
                  </a:lnTo>
                  <a:lnTo>
                    <a:pt x="726" y="52"/>
                  </a:lnTo>
                  <a:lnTo>
                    <a:pt x="730" y="51"/>
                  </a:lnTo>
                  <a:lnTo>
                    <a:pt x="734" y="48"/>
                  </a:lnTo>
                  <a:lnTo>
                    <a:pt x="737" y="47"/>
                  </a:lnTo>
                  <a:lnTo>
                    <a:pt x="741" y="45"/>
                  </a:lnTo>
                  <a:lnTo>
                    <a:pt x="745" y="42"/>
                  </a:lnTo>
                  <a:lnTo>
                    <a:pt x="751" y="39"/>
                  </a:lnTo>
                  <a:lnTo>
                    <a:pt x="755" y="36"/>
                  </a:lnTo>
                  <a:lnTo>
                    <a:pt x="760" y="30"/>
                  </a:lnTo>
                  <a:lnTo>
                    <a:pt x="761" y="28"/>
                  </a:lnTo>
                  <a:lnTo>
                    <a:pt x="759" y="25"/>
                  </a:lnTo>
                  <a:lnTo>
                    <a:pt x="753" y="25"/>
                  </a:lnTo>
                  <a:lnTo>
                    <a:pt x="749" y="25"/>
                  </a:lnTo>
                  <a:lnTo>
                    <a:pt x="746" y="27"/>
                  </a:lnTo>
                  <a:lnTo>
                    <a:pt x="740" y="27"/>
                  </a:lnTo>
                  <a:lnTo>
                    <a:pt x="735" y="29"/>
                  </a:lnTo>
                  <a:lnTo>
                    <a:pt x="729" y="30"/>
                  </a:lnTo>
                  <a:lnTo>
                    <a:pt x="723" y="31"/>
                  </a:lnTo>
                  <a:lnTo>
                    <a:pt x="716" y="34"/>
                  </a:lnTo>
                  <a:lnTo>
                    <a:pt x="710" y="36"/>
                  </a:lnTo>
                  <a:lnTo>
                    <a:pt x="706" y="37"/>
                  </a:lnTo>
                  <a:lnTo>
                    <a:pt x="702" y="39"/>
                  </a:lnTo>
                  <a:lnTo>
                    <a:pt x="699" y="39"/>
                  </a:lnTo>
                  <a:lnTo>
                    <a:pt x="695" y="40"/>
                  </a:lnTo>
                  <a:lnTo>
                    <a:pt x="689" y="42"/>
                  </a:lnTo>
                  <a:lnTo>
                    <a:pt x="682" y="43"/>
                  </a:lnTo>
                  <a:lnTo>
                    <a:pt x="676" y="46"/>
                  </a:lnTo>
                  <a:lnTo>
                    <a:pt x="669" y="47"/>
                  </a:lnTo>
                  <a:lnTo>
                    <a:pt x="663" y="48"/>
                  </a:lnTo>
                  <a:lnTo>
                    <a:pt x="657" y="51"/>
                  </a:lnTo>
                  <a:lnTo>
                    <a:pt x="650" y="51"/>
                  </a:lnTo>
                  <a:lnTo>
                    <a:pt x="644" y="52"/>
                  </a:lnTo>
                  <a:lnTo>
                    <a:pt x="638" y="52"/>
                  </a:lnTo>
                  <a:lnTo>
                    <a:pt x="634" y="53"/>
                  </a:lnTo>
                  <a:lnTo>
                    <a:pt x="629" y="53"/>
                  </a:lnTo>
                  <a:lnTo>
                    <a:pt x="624" y="53"/>
                  </a:lnTo>
                  <a:lnTo>
                    <a:pt x="620" y="53"/>
                  </a:lnTo>
                  <a:lnTo>
                    <a:pt x="615" y="53"/>
                  </a:lnTo>
                  <a:lnTo>
                    <a:pt x="612" y="51"/>
                  </a:lnTo>
                  <a:lnTo>
                    <a:pt x="607" y="51"/>
                  </a:lnTo>
                  <a:lnTo>
                    <a:pt x="600" y="51"/>
                  </a:lnTo>
                  <a:lnTo>
                    <a:pt x="595" y="52"/>
                  </a:lnTo>
                  <a:lnTo>
                    <a:pt x="590" y="52"/>
                  </a:lnTo>
                  <a:lnTo>
                    <a:pt x="587" y="52"/>
                  </a:lnTo>
                  <a:lnTo>
                    <a:pt x="583" y="52"/>
                  </a:lnTo>
                  <a:lnTo>
                    <a:pt x="579" y="53"/>
                  </a:lnTo>
                  <a:lnTo>
                    <a:pt x="576" y="53"/>
                  </a:lnTo>
                  <a:lnTo>
                    <a:pt x="572" y="54"/>
                  </a:lnTo>
                  <a:lnTo>
                    <a:pt x="568" y="54"/>
                  </a:lnTo>
                  <a:lnTo>
                    <a:pt x="565" y="57"/>
                  </a:lnTo>
                  <a:lnTo>
                    <a:pt x="560" y="57"/>
                  </a:lnTo>
                  <a:lnTo>
                    <a:pt x="555" y="58"/>
                  </a:lnTo>
                  <a:lnTo>
                    <a:pt x="552" y="58"/>
                  </a:lnTo>
                  <a:lnTo>
                    <a:pt x="547" y="59"/>
                  </a:lnTo>
                  <a:lnTo>
                    <a:pt x="543" y="60"/>
                  </a:lnTo>
                  <a:lnTo>
                    <a:pt x="538" y="62"/>
                  </a:lnTo>
                  <a:lnTo>
                    <a:pt x="535" y="62"/>
                  </a:lnTo>
                  <a:lnTo>
                    <a:pt x="531" y="64"/>
                  </a:lnTo>
                  <a:lnTo>
                    <a:pt x="526" y="64"/>
                  </a:lnTo>
                  <a:lnTo>
                    <a:pt x="523" y="65"/>
                  </a:lnTo>
                  <a:lnTo>
                    <a:pt x="518" y="66"/>
                  </a:lnTo>
                  <a:lnTo>
                    <a:pt x="514" y="69"/>
                  </a:lnTo>
                  <a:lnTo>
                    <a:pt x="511" y="70"/>
                  </a:lnTo>
                  <a:lnTo>
                    <a:pt x="507" y="71"/>
                  </a:lnTo>
                  <a:lnTo>
                    <a:pt x="503" y="72"/>
                  </a:lnTo>
                  <a:lnTo>
                    <a:pt x="500" y="75"/>
                  </a:lnTo>
                  <a:lnTo>
                    <a:pt x="496" y="76"/>
                  </a:lnTo>
                  <a:lnTo>
                    <a:pt x="492" y="77"/>
                  </a:lnTo>
                  <a:lnTo>
                    <a:pt x="489" y="79"/>
                  </a:lnTo>
                  <a:lnTo>
                    <a:pt x="485" y="81"/>
                  </a:lnTo>
                  <a:lnTo>
                    <a:pt x="479" y="83"/>
                  </a:lnTo>
                  <a:lnTo>
                    <a:pt x="472" y="86"/>
                  </a:lnTo>
                  <a:lnTo>
                    <a:pt x="465" y="88"/>
                  </a:lnTo>
                  <a:lnTo>
                    <a:pt x="459" y="92"/>
                  </a:lnTo>
                  <a:lnTo>
                    <a:pt x="451" y="94"/>
                  </a:lnTo>
                  <a:lnTo>
                    <a:pt x="447" y="97"/>
                  </a:lnTo>
                  <a:lnTo>
                    <a:pt x="439" y="98"/>
                  </a:lnTo>
                  <a:lnTo>
                    <a:pt x="433" y="99"/>
                  </a:lnTo>
                  <a:lnTo>
                    <a:pt x="427" y="100"/>
                  </a:lnTo>
                  <a:lnTo>
                    <a:pt x="421" y="103"/>
                  </a:lnTo>
                  <a:lnTo>
                    <a:pt x="415" y="104"/>
                  </a:lnTo>
                  <a:lnTo>
                    <a:pt x="409" y="104"/>
                  </a:lnTo>
                  <a:lnTo>
                    <a:pt x="402" y="104"/>
                  </a:lnTo>
                  <a:lnTo>
                    <a:pt x="396" y="104"/>
                  </a:lnTo>
                  <a:lnTo>
                    <a:pt x="390" y="104"/>
                  </a:lnTo>
                  <a:lnTo>
                    <a:pt x="383" y="103"/>
                  </a:lnTo>
                  <a:lnTo>
                    <a:pt x="377" y="103"/>
                  </a:lnTo>
                  <a:lnTo>
                    <a:pt x="369" y="103"/>
                  </a:lnTo>
                  <a:lnTo>
                    <a:pt x="366" y="103"/>
                  </a:lnTo>
                  <a:lnTo>
                    <a:pt x="363" y="103"/>
                  </a:lnTo>
                  <a:lnTo>
                    <a:pt x="359" y="103"/>
                  </a:lnTo>
                  <a:lnTo>
                    <a:pt x="356" y="103"/>
                  </a:lnTo>
                  <a:lnTo>
                    <a:pt x="352" y="103"/>
                  </a:lnTo>
                  <a:lnTo>
                    <a:pt x="349" y="103"/>
                  </a:lnTo>
                  <a:lnTo>
                    <a:pt x="345" y="104"/>
                  </a:lnTo>
                  <a:lnTo>
                    <a:pt x="342" y="104"/>
                  </a:lnTo>
                  <a:lnTo>
                    <a:pt x="338" y="104"/>
                  </a:lnTo>
                  <a:lnTo>
                    <a:pt x="334" y="105"/>
                  </a:lnTo>
                  <a:lnTo>
                    <a:pt x="331" y="105"/>
                  </a:lnTo>
                  <a:lnTo>
                    <a:pt x="327" y="106"/>
                  </a:lnTo>
                  <a:lnTo>
                    <a:pt x="320" y="108"/>
                  </a:lnTo>
                  <a:lnTo>
                    <a:pt x="314" y="109"/>
                  </a:lnTo>
                  <a:lnTo>
                    <a:pt x="310" y="110"/>
                  </a:lnTo>
                  <a:lnTo>
                    <a:pt x="307" y="111"/>
                  </a:lnTo>
                  <a:lnTo>
                    <a:pt x="303" y="111"/>
                  </a:lnTo>
                  <a:lnTo>
                    <a:pt x="299" y="114"/>
                  </a:lnTo>
                  <a:lnTo>
                    <a:pt x="293" y="116"/>
                  </a:lnTo>
                  <a:lnTo>
                    <a:pt x="287" y="120"/>
                  </a:lnTo>
                  <a:lnTo>
                    <a:pt x="284" y="121"/>
                  </a:lnTo>
                  <a:lnTo>
                    <a:pt x="279" y="122"/>
                  </a:lnTo>
                  <a:lnTo>
                    <a:pt x="275" y="123"/>
                  </a:lnTo>
                  <a:lnTo>
                    <a:pt x="269" y="126"/>
                  </a:lnTo>
                  <a:lnTo>
                    <a:pt x="263" y="127"/>
                  </a:lnTo>
                  <a:lnTo>
                    <a:pt x="257" y="128"/>
                  </a:lnTo>
                  <a:lnTo>
                    <a:pt x="251" y="130"/>
                  </a:lnTo>
                  <a:lnTo>
                    <a:pt x="244" y="132"/>
                  </a:lnTo>
                  <a:lnTo>
                    <a:pt x="240" y="132"/>
                  </a:lnTo>
                  <a:lnTo>
                    <a:pt x="237" y="133"/>
                  </a:lnTo>
                  <a:lnTo>
                    <a:pt x="233" y="133"/>
                  </a:lnTo>
                  <a:lnTo>
                    <a:pt x="229" y="134"/>
                  </a:lnTo>
                  <a:lnTo>
                    <a:pt x="226" y="135"/>
                  </a:lnTo>
                  <a:lnTo>
                    <a:pt x="221" y="137"/>
                  </a:lnTo>
                  <a:lnTo>
                    <a:pt x="217" y="137"/>
                  </a:lnTo>
                  <a:lnTo>
                    <a:pt x="214" y="138"/>
                  </a:lnTo>
                  <a:lnTo>
                    <a:pt x="209" y="138"/>
                  </a:lnTo>
                  <a:lnTo>
                    <a:pt x="205" y="139"/>
                  </a:lnTo>
                  <a:lnTo>
                    <a:pt x="202" y="139"/>
                  </a:lnTo>
                  <a:lnTo>
                    <a:pt x="197" y="140"/>
                  </a:lnTo>
                  <a:lnTo>
                    <a:pt x="193" y="141"/>
                  </a:lnTo>
                  <a:lnTo>
                    <a:pt x="188" y="141"/>
                  </a:lnTo>
                  <a:lnTo>
                    <a:pt x="185" y="143"/>
                  </a:lnTo>
                  <a:lnTo>
                    <a:pt x="181" y="144"/>
                  </a:lnTo>
                  <a:lnTo>
                    <a:pt x="176" y="144"/>
                  </a:lnTo>
                  <a:lnTo>
                    <a:pt x="172" y="144"/>
                  </a:lnTo>
                  <a:lnTo>
                    <a:pt x="168" y="145"/>
                  </a:lnTo>
                  <a:lnTo>
                    <a:pt x="163" y="145"/>
                  </a:lnTo>
                  <a:lnTo>
                    <a:pt x="159" y="145"/>
                  </a:lnTo>
                  <a:lnTo>
                    <a:pt x="155" y="146"/>
                  </a:lnTo>
                  <a:lnTo>
                    <a:pt x="151" y="146"/>
                  </a:lnTo>
                  <a:lnTo>
                    <a:pt x="147" y="147"/>
                  </a:lnTo>
                  <a:lnTo>
                    <a:pt x="143" y="147"/>
                  </a:lnTo>
                  <a:lnTo>
                    <a:pt x="139" y="147"/>
                  </a:lnTo>
                  <a:lnTo>
                    <a:pt x="135" y="149"/>
                  </a:lnTo>
                  <a:lnTo>
                    <a:pt x="132" y="149"/>
                  </a:lnTo>
                  <a:lnTo>
                    <a:pt x="127" y="149"/>
                  </a:lnTo>
                  <a:lnTo>
                    <a:pt x="123" y="149"/>
                  </a:lnTo>
                  <a:lnTo>
                    <a:pt x="120" y="150"/>
                  </a:lnTo>
                  <a:lnTo>
                    <a:pt x="116" y="150"/>
                  </a:lnTo>
                  <a:lnTo>
                    <a:pt x="112" y="150"/>
                  </a:lnTo>
                  <a:lnTo>
                    <a:pt x="109" y="150"/>
                  </a:lnTo>
                  <a:lnTo>
                    <a:pt x="105" y="150"/>
                  </a:lnTo>
                  <a:lnTo>
                    <a:pt x="103" y="150"/>
                  </a:lnTo>
                  <a:lnTo>
                    <a:pt x="97" y="150"/>
                  </a:lnTo>
                  <a:lnTo>
                    <a:pt x="92" y="150"/>
                  </a:lnTo>
                  <a:lnTo>
                    <a:pt x="86" y="150"/>
                  </a:lnTo>
                  <a:lnTo>
                    <a:pt x="82" y="150"/>
                  </a:lnTo>
                  <a:lnTo>
                    <a:pt x="77" y="149"/>
                  </a:lnTo>
                  <a:lnTo>
                    <a:pt x="75" y="149"/>
                  </a:lnTo>
                  <a:lnTo>
                    <a:pt x="69" y="145"/>
                  </a:lnTo>
                  <a:lnTo>
                    <a:pt x="64" y="144"/>
                  </a:lnTo>
                  <a:lnTo>
                    <a:pt x="59" y="141"/>
                  </a:lnTo>
                  <a:lnTo>
                    <a:pt x="56" y="139"/>
                  </a:lnTo>
                  <a:lnTo>
                    <a:pt x="51" y="135"/>
                  </a:lnTo>
                  <a:lnTo>
                    <a:pt x="47" y="132"/>
                  </a:lnTo>
                  <a:lnTo>
                    <a:pt x="45" y="129"/>
                  </a:lnTo>
                  <a:lnTo>
                    <a:pt x="44" y="126"/>
                  </a:lnTo>
                  <a:lnTo>
                    <a:pt x="41" y="122"/>
                  </a:lnTo>
                  <a:lnTo>
                    <a:pt x="40" y="118"/>
                  </a:lnTo>
                  <a:lnTo>
                    <a:pt x="38" y="115"/>
                  </a:lnTo>
                  <a:lnTo>
                    <a:pt x="38" y="111"/>
                  </a:lnTo>
                  <a:lnTo>
                    <a:pt x="36" y="104"/>
                  </a:lnTo>
                  <a:lnTo>
                    <a:pt x="36" y="98"/>
                  </a:lnTo>
                  <a:lnTo>
                    <a:pt x="35" y="94"/>
                  </a:lnTo>
                  <a:lnTo>
                    <a:pt x="35" y="92"/>
                  </a:lnTo>
                  <a:lnTo>
                    <a:pt x="34" y="87"/>
                  </a:lnTo>
                  <a:lnTo>
                    <a:pt x="34" y="82"/>
                  </a:lnTo>
                  <a:lnTo>
                    <a:pt x="33" y="77"/>
                  </a:lnTo>
                  <a:lnTo>
                    <a:pt x="33" y="72"/>
                  </a:lnTo>
                  <a:lnTo>
                    <a:pt x="32" y="66"/>
                  </a:lnTo>
                  <a:lnTo>
                    <a:pt x="30" y="62"/>
                  </a:lnTo>
                  <a:lnTo>
                    <a:pt x="29" y="57"/>
                  </a:lnTo>
                  <a:lnTo>
                    <a:pt x="29" y="51"/>
                  </a:lnTo>
                  <a:lnTo>
                    <a:pt x="28" y="46"/>
                  </a:lnTo>
                  <a:lnTo>
                    <a:pt x="27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4" y="21"/>
                  </a:lnTo>
                  <a:lnTo>
                    <a:pt x="23" y="14"/>
                  </a:lnTo>
                  <a:lnTo>
                    <a:pt x="21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11600" y="2235240"/>
              <a:ext cx="203040" cy="179280"/>
            </a:xfrm>
            <a:custGeom>
              <a:avLst/>
              <a:gdLst/>
              <a:ahLst/>
              <a:rect l="l" t="t" r="r" b="b"/>
              <a:pathLst>
                <a:path w="383" h="339">
                  <a:moveTo>
                    <a:pt x="212" y="23"/>
                  </a:moveTo>
                  <a:lnTo>
                    <a:pt x="213" y="29"/>
                  </a:lnTo>
                  <a:lnTo>
                    <a:pt x="212" y="34"/>
                  </a:lnTo>
                  <a:lnTo>
                    <a:pt x="210" y="37"/>
                  </a:lnTo>
                  <a:lnTo>
                    <a:pt x="206" y="40"/>
                  </a:lnTo>
                  <a:lnTo>
                    <a:pt x="202" y="43"/>
                  </a:lnTo>
                  <a:lnTo>
                    <a:pt x="199" y="45"/>
                  </a:lnTo>
                  <a:lnTo>
                    <a:pt x="195" y="47"/>
                  </a:lnTo>
                  <a:lnTo>
                    <a:pt x="190" y="51"/>
                  </a:lnTo>
                  <a:lnTo>
                    <a:pt x="187" y="55"/>
                  </a:lnTo>
                  <a:lnTo>
                    <a:pt x="184" y="58"/>
                  </a:lnTo>
                  <a:lnTo>
                    <a:pt x="181" y="63"/>
                  </a:lnTo>
                  <a:lnTo>
                    <a:pt x="177" y="68"/>
                  </a:lnTo>
                  <a:lnTo>
                    <a:pt x="175" y="73"/>
                  </a:lnTo>
                  <a:lnTo>
                    <a:pt x="175" y="79"/>
                  </a:lnTo>
                  <a:lnTo>
                    <a:pt x="172" y="84"/>
                  </a:lnTo>
                  <a:lnTo>
                    <a:pt x="171" y="89"/>
                  </a:lnTo>
                  <a:lnTo>
                    <a:pt x="169" y="91"/>
                  </a:lnTo>
                  <a:lnTo>
                    <a:pt x="165" y="95"/>
                  </a:lnTo>
                  <a:lnTo>
                    <a:pt x="161" y="97"/>
                  </a:lnTo>
                  <a:lnTo>
                    <a:pt x="159" y="98"/>
                  </a:lnTo>
                  <a:lnTo>
                    <a:pt x="155" y="99"/>
                  </a:lnTo>
                  <a:lnTo>
                    <a:pt x="152" y="101"/>
                  </a:lnTo>
                  <a:lnTo>
                    <a:pt x="148" y="102"/>
                  </a:lnTo>
                  <a:lnTo>
                    <a:pt x="144" y="103"/>
                  </a:lnTo>
                  <a:lnTo>
                    <a:pt x="141" y="103"/>
                  </a:lnTo>
                  <a:lnTo>
                    <a:pt x="137" y="105"/>
                  </a:lnTo>
                  <a:lnTo>
                    <a:pt x="131" y="108"/>
                  </a:lnTo>
                  <a:lnTo>
                    <a:pt x="128" y="114"/>
                  </a:lnTo>
                  <a:lnTo>
                    <a:pt x="125" y="119"/>
                  </a:lnTo>
                  <a:lnTo>
                    <a:pt x="125" y="121"/>
                  </a:lnTo>
                  <a:lnTo>
                    <a:pt x="126" y="122"/>
                  </a:lnTo>
                  <a:lnTo>
                    <a:pt x="130" y="124"/>
                  </a:lnTo>
                  <a:lnTo>
                    <a:pt x="135" y="122"/>
                  </a:lnTo>
                  <a:lnTo>
                    <a:pt x="140" y="122"/>
                  </a:lnTo>
                  <a:lnTo>
                    <a:pt x="144" y="122"/>
                  </a:lnTo>
                  <a:lnTo>
                    <a:pt x="149" y="124"/>
                  </a:lnTo>
                  <a:lnTo>
                    <a:pt x="153" y="124"/>
                  </a:lnTo>
                  <a:lnTo>
                    <a:pt x="156" y="125"/>
                  </a:lnTo>
                  <a:lnTo>
                    <a:pt x="160" y="125"/>
                  </a:lnTo>
                  <a:lnTo>
                    <a:pt x="163" y="127"/>
                  </a:lnTo>
                  <a:lnTo>
                    <a:pt x="164" y="130"/>
                  </a:lnTo>
                  <a:lnTo>
                    <a:pt x="164" y="134"/>
                  </a:lnTo>
                  <a:lnTo>
                    <a:pt x="163" y="138"/>
                  </a:lnTo>
                  <a:lnTo>
                    <a:pt x="160" y="144"/>
                  </a:lnTo>
                  <a:lnTo>
                    <a:pt x="156" y="148"/>
                  </a:lnTo>
                  <a:lnTo>
                    <a:pt x="150" y="150"/>
                  </a:lnTo>
                  <a:lnTo>
                    <a:pt x="147" y="150"/>
                  </a:lnTo>
                  <a:lnTo>
                    <a:pt x="142" y="150"/>
                  </a:lnTo>
                  <a:lnTo>
                    <a:pt x="138" y="150"/>
                  </a:lnTo>
                  <a:lnTo>
                    <a:pt x="136" y="151"/>
                  </a:lnTo>
                  <a:lnTo>
                    <a:pt x="131" y="151"/>
                  </a:lnTo>
                  <a:lnTo>
                    <a:pt x="128" y="151"/>
                  </a:lnTo>
                  <a:lnTo>
                    <a:pt x="123" y="151"/>
                  </a:lnTo>
                  <a:lnTo>
                    <a:pt x="119" y="154"/>
                  </a:lnTo>
                  <a:lnTo>
                    <a:pt x="114" y="155"/>
                  </a:lnTo>
                  <a:lnTo>
                    <a:pt x="111" y="157"/>
                  </a:lnTo>
                  <a:lnTo>
                    <a:pt x="107" y="161"/>
                  </a:lnTo>
                  <a:lnTo>
                    <a:pt x="103" y="166"/>
                  </a:lnTo>
                  <a:lnTo>
                    <a:pt x="100" y="169"/>
                  </a:lnTo>
                  <a:lnTo>
                    <a:pt x="96" y="173"/>
                  </a:lnTo>
                  <a:lnTo>
                    <a:pt x="94" y="178"/>
                  </a:lnTo>
                  <a:lnTo>
                    <a:pt x="91" y="182"/>
                  </a:lnTo>
                  <a:lnTo>
                    <a:pt x="90" y="185"/>
                  </a:lnTo>
                  <a:lnTo>
                    <a:pt x="88" y="189"/>
                  </a:lnTo>
                  <a:lnTo>
                    <a:pt x="86" y="192"/>
                  </a:lnTo>
                  <a:lnTo>
                    <a:pt x="85" y="196"/>
                  </a:lnTo>
                  <a:lnTo>
                    <a:pt x="84" y="202"/>
                  </a:lnTo>
                  <a:lnTo>
                    <a:pt x="84" y="208"/>
                  </a:lnTo>
                  <a:lnTo>
                    <a:pt x="83" y="212"/>
                  </a:lnTo>
                  <a:lnTo>
                    <a:pt x="83" y="215"/>
                  </a:lnTo>
                  <a:lnTo>
                    <a:pt x="83" y="219"/>
                  </a:lnTo>
                  <a:lnTo>
                    <a:pt x="83" y="224"/>
                  </a:lnTo>
                  <a:lnTo>
                    <a:pt x="82" y="227"/>
                  </a:lnTo>
                  <a:lnTo>
                    <a:pt x="82" y="231"/>
                  </a:lnTo>
                  <a:lnTo>
                    <a:pt x="79" y="236"/>
                  </a:lnTo>
                  <a:lnTo>
                    <a:pt x="78" y="240"/>
                  </a:lnTo>
                  <a:lnTo>
                    <a:pt x="76" y="243"/>
                  </a:lnTo>
                  <a:lnTo>
                    <a:pt x="73" y="247"/>
                  </a:lnTo>
                  <a:lnTo>
                    <a:pt x="71" y="250"/>
                  </a:lnTo>
                  <a:lnTo>
                    <a:pt x="70" y="254"/>
                  </a:lnTo>
                  <a:lnTo>
                    <a:pt x="62" y="260"/>
                  </a:lnTo>
                  <a:lnTo>
                    <a:pt x="56" y="265"/>
                  </a:lnTo>
                  <a:lnTo>
                    <a:pt x="50" y="271"/>
                  </a:lnTo>
                  <a:lnTo>
                    <a:pt x="44" y="276"/>
                  </a:lnTo>
                  <a:lnTo>
                    <a:pt x="38" y="279"/>
                  </a:lnTo>
                  <a:lnTo>
                    <a:pt x="32" y="283"/>
                  </a:lnTo>
                  <a:lnTo>
                    <a:pt x="26" y="287"/>
                  </a:lnTo>
                  <a:lnTo>
                    <a:pt x="21" y="293"/>
                  </a:lnTo>
                  <a:lnTo>
                    <a:pt x="17" y="298"/>
                  </a:lnTo>
                  <a:lnTo>
                    <a:pt x="12" y="304"/>
                  </a:lnTo>
                  <a:lnTo>
                    <a:pt x="9" y="307"/>
                  </a:lnTo>
                  <a:lnTo>
                    <a:pt x="7" y="312"/>
                  </a:lnTo>
                  <a:lnTo>
                    <a:pt x="4" y="316"/>
                  </a:lnTo>
                  <a:lnTo>
                    <a:pt x="3" y="320"/>
                  </a:lnTo>
                  <a:lnTo>
                    <a:pt x="1" y="325"/>
                  </a:lnTo>
                  <a:lnTo>
                    <a:pt x="1" y="329"/>
                  </a:lnTo>
                  <a:lnTo>
                    <a:pt x="0" y="331"/>
                  </a:lnTo>
                  <a:lnTo>
                    <a:pt x="2" y="335"/>
                  </a:lnTo>
                  <a:lnTo>
                    <a:pt x="4" y="337"/>
                  </a:lnTo>
                  <a:lnTo>
                    <a:pt x="10" y="339"/>
                  </a:lnTo>
                  <a:lnTo>
                    <a:pt x="17" y="337"/>
                  </a:lnTo>
                  <a:lnTo>
                    <a:pt x="23" y="334"/>
                  </a:lnTo>
                  <a:lnTo>
                    <a:pt x="27" y="328"/>
                  </a:lnTo>
                  <a:lnTo>
                    <a:pt x="32" y="323"/>
                  </a:lnTo>
                  <a:lnTo>
                    <a:pt x="33" y="316"/>
                  </a:lnTo>
                  <a:lnTo>
                    <a:pt x="36" y="310"/>
                  </a:lnTo>
                  <a:lnTo>
                    <a:pt x="38" y="304"/>
                  </a:lnTo>
                  <a:lnTo>
                    <a:pt x="42" y="299"/>
                  </a:lnTo>
                  <a:lnTo>
                    <a:pt x="44" y="294"/>
                  </a:lnTo>
                  <a:lnTo>
                    <a:pt x="49" y="291"/>
                  </a:lnTo>
                  <a:lnTo>
                    <a:pt x="55" y="288"/>
                  </a:lnTo>
                  <a:lnTo>
                    <a:pt x="61" y="288"/>
                  </a:lnTo>
                  <a:lnTo>
                    <a:pt x="67" y="287"/>
                  </a:lnTo>
                  <a:lnTo>
                    <a:pt x="72" y="284"/>
                  </a:lnTo>
                  <a:lnTo>
                    <a:pt x="78" y="282"/>
                  </a:lnTo>
                  <a:lnTo>
                    <a:pt x="83" y="278"/>
                  </a:lnTo>
                  <a:lnTo>
                    <a:pt x="85" y="276"/>
                  </a:lnTo>
                  <a:lnTo>
                    <a:pt x="89" y="273"/>
                  </a:lnTo>
                  <a:lnTo>
                    <a:pt x="93" y="271"/>
                  </a:lnTo>
                  <a:lnTo>
                    <a:pt x="96" y="269"/>
                  </a:lnTo>
                  <a:lnTo>
                    <a:pt x="101" y="265"/>
                  </a:lnTo>
                  <a:lnTo>
                    <a:pt x="105" y="262"/>
                  </a:lnTo>
                  <a:lnTo>
                    <a:pt x="111" y="259"/>
                  </a:lnTo>
                  <a:lnTo>
                    <a:pt x="117" y="256"/>
                  </a:lnTo>
                  <a:lnTo>
                    <a:pt x="121" y="252"/>
                  </a:lnTo>
                  <a:lnTo>
                    <a:pt x="125" y="248"/>
                  </a:lnTo>
                  <a:lnTo>
                    <a:pt x="128" y="244"/>
                  </a:lnTo>
                  <a:lnTo>
                    <a:pt x="130" y="240"/>
                  </a:lnTo>
                  <a:lnTo>
                    <a:pt x="131" y="236"/>
                  </a:lnTo>
                  <a:lnTo>
                    <a:pt x="134" y="231"/>
                  </a:lnTo>
                  <a:lnTo>
                    <a:pt x="134" y="226"/>
                  </a:lnTo>
                  <a:lnTo>
                    <a:pt x="134" y="223"/>
                  </a:lnTo>
                  <a:lnTo>
                    <a:pt x="134" y="218"/>
                  </a:lnTo>
                  <a:lnTo>
                    <a:pt x="134" y="214"/>
                  </a:lnTo>
                  <a:lnTo>
                    <a:pt x="134" y="211"/>
                  </a:lnTo>
                  <a:lnTo>
                    <a:pt x="134" y="207"/>
                  </a:lnTo>
                  <a:lnTo>
                    <a:pt x="134" y="203"/>
                  </a:lnTo>
                  <a:lnTo>
                    <a:pt x="136" y="202"/>
                  </a:lnTo>
                  <a:lnTo>
                    <a:pt x="137" y="200"/>
                  </a:lnTo>
                  <a:lnTo>
                    <a:pt x="141" y="200"/>
                  </a:lnTo>
                  <a:lnTo>
                    <a:pt x="147" y="198"/>
                  </a:lnTo>
                  <a:lnTo>
                    <a:pt x="153" y="200"/>
                  </a:lnTo>
                  <a:lnTo>
                    <a:pt x="159" y="202"/>
                  </a:lnTo>
                  <a:lnTo>
                    <a:pt x="165" y="206"/>
                  </a:lnTo>
                  <a:lnTo>
                    <a:pt x="171" y="208"/>
                  </a:lnTo>
                  <a:lnTo>
                    <a:pt x="176" y="212"/>
                  </a:lnTo>
                  <a:lnTo>
                    <a:pt x="182" y="214"/>
                  </a:lnTo>
                  <a:lnTo>
                    <a:pt x="187" y="215"/>
                  </a:lnTo>
                  <a:lnTo>
                    <a:pt x="190" y="215"/>
                  </a:lnTo>
                  <a:lnTo>
                    <a:pt x="196" y="214"/>
                  </a:lnTo>
                  <a:lnTo>
                    <a:pt x="202" y="213"/>
                  </a:lnTo>
                  <a:lnTo>
                    <a:pt x="210" y="213"/>
                  </a:lnTo>
                  <a:lnTo>
                    <a:pt x="216" y="211"/>
                  </a:lnTo>
                  <a:lnTo>
                    <a:pt x="223" y="208"/>
                  </a:lnTo>
                  <a:lnTo>
                    <a:pt x="225" y="206"/>
                  </a:lnTo>
                  <a:lnTo>
                    <a:pt x="230" y="205"/>
                  </a:lnTo>
                  <a:lnTo>
                    <a:pt x="234" y="203"/>
                  </a:lnTo>
                  <a:lnTo>
                    <a:pt x="237" y="202"/>
                  </a:lnTo>
                  <a:lnTo>
                    <a:pt x="241" y="200"/>
                  </a:lnTo>
                  <a:lnTo>
                    <a:pt x="245" y="198"/>
                  </a:lnTo>
                  <a:lnTo>
                    <a:pt x="247" y="196"/>
                  </a:lnTo>
                  <a:lnTo>
                    <a:pt x="251" y="194"/>
                  </a:lnTo>
                  <a:lnTo>
                    <a:pt x="255" y="190"/>
                  </a:lnTo>
                  <a:lnTo>
                    <a:pt x="259" y="185"/>
                  </a:lnTo>
                  <a:lnTo>
                    <a:pt x="260" y="182"/>
                  </a:lnTo>
                  <a:lnTo>
                    <a:pt x="259" y="178"/>
                  </a:lnTo>
                  <a:lnTo>
                    <a:pt x="257" y="173"/>
                  </a:lnTo>
                  <a:lnTo>
                    <a:pt x="253" y="172"/>
                  </a:lnTo>
                  <a:lnTo>
                    <a:pt x="246" y="169"/>
                  </a:lnTo>
                  <a:lnTo>
                    <a:pt x="241" y="171"/>
                  </a:lnTo>
                  <a:lnTo>
                    <a:pt x="236" y="172"/>
                  </a:lnTo>
                  <a:lnTo>
                    <a:pt x="232" y="174"/>
                  </a:lnTo>
                  <a:lnTo>
                    <a:pt x="228" y="176"/>
                  </a:lnTo>
                  <a:lnTo>
                    <a:pt x="223" y="178"/>
                  </a:lnTo>
                  <a:lnTo>
                    <a:pt x="218" y="178"/>
                  </a:lnTo>
                  <a:lnTo>
                    <a:pt x="212" y="178"/>
                  </a:lnTo>
                  <a:lnTo>
                    <a:pt x="206" y="174"/>
                  </a:lnTo>
                  <a:lnTo>
                    <a:pt x="200" y="172"/>
                  </a:lnTo>
                  <a:lnTo>
                    <a:pt x="194" y="168"/>
                  </a:lnTo>
                  <a:lnTo>
                    <a:pt x="189" y="166"/>
                  </a:lnTo>
                  <a:lnTo>
                    <a:pt x="187" y="162"/>
                  </a:lnTo>
                  <a:lnTo>
                    <a:pt x="187" y="160"/>
                  </a:lnTo>
                  <a:lnTo>
                    <a:pt x="188" y="157"/>
                  </a:lnTo>
                  <a:lnTo>
                    <a:pt x="194" y="155"/>
                  </a:lnTo>
                  <a:lnTo>
                    <a:pt x="196" y="154"/>
                  </a:lnTo>
                  <a:lnTo>
                    <a:pt x="200" y="153"/>
                  </a:lnTo>
                  <a:lnTo>
                    <a:pt x="205" y="153"/>
                  </a:lnTo>
                  <a:lnTo>
                    <a:pt x="208" y="153"/>
                  </a:lnTo>
                  <a:lnTo>
                    <a:pt x="212" y="153"/>
                  </a:lnTo>
                  <a:lnTo>
                    <a:pt x="217" y="153"/>
                  </a:lnTo>
                  <a:lnTo>
                    <a:pt x="220" y="153"/>
                  </a:lnTo>
                  <a:lnTo>
                    <a:pt x="225" y="153"/>
                  </a:lnTo>
                  <a:lnTo>
                    <a:pt x="229" y="151"/>
                  </a:lnTo>
                  <a:lnTo>
                    <a:pt x="232" y="151"/>
                  </a:lnTo>
                  <a:lnTo>
                    <a:pt x="235" y="150"/>
                  </a:lnTo>
                  <a:lnTo>
                    <a:pt x="240" y="149"/>
                  </a:lnTo>
                  <a:lnTo>
                    <a:pt x="242" y="147"/>
                  </a:lnTo>
                  <a:lnTo>
                    <a:pt x="245" y="145"/>
                  </a:lnTo>
                  <a:lnTo>
                    <a:pt x="247" y="142"/>
                  </a:lnTo>
                  <a:lnTo>
                    <a:pt x="248" y="138"/>
                  </a:lnTo>
                  <a:lnTo>
                    <a:pt x="249" y="133"/>
                  </a:lnTo>
                  <a:lnTo>
                    <a:pt x="251" y="130"/>
                  </a:lnTo>
                  <a:lnTo>
                    <a:pt x="249" y="126"/>
                  </a:lnTo>
                  <a:lnTo>
                    <a:pt x="249" y="124"/>
                  </a:lnTo>
                  <a:lnTo>
                    <a:pt x="247" y="118"/>
                  </a:lnTo>
                  <a:lnTo>
                    <a:pt x="245" y="113"/>
                  </a:lnTo>
                  <a:lnTo>
                    <a:pt x="241" y="109"/>
                  </a:lnTo>
                  <a:lnTo>
                    <a:pt x="236" y="104"/>
                  </a:lnTo>
                  <a:lnTo>
                    <a:pt x="232" y="101"/>
                  </a:lnTo>
                  <a:lnTo>
                    <a:pt x="231" y="97"/>
                  </a:lnTo>
                  <a:lnTo>
                    <a:pt x="230" y="92"/>
                  </a:lnTo>
                  <a:lnTo>
                    <a:pt x="232" y="90"/>
                  </a:lnTo>
                  <a:lnTo>
                    <a:pt x="234" y="87"/>
                  </a:lnTo>
                  <a:lnTo>
                    <a:pt x="236" y="87"/>
                  </a:lnTo>
                  <a:lnTo>
                    <a:pt x="240" y="86"/>
                  </a:lnTo>
                  <a:lnTo>
                    <a:pt x="243" y="86"/>
                  </a:lnTo>
                  <a:lnTo>
                    <a:pt x="246" y="85"/>
                  </a:lnTo>
                  <a:lnTo>
                    <a:pt x="251" y="85"/>
                  </a:lnTo>
                  <a:lnTo>
                    <a:pt x="254" y="84"/>
                  </a:lnTo>
                  <a:lnTo>
                    <a:pt x="259" y="84"/>
                  </a:lnTo>
                  <a:lnTo>
                    <a:pt x="263" y="82"/>
                  </a:lnTo>
                  <a:lnTo>
                    <a:pt x="267" y="82"/>
                  </a:lnTo>
                  <a:lnTo>
                    <a:pt x="272" y="81"/>
                  </a:lnTo>
                  <a:lnTo>
                    <a:pt x="277" y="81"/>
                  </a:lnTo>
                  <a:lnTo>
                    <a:pt x="281" y="81"/>
                  </a:lnTo>
                  <a:lnTo>
                    <a:pt x="286" y="81"/>
                  </a:lnTo>
                  <a:lnTo>
                    <a:pt x="289" y="81"/>
                  </a:lnTo>
                  <a:lnTo>
                    <a:pt x="294" y="81"/>
                  </a:lnTo>
                  <a:lnTo>
                    <a:pt x="298" y="81"/>
                  </a:lnTo>
                  <a:lnTo>
                    <a:pt x="302" y="81"/>
                  </a:lnTo>
                  <a:lnTo>
                    <a:pt x="306" y="82"/>
                  </a:lnTo>
                  <a:lnTo>
                    <a:pt x="311" y="82"/>
                  </a:lnTo>
                  <a:lnTo>
                    <a:pt x="313" y="82"/>
                  </a:lnTo>
                  <a:lnTo>
                    <a:pt x="317" y="82"/>
                  </a:lnTo>
                  <a:lnTo>
                    <a:pt x="321" y="81"/>
                  </a:lnTo>
                  <a:lnTo>
                    <a:pt x="324" y="81"/>
                  </a:lnTo>
                  <a:lnTo>
                    <a:pt x="330" y="79"/>
                  </a:lnTo>
                  <a:lnTo>
                    <a:pt x="335" y="75"/>
                  </a:lnTo>
                  <a:lnTo>
                    <a:pt x="340" y="69"/>
                  </a:lnTo>
                  <a:lnTo>
                    <a:pt x="347" y="68"/>
                  </a:lnTo>
                  <a:lnTo>
                    <a:pt x="349" y="67"/>
                  </a:lnTo>
                  <a:lnTo>
                    <a:pt x="354" y="67"/>
                  </a:lnTo>
                  <a:lnTo>
                    <a:pt x="358" y="68"/>
                  </a:lnTo>
                  <a:lnTo>
                    <a:pt x="362" y="68"/>
                  </a:lnTo>
                  <a:lnTo>
                    <a:pt x="365" y="68"/>
                  </a:lnTo>
                  <a:lnTo>
                    <a:pt x="369" y="68"/>
                  </a:lnTo>
                  <a:lnTo>
                    <a:pt x="371" y="68"/>
                  </a:lnTo>
                  <a:lnTo>
                    <a:pt x="376" y="68"/>
                  </a:lnTo>
                  <a:lnTo>
                    <a:pt x="378" y="67"/>
                  </a:lnTo>
                  <a:lnTo>
                    <a:pt x="381" y="66"/>
                  </a:lnTo>
                  <a:lnTo>
                    <a:pt x="382" y="63"/>
                  </a:lnTo>
                  <a:lnTo>
                    <a:pt x="383" y="60"/>
                  </a:lnTo>
                  <a:lnTo>
                    <a:pt x="383" y="56"/>
                  </a:lnTo>
                  <a:lnTo>
                    <a:pt x="383" y="52"/>
                  </a:lnTo>
                  <a:lnTo>
                    <a:pt x="382" y="47"/>
                  </a:lnTo>
                  <a:lnTo>
                    <a:pt x="382" y="44"/>
                  </a:lnTo>
                  <a:lnTo>
                    <a:pt x="377" y="37"/>
                  </a:lnTo>
                  <a:lnTo>
                    <a:pt x="371" y="32"/>
                  </a:lnTo>
                  <a:lnTo>
                    <a:pt x="368" y="28"/>
                  </a:lnTo>
                  <a:lnTo>
                    <a:pt x="364" y="26"/>
                  </a:lnTo>
                  <a:lnTo>
                    <a:pt x="359" y="23"/>
                  </a:lnTo>
                  <a:lnTo>
                    <a:pt x="356" y="22"/>
                  </a:lnTo>
                  <a:lnTo>
                    <a:pt x="351" y="21"/>
                  </a:lnTo>
                  <a:lnTo>
                    <a:pt x="347" y="21"/>
                  </a:lnTo>
                  <a:lnTo>
                    <a:pt x="342" y="20"/>
                  </a:lnTo>
                  <a:lnTo>
                    <a:pt x="339" y="21"/>
                  </a:lnTo>
                  <a:lnTo>
                    <a:pt x="334" y="21"/>
                  </a:lnTo>
                  <a:lnTo>
                    <a:pt x="329" y="23"/>
                  </a:lnTo>
                  <a:lnTo>
                    <a:pt x="325" y="24"/>
                  </a:lnTo>
                  <a:lnTo>
                    <a:pt x="322" y="27"/>
                  </a:lnTo>
                  <a:lnTo>
                    <a:pt x="316" y="31"/>
                  </a:lnTo>
                  <a:lnTo>
                    <a:pt x="311" y="35"/>
                  </a:lnTo>
                  <a:lnTo>
                    <a:pt x="305" y="39"/>
                  </a:lnTo>
                  <a:lnTo>
                    <a:pt x="300" y="41"/>
                  </a:lnTo>
                  <a:lnTo>
                    <a:pt x="294" y="40"/>
                  </a:lnTo>
                  <a:lnTo>
                    <a:pt x="289" y="38"/>
                  </a:lnTo>
                  <a:lnTo>
                    <a:pt x="283" y="32"/>
                  </a:lnTo>
                  <a:lnTo>
                    <a:pt x="281" y="26"/>
                  </a:lnTo>
                  <a:lnTo>
                    <a:pt x="278" y="21"/>
                  </a:lnTo>
                  <a:lnTo>
                    <a:pt x="278" y="15"/>
                  </a:lnTo>
                  <a:lnTo>
                    <a:pt x="277" y="10"/>
                  </a:lnTo>
                  <a:lnTo>
                    <a:pt x="276" y="6"/>
                  </a:lnTo>
                  <a:lnTo>
                    <a:pt x="273" y="5"/>
                  </a:lnTo>
                  <a:lnTo>
                    <a:pt x="269" y="5"/>
                  </a:lnTo>
                  <a:lnTo>
                    <a:pt x="264" y="5"/>
                  </a:lnTo>
                  <a:lnTo>
                    <a:pt x="259" y="6"/>
                  </a:lnTo>
                  <a:lnTo>
                    <a:pt x="257" y="6"/>
                  </a:lnTo>
                  <a:lnTo>
                    <a:pt x="254" y="9"/>
                  </a:lnTo>
                  <a:lnTo>
                    <a:pt x="253" y="10"/>
                  </a:lnTo>
                  <a:lnTo>
                    <a:pt x="251" y="11"/>
                  </a:lnTo>
                  <a:lnTo>
                    <a:pt x="248" y="14"/>
                  </a:lnTo>
                  <a:lnTo>
                    <a:pt x="247" y="18"/>
                  </a:lnTo>
                  <a:lnTo>
                    <a:pt x="245" y="18"/>
                  </a:lnTo>
                  <a:lnTo>
                    <a:pt x="242" y="18"/>
                  </a:lnTo>
                  <a:lnTo>
                    <a:pt x="240" y="14"/>
                  </a:lnTo>
                  <a:lnTo>
                    <a:pt x="237" y="11"/>
                  </a:lnTo>
                  <a:lnTo>
                    <a:pt x="234" y="6"/>
                  </a:lnTo>
                  <a:lnTo>
                    <a:pt x="231" y="3"/>
                  </a:lnTo>
                  <a:lnTo>
                    <a:pt x="228" y="0"/>
                  </a:lnTo>
                  <a:lnTo>
                    <a:pt x="225" y="2"/>
                  </a:lnTo>
                  <a:lnTo>
                    <a:pt x="222" y="2"/>
                  </a:lnTo>
                  <a:lnTo>
                    <a:pt x="218" y="5"/>
                  </a:lnTo>
                  <a:lnTo>
                    <a:pt x="213" y="6"/>
                  </a:lnTo>
                  <a:lnTo>
                    <a:pt x="212" y="10"/>
                  </a:lnTo>
                  <a:lnTo>
                    <a:pt x="210" y="12"/>
                  </a:lnTo>
                  <a:lnTo>
                    <a:pt x="210" y="15"/>
                  </a:lnTo>
                  <a:lnTo>
                    <a:pt x="210" y="20"/>
                  </a:lnTo>
                  <a:lnTo>
                    <a:pt x="212" y="23"/>
                  </a:lnTo>
                  <a:lnTo>
                    <a:pt x="212" y="23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1371600" y="3200400"/>
              <a:ext cx="762120" cy="762120"/>
              <a:chOff x="1371600" y="3200400"/>
              <a:chExt cx="762120" cy="762120"/>
            </a:xfrm>
          </p:grpSpPr>
          <p:sp>
            <p:nvSpPr>
              <p:cNvPr id="532" name=""/>
              <p:cNvSpPr/>
              <p:nvPr/>
            </p:nvSpPr>
            <p:spPr>
              <a:xfrm>
                <a:off x="1397880" y="3208320"/>
                <a:ext cx="573840" cy="525600"/>
              </a:xfrm>
              <a:custGeom>
                <a:avLst/>
                <a:gdLst/>
                <a:ahLst/>
                <a:rect l="l" t="t" r="r" b="b"/>
                <a:pathLst>
                  <a:path w="1079" h="756">
                    <a:moveTo>
                      <a:pt x="32" y="756"/>
                    </a:moveTo>
                    <a:lnTo>
                      <a:pt x="71" y="748"/>
                    </a:lnTo>
                    <a:lnTo>
                      <a:pt x="114" y="651"/>
                    </a:lnTo>
                    <a:lnTo>
                      <a:pt x="210" y="595"/>
                    </a:lnTo>
                    <a:lnTo>
                      <a:pt x="279" y="552"/>
                    </a:lnTo>
                    <a:lnTo>
                      <a:pt x="375" y="456"/>
                    </a:lnTo>
                    <a:lnTo>
                      <a:pt x="537" y="363"/>
                    </a:lnTo>
                    <a:lnTo>
                      <a:pt x="661" y="271"/>
                    </a:lnTo>
                    <a:lnTo>
                      <a:pt x="789" y="201"/>
                    </a:lnTo>
                    <a:lnTo>
                      <a:pt x="954" y="101"/>
                    </a:lnTo>
                    <a:lnTo>
                      <a:pt x="1059" y="96"/>
                    </a:lnTo>
                    <a:lnTo>
                      <a:pt x="1079" y="68"/>
                    </a:lnTo>
                    <a:lnTo>
                      <a:pt x="1028" y="13"/>
                    </a:lnTo>
                    <a:lnTo>
                      <a:pt x="953" y="0"/>
                    </a:lnTo>
                    <a:lnTo>
                      <a:pt x="860" y="23"/>
                    </a:lnTo>
                    <a:lnTo>
                      <a:pt x="551" y="195"/>
                    </a:lnTo>
                    <a:lnTo>
                      <a:pt x="245" y="421"/>
                    </a:lnTo>
                    <a:lnTo>
                      <a:pt x="35" y="618"/>
                    </a:lnTo>
                    <a:lnTo>
                      <a:pt x="0" y="708"/>
                    </a:lnTo>
                    <a:lnTo>
                      <a:pt x="32" y="756"/>
                    </a:lnTo>
                    <a:lnTo>
                      <a:pt x="32" y="756"/>
                    </a:lnTo>
                    <a:close/>
                  </a:path>
                </a:pathLst>
              </a:custGeom>
              <a:solidFill>
                <a:srgbClr val="fa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32080" y="3212640"/>
                <a:ext cx="543960" cy="528480"/>
              </a:xfrm>
              <a:custGeom>
                <a:avLst/>
                <a:gdLst/>
                <a:ahLst/>
                <a:rect l="l" t="t" r="r" b="b"/>
                <a:pathLst>
                  <a:path w="1024" h="759">
                    <a:moveTo>
                      <a:pt x="0" y="727"/>
                    </a:moveTo>
                    <a:lnTo>
                      <a:pt x="34" y="622"/>
                    </a:lnTo>
                    <a:lnTo>
                      <a:pt x="212" y="484"/>
                    </a:lnTo>
                    <a:lnTo>
                      <a:pt x="266" y="435"/>
                    </a:lnTo>
                    <a:lnTo>
                      <a:pt x="329" y="381"/>
                    </a:lnTo>
                    <a:lnTo>
                      <a:pt x="485" y="289"/>
                    </a:lnTo>
                    <a:lnTo>
                      <a:pt x="627" y="192"/>
                    </a:lnTo>
                    <a:lnTo>
                      <a:pt x="823" y="78"/>
                    </a:lnTo>
                    <a:lnTo>
                      <a:pt x="905" y="56"/>
                    </a:lnTo>
                    <a:lnTo>
                      <a:pt x="947" y="48"/>
                    </a:lnTo>
                    <a:lnTo>
                      <a:pt x="882" y="33"/>
                    </a:lnTo>
                    <a:lnTo>
                      <a:pt x="789" y="44"/>
                    </a:lnTo>
                    <a:lnTo>
                      <a:pt x="837" y="8"/>
                    </a:lnTo>
                    <a:lnTo>
                      <a:pt x="942" y="0"/>
                    </a:lnTo>
                    <a:lnTo>
                      <a:pt x="1024" y="73"/>
                    </a:lnTo>
                    <a:lnTo>
                      <a:pt x="970" y="92"/>
                    </a:lnTo>
                    <a:lnTo>
                      <a:pt x="890" y="101"/>
                    </a:lnTo>
                    <a:lnTo>
                      <a:pt x="762" y="175"/>
                    </a:lnTo>
                    <a:lnTo>
                      <a:pt x="567" y="292"/>
                    </a:lnTo>
                    <a:lnTo>
                      <a:pt x="519" y="340"/>
                    </a:lnTo>
                    <a:lnTo>
                      <a:pt x="368" y="415"/>
                    </a:lnTo>
                    <a:lnTo>
                      <a:pt x="280" y="486"/>
                    </a:lnTo>
                    <a:lnTo>
                      <a:pt x="218" y="550"/>
                    </a:lnTo>
                    <a:lnTo>
                      <a:pt x="136" y="591"/>
                    </a:lnTo>
                    <a:lnTo>
                      <a:pt x="73" y="631"/>
                    </a:lnTo>
                    <a:lnTo>
                      <a:pt x="46" y="673"/>
                    </a:lnTo>
                    <a:lnTo>
                      <a:pt x="6" y="759"/>
                    </a:lnTo>
                    <a:lnTo>
                      <a:pt x="0" y="727"/>
                    </a:lnTo>
                    <a:lnTo>
                      <a:pt x="0" y="727"/>
                    </a:lnTo>
                    <a:close/>
                  </a:path>
                </a:pathLst>
              </a:custGeom>
              <a:solidFill>
                <a:srgbClr val="e5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528920" y="3262680"/>
                <a:ext cx="576000" cy="668880"/>
              </a:xfrm>
              <a:custGeom>
                <a:avLst/>
                <a:gdLst/>
                <a:ahLst/>
                <a:rect l="l" t="t" r="r" b="b"/>
                <a:pathLst>
                  <a:path w="1083" h="962">
                    <a:moveTo>
                      <a:pt x="33" y="692"/>
                    </a:moveTo>
                    <a:lnTo>
                      <a:pt x="138" y="525"/>
                    </a:lnTo>
                    <a:lnTo>
                      <a:pt x="314" y="378"/>
                    </a:lnTo>
                    <a:lnTo>
                      <a:pt x="609" y="162"/>
                    </a:lnTo>
                    <a:lnTo>
                      <a:pt x="796" y="17"/>
                    </a:lnTo>
                    <a:lnTo>
                      <a:pt x="864" y="0"/>
                    </a:lnTo>
                    <a:lnTo>
                      <a:pt x="993" y="23"/>
                    </a:lnTo>
                    <a:lnTo>
                      <a:pt x="1046" y="66"/>
                    </a:lnTo>
                    <a:lnTo>
                      <a:pt x="1083" y="145"/>
                    </a:lnTo>
                    <a:lnTo>
                      <a:pt x="1058" y="275"/>
                    </a:lnTo>
                    <a:lnTo>
                      <a:pt x="1012" y="367"/>
                    </a:lnTo>
                    <a:lnTo>
                      <a:pt x="790" y="593"/>
                    </a:lnTo>
                    <a:lnTo>
                      <a:pt x="507" y="811"/>
                    </a:lnTo>
                    <a:lnTo>
                      <a:pt x="284" y="931"/>
                    </a:lnTo>
                    <a:lnTo>
                      <a:pt x="138" y="962"/>
                    </a:lnTo>
                    <a:lnTo>
                      <a:pt x="62" y="939"/>
                    </a:lnTo>
                    <a:lnTo>
                      <a:pt x="17" y="896"/>
                    </a:lnTo>
                    <a:lnTo>
                      <a:pt x="0" y="809"/>
                    </a:lnTo>
                    <a:lnTo>
                      <a:pt x="33" y="692"/>
                    </a:lnTo>
                    <a:lnTo>
                      <a:pt x="33" y="692"/>
                    </a:lnTo>
                    <a:close/>
                  </a:path>
                </a:pathLst>
              </a:custGeom>
              <a:solidFill>
                <a:srgbClr val="fa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535040" y="3266640"/>
                <a:ext cx="569520" cy="664920"/>
              </a:xfrm>
              <a:custGeom>
                <a:avLst/>
                <a:gdLst/>
                <a:ahLst/>
                <a:rect l="l" t="t" r="r" b="b"/>
                <a:pathLst>
                  <a:path w="1072" h="956">
                    <a:moveTo>
                      <a:pt x="23" y="865"/>
                    </a:moveTo>
                    <a:lnTo>
                      <a:pt x="82" y="897"/>
                    </a:lnTo>
                    <a:lnTo>
                      <a:pt x="198" y="880"/>
                    </a:lnTo>
                    <a:lnTo>
                      <a:pt x="323" y="798"/>
                    </a:lnTo>
                    <a:lnTo>
                      <a:pt x="457" y="687"/>
                    </a:lnTo>
                    <a:lnTo>
                      <a:pt x="400" y="786"/>
                    </a:lnTo>
                    <a:lnTo>
                      <a:pt x="669" y="571"/>
                    </a:lnTo>
                    <a:lnTo>
                      <a:pt x="809" y="403"/>
                    </a:lnTo>
                    <a:lnTo>
                      <a:pt x="936" y="219"/>
                    </a:lnTo>
                    <a:lnTo>
                      <a:pt x="931" y="309"/>
                    </a:lnTo>
                    <a:lnTo>
                      <a:pt x="987" y="185"/>
                    </a:lnTo>
                    <a:lnTo>
                      <a:pt x="972" y="77"/>
                    </a:lnTo>
                    <a:lnTo>
                      <a:pt x="936" y="44"/>
                    </a:lnTo>
                    <a:lnTo>
                      <a:pt x="843" y="40"/>
                    </a:lnTo>
                    <a:lnTo>
                      <a:pt x="734" y="92"/>
                    </a:lnTo>
                    <a:lnTo>
                      <a:pt x="457" y="316"/>
                    </a:lnTo>
                    <a:lnTo>
                      <a:pt x="348" y="395"/>
                    </a:lnTo>
                    <a:lnTo>
                      <a:pt x="467" y="372"/>
                    </a:lnTo>
                    <a:lnTo>
                      <a:pt x="300" y="459"/>
                    </a:lnTo>
                    <a:lnTo>
                      <a:pt x="40" y="639"/>
                    </a:lnTo>
                    <a:lnTo>
                      <a:pt x="145" y="500"/>
                    </a:lnTo>
                    <a:lnTo>
                      <a:pt x="463" y="245"/>
                    </a:lnTo>
                    <a:lnTo>
                      <a:pt x="721" y="63"/>
                    </a:lnTo>
                    <a:lnTo>
                      <a:pt x="785" y="11"/>
                    </a:lnTo>
                    <a:lnTo>
                      <a:pt x="839" y="0"/>
                    </a:lnTo>
                    <a:lnTo>
                      <a:pt x="933" y="6"/>
                    </a:lnTo>
                    <a:lnTo>
                      <a:pt x="1032" y="48"/>
                    </a:lnTo>
                    <a:lnTo>
                      <a:pt x="1072" y="174"/>
                    </a:lnTo>
                    <a:lnTo>
                      <a:pt x="999" y="374"/>
                    </a:lnTo>
                    <a:lnTo>
                      <a:pt x="830" y="559"/>
                    </a:lnTo>
                    <a:lnTo>
                      <a:pt x="607" y="717"/>
                    </a:lnTo>
                    <a:lnTo>
                      <a:pt x="391" y="865"/>
                    </a:lnTo>
                    <a:lnTo>
                      <a:pt x="244" y="944"/>
                    </a:lnTo>
                    <a:lnTo>
                      <a:pt x="133" y="956"/>
                    </a:lnTo>
                    <a:lnTo>
                      <a:pt x="42" y="933"/>
                    </a:lnTo>
                    <a:lnTo>
                      <a:pt x="0" y="876"/>
                    </a:lnTo>
                    <a:lnTo>
                      <a:pt x="2" y="780"/>
                    </a:lnTo>
                    <a:lnTo>
                      <a:pt x="23" y="865"/>
                    </a:lnTo>
                    <a:lnTo>
                      <a:pt x="23" y="865"/>
                    </a:lnTo>
                    <a:close/>
                  </a:path>
                </a:pathLst>
              </a:custGeom>
              <a:solidFill>
                <a:srgbClr val="e5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992240" y="322524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259" h="177">
                    <a:moveTo>
                      <a:pt x="0" y="59"/>
                    </a:moveTo>
                    <a:lnTo>
                      <a:pt x="76" y="2"/>
                    </a:lnTo>
                    <a:lnTo>
                      <a:pt x="137" y="0"/>
                    </a:lnTo>
                    <a:lnTo>
                      <a:pt x="205" y="10"/>
                    </a:lnTo>
                    <a:lnTo>
                      <a:pt x="250" y="53"/>
                    </a:lnTo>
                    <a:lnTo>
                      <a:pt x="259" y="113"/>
                    </a:lnTo>
                    <a:lnTo>
                      <a:pt x="210" y="177"/>
                    </a:lnTo>
                    <a:lnTo>
                      <a:pt x="151" y="109"/>
                    </a:lnTo>
                    <a:lnTo>
                      <a:pt x="108" y="82"/>
                    </a:lnTo>
                    <a:lnTo>
                      <a:pt x="51" y="7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5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992240" y="3220920"/>
                <a:ext cx="132480" cy="127440"/>
              </a:xfrm>
              <a:custGeom>
                <a:avLst/>
                <a:gdLst/>
                <a:ahLst/>
                <a:rect l="l" t="t" r="r" b="b"/>
                <a:pathLst>
                  <a:path w="251" h="182">
                    <a:moveTo>
                      <a:pt x="95" y="76"/>
                    </a:moveTo>
                    <a:lnTo>
                      <a:pt x="164" y="83"/>
                    </a:lnTo>
                    <a:lnTo>
                      <a:pt x="198" y="76"/>
                    </a:lnTo>
                    <a:lnTo>
                      <a:pt x="201" y="46"/>
                    </a:lnTo>
                    <a:lnTo>
                      <a:pt x="166" y="28"/>
                    </a:lnTo>
                    <a:lnTo>
                      <a:pt x="124" y="34"/>
                    </a:lnTo>
                    <a:lnTo>
                      <a:pt x="54" y="69"/>
                    </a:lnTo>
                    <a:lnTo>
                      <a:pt x="0" y="60"/>
                    </a:lnTo>
                    <a:lnTo>
                      <a:pt x="93" y="0"/>
                    </a:lnTo>
                    <a:lnTo>
                      <a:pt x="164" y="4"/>
                    </a:lnTo>
                    <a:lnTo>
                      <a:pt x="212" y="23"/>
                    </a:lnTo>
                    <a:lnTo>
                      <a:pt x="251" y="71"/>
                    </a:lnTo>
                    <a:lnTo>
                      <a:pt x="248" y="136"/>
                    </a:lnTo>
                    <a:lnTo>
                      <a:pt x="211" y="182"/>
                    </a:lnTo>
                    <a:lnTo>
                      <a:pt x="160" y="94"/>
                    </a:lnTo>
                    <a:lnTo>
                      <a:pt x="95" y="76"/>
                    </a:lnTo>
                    <a:lnTo>
                      <a:pt x="95" y="76"/>
                    </a:lnTo>
                    <a:close/>
                  </a:path>
                </a:pathLst>
              </a:custGeom>
              <a:solidFill>
                <a:srgbClr val="c46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5920" y="3707640"/>
                <a:ext cx="181440" cy="247320"/>
              </a:xfrm>
              <a:custGeom>
                <a:avLst/>
                <a:gdLst/>
                <a:ahLst/>
                <a:rect l="l" t="t" r="r" b="b"/>
                <a:pathLst>
                  <a:path w="341" h="355">
                    <a:moveTo>
                      <a:pt x="341" y="0"/>
                    </a:moveTo>
                    <a:lnTo>
                      <a:pt x="259" y="29"/>
                    </a:lnTo>
                    <a:lnTo>
                      <a:pt x="164" y="86"/>
                    </a:lnTo>
                    <a:lnTo>
                      <a:pt x="86" y="48"/>
                    </a:lnTo>
                    <a:lnTo>
                      <a:pt x="34" y="117"/>
                    </a:lnTo>
                    <a:lnTo>
                      <a:pt x="0" y="230"/>
                    </a:lnTo>
                    <a:lnTo>
                      <a:pt x="5" y="301"/>
                    </a:lnTo>
                    <a:lnTo>
                      <a:pt x="66" y="350"/>
                    </a:lnTo>
                    <a:lnTo>
                      <a:pt x="128" y="355"/>
                    </a:lnTo>
                    <a:lnTo>
                      <a:pt x="193" y="327"/>
                    </a:lnTo>
                    <a:lnTo>
                      <a:pt x="300" y="241"/>
                    </a:lnTo>
                    <a:lnTo>
                      <a:pt x="293" y="125"/>
                    </a:lnTo>
                    <a:lnTo>
                      <a:pt x="341" y="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5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94640" y="3717720"/>
                <a:ext cx="161280" cy="234720"/>
              </a:xfrm>
              <a:custGeom>
                <a:avLst/>
                <a:gdLst/>
                <a:ahLst/>
                <a:rect l="l" t="t" r="r" b="b"/>
                <a:pathLst>
                  <a:path w="302" h="340">
                    <a:moveTo>
                      <a:pt x="0" y="298"/>
                    </a:moveTo>
                    <a:lnTo>
                      <a:pt x="91" y="309"/>
                    </a:lnTo>
                    <a:lnTo>
                      <a:pt x="140" y="272"/>
                    </a:lnTo>
                    <a:lnTo>
                      <a:pt x="176" y="221"/>
                    </a:lnTo>
                    <a:lnTo>
                      <a:pt x="194" y="156"/>
                    </a:lnTo>
                    <a:lnTo>
                      <a:pt x="200" y="88"/>
                    </a:lnTo>
                    <a:lnTo>
                      <a:pt x="152" y="94"/>
                    </a:lnTo>
                    <a:lnTo>
                      <a:pt x="84" y="71"/>
                    </a:lnTo>
                    <a:lnTo>
                      <a:pt x="193" y="53"/>
                    </a:lnTo>
                    <a:lnTo>
                      <a:pt x="268" y="0"/>
                    </a:lnTo>
                    <a:lnTo>
                      <a:pt x="302" y="0"/>
                    </a:lnTo>
                    <a:lnTo>
                      <a:pt x="257" y="100"/>
                    </a:lnTo>
                    <a:lnTo>
                      <a:pt x="270" y="226"/>
                    </a:lnTo>
                    <a:lnTo>
                      <a:pt x="205" y="267"/>
                    </a:lnTo>
                    <a:lnTo>
                      <a:pt x="140" y="321"/>
                    </a:lnTo>
                    <a:lnTo>
                      <a:pt x="61" y="340"/>
                    </a:lnTo>
                    <a:lnTo>
                      <a:pt x="0" y="298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c46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432080" y="3276720"/>
                <a:ext cx="518760" cy="493920"/>
              </a:xfrm>
              <a:custGeom>
                <a:avLst/>
                <a:gdLst/>
                <a:ahLst/>
                <a:rect l="l" t="t" r="r" b="b"/>
                <a:pathLst>
                  <a:path w="976" h="710">
                    <a:moveTo>
                      <a:pt x="0" y="667"/>
                    </a:moveTo>
                    <a:lnTo>
                      <a:pt x="65" y="547"/>
                    </a:lnTo>
                    <a:lnTo>
                      <a:pt x="199" y="457"/>
                    </a:lnTo>
                    <a:lnTo>
                      <a:pt x="341" y="329"/>
                    </a:lnTo>
                    <a:lnTo>
                      <a:pt x="528" y="234"/>
                    </a:lnTo>
                    <a:lnTo>
                      <a:pt x="660" y="148"/>
                    </a:lnTo>
                    <a:lnTo>
                      <a:pt x="885" y="4"/>
                    </a:lnTo>
                    <a:lnTo>
                      <a:pt x="976" y="0"/>
                    </a:lnTo>
                    <a:lnTo>
                      <a:pt x="905" y="51"/>
                    </a:lnTo>
                    <a:lnTo>
                      <a:pt x="454" y="406"/>
                    </a:lnTo>
                    <a:lnTo>
                      <a:pt x="270" y="573"/>
                    </a:lnTo>
                    <a:lnTo>
                      <a:pt x="222" y="628"/>
                    </a:lnTo>
                    <a:lnTo>
                      <a:pt x="147" y="661"/>
                    </a:lnTo>
                    <a:lnTo>
                      <a:pt x="54" y="710"/>
                    </a:lnTo>
                    <a:lnTo>
                      <a:pt x="15" y="704"/>
                    </a:lnTo>
                    <a:lnTo>
                      <a:pt x="0" y="667"/>
                    </a:lnTo>
                    <a:lnTo>
                      <a:pt x="0" y="66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456560" y="3354480"/>
                <a:ext cx="414360" cy="403200"/>
              </a:xfrm>
              <a:custGeom>
                <a:avLst/>
                <a:gdLst/>
                <a:ahLst/>
                <a:rect l="l" t="t" r="r" b="b"/>
                <a:pathLst>
                  <a:path w="780" h="580">
                    <a:moveTo>
                      <a:pt x="0" y="574"/>
                    </a:moveTo>
                    <a:lnTo>
                      <a:pt x="79" y="532"/>
                    </a:lnTo>
                    <a:lnTo>
                      <a:pt x="118" y="492"/>
                    </a:lnTo>
                    <a:lnTo>
                      <a:pt x="166" y="476"/>
                    </a:lnTo>
                    <a:lnTo>
                      <a:pt x="204" y="393"/>
                    </a:lnTo>
                    <a:lnTo>
                      <a:pt x="206" y="441"/>
                    </a:lnTo>
                    <a:lnTo>
                      <a:pt x="263" y="376"/>
                    </a:lnTo>
                    <a:lnTo>
                      <a:pt x="312" y="306"/>
                    </a:lnTo>
                    <a:lnTo>
                      <a:pt x="394" y="269"/>
                    </a:lnTo>
                    <a:lnTo>
                      <a:pt x="447" y="206"/>
                    </a:lnTo>
                    <a:lnTo>
                      <a:pt x="488" y="194"/>
                    </a:lnTo>
                    <a:lnTo>
                      <a:pt x="609" y="105"/>
                    </a:lnTo>
                    <a:lnTo>
                      <a:pt x="668" y="41"/>
                    </a:lnTo>
                    <a:lnTo>
                      <a:pt x="780" y="0"/>
                    </a:lnTo>
                    <a:lnTo>
                      <a:pt x="620" y="126"/>
                    </a:lnTo>
                    <a:lnTo>
                      <a:pt x="382" y="323"/>
                    </a:lnTo>
                    <a:lnTo>
                      <a:pt x="283" y="397"/>
                    </a:lnTo>
                    <a:lnTo>
                      <a:pt x="195" y="504"/>
                    </a:lnTo>
                    <a:lnTo>
                      <a:pt x="139" y="529"/>
                    </a:lnTo>
                    <a:lnTo>
                      <a:pt x="59" y="580"/>
                    </a:lnTo>
                    <a:lnTo>
                      <a:pt x="0" y="574"/>
                    </a:lnTo>
                    <a:lnTo>
                      <a:pt x="0" y="574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00400"/>
                <a:ext cx="609840" cy="762120"/>
              </a:xfrm>
              <a:custGeom>
                <a:avLst/>
                <a:gdLst/>
                <a:ahLst/>
                <a:rect l="l" t="t" r="r" b="b"/>
                <a:pathLst>
                  <a:path w="1147" h="1095">
                    <a:moveTo>
                      <a:pt x="57" y="802"/>
                    </a:moveTo>
                    <a:lnTo>
                      <a:pt x="40" y="751"/>
                    </a:lnTo>
                    <a:lnTo>
                      <a:pt x="49" y="670"/>
                    </a:lnTo>
                    <a:lnTo>
                      <a:pt x="85" y="610"/>
                    </a:lnTo>
                    <a:lnTo>
                      <a:pt x="142" y="541"/>
                    </a:lnTo>
                    <a:lnTo>
                      <a:pt x="312" y="406"/>
                    </a:lnTo>
                    <a:lnTo>
                      <a:pt x="465" y="284"/>
                    </a:lnTo>
                    <a:lnTo>
                      <a:pt x="675" y="144"/>
                    </a:lnTo>
                    <a:lnTo>
                      <a:pt x="848" y="51"/>
                    </a:lnTo>
                    <a:lnTo>
                      <a:pt x="911" y="17"/>
                    </a:lnTo>
                    <a:lnTo>
                      <a:pt x="998" y="0"/>
                    </a:lnTo>
                    <a:lnTo>
                      <a:pt x="1070" y="9"/>
                    </a:lnTo>
                    <a:lnTo>
                      <a:pt x="1121" y="45"/>
                    </a:lnTo>
                    <a:lnTo>
                      <a:pt x="1147" y="83"/>
                    </a:lnTo>
                    <a:lnTo>
                      <a:pt x="1133" y="102"/>
                    </a:lnTo>
                    <a:lnTo>
                      <a:pt x="1079" y="54"/>
                    </a:lnTo>
                    <a:lnTo>
                      <a:pt x="1019" y="39"/>
                    </a:lnTo>
                    <a:lnTo>
                      <a:pt x="965" y="42"/>
                    </a:lnTo>
                    <a:lnTo>
                      <a:pt x="891" y="74"/>
                    </a:lnTo>
                    <a:lnTo>
                      <a:pt x="797" y="122"/>
                    </a:lnTo>
                    <a:lnTo>
                      <a:pt x="614" y="227"/>
                    </a:lnTo>
                    <a:lnTo>
                      <a:pt x="432" y="349"/>
                    </a:lnTo>
                    <a:lnTo>
                      <a:pt x="289" y="460"/>
                    </a:lnTo>
                    <a:lnTo>
                      <a:pt x="174" y="565"/>
                    </a:lnTo>
                    <a:lnTo>
                      <a:pt x="102" y="633"/>
                    </a:lnTo>
                    <a:lnTo>
                      <a:pt x="69" y="715"/>
                    </a:lnTo>
                    <a:lnTo>
                      <a:pt x="88" y="780"/>
                    </a:lnTo>
                    <a:lnTo>
                      <a:pt x="126" y="760"/>
                    </a:lnTo>
                    <a:lnTo>
                      <a:pt x="102" y="792"/>
                    </a:lnTo>
                    <a:lnTo>
                      <a:pt x="69" y="840"/>
                    </a:lnTo>
                    <a:lnTo>
                      <a:pt x="40" y="898"/>
                    </a:lnTo>
                    <a:lnTo>
                      <a:pt x="24" y="952"/>
                    </a:lnTo>
                    <a:lnTo>
                      <a:pt x="24" y="1000"/>
                    </a:lnTo>
                    <a:lnTo>
                      <a:pt x="46" y="1044"/>
                    </a:lnTo>
                    <a:lnTo>
                      <a:pt x="88" y="1071"/>
                    </a:lnTo>
                    <a:lnTo>
                      <a:pt x="133" y="1071"/>
                    </a:lnTo>
                    <a:lnTo>
                      <a:pt x="184" y="1054"/>
                    </a:lnTo>
                    <a:lnTo>
                      <a:pt x="228" y="1026"/>
                    </a:lnTo>
                    <a:lnTo>
                      <a:pt x="312" y="949"/>
                    </a:lnTo>
                    <a:lnTo>
                      <a:pt x="309" y="981"/>
                    </a:lnTo>
                    <a:lnTo>
                      <a:pt x="231" y="1044"/>
                    </a:lnTo>
                    <a:lnTo>
                      <a:pt x="193" y="1077"/>
                    </a:lnTo>
                    <a:lnTo>
                      <a:pt x="142" y="1095"/>
                    </a:lnTo>
                    <a:lnTo>
                      <a:pt x="88" y="1095"/>
                    </a:lnTo>
                    <a:lnTo>
                      <a:pt x="40" y="1071"/>
                    </a:lnTo>
                    <a:lnTo>
                      <a:pt x="3" y="1023"/>
                    </a:lnTo>
                    <a:lnTo>
                      <a:pt x="0" y="955"/>
                    </a:lnTo>
                    <a:lnTo>
                      <a:pt x="18" y="888"/>
                    </a:lnTo>
                    <a:lnTo>
                      <a:pt x="57" y="802"/>
                    </a:lnTo>
                    <a:lnTo>
                      <a:pt x="57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526760" y="3262680"/>
                <a:ext cx="583560" cy="680040"/>
              </a:xfrm>
              <a:custGeom>
                <a:avLst/>
                <a:gdLst/>
                <a:ahLst/>
                <a:rect l="l" t="t" r="r" b="b"/>
                <a:pathLst>
                  <a:path w="1098" h="978">
                    <a:moveTo>
                      <a:pt x="3" y="885"/>
                    </a:moveTo>
                    <a:lnTo>
                      <a:pt x="17" y="922"/>
                    </a:lnTo>
                    <a:lnTo>
                      <a:pt x="44" y="948"/>
                    </a:lnTo>
                    <a:lnTo>
                      <a:pt x="95" y="970"/>
                    </a:lnTo>
                    <a:lnTo>
                      <a:pt x="154" y="978"/>
                    </a:lnTo>
                    <a:lnTo>
                      <a:pt x="221" y="967"/>
                    </a:lnTo>
                    <a:lnTo>
                      <a:pt x="313" y="936"/>
                    </a:lnTo>
                    <a:lnTo>
                      <a:pt x="437" y="874"/>
                    </a:lnTo>
                    <a:lnTo>
                      <a:pt x="556" y="801"/>
                    </a:lnTo>
                    <a:lnTo>
                      <a:pt x="702" y="687"/>
                    </a:lnTo>
                    <a:lnTo>
                      <a:pt x="829" y="580"/>
                    </a:lnTo>
                    <a:lnTo>
                      <a:pt x="925" y="494"/>
                    </a:lnTo>
                    <a:lnTo>
                      <a:pt x="1008" y="403"/>
                    </a:lnTo>
                    <a:lnTo>
                      <a:pt x="1059" y="322"/>
                    </a:lnTo>
                    <a:lnTo>
                      <a:pt x="1090" y="242"/>
                    </a:lnTo>
                    <a:lnTo>
                      <a:pt x="1098" y="179"/>
                    </a:lnTo>
                    <a:lnTo>
                      <a:pt x="1098" y="131"/>
                    </a:lnTo>
                    <a:lnTo>
                      <a:pt x="1065" y="60"/>
                    </a:lnTo>
                    <a:lnTo>
                      <a:pt x="1033" y="29"/>
                    </a:lnTo>
                    <a:lnTo>
                      <a:pt x="957" y="3"/>
                    </a:lnTo>
                    <a:lnTo>
                      <a:pt x="892" y="0"/>
                    </a:lnTo>
                    <a:lnTo>
                      <a:pt x="826" y="0"/>
                    </a:lnTo>
                    <a:lnTo>
                      <a:pt x="712" y="67"/>
                    </a:lnTo>
                    <a:lnTo>
                      <a:pt x="536" y="200"/>
                    </a:lnTo>
                    <a:lnTo>
                      <a:pt x="370" y="329"/>
                    </a:lnTo>
                    <a:lnTo>
                      <a:pt x="236" y="437"/>
                    </a:lnTo>
                    <a:lnTo>
                      <a:pt x="125" y="526"/>
                    </a:lnTo>
                    <a:lnTo>
                      <a:pt x="44" y="635"/>
                    </a:lnTo>
                    <a:lnTo>
                      <a:pt x="0" y="772"/>
                    </a:lnTo>
                    <a:lnTo>
                      <a:pt x="80" y="631"/>
                    </a:lnTo>
                    <a:lnTo>
                      <a:pt x="163" y="536"/>
                    </a:lnTo>
                    <a:lnTo>
                      <a:pt x="278" y="440"/>
                    </a:lnTo>
                    <a:lnTo>
                      <a:pt x="434" y="310"/>
                    </a:lnTo>
                    <a:lnTo>
                      <a:pt x="565" y="203"/>
                    </a:lnTo>
                    <a:lnTo>
                      <a:pt x="715" y="98"/>
                    </a:lnTo>
                    <a:lnTo>
                      <a:pt x="811" y="29"/>
                    </a:lnTo>
                    <a:lnTo>
                      <a:pt x="868" y="20"/>
                    </a:lnTo>
                    <a:lnTo>
                      <a:pt x="931" y="23"/>
                    </a:lnTo>
                    <a:lnTo>
                      <a:pt x="991" y="38"/>
                    </a:lnTo>
                    <a:lnTo>
                      <a:pt x="1045" y="77"/>
                    </a:lnTo>
                    <a:lnTo>
                      <a:pt x="1072" y="134"/>
                    </a:lnTo>
                    <a:lnTo>
                      <a:pt x="1062" y="220"/>
                    </a:lnTo>
                    <a:lnTo>
                      <a:pt x="1021" y="322"/>
                    </a:lnTo>
                    <a:lnTo>
                      <a:pt x="954" y="421"/>
                    </a:lnTo>
                    <a:lnTo>
                      <a:pt x="858" y="511"/>
                    </a:lnTo>
                    <a:lnTo>
                      <a:pt x="702" y="655"/>
                    </a:lnTo>
                    <a:lnTo>
                      <a:pt x="529" y="781"/>
                    </a:lnTo>
                    <a:lnTo>
                      <a:pt x="392" y="859"/>
                    </a:lnTo>
                    <a:lnTo>
                      <a:pt x="304" y="903"/>
                    </a:lnTo>
                    <a:lnTo>
                      <a:pt x="217" y="936"/>
                    </a:lnTo>
                    <a:lnTo>
                      <a:pt x="119" y="942"/>
                    </a:lnTo>
                    <a:lnTo>
                      <a:pt x="68" y="919"/>
                    </a:lnTo>
                    <a:lnTo>
                      <a:pt x="38" y="897"/>
                    </a:lnTo>
                    <a:lnTo>
                      <a:pt x="14" y="808"/>
                    </a:lnTo>
                    <a:lnTo>
                      <a:pt x="3" y="885"/>
                    </a:lnTo>
                    <a:lnTo>
                      <a:pt x="3" y="8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406520" y="3266640"/>
                <a:ext cx="562320" cy="511920"/>
              </a:xfrm>
              <a:custGeom>
                <a:avLst/>
                <a:gdLst/>
                <a:ahLst/>
                <a:rect l="l" t="t" r="r" b="b"/>
                <a:pathLst>
                  <a:path w="1058" h="735">
                    <a:moveTo>
                      <a:pt x="33" y="667"/>
                    </a:moveTo>
                    <a:lnTo>
                      <a:pt x="63" y="642"/>
                    </a:lnTo>
                    <a:lnTo>
                      <a:pt x="79" y="584"/>
                    </a:lnTo>
                    <a:lnTo>
                      <a:pt x="127" y="533"/>
                    </a:lnTo>
                    <a:lnTo>
                      <a:pt x="233" y="469"/>
                    </a:lnTo>
                    <a:lnTo>
                      <a:pt x="341" y="367"/>
                    </a:lnTo>
                    <a:lnTo>
                      <a:pt x="504" y="272"/>
                    </a:lnTo>
                    <a:lnTo>
                      <a:pt x="573" y="230"/>
                    </a:lnTo>
                    <a:lnTo>
                      <a:pt x="612" y="191"/>
                    </a:lnTo>
                    <a:lnTo>
                      <a:pt x="794" y="92"/>
                    </a:lnTo>
                    <a:lnTo>
                      <a:pt x="893" y="23"/>
                    </a:lnTo>
                    <a:lnTo>
                      <a:pt x="966" y="0"/>
                    </a:lnTo>
                    <a:lnTo>
                      <a:pt x="1058" y="3"/>
                    </a:lnTo>
                    <a:lnTo>
                      <a:pt x="1027" y="26"/>
                    </a:lnTo>
                    <a:lnTo>
                      <a:pt x="983" y="26"/>
                    </a:lnTo>
                    <a:lnTo>
                      <a:pt x="921" y="41"/>
                    </a:lnTo>
                    <a:lnTo>
                      <a:pt x="833" y="109"/>
                    </a:lnTo>
                    <a:lnTo>
                      <a:pt x="666" y="204"/>
                    </a:lnTo>
                    <a:lnTo>
                      <a:pt x="618" y="236"/>
                    </a:lnTo>
                    <a:lnTo>
                      <a:pt x="584" y="262"/>
                    </a:lnTo>
                    <a:lnTo>
                      <a:pt x="405" y="355"/>
                    </a:lnTo>
                    <a:lnTo>
                      <a:pt x="338" y="409"/>
                    </a:lnTo>
                    <a:lnTo>
                      <a:pt x="294" y="463"/>
                    </a:lnTo>
                    <a:lnTo>
                      <a:pt x="249" y="491"/>
                    </a:lnTo>
                    <a:lnTo>
                      <a:pt x="179" y="523"/>
                    </a:lnTo>
                    <a:lnTo>
                      <a:pt x="111" y="581"/>
                    </a:lnTo>
                    <a:lnTo>
                      <a:pt x="87" y="632"/>
                    </a:lnTo>
                    <a:lnTo>
                      <a:pt x="60" y="684"/>
                    </a:lnTo>
                    <a:lnTo>
                      <a:pt x="82" y="703"/>
                    </a:lnTo>
                    <a:lnTo>
                      <a:pt x="114" y="703"/>
                    </a:lnTo>
                    <a:lnTo>
                      <a:pt x="185" y="667"/>
                    </a:lnTo>
                    <a:lnTo>
                      <a:pt x="233" y="636"/>
                    </a:lnTo>
                    <a:lnTo>
                      <a:pt x="297" y="625"/>
                    </a:lnTo>
                    <a:lnTo>
                      <a:pt x="274" y="652"/>
                    </a:lnTo>
                    <a:lnTo>
                      <a:pt x="216" y="676"/>
                    </a:lnTo>
                    <a:lnTo>
                      <a:pt x="172" y="712"/>
                    </a:lnTo>
                    <a:lnTo>
                      <a:pt x="111" y="735"/>
                    </a:lnTo>
                    <a:lnTo>
                      <a:pt x="60" y="727"/>
                    </a:lnTo>
                    <a:lnTo>
                      <a:pt x="42" y="700"/>
                    </a:lnTo>
                    <a:lnTo>
                      <a:pt x="0" y="684"/>
                    </a:lnTo>
                    <a:lnTo>
                      <a:pt x="0" y="639"/>
                    </a:lnTo>
                    <a:lnTo>
                      <a:pt x="33" y="667"/>
                    </a:lnTo>
                    <a:lnTo>
                      <a:pt x="33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23160" y="3673080"/>
                <a:ext cx="54000" cy="241920"/>
              </a:xfrm>
              <a:custGeom>
                <a:avLst/>
                <a:gdLst/>
                <a:ahLst/>
                <a:rect l="l" t="t" r="r" b="b"/>
                <a:pathLst>
                  <a:path w="102" h="349">
                    <a:moveTo>
                      <a:pt x="96" y="32"/>
                    </a:moveTo>
                    <a:lnTo>
                      <a:pt x="42" y="143"/>
                    </a:lnTo>
                    <a:lnTo>
                      <a:pt x="33" y="211"/>
                    </a:lnTo>
                    <a:lnTo>
                      <a:pt x="42" y="269"/>
                    </a:lnTo>
                    <a:lnTo>
                      <a:pt x="81" y="349"/>
                    </a:lnTo>
                    <a:lnTo>
                      <a:pt x="24" y="307"/>
                    </a:lnTo>
                    <a:lnTo>
                      <a:pt x="7" y="262"/>
                    </a:lnTo>
                    <a:lnTo>
                      <a:pt x="0" y="196"/>
                    </a:lnTo>
                    <a:lnTo>
                      <a:pt x="17" y="128"/>
                    </a:lnTo>
                    <a:lnTo>
                      <a:pt x="65" y="38"/>
                    </a:lnTo>
                    <a:lnTo>
                      <a:pt x="102" y="0"/>
                    </a:lnTo>
                    <a:lnTo>
                      <a:pt x="96" y="32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953000" y="3214080"/>
                <a:ext cx="180720" cy="141480"/>
              </a:xfrm>
              <a:custGeom>
                <a:avLst/>
                <a:gdLst/>
                <a:ahLst/>
                <a:rect l="l" t="t" r="r" b="b"/>
                <a:pathLst>
                  <a:path w="340" h="204">
                    <a:moveTo>
                      <a:pt x="45" y="66"/>
                    </a:moveTo>
                    <a:lnTo>
                      <a:pt x="133" y="19"/>
                    </a:lnTo>
                    <a:lnTo>
                      <a:pt x="193" y="0"/>
                    </a:lnTo>
                    <a:lnTo>
                      <a:pt x="274" y="9"/>
                    </a:lnTo>
                    <a:lnTo>
                      <a:pt x="315" y="42"/>
                    </a:lnTo>
                    <a:lnTo>
                      <a:pt x="340" y="85"/>
                    </a:lnTo>
                    <a:lnTo>
                      <a:pt x="340" y="141"/>
                    </a:lnTo>
                    <a:lnTo>
                      <a:pt x="331" y="178"/>
                    </a:lnTo>
                    <a:lnTo>
                      <a:pt x="309" y="204"/>
                    </a:lnTo>
                    <a:lnTo>
                      <a:pt x="274" y="201"/>
                    </a:lnTo>
                    <a:lnTo>
                      <a:pt x="268" y="175"/>
                    </a:lnTo>
                    <a:lnTo>
                      <a:pt x="300" y="165"/>
                    </a:lnTo>
                    <a:lnTo>
                      <a:pt x="318" y="134"/>
                    </a:lnTo>
                    <a:lnTo>
                      <a:pt x="312" y="76"/>
                    </a:lnTo>
                    <a:lnTo>
                      <a:pt x="274" y="37"/>
                    </a:lnTo>
                    <a:lnTo>
                      <a:pt x="229" y="28"/>
                    </a:lnTo>
                    <a:lnTo>
                      <a:pt x="175" y="34"/>
                    </a:lnTo>
                    <a:lnTo>
                      <a:pt x="121" y="57"/>
                    </a:lnTo>
                    <a:lnTo>
                      <a:pt x="73" y="85"/>
                    </a:lnTo>
                    <a:lnTo>
                      <a:pt x="0" y="90"/>
                    </a:lnTo>
                    <a:lnTo>
                      <a:pt x="45" y="66"/>
                    </a:lnTo>
                    <a:lnTo>
                      <a:pt x="4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467000" y="3606120"/>
                <a:ext cx="104760" cy="9576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98" y="0"/>
                    </a:moveTo>
                    <a:lnTo>
                      <a:pt x="167" y="35"/>
                    </a:lnTo>
                    <a:lnTo>
                      <a:pt x="115" y="46"/>
                    </a:lnTo>
                    <a:lnTo>
                      <a:pt x="70" y="66"/>
                    </a:lnTo>
                    <a:lnTo>
                      <a:pt x="0" y="137"/>
                    </a:lnTo>
                    <a:lnTo>
                      <a:pt x="45" y="69"/>
                    </a:lnTo>
                    <a:lnTo>
                      <a:pt x="82" y="39"/>
                    </a:lnTo>
                    <a:lnTo>
                      <a:pt x="141" y="26"/>
                    </a:lnTo>
                    <a:lnTo>
                      <a:pt x="198" y="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77520" y="3489480"/>
                <a:ext cx="108360" cy="133200"/>
              </a:xfrm>
              <a:custGeom>
                <a:avLst/>
                <a:gdLst/>
                <a:ahLst/>
                <a:rect l="l" t="t" r="r" b="b"/>
                <a:pathLst>
                  <a:path w="206" h="193">
                    <a:moveTo>
                      <a:pt x="14" y="132"/>
                    </a:moveTo>
                    <a:lnTo>
                      <a:pt x="59" y="77"/>
                    </a:lnTo>
                    <a:lnTo>
                      <a:pt x="136" y="29"/>
                    </a:lnTo>
                    <a:lnTo>
                      <a:pt x="206" y="0"/>
                    </a:lnTo>
                    <a:lnTo>
                      <a:pt x="127" y="66"/>
                    </a:lnTo>
                    <a:lnTo>
                      <a:pt x="62" y="95"/>
                    </a:lnTo>
                    <a:lnTo>
                      <a:pt x="0" y="193"/>
                    </a:lnTo>
                    <a:lnTo>
                      <a:pt x="14" y="132"/>
                    </a:lnTo>
                    <a:lnTo>
                      <a:pt x="14" y="13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01000" y="3384000"/>
                <a:ext cx="106920" cy="90000"/>
              </a:xfrm>
              <a:custGeom>
                <a:avLst/>
                <a:gdLst/>
                <a:ahLst/>
                <a:rect l="l" t="t" r="r" b="b"/>
                <a:pathLst>
                  <a:path w="204" h="130">
                    <a:moveTo>
                      <a:pt x="0" y="130"/>
                    </a:moveTo>
                    <a:lnTo>
                      <a:pt x="73" y="84"/>
                    </a:lnTo>
                    <a:lnTo>
                      <a:pt x="108" y="51"/>
                    </a:lnTo>
                    <a:lnTo>
                      <a:pt x="204" y="0"/>
                    </a:lnTo>
                    <a:lnTo>
                      <a:pt x="111" y="70"/>
                    </a:lnTo>
                    <a:lnTo>
                      <a:pt x="43" y="125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92480" y="3789720"/>
                <a:ext cx="42120" cy="101520"/>
              </a:xfrm>
              <a:custGeom>
                <a:avLst/>
                <a:gdLst/>
                <a:ahLst/>
                <a:rect l="l" t="t" r="r" b="b"/>
                <a:pathLst>
                  <a:path w="80" h="147">
                    <a:moveTo>
                      <a:pt x="55" y="0"/>
                    </a:moveTo>
                    <a:lnTo>
                      <a:pt x="23" y="53"/>
                    </a:lnTo>
                    <a:lnTo>
                      <a:pt x="0" y="104"/>
                    </a:lnTo>
                    <a:lnTo>
                      <a:pt x="3" y="128"/>
                    </a:lnTo>
                    <a:lnTo>
                      <a:pt x="11" y="147"/>
                    </a:lnTo>
                    <a:lnTo>
                      <a:pt x="35" y="141"/>
                    </a:lnTo>
                    <a:lnTo>
                      <a:pt x="40" y="110"/>
                    </a:lnTo>
                    <a:lnTo>
                      <a:pt x="49" y="74"/>
                    </a:lnTo>
                    <a:lnTo>
                      <a:pt x="62" y="45"/>
                    </a:lnTo>
                    <a:lnTo>
                      <a:pt x="80" y="5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cd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563840" y="3315600"/>
                <a:ext cx="439920" cy="459000"/>
              </a:xfrm>
              <a:custGeom>
                <a:avLst/>
                <a:gdLst/>
                <a:ahLst/>
                <a:rect l="l" t="t" r="r" b="b"/>
                <a:pathLst>
                  <a:path w="830" h="659">
                    <a:moveTo>
                      <a:pt x="714" y="45"/>
                    </a:moveTo>
                    <a:lnTo>
                      <a:pt x="436" y="261"/>
                    </a:lnTo>
                    <a:lnTo>
                      <a:pt x="484" y="259"/>
                    </a:lnTo>
                    <a:lnTo>
                      <a:pt x="369" y="347"/>
                    </a:lnTo>
                    <a:lnTo>
                      <a:pt x="190" y="476"/>
                    </a:lnTo>
                    <a:lnTo>
                      <a:pt x="0" y="659"/>
                    </a:lnTo>
                    <a:lnTo>
                      <a:pt x="291" y="482"/>
                    </a:lnTo>
                    <a:lnTo>
                      <a:pt x="525" y="332"/>
                    </a:lnTo>
                    <a:lnTo>
                      <a:pt x="711" y="184"/>
                    </a:lnTo>
                    <a:lnTo>
                      <a:pt x="830" y="0"/>
                    </a:lnTo>
                    <a:lnTo>
                      <a:pt x="714" y="45"/>
                    </a:lnTo>
                    <a:lnTo>
                      <a:pt x="714" y="45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419120" y="3244680"/>
                <a:ext cx="453600" cy="448920"/>
              </a:xfrm>
              <a:custGeom>
                <a:avLst/>
                <a:gdLst/>
                <a:ahLst/>
                <a:rect l="l" t="t" r="r" b="b"/>
                <a:pathLst>
                  <a:path w="854" h="644">
                    <a:moveTo>
                      <a:pt x="0" y="644"/>
                    </a:moveTo>
                    <a:lnTo>
                      <a:pt x="73" y="528"/>
                    </a:lnTo>
                    <a:lnTo>
                      <a:pt x="269" y="361"/>
                    </a:lnTo>
                    <a:lnTo>
                      <a:pt x="510" y="184"/>
                    </a:lnTo>
                    <a:lnTo>
                      <a:pt x="663" y="85"/>
                    </a:lnTo>
                    <a:lnTo>
                      <a:pt x="854" y="0"/>
                    </a:lnTo>
                    <a:lnTo>
                      <a:pt x="621" y="137"/>
                    </a:lnTo>
                    <a:lnTo>
                      <a:pt x="357" y="317"/>
                    </a:lnTo>
                    <a:lnTo>
                      <a:pt x="166" y="479"/>
                    </a:lnTo>
                    <a:lnTo>
                      <a:pt x="73" y="556"/>
                    </a:lnTo>
                    <a:lnTo>
                      <a:pt x="0" y="644"/>
                    </a:lnTo>
                    <a:lnTo>
                      <a:pt x="0" y="644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4876920" y="2133720"/>
            <a:ext cx="3124080" cy="2666880"/>
            <a:chOff x="4876920" y="2133720"/>
            <a:chExt cx="3124080" cy="2666880"/>
          </a:xfrm>
        </p:grpSpPr>
        <p:sp>
          <p:nvSpPr>
            <p:cNvPr id="554" name=""/>
            <p:cNvSpPr/>
            <p:nvPr/>
          </p:nvSpPr>
          <p:spPr>
            <a:xfrm>
              <a:off x="4876920" y="2133720"/>
              <a:ext cx="3124080" cy="2666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e7c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5" name=""/>
            <p:cNvGraphicFramePr/>
            <p:nvPr/>
          </p:nvGraphicFramePr>
          <p:xfrm>
            <a:off x="5334120" y="2361960"/>
            <a:ext cx="2361960" cy="220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4120" y="2361960"/>
                      <a:ext cx="236196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chedules of Positive Reinforcemen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– reinforcer for every respon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hedules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ixed rati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 reinforcer given after each specified or fixed number of respon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Variable rati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 reinforcement after varying number of respon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152280" y="2133720"/>
            <a:ext cx="8610840" cy="4114800"/>
            <a:chOff x="152280" y="2133720"/>
            <a:chExt cx="8610840" cy="4114800"/>
          </a:xfrm>
        </p:grpSpPr>
        <p:sp>
          <p:nvSpPr>
            <p:cNvPr id="561" name=""/>
            <p:cNvSpPr/>
            <p:nvPr/>
          </p:nvSpPr>
          <p:spPr>
            <a:xfrm>
              <a:off x="152280" y="2133720"/>
              <a:ext cx="8610840" cy="4114800"/>
            </a:xfrm>
            <a:prstGeom prst="rect">
              <a:avLst/>
            </a:prstGeom>
            <a:solidFill>
              <a:srgbClr val="f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066680" y="2743200"/>
              <a:ext cx="3048120" cy="2666880"/>
              <a:chOff x="1066680" y="2743200"/>
              <a:chExt cx="3048120" cy="2666880"/>
            </a:xfrm>
          </p:grpSpPr>
          <p:sp>
            <p:nvSpPr>
              <p:cNvPr id="563" name=""/>
              <p:cNvSpPr/>
              <p:nvPr/>
            </p:nvSpPr>
            <p:spPr>
              <a:xfrm>
                <a:off x="1066680" y="2743200"/>
                <a:ext cx="0" cy="266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066680" y="541008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1261080" y="4775040"/>
                <a:ext cx="324360" cy="31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85440" y="4775040"/>
                <a:ext cx="64440" cy="6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1650240" y="4393800"/>
                <a:ext cx="324360" cy="44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1974600" y="4076280"/>
                <a:ext cx="324000" cy="31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363760" y="3695400"/>
                <a:ext cx="324000" cy="44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298600" y="4076640"/>
                <a:ext cx="64800" cy="6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2687760" y="3377880"/>
                <a:ext cx="324000" cy="31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3076920" y="2997000"/>
                <a:ext cx="324000" cy="44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12120" y="3378240"/>
                <a:ext cx="64800" cy="6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295280" y="21337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Fixed Ra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029200" y="2819520"/>
              <a:ext cx="3048120" cy="2590560"/>
              <a:chOff x="5029200" y="2819520"/>
              <a:chExt cx="3048120" cy="2590560"/>
            </a:xfrm>
          </p:grpSpPr>
          <p:sp>
            <p:nvSpPr>
              <p:cNvPr id="576" name=""/>
              <p:cNvSpPr/>
              <p:nvPr/>
            </p:nvSpPr>
            <p:spPr>
              <a:xfrm>
                <a:off x="5029200" y="2819520"/>
                <a:ext cx="0" cy="25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029200" y="541008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5394960" y="4222440"/>
                <a:ext cx="487800" cy="9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82760" y="4222440"/>
                <a:ext cx="12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6004440" y="3790440"/>
                <a:ext cx="24372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48520" y="3790800"/>
                <a:ext cx="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309360" y="2819520"/>
                <a:ext cx="304920" cy="9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486400" y="213372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 Rat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22800">
              <a:off x="51120" y="3758400"/>
              <a:ext cx="1371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umulative respo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080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22800">
              <a:off x="3988080" y="3758400"/>
              <a:ext cx="1371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umulative respo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0968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838080" y="380880"/>
            <a:ext cx="5715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atterns of Behavior Produced by Rei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chedules of Positive Reinforcemen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hedu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ixed interval schedul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 reinforcement based o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(ie: every 2 hou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riable interval schedul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 reinforcement after variable amount of time  (ie: reinforced after 1 hour, then after 4 minutes, then after 35 minutes like slot machine gambling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228600" y="2133720"/>
            <a:ext cx="8686800" cy="4267080"/>
            <a:chOff x="228600" y="2133720"/>
            <a:chExt cx="8686800" cy="4267080"/>
          </a:xfrm>
        </p:grpSpPr>
        <p:sp>
          <p:nvSpPr>
            <p:cNvPr id="593" name=""/>
            <p:cNvSpPr/>
            <p:nvPr/>
          </p:nvSpPr>
          <p:spPr>
            <a:xfrm>
              <a:off x="228600" y="2133720"/>
              <a:ext cx="8686800" cy="4267080"/>
            </a:xfrm>
            <a:prstGeom prst="rect">
              <a:avLst/>
            </a:prstGeom>
            <a:solidFill>
              <a:srgbClr val="f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244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22800">
              <a:off x="4140360" y="3987000"/>
              <a:ext cx="1371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umulative respo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22800">
              <a:off x="279720" y="3987000"/>
              <a:ext cx="1371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umulative respon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1153440" y="2743200"/>
              <a:ext cx="3113640" cy="2743200"/>
              <a:chOff x="1153440" y="2743200"/>
              <a:chExt cx="3113640" cy="2743200"/>
            </a:xfrm>
          </p:grpSpPr>
          <p:sp>
            <p:nvSpPr>
              <p:cNvPr id="599" name=""/>
              <p:cNvSpPr/>
              <p:nvPr/>
            </p:nvSpPr>
            <p:spPr>
              <a:xfrm>
                <a:off x="1297080" y="2743200"/>
                <a:ext cx="0" cy="274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295280" y="5486400"/>
                <a:ext cx="297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1153440" y="4610880"/>
                <a:ext cx="670320" cy="58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1489680" y="4318560"/>
                <a:ext cx="669600" cy="58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1824480" y="4026600"/>
                <a:ext cx="670320" cy="58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2160360" y="3735360"/>
                <a:ext cx="670320" cy="58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496240" y="3443040"/>
                <a:ext cx="669600" cy="58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831400" y="3151080"/>
                <a:ext cx="670320" cy="58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3166920" y="2859840"/>
                <a:ext cx="670320" cy="58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295280" y="2133720"/>
              <a:ext cx="2438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Fixed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05520" y="2133720"/>
              <a:ext cx="2666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Variable Inter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181480" y="2819520"/>
              <a:ext cx="2971800" cy="2666880"/>
              <a:chOff x="5181480" y="2819520"/>
              <a:chExt cx="2971800" cy="2666880"/>
            </a:xfrm>
          </p:grpSpPr>
          <p:sp>
            <p:nvSpPr>
              <p:cNvPr id="611" name=""/>
              <p:cNvSpPr/>
              <p:nvPr/>
            </p:nvSpPr>
            <p:spPr>
              <a:xfrm>
                <a:off x="5181480" y="2819520"/>
                <a:ext cx="0" cy="2666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1480" y="5486400"/>
                <a:ext cx="297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325120" y="4805280"/>
                <a:ext cx="5749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900400" y="4805280"/>
                <a:ext cx="9576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996160" y="4351320"/>
                <a:ext cx="5749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571440" y="4351320"/>
                <a:ext cx="9576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667200" y="3897360"/>
                <a:ext cx="5749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242480" y="3897360"/>
                <a:ext cx="9576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7338240" y="3443400"/>
                <a:ext cx="5749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838080" y="380880"/>
            <a:ext cx="5715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atterns of Behavior Produced by Rei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hap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inforcing steps toward targeted behavior or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method of successive approxim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kinner – Skinner bo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at pushes lever to get food af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warded for steps of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earin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touchin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pushing 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le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d for children and those with developmental handica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143000" y="533520"/>
            <a:ext cx="7010280" cy="579096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480" y="1522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Operant Cond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62120" y="934920"/>
            <a:ext cx="7924680" cy="5618160"/>
            <a:chOff x="762120" y="934920"/>
            <a:chExt cx="7924680" cy="5618160"/>
          </a:xfrm>
        </p:grpSpPr>
        <p:graphicFrame>
          <p:nvGraphicFramePr>
            <p:cNvPr id="627" name=""/>
            <p:cNvGraphicFramePr/>
            <p:nvPr/>
          </p:nvGraphicFramePr>
          <p:xfrm>
            <a:off x="1387440" y="934920"/>
            <a:ext cx="6521400" cy="507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7440" y="934920"/>
                      <a:ext cx="6521400" cy="507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9" name=""/>
            <p:cNvSpPr/>
            <p:nvPr/>
          </p:nvSpPr>
          <p:spPr>
            <a:xfrm>
              <a:off x="2514600" y="2286000"/>
              <a:ext cx="14479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14600" y="2286000"/>
              <a:ext cx="175248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81080" y="2362320"/>
              <a:ext cx="2057400" cy="1218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2514600" y="175248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52680" y="2057400"/>
              <a:ext cx="6858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352680" y="137124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7920" y="411480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47920" y="4114800"/>
              <a:ext cx="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47920" y="312408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24480" y="5715000"/>
              <a:ext cx="1575000" cy="380880"/>
            </a:xfrm>
            <a:custGeom>
              <a:avLst/>
              <a:gdLst/>
              <a:ahLst/>
              <a:rect l="l" t="t" r="r" b="b"/>
              <a:pathLst>
                <a:path w="992" h="240">
                  <a:moveTo>
                    <a:pt x="0" y="0"/>
                  </a:moveTo>
                  <a:cubicBezTo>
                    <a:pt x="80" y="84"/>
                    <a:pt x="160" y="168"/>
                    <a:pt x="240" y="192"/>
                  </a:cubicBezTo>
                  <a:cubicBezTo>
                    <a:pt x="320" y="216"/>
                    <a:pt x="392" y="168"/>
                    <a:pt x="480" y="144"/>
                  </a:cubicBezTo>
                  <a:cubicBezTo>
                    <a:pt x="568" y="120"/>
                    <a:pt x="688" y="40"/>
                    <a:pt x="768" y="48"/>
                  </a:cubicBezTo>
                  <a:cubicBezTo>
                    <a:pt x="848" y="56"/>
                    <a:pt x="928" y="160"/>
                    <a:pt x="960" y="192"/>
                  </a:cubicBezTo>
                  <a:cubicBezTo>
                    <a:pt x="992" y="224"/>
                    <a:pt x="976" y="232"/>
                    <a:pt x="960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72400" y="6019920"/>
              <a:ext cx="22860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24680" y="6324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48720" y="6324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581280" y="4800600"/>
              <a:ext cx="83844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286000" y="4419720"/>
              <a:ext cx="83808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286000" y="5334120"/>
              <a:ext cx="15228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81280" y="5715000"/>
              <a:ext cx="22860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29000" y="5791320"/>
              <a:ext cx="1523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ectric gr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3720" y="5638680"/>
              <a:ext cx="1218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od c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14400" y="5334120"/>
              <a:ext cx="1219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enser tu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2120" y="251460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llet dispens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66680" y="2133720"/>
              <a:ext cx="121932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ver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8800" y="1219320"/>
              <a:ext cx="1219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gnal light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819520" y="1066680"/>
              <a:ext cx="1218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ak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67480" y="4800600"/>
              <a:ext cx="1219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 shock generat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48720" y="541008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Negative Reinforcemen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mething unpleasant, aversive, undesired is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remove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y behavior or does not happen at al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the same as punish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a bad habit being reinforc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ery powerful method of reinforc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scape conditioning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– negative event sto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voidance conditioning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– negative event avoid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unishment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sequence of behavior is negativ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havior has b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punish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havior frequency will decrea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en appropriately used – ethical and valuable tool for discouraging undesired behavi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hysical punishment used by society, parents, and other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as dang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aises ethical ques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angers of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unishment 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ft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reinforcing to the punish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ften ha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generalizing effect on the individu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lead to a worse problem (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learning to dislike punisher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reacting aggressivel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wards othe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riticism tra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 belief that punishment is ineffective leads to using criticism (criticism sometimes reinforces negative behavi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unishment may suppress behavior temporarily but is not long term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lassical Conditioning: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Learning by Association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van Pavlov in Russi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bel Prize for saliva in diges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flexive response controlled by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arbitrar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stimulus (salivation when attendant approache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soci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key element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rst recognized by Aristot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vlov: classical conditioning was form of learning through associ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Guideline for Use of Punishmen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not us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hysica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unish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unish inappropriate behavior immediate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sitively reinforce appropriate behavi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arify what behavior is being punished and why (separate the person from the behavio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not mix punishment with reward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not back down once you begin to punis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2200200">
            <a:off x="367920" y="3163680"/>
            <a:ext cx="9537840" cy="64584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Contrasting Classical and Operant Conditio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733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assical conditioning involv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sociation between two stimul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flexive, involuntary behavio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CS making behavior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happ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7080" y="182880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perant conditioning in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sociation between response and con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re complicated voluntary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inforcing consequence occurring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only i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desired response is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timulus Discrimination and Generalization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timulus discrimin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– deciding between appropriate and inappropriate occasions for a respon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arned by humans and anima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timulus generaliz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– opposite of stimulus discrimin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milarity of two or more stimul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 rot="2287800">
            <a:off x="-185400" y="3087360"/>
            <a:ext cx="10103040" cy="6094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95280" y="1122480"/>
            <a:ext cx="8215200" cy="5127480"/>
            <a:chOff x="395280" y="1122480"/>
            <a:chExt cx="8215200" cy="5127480"/>
          </a:xfrm>
        </p:grpSpPr>
        <p:grpSp>
          <p:nvGrpSpPr>
            <p:cNvPr id="677" name=""/>
            <p:cNvGrpSpPr/>
            <p:nvPr/>
          </p:nvGrpSpPr>
          <p:grpSpPr>
            <a:xfrm>
              <a:off x="1295280" y="1122480"/>
              <a:ext cx="7162560" cy="4419720"/>
              <a:chOff x="1295280" y="1122480"/>
              <a:chExt cx="7162560" cy="4419720"/>
            </a:xfrm>
          </p:grpSpPr>
          <p:sp>
            <p:nvSpPr>
              <p:cNvPr id="678" name=""/>
              <p:cNvSpPr/>
              <p:nvPr/>
            </p:nvSpPr>
            <p:spPr>
              <a:xfrm>
                <a:off x="1295280" y="5542200"/>
                <a:ext cx="7162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295280" y="1122480"/>
                <a:ext cx="0" cy="441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41936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63024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9400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20668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6900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8168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35632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04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44720" y="1122480"/>
                <a:ext cx="0" cy="4419720"/>
              </a:xfrm>
              <a:prstGeom prst="line">
                <a:avLst/>
              </a:prstGeom>
              <a:ln w="3240">
                <a:solidFill>
                  <a:srgbClr val="dba2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1295280" y="1198800"/>
                <a:ext cx="7162560" cy="3733560"/>
                <a:chOff x="1295280" y="1198800"/>
                <a:chExt cx="7162560" cy="37335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1295280" y="4308480"/>
                  <a:ext cx="716256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295280" y="1822680"/>
                  <a:ext cx="716256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295280" y="1198800"/>
                  <a:ext cx="716256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295280" y="2436840"/>
                  <a:ext cx="716256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295280" y="4932360"/>
                  <a:ext cx="716256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295280" y="3684600"/>
                  <a:ext cx="716256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295280" y="3060720"/>
                  <a:ext cx="7162560" cy="0"/>
                </a:xfrm>
                <a:prstGeom prst="line">
                  <a:avLst/>
                </a:prstGeom>
                <a:ln w="3240">
                  <a:solidFill>
                    <a:srgbClr val="dba2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7" name=""/>
            <p:cNvSpPr/>
            <p:nvPr/>
          </p:nvSpPr>
          <p:spPr>
            <a:xfrm>
              <a:off x="762120" y="413568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2120" y="16560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52480" y="5542200"/>
              <a:ext cx="609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4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2120" y="53136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14600" y="5542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52680" y="5542200"/>
              <a:ext cx="609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5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6200000">
              <a:off x="-906120" y="31446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Mean total respon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6920" y="5542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5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15000" y="5542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5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77120" y="5542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01000" y="5542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90720" y="5542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4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238880" y="5542200"/>
              <a:ext cx="609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2120" y="287496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4800" y="5542200"/>
              <a:ext cx="609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5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33920" y="58816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Wave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057400" y="5348160"/>
              <a:ext cx="38088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438280" y="5195880"/>
              <a:ext cx="381240" cy="152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819520" y="4966920"/>
              <a:ext cx="380880" cy="228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200400" y="4662720"/>
              <a:ext cx="457200" cy="304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3657600" y="3823920"/>
              <a:ext cx="380880" cy="838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038480" y="2986200"/>
              <a:ext cx="381240" cy="838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419720" y="1385640"/>
              <a:ext cx="380880" cy="160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0600" y="1386000"/>
              <a:ext cx="38088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81480" y="2300400"/>
              <a:ext cx="381240" cy="7621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62720" y="3062520"/>
              <a:ext cx="457200" cy="457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19920" y="3519720"/>
              <a:ext cx="380880" cy="7617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00800" y="4281480"/>
              <a:ext cx="380880" cy="7621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81680" y="5043600"/>
              <a:ext cx="381240" cy="3808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7162920" y="5195520"/>
              <a:ext cx="380880" cy="228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43800" y="5195880"/>
              <a:ext cx="457200" cy="228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523880" y="152280"/>
            <a:ext cx="5943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imulus Generalization and Reinforcement of a Pigeon’s P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xtinction: Learning When to Quit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tinc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arned response stops occurring because original source of learning was removed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assical condi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ear is very difficult to extinguis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R extinguished if CS is repeatedly presented but UCS is no longer paired with i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perant condi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tinction results from change in conseque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xtinction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fferences between classical conditioning and operant condi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perant condi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rly stage extinction leads to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rustr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artial reinforcement effect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schedule and type of reinforcement greatly influence extin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astest extinction - continuous reinforc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sponse preven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 extinguishes avoidance responses quick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pontaneous Recovery and Disinhibition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urse of extinction not smooth – learned response occurs often before extin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pontaneous recov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sponse reappears during extin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isinhib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esentation of intense, unrelated stimulus can cause strength of response to retur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vlov: no response is unlearned, just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hibit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heoretical Interpretations of Lear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vlov – Neural connections between brain areas of learning and responding acquir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ther psychologis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gnition plays central role in lear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lace learnin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gnitive m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atent lear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ight learning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– sudden problem solv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earning se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– learned to learn insightful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 rot="2287800">
            <a:off x="-185400" y="3087360"/>
            <a:ext cx="10103040" cy="6094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47920" y="152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nkeys and Impact of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622080" y="1004760"/>
            <a:ext cx="8369640" cy="5397480"/>
            <a:chOff x="622080" y="1004760"/>
            <a:chExt cx="8369640" cy="5397480"/>
          </a:xfrm>
        </p:grpSpPr>
        <p:grpSp>
          <p:nvGrpSpPr>
            <p:cNvPr id="744" name=""/>
            <p:cNvGrpSpPr/>
            <p:nvPr/>
          </p:nvGrpSpPr>
          <p:grpSpPr>
            <a:xfrm>
              <a:off x="1486080" y="1004760"/>
              <a:ext cx="5943600" cy="4724640"/>
              <a:chOff x="1486080" y="1004760"/>
              <a:chExt cx="5943600" cy="4724640"/>
            </a:xfrm>
          </p:grpSpPr>
          <p:sp>
            <p:nvSpPr>
              <p:cNvPr id="745" name=""/>
              <p:cNvSpPr/>
              <p:nvPr/>
            </p:nvSpPr>
            <p:spPr>
              <a:xfrm>
                <a:off x="1486080" y="5729400"/>
                <a:ext cx="5943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1486080" y="1081080"/>
                <a:ext cx="5943600" cy="4343040"/>
                <a:chOff x="1486080" y="1081080"/>
                <a:chExt cx="5943600" cy="434304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1486080" y="449352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86080" y="480384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486080" y="387324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486080" y="418320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86080" y="325224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86080" y="356292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86080" y="263196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86080" y="294228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86080" y="201168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486080" y="232164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486080" y="139104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486080" y="108108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486080" y="511380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486080" y="542412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486080" y="1701360"/>
                  <a:ext cx="5943600" cy="0"/>
                </a:xfrm>
                <a:prstGeom prst="line">
                  <a:avLst/>
                </a:prstGeom>
                <a:ln w="32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V="1">
                <a:off x="7353360" y="1081080"/>
                <a:ext cx="0" cy="4648320"/>
              </a:xfrm>
              <a:prstGeom prst="line">
                <a:avLst/>
              </a:prstGeom>
              <a:ln w="3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1486080" y="1004760"/>
                <a:ext cx="0" cy="472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5677200" y="1081080"/>
                <a:ext cx="0" cy="4648320"/>
              </a:xfrm>
              <a:prstGeom prst="line">
                <a:avLst/>
              </a:prstGeom>
              <a:ln w="3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6515280" y="1081080"/>
                <a:ext cx="0" cy="4648320"/>
              </a:xfrm>
              <a:prstGeom prst="line">
                <a:avLst/>
              </a:prstGeom>
              <a:ln w="3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3162600" y="1081080"/>
                <a:ext cx="0" cy="4648320"/>
              </a:xfrm>
              <a:prstGeom prst="line">
                <a:avLst/>
              </a:prstGeom>
              <a:ln w="3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4000680" y="1081080"/>
                <a:ext cx="0" cy="4648320"/>
              </a:xfrm>
              <a:prstGeom prst="line">
                <a:avLst/>
              </a:prstGeom>
              <a:ln w="3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4838760" y="1081080"/>
                <a:ext cx="0" cy="4648320"/>
              </a:xfrm>
              <a:prstGeom prst="line">
                <a:avLst/>
              </a:prstGeom>
              <a:ln w="3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2324160" y="1081080"/>
                <a:ext cx="0" cy="4648320"/>
              </a:xfrm>
              <a:prstGeom prst="line">
                <a:avLst/>
              </a:prstGeom>
              <a:ln w="3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1028880" y="184320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28880" y="245268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28880" y="306216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28880" y="371304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28880" y="432288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28880" y="493236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33640" y="5756400"/>
              <a:ext cx="533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197000">
              <a:off x="-1211040" y="329544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Percent of correct respon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28880" y="554184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080" y="575640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10160" y="5756400"/>
              <a:ext cx="533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48240" y="5756400"/>
              <a:ext cx="533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286680" y="575640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95560" y="5756400"/>
              <a:ext cx="533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8880" y="1233360"/>
              <a:ext cx="533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67160" y="603396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Tri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362320" y="2819160"/>
              <a:ext cx="838080" cy="28191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200400" y="2743200"/>
              <a:ext cx="838080" cy="763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038480" y="2666880"/>
              <a:ext cx="762120" cy="763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800600" y="2590560"/>
              <a:ext cx="838080" cy="759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38680" y="2590920"/>
              <a:ext cx="914400" cy="759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43800" y="3692520"/>
              <a:ext cx="380880" cy="0"/>
            </a:xfrm>
            <a:prstGeom prst="line">
              <a:avLst/>
            </a:prstGeom>
            <a:ln w="1522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35053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3800" y="12193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66"/>
                  </a:solidFill>
                  <a:uFillTx/>
                  <a:latin typeface="Times New Roman"/>
                </a:rPr>
                <a:t>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2362320" y="3200040"/>
              <a:ext cx="838080" cy="2438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3200400" y="2895120"/>
              <a:ext cx="762120" cy="3049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962520" y="2742840"/>
              <a:ext cx="914400" cy="15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4876920" y="2666880"/>
              <a:ext cx="83808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15000" y="2666880"/>
              <a:ext cx="838080" cy="1526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362320" y="3505320"/>
              <a:ext cx="838080" cy="21333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3200400" y="3276360"/>
              <a:ext cx="838080" cy="2286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038480" y="2971440"/>
              <a:ext cx="838440" cy="304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4876920" y="2742840"/>
              <a:ext cx="838080" cy="2286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15000" y="2743200"/>
              <a:ext cx="83808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43800" y="3083040"/>
              <a:ext cx="380880" cy="0"/>
            </a:xfrm>
            <a:prstGeom prst="line">
              <a:avLst/>
            </a:prstGeom>
            <a:ln w="1522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24680" y="28954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7-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2362320" y="4419720"/>
              <a:ext cx="761760" cy="1218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124080" y="3962520"/>
              <a:ext cx="838440" cy="4572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3962520" y="3886200"/>
              <a:ext cx="838080" cy="763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4800600" y="3352680"/>
              <a:ext cx="914400" cy="5335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5715000" y="3048120"/>
              <a:ext cx="838080" cy="3045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43800" y="2778120"/>
              <a:ext cx="380880" cy="0"/>
            </a:xfrm>
            <a:prstGeom prst="line">
              <a:avLst/>
            </a:prstGeom>
            <a:ln w="1522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24680" y="2590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5-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43800" y="2487600"/>
              <a:ext cx="380880" cy="0"/>
            </a:xfrm>
            <a:prstGeom prst="line">
              <a:avLst/>
            </a:prstGeom>
            <a:ln w="1522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24680" y="23004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101-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3800" y="2168640"/>
              <a:ext cx="380880" cy="0"/>
            </a:xfrm>
            <a:prstGeom prst="line">
              <a:avLst/>
            </a:prstGeom>
            <a:ln w="1522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924680" y="19810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01-2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543800" y="1878120"/>
              <a:ext cx="380880" cy="0"/>
            </a:xfrm>
            <a:prstGeom prst="line">
              <a:avLst/>
            </a:prstGeom>
            <a:ln w="152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24680" y="169056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257-3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362320" y="4647960"/>
              <a:ext cx="761760" cy="99036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124080" y="4495680"/>
              <a:ext cx="914400" cy="152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4038480" y="3657600"/>
              <a:ext cx="762120" cy="83808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00600" y="3657600"/>
              <a:ext cx="914400" cy="15228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5715000" y="3200040"/>
              <a:ext cx="838080" cy="60948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362320" y="4800600"/>
              <a:ext cx="838080" cy="83808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200400" y="4343400"/>
              <a:ext cx="762120" cy="45720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3962520" y="3962520"/>
              <a:ext cx="838080" cy="38088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4800600" y="3657240"/>
              <a:ext cx="838080" cy="304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5638680" y="3352320"/>
              <a:ext cx="914400" cy="30492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3800" y="3387600"/>
              <a:ext cx="380880" cy="0"/>
            </a:xfrm>
            <a:prstGeom prst="line">
              <a:avLst/>
            </a:prstGeom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924680" y="32004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9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362320" y="5562360"/>
              <a:ext cx="838080" cy="15228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3200400" y="5105520"/>
              <a:ext cx="838080" cy="45720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4038480" y="4572000"/>
              <a:ext cx="762120" cy="53352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4800600" y="4419360"/>
              <a:ext cx="838080" cy="15228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5638680" y="3962520"/>
              <a:ext cx="914400" cy="45720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09680" y="5562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odeling: Learning by Watching Other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andura – people learn through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monstrates role of cognition in lear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gnitive learning occurs by watching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ehavior occu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arn skil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se of appropriate behavior in given situ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duce inhibi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arn what behaviors are reinforc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52280" y="914400"/>
            <a:ext cx="7772400" cy="5486400"/>
            <a:chOff x="152280" y="914400"/>
            <a:chExt cx="7772400" cy="5486400"/>
          </a:xfrm>
        </p:grpSpPr>
        <p:sp>
          <p:nvSpPr>
            <p:cNvPr id="116" name=""/>
            <p:cNvSpPr/>
            <p:nvPr/>
          </p:nvSpPr>
          <p:spPr>
            <a:xfrm>
              <a:off x="152280" y="914400"/>
              <a:ext cx="7772400" cy="5486400"/>
            </a:xfrm>
            <a:prstGeom prst="rect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1447920" y="1433520"/>
            <a:ext cx="6172200" cy="403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1433520"/>
                      <a:ext cx="6172200" cy="403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V="1">
              <a:off x="3048120" y="4557240"/>
              <a:ext cx="68580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114800" y="3719520"/>
              <a:ext cx="83808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349092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424240"/>
              <a:ext cx="137160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2043000"/>
              <a:ext cx="6094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590920" y="143316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189072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ntainer of meat pow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11430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Observation scr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295740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Revolving drum for recording respon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5120" y="557676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evice to count drops of sal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525780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Tube for collection of sal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52880" y="55627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1337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avlov’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odel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werful form of lear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icarious reinforce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– likely to imitate reinforced behavio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icarious punish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– likely not to imitate behaviors that are punish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igh status, attractive, likeable, successful models more likely imit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erns about television, movies, other medi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iological Factors in Lear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arning influenced several way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hysical ability limitations (ie: fish cannot fl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vidual differences – (ie: fear inhibition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cess of evolution – useful fears and survival mechanism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ological preparedness to lear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earned taste aversion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 used on humans and animal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The End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29400" y="334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380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avlov’s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1523880"/>
            <a:ext cx="8991360" cy="4419720"/>
          </a:xfrm>
          <a:prstGeom prst="rect">
            <a:avLst/>
          </a:prstGeom>
          <a:solidFill>
            <a:srgbClr val="eae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2057400"/>
            <a:ext cx="8610480" cy="3429720"/>
            <a:chOff x="457200" y="2057400"/>
            <a:chExt cx="8610480" cy="3429720"/>
          </a:xfrm>
        </p:grpSpPr>
        <p:sp>
          <p:nvSpPr>
            <p:cNvPr id="135" name=""/>
            <p:cNvSpPr/>
            <p:nvPr/>
          </p:nvSpPr>
          <p:spPr>
            <a:xfrm>
              <a:off x="1904760" y="4626000"/>
              <a:ext cx="83844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3225960"/>
              <a:ext cx="1523880" cy="33732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CR (saliv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2895480" y="4092480"/>
            <a:ext cx="1066680" cy="103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4092480"/>
                      <a:ext cx="1066680" cy="10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457200" y="4930920"/>
              <a:ext cx="1523880" cy="48276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UCR         (meat pow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2895480" y="2209680"/>
            <a:ext cx="1066680" cy="1035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2209680"/>
                      <a:ext cx="1066680" cy="10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4495680" y="253836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Before classical conditioning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:  initially, the metronome is a neutral stimulus that does not elicit the response of sal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4441680"/>
              <a:ext cx="380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But the unconditioned stimulus (UCS) can elicit the unconditioned response (UC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5149800"/>
              <a:ext cx="1676520" cy="33732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UCR (saliv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09480" y="4397400"/>
              <a:ext cx="1219320" cy="456840"/>
              <a:chOff x="609480" y="4397400"/>
              <a:chExt cx="1219320" cy="456840"/>
            </a:xfrm>
          </p:grpSpPr>
          <p:sp>
            <p:nvSpPr>
              <p:cNvPr id="146" name=""/>
              <p:cNvSpPr/>
              <p:nvPr/>
            </p:nvSpPr>
            <p:spPr>
              <a:xfrm>
                <a:off x="609480" y="4511520"/>
                <a:ext cx="1219320" cy="342720"/>
              </a:xfrm>
              <a:prstGeom prst="flowChartMagneticDisk">
                <a:avLst/>
              </a:prstGeom>
              <a:solidFill>
                <a:srgbClr val="d6ad84"/>
              </a:solidFill>
              <a:ln w="19080">
                <a:solidFill>
                  <a:srgbClr val="864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66680" y="4511520"/>
                <a:ext cx="203040" cy="11448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20480" y="4511520"/>
                <a:ext cx="203040" cy="11448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14040" y="4511520"/>
                <a:ext cx="203040" cy="11448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1000" y="4511520"/>
                <a:ext cx="203040" cy="11448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23880" y="4511520"/>
                <a:ext cx="203040" cy="11448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68200" y="4511520"/>
                <a:ext cx="203040" cy="11448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2520" y="4454640"/>
                <a:ext cx="203040" cy="11412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15560" y="4397400"/>
                <a:ext cx="203040" cy="11412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68200" y="4397400"/>
                <a:ext cx="203040" cy="11412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270080" y="4454640"/>
                <a:ext cx="203040" cy="11412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22360" y="4454640"/>
                <a:ext cx="203040" cy="11412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63280" y="4397400"/>
                <a:ext cx="203040" cy="11412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57200" y="3225960"/>
              <a:ext cx="1752480" cy="507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Neutral stimulus (metrono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j0199238" descr=""/>
            <p:cNvPicPr/>
            <p:nvPr/>
          </p:nvPicPr>
          <p:blipFill>
            <a:blip r:embed="rId5"/>
            <a:stretch/>
          </p:blipFill>
          <p:spPr>
            <a:xfrm>
              <a:off x="990360" y="2082960"/>
              <a:ext cx="7923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647960" y="3962520"/>
              <a:ext cx="4572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7960" y="2057400"/>
              <a:ext cx="4572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320" y="76320"/>
            <a:ext cx="6172200" cy="6476760"/>
          </a:xfrm>
          <a:prstGeom prst="rect">
            <a:avLst/>
          </a:prstGeom>
          <a:solidFill>
            <a:srgbClr val="eae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62120" y="304920"/>
            <a:ext cx="7619400" cy="5608800"/>
            <a:chOff x="762120" y="304920"/>
            <a:chExt cx="7619400" cy="5608800"/>
          </a:xfrm>
        </p:grpSpPr>
        <p:sp>
          <p:nvSpPr>
            <p:cNvPr id="165" name=""/>
            <p:cNvSpPr/>
            <p:nvPr/>
          </p:nvSpPr>
          <p:spPr>
            <a:xfrm>
              <a:off x="4343400" y="4448160"/>
              <a:ext cx="4038120" cy="1465560"/>
            </a:xfrm>
            <a:prstGeom prst="rect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Test of conditioning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:  after classical conditioning, the neutral stimulus becomes a conditioned stimulus (CS) that elicits the conditioned response (CR) of sali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1473120"/>
              <a:ext cx="1676160" cy="507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Neutral stimulus (metrono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j0199238" descr=""/>
            <p:cNvPicPr/>
            <p:nvPr/>
          </p:nvPicPr>
          <p:blipFill>
            <a:blip r:embed="rId1"/>
            <a:stretch/>
          </p:blipFill>
          <p:spPr>
            <a:xfrm>
              <a:off x="1266840" y="304920"/>
              <a:ext cx="790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62120" y="5378400"/>
              <a:ext cx="1752480" cy="33732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CS (metronom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2480" y="2192400"/>
              <a:ext cx="4571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nditioning procedure: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 during the classical conditioning procedure, the neutral stimulus is presented in association with the unconditioned stimulus (UCS) to elicit the unconditioned response (UC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4800" y="990720"/>
              <a:ext cx="76140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4952880" y="387360"/>
            <a:ext cx="1066320" cy="1035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52880" y="387360"/>
                      <a:ext cx="1066320" cy="10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4724280" y="1523880"/>
              <a:ext cx="1676160" cy="36144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UCR (saliv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971800" y="685800"/>
              <a:ext cx="990000" cy="533160"/>
              <a:chOff x="2971800" y="685800"/>
              <a:chExt cx="990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2971800" y="819000"/>
                <a:ext cx="990000" cy="399960"/>
              </a:xfrm>
              <a:prstGeom prst="flowChartMagneticDisk">
                <a:avLst/>
              </a:prstGeom>
              <a:solidFill>
                <a:srgbClr val="d6ad84"/>
              </a:solidFill>
              <a:ln w="19080">
                <a:solidFill>
                  <a:srgbClr val="864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42960" y="819000"/>
                <a:ext cx="164880" cy="13356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49240" y="819000"/>
                <a:ext cx="164880" cy="13356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19120" y="819000"/>
                <a:ext cx="164880" cy="13356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54240" y="819000"/>
                <a:ext cx="164880" cy="13356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14120" y="819000"/>
                <a:ext cx="164880" cy="13356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25400" y="819000"/>
                <a:ext cx="164880" cy="13356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36680" y="752400"/>
                <a:ext cx="164880" cy="13320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01560" y="685800"/>
                <a:ext cx="164880" cy="13320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25400" y="685800"/>
                <a:ext cx="164880" cy="13320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08200" y="752400"/>
                <a:ext cx="164880" cy="13320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31680" y="752400"/>
                <a:ext cx="164880" cy="13320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77720" y="685800"/>
                <a:ext cx="164880" cy="133200"/>
              </a:xfrm>
              <a:prstGeom prst="ellipse">
                <a:avLst/>
              </a:prstGeom>
              <a:solidFill>
                <a:srgbClr val="864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j0199238" descr=""/>
            <p:cNvPicPr/>
            <p:nvPr/>
          </p:nvPicPr>
          <p:blipFill>
            <a:blip r:embed="rId4"/>
            <a:stretch/>
          </p:blipFill>
          <p:spPr>
            <a:xfrm>
              <a:off x="1143000" y="4267080"/>
              <a:ext cx="7916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209680" y="99072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8280" y="762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81080" y="4876920"/>
              <a:ext cx="837720" cy="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2895480" y="4321080"/>
            <a:ext cx="1066320" cy="103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4321080"/>
                      <a:ext cx="1066320" cy="103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2743200" y="1447920"/>
              <a:ext cx="1523520" cy="482760"/>
            </a:xfrm>
            <a:prstGeom prst="rect">
              <a:avLst/>
            </a:pr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UCR         (meat pow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3200" y="5378400"/>
              <a:ext cx="1523520" cy="33732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CR (salivatio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2133720"/>
              <a:ext cx="4568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95680" y="3962520"/>
              <a:ext cx="4568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avlov’s Experiment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ystematic, effective, preci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sociation of two stimuli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 more 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frequentl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e metronome and food are associated, the more often the metronome will elicit sal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iming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association is highly importa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nger time intervals were less effective; almost no learning occurr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1676520"/>
            <a:ext cx="8610480" cy="4724280"/>
          </a:xfrm>
          <a:prstGeom prst="rect">
            <a:avLst/>
          </a:prstGeom>
          <a:solidFill>
            <a:srgbClr val="eae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441972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2057400"/>
            <a:ext cx="0" cy="312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62320" y="1905120"/>
            <a:ext cx="5333760" cy="3276360"/>
            <a:chOff x="2362320" y="1905120"/>
            <a:chExt cx="5333760" cy="3276360"/>
          </a:xfrm>
        </p:grpSpPr>
        <p:sp>
          <p:nvSpPr>
            <p:cNvPr id="205" name=""/>
            <p:cNvSpPr/>
            <p:nvPr/>
          </p:nvSpPr>
          <p:spPr>
            <a:xfrm>
              <a:off x="236232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72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568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9608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900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2920" y="1905120"/>
              <a:ext cx="0" cy="32763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57400" y="5181480"/>
            <a:ext cx="57150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403848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365760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213372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251460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27672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895480"/>
            <a:ext cx="571500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851200"/>
            <a:ext cx="121896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umber of drops of saliva elicited by metronome a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umber of times metronome and meat powder were present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4235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3886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3505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124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743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362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1981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5149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616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51498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5149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149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51498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149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5149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1498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5149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67480" y="5149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5149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7400" y="1904760"/>
            <a:ext cx="0" cy="3276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62320" y="5029200"/>
            <a:ext cx="53316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95480" y="4800240"/>
            <a:ext cx="5335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429000" y="3962520"/>
            <a:ext cx="53352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962520" y="350532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495680" y="281916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029200" y="2514240"/>
            <a:ext cx="53352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562720" y="205740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20574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0574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3886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274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2438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1981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1981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981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28600"/>
            <a:ext cx="6095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avlov’s Studies: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more often the metronome was associated in time with meat powder, the more effective in eliciting sal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e6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Terminology of Classical Conditioning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nconditioned stimulus (UCS)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licits response without learn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nconditioned response (UC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learned, inborn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nditioned stimulus (C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cquires ability to elicit after paired association with unconditioned stimulu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nditioned response (C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licited by conditioned stimulu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76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sic Principles of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5:46:50Z</dcterms:created>
  <dc:creator>Gerry Williams</dc:creator>
  <dc:description/>
  <dc:language>en-US</dc:language>
  <cp:lastModifiedBy>ANN BUTZIN</cp:lastModifiedBy>
  <dcterms:modified xsi:type="dcterms:W3CDTF">2005-08-05T14:47:20Z</dcterms:modified>
  <cp:revision>106</cp:revision>
  <dc:subject/>
  <dc:title>LIFE-SPAN DEVELOPMENT</dc:title>
</cp:coreProperties>
</file>