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229-0D2C-4BF8-9C01-400BDC66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25B-E16D-49D3-8A2B-5993AC31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792-6E87-4289-A871-2D8E3871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7D4-F0F7-4317-90C7-B0F38F08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1A9-4382-4937-B972-37AAE87C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FD2-A2AD-44AA-A7A2-D667D9F2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764-FF90-4EC3-86EF-7B64BB31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616-C42A-4C16-9E82-326603DB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541-C16C-4F4B-99C2-96B7A85F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591-5200-4BD7-AB96-5369223F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3C2-9CDF-493E-8BAD-01D7615A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42A-0FBF-494A-AAF6-C7967456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9F34-42A7-45EE-8DDD-CD73D58157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40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6:03Z</dcterms:created>
  <dc:creator>U Kyaw Naing</dc:creator>
  <dc:description/>
  <dc:language>en-US</dc:language>
  <cp:lastModifiedBy>U Kyaw Naing</cp:lastModifiedBy>
  <dcterms:modified xsi:type="dcterms:W3CDTF">2012-09-23T11:05:36Z</dcterms:modified>
  <cp:revision>2</cp:revision>
  <dc:subject/>
  <dc:title>Slide 1</dc:title>
</cp:coreProperties>
</file>