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542-C5F7-481E-A7A9-50FE962D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7E0-4A11-444A-95BE-78F984F1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DD8-11CC-40AC-B347-318EAD07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EFE-9DA5-4D34-925D-610A44A0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2F0-DB7C-436F-B2DF-D2CCB58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B00-622F-4384-B85E-0DAA154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AE9-0E7E-48E6-B413-AC1BC057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31A-6FEA-4BA6-B601-A7078E7C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505-6FF4-455D-BA85-DA8C895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B5E-6E16-4A76-AADD-E8C3549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ED2-1C21-4B0A-B00B-9A460A8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E9A-5F7B-4195-913B-C767DBF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C46-8165-46A7-BB2D-8A02FB76A2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7:18Z</dcterms:created>
  <dc:creator>U Kyaw Naing</dc:creator>
  <dc:description/>
  <dc:language>en-US</dc:language>
  <cp:lastModifiedBy>U Kyaw Naing</cp:lastModifiedBy>
  <dcterms:modified xsi:type="dcterms:W3CDTF">2012-09-23T11:20:45Z</dcterms:modified>
  <cp:revision>2</cp:revision>
  <dc:subject/>
  <dc:title>Slide 1</dc:title>
</cp:coreProperties>
</file>