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FA1-64AF-4963-BE9D-6F9C78F0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7339-12EE-4B12-9664-82BCE5F1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2D1-29DC-46FA-B3F2-9B206AC6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8C5-2D61-4406-98FB-0B342A51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B6D-8ECC-42DA-8339-7DE6BE3C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84F-6ADF-4585-B501-C4867C5C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9FFA-D6C2-4DA6-BC7A-DEAD3286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5F5-1340-4495-B434-FABBB80C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432-65A5-441C-8B42-2610CEC5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31F-ADC0-4449-92A8-CA041EEE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216-5BAF-4710-996F-5DC3A717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D86-8B24-4520-AA5D-9C080D8F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6B72-D1B1-4746-98A3-ED432548E2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40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6:03Z</dcterms:created>
  <dc:creator>U Kyaw Naing</dc:creator>
  <dc:description/>
  <dc:language>en-US</dc:language>
  <cp:lastModifiedBy>U Kyaw Naing</cp:lastModifiedBy>
  <dcterms:modified xsi:type="dcterms:W3CDTF">2012-09-23T11:05:36Z</dcterms:modified>
  <cp:revision>2</cp:revision>
  <dc:subject/>
  <dc:title>Slide 1</dc:title>
</cp:coreProperties>
</file>