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EE8-5395-48B4-88E5-3E11387F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4F1-88E6-4D49-9BE7-EA386DAC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DE0-38DF-4D8A-BEA5-26F5C477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085-E0C8-44FA-AEDA-99EAAD0A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114-40F7-42CD-A7A5-CE069F27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8B6-1DC9-4D4A-930B-F5A33A18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A07-D01E-4FC3-853A-E25DF000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204-F136-4C25-BC58-7EE279F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BA3-1848-445B-BE87-3DEBB277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4DD-F864-4F20-AF33-97EBEACE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550-F0C3-4459-8277-3D80398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ABB-C33D-4B98-B81F-E1FFA14F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CE65-AE3E-42CF-9A55-925EB51166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93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6:40Z</dcterms:created>
  <dc:creator>U Kyaw Naing</dc:creator>
  <dc:description/>
  <dc:language>en-US</dc:language>
  <cp:lastModifiedBy>U Kyaw Naing</cp:lastModifiedBy>
  <dcterms:modified xsi:type="dcterms:W3CDTF">2012-09-23T11:05:59Z</dcterms:modified>
  <cp:revision>2</cp:revision>
  <dc:subject/>
  <dc:title>Slide 1</dc:title>
</cp:coreProperties>
</file>