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666A-A613-4941-90E6-AD3D1E6D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835-8EE5-4753-92B7-EEA3AB08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A97-570B-4239-BDCE-3E7AC861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E48F-BAE7-4B44-96F6-0FD08279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E5EA-A006-4B38-B029-D5913554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077D-9B87-4EDA-B2D5-971301FE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7DD-D652-4DA2-BBBF-59800C03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C908-65FB-4BA1-9E01-3F736457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00C-8DF8-4056-B6B9-0889F04B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A7B-CF94-4E19-AFF2-2CFF9EF9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A0DD-4E36-4365-AC75-44CCA058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B83C-3AD7-45E5-89F0-5BBA1764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ACBE-6D6A-4735-B96F-31A2FD0BF3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475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4:50Z</dcterms:created>
  <dc:creator>U Kyaw Naing</dc:creator>
  <dc:description/>
  <dc:language>en-US</dc:language>
  <cp:lastModifiedBy>U Kyaw Naing</cp:lastModifiedBy>
  <dcterms:modified xsi:type="dcterms:W3CDTF">2012-09-23T11:04:18Z</dcterms:modified>
  <cp:revision>2</cp:revision>
  <dc:subject/>
  <dc:title>Slide 1</dc:title>
</cp:coreProperties>
</file>