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0FA6-17A8-4FEE-BE4B-9A729AC9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686-E31C-4582-816A-DDC6F40A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E2A3-6126-4724-B86C-AF36C541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3ADD-0EE6-4D8C-BCF6-C760C5AD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27B-4A90-4D32-8201-D067402F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02F4-86C3-4391-94CA-B1C8F587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B244-E780-4B08-AE4E-613F73E0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FD15-3210-4195-ADCD-E54EBB1C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DF0C-2310-44F7-9474-59B5902D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6DF-131D-4828-A18F-AB5FF89F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B8EB-33C1-4DC6-97FB-1B44FA00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138D-5C84-471A-9494-1EB30283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E98C-0FD8-4A0A-96FC-D6C66BC1C9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09080" cy="6335640"/>
          </a:xfrm>
          <a:prstGeom prst="rect">
            <a:avLst/>
          </a:prstGeom>
          <a:ln w="0">
            <a:noFill/>
          </a:ln>
        </p:spPr>
      </p:pic>
      <p:pic>
        <p:nvPicPr>
          <p:cNvPr id="42" name="Page 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7654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8:32Z</dcterms:created>
  <dc:creator>U Kyaw Naing</dc:creator>
  <dc:description/>
  <dc:language>en-US</dc:language>
  <cp:lastModifiedBy>U Kyaw Naing</cp:lastModifiedBy>
  <dcterms:modified xsi:type="dcterms:W3CDTF">2012-09-23T11:08:35Z</dcterms:modified>
  <cp:revision>2</cp:revision>
  <dc:subject/>
  <dc:title>Slide 1</dc:title>
</cp:coreProperties>
</file>