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3D4-7710-4CDD-82E7-0B7C01C7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BE3-C772-400E-BA1E-517807DC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2BE-C68B-46D3-8B59-3F4FBD58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D48-73BF-4DC7-B429-C02DBF7B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56C-1DD8-4B5E-ACFB-43FB29D4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B60-4A57-4CA5-B73C-1B9576A9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C25-DB13-4636-B674-6BF8A92B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613-AE90-4C9D-9AA4-467827BC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2A1-6380-40EE-986F-16FEABC4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671-3AD7-40F1-99C3-4375D7FD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91E-B658-4F6F-A5C8-6AF2E9CE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3E6-8F73-4018-845E-D4233C92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9C8E-3A73-40C5-AE3E-FD4190E086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1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4:06Z</dcterms:created>
  <dc:creator>U Kyaw Naing</dc:creator>
  <dc:description/>
  <dc:language>en-US</dc:language>
  <cp:lastModifiedBy>U Kyaw Naing</cp:lastModifiedBy>
  <dcterms:modified xsi:type="dcterms:W3CDTF">2012-09-23T11:03:58Z</dcterms:modified>
  <cp:revision>2</cp:revision>
  <dc:subject/>
  <dc:title>Slide 1</dc:title>
</cp:coreProperties>
</file>