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F479-552B-4AA5-9C15-5EEF9583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BACD-1A61-440F-9390-BB4DB607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1B13-8963-4D27-952A-A1566ED9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FCB0-E39E-4BDC-960F-CE5B75B4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5576-D7E2-4950-9C5C-8130BBC6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25EB-59C5-4313-B3A5-2F4FC08A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8F20-A48C-4892-966D-DF95546C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F3F4-9148-4433-B88F-FD2B1D1A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267D-D3F9-4822-AF8E-85B610E9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E171-A18D-422D-9668-833EA4EC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6076-688A-42FA-96E7-3700FBC8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60FF-40B1-4292-BDED-8DB611EE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9DF4-D9BC-4E75-83B3-E82850C6B9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540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05:26Z</dcterms:created>
  <dc:creator>U Kyaw Naing</dc:creator>
  <dc:description/>
  <dc:language>en-US</dc:language>
  <cp:lastModifiedBy>U Kyaw Naing</cp:lastModifiedBy>
  <dcterms:modified xsi:type="dcterms:W3CDTF">2012-09-23T11:23:07Z</dcterms:modified>
  <cp:revision>4</cp:revision>
  <dc:subject/>
  <dc:title>Slide 1</dc:title>
</cp:coreProperties>
</file>