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20C-3087-4E47-83DA-20CE8D33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964-1A15-446D-BED7-FB964610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B28-A45D-4F2C-BC8D-1AB1950C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5AD-0CC9-4E62-805B-D083B984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089-C0F5-40DA-9F1A-AB15F0AE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AB8-E45C-424C-8E85-14FAA44C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8C8-566B-4D2A-BD40-DC88320D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D37-F488-47F9-9F3C-873488BC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B1A-04CD-400A-9CC8-D5A2AC51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0F7-618D-4E78-B77B-498BA699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E3E-9890-442B-858D-66823FB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6C3-4B58-4EDE-B6DE-6E4EF01F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3F68-C134-4AA9-853D-400A488096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11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2:37Z</dcterms:created>
  <dc:creator>U Kyaw Naing</dc:creator>
  <dc:description/>
  <dc:language>en-US</dc:language>
  <cp:lastModifiedBy>U Kyaw Naing</cp:lastModifiedBy>
  <dcterms:modified xsi:type="dcterms:W3CDTF">2012-09-23T11:03:37Z</dcterms:modified>
  <cp:revision>2</cp:revision>
  <dc:subject/>
  <dc:title>Slide 1</dc:title>
</cp:coreProperties>
</file>