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B963-8940-4E6C-A214-E7DE9B71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8789-24E8-4D45-8686-666C3504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EEE-9D3F-4608-BDD6-94ABA6EE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A4AA-5694-421E-9921-5EF74DA2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05AC-8329-4B48-A86E-2154E4F9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9645-C874-445D-AB05-774C6999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8E0-1DFE-4941-A07D-0324420C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383-C27F-4D03-A53C-31143259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A9FF-1A91-4EBC-8E7A-79A5E567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979-0780-4C4C-B180-31B99323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C9AD-34C6-4730-AE08-D6DDC712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ADC-32B6-442C-AB5A-B3364FE5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A20C-21E2-46D7-8DF3-946E10751E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9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2 Part 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4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7:50Z</dcterms:created>
  <dc:creator>U Kyaw Naing</dc:creator>
  <dc:description/>
  <dc:language>en-US</dc:language>
  <cp:lastModifiedBy>U Kyaw Naing</cp:lastModifiedBy>
  <dcterms:modified xsi:type="dcterms:W3CDTF">2012-09-30T12:28:29Z</dcterms:modified>
  <cp:revision>1</cp:revision>
  <dc:subject/>
  <dc:title>Slide 1</dc:title>
</cp:coreProperties>
</file>