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E20-D489-4091-8B2C-F404CFE0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A89-3874-4579-8520-9F4145B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FC1-EBC8-40D0-AF78-6BA897EB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64D-B1CC-4D0F-8876-C01C7920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08-6FE0-4C13-90C4-DB3F178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4D7-DAB8-44D1-A34B-186C0112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0AF-7E26-4386-90F9-E4949AB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EE8-E387-40E6-95D1-404ABC8E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0D8-417B-49CD-884A-60770C0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968-6D03-4B2F-AC5C-3786940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806-DBFF-4777-A0D3-195D874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A65-36B3-477B-91AF-A7F33AC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5300-9CA8-4274-BE84-E79CD8FB0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0:24Z</dcterms:created>
  <dc:creator>U Kyaw Naing</dc:creator>
  <dc:description/>
  <dc:language>en-US</dc:language>
  <cp:lastModifiedBy>U Kyaw Naing</cp:lastModifiedBy>
  <dcterms:modified xsi:type="dcterms:W3CDTF">2012-09-30T11:43:09Z</dcterms:modified>
  <cp:revision>1</cp:revision>
  <dc:subject/>
  <dc:title>Slide 1</dc:title>
</cp:coreProperties>
</file>