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B7C5-7EED-44C8-8210-FE122F0D2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E745-6BBF-4CB2-87C9-ADFB072A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7B09-930F-4DA5-8BAF-36ECB1D61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A36D-364E-4B1F-9178-3A164F16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38CD-10DD-416D-8A97-9CDB409F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36CA-867E-43E6-A095-CC315A6F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394F-466A-4AD4-8DA6-B7C44065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F60D-28F7-41DB-95D4-C5E5C53F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9C74-688B-490E-B79B-76C16010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CA8C-2147-4729-BEF3-C9ECCF22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0CF7-E6C8-4535-82BD-8319176F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0CBF-E13F-4F99-86CC-C2AB98DE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7947-0480-41BA-B1AC-0B6127B924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UNP0026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78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044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1:44:11Z</dcterms:created>
  <dc:creator>U Kyaw Naing</dc:creator>
  <dc:description/>
  <dc:language>en-US</dc:language>
  <cp:lastModifiedBy>U Kyaw Naing</cp:lastModifiedBy>
  <dcterms:modified xsi:type="dcterms:W3CDTF">2012-09-30T11:45:32Z</dcterms:modified>
  <cp:revision>1</cp:revision>
  <dc:subject/>
  <dc:title>Slide 1</dc:title>
</cp:coreProperties>
</file>