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42D-FF1F-4252-8113-EB9BD662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379-FBBE-49B7-9815-A284C98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AC9-8183-4DE4-9488-2CE055D2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79C-B3C6-488B-8317-76CC8D68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5F1-91B6-43C7-8835-3FE3BB3A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D37-2E5A-4B32-966B-EB2B239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C79-2F74-40D2-ADA7-29E2E76E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E93-A381-40F5-A973-DFE667A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FC9-B226-45D4-83AA-231E284C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1FC-697F-4FBC-920C-CE04D9D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CC9-561D-4A42-BCD9-F180B04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FC2-75DE-40A1-8A44-D43EF29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84B4-8E90-4E53-B9CD-0B3B63288A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4:15Z</dcterms:created>
  <dc:creator>U Kyaw Naing</dc:creator>
  <dc:description/>
  <dc:language>en-US</dc:language>
  <cp:lastModifiedBy>U Kyaw Naing</cp:lastModifiedBy>
  <dcterms:modified xsi:type="dcterms:W3CDTF">2012-09-30T12:15:24Z</dcterms:modified>
  <cp:revision>1</cp:revision>
  <dc:subject/>
  <dc:title>Slide 1</dc:title>
</cp:coreProperties>
</file>