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84DB-082B-4BAE-A39E-03F345F7D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61C0-46B4-4429-BEFC-CF5F7EFE3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EC74-77E1-4F8C-A930-9A87EDF03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BA73-018A-4421-9E17-E059EFB4E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7AA3-5AEF-48BE-A153-A5C3AE1DE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4815-0479-4A85-887A-2CBA17AD3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FF7C-575B-4934-8CB2-2020D5AFF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2028-7713-462F-9B89-4AB1D234C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0FDC-546F-4BA3-ACAD-6BF679C79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7286-BD7D-49C6-AB33-E0CBFADD8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8777-FEB4-498E-B566-876B2F0E6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B9E5-08B5-43DC-BC5A-897426CA5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BD4EA-D4D3-4F0B-A0D7-8A7C388CB07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11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  <p:pic>
        <p:nvPicPr>
          <p:cNvPr id="42" name="Page 84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62848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2:15:33Z</dcterms:created>
  <dc:creator>U Kyaw Naing</dc:creator>
  <dc:description/>
  <dc:language>en-US</dc:language>
  <cp:lastModifiedBy>U Kyaw Naing</cp:lastModifiedBy>
  <dcterms:modified xsi:type="dcterms:W3CDTF">2012-09-30T12:16:19Z</dcterms:modified>
  <cp:revision>1</cp:revision>
  <dc:subject/>
  <dc:title>Slide 1</dc:title>
</cp:coreProperties>
</file>