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2117-E171-4ED3-AD89-AF9B9B0DF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57DA-43E8-4A8B-A76C-651EE2D8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2DAB-F50F-4844-AB70-88A85848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9F5F-BA26-407E-9959-7C7ADFC77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C9D0-1204-42B0-B4AC-F4DC8F03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D12E-E152-4D73-B13B-1F5DA20E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6EB9-A7B0-4D83-AE23-3250A665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B31B-14C6-41B3-BF4D-4BEF27DB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4D6E-AD10-43A3-B89B-B743A715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206F-5D68-4B94-B487-CB3CBC9D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DC64-14D3-48D7-B577-4A8CDE05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5A21-3267-40AC-9BA4-2538AF22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C070-D156-4F21-BCC4-E0528C09DF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3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69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249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23:58Z</dcterms:created>
  <dc:creator>U Kyaw Naing</dc:creator>
  <dc:description/>
  <dc:language>en-US</dc:language>
  <cp:lastModifiedBy>U Kyaw Naing</cp:lastModifiedBy>
  <dcterms:modified xsi:type="dcterms:W3CDTF">2012-09-30T12:24:39Z</dcterms:modified>
  <cp:revision>1</cp:revision>
  <dc:subject/>
  <dc:title>Slide 1</dc:title>
</cp:coreProperties>
</file>