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E7E2-CCC8-4C65-A0E0-7711A4E5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CDA1-1BBB-412F-9A3B-D9BDF622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9D5-3289-4B41-9ECD-DE6B1892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BB9-9765-441B-A701-3256A9EC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2F41-CC90-4F03-A079-8513DB66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79D-62EB-4C54-94B3-0365BAE8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CEA-0CE4-4858-8197-D6FE07A8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9967-C18C-4628-8B89-921606B4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CD0-47B8-45E2-A80F-91A94F9A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3FB-D871-47D9-AF33-AFAD82FD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780-1AF1-4925-8FDD-20C6FBC4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FFB-A01F-4173-B910-13AB590D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27D9-5173-4308-8BD7-BBED9C9427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1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6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828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8:26Z</dcterms:created>
  <dc:creator>U Kyaw Naing</dc:creator>
  <dc:description/>
  <dc:language>en-US</dc:language>
  <cp:lastModifiedBy>U Kyaw Naing</cp:lastModifiedBy>
  <dcterms:modified xsi:type="dcterms:W3CDTF">2012-09-30T12:20:22Z</dcterms:modified>
  <cp:revision>1</cp:revision>
  <dc:subject/>
  <dc:title>Slide 1</dc:title>
</cp:coreProperties>
</file>