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58E-5EB8-44DD-9A2A-61D5BF1F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F3E-E143-440C-B864-9CFE672D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35C-77F7-4840-BD11-D7F56E31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74C-9F4F-41D4-83D2-FCC631EF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092-6F8B-4E0E-BADD-174683CE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429-EA86-4C17-A8BF-ED77F342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9C9-7FFA-49A3-A0F4-7FCC0367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375-E027-4986-81D8-9524D251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91A-8D3A-40C4-B4F6-60BB54F1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D40-7346-4094-A1DF-55C17367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67F-9DC1-49F3-81E0-5038E58F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94D-ECDB-491C-BC2D-ED3CEA52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6C30-A917-4F30-BBEE-9E7D991A01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0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3:18Z</dcterms:created>
  <dc:creator>U Kyaw Naing</dc:creator>
  <dc:description/>
  <dc:language>en-US</dc:language>
  <cp:lastModifiedBy>U Kyaw Naing</cp:lastModifiedBy>
  <dcterms:modified xsi:type="dcterms:W3CDTF">2012-09-30T11:44:03Z</dcterms:modified>
  <cp:revision>1</cp:revision>
  <dc:subject/>
  <dc:title>Slide 1</dc:title>
</cp:coreProperties>
</file>