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B95-8829-443D-BE75-4EA30638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9C7-8508-4A3C-B5B9-1352A1F2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189-1B93-4A35-A54D-553DF20E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4CD-C381-4915-A5DD-253B4485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873-2E9A-466E-B60D-E7278F40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847-2C9A-4703-A914-AE1FDC3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3C3-95BC-4669-B056-4C25C7B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764-3396-42AB-985E-7FE2AFDD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C54-7032-430E-B6C1-79163F93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00F-968D-4E19-812B-9644DF4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35C-A25A-4D8F-85A7-5514693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330-12A3-4F46-93EA-1D1C95EF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FE18-A86E-4382-B81E-7FCCD41DBE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39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4:48Z</dcterms:created>
  <dc:creator>U Kyaw Naing</dc:creator>
  <dc:description/>
  <dc:language>en-US</dc:language>
  <cp:lastModifiedBy>U Kyaw Naing</cp:lastModifiedBy>
  <dcterms:modified xsi:type="dcterms:W3CDTF">2012-09-30T12:25:44Z</dcterms:modified>
  <cp:revision>1</cp:revision>
  <dc:subject/>
  <dc:title>Slide 1</dc:title>
</cp:coreProperties>
</file>