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F8B-6F2E-4F98-B958-1487814C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C62D-A80C-4311-BA3E-E16667F2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AD20-7999-40FD-A80E-350208EA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25F3-4596-43C5-BBB2-DAE63DC8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AB1-04B0-486B-A30C-12C2CB84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415-3CB5-4FCE-96AA-BF33F0A5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5F8-203B-4BEB-BCB1-4A7792B8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22D-D9CD-4888-B45E-F5D6B5E8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F0A-8619-4227-A3AA-9CCF7C7D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FA8D-C08C-4DF9-AE92-6438FBF9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5CF-8719-40BB-A4D1-0D3B7781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851-3B10-472B-A571-9ACCC9AF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C997-AE3B-4AF2-AC8E-0B13057F71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1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62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3:04Z</dcterms:created>
  <dc:creator>U Kyaw Naing</dc:creator>
  <dc:description/>
  <dc:language>en-US</dc:language>
  <cp:lastModifiedBy>U Kyaw Naing</cp:lastModifiedBy>
  <dcterms:modified xsi:type="dcterms:W3CDTF">2012-09-30T12:23:52Z</dcterms:modified>
  <cp:revision>1</cp:revision>
  <dc:subject/>
  <dc:title>Slide 1</dc:title>
</cp:coreProperties>
</file>