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CAE-4C6E-4A28-BDD2-9D1698AD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27A-14FE-484E-9C82-B8A75245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EB9-AB81-4F68-B08B-A470C542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4DB-6093-4C87-AB26-65AFAA70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F25-F615-47AB-A461-6C75DC48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BE4-C195-4ED7-B63D-7AAAC141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ADD-C44C-4E94-9CB4-D2419048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26E-EEBB-40BE-9B4D-73D18E2A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931-1C63-49D3-B885-CE1E8A09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8ED-DDCE-4CFA-BFAD-61AC8338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737-F556-437C-AD52-C6B879E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411-9C91-4BF8-BEBC-1CCD44AF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40FD-C906-45D9-A7AD-77B121285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18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6:27Z</dcterms:created>
  <dc:creator>U Kyaw Naing</dc:creator>
  <dc:description/>
  <dc:language>en-US</dc:language>
  <cp:lastModifiedBy>U Kyaw Naing</cp:lastModifiedBy>
  <dcterms:modified xsi:type="dcterms:W3CDTF">2012-09-30T12:17:17Z</dcterms:modified>
  <cp:revision>1</cp:revision>
  <dc:subject/>
  <dc:title>Slide 1</dc:title>
</cp:coreProperties>
</file>