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0C0F-405A-4B5E-9BFD-EADBA1BA8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E49B-9E48-46DE-A309-8CD0EFDC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EF37-A120-4681-81CD-FFF53899E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C264-5E94-4EE9-836A-627BD895D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8472-42F7-433E-B749-60DA0D6E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E8E3-0607-4AE9-A37B-271CD785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2BEA-0593-4B05-885D-031A900F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202C-99C9-4FF5-8782-3CECEDC1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1409-7FCE-4505-ADA9-532918E0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3736-05F8-4E9B-B445-88DEBD51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B5EF-2F51-41B2-A497-2FFA334A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67BA-8575-4CF3-B0A5-4961D79F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074D-0717-487E-8254-87E22285D0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28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78 Part 2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779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1:46:55Z</dcterms:created>
  <dc:creator>U Kyaw Naing</dc:creator>
  <dc:description/>
  <dc:language>en-US</dc:language>
  <cp:lastModifiedBy>U Kyaw Naing</cp:lastModifiedBy>
  <dcterms:modified xsi:type="dcterms:W3CDTF">2012-09-30T12:10:57Z</dcterms:modified>
  <cp:revision>3</cp:revision>
  <dc:subject/>
  <dc:title>Slide 1</dc:title>
</cp:coreProperties>
</file>