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B20-BA4C-4283-A1D1-550FA1FF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365-61EE-4BE0-BC01-72D45BB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277-DB57-4907-B02A-AA8695DF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12C-9EA5-4122-AB84-BC113165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043-5BDF-48CC-9A59-121BDBF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E0D-0706-4FE2-9744-BB4EC106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DA0-3383-4DA2-8BC4-4C3A652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937-3ADC-4A56-BC43-4890354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F58-58F9-4DC5-9450-2C9DD9E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7D-5A44-4034-BD8B-7637EC9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50D-AAD5-4383-A2B0-BE96BC63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5DF-5AFD-4DB2-9E4B-8309C14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C478-6453-46BE-A843-CF5DB58DA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5:44Z</dcterms:created>
  <dc:creator>U Kyaw Naing</dc:creator>
  <dc:description/>
  <dc:language>en-US</dc:language>
  <cp:lastModifiedBy>U Kyaw Naing</cp:lastModifiedBy>
  <dcterms:modified xsi:type="dcterms:W3CDTF">2012-09-30T11:46:47Z</dcterms:modified>
  <cp:revision>1</cp:revision>
  <dc:subject/>
  <dc:title>Slide 1</dc:title>
</cp:coreProperties>
</file>