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FD3-0787-458B-9843-081BA35A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60D-4A7B-4580-A384-706A1606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9D5-0263-4060-9886-60FE621B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531-6E67-48BC-94C5-8AD2F3EF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9E1-135A-4D35-9AC1-689385C7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E65-E661-432F-94B6-7BAB1629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2AF-1BCB-4E5B-88E5-714A4027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131-B4BC-4EA1-8EA8-36B15E18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3F7-A5CD-4A6A-8766-46471100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E46-0F5C-4872-B10E-0A549207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B60-7723-41B8-A512-91980189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DB5-BE0F-40D0-9C9F-A4FA7AFE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CC14-97B1-4843-811D-28B3810742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7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1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36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3:24Z</dcterms:created>
  <dc:creator>U Kyaw Naing</dc:creator>
  <dc:description/>
  <dc:language>en-US</dc:language>
  <cp:lastModifiedBy>U Kyaw Naing</cp:lastModifiedBy>
  <dcterms:modified xsi:type="dcterms:W3CDTF">2012-09-30T12:14:04Z</dcterms:modified>
  <cp:revision>1</cp:revision>
  <dc:subject/>
  <dc:title>Slide 1</dc:title>
</cp:coreProperties>
</file>