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21B-355D-4057-B652-025A6F66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F04-DD0C-40D1-85F2-A562A837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DEB-92FE-4BC5-9057-B539318D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AEB-A91B-4B5D-A859-0BF69744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D76-73E6-4A87-BB5E-7C4D9746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208-C119-42B7-90C2-398E5D8F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4B2-01A7-4935-8DB0-5CDD3F6A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8C5-8D11-473A-8A0A-AFC29433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B32-0A6A-46C8-9223-92071C14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560-14E9-43E0-B4A6-13C7A6E1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CB3-758D-4E66-878A-103A6E3E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CAC-F0F5-47F1-869A-183059F1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90D8-5A87-4D7B-9283-B68675C4BE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0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2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1:18Z</dcterms:created>
  <dc:creator>U Kyaw Naing</dc:creator>
  <dc:description/>
  <dc:language>en-US</dc:language>
  <cp:lastModifiedBy>U Kyaw Naing</cp:lastModifiedBy>
  <dcterms:modified xsi:type="dcterms:W3CDTF">2012-09-30T12:12:04Z</dcterms:modified>
  <cp:revision>1</cp:revision>
  <dc:subject/>
  <dc:title>Slide 1</dc:title>
</cp:coreProperties>
</file>