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ED8-3A94-4C32-A8CC-C6162A6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858-3940-4A2A-B689-A5719A2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092-122F-41FA-A397-50BA9A62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E70-FC47-4798-8C6F-A00B2410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70D-ACB0-49D6-B64D-A92A7695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731-80F1-4E2C-9AD2-EB872240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8A4-9DFC-4DB6-A553-8756B03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379-1DAB-4524-816F-BFA17C57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BCA-7C8F-41C2-90F9-CC56AB1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A3B-3898-487D-9567-7702316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10C-9690-458B-A2BA-338DB17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35D-FDE3-4DF1-B799-B16CC29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F94-1E98-4D94-9F12-2382A5141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2:12Z</dcterms:created>
  <dc:creator>U Kyaw Naing</dc:creator>
  <dc:description/>
  <dc:language>en-US</dc:language>
  <cp:lastModifiedBy>U Kyaw Naing</cp:lastModifiedBy>
  <dcterms:modified xsi:type="dcterms:W3CDTF">2012-09-30T12:13:15Z</dcterms:modified>
  <cp:revision>1</cp:revision>
  <dc:subject/>
  <dc:title>Slide 1</dc:title>
</cp:coreProperties>
</file>