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BA6-E07C-4DCA-B31A-CB2C05EA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9FE-D4EE-4822-A69E-755182F7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9B3-D6CE-499C-8B05-B5DDE28F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8EE-626B-4825-95D0-67AA4093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4C6-8DD1-4031-A1A3-C19AF42C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F1E-F4A9-4CF4-9495-78711BA3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965-CC96-4E77-AF87-615AA3A7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C28-2345-47EE-8077-B0A178A9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31F-CDD3-4A24-99C6-79E89B80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842-0B09-497A-8CD4-D3DC8AE9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702-F297-4490-941A-AB7F3D7F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B94-F585-4D0F-A4B8-FCDD9C52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9380-148E-4A2C-92DC-4974C54523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5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41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7:31Z</dcterms:created>
  <dc:creator>U Kyaw Naing</dc:creator>
  <dc:description/>
  <dc:language>en-US</dc:language>
  <cp:lastModifiedBy>U Kyaw Naing</cp:lastModifiedBy>
  <dcterms:modified xsi:type="dcterms:W3CDTF">2012-09-30T12:18:18Z</dcterms:modified>
  <cp:revision>1</cp:revision>
  <dc:subject/>
  <dc:title>Slide 1</dc:title>
</cp:coreProperties>
</file>