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51D-BCD5-4C38-945F-14EDC000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A55-E370-4E65-8235-8A0C735E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49C-FD6D-4C22-8E92-0ECDD1D7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4D8-9468-43BB-B777-386082DD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45D-8A18-4626-956D-8C9296E0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B0E-0439-4119-BA9D-912B3991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3FA-CF6E-42A7-9DF2-C2491E5A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8AF-F834-4FCD-B427-1E241E5B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1C8-92E9-443D-B469-FBB15AFE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2CC-F24A-4343-8921-A798CE9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6DD-3EED-4EC3-9DF4-BE17D14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7E5-A3D4-4E07-9CEA-F410B872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39B6-1AEE-46A2-A856-ABA74F1E6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7 Part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3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2:21Z</dcterms:created>
  <dc:creator>U Kyaw Naing</dc:creator>
  <dc:description/>
  <dc:language>en-US</dc:language>
  <cp:lastModifiedBy>U Kyaw Naing</cp:lastModifiedBy>
  <dcterms:modified xsi:type="dcterms:W3CDTF">2012-09-30T12:22:58Z</dcterms:modified>
  <cp:revision>1</cp:revision>
  <dc:subject/>
  <dc:title>Slide 1</dc:title>
</cp:coreProperties>
</file>