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072-4BE3-426F-A317-2B06116B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C8E-70BB-4DF3-9D3F-B426856D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281-4BFA-4E23-9FD4-3A4C0FBB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4EF-EDF6-4666-8E2B-15CB6BC4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33A-6A9D-4A91-847B-1A3497BC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A50-4F52-4492-9554-E4EDD594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D38-CE8E-4632-BEB0-4293203A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C78-9DCD-403E-9B1F-D33EA265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A57-7E9E-45B9-8045-A6A035D8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946-2603-4678-8B34-F9EE3AC5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0D0-7CDB-4167-933B-8C36814C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FEB2-134B-4338-9A4D-25F3D82D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1CD8-1D18-417A-B25B-BA0060D503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88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5:58Z</dcterms:created>
  <dc:creator>U Kyaw Naing</dc:creator>
  <dc:description/>
  <dc:language>en-US</dc:language>
  <cp:lastModifiedBy>U Kyaw Naing</cp:lastModifiedBy>
  <dcterms:modified xsi:type="dcterms:W3CDTF">2012-09-30T12:26:41Z</dcterms:modified>
  <cp:revision>1</cp:revision>
  <dc:subject/>
  <dc:title>Slide 1</dc:title>
</cp:coreProperties>
</file>