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092-76CF-4628-979A-F77844FE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6CB-B32D-4D56-B403-795476C3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227-1B46-49A1-9B64-BBF295E4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8F9-DA9B-4DC6-930D-64A5E6A4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18E-3AB6-4BAD-B49F-3761A537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039-81D2-4FD0-A856-799EA412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BE3-99D0-463C-9855-DF1B32D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82A-2F0C-432B-B899-C433CDC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B3C-C1B7-4924-89B6-F96C115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0CC-3B0E-4E8F-9954-0726DF8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80A-55D5-48E6-904B-E9AB2E8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746-CAC9-4B6A-B6EA-E3397C1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D27-E611-480A-912E-73DA100D5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6:49Z</dcterms:created>
  <dc:creator>U Kyaw Naing</dc:creator>
  <dc:description/>
  <dc:language>en-US</dc:language>
  <cp:lastModifiedBy>U Kyaw Naing</cp:lastModifiedBy>
  <dcterms:modified xsi:type="dcterms:W3CDTF">2012-09-30T12:27:42Z</dcterms:modified>
  <cp:revision>1</cp:revision>
  <dc:subject/>
  <dc:title>Slide 1</dc:title>
</cp:coreProperties>
</file>