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273B-229C-45A9-97AC-AC8BC648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D8C8-FB03-4192-8429-D6B80F62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FE09-1616-4077-901B-08602061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3DA0-A430-4A00-9058-9B852E24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1C99-0A24-40EA-8EB2-B5EFF0E2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F584-6602-47D9-89BE-0A8510F3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E33B-0E77-4142-AC03-FA3C9BA7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96AE-89A0-499F-B03C-1EB62578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7A41-C6F1-42A3-8A01-E3EE895B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BD58-18FC-4895-BE8B-B627D6EE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630F-ECC5-4DBB-BF30-8800211C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D99A-CE28-4FA0-9433-D970837B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2097-87AF-4792-8662-4B7B7FD242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9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67 Part 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131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21:26Z</dcterms:created>
  <dc:creator>U Kyaw Naing</dc:creator>
  <dc:description/>
  <dc:language>en-US</dc:language>
  <cp:lastModifiedBy>U Kyaw Naing</cp:lastModifiedBy>
  <dcterms:modified xsi:type="dcterms:W3CDTF">2012-09-30T12:21:59Z</dcterms:modified>
  <cp:revision>1</cp:revision>
  <dc:subject/>
  <dc:title>Slide 1</dc:title>
</cp:coreProperties>
</file>