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5B6-1A1C-469B-ACD3-176C4E9B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C90F-54F8-4ABC-B837-08998F43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EF7C-EBAA-4DD4-8DA9-0859C28F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402A-CC8C-4016-AE7B-E765214F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42CA-BA13-495C-817E-7B003E2E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A65A-2689-43D4-A9CD-11D3DE16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AE3-1BD0-47D4-80F2-4F41ACF1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5A10-38E4-40FE-8AF1-CCA0A180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E38-45EF-4117-A27C-638221F5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085-294C-4DC4-B288-DED20A88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CBE-8B25-49B9-9433-40F38152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1A27-A07A-422C-AA6D-1A755F84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DDC8-26F5-46C3-AC40-5D3D82463B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33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4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8:39Z</dcterms:created>
  <dc:creator>U Kyaw Naing</dc:creator>
  <dc:description/>
  <dc:language>en-US</dc:language>
  <cp:lastModifiedBy>U Kyaw Naing</cp:lastModifiedBy>
  <dcterms:modified xsi:type="dcterms:W3CDTF">2012-09-30T12:30:34Z</dcterms:modified>
  <cp:revision>1</cp:revision>
  <dc:subject/>
  <dc:title>Slide 1</dc:title>
</cp:coreProperties>
</file>