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6CD0-73F1-4827-8C74-3B77D201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A965-2647-4116-8FE4-F0E57980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6873-ADFF-434A-B0D8-A18B6E8C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67EC-826C-4C1E-93F4-02B1745E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305C-09E3-4229-8B20-509015CC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15F9-7FE5-4196-AEC1-80A695C1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DCAF-268C-4145-8735-BE4ED858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5440-7CC0-47AA-AF67-5DD732E2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2031-3B98-4B8A-BF9D-80C5B047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0CA6-44F1-42B6-B702-1AF97914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7E66-36B4-49D0-B796-6DD35298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383A-2488-4C24-80CB-F2BE5673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9574-4969-4279-B721-72F1C34823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9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15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3:02:29Z</dcterms:created>
  <dc:creator>U Kyaw Naing</dc:creator>
  <dc:description/>
  <dc:language>en-US</dc:language>
  <cp:lastModifiedBy>U Kyaw Naing</cp:lastModifiedBy>
  <dcterms:modified xsi:type="dcterms:W3CDTF">2012-09-29T13:03:55Z</dcterms:modified>
  <cp:revision>1</cp:revision>
  <dc:subject/>
  <dc:title>Slide 1</dc:title>
</cp:coreProperties>
</file>