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EF6-5FC2-45D5-9566-FE0D6BFC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99F-473D-444F-B8E4-328FF9F5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FC4-A0FB-442B-B0D3-881254CC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4A6-C74E-4176-BA47-92BF2255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D37-F2CE-4CD1-A841-4D379A95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92D-1811-42ED-A608-C3D7E7C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BA5-C727-48B0-9A17-3DE5FFC6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EB9-BC69-4C22-802E-E95C0B85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6C4-8C80-48CF-B194-1074FC9C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6AF-E067-426C-86BC-D5E0EAA4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9CB-0B57-4D43-A290-1193437B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438-05F2-4266-840F-23BCE417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3CC8-EDC9-407B-8CDA-D12B6AAC8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96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3:07:43Z</dcterms:created>
  <dc:creator>U Kyaw Naing</dc:creator>
  <dc:description/>
  <dc:language>en-US</dc:language>
  <cp:lastModifiedBy>U Kyaw Naing</cp:lastModifiedBy>
  <dcterms:modified xsi:type="dcterms:W3CDTF">2012-09-29T13:08:25Z</dcterms:modified>
  <cp:revision>1</cp:revision>
  <dc:subject/>
  <dc:title>Slide 1</dc:title>
</cp:coreProperties>
</file>