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15B-00C2-46FE-AE46-CD784C58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8AE-C652-463F-874B-A3F44846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120-AA31-422A-B0DC-C9275F60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766-0D7E-415A-9872-6155D18F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F88-A1F3-4ECB-AEDB-0599476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E0D-155C-475A-90F8-97852992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D5A-804A-433E-B0CC-D3840F42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AB7-6791-49C0-84F1-B17CB57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766-0896-4C0A-8E74-98374D69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B1F-9A15-419D-AB88-442425D4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086-FBF9-4A79-899F-CFBF158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C5A-6ED9-4BAD-ADFB-05EA1A5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C7F7-729F-4696-94C1-D0FEFD0CD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92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3:09:37Z</dcterms:created>
  <dc:creator>U Kyaw Naing</dc:creator>
  <dc:description/>
  <dc:language>en-US</dc:language>
  <cp:lastModifiedBy>U Kyaw Naing</cp:lastModifiedBy>
  <dcterms:modified xsi:type="dcterms:W3CDTF">2012-09-29T13:10:57Z</dcterms:modified>
  <cp:revision>1</cp:revision>
  <dc:subject/>
  <dc:title>Slide 1</dc:title>
</cp:coreProperties>
</file>