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F2A-7A89-49A3-8CC7-E2AAD832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C08-02ED-4553-BF5F-CA0B9348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83D-B159-4207-B20F-FC2B731D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992-2906-448B-9235-228D7DA1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402-233E-42A7-A4EB-35D713D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952-3295-4C43-AAFE-AFC3EAD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042-FCE9-4EA0-8105-968E80E9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142-D2C1-4A3B-B229-B067F4D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B8E-065E-4844-93D6-A0C4FA3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BAE-8B05-40B6-A041-CA6318AF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AF9-2A59-4718-9BA7-0A823D5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61C-E320-43F1-BB05-F35369C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54AB-D097-4BDF-9542-4CC75B170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35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11:04Z</dcterms:created>
  <dc:creator>U Kyaw Naing</dc:creator>
  <dc:description/>
  <dc:language>en-US</dc:language>
  <cp:lastModifiedBy>U Kyaw Naing</cp:lastModifiedBy>
  <dcterms:modified xsi:type="dcterms:W3CDTF">2012-09-29T13:11:51Z</dcterms:modified>
  <cp:revision>1</cp:revision>
  <dc:subject/>
  <dc:title>Slide 1</dc:title>
</cp:coreProperties>
</file>