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E37-F47D-4A6F-8D99-1FAC8CDB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07D-556B-4349-B81B-3324B02D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2AA-ECA7-4F4B-A81E-4F6AC49F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52B-9447-4DBE-881B-B0DEEB1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784-2645-4AE7-ABFF-CAB2E914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48D-218F-4B8C-BEA0-6DE0A3B2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D3E-FD56-4105-BFD5-770D17A2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F56-CF91-47F5-8273-42562F41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2CA-F45C-4961-80D9-4FF0F7A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D1F-59BF-419A-8064-0D4782F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7E7-8F14-4353-A437-3282E4B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26F-24F5-4579-92C1-CF437B7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BA8-E90F-41DC-94CB-3D9EBA0BED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1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59:47Z</dcterms:created>
  <dc:creator>U Kyaw Naing</dc:creator>
  <dc:description/>
  <dc:language>en-US</dc:language>
  <cp:lastModifiedBy>U Kyaw Naing</cp:lastModifiedBy>
  <dcterms:modified xsi:type="dcterms:W3CDTF">2012-09-29T13:00:35Z</dcterms:modified>
  <cp:revision>1</cp:revision>
  <dc:subject/>
  <dc:title>Slide 1</dc:title>
</cp:coreProperties>
</file>