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547C-C1B9-481A-9457-9FC19B935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92E9-A8E7-4155-9566-AE9A716D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73E7-6700-4B94-AE48-EA6DE02EA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C521-48F6-4B05-AD9C-52B92494D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FB20-A70C-4D97-AD83-23B34DF1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B235-7402-4CD3-87CA-3AC481C0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4289-FAE1-4580-A4BE-AB056260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4059-0634-4FAD-88A8-D89917C9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B4A8-3575-40DA-ABDC-9725F30C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8D05-0594-4BE3-A1A6-28B446CB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4BFA-E519-4B4A-9155-F2C29D0A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454C-6799-43AF-8725-17498FC3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9482-ABA3-4E59-AFCF-D79B172F88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87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9596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9T12:53:23Z</dcterms:created>
  <dc:creator>U Kyaw Naing</dc:creator>
  <dc:description/>
  <dc:language>en-US</dc:language>
  <cp:lastModifiedBy>U Kyaw Naing</cp:lastModifiedBy>
  <dcterms:modified xsi:type="dcterms:W3CDTF">2012-09-29T12:55:27Z</dcterms:modified>
  <cp:revision>1</cp:revision>
  <dc:subject/>
  <dc:title>Slide 1</dc:title>
</cp:coreProperties>
</file>