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7369-4CB2-4355-A7AE-ACC5E1985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C1D9-7092-4306-89FB-1910712C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6C09-3CFA-49AF-962E-F31877CE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8D87-548E-42C3-ABCE-F6C9E8FE5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BA46-AF94-41B1-82F9-7B1003EF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3057-ADEE-4ACE-84E1-715EF0C0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12CD-C50D-49CF-8B70-D0441FB3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7E0B-A7E2-4AFD-8A9B-D470651B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348E-511C-4322-8854-4D10BA88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9167-C8FE-482A-826C-12D44282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78D1-038F-41DD-AD7C-8B1E4802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4E3F-F4C0-4405-8592-D2FB90B8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B9BC-5E2A-417B-AF34-28A4398876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pic>
        <p:nvPicPr>
          <p:cNvPr id="42" name="Page 9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648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5:58:51Z</dcterms:created>
  <dc:creator>U Kyaw Naing</dc:creator>
  <dc:description/>
  <dc:language>en-US</dc:language>
  <cp:lastModifiedBy>U Kyaw Naing</cp:lastModifiedBy>
  <dcterms:modified xsi:type="dcterms:W3CDTF">2012-10-01T16:00:25Z</dcterms:modified>
  <cp:revision>1</cp:revision>
  <dc:subject/>
  <dc:title>Slide 1</dc:title>
</cp:coreProperties>
</file>