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2B2-599B-441A-BD38-BFA45D59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999-4226-4ADB-8403-38A7055D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6C6-C2D4-4484-A0AC-10CB10CD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1D8-F705-4346-AC29-11DFE2F5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61A-D53C-4D10-819E-CC665650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CA0-8BD4-480E-9892-2C6D33B9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619-A353-4C74-9909-69130F4A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76B-F7A4-4AD8-B2C4-8B80721D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31C-F556-4AEC-A221-8BFAF1C2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54B-BC10-4BD1-9295-0403FB0B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E7DC-1AFB-404C-87ED-6A1E89BA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E69-1DEC-4EA9-A8EF-910CE8AF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73D0-0336-4A03-BAA1-AD128AFCEE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0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8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3:08:37Z</dcterms:created>
  <dc:creator>U Kyaw Naing</dc:creator>
  <dc:description/>
  <dc:language>en-US</dc:language>
  <cp:lastModifiedBy>U Kyaw Naing</cp:lastModifiedBy>
  <dcterms:modified xsi:type="dcterms:W3CDTF">2012-09-29T13:09:30Z</dcterms:modified>
  <cp:revision>1</cp:revision>
  <dc:subject/>
  <dc:title>Slide 1</dc:title>
</cp:coreProperties>
</file>