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74D8-D290-4777-8361-6A28833E5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C774-CEBB-49E7-A97A-152564150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86DC-2475-41D6-B66A-4275E12A4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1A3A-F7F6-4A9E-8AC1-7532E5E7E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7027-5AF3-4179-895B-FCC7A04D6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FBC6-176A-4526-8747-E34C017D1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6CBD-466C-4A7E-9536-15AE6C56E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E9AF-D69B-4EE0-8A09-AD3E827AA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CD0C-9FD5-4579-8BC5-1776CCFFD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AC9F-551D-40EF-83CA-00EA23FBA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ADE2-A996-4E57-84C0-CF919B3BF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C10A-009A-427C-9C20-6DD9932BF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625BA-00E8-4ABC-97B6-9F6DFB2944F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age 97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21536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1T16:01:43Z</dcterms:created>
  <dc:creator>U Kyaw Naing</dc:creator>
  <dc:description/>
  <dc:language>en-US</dc:language>
  <cp:lastModifiedBy>U Kyaw Naing</cp:lastModifiedBy>
  <dcterms:modified xsi:type="dcterms:W3CDTF">2012-10-01T16:03:02Z</dcterms:modified>
  <cp:revision>1</cp:revision>
  <dc:subject/>
  <dc:title>Slide 1</dc:title>
</cp:coreProperties>
</file>