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30B-4845-4436-A96C-3F4839EE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B2B-19A2-4C41-B1BA-332D77B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D49-3B41-42B4-B315-EF11B9C7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96D-220B-41DE-8EBD-EC3625FF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232-3D50-43BE-98E5-A31129E1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C8B-C7A5-4772-B82F-DCADEA9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002-C5C5-495B-80AA-131436E8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EBE-3FD7-4EFD-B3DB-610E190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BF6-0673-4F35-BB45-4333EF8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F95-E83D-4324-89B1-93DE24F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F8A-A2B3-4257-B1ED-1A9E210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E3D-A997-41EB-AA60-9336A34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295-5AFF-45A9-B16C-4FEA62E19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4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6:19Z</dcterms:created>
  <dc:creator>U Kyaw Naing</dc:creator>
  <dc:description/>
  <dc:language>en-US</dc:language>
  <cp:lastModifiedBy>U Kyaw Naing</cp:lastModifiedBy>
  <dcterms:modified xsi:type="dcterms:W3CDTF">2012-09-29T12:58:23Z</dcterms:modified>
  <cp:revision>1</cp:revision>
  <dc:subject/>
  <dc:title>Slide 1</dc:title>
</cp:coreProperties>
</file>