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AC2-89A8-4E04-9174-2D51FA33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51E4-5F8B-46DA-8E91-64481688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4D4-A5A3-4100-92F8-F67522DA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29B-8080-4DAB-BEDD-DB6BF6AE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9C2-1C3E-4724-B6BE-6A373BFA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11D-8F70-4DED-ACFC-81AF9CCB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020-8105-4565-B5C8-6C9B8083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47A0-90AE-487B-B8F3-D6621203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B50-8E85-44F5-AEFB-DA3C41A1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820-CDEF-4830-8BC5-E2B4E4B3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23B-CCF2-427C-B6B1-B35ED907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DFEC-D23A-47B2-8FAE-913C29EA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4E6E-91D9-4FC0-A669-864C880652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9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177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3:11:57Z</dcterms:created>
  <dc:creator>U Kyaw Naing</dc:creator>
  <dc:description/>
  <dc:language>en-US</dc:language>
  <cp:lastModifiedBy>U Kyaw Naing</cp:lastModifiedBy>
  <dcterms:modified xsi:type="dcterms:W3CDTF">2012-09-29T13:12:34Z</dcterms:modified>
  <cp:revision>1</cp:revision>
  <dc:subject/>
  <dc:title>Slide 1</dc:title>
</cp:coreProperties>
</file>