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3F9-3E60-4134-8563-80E91761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161-FB47-44C3-88D9-C8AE3FB3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143-ABF7-46FD-8005-4B2CE299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D7B-271F-401A-AC0E-33BEDA35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C91-A589-4F40-9BBB-A6F63007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3B4-448C-40BC-A350-11AB91D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521-067E-482E-AAB7-267C63F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076-478F-4662-9B4C-49C0CDE3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5A3-8F9D-4965-9B93-D52B487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2E2-BAD5-4C28-BCB7-49CE2F6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225-2046-44B0-9B6C-24A25B74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C61-8379-4DB5-BA32-89D40F5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77D-6D09-459E-805E-5510F8E3DA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6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6:48Z</dcterms:created>
  <dc:creator>U Kyaw Naing</dc:creator>
  <dc:description/>
  <dc:language>en-US</dc:language>
  <cp:lastModifiedBy>U Kyaw Naing</cp:lastModifiedBy>
  <dcterms:modified xsi:type="dcterms:W3CDTF">2012-09-29T13:07:36Z</dcterms:modified>
  <cp:revision>1</cp:revision>
  <dc:subject/>
  <dc:title>Slide 1</dc:title>
</cp:coreProperties>
</file>