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657-640B-4822-A3C9-BEADE6A7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65E-A0B6-41B1-9486-1115FAB8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34E-E8DC-45D9-BA58-128285E9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E61-A565-4575-ABAA-6DC54CC4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DA7-8918-4139-A939-1AF1BC33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E63-C308-4974-B3C7-B6B21360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A73-3928-4EC6-83A9-14D637D1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427-B2B2-4954-8FE1-6D63BFB5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498-546F-4BE0-A4EC-90249158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BD6-A9BE-4978-9027-264DFF3A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5EC-60E2-4C40-A86C-17D4A04F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1AF-AAEB-4104-A599-A04182A9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96AF-28D7-4D96-B8CF-5B6ED4DD27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98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64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3:04:40Z</dcterms:created>
  <dc:creator>U Kyaw Naing</dc:creator>
  <dc:description/>
  <dc:language>en-US</dc:language>
  <cp:lastModifiedBy>U Kyaw Naing</cp:lastModifiedBy>
  <dcterms:modified xsi:type="dcterms:W3CDTF">2012-09-29T13:06:38Z</dcterms:modified>
  <cp:revision>1</cp:revision>
  <dc:subject/>
  <dc:title>Slide 1</dc:title>
</cp:coreProperties>
</file>