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E59-959B-44D8-8287-38994B59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2A50-F4B4-45D0-9A65-56182236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F364-AAC0-44CF-987A-814281FC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E7B2-4F2C-4FB4-BEAE-2E76CDE0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6FBC-72D7-446C-8E41-90E4080F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7A46-91E0-4E3E-9C41-7AED8A84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3107-1BCE-43CC-AFEB-2BBDB3BD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94C1-BA2C-464E-B3DE-70124363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0D49-B492-4ADE-94EF-04A32C09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5724-A5F5-4B52-B4CD-9644050F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AAE5-A1D0-4902-8916-EFAB6423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41E7-33E0-445A-8144-3AE54800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751F-4195-4903-ACF0-00F0431E0F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9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5331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3:00:46Z</dcterms:created>
  <dc:creator>U Kyaw Naing</dc:creator>
  <dc:description/>
  <dc:language>en-US</dc:language>
  <cp:lastModifiedBy>U Kyaw Naing</cp:lastModifiedBy>
  <dcterms:modified xsi:type="dcterms:W3CDTF">2012-09-29T13:02:19Z</dcterms:modified>
  <cp:revision>1</cp:revision>
  <dc:subject/>
  <dc:title>Slide 1</dc:title>
</cp:coreProperties>
</file>