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0E277-C20D-4F16-A11C-30D78CB99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9857C-3517-4AF5-8E9A-57105F146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8940C-BFEC-4E47-8599-9752AB356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3BE28-673C-4064-828D-1BBAC2E04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DEAC9-F296-48EF-907A-32969630A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FB131-ABCF-4C20-93F8-89868A396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D8B0F-4820-4DDE-815E-8537F6468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B43D9-8B85-4DFD-B48C-A579CDED1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76A99-04E8-4B1E-B79E-312B10976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70284-0F8A-499E-ADD6-0C296DEA2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A5525-E434-4BC3-9FFC-D7845CE0E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892F5-427B-4739-8809-6560BD1D7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4A000-2BE6-4D8D-82CD-372D2C56E8E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SUNP000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age 93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55296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9T12:58:32Z</dcterms:created>
  <dc:creator>U Kyaw Naing</dc:creator>
  <dc:description/>
  <dc:language>en-US</dc:language>
  <cp:lastModifiedBy>U Kyaw Naing</cp:lastModifiedBy>
  <dcterms:modified xsi:type="dcterms:W3CDTF">2012-09-29T12:59:30Z</dcterms:modified>
  <cp:revision>1</cp:revision>
  <dc:subject/>
  <dc:title>Slide 1</dc:title>
</cp:coreProperties>
</file>