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A8E31-13B9-43EF-B6B0-0999BD12B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1867E-0AD8-4666-A4A2-513327DAE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A2BF4-2998-49EA-959A-EA6B94EEF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B3154-FF24-4746-AA0C-598CC7A27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47651-2E20-4996-B3E7-DF09795B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8C9C-1754-4F41-8A28-91FDA126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5E9D1-FE2D-43CD-8A34-FC132444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29BC4-1D8D-48EC-8036-9082A4CB8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62432-538A-4C86-A397-CE52291FD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D207-601A-4ABB-BB42-C00B6A86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3C0F-B65C-47B0-BE8F-79991985D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1EA8-E617-4339-9B63-A5B5CA8B2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29DF5CCB-3F6C-4FAA-98F8-85B5A831C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3</a:t>
            </a:r>
            <a:r>
              <a:rPr b="0" lang="en-US" sz="1800" spc="-1" strike="noStrike" baseline="30000">
                <a:solidFill>
                  <a:srgbClr val="3333cc"/>
                </a:solidFill>
                <a:latin typeface="Comic Sans MS"/>
              </a:rPr>
              <a:t>r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4.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180120" y="485640"/>
            <a:ext cx="2468520" cy="3170520"/>
          </a:xfrm>
          <a:prstGeom prst="rect">
            <a:avLst/>
          </a:prstGeom>
          <a:ln w="0">
            <a:noFill/>
          </a:ln>
        </p:spPr>
      </p:pic>
      <p:sp>
        <p:nvSpPr>
          <p:cNvPr id="2" name="PlaceHolder 1"/>
          <p:cNvSpPr>
            <a:spLocks noGrp="1"/>
          </p:cNvSpPr>
          <p:nvPr>
            <p:ph type="sldNum" idx="3"/>
          </p:nvPr>
        </p:nvSpPr>
        <p:spPr/>
        <p:txBody>
          <a:bodyPr/>
          <a:p>
            <a:fld id="{771520B6-D2BF-4D1A-8F9A-3ACC155FD1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EC1FE2F-FA71-45AF-8A44-E2EB9D300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64DF3AE9-ABB3-42DB-A6C1-C56411416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84AA9F5-9004-4436-9A8D-FCD9694BC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108FF6-1DE8-4B25-BDA2-108A1D7C4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C2C89B6D-4259-42F9-80C9-1A1E625D33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390D09-4CE7-4E94-9E5F-92F8A036A7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078F83-5294-4651-A2C2-481BC1B4B0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E7F268DF-0D54-4D27-B9BF-CD2DBE080A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E1A9AD7-68D0-40A6-930C-86469E12A4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0FA8DE2-7A16-4403-83DA-8EAEEA673B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6DF6AA0-DE3C-4996-9C1B-1F0C3D2CD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DD9485-4AD6-4875-83FC-877D38421C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0BD871-D012-40C4-98D7-C02C0424DB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7B282-EDA5-498B-A884-A28F54837C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039A069-570C-4027-A8B8-AD6AB48BF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2AF70C8-77D1-47D5-B2A1-8604CB3371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646D21-C0BD-4D9C-A3D0-4140ACE01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42D299-7525-4DD5-B207-CFC447F1E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0099928-31B4-43F0-A2F5-EB9023961BA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E2693F6-F9A4-4E15-B770-2D1D9A57A9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D848DE92-8A3C-4012-AF3E-4371225E0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E5BC6E4-1B49-4C44-8C1D-8290C4A82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6BF61CB-BE53-495A-8CAC-7CF34C000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5BC6137-4E54-4E14-9044-D4F7B54E6D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9BA4C3B-21FA-4FF4-BFE1-BF32355AA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2CDBB1-ADC4-41B3-A16D-A918BF8C2D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6-01-19T01:43:09Z</dcterms:modified>
  <cp:revision>97</cp:revision>
  <dc:subject/>
  <dc:title>Chapter 9 slides, 3rdedition</dc:title>
</cp:coreProperties>
</file>