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18C-6CD2-45D6-BEF0-572503AC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81D-0369-493B-B2CE-2CBBF3F1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D2F-5056-4927-A1EF-CFE6590A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548-632D-4520-8FCD-76B1718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595-E048-49F4-A5BD-451C35E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841-D9A2-4A81-9181-CA0B226C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90E-3D3D-4C23-B297-7AD927E8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6C9-E942-4473-803D-745E3F6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420-DCCB-4962-9AD9-565D785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24C-A0F1-4D26-BDF6-1732B48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59F-00DD-417D-BFFE-F7FDC08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722-547E-41D9-83EC-570CBA3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400800"/>
            <a:ext cx="62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-</a:t>
            </a:r>
            <a:fld id="{87E33B2C-9AF3-4A00-A7DB-D33FE133E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uter Network and its applic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hang Guanxiang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冠湘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l: 1352762556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-mail: gxzhang@scut.edu.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291-61DE-459C-B218-D29A9880AD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17240"/>
            <a:ext cx="77724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 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 models, Multiplexing/Demultiplexing, Connection-less transport (UDP), Principles of reliable data transfer, Connection-oriented transport (TCP), 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Laye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and forwarding, IP(The Internet Protocol ) IPv4, IPv6 ,Routing algorithms, Routing in the Internet, Multica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Layer and Local Area Network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services, Error detection and correction, Multiple Access Protocols, Link layer addressing, Ethernet, Hubs and switches, Point-to-Poin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55E-2C00-466B-882A-A81A0A87B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valu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s (40%) :There will be 2 equally weighted assignments in this course. The assignments will consist of a paper, and a programming projec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Examination (60%)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course will have a 120-minute closed-boo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ope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65A-5A8E-49B5-BD24-A9A941A9F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purpose of this cours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is course is to introduce fundamental principles and concepts of computer network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understand specifically how the Internet works today, and where it is going in the near fut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A79-79FF-44D0-9349-4D0F8F62B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ext Books</a:t>
            </a:r>
            <a:r>
              <a:rPr b="0" lang="zh-CN" sz="4000" spc="-1" strike="noStrike" u="sng">
                <a:solidFill>
                  <a:srgbClr val="3333cc"/>
                </a:solidFill>
                <a:uFillTx/>
                <a:latin typeface="Comic Sans MS"/>
              </a:rPr>
              <a:t>（教材）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Networking: A Top-Down Approach Featuring the Internet, by James F. Kurose and Keith W. Ross, 3rd Edition, Addison Wesley, 200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s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参考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Networks, 4th Ed., by Andrew S. Tanenbaum, Prentice Hall, 200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IP Illustrated  Vol. I-III, W. R. Stev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Networks: A Systems Approach, by Larry L. Peterson &amp; Bruce S. Davie, 3rd Ed., Morgan Kaufmann, 200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working with TCP/IP, Principles, Protocols and Architecture VOLUME 1, 5th Edition - by Douglas E. Comer , Pearson Education, 2006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57D-8583-49E3-8D88-644ACA5D1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p-Down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net F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the Princi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86F-B02C-4D3E-9C44-5FE95208AF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op-Down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cope with th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, many computer  networking texts are often organized around the “layers” of a networ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itional approach of teaching bottom-up—that is, from the physical layer towards the application layer—is not the best approa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ext is organized in a top-down manner—that is, it begins at the application layer and works its way down towards the physical lay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296-37C7-4882-8606-C43591F4D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p-down approach has several important benefi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it places emphasis on the application layer, which has been the high "growth area" of computer networking. WEB,P2P,VOD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,   teaching networking applications near the beginning of the course is a powerful motivational tool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, the top-down approach enables instructors to introduce network  application development at an early st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4C7-99E0-48C7-B988-04E52FAE9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net F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existing textbooks give significant weight to a variety of telecommunications networks and protocol suites (such as ATM), We instead put the internet in the spotlight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computer networking is now synonymous with the Intern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A68-B5F3-44EF-A1DF-C01A0859F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at Is Unique about This Textbook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the Princi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ext identifies fundamental networking issues as well as approaches towards addressing these issu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ing the issues and solution approaches will allow the student to quickly understand just about any networking technolog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717-0E67-47C1-981B-DB2F7616EF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 of Computer Networks and Internet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view of the Internet, client/server program, circuit switching, packet switching, physical media, queuing delay and packet loss, TCP/IP Service models, Internet Protocol Stack (Lay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Lay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ce requirements, WWW, HTTP, FTP, Electronic Mail, Domain Name System, Socket programm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2F8-E945-482C-BDF0-B88076E85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zgx</cp:lastModifiedBy>
  <dcterms:modified xsi:type="dcterms:W3CDTF">2008-03-02T12:24:05Z</dcterms:modified>
  <cp:revision>140</cp:revision>
  <dc:subject/>
  <dc:title>3rd Edition: Chapter 1</dc:title>
</cp:coreProperties>
</file>