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162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162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615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89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615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89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9D08-6372-4228-9305-3005394A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ACC-85E6-4F43-A3CC-3D9FF764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41E9-91CD-490A-88C4-D119E09A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162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4946-1817-4AEB-AD46-6C975013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F673-56E7-46A4-972A-39C354E8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DB02-6403-4D9E-9DDE-9FF0A9E5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502D-52AE-4C8E-A2EA-256A6D95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162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A3CA-C0FB-4A54-90F6-21ADA392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162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0360-DFE6-4704-9263-5ADC08C2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5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8229-0F4C-4077-B921-B198F558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162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162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9042-4936-4A02-A113-EEE2E26F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15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89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5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15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89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12EE-2699-4B62-8BAF-FD4827A3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162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162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162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sp>
          <p:nvSpPr>
            <p:cNvPr id="2" name=""/>
            <p:cNvSpPr/>
            <p:nvPr/>
          </p:nvSpPr>
          <p:spPr>
            <a:xfrm>
              <a:off x="0" y="685800"/>
              <a:ext cx="9144000" cy="53352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3">
              <a:lum bright="-12000"/>
            </a:blip>
            <a:stretch/>
          </p:blipFill>
          <p:spPr>
            <a:xfrm>
              <a:off x="0" y="0"/>
              <a:ext cx="119232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ssentials of Management Information Systems, 6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64580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</a:t>
            </a:r>
            <a:fld id="{DFCB906D-C009-46D2-AA33-3BEECBF888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02440" y="6477120"/>
            <a:ext cx="23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2005 by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5C17-48F5-445D-BC2B-B71E2B943FB4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  <a:ea typeface="新細明體"/>
              </a:rPr>
              <a:t>Managing the Digital Fi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685800"/>
            <a:ext cx="8001000" cy="763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sp>
          <p:nvSpPr>
            <p:cNvPr id="89" name=""/>
            <p:cNvSpPr/>
            <p:nvPr/>
          </p:nvSpPr>
          <p:spPr>
            <a:xfrm>
              <a:off x="0" y="685800"/>
              <a:ext cx="9144000" cy="53352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>
              <a:lum bright="-12000"/>
            </a:blip>
            <a:stretch/>
          </p:blipFill>
          <p:spPr>
            <a:xfrm>
              <a:off x="0" y="0"/>
              <a:ext cx="119232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nsformation of the Business Enter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Flatt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Decentr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Location 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Low transaction and coordination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Empower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ollaborative work and team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Competitive Business Environment and the Emerging Digital Fi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Information technology capital investment 1980-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00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0" t="9577" r="0" b="0"/>
          <a:stretch/>
        </p:blipFill>
        <p:spPr>
          <a:xfrm>
            <a:off x="914400" y="1881360"/>
            <a:ext cx="7238880" cy="39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mergence of the Digital Fi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Digitally enabled relationships with customers, suppliers, and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ore business processes accomplished via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Digital management of key corporate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Rapid sensing and responding to environmental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Competitive Business Environment and the Emerging Digital Fi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A set of interrelated components that coll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(or retrieve), process, store, and distribu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information to support decision making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ontrol in an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What Is an Information 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ta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32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treams of raw facts representing events such as business transactions</a:t>
            </a:r>
            <a:br>
              <a:rPr sz="3200"/>
            </a:br>
            <a:r>
              <a:rPr b="0" lang="en-US" sz="32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formation:</a:t>
            </a:r>
            <a:r>
              <a:rPr b="0" lang="en-US" sz="32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Clusters of data that are meaningful and useful to human be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What Is an Information 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Data and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00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0" t="10303" r="0" b="0"/>
          <a:stretch/>
        </p:blipFill>
        <p:spPr>
          <a:xfrm>
            <a:off x="762120" y="1990800"/>
            <a:ext cx="761976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unctions of an information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0" t="9146" r="0" b="0"/>
          <a:stretch/>
        </p:blipFill>
        <p:spPr>
          <a:xfrm>
            <a:off x="1676520" y="1828800"/>
            <a:ext cx="57196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m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Fixed definitions of data and procedures for collecting, storing, processing, disseminating, and using these 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an be computer-based or manual</a:t>
            </a:r>
            <a:br>
              <a:rPr sz="2600"/>
            </a:br>
            <a:r>
              <a:rPr b="0" lang="en-US" sz="26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uter-based Inform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Use computer hardware and software to process and disseminate inform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What Is an Information 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PS Competes Globally wi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formation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What are the inputs, processing, and outputs of UPS’s package tracking system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What technologies are used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How are these technologies related to UPS’s business strategy? How do they provide value for the company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What would happen if these technologies were not availabl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Window on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business information value ch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rcRect l="0" t="9463" r="0" b="0"/>
          <a:stretch/>
        </p:blipFill>
        <p:spPr>
          <a:xfrm>
            <a:off x="1143000" y="1805040"/>
            <a:ext cx="685800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What is the role of information systems in today’s competitive business environment?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What exactly is an information system? What do managers need to know about information systems?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How are information systems transforming organizations and manage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Information systems are more than compu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rcRect l="0" t="8107" r="0" b="0"/>
          <a:stretch/>
        </p:blipFill>
        <p:spPr>
          <a:xfrm>
            <a:off x="2390760" y="1725480"/>
            <a:ext cx="423864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formation systems literacy:</a:t>
            </a: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</a:t>
            </a: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Broad-based understanding of information systems that includes behavioral knowledge about organizations and individuals using information systems and technical knowledge about computers</a:t>
            </a:r>
            <a:br>
              <a:rPr sz="2600"/>
            </a:br>
            <a:r>
              <a:rPr b="0" lang="en-US" sz="26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uter literacy:</a:t>
            </a: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</a:t>
            </a: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Knowledge about information technology, focusing on understanding how computer-based technologies 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Business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jor Business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ales and 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Manufact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Fi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Ac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Human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Business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ey Elements of an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Operating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Poli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Business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agement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nior managers:</a:t>
            </a: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make long-range strategic decisions about products and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iddle managers:</a:t>
            </a: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carry out the programs and plans of senior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rational managers:</a:t>
            </a: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monitor the firm’s daily activ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Business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formation Technology (IT) Infrastruc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omputer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omputer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torage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ommunications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Business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lementary As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Assets required to derive value from a primary inve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an be organizational, managerial, or social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Technology investments supported by investment in complementary assets receive superior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Business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Variation in returns on information technology 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rcRect l="0" t="8813" r="0" b="0"/>
          <a:stretch/>
        </p:blipFill>
        <p:spPr>
          <a:xfrm>
            <a:off x="2095560" y="1828800"/>
            <a:ext cx="49147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ganizational As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upportive organizational culture valuing efficiency and effectiv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Efficient business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Decentralized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Distributed decision-making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trong IS development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Business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agerial As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trong senior management support for technology investment and cha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Incentives for management innov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Teamwork and collaborative work environ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Management training progra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Management culture valuing flexibility and knowledge-based decision ma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Business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How have the Internet and Internet technology transformed business and government?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What are the major management challenges to building and using information syste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cial As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The Internet and telecommunications infrastructu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IT-enriched educational progra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Governmental and private-sector standar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Laws and regulations creating fair, stable market environ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Technology and service firms in adjacent markets to assist implemen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Business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cial As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chnical approach:</a:t>
            </a: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emphasizes mathematically based models, physical technology, and formal capabilities of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ehavioral approach:</a:t>
            </a: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studies issues arising from development and maintenance of systems, such as business integration and uti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Contemporary Approaches to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Business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Contemporary Approaches to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Contemporary approaches to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rcRect l="0" t="10560" r="0" b="0"/>
          <a:stretch/>
        </p:blipFill>
        <p:spPr>
          <a:xfrm>
            <a:off x="838080" y="1998720"/>
            <a:ext cx="739152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ciotechnic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Management Information Systems (M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ystem performance optimized when technology and organization adjust to each other for a satisfactory 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Contemporary Approaches to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Contemporary Approaches to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sociotechnical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rcRect l="0" t="10852" r="0" b="0"/>
          <a:stretch/>
        </p:blipFill>
        <p:spPr>
          <a:xfrm>
            <a:off x="838080" y="2057400"/>
            <a:ext cx="754380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interdependence between organizations and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rcRect l="0" t="14683" r="0" b="0"/>
          <a:stretch/>
        </p:blipFill>
        <p:spPr>
          <a:xfrm>
            <a:off x="2138400" y="1981080"/>
            <a:ext cx="479592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950s:</a:t>
            </a: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Technical changes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960s-70s:</a:t>
            </a: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Managerial controls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980s-90s:</a:t>
            </a: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Institutional core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day:</a:t>
            </a: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 Digital information webs extending beyond the ente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Widening Scope of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widening scope of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rcRect l="0" t="12812" r="0" b="0"/>
          <a:stretch/>
        </p:blipFill>
        <p:spPr>
          <a:xfrm>
            <a:off x="762120" y="2209680"/>
            <a:ext cx="7619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International network of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Universal technology platform: Any computer can communicate with any other compu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World Wide Web and Web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Network Revolution and the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at You Can Do on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ommunicate and collabo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Access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Participate in discu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upply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Find entertai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Exchange business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Network Revolution and the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Management Challe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Design competitive and effective systems.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Understand system requirements of global business environment. 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reate information architecture that supports organization’s go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Flattening organizations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eparating work from location 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Reorganizing workflows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Increasing flexibility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Redefining organizational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295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New Options for Organizational Design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Digital Firm and the Collaborative Enterp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lattening organiz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rcRect l="0" t="9354" r="0" b="0"/>
          <a:stretch/>
        </p:blipFill>
        <p:spPr>
          <a:xfrm>
            <a:off x="2057400" y="1905120"/>
            <a:ext cx="4905360" cy="39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edesigned workflow for insurance 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rcRect l="0" t="13664" r="0" b="0"/>
          <a:stretch/>
        </p:blipFill>
        <p:spPr>
          <a:xfrm>
            <a:off x="380880" y="2362320"/>
            <a:ext cx="8382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Electronic comme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Electronic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Digital market: Information system that links buyers and sellers to exchange information, products, services, pay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Digital Fi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Brazilian Dime Sto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ecomes an E-Commerce Su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How did the Web change the way Lojas Americanas ran its busines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How did the Web site provide value for this compan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Window on Organiz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Electronic business and electronic commerce in the emerging digital fi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rcRect l="0" t="9524" r="0" b="0"/>
          <a:stretch/>
        </p:blipFill>
        <p:spPr>
          <a:xfrm>
            <a:off x="2286000" y="1793880"/>
            <a:ext cx="444348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ectronic Commerce (e-commerce):</a:t>
            </a: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buying and selling goods and services electron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ectronic Business:</a:t>
            </a: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executing all the firm’s business processes with Internet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ranet:</a:t>
            </a: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private, secure business network based on Internet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tranet:</a:t>
            </a: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extension of intranet to authorized external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Digital Fi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sitive Impacts of Inform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Faster calculations and paper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Analysis of customer purchase patterns and p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More efficient business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Medical adv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Instant global distribution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Learning to Use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Challenges of Information Systems:  Key Managemen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gative Impacts of Inform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Automation leading to job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Privacy conc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ystem outages and shutd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Health problems, repetitive stress inj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Illegal distribution of intellectual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Learning to Use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Challenges of Information Systems:  Key Managemen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Evaluate the role of information systems in the way Herman Miller runs its business. How important are the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Explain why z-Axis was an important step forward in the furniture business. How did it provide value for Herman Mill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Did z-Axis provide a competitive advantage for Herman Miller? Explain your answer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Chapter 1 Cas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Herman Miller: Information Systems at the Crossro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Management Challe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Determine business value of information systems.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Design systems people can control, understand and use in a socially, ethically responsible man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Should Herman Miller continue to invest in z-Axis? Why or why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What management challenges does this case study illustrate? Explain in your ans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Chapter 1 Cas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Herman Miller: Information Systems at the Crossro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ur powerful worldwide changes that h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tered the business environ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Glob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Rise of the Information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Transformation of the Business Ente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Emergence of the Digital Fi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Competitive Business Environment and the Emerging Digital Fi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ob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Management and control in a global market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ompetition in world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Global work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Global delivery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Competitive Business Environment and the Emerging Digital Fi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ise of the Information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Knowledge- and information-based econom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New product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Knowledge: a central productive and strategic as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Time-based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horter product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Turbul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Limited employee knowledg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Competitive Business Environment and the Emerging Digital Fi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growth of the information ec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00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0" t="9054" r="0" b="0"/>
          <a:stretch/>
        </p:blipFill>
        <p:spPr>
          <a:xfrm>
            <a:off x="1219320" y="1905120"/>
            <a:ext cx="66294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17:50:18Z</dcterms:created>
  <dc:creator>Linda D</dc:creator>
  <dc:description/>
  <dc:language>en-US</dc:language>
  <cp:lastModifiedBy>Compaq</cp:lastModifiedBy>
  <dcterms:modified xsi:type="dcterms:W3CDTF">2007-06-13T00:38:52Z</dcterms:modified>
  <cp:revision>36</cp:revision>
  <dc:subject/>
  <dc:title>Managing the Digital Firm</dc:title>
</cp:coreProperties>
</file>