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88C5-B1B6-44E3-8765-D18FEEFDC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C947-A00A-4365-AA62-51D805AEC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647D-B56E-4DED-BB18-00185FDF1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39C6-8F64-4CBE-8DCB-61B4BACE5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3840" y="1126440"/>
            <a:ext cx="8029440" cy="32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FE49-5C84-45D4-9AC8-3C54D7DFD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C811-5605-47AD-8F0D-007C1CB78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7CEA-F611-4146-A305-42068C5C1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97AE-0F5D-484F-904D-748BAAF06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3840" y="1126440"/>
            <a:ext cx="8029440" cy="32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0026-6B91-4941-9E25-4FF45DC46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D1F5-FA2F-42C1-B47C-896AE583F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FAB7-5AD9-4821-9B29-9C9351F2D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A689-CC5D-4ED7-9923-A497E38BC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a194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60" y="6400800"/>
            <a:ext cx="756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Copyright © 2007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lide 14-</a:t>
            </a:r>
            <a:fld id="{63E708EE-0A45-4E6E-9CA7-FA83AEFD3E41}" type="slidenum"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121932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Times New Roman"/>
              </a:rPr>
              <a:t>E-commerc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662360"/>
            <a:ext cx="34290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enneth C. Lau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Carol Guercio Tr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08480" y="1995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usiness. technology.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1600" y="25639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hird E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962520" cy="29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48DA-A545-457F-B33B-2FB36D96AE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840" y="9594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Fee or Free?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jor challenge facing online content indust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st content on Web is still free, and most Web users still expect it to be fre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vement toward paying for content will require significant enhancement to content providers’ customer value proposi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AA36-AEA9-4EC2-894E-15B01E579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edia Industry Structure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dia content industry prior to 1990 was composed of many smaller independent corporations specializing in content creation and distribution in separate industr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ill organized largely as separate vertical stovepipes, with each segment dominated by a few key play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wing use of digital creation tools and growth of Internet as delivery vehicle offer promise of convergence toward a more unified creation and distribution platfor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8A12-DC84-4328-A935-CB090CDAD4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3840" y="60912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edia Convergence: Technology, Content, and Industry Structure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ree dimensions of media convergence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echnological convergence: Development of hybrid devices that can combine the functionality of two or more existing media platforms into a single device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Example: PDAs that can also be used as cell phones and book reader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tent convergence has three aspect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vergence in design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vergence in production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vergence in distribution of content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dustry convergence: Merger of media enterprises into synergistic combinations that create and cross-market content on different platform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est known example: AOL/Time Warner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7DDF-947A-41F2-A76F-CAF918B07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840" y="684720"/>
            <a:ext cx="90201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and the Transformation 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f Content: Book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040" y="1676160"/>
            <a:ext cx="7444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3, Page 8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07732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55F7-A1C1-4F5B-8EFB-14021A5631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hallenges and Risks in Media Convergence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umers still prefer traditional medi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chnology is not quite ready to distribute content effectively and convenient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nt creators (artists, writers, producers) do not yet know what features consumers are willing to pay for and are still creating content for each of the separate media typ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fitable business model has not yet emerg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7C0E-CDE8-4BC7-9F25-031AB2936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Content Revenue Models and Business Processe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ic content revenue mode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y-per-view/Pay-for-downloa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scrip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x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8E0A-4F89-43CC-A980-7A418A1613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aking a Profit with Online Content: From Free to Fee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y content firms have decided that there is more to be gained by offering either all free content or a mix of free and for-fre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 factors required to charge for online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cused mark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cialized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e source monopo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gh perceived net value (portion of perceived customer value that can be attributed to fact that content is available on the Interne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868C-C4BE-456F-8535-CFF68BDE59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3840" y="747360"/>
            <a:ext cx="90201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Revenue and Content Characteristic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040" y="1295280"/>
            <a:ext cx="7444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4, Page 826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025720"/>
            <a:ext cx="7924680" cy="42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7623-714F-4BF5-93C6-54E742DFE07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3480" y="609120"/>
            <a:ext cx="87152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Key Challenges Facing Content Producers and Owner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chnology challen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ndwidth issu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ent platfor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st challen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distribution more costly than anticipated;  media companies face substantial costs in migrating, repackaging, and redesigning content for online delive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umer attitud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nnibalization of existing distribution chann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rights management challen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ft of copyrighted mater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oyalties paid to artists and writ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1177-C9A2-49C8-A203-212592FB4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840" y="502200"/>
            <a:ext cx="802944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Insight on Business: DRM: Who Owns Your Files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y does digital content need any more protection than analog content stored on records and tapes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at is DRM software?  Have you ever encountered digital content that is protected with DRM? 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How does Apple’s iPod and iTunes use DRM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 what way did DRM make iTunes possible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How does DRM potentially interfere with “fair use” of copyrighted material?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3452-9DE6-45C9-B0AA-5DD2EB0C45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3840" y="1126440"/>
            <a:ext cx="802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98600"/>
            <a:ext cx="9144000" cy="6359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bbde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20040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line Content Providers: Digital Me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972E-6DB2-4DF5-BA2C-544784D231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Newspaper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than 5,000 online newspapers worldwid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out 1,300 online newspapers in the United S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line newspapers one of most successful forms on online content to d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act of Internet on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ables premium archived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ables fine-grained 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nds rea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nds depth of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5F2A-5BC6-47E2-8A8F-BFC349DD27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840" y="68472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onthly Unique Visitors at Major Online Newspaper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040" y="1676160"/>
            <a:ext cx="7444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5, Page 832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2154240"/>
            <a:ext cx="7620120" cy="378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601992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ased on data from Newspaper Association of America, 2006b; comScore Networks, 2005; eMarketer, Inc., 2005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2A7C-8474-4B26-A8AD-81731B4DEB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Newspaper Revenue Models and Result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ominately rely on advertising model, with varying succe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lement revenues by using a pay-per-view/pay-for-download model for premium or archival content and/or subscription fe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y a few newspapers with strong offline brands such a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Wall Street Journ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have been able to successfully use subscription mod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982A2-5961-4921-A422-09B1DA0D51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the Online Newspaper Industr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chnological convergence in infancy with only published text moved to Web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nt convergence has occurred in areas of production and distrib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stry structure has not seen much movement to cross-media converge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DBE7-8BC5-44C5-BD70-DB2D2D7755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Newspapers: Challenge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eloping wireless mobile delivery platforms and micropayment systems to provide low-cost mechanism for selling single artic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umer attitudes have remained intransigent on issue of paying for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online newspapers have experienced cannibalization of main distribution chann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leakage, where paid for and downloaded content is redistributed via e-mail or posted for few viewing on a Web si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B734-1F01-4D48-9FB3-627201BEBF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4866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E-book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y different types of commercial e-book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b-accessed e-boo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b-downloadable e-book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dicated e-book read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nt-on-demand book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021B-5921-4CE2-8F66-AA97794091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6392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E-book Audience Size and Growth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ding books on Internet is not a popular activ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line e-book sales generated about $500 million in revenues in 20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ected to generate about $800 million in 2007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uture market for e-books depends greatly on how rapidly traditional trade book and academic textbook publishers move existing and new works to e-book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38C0-A570-475A-B649-A0F457996F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47360"/>
            <a:ext cx="91440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The Growth of E-Book Revenues to 2007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7444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6, Page 84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772400" cy="4294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4920" y="609588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ased on data from International Digital Publishing Forum, 2005; eMarketer, Inc., 2005d, authors’ estim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3B58-3EED-4280-A936-33E7EA8E46C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Advantages of E-book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 downloading reduces transaction costs for us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ed accessibility to entire libraries from home or offi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xt is searchable and easily integrated with new tex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 can be modularized down to sentence and word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sy to update and chan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wer production and distribution cos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ed opportunities for writers to publis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ed availability of out-of-print and increased value of book archiv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d cost of library func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9FFD-E719-4C93-BA3D-3F51D6D918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Disadvantages of E-book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quire expensive and complex electronic devices to u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ss portability than print book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duced quality of print on scre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e competing standar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certain business mode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yright management and royalty issues with autho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EB4E-914F-483E-AE19-8CDC9FA9AD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The Wall Street Journal Online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y did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all Street Journ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ucceed with a subscription model when other newspapers have been unable to charge for their content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uld you pay to read a daily newspaper online?  Why or why not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uld you pay for access to online archives of newspapers and/or magazines?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you think newspapers can make the transition from “print on paper” to “news on screen?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ED83-9AA1-4379-A3F5-A4F51D0BED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480" y="883800"/>
            <a:ext cx="84106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E-book Industry Revenue Model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mary model is pay-for-downloa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e-book revenue model involves licensing of entire e-libraries of cont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ilar to subscription mod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emplified by NetLibra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ither model is profitable at this tim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8460-AB0D-474E-97F0-97F723369D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840" y="959400"/>
            <a:ext cx="863928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the Book Industr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chnological convergence has been slowed by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or resolution of computer scree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ck of portable reader devices that can compete with the portability of a published boo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ence of digital rights management technolog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ck of standards to define cross-platform e-books so they can be viewed on different de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tential solu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-pixel display technologies help enhance resolution of e-book reader display scree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gital rights management software helps prevent illegal distribution of paid content over the We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4EC3-4145-4C15-9353-C599C83D4D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840" y="98964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Book Industry (cont’d)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ttle progress toward content convergence from a design standpoi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progress on production and distribution dimen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ML and large-scale online text/graphic storage systems has transformed book production and made it more effic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ustry structur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ill dominated by a few tita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ever, Internet has created new opportunities for authors, publishers and distributo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6056-8D5A-4D78-B2CA-5222BE42C5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480" y="913320"/>
            <a:ext cx="87152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Insight on Society: The Evolving E-book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has the concept of e-books changed over the last 15 years?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you think Prentice-Hall’s “Active Books” are an answer to the high cost of college text books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ight online books evolve into multimedia events?  Would you be interested in books with sound and video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y is it unlikely that the content of college textbooks will appear on the Web for free someday?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F26F-2391-4F04-B3F4-D39F5D655B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840" y="80712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agazines: Online “Zines”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gan appearing in 199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day, all of top 50 offline printed magazines have Web sites to extend brands to We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 with newspapers and books, few have turned a profi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llenge is to become profita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st common form of online content, next to newspapers and boo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mary motivation for visiting is exclusive content and convenience, not low co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umer Reports example of successful online magaz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4E5D-0A3C-4327-894E-754BB27636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Magazines: Content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ile content often repurposed from print editions, some advantage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archable archiv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eaking new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clusive cont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t groups and bulletin boar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ically articles are short and can often be printed for fre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C6BE-F508-485A-A217-BE7B8675CE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480" y="883800"/>
            <a:ext cx="87152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Magazine Revenue Model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iginal model focused on advertising revenue, but this originally fail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 enough online readers; cutbacks in online advert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ever, is reviving as online advertising expenditures are growing at about 25% a ye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xed model also enjoying some success: charging for premium content and/or subscrip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0668-4E89-4F20-9501-03D74B491A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the Magazine Publishing Industr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much convergence from technology standpoi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me convergence in areas of creation, production, and distrib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stry structure has not changed significant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0E23-D48A-4C78-8E6D-957EB51C9D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840" y="91404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E-commerce in Action: CNET Network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sion to be a global source of technology and commerce-related data, exchanges,m                                                                                                                                                                                                                                                                    and 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s been successful in attracting Web’s largest information technology audience, but not in achieving profitable oper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of few Internet content companies that has “successfully” built business on advertising revenu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ffered significant early losses, but has been profitable since 2004 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F80F-3B14-4137-A146-FE099D2067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840" y="80712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Entertainment Industr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ing Internet entertainment audience a complex task due to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iculty defining entertain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ways of measuring audience size and intens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urrent and projected growth of “traditional” entertainment (films, music, sports, games)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sic downloads lead the list, followed by online games and fil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73A8-C2D5-4B9E-A640-20FF48D06E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989640"/>
            <a:ext cx="80298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Trends in Online Content</a:t>
            </a:r>
            <a:r>
              <a:rPr b="1" lang="en-US" sz="3200" spc="-1" strike="noStrike">
                <a:solidFill>
                  <a:srgbClr val="aa1949"/>
                </a:solidFill>
                <a:latin typeface="Arial"/>
                <a:ea typeface="Arial"/>
              </a:rPr>
              <a:t>—</a:t>
            </a: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2006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ased media consump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media revenues fastest grow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advertising revenues rapidly expanding, driving interest in content that attracts eyeba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id content becoming more commonpl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ergence increa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r-generated content explodes in popular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re and more entertainment content finds its way onto the We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65E8-A169-4D8A-8956-EB1E93E31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3480" y="761040"/>
            <a:ext cx="87152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The Five Major Players in the Entertainment Industr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828800"/>
            <a:ext cx="744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7, Page 8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01000" cy="337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609588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U.S. Census Bureau, 2006; authors’ estim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05FE-4D93-4FEE-A222-D2641F7E68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3840" y="60912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Projected Growth in Traditional Online Entertainment (In Millions)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6040" y="1599840"/>
            <a:ext cx="7444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8, Page 859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07732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601992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eMarketer, Inc., 2005a, 2005b; Apple Computer, 2005; Online Publishers Association, 2005, authors’ estim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B142-06E7-4605-8E76-5541189D53B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3480" y="822960"/>
            <a:ext cx="87152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Nontraditional Online Entertainment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ludes hobbies, games, surfing We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 entertainment can be characterized along two different dimension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r foc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r contro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pular Internet entertainment sites offer users high levels of control and user foc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absence of Hollywood films and TV on Web, consumers are defining new forms of online entertainment that do not involve traditional media tita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BB15-67F0-49C5-9365-094483B8EB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0298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User Role in Entertainment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6040" y="1447560"/>
            <a:ext cx="7444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9, Page 86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848720" cy="35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F4E4-1136-40EE-92CA-873C581B2B0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3840" y="9594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Entertainment: Content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has greatly changed packaging, distribution, marketing and sale of traditional music trac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 transforming consumer experience by providing premium archives, efficient search mechanisms, timeliness and enormous reach and depth of cont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usic sites and networks allow users to become their own music packagers and distributors, creating a new musical experience for the consum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7274-646F-43E5-AC76-BBA24E37EF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Online Entertainment Industry Revenue Model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levision and movie sites typically use a marketing model, attempting to extend their brand influence and audience for their offline produc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me entertainment sites now moving toward a subscription mod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80CC-7E46-4B4E-B82A-037B0A3D35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the Entertainment Industr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echnology convergence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 music, technology platform has converged as PCs and handheld devices become music listening devices, PC has become a game station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For movies and television, technology convergence unwillingness of movie industry to make its products available on a wide range of Internet-enabled devices due to concerns about piracy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SzPct val="7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Movielink and CinemaNow the only sites currently supporting Internet downloads of feature length film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278A-0854-46E6-B9DF-8535A7D7E1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the Entertainment Industry (cont’d)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ent converge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gnificant progress toward digital tools in areas of content creation and produ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99"/>
              </a:buClr>
              <a:buSzPct val="7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lmmakers and television studios increasingly using digital camer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99"/>
              </a:buClr>
              <a:buSzPct val="7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lm editing done on digital computer works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ribution channels, not as mu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99"/>
              </a:buClr>
              <a:buSzPct val="7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levision and feature films still primarily use analog delivery vehic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429A-834A-459D-8FCC-717F0B85E1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vergence in the Entertainment Industry (cont’d)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merging corporate model appears to be merger of content and distrib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y players and forces (including government regulators and courts) that shape entertainment indust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et offers entertainment content providers opportunity to dominate industry value chain by eliminating distributors and retailers and selling direct to consum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50F7-E885-4907-9C7D-1EAD0D1CA6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840" y="594360"/>
            <a:ext cx="90201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Entertainment Industry Value Chains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7444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4.10, Page 864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848720" cy="4091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609588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©2001 ACM, Inc. Reproduced with per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DE06-E986-42A7-B4BB-E97FF782305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3840" y="88380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ontent Audience and Market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American adult spends over 3,900 hours each year consuming various media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2008, expected to increase to 4, 000 hours a year (about 11 hours a da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st popular medium: television, followed by rad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et third, but growing fa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7FE9-D14E-4CAC-A75F-49E8300C85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3840" y="730800"/>
            <a:ext cx="802944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Insight on Technology: Hollywood Needs a New Script</a:t>
            </a:r>
            <a:br>
              <a:rPr sz="3200"/>
            </a:b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BitTorrent and how might it increase the illegal distribution of movies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is the illegal online market in videos changing the industry system of distribution windows to stage release of new films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you think Hollywood is doing a better job of protecting its content than the music industry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the “Gotcha” strategy for dealing with illegal videos on the Web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 their legitimate ways that videos can be distributed on the Web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FA28-136A-4542-B4FE-04006702BC6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0298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edia Utilization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8160" y="13716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4.1, Page 8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609588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ased on data from U.S. Census Bureau 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33B3-3D92-45B5-8A09-1E7DCAECD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5629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Internet and Traditional Media: Cannibalization versus Complementarity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 spend on Internet reduces consumer time available for other med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users view television only 11.2 hours per week, compared to 16 hours per week for non-us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users spend 15% to 20% less time reading books, newspapers and magazine, and less time on phone or listening to radi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ersely, Internet users consume more media of all types than non-Internet us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et users also often multitask, using other forms of media at same time as using Intern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7F8A-7F01-418C-9FBC-4D0A6555FF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1040"/>
            <a:ext cx="80298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Media Revenues by Channel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040" y="1371240"/>
            <a:ext cx="7444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4.2, Page 816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609588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Based on data from U.S. Census Bureau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7E69-DD71-4276-8B79-F985F251F2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840" y="761040"/>
            <a:ext cx="802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1949"/>
                </a:solidFill>
                <a:latin typeface="Arial"/>
              </a:rPr>
              <a:t>Growth of the Online Content Audience</a:t>
            </a:r>
            <a:endParaRPr b="1" lang="en-US" sz="3200" spc="-1" strike="noStrike">
              <a:solidFill>
                <a:srgbClr val="aa194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content: digital information for direct consumption made available over the Intern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ludes both free and paid cont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ces between consumer content (B2C) and business content (B2B) marke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06: Total direct consumer paid online content revenues in U.S. should reach about $5.8 bill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ed to grow to $12.9 billion by 201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CAA3-7F7A-494F-8D74-466435D006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Addison Wesley 2004</dc:creator>
  <dc:description/>
  <dc:language>en-US</dc:language>
  <cp:lastModifiedBy>Carol Traver</cp:lastModifiedBy>
  <cp:lastPrinted>2002-04-12T18:43:07Z</cp:lastPrinted>
  <dcterms:modified xsi:type="dcterms:W3CDTF">2006-07-17T22:53:06Z</dcterms:modified>
  <cp:revision>289</cp:revision>
  <dc:subject/>
  <dc:title> </dc:title>
</cp:coreProperties>
</file>