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39A-45F8-4FE4-BC10-9AD8ECAA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B4D-DDFC-43A5-872E-C0905749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57F-41A7-4FCD-930F-1500AEEA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E79-9E25-4C86-8F16-EBEF35F2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43E-B066-4DC0-895C-1D3AE743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690-5303-4852-86D5-C3EC621A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E12-5D48-4302-8AF7-6CC190B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C96-CC0B-4467-A708-E8B40FE0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203-E877-4C8A-98C9-E10254CC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2D7-4674-4B59-9780-B689B15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0AC-8D22-420F-A37E-F1C34A9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3D4-6129-40B3-9370-C09CF7F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1EED-0B84-4F92-8171-BB493348A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842160" cy="5183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908000" y="5732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9.16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ross-section properties and reinforcement details of a typical spandrel beam subjected to bending, shear and tors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2_U Kyaw Naing.mp3" descr=""/>
          <p:cNvPicPr/>
          <p:nvPr/>
        </p:nvPicPr>
        <p:blipFill>
          <a:blip r:embed="rId2"/>
          <a:stretch/>
        </p:blipFill>
        <p:spPr>
          <a:xfrm>
            <a:off x="795672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01:47Z</dcterms:created>
  <dc:creator>Administrator</dc:creator>
  <dc:description/>
  <dc:language>en-US</dc:language>
  <cp:lastModifiedBy>ds0929</cp:lastModifiedBy>
  <dcterms:modified xsi:type="dcterms:W3CDTF">2013-06-25T12:11:27Z</dcterms:modified>
  <cp:revision>4</cp:revision>
  <dc:subject/>
  <dc:title>PowerPoint Presentation</dc:title>
</cp:coreProperties>
</file>