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4C9-D17F-4BCD-A9B4-CB8EF42F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279-A23F-4715-9929-0E6E4D41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D56-13E7-469C-ADAA-AADB404D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08F-923E-417D-9D53-17B08048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18F-F941-4CC8-A21B-F73459F2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649-0F27-4E8A-9EF5-7E32163E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961-0F97-44B2-BC97-0B20A444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135-EE47-46D5-BFBF-4CE7F952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896-A175-40C6-80BC-EB863D2D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709-7171-4C0A-A9C6-D43A9BED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F841-C4A5-49F4-A0B2-4718F3F3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5F6-94C4-4137-96BB-893D3CCE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5FF2-1F34-4D50-BDBB-D46DDC929B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95280" y="19692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11.22 TYPES OF PART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earing partitions may be built of masonry or concrete or of wood or light-g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etal studs. These materials may be faced with plaster, wallboard, plywood, w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oards, plastic, or other materials that meet functional and architectural requir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sonry partitions should satisfy the requirements of Arts. 11.2 to 11.1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e also Art. 11.1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onbearing partitions may be permanently fixed in place, temporary (or mov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o that the walls may be easily shifted when desired, or folding. Since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incipal function of these walls is to separate space, the type of constructi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terials used may vary widely. They may be opaque or transparent; they may 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uvered or hollow or solid; they may extend from floor to ceiling or only partwa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they may serve additionally as cabinets or closets or as a concealment 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iping and electrical cond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20_U Kyaw Naing.mp3" descr=""/>
          <p:cNvPicPr/>
          <p:nvPr/>
        </p:nvPicPr>
        <p:blipFill>
          <a:blip r:embed="rId1"/>
          <a:stretch/>
        </p:blipFill>
        <p:spPr>
          <a:xfrm>
            <a:off x="745164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89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55640" y="19692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11.23 STRUCTURAL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OF PART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earing partitions should be capable of supporting their own weight and superimpo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ads in accordance with recommended engineering practice and should 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 turn on adequate supports that will not deflect excessively. Masonry part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hould meet the requirements of Arts. 11.2 to 11.1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onbearing partitions should be stable laterally between lateral supports or addi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teral supports should be added. Since they are not designed for vert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ads other than their own weight, such partitions should not be allowed to t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ads from overhead beams that may deflect and press down on them. Also,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eams under the partition should not deflect to the extent that there is a vis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paration between bottom of partition and the floor or that the partition crack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36:37Z</dcterms:created>
  <dc:creator>Administrator</dc:creator>
  <dc:description/>
  <dc:language>en-US</dc:language>
  <cp:lastModifiedBy>ds0929</cp:lastModifiedBy>
  <dcterms:modified xsi:type="dcterms:W3CDTF">2013-06-25T12:21:14Z</dcterms:modified>
  <cp:revision>4</cp:revision>
  <dc:subject/>
  <dc:title>PowerPoint Presentation</dc:title>
</cp:coreProperties>
</file>