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5A87-590D-4F72-B04F-787AEFD0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8760-E093-458D-B574-99392A7C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6534-8884-4757-8ECE-FB2424DB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2563-B932-479E-82EC-1198658D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C21B-A53A-47B1-90DB-1478F532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703A-C544-427F-A142-845D8870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7B4D-FB7B-46BE-B543-D930D3F6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1A61-C518-4B8B-BD03-CB715848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2CAA-EF95-40B9-875B-F4EAFCD8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DBD2-1B5F-4C21-AB43-A5C2BD9F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74AE-78C2-4C04-95BD-171F8D7D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412-39CC-4285-9160-FE790DAB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65C1-51EE-4E87-928E-AA6740E3B0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324000" y="40464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12.5 STEEP-SLOPE ROOF COVERI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se differ from low-slope roof coverings in that on steep-slope roofs water fl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rapidly over exposed units to eaves. Many of the low-slope roof coverings describ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n Art. 12.4 can be successfully used on steep slopes. Many of the low-slope material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owever, become slick when wet. This should be taken into account bef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y are specified for steep slop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5543280" cy="41767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6023160" y="3059280"/>
            <a:ext cx="24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12.7  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ree-ta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sphalt-shingle roo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001_A_031_U Kyaw Naing.mp3" descr=""/>
          <p:cNvPicPr/>
          <p:nvPr/>
        </p:nvPicPr>
        <p:blipFill>
          <a:blip r:embed="rId2"/>
          <a:stretch/>
        </p:blipFill>
        <p:spPr>
          <a:xfrm>
            <a:off x="8172360" y="5300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72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7:10:21Z</dcterms:created>
  <dc:creator>Administrator</dc:creator>
  <dc:description/>
  <dc:language>en-US</dc:language>
  <cp:lastModifiedBy>ds0929</cp:lastModifiedBy>
  <dcterms:modified xsi:type="dcterms:W3CDTF">2013-06-25T12:26:11Z</dcterms:modified>
  <cp:revision>3</cp:revision>
  <dc:subject/>
  <dc:title>PowerPoint Presentation</dc:title>
</cp:coreProperties>
</file>