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67E24F-4BA4-450C-9DB1-43F909E932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F79F1A-5036-4DF3-A892-651E939091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7662CD-3C55-4FB1-B2F7-5B2B1BE6CA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30E904-6D83-4B9D-9780-83BE1F858E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6B2F42-5868-4D7E-BC0D-ED78E1E07D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85A7C3-29B6-4149-8469-7A195CDB26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01EB12-233C-4CA4-B10B-0F3EE3CDA6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7A16EB-C217-4695-AA30-2AFA17C946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C365C6-0B24-48EE-A1D9-F3B6ED6BF2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E10921-D213-4E42-A12A-E0A58C86AD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78E20-6564-4690-9202-BB22BD042E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0C9660-E597-47B3-AC24-5C7DC793DC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A3F09-30EE-4D95-B104-03F61D84FBE8}" type="slidenum">
              <a:rPr b="0" lang="en-A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6"/>
          <p:cNvSpPr/>
          <p:nvPr/>
        </p:nvSpPr>
        <p:spPr>
          <a:xfrm>
            <a:off x="611280" y="333360"/>
            <a:ext cx="777708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000000"/>
                </a:solidFill>
                <a:latin typeface="Calibri"/>
              </a:rPr>
              <a:t>STRUCTURAL REQUIREMENTS FO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000000"/>
                </a:solidFill>
                <a:latin typeface="Calibri"/>
              </a:rPr>
              <a:t>OPENINGS AND DOOR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A wall or partition above a door or window opening must be adequately supported by a structural member. In design of such a member, stiffness as well as strength must be taken into account. Excessive deflection could interfere with door operatio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It is common practice to install a frame along the perimeter of a door opening, to support the door. Anchored to the wall, the frame usually also serves as trim around  the opening.  In design  of door framing,  wind loads  are generally  more critical than dead loads imposed by the wall or partition above. Wind load should be taken as at least 15 lb / ft2. Under this loading, maximum deflection of framing members should not exceed 3⁄4   in or 1⁄175  the clear span. The design should take into account the fact that wind forces acting outward may be larger than those acting inward. Door framing should generally be made independent of other fram- ing.</a:t>
            </a:r>
            <a:r>
              <a:rPr b="1" i="1" lang="en-AU" sz="1800" spc="-1" strike="noStrike">
                <a:solidFill>
                  <a:srgbClr val="000000"/>
                </a:solidFill>
                <a:latin typeface="Calibri"/>
              </a:rPr>
              <a:t> </a:t>
            </a:r>
            <a:endParaRPr b="0" lang="en-US" sz="1800" spc="-1" strike="noStrike">
              <a:solidFill>
                <a:srgbClr val="000000"/>
              </a:solidFill>
              <a:latin typeface="Calibri"/>
            </a:endParaRPr>
          </a:p>
        </p:txBody>
      </p:sp>
      <p:pic>
        <p:nvPicPr>
          <p:cNvPr id="42" name="001_A_028_U Kyaw Naing.mp3" descr=""/>
          <p:cNvPicPr/>
          <p:nvPr/>
        </p:nvPicPr>
        <p:blipFill>
          <a:blip r:embed="rId1"/>
          <a:stretch/>
        </p:blipFill>
        <p:spPr>
          <a:xfrm>
            <a:off x="7812000" y="587700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7100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1" descr=""/>
          <p:cNvPicPr/>
          <p:nvPr/>
        </p:nvPicPr>
        <p:blipFill>
          <a:blip r:embed="rId1"/>
          <a:stretch/>
        </p:blipFill>
        <p:spPr>
          <a:xfrm>
            <a:off x="1619280" y="549360"/>
            <a:ext cx="4321080" cy="4895640"/>
          </a:xfrm>
          <a:prstGeom prst="rect">
            <a:avLst/>
          </a:prstGeom>
          <a:ln w="0">
            <a:noFill/>
          </a:ln>
        </p:spPr>
      </p:pic>
      <p:sp>
        <p:nvSpPr>
          <p:cNvPr id="44" name="Rectangle 2"/>
          <p:cNvSpPr/>
          <p:nvPr/>
        </p:nvSpPr>
        <p:spPr>
          <a:xfrm>
            <a:off x="2057760" y="5661000"/>
            <a:ext cx="4239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alibri"/>
              </a:rPr>
              <a:t>FIGURE 11.60    </a:t>
            </a:r>
            <a:r>
              <a:rPr b="0" lang="en-AU" sz="1800" spc="-1" strike="noStrike">
                <a:solidFill>
                  <a:srgbClr val="000000"/>
                </a:solidFill>
                <a:latin typeface="Calibri"/>
              </a:rPr>
              <a:t>Typical paneled wood doo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0T07:01:20Z</dcterms:created>
  <dc:creator>Administrator</dc:creator>
  <dc:description/>
  <dc:language>en-US</dc:language>
  <cp:lastModifiedBy>ds0929</cp:lastModifiedBy>
  <dcterms:modified xsi:type="dcterms:W3CDTF">2013-06-25T12:24:52Z</dcterms:modified>
  <cp:revision>3</cp:revision>
  <dc:subject/>
  <dc:title>PowerPoint Presentation</dc:title>
</cp:coreProperties>
</file>