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E4D42-DBC2-4510-AEC2-320C440C8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7A471-4F7E-456A-8ECC-A5E3B9C60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72804-69AA-4977-AE88-A2E88B05C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58903-B799-4947-A823-6C51F3684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32EF6-EA0E-4A52-A808-D1C2E28B9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4E6F7-1F86-452A-B749-167320169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9D3F5-AEFD-4F4E-BA52-E8E408255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DA528-E96E-4396-891E-508D55325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5DC1E-9770-40A8-86F9-4B35765DE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13669-6D56-4C59-A5BA-FB1E204E8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D1453-375D-4A25-A029-839B69C14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C8F34-F341-4199-A6AF-599C0E237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C319-E04D-45DF-A9B4-429D6CD9F15F}"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324000" y="-181080"/>
            <a:ext cx="8388360" cy="271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Mortar joints usually range from 1⁄4   to 3⁄4   in in thicknes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ooling of joints, if done properly can help to resist penetration of water; but it is not a substitute for complete filling, or a remedy for incomplete filling of joint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A concave  joint  (Fig. 11.2) is recommended.  Use of raked  or other joints that provide horizontal water tables should be avoided. Mortar should not be too stiff at time of tooling, or compaction will not take place, nor should it be too fluid, or the units may move—and units should never be moved after initial contact with</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mortar. If a unit is out of line, it should be removed, mortar scraped off and fresh mortar applied before the unit is relai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 back face of exterior wythes should be back plastered, or parged, before backup units are laid. If the backup is laid first, the front of the backup should be parged. The mortar should be the same as that used for laying the masonry and should be applied from 1⁄4   to 3⁄8   in thick.</a:t>
            </a:r>
            <a:endParaRPr b="0" lang="en-US" sz="1400" spc="-1" strike="noStrike">
              <a:solidFill>
                <a:srgbClr val="000000"/>
              </a:solidFill>
              <a:latin typeface="Calibri"/>
            </a:endParaRPr>
          </a:p>
        </p:txBody>
      </p:sp>
      <p:pic>
        <p:nvPicPr>
          <p:cNvPr id="42" name="Picture 4" descr=""/>
          <p:cNvPicPr/>
          <p:nvPr/>
        </p:nvPicPr>
        <p:blipFill>
          <a:blip r:embed="rId1"/>
          <a:stretch/>
        </p:blipFill>
        <p:spPr>
          <a:xfrm>
            <a:off x="1403280" y="2637000"/>
            <a:ext cx="5977080" cy="2016000"/>
          </a:xfrm>
          <a:prstGeom prst="rect">
            <a:avLst/>
          </a:prstGeom>
          <a:ln w="0">
            <a:noFill/>
          </a:ln>
        </p:spPr>
      </p:pic>
      <p:sp>
        <p:nvSpPr>
          <p:cNvPr id="43" name="Rectangle 5"/>
          <p:cNvSpPr/>
          <p:nvPr/>
        </p:nvSpPr>
        <p:spPr>
          <a:xfrm>
            <a:off x="1908000" y="5084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FIGURE 11.2    </a:t>
            </a:r>
            <a:r>
              <a:rPr b="0" lang="en-AU" sz="1800" spc="-1" strike="noStrike">
                <a:solidFill>
                  <a:srgbClr val="000000"/>
                </a:solidFill>
                <a:latin typeface="Calibri"/>
              </a:rPr>
              <a:t>Types of joints between masonry units.</a:t>
            </a:r>
            <a:endParaRPr b="0" lang="en-US" sz="1800" spc="-1" strike="noStrike">
              <a:solidFill>
                <a:srgbClr val="000000"/>
              </a:solidFill>
              <a:latin typeface="Calibri"/>
            </a:endParaRPr>
          </a:p>
        </p:txBody>
      </p:sp>
      <p:pic>
        <p:nvPicPr>
          <p:cNvPr id="44" name="001_A_015_U Kyaw Naing.mp3" descr=""/>
          <p:cNvPicPr/>
          <p:nvPr/>
        </p:nvPicPr>
        <p:blipFill>
          <a:blip r:embed="rId2"/>
          <a:stretch/>
        </p:blipFill>
        <p:spPr>
          <a:xfrm>
            <a:off x="8101080" y="5516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82272"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06:11:30Z</dcterms:created>
  <dc:creator>Administrator</dc:creator>
  <dc:description/>
  <dc:language>en-US</dc:language>
  <cp:lastModifiedBy>ds0929</cp:lastModifiedBy>
  <dcterms:modified xsi:type="dcterms:W3CDTF">2013-06-25T12:18:21Z</dcterms:modified>
  <cp:revision>4</cp:revision>
  <dc:subject/>
  <dc:title>PowerPoint Presentation</dc:title>
</cp:coreProperties>
</file>