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160-3867-499D-8AF4-24AADF5B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13E7-0262-452D-BB0F-A5A7A9FF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4C74-C76F-4275-A507-0DC5D9B3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86D0-180C-419D-A4D3-84E8FE8E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5868-D65C-4C9C-B9F1-4A716624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779-B42D-40C8-9BD6-A0967939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2DC3-56D7-41F4-938E-301813E2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FF3-27D6-4F7A-97F7-E8C90977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FE62-F9A0-42E4-8285-5062A399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F59A-6161-4873-813E-8CD85ECE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852-1D3A-4761-9791-36BBEE12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EFD-AE52-4977-8425-E81B4215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AAB7-839E-4AE3-9260-D33C200E84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24000" y="115920"/>
            <a:ext cx="8640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9.39 JOINTS IN CONCR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everal types of joints may occur or be formed in concrete structure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Construction joints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re formed when fresh concrete is placed against harden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concre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Expansion joints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re provided in long components to relieve compress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tresses that would otherwise result from a temperature ris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Contraction joints (control joints)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re provided to permit concrete to contra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during a drop in temperature and to permit drying shrinkage without resul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uncontrolled random crack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6840360" cy="20890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611280" y="4797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9.8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trol joints for restraining temperature and shrinkage cracks: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vertical section through a slab on grade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horizontal section through a wal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001_A_001_U Kyaw Naing.mp3" descr=""/>
          <p:cNvPicPr/>
          <p:nvPr/>
        </p:nvPicPr>
        <p:blipFill>
          <a:blip r:embed="rId2"/>
          <a:stretch/>
        </p:blipFill>
        <p:spPr>
          <a:xfrm>
            <a:off x="7956720" y="587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336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4:59:11Z</dcterms:created>
  <dc:creator>Administrator</dc:creator>
  <dc:description/>
  <dc:language>en-US</dc:language>
  <cp:lastModifiedBy>ds0929</cp:lastModifiedBy>
  <dcterms:modified xsi:type="dcterms:W3CDTF">2013-06-25T12:11:04Z</dcterms:modified>
  <cp:revision>5</cp:revision>
  <dc:subject/>
  <dc:title>PowerPoint Presentation</dc:title>
</cp:coreProperties>
</file>