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D7C-01C3-4623-A32D-EB233120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BE9-BCB3-4803-B23D-06017A5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13A-5E18-45CB-B392-8AD7FA51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61D-938B-49C0-9886-A5D63367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B84-3A9D-4239-B921-C627D2D9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90DC-8781-4DF3-9045-0C62E7B5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458-1714-4DDF-B846-13E98CC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897-5248-497C-A5C6-EB409370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CBD-E91F-457B-9C3E-8AC6A30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177-AA76-4F5F-A2A6-F9ABECD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199-0120-456A-82AC-E424620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5F9-7BC4-4744-B19F-6CB7510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CFF-9EF6-4407-AD01-4F10694F99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121440" cy="511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971640" y="5516640"/>
            <a:ext cx="777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11.28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loating interior angles with gypsumboard construction (gypsum lath similar):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mission of nails at intersection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wall-ceiling intersection with ceiling boards applied parall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o joist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wall-ceiling intersection with ceiling boards applied perpendicular to joists;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reentr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rner at wal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2_U Kyaw Naing.mp3" descr=""/>
          <p:cNvPicPr/>
          <p:nvPr/>
        </p:nvPicPr>
        <p:blipFill>
          <a:blip r:embed="rId2"/>
          <a:stretch/>
        </p:blipFill>
        <p:spPr>
          <a:xfrm>
            <a:off x="7956720" y="42210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5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43:51Z</dcterms:created>
  <dc:creator>Administrator</dc:creator>
  <dc:description/>
  <dc:language>en-US</dc:language>
  <cp:lastModifiedBy>ds0929</cp:lastModifiedBy>
  <dcterms:modified xsi:type="dcterms:W3CDTF">2013-06-25T12:22:05Z</dcterms:modified>
  <cp:revision>4</cp:revision>
  <dc:subject/>
  <dc:title>PowerPoint Presentation</dc:title>
</cp:coreProperties>
</file>