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5929-6518-4160-B936-FA6289DA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09C-C2E3-4122-9593-FBC18FC0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4B7-68A5-4C84-9E83-2F34BE29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0CA2-9BE3-44BC-996F-82051D81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A5F-084D-4720-A8E0-AA743E23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40D-D177-486F-98AC-5FF000F5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47D-5750-43CC-AF3B-5CF2B8E3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198-8D5E-4CD1-8517-140076FB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5D1-1A74-4EA1-8EAC-0D9F8443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D00-4DCF-41A8-892C-5218ED7E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613-2F92-407E-BEDD-2278EB7A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FC3-A310-4288-A4D8-00869C82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386C-D53F-4A61-A734-6A4799F14D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6050160" cy="6481800"/>
          </a:xfrm>
          <a:prstGeom prst="rect">
            <a:avLst/>
          </a:prstGeom>
          <a:ln w="0">
            <a:noFill/>
          </a:ln>
        </p:spPr>
      </p:pic>
      <p:pic>
        <p:nvPicPr>
          <p:cNvPr id="42" name="001_A_026_U Kyaw Naing.mp3" descr=""/>
          <p:cNvPicPr/>
          <p:nvPr/>
        </p:nvPicPr>
        <p:blipFill>
          <a:blip r:embed="rId2"/>
          <a:stretch/>
        </p:blipFill>
        <p:spPr>
          <a:xfrm>
            <a:off x="8172360" y="4869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2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3649680" cy="46386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619280" y="530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1.34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etails of a double-glazed window installed in a massive concrete wall to obtain high resistance to sound transmiss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52:46Z</dcterms:created>
  <dc:creator>Administrator</dc:creator>
  <dc:description/>
  <dc:language>en-US</dc:language>
  <cp:lastModifiedBy>ds0929</cp:lastModifiedBy>
  <dcterms:modified xsi:type="dcterms:W3CDTF">2013-06-25T12:24:05Z</dcterms:modified>
  <cp:revision>3</cp:revision>
  <dc:subject/>
  <dc:title>PowerPoint Presentation</dc:title>
</cp:coreProperties>
</file>