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093-A2AF-421B-999F-068BFA9D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783-09B9-480E-BA26-0D3714AA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40E-CD25-4C0B-BD36-C1DD05B5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C9E-7F7B-4E76-AEAC-79B2CDE5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9E9-9563-49D9-A4FE-893ADE26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3C5A-3315-489B-9A99-531DA8FA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456-5D07-4EBA-BC62-DEF8C530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13A-F1EE-454D-8751-56A35829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8FB-1EB1-4FEA-806D-9E026278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AD32-D1F1-44DC-8501-7929518A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B59-6B37-4E90-9190-6090CA52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84C-8EB5-44BE-913E-AA0000E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4492-DED9-42AC-9072-6B551B47E6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39640" y="2602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ONE-WAY CONCRETE-JOIST CONSTR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ne-way concrete-joist construction consists of a monolithic combination of cast- in-place, uniformly spaced ribs (joists) and top slab (Fig. 9.23). (See also Art. 9.52). The ribs are formed by placing rows of permanent or removable fillers in what would otherwise be a solid sla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826920" y="2014560"/>
            <a:ext cx="4249800" cy="47131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6372360" y="2617920"/>
            <a:ext cx="208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 9.23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ypical  one-wa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inforced-concret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joist constru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7524720" y="494172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89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5:05:37Z</dcterms:created>
  <dc:creator>Administrator</dc:creator>
  <dc:description/>
  <dc:language>en-US</dc:language>
  <cp:lastModifiedBy>ds0929</cp:lastModifiedBy>
  <dcterms:modified xsi:type="dcterms:W3CDTF">2013-06-25T12:11:50Z</dcterms:modified>
  <cp:revision>4</cp:revision>
  <dc:subject/>
  <dc:title>PowerPoint Presentation</dc:title>
</cp:coreProperties>
</file>