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035-F80E-45D4-AC1D-CD503939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66E3-83E7-48E7-95EA-A0D5D017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6E2-34AD-4717-9595-AFAD130C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526-96BC-4BCA-9946-A05DC6E5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0C7-BFB1-4C30-8263-6FA2FFBA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4BE-4691-47DA-B8CA-70216330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A0B-F6BE-4787-8857-6E9C9D9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F216-578E-491C-89C3-4C1BB914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D86-19AB-4A3F-A118-DC4798C8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B1E6-E156-4525-9CA3-B8E100E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8A2-56DA-4DC6-BC0D-873BCC6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EDF-AFC2-469E-8419-700AF627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6B13-CCD9-4B78-805B-CF8580B65D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260280"/>
            <a:ext cx="799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11.79 SOUND AND VIBRAT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is process consist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.Acoustical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etermining the use of the structure—the subjective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stablishing the desirable acoustical environment in each usable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etermining noise and vibration sources inside and outside th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udying the location and orientation of the structure and its interior spa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ith regard to noise and noise 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coustical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esigning shapes, areas, volumes, and surfaces to accomplish what the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dic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hoosing materials, systems, and constructions to achieve the desired res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9_U Kyaw Naing.mp3" descr=""/>
          <p:cNvPicPr/>
          <p:nvPr/>
        </p:nvPicPr>
        <p:blipFill>
          <a:blip r:embed="rId1"/>
          <a:stretch/>
        </p:blipFill>
        <p:spPr>
          <a:xfrm>
            <a:off x="738036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6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4454640" cy="4083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440000" y="465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1.101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evention of sound transmission over par- t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7:05:08Z</dcterms:created>
  <dc:creator>Administrator</dc:creator>
  <dc:description/>
  <dc:language>en-US</dc:language>
  <cp:lastModifiedBy>ds0929</cp:lastModifiedBy>
  <dcterms:modified xsi:type="dcterms:W3CDTF">2013-06-25T12:25:14Z</dcterms:modified>
  <cp:revision>3</cp:revision>
  <dc:subject/>
  <dc:title>PowerPoint Presentation</dc:title>
</cp:coreProperties>
</file>