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23F-869A-4308-8451-08DBA8D3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E19-25D0-46DC-A342-A3BF2A6A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394-12FC-40E4-BA88-47F71713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64B-4D74-48FE-9F5A-00845D12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8B8-78F1-46A2-B2AB-B0FEDA85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AFD-F29F-43B7-922B-E92D4B1E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6A7-A0ED-433E-AF81-8345F8E1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EA6-6C32-4EB6-97CC-9B915B55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5E8-27AC-491D-B61C-68578EFF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9D3-9D7F-4BE1-BB95-A133E5F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FDC-9ABC-46E1-B4ED-CE0F9CDD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A9B8-C9AA-44D5-8D35-7490FFA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81D-27A4-4902-9D2B-24DC67E69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201080" cy="511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97964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0.25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ood foundation on a concrete foo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11_U Kyaw Naing.mp3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03:01Z</dcterms:created>
  <dc:creator>Administrator</dc:creator>
  <dc:description/>
  <dc:language>en-US</dc:language>
  <cp:lastModifiedBy>ds0929</cp:lastModifiedBy>
  <dcterms:modified xsi:type="dcterms:W3CDTF">2013-06-25T12:16:05Z</dcterms:modified>
  <cp:revision>4</cp:revision>
  <dc:subject/>
  <dc:title>PowerPoint Presentation</dc:title>
</cp:coreProperties>
</file>