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1C4-A0D1-4D47-891C-31F820A6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3FB-8189-4DA8-84A0-F77D4A84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2D4-4CBE-43B2-9865-FEACCD33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1CE-6C43-4DCB-936E-46B78301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D82-2FCD-4B7D-910D-B7FB750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7DF-C903-42F7-9197-F72EE5A8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12E9-6D3B-4B0A-824F-A7B803C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075-34F4-4482-AED0-61AB2ECE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51F-9F52-4CDF-8423-70F96C70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6BC-4641-41E0-AF0C-59F0E177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A3D-13E4-4342-8DC2-1248D95C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262-FEFB-403C-813F-4F83E310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626-FACF-408B-97E8-59EFA34CA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042920" y="258840"/>
            <a:ext cx="4392720" cy="3240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056200" y="17733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11.7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chorage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joists to bearing wal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539640" y="3824280"/>
            <a:ext cx="5616720" cy="216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227640" y="3284640"/>
            <a:ext cx="280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FIGURE 11.8  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chors for use between masonry walls and structural fram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a)corrugated metal for tie to woo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uds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and 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wire ties for attachment to metal stud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wire tie for anchorage to structural steel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dovetail anchor for use with concret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corrugated metal for tie to cast-in-place concre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001_A_017_U Kyaw Naing.mp3" descr=""/>
          <p:cNvPicPr/>
          <p:nvPr/>
        </p:nvPicPr>
        <p:blipFill>
          <a:blip r:embed="rId3"/>
          <a:stretch/>
        </p:blipFill>
        <p:spPr>
          <a:xfrm>
            <a:off x="817236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8:28Z</dcterms:created>
  <dc:creator>Administrator</dc:creator>
  <dc:description/>
  <dc:language>en-US</dc:language>
  <cp:lastModifiedBy>ds0929</cp:lastModifiedBy>
  <dcterms:modified xsi:type="dcterms:W3CDTF">2013-06-25T12:19:41Z</dcterms:modified>
  <cp:revision>4</cp:revision>
  <dc:subject/>
  <dc:title>PowerPoint Presentation</dc:title>
</cp:coreProperties>
</file>