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AFD5-9D22-4CDC-A473-DEFCF99E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DAD-939F-4BA6-BCF0-250AB815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2B8-DE77-46CA-A843-A7748E05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D70-AF33-41F4-A240-464D04FB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801-C8B8-4644-B4D9-8030C5CE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0972-9624-46C2-AD2D-7AFCB697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250-D342-4654-AE8A-78878C00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5F43-EADA-45AC-8037-1B453644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058E-CF1A-482A-AC2B-146A0A98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38C-358E-493D-87C0-FF52AB36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D35-185D-454B-8D90-98033FB8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456-A405-4480-AD15-C2060849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6AA9-22E7-4E2F-AC80-6507309CDA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619280" y="58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9.41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mmon types of foundations for building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04_U Kyaw Naing.mp3" descr=""/>
          <p:cNvPicPr/>
          <p:nvPr/>
        </p:nvPicPr>
        <p:blipFill>
          <a:blip r:embed="rId2"/>
          <a:stretch/>
        </p:blipFill>
        <p:spPr>
          <a:xfrm>
            <a:off x="8172360" y="479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29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5:09:50Z</dcterms:created>
  <dc:creator>Administrator</dc:creator>
  <dc:description/>
  <dc:language>en-US</dc:language>
  <cp:lastModifiedBy>ds0929</cp:lastModifiedBy>
  <dcterms:modified xsi:type="dcterms:W3CDTF">2013-06-25T12:12:17Z</dcterms:modified>
  <cp:revision>4</cp:revision>
  <dc:subject/>
  <dc:title>PowerPoint Presentation</dc:title>
</cp:coreProperties>
</file>