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E1212-8DDF-4E1B-AEAF-2BA61A303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93D92-2847-4E75-AF2A-F76B70B9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515F6-DBB4-45F2-8E27-9872AEEE7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66125-B119-4FD5-826B-086C9FA03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56B07-256B-411B-9B8A-4329D858A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16E9A-EEF9-4B92-8617-F61CDF1A8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D3432-214B-4921-AB14-BE2E7045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71204-CFCB-4CAD-BE3E-5179F1B56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0B3BA-E3CA-4225-A4D0-37625AA29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F3452-2D2E-4F0E-B798-AFCD13899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696C9-8568-497E-90E8-80F0793B9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B81D9-4F1F-4F1F-9EEA-AED445668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8975-6E2E-409C-8B2E-B09891A8A29A}"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189000"/>
            <a:ext cx="8569440" cy="16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10.25.2 Plank-and-Beam Fr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n contrast to conventional framing, which utilizes joists, rafters, and studs spaced 12 to 24 in c to c, plank-and-beam frames require fewer but larger-size piers, and wood components are spaced farther apart (Fig. 10.24). In plank-and-beam framing, subfloors or roofs, typically composed of members with a nominal thickness of 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n, are supported on beams spaced 8 ft c to c. Ends of the beams are supported on posts or concrete piers. Supplemental framing is used between posts for attachment of exterior and interior wall framing and finishes. It also provides lateral support or bracing for the structure.</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1332000" y="1851120"/>
            <a:ext cx="4319640" cy="5006880"/>
          </a:xfrm>
          <a:prstGeom prst="rect">
            <a:avLst/>
          </a:prstGeom>
          <a:ln w="0">
            <a:noFill/>
          </a:ln>
        </p:spPr>
      </p:pic>
      <p:sp>
        <p:nvSpPr>
          <p:cNvPr id="43" name="Rectangle 5"/>
          <p:cNvSpPr/>
          <p:nvPr/>
        </p:nvSpPr>
        <p:spPr>
          <a:xfrm>
            <a:off x="5192640" y="3589200"/>
            <a:ext cx="36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10.23    </a:t>
            </a:r>
            <a:r>
              <a:rPr b="0" lang="en-AU" sz="1800" spc="-1" strike="noStrike">
                <a:solidFill>
                  <a:srgbClr val="000000"/>
                </a:solidFill>
                <a:latin typeface="Calibri"/>
              </a:rPr>
              <a:t>Platform fram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two-story building.</a:t>
            </a:r>
            <a:endParaRPr b="0" lang="en-US" sz="1800" spc="-1" strike="noStrike">
              <a:solidFill>
                <a:srgbClr val="000000"/>
              </a:solidFill>
              <a:latin typeface="Calibri"/>
            </a:endParaRPr>
          </a:p>
        </p:txBody>
      </p:sp>
      <p:pic>
        <p:nvPicPr>
          <p:cNvPr id="44" name="001_A_009_U Kyaw Naing.mp3" descr=""/>
          <p:cNvPicPr/>
          <p:nvPr/>
        </p:nvPicPr>
        <p:blipFill>
          <a:blip r:embed="rId2"/>
          <a:stretch/>
        </p:blipFill>
        <p:spPr>
          <a:xfrm>
            <a:off x="766764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131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5:46:59Z</dcterms:created>
  <dc:creator>Administrator</dc:creator>
  <dc:description/>
  <dc:language>en-US</dc:language>
  <cp:lastModifiedBy>ds0929</cp:lastModifiedBy>
  <dcterms:modified xsi:type="dcterms:W3CDTF">2013-06-25T12:15:05Z</dcterms:modified>
  <cp:revision>4</cp:revision>
  <dc:subject/>
  <dc:title>PowerPoint Presentation</dc:title>
</cp:coreProperties>
</file>