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3FF-EFED-4B27-9755-7603F45C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41C-E463-44A2-8955-DF77B09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157-2140-4E51-9842-779AC168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3E7-7EB9-4905-9952-D36BE9E6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8CD-D3F1-4DE6-AC3D-8CD8DDD4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0B8-F80C-4A8F-9F00-DF1291D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9BE-1094-4BDC-AF3C-16C6357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706-7D8A-4888-9369-C3E2F72D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805-3A95-4D5D-AC6E-AEEBF54E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3F8-6914-4F12-81DF-67FEB457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F3B-5508-4F38-80FC-0C28489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4C8-EA52-47D4-8E2C-F141A52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52B5-19F3-430D-B6B2-480D46A3F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4000" y="189000"/>
            <a:ext cx="8640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Calibri"/>
              </a:rPr>
              <a:t>11.44 WINDOW SELE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Distribution and control of daylight, desired vision of outdoors, privacy, venti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ontrol, heat loss, and weather resistance are all-important aspects of good desig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principles. Most building codes require that glass areas be equal to at least 10%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floor area of each room. Nevertheless, it is good practice to provide glass are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excess of 20% and to locate the windows as high in the wall as possible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lengthen the depth of light penetration. Continuous sash or one large opening in 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room provides a more desirable distribution of light than separated narrow window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Either arrangement eliminates the dark areas between opening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Location, type, and size of window are most important for natural ventil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pattern of air movement within a building depends to a great extent on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ngle at which the air enters and leaves. It is desirable, particularly in summer,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direct the flow of air downward and across a room at a low level. However,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ype and location of windows best suited to ventilation may not provide adequate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for admission of light and clear vision, or perhaps proper weather protection.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rrive at a satisfactory relationship, it may be necessary to compromise with the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functional requirem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ile building codes may establish a minimum percentage of glass area, th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likewise may limit the use of glass and also require a fire rating in particul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locations. In hazardous industrial applications subject to explosions, scored glass 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n added precaution for quick release of press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Heat transmittance is of economic importance and can also affect comf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eather stripping or the use of windows with integral frame and trim can minim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ir infiltration. Double glazing or heat-absorbing glazing makes large glass are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feasible by materially reducing heat transmittance. Solar heating may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y placement of glass areas so that the rays of the sun can be admitted during th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in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5_U Kyaw Naing.mp3" descr=""/>
          <p:cNvPicPr/>
          <p:nvPr/>
        </p:nvPicPr>
        <p:blipFill>
          <a:blip r:embed="rId1"/>
          <a:stretch/>
        </p:blipFill>
        <p:spPr>
          <a:xfrm>
            <a:off x="795672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0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51:30Z</dcterms:created>
  <dc:creator>Administrator</dc:creator>
  <dc:description/>
  <dc:language>en-US</dc:language>
  <cp:lastModifiedBy>ds0929</cp:lastModifiedBy>
  <dcterms:modified xsi:type="dcterms:W3CDTF">2013-06-25T12:23:31Z</dcterms:modified>
  <cp:revision>4</cp:revision>
  <dc:subject/>
  <dc:title>PowerPoint Presentation</dc:title>
</cp:coreProperties>
</file>