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4A5D-B09D-45CC-A897-F02E083AF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AF44-40AB-4C8E-BEA0-F9E0B002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4A93-67DE-4B98-BFC6-6811429A6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4BA3-7F98-42BC-B835-EA502EDCA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548B-0E69-4520-856A-E48A0D96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9444-6629-45F7-BCD0-4C53918A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2A04-2A76-48E6-A42E-1DA66AE3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31FE-5D8C-4B82-8255-5972F028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8FBC-A18C-47B6-A733-5AFB3C77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1228-2797-4990-9CF7-B5F79D2A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B6B4-9604-4D31-8334-D17B121E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B972-927E-49ED-AFC0-1336CE24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2148-7B24-45ED-8A56-209DC38235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50920" y="18900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0000"/>
                </a:solidFill>
                <a:latin typeface="Calibri"/>
              </a:rPr>
              <a:t>10.24 TIMBER DEC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ood decking used for floor and roof construction may be sawn lumber with nomi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ickness of 2, 3, or 4 in or glued-lamina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826920" y="1353960"/>
            <a:ext cx="5113440" cy="38163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4460760" y="4721400"/>
            <a:ext cx="4572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FIGURE 10.20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Crown connections for arches: (</a:t>
            </a: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) for arches with slope of 4:12 or greater, the connection consists of pairs of back-to-back shear plates with throug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bolts or threaded rods counterbored into the arch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) for arches with flatter slopes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hear plates centered on a dowel may be used in conjunction with tie plates an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through bolts; (</a:t>
            </a: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) and (</a:t>
            </a: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) hinge at crow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001_A_008_U Kyaw Naing.mp3" descr=""/>
          <p:cNvPicPr/>
          <p:nvPr/>
        </p:nvPicPr>
        <p:blipFill>
          <a:blip r:embed="rId2"/>
          <a:stretch/>
        </p:blipFill>
        <p:spPr>
          <a:xfrm>
            <a:off x="2556000" y="6165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39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05:42:06Z</dcterms:created>
  <dc:creator>Administrator</dc:creator>
  <dc:description/>
  <dc:language>en-US</dc:language>
  <cp:lastModifiedBy>ds0929</cp:lastModifiedBy>
  <dcterms:modified xsi:type="dcterms:W3CDTF">2013-06-25T12:14:41Z</dcterms:modified>
  <cp:revision>4</cp:revision>
  <dc:subject/>
  <dc:title>PowerPoint Presentation</dc:title>
</cp:coreProperties>
</file>