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6BF-640D-40A0-813A-D7D47934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2B2-7725-4B92-9A0F-91723F36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361-1848-40C4-9701-5230E16D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0FB-0957-41FC-AEC9-2DF845A3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EBC-878B-4D01-BA90-2A04A88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022-E68C-47F5-9D55-92713B61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41E-B6B8-45B1-9F11-BB1E2938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CCAA-76A8-4F0B-BFEF-45C6EA7F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B29-C1C5-4749-9F53-A8D3D643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B3C-C90E-4AAE-BD28-43FEB5A4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581-A33D-428F-B1FD-C85EDB1B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782-00BE-4D3A-9908-64A8DC15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EF9E-6362-42F2-899C-9F6BC33E81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5151600" cy="3889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332000" y="50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2.10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oman tile application at hip and ridge of a roo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32_U Kyaw Naing.mp3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79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7:11:34Z</dcterms:created>
  <dc:creator>Administrator</dc:creator>
  <dc:description/>
  <dc:language>en-US</dc:language>
  <cp:lastModifiedBy>ds0929</cp:lastModifiedBy>
  <dcterms:modified xsi:type="dcterms:W3CDTF">2013-06-25T12:26:33Z</dcterms:modified>
  <cp:revision>3</cp:revision>
  <dc:subject/>
  <dc:title>PowerPoint Presentation</dc:title>
</cp:coreProperties>
</file>