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29E-83A2-486E-8C9C-BF3C5AD6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656-1A89-4B26-A2F8-DD149D0B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543-D53B-419C-92FB-6911622B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5B6-EEF3-4948-BEFF-D0C9D974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0F8-37C6-49EF-B01E-E06F0E4D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8C2-D779-43A5-94B3-57557BEF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C0A-FF2C-45BD-B97A-CCF5670F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4BF-027A-4318-A712-DC5A6AD5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147-2434-463A-8215-337C4619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8CA-D8C0-4437-BAE0-D3146065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CB3-0DAF-4F07-A2A9-00148202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8A3-1D9D-422C-B11B-EA056FC4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A41F-058F-4636-99D1-3CE33EE927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403280" y="306360"/>
            <a:ext cx="3867120" cy="62578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10_U Kyaw Naing.mp3" descr=""/>
          <p:cNvPicPr/>
          <p:nvPr/>
        </p:nvPicPr>
        <p:blipFill>
          <a:blip r:embed="rId2"/>
          <a:stretch/>
        </p:blipFill>
        <p:spPr>
          <a:xfrm>
            <a:off x="7164360" y="429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5:52:05Z</dcterms:created>
  <dc:creator>Administrator</dc:creator>
  <dc:description/>
  <dc:language>en-US</dc:language>
  <cp:lastModifiedBy>ds0929</cp:lastModifiedBy>
  <dcterms:modified xsi:type="dcterms:W3CDTF">2013-06-25T12:15:42Z</dcterms:modified>
  <cp:revision>5</cp:revision>
  <dc:subject/>
  <dc:title>PowerPoint Presentation</dc:title>
</cp:coreProperties>
</file>