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1B7-B264-4426-9B4B-10C69267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965-AC8A-46F7-852C-4B1E4E50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D7E1-7CCB-4B73-AFCE-5EB38C56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A87-9BEC-4317-8808-49CB6DD9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3E9-020B-490A-8699-924194B2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E72-3331-4E58-B49A-A9646452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A9D-7A14-42AB-8C62-CE3AAF94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F971-81B2-428E-AF26-103BDB26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79C-FEAB-47B9-98CF-8A6CB91D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6E8-8ED2-4A0E-9F65-ADD23B76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1BB-8F9C-4317-90D9-0F3631DF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FC75-2C24-4647-AB27-BF847DBC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4B1E-487C-4E69-9E92-248E290091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800360" y="295200"/>
            <a:ext cx="540072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411280" y="5595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0.26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ypes of glued-laminated bea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3_U Kyaw Naing.mp3" descr=""/>
          <p:cNvPicPr/>
          <p:nvPr/>
        </p:nvPicPr>
        <p:blipFill>
          <a:blip r:embed="rId2"/>
          <a:stretch/>
        </p:blipFill>
        <p:spPr>
          <a:xfrm>
            <a:off x="795672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86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06:45Z</dcterms:created>
  <dc:creator>Administrator</dc:creator>
  <dc:description/>
  <dc:language>en-US</dc:language>
  <cp:lastModifiedBy>ds0929</cp:lastModifiedBy>
  <dcterms:modified xsi:type="dcterms:W3CDTF">2013-06-25T12:17:24Z</dcterms:modified>
  <cp:revision>3</cp:revision>
  <dc:subject/>
  <dc:title>PowerPoint Presentation</dc:title>
</cp:coreProperties>
</file>