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7F7AA-16C2-4CDB-81E3-776E2A577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4CE3F-BB2F-4924-A4E2-723726FDB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DBB80-8F0D-4214-82E1-8A2427A77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F22C9-B13F-4C5F-9DF7-20E8C4CB8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3868-B6F3-469D-B1AD-495ED8F3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19F9-4A1C-4C1C-A56D-B16E0A23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D1B26-1212-42D8-8E32-55B619DDC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1503B-3522-467B-9BB3-8521D31E8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E6ED-4AF1-4AF3-8CE6-5577E82F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418D-8376-40F0-9C4B-672FFE1F2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66D73-2E06-446F-BC5C-DB10D11B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6A80-A8CD-4B17-A065-62569869E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AC1AE-E43B-4661-92C3-D46316898AD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68360" y="115920"/>
            <a:ext cx="842472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10.21   GLUED FASTEN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Glued  joints  are  generally  made  between  two  pieces  of  wood  where  the  grain directions are parallel (as between the laminations of a beam or arch). Or such joints may be between solid-sawn or laminated timber and plywood, where the face grain of the plywood is either parallel or at right angles to the grain direction of the timber.</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only in special cases that lumber may be glued with the grain direction of adjacent pieces at an angle. When the angle is large, dimensional changes caused by variations in wood moisture content set up large stresses in the glued joint. Consequently, the strength of the joint may be considerably reduced over a period of time. Exact data are not available, however, on the magnitude of this expected strength reduction.</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971640" y="2349360"/>
            <a:ext cx="5543640" cy="1803600"/>
          </a:xfrm>
          <a:prstGeom prst="rect">
            <a:avLst/>
          </a:prstGeom>
          <a:ln w="0">
            <a:noFill/>
          </a:ln>
        </p:spPr>
      </p:pic>
      <p:pic>
        <p:nvPicPr>
          <p:cNvPr id="43" name="Picture 5" descr=""/>
          <p:cNvPicPr/>
          <p:nvPr/>
        </p:nvPicPr>
        <p:blipFill>
          <a:blip r:embed="rId2"/>
          <a:stretch/>
        </p:blipFill>
        <p:spPr>
          <a:xfrm>
            <a:off x="1035000" y="4152960"/>
            <a:ext cx="5265720" cy="2012760"/>
          </a:xfrm>
          <a:prstGeom prst="rect">
            <a:avLst/>
          </a:prstGeom>
          <a:ln w="0">
            <a:noFill/>
          </a:ln>
        </p:spPr>
      </p:pic>
      <p:pic>
        <p:nvPicPr>
          <p:cNvPr id="44" name="001_A_006_U Kyaw Naing.mp3" descr=""/>
          <p:cNvPicPr/>
          <p:nvPr/>
        </p:nvPicPr>
        <p:blipFill>
          <a:blip r:embed="rId3"/>
          <a:stretch/>
        </p:blipFill>
        <p:spPr>
          <a:xfrm>
            <a:off x="7885080" y="465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305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5:36:12Z</dcterms:created>
  <dc:creator>Administrator</dc:creator>
  <dc:description/>
  <dc:language>en-US</dc:language>
  <cp:lastModifiedBy>ds0929</cp:lastModifiedBy>
  <dcterms:modified xsi:type="dcterms:W3CDTF">2013-06-25T12:13:09Z</dcterms:modified>
  <cp:revision>4</cp:revision>
  <dc:subject/>
  <dc:title>PowerPoint Presentation</dc:title>
</cp:coreProperties>
</file>