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E64-F467-45FA-83B4-A3236C08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60D-DBAC-45CA-8EA9-B8A4DBF8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261-AC27-457A-98C2-6F8EFE31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677-8948-464A-A5CA-A94677F8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D06-50BA-4B2E-9F91-9C6C7268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05D-68FD-43DB-9917-0BCCE977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FFD-DFE6-449D-BABC-36D24F83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0FD-A692-4305-980D-67F16926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4B3-2CA1-4C42-981A-DD831248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907-A970-4651-B5D3-08CD079C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FE1-F11A-40B2-B08F-EED3D01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830-C634-49F2-9475-E56311AE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0AA6-2E45-4B36-B58D-798F36D00A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87280" y="266760"/>
            <a:ext cx="5977080" cy="5249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427120" y="5732640"/>
            <a:ext cx="30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1.35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lazing detai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7_U Kyaw Naing.mp3" descr=""/>
          <p:cNvPicPr/>
          <p:nvPr/>
        </p:nvPicPr>
        <p:blipFill>
          <a:blip r:embed="rId2"/>
          <a:stretch/>
        </p:blipFill>
        <p:spPr>
          <a:xfrm>
            <a:off x="810108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53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1657440" cy="2170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3068280" y="1305000"/>
            <a:ext cx="44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1.48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sychiatric projected wind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1081080" y="2781360"/>
            <a:ext cx="1690560" cy="2232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132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  11.49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uard-type   detention   win- 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10840" y="544500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1.51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esidence casement wind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647640" y="249120"/>
            <a:ext cx="1800360" cy="201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18456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   11.52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ermediate    combination wind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726920" cy="2089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430440" y="2781360"/>
            <a:ext cx="32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1.54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wning wind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826920" y="4602240"/>
            <a:ext cx="1729080" cy="2084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3132000" y="5303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 11.53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ermediate  casement  win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o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55:14Z</dcterms:created>
  <dc:creator>Administrator</dc:creator>
  <dc:description/>
  <dc:language>en-US</dc:language>
  <cp:lastModifiedBy>ds0929</cp:lastModifiedBy>
  <dcterms:modified xsi:type="dcterms:W3CDTF">2013-06-25T12:24:27Z</dcterms:modified>
  <cp:revision>3</cp:revision>
  <dc:subject/>
  <dc:title>PowerPoint Presentation</dc:title>
</cp:coreProperties>
</file>