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81D-EF52-403A-A4B8-10B011F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571-E615-4ACF-9F0F-EF7FCEC8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27F-5251-454A-984C-828DEACB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ECE-E6F4-48EC-BB8A-BED864D5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F24-25BB-4087-AE48-251209B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622-6530-4EB7-AF00-4C84E283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B74-AB35-4C52-B0B8-192E4F15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E1A-4213-4FFE-AD69-EC58A04E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7AD-D4D2-44AB-8B16-2AA4574B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71B-319F-42DC-8D13-97F1F456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E14-ECB4-4112-B58B-70C237C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C88-902A-4ADA-8441-28846D45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E3E-587B-4836-8F57-20C5E21CB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619308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755640" y="5157720"/>
            <a:ext cx="7848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11.15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Top lef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First step in installation of a glass-block panel is to coat the sill with an asphalt emulsion to allow for movement due to temperature changes. Continuous expansion strips are installed at side and head jambs.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Top righ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Blocks are set with full mortar joints.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ottom lef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Welded-wire ties are embedded in the mortar to reinforce the panel.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ottom right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After all the blocks are placed, joints tooled to a smooth, concave finish, and the edges of the panel calked, the blocks are clean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8_U Kyaw Naing.mp3" descr=""/>
          <p:cNvPicPr/>
          <p:nvPr/>
        </p:nvPicPr>
        <p:blipFill>
          <a:blip r:embed="rId2"/>
          <a:stretch/>
        </p:blipFill>
        <p:spPr>
          <a:xfrm>
            <a:off x="810108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31:50Z</dcterms:created>
  <dc:creator>Administrator</dc:creator>
  <dc:description/>
  <dc:language>en-US</dc:language>
  <cp:lastModifiedBy>ds0929</cp:lastModifiedBy>
  <dcterms:modified xsi:type="dcterms:W3CDTF">2013-06-25T12:20:06Z</dcterms:modified>
  <cp:revision>4</cp:revision>
  <dc:subject/>
  <dc:title>PowerPoint Presentation</dc:title>
</cp:coreProperties>
</file>