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01700-54CA-4FC6-AD6E-0FAFEB682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D0C3F-943C-4784-94F3-87B36F090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BF61C-6A4A-4720-B41B-3F31C4740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BE12D-95CF-4DC9-BD1B-E50865454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83E63-F995-4474-87CB-6705A2A4C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56EDB-2618-431A-B6A0-52282C9E9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F4E9B-8B7F-41B5-8A8D-C2B6F08C9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A971E-8FAD-496B-9389-25628ADB7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DDCCA-9F17-4E27-8DA8-4527CFA02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53F88-FD12-4EE4-8231-2814A5634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180E8-E17D-4BF5-AB33-709572B22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8B282-0FDB-424F-908F-1F08C93FC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8B36-046B-4440-BBF9-C2DBDBFDD189}"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395280" y="260280"/>
            <a:ext cx="849780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Calibri"/>
              </a:rPr>
              <a:t>12.3   ROOF INSUL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Many of the insulation products described in the following are available in tapered configuration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Cellular glass </a:t>
            </a:r>
            <a:r>
              <a:rPr b="0" lang="en-AU" sz="1600" spc="-1" strike="noStrike">
                <a:solidFill>
                  <a:srgbClr val="000000"/>
                </a:solidFill>
                <a:latin typeface="Calibri"/>
              </a:rPr>
              <a:t>is a rigid insulation composed of heat-fused closed glass cell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Cellulosic fibers </a:t>
            </a:r>
            <a:r>
              <a:rPr b="0" lang="en-AU" sz="1600" spc="-1" strike="noStrike">
                <a:solidFill>
                  <a:srgbClr val="000000"/>
                </a:solidFill>
                <a:latin typeface="Calibri"/>
              </a:rPr>
              <a:t>are generally used as loose-fill insulation. They are made of recycled paper.</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Glass-fiber batts </a:t>
            </a:r>
            <a:r>
              <a:rPr b="0" lang="en-AU" sz="1600" spc="-1" strike="noStrike">
                <a:solidFill>
                  <a:srgbClr val="000000"/>
                </a:solidFill>
                <a:latin typeface="Calibri"/>
              </a:rPr>
              <a:t>or blankets (the only difference being the length of the prod- uct) are composed of glass fibers and a binding agent. The batts may be finished on one side with a kraft paper or aluminum-foil facer, or they may be left unfac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Glass-fiber board </a:t>
            </a:r>
            <a:r>
              <a:rPr b="0" lang="en-AU" sz="1600" spc="-1" strike="noStrike">
                <a:solidFill>
                  <a:srgbClr val="000000"/>
                </a:solidFill>
                <a:latin typeface="Calibri"/>
              </a:rPr>
              <a:t>is a rigid insulation composed of glass fibers and a binding agent and is faced on the top surface with kraft paper.</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Mineral-wool batts </a:t>
            </a:r>
            <a:r>
              <a:rPr b="0" lang="en-AU" sz="1600" spc="-1" strike="noStrike">
                <a:solidFill>
                  <a:srgbClr val="000000"/>
                </a:solidFill>
                <a:latin typeface="Calibri"/>
              </a:rPr>
              <a:t>are similar to glass-fiber batts, except that they are com- posed of mineral fibers (produced from molten rock). Mineral-wool batts have high resistance to heat. Typically, they are used for fire-safing; for example, curtain walls or sealing at fire wall or floor penetrations, or steel fireproofing. Mineral batts are typically  not used for roofing, except for insulating  seismic joints or expansion joints, where enhanced fire resistance is desir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Mineral-wool board </a:t>
            </a:r>
            <a:r>
              <a:rPr b="0" lang="en-AU" sz="1600" spc="-1" strike="noStrike">
                <a:solidFill>
                  <a:srgbClr val="000000"/>
                </a:solidFill>
                <a:latin typeface="Calibri"/>
              </a:rPr>
              <a:t>is a rigid insulation similar to glass fiber boards except that it is composed of mineral fibers (produced from molten rock). These boards are available faced or unfaced with aluminum foil.</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Perlite </a:t>
            </a:r>
            <a:r>
              <a:rPr b="0" lang="en-AU" sz="1600" spc="-1" strike="noStrike">
                <a:solidFill>
                  <a:srgbClr val="000000"/>
                </a:solidFill>
                <a:latin typeface="Calibri"/>
              </a:rPr>
              <a:t>rigid insulation is composed of expanded perlite, cellulose, and a binding agen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Phenolic resin </a:t>
            </a:r>
            <a:r>
              <a:rPr b="0" lang="en-AU" sz="1600" spc="-1" strike="noStrike">
                <a:solidFill>
                  <a:srgbClr val="000000"/>
                </a:solidFill>
                <a:latin typeface="Calibri"/>
              </a:rPr>
              <a:t>has been formed into a rigid, plastic-foam insulation. It is no longer produced in the United States. It should be noted that phenolic insulation has shown a high potential for causing steel deck corrosion, and in some instances, the structural integrity of the roof deck has been impaired. Deck repair or replace- ment should be anticipated where phenolic insulation over a steel deck exists.</a:t>
            </a:r>
            <a:endParaRPr b="0" lang="en-US" sz="1600" spc="-1" strike="noStrike">
              <a:solidFill>
                <a:srgbClr val="000000"/>
              </a:solidFill>
              <a:latin typeface="Calibri"/>
            </a:endParaRPr>
          </a:p>
        </p:txBody>
      </p:sp>
      <p:pic>
        <p:nvPicPr>
          <p:cNvPr id="42" name="001_A_030_U Kyaw Naing.mp3" descr=""/>
          <p:cNvPicPr/>
          <p:nvPr/>
        </p:nvPicPr>
        <p:blipFill>
          <a:blip r:embed="rId1"/>
          <a:stretch/>
        </p:blipFill>
        <p:spPr>
          <a:xfrm>
            <a:off x="7812000" y="6165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32096"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07:07:59Z</dcterms:created>
  <dc:creator>Administrator</dc:creator>
  <dc:description/>
  <dc:language>en-US</dc:language>
  <cp:lastModifiedBy>ds0929</cp:lastModifiedBy>
  <dcterms:modified xsi:type="dcterms:W3CDTF">2013-06-25T12:25:38Z</dcterms:modified>
  <cp:revision>3</cp:revision>
  <dc:subject/>
  <dc:title>PowerPoint Presentation</dc:title>
</cp:coreProperties>
</file>