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985F-38A1-4712-B5C1-D27CF2C0F7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8A25-3F81-48D3-AAC7-6083CA36D4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281-FC0A-4052-A79C-899E6B20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556-34AF-4F41-8415-B1B5ACC5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40F-F122-4380-B810-55323FE6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CCF-EE9D-41C0-A602-10DD01EC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0DF-789E-4526-AEB9-2C9BF52E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1F1-54B7-49A9-B034-4A6DFDCB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242-227F-4552-9FE2-0EFD7E29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5CC-F881-441B-95A7-0701DCC3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B9E-4366-461A-8EBA-2C1DD6BE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EB3-45ED-4C71-844F-0D3476CC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109-5202-494E-861C-02C36A34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380-6DAE-489B-B42C-0EC6221A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C099-D1C4-460B-B573-04DBC55E7A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826920" y="260280"/>
            <a:ext cx="777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LOOR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 proper selection of floor systems, designers should take into account 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actors, including use of lightweight-concrete slabs, subfloors in direct contact with the ground, radiant heating, air conditioning, possible necessity for decontamination, dustlessness, traffic loads, and maintenance costs-all of which have an important bearing on floor selection. Consideration should be given to current standards of styling, comfort, color, and quietne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primary consideration of the designer of a flooring system is to select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loor covering that can meet the maximum standards at reasonable cost. To avo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dissatisfaction that would arise from failure to select the proper flooring, designers must consider all the factors relevant to flooring sele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001_A_024_U Kyaw Naing.mp3" descr=""/>
          <p:cNvPicPr/>
          <p:nvPr/>
        </p:nvPicPr>
        <p:blipFill>
          <a:blip r:embed="rId1"/>
          <a:stretch/>
        </p:blipFill>
        <p:spPr>
          <a:xfrm>
            <a:off x="6804000" y="551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257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50:00Z</dcterms:created>
  <dc:creator>Administrator</dc:creator>
  <dc:description/>
  <dc:language>en-US</dc:language>
  <cp:lastModifiedBy>ds0929</cp:lastModifiedBy>
  <dcterms:modified xsi:type="dcterms:W3CDTF">2013-06-25T12:23:05Z</dcterms:modified>
  <cp:revision>5</cp:revision>
  <dc:subject/>
  <dc:title>PowerPoint Presentation</dc:title>
</cp:coreProperties>
</file>