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F9D992-382A-4D9E-A66B-F0200B174B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98699-6BC6-475E-B58F-5CDFAC0E5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E2FBBF-84ED-4998-9737-BD2EAB07F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4ABBEE-C6F1-4658-836D-7F013AEF2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E6A72-A3AB-4A36-9DBA-9D8590F8D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AC8E2-C7F1-4113-91B4-E6DAACC3D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20C60-2763-43B4-B678-5D017AA67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09FE4-75A5-4606-9FA9-DB18D9889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6FE87-EE10-46DC-964F-9795D85CD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3538E-BC70-45D0-8C86-5CA9F9467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B8B1F-AF59-4903-AC61-F0A7E0CDA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73DAA-311E-42FA-A3A4-FFC31E2A45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883BB-2F1A-434A-B859-5CA6B83FC717}"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1127160" y="549360"/>
            <a:ext cx="667872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10.29.1   Fabrication of Structural Timb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Fabrication consists of boring, cutting, sawing, trimming, dapping, routing, planing, and otherwise shaping, framing, and finishing wood units, sawn or laminated, in- cluding panels, to fit them for particular places in a final structure. Whether fabri- cation is performed in shop or field, the product must exhibit a high quality of workmanshi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Jigs, patterns, templates, stops, or other suitable means should be used for all complicated and multiple assemblies to ensure accuracy, uniformity, and control of all  dimensions. All tolerances in cutting, drilling, and framing must comply with good practice and applicable specifications and controls. At the time of fabrication, tolerances must not exceed those listed below, unless they are not critical and not required for proper performance. Specific jobs, however, may require closer toler- anc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Calibri"/>
              </a:rPr>
              <a:t>Location  of  Fastenings.    </a:t>
            </a:r>
            <a:r>
              <a:rPr b="0" lang="en-AU" sz="1800" spc="-1" strike="noStrike">
                <a:solidFill>
                  <a:srgbClr val="000000"/>
                </a:solidFill>
                <a:latin typeface="Calibri"/>
              </a:rPr>
              <a:t>Spacing  and  location  of  all  fastenings  within  a joint should be in accordance with the shop drawings and specifications, with a maxi- mum permissible tolerance of ±1⁄16   in. The fabrication of members assembled at any joint should be such that the fastenings are properly fitted.</a:t>
            </a:r>
            <a:endParaRPr b="0" lang="en-US" sz="1800" spc="-1" strike="noStrike">
              <a:solidFill>
                <a:srgbClr val="000000"/>
              </a:solidFill>
              <a:latin typeface="Calibri"/>
            </a:endParaRPr>
          </a:p>
        </p:txBody>
      </p:sp>
      <p:pic>
        <p:nvPicPr>
          <p:cNvPr id="42" name="001_A_012_U Kyaw Naing.mp3" descr=""/>
          <p:cNvPicPr/>
          <p:nvPr/>
        </p:nvPicPr>
        <p:blipFill>
          <a:blip r:embed="rId1"/>
          <a:stretch/>
        </p:blipFill>
        <p:spPr>
          <a:xfrm>
            <a:off x="8101080" y="4869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36224"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755640" y="260280"/>
            <a:ext cx="79200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Calibri"/>
              </a:rPr>
              <a:t>Bolt-Hole Sizes.    </a:t>
            </a:r>
            <a:r>
              <a:rPr b="0" lang="en-AU" sz="1800" spc="-1" strike="noStrike">
                <a:solidFill>
                  <a:srgbClr val="000000"/>
                </a:solidFill>
                <a:latin typeface="Calibri"/>
              </a:rPr>
              <a:t>Bolt holes in all fabricated structural timber, when loaded as a structural joint, should be 1⁄16 in larger in diameter than bolt diameter for 1⁄2-in and larger-diameter bolts, and 1⁄32 in larger for smaller-diameter bolts. Larger clearances may be required for other bolts, such as anchor bolts and tension rod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Calibri"/>
              </a:rPr>
              <a:t>Holes and Grooves.    </a:t>
            </a:r>
            <a:r>
              <a:rPr b="0" lang="en-AU" sz="1800" spc="-1" strike="noStrike">
                <a:solidFill>
                  <a:srgbClr val="000000"/>
                </a:solidFill>
                <a:latin typeface="Calibri"/>
              </a:rPr>
              <a:t>Holes for stress-carrying bolts, connector grooves, and con- nector daps must be smooth and true within 1⁄16  in per 12 in of depth. The width of a split-ring connector groove should be within +0.02 in of and not less than the thickness of the corresponding cross section of the ring. The shape of ring grooves must conform generally to the cross-sectional shape of the ring. Departure from these requirements may be allowed when supported by test data. Drills and other cutting  tools  should  be  set  to  conform  to  the  size,  shape,  and  depth  of  holes, grooves, daps, etc., specified in the ‘‘National Design Specification for Wood Con- struction,’’ American Forest &amp; Paper Associat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Calibri"/>
              </a:rPr>
              <a:t>Lengths.    </a:t>
            </a:r>
            <a:r>
              <a:rPr b="0" lang="en-AU" sz="1800" spc="-1" strike="noStrike">
                <a:solidFill>
                  <a:srgbClr val="000000"/>
                </a:solidFill>
                <a:latin typeface="Calibri"/>
              </a:rPr>
              <a:t>Members should be cut within ±1⁄16  in of the indicated dimension when they are up to 20 ft long, and ±1⁄16  in per 20 ft of specified length when they are over 20 ft long. Where length dimensions are not specified or critical, these toler- ances may be waiv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0T06:04:38Z</dcterms:created>
  <dc:creator>Administrator</dc:creator>
  <dc:description/>
  <dc:language>en-US</dc:language>
  <cp:lastModifiedBy>ds0929</cp:lastModifiedBy>
  <dcterms:modified xsi:type="dcterms:W3CDTF">2013-06-25T12:16:41Z</dcterms:modified>
  <cp:revision>4</cp:revision>
  <dc:subject/>
  <dc:title>PowerPoint Presentation</dc:title>
</cp:coreProperties>
</file>