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51D7-5008-432B-B7AA-63ACF63F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983A-B344-4F5C-A910-2F32C5E2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5D99-1C61-4D63-A785-DBE184343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F14A-99A6-4F75-9AF7-6B8476728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37F5-802C-4038-8331-9D6D4338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D47D-C9E8-48B4-B132-E37C868F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1E33-60B4-47F3-A49E-1F226F68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8AEF-B4EE-445F-9401-70CE88B8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02CC-4D12-43F8-BC2B-85131330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A122-77E2-4F7F-8BAF-FFB49673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B2CC-B7D3-4C9E-ACF1-687D95C5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58A5-3340-4A72-B368-89C6D6D2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3096-AD95-4714-B703-3B0B51579A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33280" y="0"/>
            <a:ext cx="8677440" cy="7210440"/>
          </a:xfrm>
          <a:prstGeom prst="rect">
            <a:avLst/>
          </a:prstGeom>
          <a:ln w="0">
            <a:noFill/>
          </a:ln>
        </p:spPr>
      </p:pic>
      <p:pic>
        <p:nvPicPr>
          <p:cNvPr id="42" name="001_A_049_U Kyaw Naing.mp3" descr=""/>
          <p:cNvPicPr/>
          <p:nvPr/>
        </p:nvPicPr>
        <p:blipFill>
          <a:blip r:embed="rId2"/>
          <a:stretch/>
        </p:blipFill>
        <p:spPr>
          <a:xfrm>
            <a:off x="8604360" y="5157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8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37:28Z</dcterms:created>
  <dc:creator>ukyawnaing</dc:creator>
  <dc:description/>
  <dc:language>en-US</dc:language>
  <cp:lastModifiedBy>ds0929</cp:lastModifiedBy>
  <dcterms:modified xsi:type="dcterms:W3CDTF">2013-06-25T15:00:18Z</dcterms:modified>
  <cp:revision>2</cp:revision>
  <dc:subject/>
  <dc:title>Slide 1</dc:title>
</cp:coreProperties>
</file>