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5B6-C497-4BB5-8751-591B40F7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09E-F338-4D41-9F35-B62587B7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436-362A-41D6-8D25-4F62FB8B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CA5-CBE4-4320-A397-74F1D641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E3C-5BCE-4422-9C53-7833E51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62C-EE23-4661-98F0-B1DD4F6F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9CB-9D4F-4733-AEAB-376AB790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238-92B5-43CB-A412-7B71F563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280-0E90-477C-880B-23A868E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9D1-3B09-4385-8194-FC7C186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BD4-45DC-483D-81B9-4334D960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39E-0355-4292-AAF4-713E194A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B5F0-049F-4A04-B3FB-E0A61FA08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8459640" y="4797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49:32Z</dcterms:created>
  <dc:creator>ukyawnaing</dc:creator>
  <dc:description/>
  <dc:language>en-US</dc:language>
  <cp:lastModifiedBy>ds0929</cp:lastModifiedBy>
  <dcterms:modified xsi:type="dcterms:W3CDTF">2013-06-25T14:43:18Z</dcterms:modified>
  <cp:revision>2</cp:revision>
  <dc:subject/>
  <dc:title>Slide 1</dc:title>
</cp:coreProperties>
</file>