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3B4-CB51-48A6-A42E-0FF9ADE6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3D3-D702-4E65-9E37-34224FF1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486-1EF9-4320-98C9-D84A958D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F52-BF60-4640-80C7-E3D0DCA7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DAA-CFA9-47E5-B945-F32DED9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403-821B-463C-A7D9-E0F74D41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3C1-ACC7-4DDF-886A-FDBE098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49D-FB79-470A-8EA4-F75B746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E1A-2604-46B2-894F-E587ADD1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FCF-3A47-4A15-A9AE-9487D42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A95-9D97-4882-90AB-7618B8B5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01C-15B1-41A7-8CA1-F2C4E5AD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4B29-7684-44AD-B311-3C1EE422E4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5246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6_U Kyaw Naing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77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11:36Z</dcterms:created>
  <dc:creator>ukyawnaing</dc:creator>
  <dc:description/>
  <dc:language>en-US</dc:language>
  <cp:lastModifiedBy>ds0929</cp:lastModifiedBy>
  <dcterms:modified xsi:type="dcterms:W3CDTF">2013-06-25T14:50:10Z</dcterms:modified>
  <cp:revision>2</cp:revision>
  <dc:subject/>
  <dc:title>Slide 1</dc:title>
</cp:coreProperties>
</file>