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7EE3-A568-4147-9FE9-E8FDECC5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EC5D-1FC8-45BB-AEAA-CF9C515A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156F-B5CF-4D31-9BD9-20F830B9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B3C0-E595-4A51-8707-85A4B7E6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227E-54B7-41EC-8817-E66C261B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911-6709-4314-BEDE-DAD34FB8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051-63BA-4475-9192-C3726D1A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5992-AF26-408C-A7CD-B7256FCF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BBB-3476-45D7-9204-78A8E941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4B7-7E00-4893-A1C2-BB467CA9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100-2927-4289-83EA-B6C0AC40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5AE-D5C0-4862-9DEF-5C4726C4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AE61-3BD5-4144-8EC1-94D0982732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440" y="765000"/>
            <a:ext cx="9145440" cy="5256360"/>
          </a:xfrm>
          <a:prstGeom prst="rect">
            <a:avLst/>
          </a:prstGeom>
          <a:ln w="0">
            <a:noFill/>
          </a:ln>
        </p:spPr>
      </p:pic>
      <p:pic>
        <p:nvPicPr>
          <p:cNvPr id="42" name="001_A_031_U Kyaw Naing.mp3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23800"/>
            <a:ext cx="904572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18:39Z</dcterms:created>
  <dc:creator>ukyawnaing</dc:creator>
  <dc:description/>
  <dc:language>en-US</dc:language>
  <cp:lastModifiedBy>ds0929</cp:lastModifiedBy>
  <dcterms:modified xsi:type="dcterms:W3CDTF">2013-06-25T14:52:13Z</dcterms:modified>
  <cp:revision>2</cp:revision>
  <dc:subject/>
  <dc:title>Slide 1</dc:title>
</cp:coreProperties>
</file>