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76E-567C-4BD6-BF24-B514DC6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435-481D-421B-AFB9-5CDC2E5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876-DBAE-405D-BBD4-76DA8049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EB2-BBA2-4A78-9809-8EB0FB2F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189-B57F-4248-8840-6D72D11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2DC-9DB9-4AAB-9CFE-DF7DC7DA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AE0-D09A-4B67-BAD6-DE2D87C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C86-0AC8-40F5-82DE-AA2A63A5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EE9-6839-4AC4-B730-E81A270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B57-F444-4E6D-9A26-6241EFA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CC7-C5E9-49A3-B6AE-A9101F11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5BE-0452-4DE2-B0F0-847B81A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7FD-AA53-4D6D-AA36-FC41DFA825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820000" cy="30909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2_U Kyaw Naing.mp3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20:39Z</dcterms:created>
  <dc:creator>ukyawnaing</dc:creator>
  <dc:description/>
  <dc:language>en-US</dc:language>
  <cp:lastModifiedBy>ds0929</cp:lastModifiedBy>
  <dcterms:modified xsi:type="dcterms:W3CDTF">2013-06-25T14:52:39Z</dcterms:modified>
  <cp:revision>2</cp:revision>
  <dc:subject/>
  <dc:title>Slide 1</dc:title>
</cp:coreProperties>
</file>