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47CE-8D11-4E2D-AE3B-2001B6D90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8153-A007-4237-BB7D-463382E49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0DAD-7D78-43AC-BEA6-D11B2CB7D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3BFE-FA6E-4004-85D5-FD2B2274A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3D2E-CC69-44CE-A6DA-84C13D03E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E54C-6638-4130-AB27-9A7071E95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B01D-C851-4B6F-A1CC-0B2FF43EE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EA4E-E860-4DCF-92F7-EF1B23A47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81C9-4470-4CC7-8780-00984DC1B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4EDF-4F0E-4298-8878-BF6F7660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1434-F5C2-44C8-9705-35F6A53E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F19D-A89D-4339-9FC0-850A2490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08C0F-CD54-4511-B3B3-9007D70D12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8064360" cy="6597720"/>
          </a:xfrm>
          <a:prstGeom prst="rect">
            <a:avLst/>
          </a:prstGeom>
          <a:ln w="0">
            <a:noFill/>
          </a:ln>
        </p:spPr>
      </p:pic>
      <p:pic>
        <p:nvPicPr>
          <p:cNvPr id="44" name="001_A_025_U Kyaw Naing.mp3" descr=""/>
          <p:cNvPicPr/>
          <p:nvPr/>
        </p:nvPicPr>
        <p:blipFill>
          <a:blip r:embed="rId2"/>
          <a:stretch/>
        </p:blipFill>
        <p:spPr>
          <a:xfrm>
            <a:off x="8748720" y="6381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336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3:09:42Z</dcterms:created>
  <dc:creator>ukyawnaing</dc:creator>
  <dc:description/>
  <dc:language>en-US</dc:language>
  <cp:lastModifiedBy>ds0929</cp:lastModifiedBy>
  <dcterms:modified xsi:type="dcterms:W3CDTF">2013-06-25T14:49:42Z</dcterms:modified>
  <cp:revision>2</cp:revision>
  <dc:subject/>
  <dc:title>Slide 1</dc:title>
</cp:coreProperties>
</file>