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972-3590-48C7-9C5E-D64FF764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9E5-5275-4997-94C9-3FB15FA9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81E-08A6-4D0F-954A-840F9803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8CC-9B90-409A-BC73-6F3FAE84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6E9-05E7-413C-8E01-BF9E37B7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A2A-F132-4686-9095-651946BF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4F3-8D9A-49B7-A76B-E3810887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A27-84FF-4FF8-81F5-60D1DE10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FA7-D160-4774-9AB8-1F90AB48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0F4-40FC-4EC4-A1AD-8405C209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A73-FD21-43D1-A5FE-46DD7BF0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7F3-A854-4EBA-863E-7DE0E66C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33A1-A901-4838-B324-FFF86C1D7F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35000" y="981000"/>
            <a:ext cx="9279000" cy="44118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2_U Kyaw Naing.mp3" descr=""/>
          <p:cNvPicPr/>
          <p:nvPr/>
        </p:nvPicPr>
        <p:blipFill>
          <a:blip r:embed="rId2"/>
          <a:stretch/>
        </p:blipFill>
        <p:spPr>
          <a:xfrm>
            <a:off x="702000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07:41Z</dcterms:created>
  <dc:creator>ukyawnaing</dc:creator>
  <dc:description/>
  <dc:language>en-US</dc:language>
  <cp:lastModifiedBy>ds0929</cp:lastModifiedBy>
  <dcterms:modified xsi:type="dcterms:W3CDTF">2013-06-25T14:48:21Z</dcterms:modified>
  <cp:revision>2</cp:revision>
  <dc:subject/>
  <dc:title>Slide 1</dc:title>
</cp:coreProperties>
</file>