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BD9-8C1E-493F-A1D9-D8813B9D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B76-67C6-4215-B310-4CCCFBD2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BC71-48AE-4ACF-94CC-043EA1F8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9DC-E8B7-43C8-ACFF-BDBFB91E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312-C4F2-4A26-8B38-6CC44A3B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1DA-CD71-492F-B24D-BF70546F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D13-0F9E-4DCD-B445-659868A8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8BA-8222-4250-A8A9-23E5894E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0313-BEE0-4950-8F97-310AE226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A8A-B315-43EB-8033-3439389D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487-E2F4-41E0-99CE-F18E004C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553-E8B1-478D-A755-F869E16E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ADF5-6E5D-444C-88FF-2DDDA8447A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423720"/>
            <a:ext cx="9172440" cy="601056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8_U Kyaw Naing.mp3" descr=""/>
          <p:cNvPicPr/>
          <p:nvPr/>
        </p:nvPicPr>
        <p:blipFill>
          <a:blip r:embed="rId2"/>
          <a:stretch/>
        </p:blipFill>
        <p:spPr>
          <a:xfrm>
            <a:off x="8388360" y="58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03:22Z</dcterms:created>
  <dc:creator>ukyawnaing</dc:creator>
  <dc:description/>
  <dc:language>en-US</dc:language>
  <cp:lastModifiedBy>ds0929</cp:lastModifiedBy>
  <dcterms:modified xsi:type="dcterms:W3CDTF">2013-06-25T14:46:42Z</dcterms:modified>
  <cp:revision>2</cp:revision>
  <dc:subject/>
  <dc:title>Slide 1</dc:title>
</cp:coreProperties>
</file>