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A479-2A25-4555-B3F0-153E422A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060-CB0B-4F26-B761-ADCB2941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C8C-CFD3-42D1-9874-FEF66C5C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D0A-E6BC-45CA-BD4B-EFB374BD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B85-2336-4141-AF14-71C49905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71E4-2741-4996-8D1E-72135549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60D7-AAA6-4FD3-A19D-4E9DDA5A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8C9-EA58-4FFF-B4A0-36F129CE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383-9FC9-4F51-8DD4-4F0B4B76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BEB2-513D-42D0-A967-5B09D866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DC8-22A2-4915-8275-C07FD7AF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30D-572A-4733-8755-651CE2BF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BF40-F045-480B-A983-E78169660B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706400" y="100080"/>
            <a:ext cx="5731200" cy="6657840"/>
          </a:xfrm>
          <a:prstGeom prst="rect">
            <a:avLst/>
          </a:prstGeom>
          <a:ln w="0">
            <a:noFill/>
          </a:ln>
        </p:spPr>
      </p:pic>
      <p:pic>
        <p:nvPicPr>
          <p:cNvPr id="42" name="001_A_047_U Kyaw Naing.mp3" descr=""/>
          <p:cNvPicPr/>
          <p:nvPr/>
        </p:nvPicPr>
        <p:blipFill>
          <a:blip r:embed="rId2"/>
          <a:stretch/>
        </p:blipFill>
        <p:spPr>
          <a:xfrm>
            <a:off x="7885080" y="4869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3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36:00Z</dcterms:created>
  <dc:creator>ukyawnaing</dc:creator>
  <dc:description/>
  <dc:language>en-US</dc:language>
  <cp:lastModifiedBy>ds0929</cp:lastModifiedBy>
  <dcterms:modified xsi:type="dcterms:W3CDTF">2013-06-25T14:59:15Z</dcterms:modified>
  <cp:revision>2</cp:revision>
  <dc:subject/>
  <dc:title>Slide 1</dc:title>
</cp:coreProperties>
</file>