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F77-D661-4646-AD45-A39D27D1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380-42FC-4C68-AC66-A02F107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4A2-A097-4680-BD25-BFB74F8E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24A-B0E6-46A7-807A-8C6EAB31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A59-ABC3-4CC8-94E2-E0611721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D7B-F97F-4671-BA3F-BCC395C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539-9135-4DD3-91B0-952CACC7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996-FEB2-4230-85DE-556E0AB5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9FB-721E-422F-A69E-E4EA178B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0AD-658A-4F94-9F72-A6934DA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301-7147-482E-9015-28C7AF10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E4C-E9DD-49B6-B84C-9C10F27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A53B-1CD6-46F0-B318-C6B83BCF2C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258920" y="109440"/>
            <a:ext cx="6553080" cy="666432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5_U Kyaw Naing.mp3" descr=""/>
          <p:cNvPicPr/>
          <p:nvPr/>
        </p:nvPicPr>
        <p:blipFill>
          <a:blip r:embed="rId2"/>
          <a:stretch/>
        </p:blipFill>
        <p:spPr>
          <a:xfrm>
            <a:off x="8101080" y="465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6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08000" y="81000"/>
            <a:ext cx="525636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5:34Z</dcterms:created>
  <dc:creator>ukyawnaing</dc:creator>
  <dc:description/>
  <dc:language>en-US</dc:language>
  <cp:lastModifiedBy>ds0929</cp:lastModifiedBy>
  <dcterms:modified xsi:type="dcterms:W3CDTF">2013-06-25T14:45:30Z</dcterms:modified>
  <cp:revision>2</cp:revision>
  <dc:subject/>
  <dc:title>Slide 1</dc:title>
</cp:coreProperties>
</file>