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91F-1D7B-470C-840D-136C742A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A61-D60C-4B40-8177-81A5327D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A87-291D-419D-BFD3-4AD5E495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5DD-C560-427C-8072-EEC59A89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8B9-F01B-495D-B093-EF4FDBE2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269-B131-4BF9-9FF6-9CD617CC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1AF-522A-4861-A3A7-0454542D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59F-9839-4CF8-8920-3E118E08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1DB-D0F6-481D-B484-BC2BAEB7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609-4A58-4074-83E0-B135BD52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A2C-DB9A-4B38-BBE2-AA965500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0E4-8E5C-45C3-8108-7177B231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D7CB-B1A3-402E-8566-D2FC9F1BF3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835280" y="0"/>
            <a:ext cx="4465440" cy="2982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547640" y="3068640"/>
            <a:ext cx="5761080" cy="3957480"/>
          </a:xfrm>
          <a:prstGeom prst="rect">
            <a:avLst/>
          </a:prstGeom>
          <a:ln w="0">
            <a:noFill/>
          </a:ln>
        </p:spPr>
      </p:pic>
      <p:pic>
        <p:nvPicPr>
          <p:cNvPr id="43" name="001_A_020_U Kyaw Naing.mp3" descr=""/>
          <p:cNvPicPr/>
          <p:nvPr/>
        </p:nvPicPr>
        <p:blipFill>
          <a:blip r:embed="rId3"/>
          <a:stretch/>
        </p:blipFill>
        <p:spPr>
          <a:xfrm>
            <a:off x="7740720" y="414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2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05:01Z</dcterms:created>
  <dc:creator>ukyawnaing</dc:creator>
  <dc:description/>
  <dc:language>en-US</dc:language>
  <cp:lastModifiedBy>ds0929</cp:lastModifiedBy>
  <dcterms:modified xsi:type="dcterms:W3CDTF">2013-06-25T14:47:34Z</dcterms:modified>
  <cp:revision>2</cp:revision>
  <dc:subject/>
  <dc:title>Slide 1</dc:title>
</cp:coreProperties>
</file>