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FD2E-817D-4F6F-8E7E-356F16D5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E7F-EB92-4495-A1CE-5A1BD1FA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A81-A7B1-46BD-BA8A-A7E8146F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D6F-37A5-41F8-8BCD-8590D41D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CA9-576A-4F0F-9D19-95A7C4EB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073-B93F-42B0-8E46-B6AB16C7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AF9-A36A-4CEA-A269-28EABFB5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76A4-1C00-4DE5-8E03-3838A6BE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E62-B70B-4D26-8059-A1ECDE47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5559-CED4-47CA-8293-B42E30FC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482-7B9B-4E85-834C-8D031CCA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9242-FDB5-420F-86C2-7362B50E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7328-E769-4A74-8DDD-66466406F6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632720" cy="640872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5_U Kyaw Naing.mp3" descr=""/>
          <p:cNvPicPr/>
          <p:nvPr/>
        </p:nvPicPr>
        <p:blipFill>
          <a:blip r:embed="rId2"/>
          <a:stretch/>
        </p:blipFill>
        <p:spPr>
          <a:xfrm>
            <a:off x="889956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4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23:28Z</dcterms:created>
  <dc:creator>ukyawnaing</dc:creator>
  <dc:description/>
  <dc:language>en-US</dc:language>
  <cp:lastModifiedBy>ds0929</cp:lastModifiedBy>
  <dcterms:modified xsi:type="dcterms:W3CDTF">2013-06-25T14:54:10Z</dcterms:modified>
  <cp:revision>2</cp:revision>
  <dc:subject/>
  <dc:title>Slide 1</dc:title>
</cp:coreProperties>
</file>