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24C6-8260-4FAC-BC76-1DDEC3465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2110-587F-4FA3-8C31-87A72A74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41C9-1BD8-470E-B4C4-1400E17FF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6299-9B42-46D7-8F9E-A263B26E4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4F82-DEB0-40E7-A91A-47D4E200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00F6-98F2-496B-8F97-4B6A7BDB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80BB-6E4F-4D7E-B566-18DB5217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7A89-61F3-4917-99CE-97127858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A0BF-E1ED-481E-8CBF-CDB5210F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B158-19D3-4BE6-B3FA-D1B8EF56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7E95-9861-4E68-8E7B-DC0BF677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9E37-4A11-4FB5-8CD5-33DB4017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E45D-30DB-4CE4-A5DD-D626E614FD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2195640" y="0"/>
            <a:ext cx="47527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44_U Kyaw Naing.mp3" descr=""/>
          <p:cNvPicPr/>
          <p:nvPr/>
        </p:nvPicPr>
        <p:blipFill>
          <a:blip r:embed="rId2"/>
          <a:stretch/>
        </p:blipFill>
        <p:spPr>
          <a:xfrm>
            <a:off x="7885080" y="4508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84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23920" y="252360"/>
            <a:ext cx="869616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32:12Z</dcterms:created>
  <dc:creator>ukyawnaing</dc:creator>
  <dc:description/>
  <dc:language>en-US</dc:language>
  <cp:lastModifiedBy>ds0929</cp:lastModifiedBy>
  <dcterms:modified xsi:type="dcterms:W3CDTF">2013-06-25T14:57:59Z</dcterms:modified>
  <cp:revision>2</cp:revision>
  <dc:subject/>
  <dc:title>Slide 1</dc:title>
</cp:coreProperties>
</file>