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E937-7874-44C7-85CF-FAAE509F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323F-9F04-4D94-9AC3-387E0C80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2A2B-8316-4455-BF4A-62D99A4C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0B3D-7BEC-4B62-812F-C214E6B4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4EAC-B90F-49A5-9640-133A54FC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50BA-B29A-4EF1-9E1C-AE6E35E5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DC23-374A-4B24-AEB2-B63FCFF9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64EB-E737-40F4-9B76-9F6304A0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05DE-4534-45FA-842C-338E284D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4161-10AD-4FD3-9083-767F03B6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683F-9FEE-4AD6-B5F2-D1D0A085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595D-4F93-4854-B471-901BA675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BF81-D9E8-4CBB-8426-F868FBBD75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258920" y="0"/>
            <a:ext cx="6913440" cy="6597720"/>
          </a:xfrm>
          <a:prstGeom prst="rect">
            <a:avLst/>
          </a:prstGeom>
          <a:ln w="0">
            <a:noFill/>
          </a:ln>
        </p:spPr>
      </p:pic>
      <p:pic>
        <p:nvPicPr>
          <p:cNvPr id="42" name="001_A_043_U Kyaw Naing.mp3" descr=""/>
          <p:cNvPicPr/>
          <p:nvPr/>
        </p:nvPicPr>
        <p:blipFill>
          <a:blip r:embed="rId2"/>
          <a:stretch/>
        </p:blipFill>
        <p:spPr>
          <a:xfrm>
            <a:off x="8532720" y="5732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9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31:06Z</dcterms:created>
  <dc:creator>ukyawnaing</dc:creator>
  <dc:description/>
  <dc:language>en-US</dc:language>
  <cp:lastModifiedBy>ds0929</cp:lastModifiedBy>
  <dcterms:modified xsi:type="dcterms:W3CDTF">2013-06-25T14:57:34Z</dcterms:modified>
  <cp:revision>2</cp:revision>
  <dc:subject/>
  <dc:title>Slide 1</dc:title>
</cp:coreProperties>
</file>