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7E43-DA30-45B3-ADF7-A4569D955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12DA-21F1-4031-81C4-EBA8A0E62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99B4-90E0-4CD7-872A-B660C74DB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43E7-31E2-44A5-9F74-A5188F0FF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A6B9-0147-4B7C-A162-A8CB7C0D9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37EC-3FDE-4EB3-9EB5-5C2B38355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8E99-DC9F-4E0B-8AE1-299FB3D7E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E1D2-0FA7-4993-93DA-BD66FAF51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331A-4650-4D9B-8514-3AB8BE776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2666-2113-431C-AF9F-8D5BF99F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40C9-72AB-4602-9A01-3736EC0C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A574-3391-4445-B5BA-CEF4286D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49D30-7569-4D98-80D9-D4BB05B329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1706400" y="-209520"/>
            <a:ext cx="5731200" cy="727704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2_U Kyaw Naing.mp3" descr=""/>
          <p:cNvPicPr/>
          <p:nvPr/>
        </p:nvPicPr>
        <p:blipFill>
          <a:blip r:embed="rId2"/>
          <a:stretch/>
        </p:blipFill>
        <p:spPr>
          <a:xfrm>
            <a:off x="8388360" y="4941720"/>
            <a:ext cx="24444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233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2:38:26Z</dcterms:created>
  <dc:creator>ukyawnaing</dc:creator>
  <dc:description/>
  <dc:language>en-US</dc:language>
  <cp:lastModifiedBy>ds0929</cp:lastModifiedBy>
  <dcterms:modified xsi:type="dcterms:W3CDTF">2013-06-25T14:39:25Z</dcterms:modified>
  <cp:revision>2</cp:revision>
  <dc:subject/>
  <dc:title>Slide 1</dc:title>
</cp:coreProperties>
</file>