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10E2-CD07-42FB-965C-DA9CA118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C6F1-53EE-4A54-8F5C-AE5EFEBA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A25-7A9A-45A8-BC3D-8AF3E8F6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9BF6-4E73-4F07-8E9E-E06B87CF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7B3D-BEC7-4B49-9BFE-F192667D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A07C-9C9E-4FED-B262-5338CFE1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3A7C-5E34-4328-A681-570C21A1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8558-39A5-41AE-B46F-6443D882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9ADD-A09D-4D09-AB04-E386D3BA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1B53-9CCB-46F0-915F-6967377B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9BDB-3D52-4261-9537-B6B2FC24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CB88-4BAB-4117-81EA-C4687481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51E5-F0FB-4157-952D-E5D46B76C0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54160" y="1773360"/>
            <a:ext cx="8635680" cy="3311280"/>
          </a:xfrm>
          <a:prstGeom prst="rect">
            <a:avLst/>
          </a:prstGeom>
          <a:ln w="0">
            <a:noFill/>
          </a:ln>
        </p:spPr>
      </p:pic>
      <p:pic>
        <p:nvPicPr>
          <p:cNvPr id="42" name="001_A_030_U Kyaw Naing.mp3" descr=""/>
          <p:cNvPicPr/>
          <p:nvPr/>
        </p:nvPicPr>
        <p:blipFill>
          <a:blip r:embed="rId2"/>
          <a:stretch/>
        </p:blipFill>
        <p:spPr>
          <a:xfrm>
            <a:off x="7020000" y="5445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836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18:01Z</dcterms:created>
  <dc:creator>ukyawnaing</dc:creator>
  <dc:description/>
  <dc:language>en-US</dc:language>
  <cp:lastModifiedBy>ds0929</cp:lastModifiedBy>
  <dcterms:modified xsi:type="dcterms:W3CDTF">2013-06-25T14:51:51Z</dcterms:modified>
  <cp:revision>2</cp:revision>
  <dc:subject/>
  <dc:title>Slide 1</dc:title>
</cp:coreProperties>
</file>