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609-132E-47A8-837B-E805CC2A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568-49C7-4831-92F4-B1223DE1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E72-D45E-494E-9B02-3B42DBEC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7A6-CC92-4969-88AB-45F18044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F9D-CE91-4557-94B3-D9C37FB0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C12-4B9B-4593-9BF4-E442E6F8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926-295B-4C88-810E-26115C3F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587-4BCE-4C34-85F3-4FA8A88B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634-D656-4325-81A1-D7A4CA2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208-89F8-45F7-977D-D55DCB6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F02-F466-4267-B483-DE01E63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C97-FEA0-480C-9D12-5EC2F87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918-9748-4878-BB71-14EE6F60B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71360" y="189000"/>
            <a:ext cx="9056880" cy="6669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9_U Kyaw Naing.mp3" descr=""/>
          <p:cNvPicPr/>
          <p:nvPr/>
        </p:nvPicPr>
        <p:blipFill>
          <a:blip r:embed="rId2"/>
          <a:stretch/>
        </p:blipFill>
        <p:spPr>
          <a:xfrm>
            <a:off x="2843280" y="6237360"/>
            <a:ext cx="38268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17:44Z</dcterms:created>
  <dc:creator>ukyawnaing</dc:creator>
  <dc:description/>
  <dc:language>en-US</dc:language>
  <cp:lastModifiedBy>ds0929</cp:lastModifiedBy>
  <dcterms:modified xsi:type="dcterms:W3CDTF">2013-06-25T14:51:30Z</dcterms:modified>
  <cp:revision>2</cp:revision>
  <dc:subject/>
  <dc:title>Slide 1</dc:title>
</cp:coreProperties>
</file>