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563-F03E-4DB3-AD0C-51A2E859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9D7-8974-40BB-8996-310ADA8C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52E-C03E-4427-AB11-2F6317AA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CDE-0B3B-4A89-81AC-E1E8D3DB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452-2867-4931-AAA8-A35B35EF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A73-4193-42DF-A4CD-D5667320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E43-1963-425F-A275-36ECFD4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0DD-806B-4F85-A704-3B88F9D4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EE8-26E9-4FAE-AB65-AB66D830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8EE-75D0-4BA2-AA4B-ABCFB14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622-9046-42E1-91B1-C070DF44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83A-0A68-4B8A-8C27-99527EE2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1D40-B72D-4396-8ADC-237F7D66CC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7600" y="1328760"/>
            <a:ext cx="8848800" cy="42004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3_U Kyaw Naing.mp3" descr=""/>
          <p:cNvPicPr/>
          <p:nvPr/>
        </p:nvPicPr>
        <p:blipFill>
          <a:blip r:embed="rId2"/>
          <a:stretch/>
        </p:blipFill>
        <p:spPr>
          <a:xfrm>
            <a:off x="766764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1000" y="0"/>
            <a:ext cx="866772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1:22Z</dcterms:created>
  <dc:creator>ukyawnaing</dc:creator>
  <dc:description/>
  <dc:language>en-US</dc:language>
  <cp:lastModifiedBy>ds0929</cp:lastModifiedBy>
  <dcterms:modified xsi:type="dcterms:W3CDTF">2013-06-25T14:53:11Z</dcterms:modified>
  <cp:revision>2</cp:revision>
  <dc:subject/>
  <dc:title>Slide 1</dc:title>
</cp:coreProperties>
</file>