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739-F602-4DC7-80BC-225D782D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E5F-47D5-407C-8B2A-E08C6D46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41E1-A9BB-4AEE-819B-7D899D6D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42CB-A630-4FD9-9EE5-4F25AC68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FFC-698E-4F55-83CE-F350C89A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19DD-6845-488E-BF5A-A4C4BAC5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26D-4775-4736-AEF6-8D487A77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31C-7898-4C3D-A620-733BDD71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935-E230-447E-B2E8-CF46AE92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4956-458D-4202-BCB7-53E22C66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356C-6DE6-46E3-98A3-C4DCFBF2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0688-297D-43B0-999B-E6B35AE3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0CEF-8CB6-411A-811F-B66AD472EC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706400" y="0"/>
            <a:ext cx="44499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36_U Kyaw Naing.mp3" descr=""/>
          <p:cNvPicPr/>
          <p:nvPr/>
        </p:nvPicPr>
        <p:blipFill>
          <a:blip r:embed="rId2"/>
          <a:stretch/>
        </p:blipFill>
        <p:spPr>
          <a:xfrm>
            <a:off x="7596360" y="4724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4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24:28Z</dcterms:created>
  <dc:creator>ukyawnaing</dc:creator>
  <dc:description/>
  <dc:language>en-US</dc:language>
  <cp:lastModifiedBy>ds0929</cp:lastModifiedBy>
  <dcterms:modified xsi:type="dcterms:W3CDTF">2013-06-25T14:54:37Z</dcterms:modified>
  <cp:revision>2</cp:revision>
  <dc:subject/>
  <dc:title>Slide 1</dc:title>
</cp:coreProperties>
</file>