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A08-1B50-48B9-945F-31D68A00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62C-929A-42B4-8D03-BAE1297C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965-E8D4-4306-A1D1-C832466C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F3D-353C-488D-8063-3E049718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641-17BD-440F-B4D8-895061A3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824-13B1-407D-82BA-AED38B6D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41F-27EE-4F70-9A83-8DFDC053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5EB-7773-4BAC-8D17-60A118B3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41E-7028-4CC3-94D5-764C1306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8E5-CDE3-468B-8E4F-E8C0FF50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B51-1E56-4FDB-A2F9-929C7B9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802-9AC8-4814-BE4A-E925FE2C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00DF-8431-4900-8882-CF5C5991EE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9528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4_U Kyaw Naing.mp3" descr=""/>
          <p:cNvPicPr/>
          <p:nvPr/>
        </p:nvPicPr>
        <p:blipFill>
          <a:blip r:embed="rId2"/>
          <a:stretch/>
        </p:blipFill>
        <p:spPr>
          <a:xfrm>
            <a:off x="8532720" y="443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43:52Z</dcterms:created>
  <dc:creator>ukyawnaing</dc:creator>
  <dc:description/>
  <dc:language>en-US</dc:language>
  <cp:lastModifiedBy>ds0929</cp:lastModifiedBy>
  <dcterms:modified xsi:type="dcterms:W3CDTF">2013-06-25T14:40:32Z</dcterms:modified>
  <cp:revision>2</cp:revision>
  <dc:subject/>
  <dc:title>Slide 1</dc:title>
</cp:coreProperties>
</file>