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90DB-ECCD-4008-ABB3-C64196F2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F1C-274E-4DBF-AF01-397BFF8C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38A3-FBC1-4795-8F24-9ADF1451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604-20C4-42A6-A0FF-731E25A8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5B8-660C-468D-9DF0-BF199D14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1F95-DE5B-4F33-BBEA-DE018DBF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8A97-FC53-4BC0-8F4D-D167226A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F55E-E3A1-4B2A-902E-BA436395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6B9B-011C-4122-A1B7-1EFC2D2E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A792-79DA-4E0F-A727-E71A5E8D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EDD0-C3C5-498F-9476-144FDF16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27DB-1A7E-4557-BCDE-97E4BFA0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291E-6B47-4D6E-9AD9-D4671418AE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1547640" y="0"/>
            <a:ext cx="6120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7_U Kyaw Naing.mp3" descr=""/>
          <p:cNvPicPr/>
          <p:nvPr/>
        </p:nvPicPr>
        <p:blipFill>
          <a:blip r:embed="rId2"/>
          <a:stretch/>
        </p:blipFill>
        <p:spPr>
          <a:xfrm>
            <a:off x="7885080" y="5589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3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14:55Z</dcterms:created>
  <dc:creator>ukyawnaing</dc:creator>
  <dc:description/>
  <dc:language>en-US</dc:language>
  <cp:lastModifiedBy>ds0929</cp:lastModifiedBy>
  <dcterms:modified xsi:type="dcterms:W3CDTF">2013-06-25T14:50:37Z</dcterms:modified>
  <cp:revision>2</cp:revision>
  <dc:subject/>
  <dc:title>Slide 1</dc:title>
</cp:coreProperties>
</file>