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99C-E003-4AC8-A219-453D2F21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937-6153-47D4-9A96-EEBAA86C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AD6-A468-499F-892E-AC7067AD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F16-FF81-4169-9A2D-2AB40067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941-F3DC-4786-AE8C-C4B503A3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7A3-A78E-404E-8A0F-AF07D444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B93-7F0C-437A-8B28-5FC7BBCF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0D3-7E14-49C4-9ABF-5A8EF52F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152-9E54-48B3-AF30-1FF90DE3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DF5-A8DD-4834-ACC6-8EE055C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31C-7DD9-490E-874B-3E41AE4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5EC-2E7B-4A7B-8F11-FB8441C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9676-5A36-412F-ACB4-B990560F7A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4_U Kyaw Naing.mp3" descr=""/>
          <p:cNvPicPr/>
          <p:nvPr/>
        </p:nvPicPr>
        <p:blipFill>
          <a:blip r:embed="rId2"/>
          <a:stretch/>
        </p:blipFill>
        <p:spPr>
          <a:xfrm>
            <a:off x="8244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2:25Z</dcterms:created>
  <dc:creator>ukyawnaing</dc:creator>
  <dc:description/>
  <dc:language>en-US</dc:language>
  <cp:lastModifiedBy>ds0929</cp:lastModifiedBy>
  <dcterms:modified xsi:type="dcterms:W3CDTF">2013-06-25T14:53:45Z</dcterms:modified>
  <cp:revision>2</cp:revision>
  <dc:subject/>
  <dc:title>Slide 1</dc:title>
</cp:coreProperties>
</file>