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C1C-47FE-41FA-9565-50B2D136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6FCE-FF92-418F-BEFC-0DEEA79F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074-C131-4B4C-9CD4-1926076A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22D-50BB-4EFB-ACC3-30EBF0DA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D9C-C8FA-4ACF-89AF-0E27636A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520-2E56-46E7-9B4E-8F7F65F2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483-C982-4FF2-BE96-AD708098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7D1-AE15-4FE9-9AD7-7304C247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A77-594C-4316-B2BD-E3460D59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9C0-DD3A-4D93-8562-DB88CB79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849B-E383-4910-8E32-FB3E692F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625-7B55-4557-8A9C-5B0D8C82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7D98-D2EA-4397-8619-43AB34BBAE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332000" y="111240"/>
            <a:ext cx="6408720" cy="656244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0_U Kyaw Naing.mp3" descr=""/>
          <p:cNvPicPr/>
          <p:nvPr/>
        </p:nvPicPr>
        <p:blipFill>
          <a:blip r:embed="rId2"/>
          <a:stretch/>
        </p:blipFill>
        <p:spPr>
          <a:xfrm>
            <a:off x="8244000" y="479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91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143000" y="260280"/>
            <a:ext cx="681372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2:50:18Z</dcterms:created>
  <dc:creator>ukyawnaing</dc:creator>
  <dc:description/>
  <dc:language>en-US</dc:language>
  <cp:lastModifiedBy>ds0929</cp:lastModifiedBy>
  <dcterms:modified xsi:type="dcterms:W3CDTF">2013-06-25T14:43:38Z</dcterms:modified>
  <cp:revision>2</cp:revision>
  <dc:subject/>
  <dc:title>Slide 1</dc:title>
</cp:coreProperties>
</file>