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B5C7-A187-49E7-BF19-ABE4439BE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B2A1-A237-402D-A559-B1B9C1E6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BD2D-837F-4764-840A-7790FAAB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5DB5-35F6-4A53-9C31-A17FCF67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3C6B-0338-4002-9AAB-85CB79B2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DB64-B639-4B74-A641-B0CD2503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CC4B-DEDD-4555-83D8-5D219834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AB1C-91C5-4FB2-B02F-82B6F87C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9C90-62D0-4CD2-A564-52B28AC9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2DE4-E79B-431A-811A-036A024F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66C0-D0DD-4FF0-8909-4CEAE23E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FAD1-C945-4349-97F0-8CA746CF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2CA3-E061-4863-B52E-5564F7A602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219400" y="28440"/>
            <a:ext cx="4705200" cy="680112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4_U Kyaw Naing.mp3" descr=""/>
          <p:cNvPicPr/>
          <p:nvPr/>
        </p:nvPicPr>
        <p:blipFill>
          <a:blip r:embed="rId2"/>
          <a:stretch/>
        </p:blipFill>
        <p:spPr>
          <a:xfrm>
            <a:off x="7885080" y="4437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67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2:54:54Z</dcterms:created>
  <dc:creator>ukyawnaing</dc:creator>
  <dc:description/>
  <dc:language>en-US</dc:language>
  <cp:lastModifiedBy>ds0929</cp:lastModifiedBy>
  <dcterms:modified xsi:type="dcterms:W3CDTF">2013-06-25T14:45:08Z</dcterms:modified>
  <cp:revision>2</cp:revision>
  <dc:subject/>
  <dc:title>Slide 1</dc:title>
</cp:coreProperties>
</file>