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F24-EAA4-4EA3-86C7-A4F1CA0B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681-2B49-4B64-A2D7-CCEE6CD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250-C2BD-4F57-A888-0293D719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DD6-3A8A-4A67-9708-8CB14772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C5B-4B99-441A-9CB1-2B472BD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909-C333-4D5E-8396-1B790E6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9B9-8376-462C-9E27-3589B66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D97-DA4E-4BA9-81DC-4D9B071B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BF3-7D78-4B8B-8E72-E0025D7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289-387B-4B9D-AAD3-CB0C621B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811-5F76-4E1B-8651-C85C3AF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E24-E7A1-4A71-B9EF-6F38892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9D24-C7FB-4963-B5C6-FFE074A05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458360" cy="736272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8604360" y="414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2:11Z</dcterms:created>
  <dc:creator>ukyawnaing</dc:creator>
  <dc:description/>
  <dc:language>en-US</dc:language>
  <cp:lastModifiedBy>ds0929</cp:lastModifiedBy>
  <dcterms:modified xsi:type="dcterms:W3CDTF">2013-06-25T14:44:24Z</dcterms:modified>
  <cp:revision>2</cp:revision>
  <dc:subject/>
  <dc:title>Slide 1</dc:title>
</cp:coreProperties>
</file>