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5A8-224D-4A90-BAAB-A105CC90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619-4DE3-487D-8611-79EFA930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4C6-A610-4DE2-AE91-66FD52BC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11A-976F-47C1-8287-5CC3BBF0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A4B-DF40-42E0-AB20-60BD209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DC7-181B-454B-8BF8-9D7B604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E84-3306-46BF-A8DD-243E510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343-7AAF-4D64-9E5A-5A7674E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17C-5D23-4FD0-AFCE-F011D22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2EC-3963-4DE6-8278-EA086F3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68C-F386-4B17-8675-657EE9E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D8F-00F5-44F7-97FC-367A977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194-B417-40B4-834A-9ED27332CA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753080" cy="515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057560" y="1628640"/>
            <a:ext cx="5086440" cy="209556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9_U Kyaw Naing.mp3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3:59Z</dcterms:created>
  <dc:creator>ukyawnaing</dc:creator>
  <dc:description/>
  <dc:language>en-US</dc:language>
  <cp:lastModifiedBy>ds0929</cp:lastModifiedBy>
  <dcterms:modified xsi:type="dcterms:W3CDTF">2013-06-25T14:47:10Z</dcterms:modified>
  <cp:revision>2</cp:revision>
  <dc:subject/>
  <dc:title>Slide 1</dc:title>
</cp:coreProperties>
</file>