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A6A-3C2D-446D-9813-C5B754CE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5FB-93B2-4D0E-B93E-FDC89F09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BFE-BC02-4109-A7F3-2FD09DE2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C16-AE38-4BCB-AE2F-0C9D9063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588-F4F8-4A4E-9AF0-91F1620C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986-CB66-4059-A5E8-9F4ACD41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FC8-E575-4566-865F-BFB0BE7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42F-8389-4449-9F66-2AF0248F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CD8-985B-46E7-80DD-C7BF37F0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AB5-F202-4C56-8E6A-ADF1CF9F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F94-3184-450E-9DEF-33A611BC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880-6ADB-4662-8044-2813311E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1CBE-BCAC-41D4-8E33-68CB74004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619280" y="119160"/>
            <a:ext cx="5832360" cy="65404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1_U Kyaw Naing.mp3" descr=""/>
          <p:cNvPicPr/>
          <p:nvPr/>
        </p:nvPicPr>
        <p:blipFill>
          <a:blip r:embed="rId2"/>
          <a:stretch/>
        </p:blipFill>
        <p:spPr>
          <a:xfrm>
            <a:off x="738036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9074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876240"/>
            <a:ext cx="8983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06:34Z</dcterms:created>
  <dc:creator>ukyawnaing</dc:creator>
  <dc:description/>
  <dc:language>en-US</dc:language>
  <cp:lastModifiedBy>ds0929</cp:lastModifiedBy>
  <dcterms:modified xsi:type="dcterms:W3CDTF">2013-06-25T14:47:58Z</dcterms:modified>
  <cp:revision>2</cp:revision>
  <dc:subject/>
  <dc:title>Slide 1</dc:title>
</cp:coreProperties>
</file>