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8B23-D1C3-4609-A5C2-5566BDB4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90C-4D8F-4C05-B107-2FD52517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F806-DD50-4C9E-AFC9-2F706714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77B-B804-4589-AAA6-111BFCEA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C70-F4D6-4888-94E5-1D5753DA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E553-C01A-4B16-8C59-C62F0383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223-B218-4593-B6D0-3B1EC183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1A4-D9F5-41A9-97E1-E5A409C1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052-0266-4437-9BD2-79A25EB1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D87-F48E-491B-8373-8882ADD7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FC5D-20E1-46A4-96EF-B7C7931B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882-3680-490C-A5C9-C8BEDFD5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60A1-0622-41FE-913B-4CFB86A768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00200" y="600120"/>
            <a:ext cx="7743600" cy="565776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3_U Kyaw Naing.mp3" descr=""/>
          <p:cNvPicPr/>
          <p:nvPr/>
        </p:nvPicPr>
        <p:blipFill>
          <a:blip r:embed="rId2"/>
          <a:stretch/>
        </p:blipFill>
        <p:spPr>
          <a:xfrm>
            <a:off x="810108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08:26Z</dcterms:created>
  <dc:creator>ukyawnaing</dc:creator>
  <dc:description/>
  <dc:language>en-US</dc:language>
  <cp:lastModifiedBy>ds0929</cp:lastModifiedBy>
  <dcterms:modified xsi:type="dcterms:W3CDTF">2013-06-25T14:48:45Z</dcterms:modified>
  <cp:revision>2</cp:revision>
  <dc:subject/>
  <dc:title>Slide 1</dc:title>
</cp:coreProperties>
</file>