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539-3624-4F4A-A43D-BD8046F7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4C5-975E-4EAF-9BA9-D998E32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F77-7DC5-4B11-970B-9FABA0EC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9B8-C65C-44CD-9E0B-B47D00BA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96B-ECB2-429D-9E79-0852F9E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D5F-3190-4DC7-A452-A0E04FE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451-D38F-41F3-928D-4EA2593C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E7A-844C-4EB9-9C85-FA1E5C7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999-FD57-4E63-8CA2-4C3B0D4E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9C2-53C2-4817-85B9-2EF81C95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D4F-D346-4CE2-AC20-2DCEBE5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201-07AE-4907-B9F0-4A65BA0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A84A-C054-40B0-A31D-8638A105F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0872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8_U Kyaw Naing.mp3" descr=""/>
          <p:cNvPicPr/>
          <p:nvPr/>
        </p:nvPicPr>
        <p:blipFill>
          <a:blip r:embed="rId2"/>
          <a:stretch/>
        </p:blipFill>
        <p:spPr>
          <a:xfrm>
            <a:off x="802800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16:20Z</dcterms:created>
  <dc:creator>ukyawnaing</dc:creator>
  <dc:description/>
  <dc:language>en-US</dc:language>
  <cp:lastModifiedBy>ds0929</cp:lastModifiedBy>
  <dcterms:modified xsi:type="dcterms:W3CDTF">2013-06-25T14:51:01Z</dcterms:modified>
  <cp:revision>2</cp:revision>
  <dc:subject/>
  <dc:title>Slide 1</dc:title>
</cp:coreProperties>
</file>