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649A-07C3-46D1-B99E-8499261E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7B61-6125-4653-AED7-B363F93A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F9D1-FA53-4BF8-85A0-904EFF97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320A-3510-481D-804B-C6F0830E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FAE5-3E09-4790-A6E4-D8074FF9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03D7-6315-4AE1-BBEA-B7248938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72F-C6C2-4D69-AFA5-54BD4895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DA42-1952-408F-95E2-45E3E49D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881E-669E-420F-8F96-DDD09313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3C31-8FF6-4678-92AB-2A94BFB0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EBB2-2A66-4782-BF9F-52429923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7DA5-86E6-45B5-9DB7-0977AA5E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6C29-16EF-47A0-8265-8F121D8943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116000" y="0"/>
            <a:ext cx="5200560" cy="3086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187280" y="3133800"/>
            <a:ext cx="4924440" cy="3724200"/>
          </a:xfrm>
          <a:prstGeom prst="rect">
            <a:avLst/>
          </a:prstGeom>
          <a:ln w="0">
            <a:noFill/>
          </a:ln>
        </p:spPr>
      </p:pic>
      <p:pic>
        <p:nvPicPr>
          <p:cNvPr id="43" name="001_A_013_U Kyaw Naing.mp3" descr=""/>
          <p:cNvPicPr/>
          <p:nvPr/>
        </p:nvPicPr>
        <p:blipFill>
          <a:blip r:embed="rId3"/>
          <a:stretch/>
        </p:blipFill>
        <p:spPr>
          <a:xfrm>
            <a:off x="7451640" y="4005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43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208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2:52:44Z</dcterms:created>
  <dc:creator>ukyawnaing</dc:creator>
  <dc:description/>
  <dc:language>en-US</dc:language>
  <cp:lastModifiedBy>ds0929</cp:lastModifiedBy>
  <dcterms:modified xsi:type="dcterms:W3CDTF">2013-06-25T14:44:46Z</dcterms:modified>
  <cp:revision>2</cp:revision>
  <dc:subject/>
  <dc:title>Slide 1</dc:title>
</cp:coreProperties>
</file>