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EB8-1B30-4213-B313-A1A34B10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FBE8-FE55-4295-BBC7-486AF50B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8BB-41D6-4647-9AEE-FBE5C0C9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F53-1642-4263-A395-6C5537A3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B40-C495-4E47-8A53-8DE7A474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CEC-066B-4FB5-9FB3-DF8A1F9C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DBC-C973-45C7-AEAA-A8168A22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277-7ABA-4F92-887B-D4F612E1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080-37CC-49BE-8A77-1A4F0623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BE25-ECC2-4C29-811F-26139F99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3E81-9A70-4CC6-AD5A-18AE8987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401-FE30-42F0-985F-13ED0545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ABEC-26CB-47F8-9FA7-7EF1A37C32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4_U Kyaw Naing.mp3" descr=""/>
          <p:cNvPicPr/>
          <p:nvPr/>
        </p:nvPicPr>
        <p:blipFill>
          <a:blip r:embed="rId2"/>
          <a:stretch/>
        </p:blipFill>
        <p:spPr>
          <a:xfrm>
            <a:off x="8317080" y="5084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5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09:05Z</dcterms:created>
  <dc:creator>ukyawnaing</dc:creator>
  <dc:description/>
  <dc:language>en-US</dc:language>
  <cp:lastModifiedBy>ds0929</cp:lastModifiedBy>
  <dcterms:modified xsi:type="dcterms:W3CDTF">2013-06-25T14:49:08Z</dcterms:modified>
  <cp:revision>2</cp:revision>
  <dc:subject/>
  <dc:title>Slide 1</dc:title>
</cp:coreProperties>
</file>