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720-2CE5-4D3A-B553-7D656EC7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366-3363-4D99-93A1-094CCB60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801-9B16-4043-8CD2-2929D25B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057-73D3-4C7B-99C5-8E4B0788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5C0-3621-4E34-99BC-4FCF4C1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67C-A5EB-4F72-9286-EA1BC71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AAA-4819-4074-8D7F-6555DF7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D69-EE96-4268-A5C6-889ED743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50D-FD2B-4A72-9EA4-630F0633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BDE-97F3-45BE-98FC-3548B62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38D-6059-49D8-87CC-846C103D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7A7-C3E9-4DA5-8DC3-3A5DB6A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3533-77C2-4C8F-857D-80C0A94149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85880" y="223920"/>
            <a:ext cx="7572240" cy="64101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8_U Kyaw Naing.mp3" descr=""/>
          <p:cNvPicPr/>
          <p:nvPr/>
        </p:nvPicPr>
        <p:blipFill>
          <a:blip r:embed="rId2"/>
          <a:stretch/>
        </p:blipFill>
        <p:spPr>
          <a:xfrm>
            <a:off x="8459640" y="5445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0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6:05Z</dcterms:created>
  <dc:creator>ukyawnaing</dc:creator>
  <dc:description/>
  <dc:language>en-US</dc:language>
  <cp:lastModifiedBy>ds0929</cp:lastModifiedBy>
  <dcterms:modified xsi:type="dcterms:W3CDTF">2013-06-25T14:55:25Z</dcterms:modified>
  <cp:revision>2</cp:revision>
  <dc:subject/>
  <dc:title>Slide 1</dc:title>
</cp:coreProperties>
</file>