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779-CB30-42E4-806C-1CB86AE5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13A-7409-4B51-BA50-4E5DD39D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8C6-D4FD-4A7E-87F3-F3A007D0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645-2151-484B-949D-481B637A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5EF-0C8E-48FF-A022-5EE0EC90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018-6502-4491-ACD0-510D2D44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491-B48A-43E9-BF4B-3F117E63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511-ADA6-436B-B870-24EB897E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D41-481F-4A77-8DF8-6753E2BF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6C2-96EC-4EC8-9FD8-ECBD72D6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034-99FC-40F9-B27F-63FF815B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06C-9914-46BD-94CC-187D4B36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B178-AD94-49ED-892A-B964EE31F0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06400" y="0"/>
            <a:ext cx="50263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2_U Kyaw Naing.mp3" descr=""/>
          <p:cNvPicPr/>
          <p:nvPr/>
        </p:nvPicPr>
        <p:blipFill>
          <a:blip r:embed="rId2"/>
          <a:stretch/>
        </p:blipFill>
        <p:spPr>
          <a:xfrm>
            <a:off x="7740720" y="429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847800"/>
            <a:ext cx="91821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652320"/>
            <a:ext cx="915336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666720"/>
            <a:ext cx="89884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114480"/>
            <a:ext cx="95727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28:56Z</dcterms:created>
  <dc:creator>ukyawnaing</dc:creator>
  <dc:description/>
  <dc:language>en-US</dc:language>
  <cp:lastModifiedBy>ds0929</cp:lastModifiedBy>
  <dcterms:modified xsi:type="dcterms:W3CDTF">2013-06-25T14:57:06Z</dcterms:modified>
  <cp:revision>3</cp:revision>
  <dc:subject/>
  <dc:title>Slide 1</dc:title>
</cp:coreProperties>
</file>