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ABA-5093-4C26-AFE7-B52F669B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4AC-C378-4CF4-BB44-4DB50FF4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83C-E718-453E-AA76-FD702C2E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C30-2191-404B-85B0-A323A877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172-3FB2-4968-8EEC-C84F961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EAC-5828-430A-B465-723EDA96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5F7-256A-420B-ACF5-AB4EF0A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618-83D4-45FA-8A69-6C65820C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7B1-24CE-4834-BE8E-2FCC7A7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597-C2B3-4667-96CB-13B6CA4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DD0-6DAC-4699-9CA5-35279476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862-44D4-4B29-97C6-E7CD6EA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AFB0-D4F4-4AC4-A553-6CEB775363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48360" cy="65246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8_U Kyaw Naing.mp3" descr=""/>
          <p:cNvPicPr/>
          <p:nvPr/>
        </p:nvPicPr>
        <p:blipFill>
          <a:blip r:embed="rId2"/>
          <a:stretch/>
        </p:blipFill>
        <p:spPr>
          <a:xfrm>
            <a:off x="8388360" y="42210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36:39Z</dcterms:created>
  <dc:creator>ukyawnaing</dc:creator>
  <dc:description/>
  <dc:language>en-US</dc:language>
  <cp:lastModifiedBy>ds0929</cp:lastModifiedBy>
  <dcterms:modified xsi:type="dcterms:W3CDTF">2013-06-25T14:59:55Z</dcterms:modified>
  <cp:revision>2</cp:revision>
  <dc:subject/>
  <dc:title>Slide 1</dc:title>
</cp:coreProperties>
</file>