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E7A32-F3E2-4E1C-882F-CF702B07B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6B84A-2982-407E-B66D-F1AC2489C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04FD5-7837-4C2A-8A13-7424A0ECE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A9D51-BFBF-4333-A7FD-8B31DFC8B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5C90E-A835-4128-95F3-EBBB7AC08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8C4DF-F207-49D9-BB92-3EB842FCF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B9B91-1FE7-4509-B400-BB579EC60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EAEC3-CFA6-473E-8E40-8505238B7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8B2FC-17CC-4149-A6E9-9940A83B0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B5A0C-0FE9-484E-8E97-3425E9260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80875-637F-45BA-BCF8-B36FE7E9C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7E774-AF91-4BF3-B17E-26AC126D9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C9DCE-016F-46D1-99E8-6BD8B4BB565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tretch/>
        </p:blipFill>
        <p:spPr>
          <a:xfrm>
            <a:off x="755640" y="0"/>
            <a:ext cx="7345440" cy="6669000"/>
          </a:xfrm>
          <a:prstGeom prst="rect">
            <a:avLst/>
          </a:prstGeom>
          <a:ln w="0">
            <a:noFill/>
          </a:ln>
        </p:spPr>
      </p:pic>
      <p:pic>
        <p:nvPicPr>
          <p:cNvPr id="42" name="001_A_045_U Kyaw Naing.mp3" descr=""/>
          <p:cNvPicPr/>
          <p:nvPr/>
        </p:nvPicPr>
        <p:blipFill>
          <a:blip r:embed="rId2"/>
          <a:stretch/>
        </p:blipFill>
        <p:spPr>
          <a:xfrm>
            <a:off x="8604360" y="479736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1504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0" y="657360"/>
            <a:ext cx="8907480" cy="51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1T03:33:50Z</dcterms:created>
  <dc:creator>ukyawnaing</dc:creator>
  <dc:description/>
  <dc:language>en-US</dc:language>
  <cp:lastModifiedBy>ds0929</cp:lastModifiedBy>
  <dcterms:modified xsi:type="dcterms:W3CDTF">2013-06-25T14:58:25Z</dcterms:modified>
  <cp:revision>3</cp:revision>
  <dc:subject/>
  <dc:title>Slide 1</dc:title>
</cp:coreProperties>
</file>