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62A-8960-49FD-9A98-90698E3F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AA5-AAE5-4772-AFA9-D33FD188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5B8-ED08-400D-AE8C-C8D0C1F8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2E60-B5B1-45A8-A3A1-109349EC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07B-394C-4940-B046-DAD36BE7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8304-2EF8-4AF6-B36A-6653F16B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3336-F4F6-43D1-B45E-B44F94C0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99F1-CF3F-4A78-8926-A39A0F99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48A8-D928-434C-8158-60948BDA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97FA-9286-4AB3-8DE3-9C0ADFFC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245-FFFB-40F0-AE09-2C20BD86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D9AF-9D20-41E6-A619-F5713B02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9F18-4BC3-4D3A-B4A9-44A0E65755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619280" y="17640"/>
            <a:ext cx="5905440" cy="682272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6_U Kyaw Naing.mp3" descr=""/>
          <p:cNvPicPr/>
          <p:nvPr/>
        </p:nvPicPr>
        <p:blipFill>
          <a:blip r:embed="rId2"/>
          <a:stretch/>
        </p:blipFill>
        <p:spPr>
          <a:xfrm>
            <a:off x="7956720" y="458136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77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2:56:50Z</dcterms:created>
  <dc:creator>ukyawnaing</dc:creator>
  <dc:description/>
  <dc:language>en-US</dc:language>
  <cp:lastModifiedBy>ds0929</cp:lastModifiedBy>
  <dcterms:modified xsi:type="dcterms:W3CDTF">2013-06-25T14:45:53Z</dcterms:modified>
  <cp:revision>2</cp:revision>
  <dc:subject/>
  <dc:title>Slide 1</dc:title>
</cp:coreProperties>
</file>