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3B1-2D32-4FC1-BFB8-A8524719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6E6-5AE4-4AF6-9105-4A2BC836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691-7E3D-42AD-BF7D-DE06C510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14E-C9FC-475D-BB78-36C8A298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364-11DD-4F3D-8960-12386E4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FF8-B910-4B75-874A-F92FF9E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4D6-E853-4781-9E89-2E1DB140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82D-4777-4297-B994-3FA2F6E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FE0-4DFD-4EC4-99F4-BA6A67C9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C69-F604-45CF-AF08-E9E1C63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97C-B352-456D-855C-FA31B07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C9E-60A9-45FD-B539-7B02FE30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FCF0-E06B-452E-9C80-8002445FB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9096480" cy="52718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9_U Kyaw Naing.mp3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6:29Z</dcterms:created>
  <dc:creator>ukyawnaing</dc:creator>
  <dc:description/>
  <dc:language>en-US</dc:language>
  <cp:lastModifiedBy>ds0929</cp:lastModifiedBy>
  <dcterms:modified xsi:type="dcterms:W3CDTF">2013-06-25T14:55:47Z</dcterms:modified>
  <cp:revision>2</cp:revision>
  <dc:subject/>
  <dc:title>Slide 1</dc:title>
</cp:coreProperties>
</file>