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958-1503-47ED-B961-88F81608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2FB-0335-44AE-8FDD-C515F25B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D26-A98F-4AC7-91C0-C39691A4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F77-FCC7-439B-ADDE-63677B06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04E-79B1-439E-95B7-2472F936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071-8C40-445B-A44A-975EB867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FFE-0ABB-4DCF-8D56-6D68DF8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D7B-121B-487B-B421-064DC5B8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CAB-4448-4AC4-9D70-266CEC3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C39-3A40-4E09-A835-1F11E54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C73-F3BC-4F69-A25F-5BE64771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771-ACEA-4AD2-B923-B78E9EC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FE6B-D4AB-4DB1-AD57-7D4D717478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25280" y="836640"/>
            <a:ext cx="8893440" cy="5184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1_U Kyaw Naing.mp3" descr=""/>
          <p:cNvPicPr/>
          <p:nvPr/>
        </p:nvPicPr>
        <p:blipFill>
          <a:blip r:embed="rId2"/>
          <a:stretch/>
        </p:blipFill>
        <p:spPr>
          <a:xfrm>
            <a:off x="298764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7:49Z</dcterms:created>
  <dc:creator>ukyawnaing</dc:creator>
  <dc:description/>
  <dc:language>en-US</dc:language>
  <cp:lastModifiedBy>ds0929</cp:lastModifiedBy>
  <dcterms:modified xsi:type="dcterms:W3CDTF">2013-06-25T14:56:40Z</dcterms:modified>
  <cp:revision>2</cp:revision>
  <dc:subject/>
  <dc:title>Slide 1</dc:title>
</cp:coreProperties>
</file>