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E43-2A64-403A-B02A-98D99006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B97-478F-498B-85A0-0256C03A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235-15A1-4BA0-AFCD-1AF549E7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174-6C65-4C58-9B8B-AD2E9E38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C7C-C358-44D8-A31E-B78B6A6B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6C0-0B55-471B-ABDE-7126F2F5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A8E-7785-4B62-A1E0-FED0482F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545-B4BF-48D0-AB85-523BB90B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D93-888E-4C99-9F78-26A55C7E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72B-4F3B-4915-8EC0-0367503B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D3F-22D3-4CE9-95A4-64910C5C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D3B-EDF8-4394-A46D-174B9B2B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0D1C-6E9A-4B2D-914B-C10873B850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76360" y="0"/>
            <a:ext cx="5730840" cy="2716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1403280" y="2565360"/>
            <a:ext cx="5732640" cy="1346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1403280" y="4005360"/>
            <a:ext cx="5472360" cy="285264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4"/>
          <a:stretch/>
        </p:blipFill>
        <p:spPr>
          <a:xfrm>
            <a:off x="788508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3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39:24Z</dcterms:created>
  <dc:creator>ukyawnaing</dc:creator>
  <dc:description/>
  <dc:language>en-US</dc:language>
  <cp:lastModifiedBy>ds0929</cp:lastModifiedBy>
  <dcterms:modified xsi:type="dcterms:W3CDTF">2013-06-25T14:40:02Z</dcterms:modified>
  <cp:revision>2</cp:revision>
  <dc:subject/>
  <dc:title>Slide 1</dc:title>
</cp:coreProperties>
</file>