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347-CEEC-4B73-8CD3-2DE8886D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2DC-31D5-4C9F-B8E4-AF7748DF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6C6-7E98-4279-9BDA-389F88AC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B0D-7D9D-4244-9086-850C45DA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AAE-2075-455D-BA81-3DB1CD2E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235-26D7-4D48-9189-409A229C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797-87AD-4C03-9FAA-07F382BC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9F1-809F-41F8-A721-15BEC3BC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EFF-33CF-48AD-B885-7C07969B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E32-43CC-4618-ABFB-1596D3D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5FF-8742-40BB-9857-C0F415C6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261-B03D-437B-A7DA-8BA1B90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1FC7-53A2-4094-9867-156644948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28880" y="549360"/>
            <a:ext cx="6999120" cy="568944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7_U Kyaw Naing.mp3" descr=""/>
          <p:cNvPicPr/>
          <p:nvPr/>
        </p:nvPicPr>
        <p:blipFill>
          <a:blip r:embed="rId2"/>
          <a:stretch/>
        </p:blipFill>
        <p:spPr>
          <a:xfrm>
            <a:off x="838836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0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547640"/>
            <a:ext cx="929628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57:34Z</dcterms:created>
  <dc:creator>ukyawnaing</dc:creator>
  <dc:description/>
  <dc:language>en-US</dc:language>
  <cp:lastModifiedBy>ds0929</cp:lastModifiedBy>
  <dcterms:modified xsi:type="dcterms:W3CDTF">2013-06-25T14:46:18Z</dcterms:modified>
  <cp:revision>2</cp:revision>
  <dc:subject/>
  <dc:title>Slide 1</dc:title>
</cp:coreProperties>
</file>