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D61-5777-4C8E-A295-C0914A2E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39D-45BA-4259-A414-A664BE75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7E5-B1A4-416D-82C5-8FDE06C6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C0B-96D6-43F7-A294-AA89DDED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49A-1FCF-4C61-ADA8-A02FEC88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AC2-90AE-4B74-8CC3-5B3C7726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09B-8B17-45B7-ACE0-99B04F5C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C16-20B7-408B-9333-B77AAD57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628-B4F4-4876-80BB-A81BAAD0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DCE-7C2B-44BC-8C0B-FD6E6CDB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548-78BD-4572-9641-047D513A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442-219B-4F67-B741-EF184FDA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CF99-3C40-4DC5-BAF4-3733AB0EC2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06400" y="-19080"/>
            <a:ext cx="5731200" cy="68961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40_U Kyaw Naing.mp3" descr=""/>
          <p:cNvPicPr/>
          <p:nvPr/>
        </p:nvPicPr>
        <p:blipFill>
          <a:blip r:embed="rId2"/>
          <a:stretch/>
        </p:blipFill>
        <p:spPr>
          <a:xfrm>
            <a:off x="752472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7:07Z</dcterms:created>
  <dc:creator>ukyawnaing</dc:creator>
  <dc:description/>
  <dc:language>en-US</dc:language>
  <cp:lastModifiedBy>ds0929</cp:lastModifiedBy>
  <dcterms:modified xsi:type="dcterms:W3CDTF">2013-06-25T14:56:15Z</dcterms:modified>
  <cp:revision>2</cp:revision>
  <dc:subject/>
  <dc:title>Slide 1</dc:title>
</cp:coreProperties>
</file>