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574B-88F3-4137-886F-FF193D9C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6BF4-0503-439D-80A0-45B2D951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6185-599C-442B-BF1D-1CFBB325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BD75-A857-42A5-BAEC-7A09992C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BD62-0DE7-459F-AFE0-C91ECBA7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E9DC-C829-4C62-9B1F-598FA515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19D1-A163-4914-A3AF-A7308359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1C99-B353-4B6B-B0A7-ABBA6BF7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6172-5630-4198-A4FB-7E2340CE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75DB-A465-4871-8DD8-CAE9834A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CFEE-E5C6-47D9-A411-47C553E2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1D96-6951-40C1-BF41-24E77C28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1900-6C22-4C65-A6F7-CF0E916F9D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8440" y="0"/>
            <a:ext cx="9087120" cy="7343640"/>
          </a:xfrm>
          <a:prstGeom prst="rect">
            <a:avLst/>
          </a:prstGeom>
          <a:ln w="0">
            <a:noFill/>
          </a:ln>
        </p:spPr>
      </p:pic>
      <p:pic>
        <p:nvPicPr>
          <p:cNvPr id="42" name="001_A_046_U Kyaw Naing.mp3" descr=""/>
          <p:cNvPicPr/>
          <p:nvPr/>
        </p:nvPicPr>
        <p:blipFill>
          <a:blip r:embed="rId2"/>
          <a:stretch/>
        </p:blipFill>
        <p:spPr>
          <a:xfrm>
            <a:off x="8459640" y="661356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72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35:06Z</dcterms:created>
  <dc:creator>ukyawnaing</dc:creator>
  <dc:description/>
  <dc:language>en-US</dc:language>
  <cp:lastModifiedBy>ds0929</cp:lastModifiedBy>
  <dcterms:modified xsi:type="dcterms:W3CDTF">2013-06-25T14:58:50Z</dcterms:modified>
  <cp:revision>2</cp:revision>
  <dc:subject/>
  <dc:title>Slide 1</dc:title>
</cp:coreProperties>
</file>