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C81-5859-40EB-B7B5-8E52FF95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125-7897-4539-B989-FCF59730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C7D7-C0CB-42C7-BE66-FE55CF03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58D-D94C-41EE-93E3-E50A1B84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EEC-A8DD-4CBB-AC87-14CD9196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267-84EA-4BF9-80E7-C48971FE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871-B811-4181-971F-9852B70F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92B-DC0B-44D0-8249-D8B4031A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575-08D3-43DD-B7B1-F37922DC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562-324A-4B92-9E3A-94F6A321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F5B-0C99-47C4-A128-F32E480A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6DC-E12B-4FA7-9C6B-451035C5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3483-087B-4B05-BCF3-4F4EE08E5D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328680"/>
            <a:ext cx="9258480" cy="620064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1_U Kyaw Naing.mp3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8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2:51:26Z</dcterms:created>
  <dc:creator>ukyawnaing</dc:creator>
  <dc:description/>
  <dc:language>en-US</dc:language>
  <cp:lastModifiedBy>ds0929</cp:lastModifiedBy>
  <dcterms:modified xsi:type="dcterms:W3CDTF">2013-06-25T14:44:01Z</dcterms:modified>
  <cp:revision>2</cp:revision>
  <dc:subject/>
  <dc:title>Slide 1</dc:title>
</cp:coreProperties>
</file>