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515-CD0C-4938-875B-6E591C1D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C3F-7CD8-4C42-B537-CD8750E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D7F-A391-428D-913D-3635E328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036-DFD0-47CA-B6DA-1D4B0587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DDF-AD10-4660-9210-DC8F63F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AD2-7E6C-4B5E-AE11-0455315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62B-00AC-4A49-BB32-AA3E2E67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525-E3C3-4A5F-BEA9-E183FCF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EA3-F1DD-4028-8253-FF7E0F9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DCE-F71C-43D4-899F-EB8E4A9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5D8-384C-49BC-8477-26C4569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538-0134-4F5C-B68F-2C1C8E2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7CD-FD03-4EE4-BFCA-E6C7233575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86880" cy="73058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7_U Kyaw Naing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5:19Z</dcterms:created>
  <dc:creator>ukyawnaing</dc:creator>
  <dc:description/>
  <dc:language>en-US</dc:language>
  <cp:lastModifiedBy>ds0929</cp:lastModifiedBy>
  <dcterms:modified xsi:type="dcterms:W3CDTF">2013-06-25T14:55:02Z</dcterms:modified>
  <cp:revision>2</cp:revision>
  <dc:subject/>
  <dc:title>Slide 1</dc:title>
</cp:coreProperties>
</file>