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D5D3-C6BF-4483-9AA5-D8DF01325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3423-C894-4793-A11C-031DD500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4877-84C2-477D-B1E7-8DFFF8E1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83E-8199-4A8C-8D01-44EB3613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0C5B-04CF-43AA-8D5C-1C472FC3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FE13-DE0C-4487-A9B2-16EF9F8A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19EE-B5E1-41B0-8AB4-1D45C3F57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DEAC-D4CF-4BD4-B82F-607D519E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3B8F-5596-46E9-962B-74383D00C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D30C-B668-4297-B32E-08D7BDF1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1F68-6D1E-474C-8B53-065B734A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8FC-C6A4-4392-9D2C-4ABFDBB6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6399-78AA-4BA2-BCA7-2FD445A727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684360" y="549360"/>
            <a:ext cx="792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Calibri"/>
              </a:rPr>
              <a:t>Systems Analysis. A group of components of a system may also be a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uch a group is called a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ubsystem. It, too, may be designed as a system, but 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oal must be to assist the system of which it is a component to meet its objec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imilarly, a group of components of a subsystem may also be a system. That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s called a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ubsub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116000" y="2565360"/>
            <a:ext cx="588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at does each component (or subsystem)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at does the component do it 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ow does the component serve its fun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at else does the component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y does the component do the things it do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at must the component really 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an it be eliminated because it is not essential or because another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an assume its task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001_A_002_U Kyaw Naing.mp3" descr=""/>
          <p:cNvPicPr/>
          <p:nvPr/>
        </p:nvPicPr>
        <p:blipFill>
          <a:blip r:embed="rId1"/>
          <a:stretch/>
        </p:blipFill>
        <p:spPr>
          <a:xfrm>
            <a:off x="7451640" y="5373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438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2:20:31Z</dcterms:created>
  <dc:creator>ukyawnaing</dc:creator>
  <dc:description/>
  <dc:language>en-US</dc:language>
  <cp:lastModifiedBy>ds0929</cp:lastModifiedBy>
  <dcterms:modified xsi:type="dcterms:W3CDTF">2013-06-24T11:46:44Z</dcterms:modified>
  <cp:revision>2</cp:revision>
  <dc:subject/>
  <dc:title>Slide 1</dc:title>
</cp:coreProperties>
</file>