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7823-1BA8-4F82-8C70-454DA21D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959-08C7-459F-AC2A-C50ABD1AF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0B2-4220-4F33-8315-B6A6BE14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D98-2861-4D3A-88B2-AF8E32F73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5EF-773A-4B6D-BAF3-6A41357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35D1-0FFA-46B2-ADA1-76AF1E53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D12-FD55-4434-902B-FABDB39A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86CD-F3DB-4388-B24F-B1BCD8A5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6F3B-4DAC-464D-8B61-D6B5B5E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D6BC-4428-43EA-B1ED-479BA38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60B-AB2C-434D-8BAB-1E97D6FC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29FE-91DD-40F2-AF14-2E06F214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6118-9D33-4069-AB73-6BAE7FC75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11280" y="18900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rdwar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provided to enable the door to function as required. For example, hinges are provided for swinging doors, and guides are installed for sliding doo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ocks or latches are placed in or on doors to prevent them from being opene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Knobs or pulls are attached to doors for hand contro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611280" y="2690640"/>
            <a:ext cx="7200720" cy="3402360"/>
          </a:xfrm>
          <a:prstGeom prst="rect">
            <a:avLst/>
          </a:prstGeom>
          <a:ln w="0">
            <a:noFill/>
          </a:ln>
        </p:spPr>
      </p:pic>
      <p:pic>
        <p:nvPicPr>
          <p:cNvPr id="43" name="001_A_010_U Kyaw Naing.mp3" descr=""/>
          <p:cNvPicPr/>
          <p:nvPr/>
        </p:nvPicPr>
        <p:blipFill>
          <a:blip r:embed="rId2"/>
          <a:stretch/>
        </p:blipFill>
        <p:spPr>
          <a:xfrm>
            <a:off x="7885080" y="5013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9632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187280" y="1052640"/>
            <a:ext cx="6985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7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ypes of partition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non-load-bearing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gypsumboard on metal studs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ypsumboard face panels laminated to a gypsum core panel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concrete bearing wall, floor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beams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eprinted with permission from F. S. Merritt and J. Ambrose, ‘‘Building Engine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nd Systems Design,’’ 2d ed., Van Nostrand Reinhold, New York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04:56Z</dcterms:created>
  <dc:creator>Administrator</dc:creator>
  <dc:description/>
  <dc:language>en-US</dc:language>
  <cp:lastModifiedBy>ds0929</cp:lastModifiedBy>
  <dcterms:modified xsi:type="dcterms:W3CDTF">2013-06-24T11:49:49Z</dcterms:modified>
  <cp:revision>3</cp:revision>
  <dc:subject/>
  <dc:title>PowerPoint Presentation</dc:title>
</cp:coreProperties>
</file>