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EB3-E7D0-462E-96AF-BE17529FC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0138-349E-4169-AD79-934AEC1F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13B0-7029-4061-9ADD-E79692A1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C13-4342-4F79-ACB0-7C7750BD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B82-28D2-4A60-B0AA-C195E321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505-B339-4E5E-9D13-4893086A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B4FD-D2EC-432A-B3ED-733167C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0AA8-C528-478F-9322-3AD3493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643B-3F23-431E-928C-AA1395C2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CAA-8033-424F-ACA6-95FB32E5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AE49-BFBD-46CE-914B-958FCC38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E55E-5991-44BD-8005-E5A7FEE8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97D29-23EA-48E3-9DCB-167ACC4D38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6046920" cy="4626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534960" y="5184720"/>
            <a:ext cx="78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5   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ypes of exterior wall construction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concrete-block wal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wood-framed wall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recast-concrete curtain wal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001_A_005_U Kyaw Naing.mp3" descr=""/>
          <p:cNvPicPr/>
          <p:nvPr/>
        </p:nvPicPr>
        <p:blipFill>
          <a:blip r:embed="rId2"/>
          <a:stretch/>
        </p:blipFill>
        <p:spPr>
          <a:xfrm>
            <a:off x="7885080" y="43657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1116000" y="196920"/>
            <a:ext cx="73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Exterior wal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nclose a building below the roof. The basis element in the wal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is a strong, durable, water-resistant facing. For added strength or lateral stability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this facing may be supplemented on the inner side by a backing or sheathing (Fi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. For esthetic purposes, an interior facing usually is placed on the inner s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 backing. A layer of insulation should be incorporated in walls to resi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passage of he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Generally, walls may be built of unit masonry, panels, framing, or a combin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these material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Unit masonry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s of small units, such as clay brick, concrete block, g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block, or clay tile, held together by a cement such as mortar. Figure 1.5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hows 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all built of concrete block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Panel wall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sist of units much larger than unit masonry. Made of meta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concrete, glass, plastics, or preassembled brick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8:33Z</dcterms:created>
  <dc:creator>Administrator</dc:creator>
  <dc:description/>
  <dc:language>en-US</dc:language>
  <cp:lastModifiedBy>ds0929</cp:lastModifiedBy>
  <dcterms:modified xsi:type="dcterms:W3CDTF">2013-06-24T11:47:55Z</dcterms:modified>
  <cp:revision>3</cp:revision>
  <dc:subject/>
  <dc:title>PowerPoint Presentation</dc:title>
</cp:coreProperties>
</file>