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958D-8FB0-409C-A37A-25639426A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90E9-B484-4D3D-8552-CF2D89DF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DA04-A509-471F-98BD-ECD02F72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33D2-3353-48D4-9161-21C42040C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9E24-EE13-40F6-B2EA-F3A5F3D7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1D56-77F5-4A6E-BD13-6F4840F5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C3C0-535B-4664-8328-0A95C5A9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4B4A-73D6-4E77-9672-F3F4E1A0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C39A-CE48-4778-8142-6248842A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FDA3-DF26-468F-9F7A-BE43D645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A799-79B4-43A6-B234-8BD3B898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6897-3581-4145-89AB-D7AAEDBB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EA48-E568-4A5F-A77D-17164AC370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50920" y="189000"/>
            <a:ext cx="3025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Calibri"/>
              </a:rPr>
              <a:t>Low Buildings.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igure 3.4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llustrates the application of diagonal bracing to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ow, industrial-type building. Bracing in the plane of the roof acts with the rafter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ridge beam, and an edge roof beam as an inclined truss, which resists wind press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n the roof. Each truss transmits the wind load to the ends of the build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Diagonals in the end walls transmit the load to the foundations. Wind pressure on the end walls is resisted by diagonal bracing in the end panels of the longitudin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alls. Wind pressure on the longitudinal walls, like wind on the roof, is transmit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o the end wall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3287880" y="765000"/>
            <a:ext cx="5532120" cy="29512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3486240" y="4005360"/>
            <a:ext cx="518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3.4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racing of low buildings: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diagonal bracing in roofs and walls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isolated pai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f shear walls in a T pattern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service-core enclosure used as shear walls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shear walls at e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f building and rigid frames in the perpendicular dire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001_A_015_U Kyaw Naing.mp3" descr=""/>
          <p:cNvPicPr/>
          <p:nvPr/>
        </p:nvPicPr>
        <p:blipFill>
          <a:blip r:embed="rId2"/>
          <a:stretch/>
        </p:blipFill>
        <p:spPr>
          <a:xfrm>
            <a:off x="7885080" y="6021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11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7:53:27Z</dcterms:created>
  <dc:creator>Administrator</dc:creator>
  <dc:description/>
  <dc:language>en-US</dc:language>
  <cp:lastModifiedBy>ds0929</cp:lastModifiedBy>
  <dcterms:modified xsi:type="dcterms:W3CDTF">2013-06-24T11:51:28Z</dcterms:modified>
  <cp:revision>3</cp:revision>
  <dc:subject/>
  <dc:title>PowerPoint Presentation</dc:title>
</cp:coreProperties>
</file>