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AADF-3726-4B0B-9DA5-28F6E017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A782-51D6-4EE7-9AC3-C0AC3BA4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3E04-3BFF-41FC-A2E4-2A54735E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6B6-C2D5-4DA2-827B-61AB0C9CC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3A4-C2EC-4AC3-B841-0871BD92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684-1C1C-40DB-9676-C65CFE3F7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4852-8E5F-491B-9C6D-8DD0E0A6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56C5-9FC2-4325-A84C-DDD54783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B537-0826-4456-8312-41CE958A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262-BA47-454E-B982-CB31678D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B747-92DB-4A83-B731-229B812C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86D-1E34-455F-AC2C-793C6FED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D1DC-5A2E-45C2-974E-FA61E03153B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basic traditional design procedure (Art. 1.3), which has been widely used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ny years, and commonly used variations of it have resulted in many excell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ildings. It needs improvement, however, because clients cannot be certain th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ts use gives the best value for the money or that the required performance cou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ot have been attained at lower cost. The uncertainty arises because historically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1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ctual construction costs often exceed low bids or negotiated prices, because of design changes during construction;  unanticipated  delays during  construction, which increase costs; and unforeseen conditions, such as unexpectedly poor sub- surface conditions that make excavation and foundation  construction more ex- pensi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truction, operation, or maintenance costs are higher than estimated, because of design mistakes or omissio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paration of design and construction into different specialties leads to  under- estimated or overestimated construction costs and antagonistic relations between designers and builde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truction costs are kept within the client’s budget at the expense of  later higher operating, maintenance, and repair cos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5.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ordination of the output of architects and consultants is not sufficiently close for production of an optimum building for the client’s actual nee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3_U Kyaw Naing.mp3" descr=""/>
          <p:cNvPicPr/>
          <p:nvPr/>
        </p:nvPicPr>
        <p:blipFill>
          <a:blip r:embed="rId1"/>
          <a:stretch/>
        </p:blipFill>
        <p:spPr>
          <a:xfrm>
            <a:off x="759636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33:33Z</dcterms:created>
  <dc:creator>Administrator</dc:creator>
  <dc:description/>
  <dc:language>en-US</dc:language>
  <cp:lastModifiedBy>ds0929</cp:lastModifiedBy>
  <dcterms:modified xsi:type="dcterms:W3CDTF">2013-06-24T11:51:01Z</dcterms:modified>
  <cp:revision>4</cp:revision>
  <dc:subject/>
  <dc:title>PowerPoint Presentation</dc:title>
</cp:coreProperties>
</file>