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12C1-91FD-4819-B012-1DAAF7FB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607-C943-410C-AFAE-25D433AE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0243-15A8-4C8F-909A-1DD06D7D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8C49-7C02-4EB7-9410-0145ECDF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A92D-2A92-4D87-923E-3ABBFC89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0F3-C437-4A1D-82AE-6B66A938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73A-D582-40AD-A400-2ED36226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97C-2292-419A-AB6C-67F6A647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AF8-A74A-41FF-BE1F-DA0EC7B2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B23C-CABB-4930-ADE6-3814EFD6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6C56-D480-4674-9454-9D3F9A3E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FBC-9555-4533-9910-BD0BEE1D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2614-C5C2-4A58-B8B4-B26E68581C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7848720" cy="5399280"/>
          </a:xfrm>
          <a:prstGeom prst="rect">
            <a:avLst/>
          </a:prstGeom>
          <a:ln w="0">
            <a:noFill/>
          </a:ln>
        </p:spPr>
      </p:pic>
      <p:pic>
        <p:nvPicPr>
          <p:cNvPr id="42" name="001_A_009_U Kyaw Naing.mp3" descr=""/>
          <p:cNvPicPr/>
          <p:nvPr/>
        </p:nvPicPr>
        <p:blipFill>
          <a:blip r:embed="rId2"/>
          <a:stretch/>
        </p:blipFill>
        <p:spPr>
          <a:xfrm>
            <a:off x="7956720" y="595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20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468360" y="260280"/>
            <a:ext cx="770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eiling is suspended below a floor or roof for esthetic or other reasons. Figure 1.6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shows such a ceiling. It is formed with acoustical panels and incorporates a lighting fixture and air-conditioning inlets and outle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etal and wood subfloors and beams require fire protection. Figure 1.6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h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 roof and its steel beams protected on the underside by a sprayed-on mineral fib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igure 1.6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hows a roof and open-web steel joists protected on the underside by a continuous, suspended, fire-resistant ceiling. As an alternative to encasement in or shielding by a fire-resistant material, wood may be made fire-resistant by treatment with a fire-retardant chemic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7:02:38Z</dcterms:created>
  <dc:creator>Administrator</dc:creator>
  <dc:description/>
  <dc:language>en-US</dc:language>
  <cp:lastModifiedBy>ds0929</cp:lastModifiedBy>
  <dcterms:modified xsi:type="dcterms:W3CDTF">2013-06-24T11:49:28Z</dcterms:modified>
  <cp:revision>3</cp:revision>
  <dc:subject/>
  <dc:title>PowerPoint Presentation</dc:title>
</cp:coreProperties>
</file>