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E346-A89E-4CF0-9A18-9A4A1AF1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E6F-E76C-4F44-A41F-5EBEA20F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101C-F580-4ACF-8977-6CB8D8B6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0B58-AA09-4C12-AA7D-4F759249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F55-51E1-4443-BD7A-23EBAF17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9EA-098E-4372-8714-E682D62F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5A9E-F356-43BC-B676-DF7D12E9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7793-780B-4222-9271-766CB0B0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05E-218E-4EEA-827D-C918E91B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F6E-4956-4A89-9D74-50B2C323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A28-F64A-4184-88BA-7BB903E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9BDD-AA7C-4CAD-8D4E-FD36E9C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7965-66ED-4407-BE6B-54929358C6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468360" y="11592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penings are provided in exterior walls for a variety of purposes, but mai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windows and doors. Where openings occur, structural support must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ver them to carry the weight of the wall above and any other loads on that por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the wall. Usually, a beam called a lintel is placed over openings in mason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s (Fig. 1.5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and a beam called a top header is set over openings in woodfram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window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usually consists of transparent glass or plastics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(glazing)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held in 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y light framing, called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ash.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window is fitted into a frame secured to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s (Fig. 1.5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 For sliding windows, the frame carries guides in which the sa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lides. For swinging windows, stops against which the window closes are built in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fram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ardware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provided to enable the window to function as required. For mov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indows, the hardware includes grips for moving them, locks, hinges f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winging windows, and sash balances and pulleys for vertically sliding window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e main purposes of windows are to illuminate the building interior with dayligh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o ventilate the interior, and to give occupants a view of the outside. For re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ores, windows may have the major purpose of giving passersby a view of i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displayed inside. (See also Sec. 11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Doo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installed in exterior walls to give access to or from the interior or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revent such access. For similar reasons, doors are also provided in interior wa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nd partitions. Thus, a door may be part of a system for enclosing a building or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mponent of a system for enclosing interior spac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07_U Kyaw Naing.mp3" descr=""/>
          <p:cNvPicPr/>
          <p:nvPr/>
        </p:nvPicPr>
        <p:blipFill>
          <a:blip r:embed="rId1"/>
          <a:stretch/>
        </p:blipFill>
        <p:spPr>
          <a:xfrm>
            <a:off x="8317080" y="623736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12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55:59Z</dcterms:created>
  <dc:creator>Administrator</dc:creator>
  <dc:description/>
  <dc:language>en-US</dc:language>
  <cp:lastModifiedBy>ds0929</cp:lastModifiedBy>
  <dcterms:modified xsi:type="dcterms:W3CDTF">2013-06-24T11:48:42Z</dcterms:modified>
  <cp:revision>4</cp:revision>
  <dc:subject/>
  <dc:title>PowerPoint Presentation</dc:title>
</cp:coreProperties>
</file>