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27BD4D-F3ED-4A9A-BD3F-D01CE930C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9A78B-945D-49C8-A3C3-AE5222154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B38FD3-5E7A-4602-94A6-921D9AE116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C8073-4F28-4D80-957C-AC5AA6651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B41A4-4339-4104-BA50-3500D3619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ABC69-7A5B-48AD-BB17-CBE776A12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681FF-B247-40B2-B51C-6685FD54B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C88A-9665-4D56-B2D5-81519DA22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0D23A-CBC6-4211-B128-76EF35DF0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DD35B-C959-437F-B8CA-8C5717953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A046-64D8-439E-9AA0-2AA344699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949AC-D310-450A-8A1F-C877FDAD9A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D56C4-5275-4349-B254-72C4116BDDD2}"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95280" y="260280"/>
            <a:ext cx="82803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Drain tile should have a minimum diameter of 6 in and should be laid in gravel or other kind of porous bed at least 6 in below the basement floor. The open joints between the tile should be covered with a wire screen or building paper to prevent clogging of the drain with fine material. Gravel should be laid above the tile, filling the excavation to an elevation well above the top of the footing. Where considerable water may be expected in heavy soil, the gravel fill should be carried up nearly to the ground surface and should extend from the wall a distance of at least 12 in (Fig. 3.7).</a:t>
            </a:r>
            <a:endParaRPr b="0" lang="en-US" sz="1800" spc="-1" strike="noStrike">
              <a:solidFill>
                <a:srgbClr val="000000"/>
              </a:solidFill>
              <a:latin typeface="Calibri"/>
            </a:endParaRPr>
          </a:p>
        </p:txBody>
      </p:sp>
      <p:pic>
        <p:nvPicPr>
          <p:cNvPr id="42" name="Picture 4" descr=""/>
          <p:cNvPicPr/>
          <p:nvPr/>
        </p:nvPicPr>
        <p:blipFill>
          <a:blip r:embed="rId1"/>
          <a:stretch/>
        </p:blipFill>
        <p:spPr>
          <a:xfrm>
            <a:off x="3132000" y="2610000"/>
            <a:ext cx="3672000" cy="2547720"/>
          </a:xfrm>
          <a:prstGeom prst="rect">
            <a:avLst/>
          </a:prstGeom>
          <a:ln w="0">
            <a:noFill/>
          </a:ln>
        </p:spPr>
      </p:pic>
      <p:sp>
        <p:nvSpPr>
          <p:cNvPr id="43" name="Rectangle 5"/>
          <p:cNvSpPr/>
          <p:nvPr/>
        </p:nvSpPr>
        <p:spPr>
          <a:xfrm>
            <a:off x="1476360" y="5373720"/>
            <a:ext cx="61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FIGURE  3.7    </a:t>
            </a:r>
            <a:r>
              <a:rPr b="0" lang="en-AU" sz="1800" spc="-1" strike="noStrike">
                <a:solidFill>
                  <a:srgbClr val="000000"/>
                </a:solidFill>
                <a:latin typeface="Calibri"/>
              </a:rPr>
              <a:t>Drainage  at  the  bottom  of  a foundation wall.</a:t>
            </a:r>
            <a:endParaRPr b="0" lang="en-US" sz="1800" spc="-1" strike="noStrike">
              <a:solidFill>
                <a:srgbClr val="000000"/>
              </a:solidFill>
              <a:latin typeface="Calibri"/>
            </a:endParaRPr>
          </a:p>
        </p:txBody>
      </p:sp>
      <p:pic>
        <p:nvPicPr>
          <p:cNvPr id="44" name="001_A_018_U Kyaw Naing.mp3" descr=""/>
          <p:cNvPicPr/>
          <p:nvPr/>
        </p:nvPicPr>
        <p:blipFill>
          <a:blip r:embed="rId2"/>
          <a:stretch/>
        </p:blipFill>
        <p:spPr>
          <a:xfrm>
            <a:off x="8101080" y="530064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5472"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8:01:35Z</dcterms:created>
  <dc:creator>Administrator</dc:creator>
  <dc:description/>
  <dc:language>en-US</dc:language>
  <cp:lastModifiedBy>ds0929</cp:lastModifiedBy>
  <dcterms:modified xsi:type="dcterms:W3CDTF">2013-06-24T11:52:46Z</dcterms:modified>
  <cp:revision>4</cp:revision>
  <dc:subject/>
  <dc:title>PowerPoint Presentation</dc:title>
</cp:coreProperties>
</file>