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966-1A62-462B-8B4A-86F64787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DA93-DC9B-44E2-B815-8C9F34BB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1E2A-93F7-45AB-B5D9-1FF0CEDFB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81D-E608-4A79-9085-5F70DD54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52FE-74CF-43E8-9245-A65DFF2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D54-1B58-4073-B3BF-78183B04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36B-5B6C-4E6A-98F4-63DEA8FD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D935-B705-41C6-AC6E-751E2A7B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B4AE-4313-4E06-8FB5-75678C99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8C1-2D08-4A0E-A888-9C3478CA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63D-B7DC-4853-9AB3-D4ABF8F1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77D-F91D-43AE-BE94-CCC1AE8C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A41F-1A95-4E12-A40F-51AF5A6EAB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260280"/>
            <a:ext cx="8208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tairway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s of a series of steps and landings. Each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tep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s of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rizontal platform, or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tread,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a vertical separation or enclosure, called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i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Fig. 1.9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 Railings are placed along the sides of the stairway and floor opening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safety reasons. Also, structural members may be provided to support the st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the floor edges. Often, in addition, the stairway must be enclosed for f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otec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Escalators,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powered stairs, are installed in such buildings as depart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ores and transportation terminals, or in the lower stories of office buildings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otels, where there is heavy pedestrian traffic between floors. Such powered stai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 basically of a conveyor belt with steps attached; an electric motor for mov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belt, and steps, controls, and structural suppor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Elevato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installed to provide speedier vertical transportation, especially 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all buildings. Transportation is provided in an enclosed car that moves a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uides, usually within a fire-resistant vertical shaft but sometimes unenclosed alo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exterior of a building. The shaft, or the exterior wall, has openings, prot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y doors, at each floor to provide access to the elevator car. The car may be suspended on and moved by cables (Fig. 1.9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or set atop a piston moved by hydrau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essure (Fig. 1.9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re information on vertical-circulation elements is given in Sec. 16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12_U Kyaw Naing.mp3" descr=""/>
          <p:cNvPicPr/>
          <p:nvPr/>
        </p:nvPicPr>
        <p:blipFill>
          <a:blip r:embed="rId1"/>
          <a:stretch/>
        </p:blipFill>
        <p:spPr>
          <a:xfrm>
            <a:off x="795672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44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6840360" cy="4032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16000" y="465300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9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Vertical-circulation element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tair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electric traction elevator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hydraulic elevat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29:06Z</dcterms:created>
  <dc:creator>Administrator</dc:creator>
  <dc:description/>
  <dc:language>en-US</dc:language>
  <cp:lastModifiedBy>ds0929</cp:lastModifiedBy>
  <dcterms:modified xsi:type="dcterms:W3CDTF">2013-06-24T11:50:34Z</dcterms:modified>
  <cp:revision>4</cp:revision>
  <dc:subject/>
  <dc:title>PowerPoint Presentation</dc:title>
</cp:coreProperties>
</file>