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22C7-17F6-481A-841B-DA493919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DA1C-F75C-461B-84E0-D15CCE8CC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BFE-77B3-4499-8D9C-DFF01204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93F-C77B-40BC-9A48-FCE1E218F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496C-0F34-42A5-BF71-6DEA1ABE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879-7A95-411D-98C8-604BF917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D1D3-E532-4E7B-B715-5AF71406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8937-C909-488F-A537-7D7FE3EF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84B7-F205-4A18-A1A1-B5A24F61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F88-8A7B-4098-BE23-A627644D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EBAB-3EAE-43A7-910F-F477C8CB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C65-99CC-4DB8-A56F-CD9C9F35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3AF7-0A74-4107-BE1C-2D27282810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546120" y="655560"/>
            <a:ext cx="7575480" cy="3546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7308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755640" y="458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3.8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sulated concrete slab on ground with membrane dampproof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001_A_019_U Kyaw Naing.mp3" descr=""/>
          <p:cNvPicPr/>
          <p:nvPr/>
        </p:nvPicPr>
        <p:blipFill>
          <a:blip r:embed="rId2"/>
          <a:stretch/>
        </p:blipFill>
        <p:spPr>
          <a:xfrm>
            <a:off x="8028000" y="5732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10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8:06:46Z</dcterms:created>
  <dc:creator>Administrator</dc:creator>
  <dc:description/>
  <dc:language>en-US</dc:language>
  <cp:lastModifiedBy>ds0929</cp:lastModifiedBy>
  <dcterms:modified xsi:type="dcterms:W3CDTF">2013-06-24T11:53:07Z</dcterms:modified>
  <cp:revision>4</cp:revision>
  <dc:subject/>
  <dc:title>PowerPoint Presentation</dc:title>
</cp:coreProperties>
</file>