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CE67-4A1C-4970-94D3-989A8C64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26F4-52D2-4EFC-9F63-7EE56997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873-08F1-4C72-8EAA-29EDB19E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A84-EDDD-408F-A05B-F876F8B16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AFC-E8BD-47B0-8B23-B55279B5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A4B-B056-4EF9-9712-7C661F6E0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32A-601A-4B9D-B9BF-ACBF722C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1DB4-1DE1-4FE5-8AC3-E934A47A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E3B-82AF-4F20-96E4-4C255E094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F70A-3D7D-4505-ADE4-5A0DCCBA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2803-13E9-4CE4-8A49-C72491C0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74CF-45B8-4DDE-9C6B-8F3CE4C3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7EB8A-AED1-4848-9388-6745D74EF7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24000" y="692280"/>
            <a:ext cx="233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3.5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acing of tall building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a)diagonal bracing, rigid frames, or shear walls placed in planes (bents) parallel to the lateral forces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interior tube enclosing service cor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perforated tube enclosing the building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tube within a tube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bundled tub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662200" y="1700280"/>
            <a:ext cx="5942160" cy="3241440"/>
          </a:xfrm>
          <a:prstGeom prst="rect">
            <a:avLst/>
          </a:prstGeom>
          <a:ln w="0">
            <a:noFill/>
          </a:ln>
        </p:spPr>
      </p:pic>
      <p:pic>
        <p:nvPicPr>
          <p:cNvPr id="43" name="001_A_016_U Kyaw Naing.mp3" descr=""/>
          <p:cNvPicPr/>
          <p:nvPr/>
        </p:nvPicPr>
        <p:blipFill>
          <a:blip r:embed="rId2"/>
          <a:stretch/>
        </p:blipFill>
        <p:spPr>
          <a:xfrm>
            <a:off x="7667640" y="6021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776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7:56:53Z</dcterms:created>
  <dc:creator>Administrator</dc:creator>
  <dc:description/>
  <dc:language>en-US</dc:language>
  <cp:lastModifiedBy>ds0929</cp:lastModifiedBy>
  <dcterms:modified xsi:type="dcterms:W3CDTF">2013-06-24T11:51:50Z</dcterms:modified>
  <cp:revision>4</cp:revision>
  <dc:subject/>
  <dc:title>PowerPoint Presentation</dc:title>
</cp:coreProperties>
</file>