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B002-B232-4452-8B1D-9AFFE8A2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054-5EAA-4A8D-B6F9-9DBE4AC6D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4C5F-FAB7-451F-A569-413ACC858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6EE-74F2-4B4C-8CD4-137BA80B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59B-5680-4223-8966-6AD69826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5CF-E5F8-4EC3-8EDC-932144ED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6DA2-EFB5-4200-B1DA-BD205C05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060-63C8-41BD-8542-0A1AA8BC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37E-ADEB-425D-AFF4-D0FDB6DF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B31-6EE8-4959-847E-8D581C21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EDE-2092-4CAF-A680-F33AB4C8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1FAE-5B58-49A3-9290-226EB770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665E-2D05-4FB2-AD0F-178D41EF1C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333360"/>
            <a:ext cx="813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4.33 MECHANICAL PROPERTIES OF WOO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ecause of its structure, wood has different strength properties parallel and perpendicular to the grain. Tensile, bending, and compressive strengths are grea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rallel to the grain and least across the grain, whereas shear strength is le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rallel to the grain and greatest across the grain. Except in plywood, the shear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rength of wood is usually governed by the parallel-to-grain direction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98320" y="1717560"/>
            <a:ext cx="770436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is graded by the various associations of lumber manufacturers having jurisdic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ver various species. Two principal sets of grading rules are employe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1) for softwoods, and (2) for hardwood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Softwood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oftwood lumber is classified as dry, moisture content 19% or les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d green, moisture content above 19%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ccording to the American Softwood Lumber Standard, softwoods are classifi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ccording to use 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Yard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of grades, sizes, and patterns generally intended for ord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nstruction and general building purpos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tructural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2 in or more nominal thickness and width for 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here working stresses are requir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Factory and Shop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produced or selected primarily for manufacturing purpos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oftwoods are classified according to extent of manufacture a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Rough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 has not been dressed (surfaced) but has b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awed, edged, and trimm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Dressed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urfaced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 has been dressed by a planning mach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(for the purpose of attaining smoothness of surface and uniformity of siz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n one side (S1S), two sides (S2S), one edge (S1E), two edges (S2E), or a combin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f sides and edges (S1S1E, S1S2, S2S1E, S4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Worked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, in addition to being dressed, has been matched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hiplapped or patterne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Matched Lumber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umber that has been worked with a tongue on one edge of each piece and a groove on the opposite edge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23_U Kyaw Naing.mp3" descr=""/>
          <p:cNvPicPr/>
          <p:nvPr/>
        </p:nvPicPr>
        <p:blipFill>
          <a:blip r:embed="rId1"/>
          <a:stretch/>
        </p:blipFill>
        <p:spPr>
          <a:xfrm>
            <a:off x="8317080" y="429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721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8:50Z</dcterms:created>
  <dc:creator>Administrator</dc:creator>
  <dc:description/>
  <dc:language>en-US</dc:language>
  <cp:lastModifiedBy>ds0929</cp:lastModifiedBy>
  <dcterms:modified xsi:type="dcterms:W3CDTF">2013-06-24T11:54:37Z</dcterms:modified>
  <cp:revision>3</cp:revision>
  <dc:subject/>
  <dc:title>PowerPoint Presentation</dc:title>
</cp:coreProperties>
</file>