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BFA7-434F-4D7C-982D-E5CA12010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8FEE-A6CD-445A-A315-B31E38531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7E6B-4D48-43B1-8A7D-1A0FF5BC4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AA7B-144E-427D-AF60-C9701B61E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A6EE-0B97-464C-A6E2-87DF85612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8D88-D0A4-4725-B8EC-877BE8C5D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4D4A-868E-45E7-B12D-854BF2E02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F8BF-D0D5-4A73-B047-A89805792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43AD-66B2-4986-A837-D27A3F795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6826-E4A7-43C6-821C-987CA71E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1A67-0482-4F27-A475-3CC18064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5D45-6147-4608-9FB7-D8813949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D0220-FFFB-4BDD-8BB3-E1CE3EC409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250920" y="260280"/>
            <a:ext cx="8281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1. The building should be constructed to serve purposes specified by the cli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2. The design should be constructable by known techniques and with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labor and equipment, within an acceptable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3. The building should be capable of withstanding the elements and normal u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for a period of time specified by the cli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4. Both inside and outside, the building should be visually pleas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5. No part of the building should pose a hazard to the safety or health of 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occupants under normal usage, and the building should provide for safe evac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or refuge in emergenc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6. The building should provide the degree of shelter from the elements and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control of the interior environment—air, temperature, humidity, light, and acoustics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specified by the client and not less than the minimums required for saf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and health of the occupa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7. The building should be constructed to minimize adverse impact on the environ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8. Operation of the building should consume a minimum of energy while permit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the structure to serve its purpo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9. The sum of costs of construction, operation, maintenance, repair, and anticip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future alterations should be kept within the limit specified by the cli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001_A_001_U Kyaw Naing.mp3" descr=""/>
          <p:cNvPicPr/>
          <p:nvPr/>
        </p:nvPicPr>
        <p:blipFill>
          <a:blip r:embed="rId1"/>
          <a:stretch/>
        </p:blipFill>
        <p:spPr>
          <a:xfrm>
            <a:off x="7885080" y="5805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2870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8T02:18:21Z</dcterms:created>
  <dc:creator>ukyawnaing</dc:creator>
  <dc:description/>
  <dc:language>en-US</dc:language>
  <cp:lastModifiedBy>ds0929</cp:lastModifiedBy>
  <dcterms:modified xsi:type="dcterms:W3CDTF">2013-06-24T11:46:11Z</dcterms:modified>
  <cp:revision>2</cp:revision>
  <dc:subject/>
  <dc:title>Slide 1</dc:title>
</cp:coreProperties>
</file>