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404E-CE54-4929-A248-52F0F854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ACF-5B2C-4B75-A193-CFC86E8B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7C01-8B50-42EE-BFEA-8060B1EE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D41-4E36-4BB7-922E-A6BC6A99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D7CC-B0F5-4CDA-853E-FDA19BF2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FAC-69E9-4FC7-A8EF-19F02DE2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F1B8-8024-4BE8-9E04-A335F67E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81F-39A7-4139-ADA9-10E526A0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CD68-9543-4D92-A4B7-64487E46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E5D-DE73-40AF-A4E5-7465F3B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915-0CF4-4A45-BB93-AE566425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2CC7-005E-409B-B3AA-DF2766E73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3D2D-053B-4015-88C7-D0E21BA682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95280" y="404640"/>
            <a:ext cx="79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Roofs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ay have any of a wide variety of shapes. A specific shape may 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lected because of appearance, need for attic space under the roof, requir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for height between roof and floor below, desire for minimum enclosed volum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tructural economy, or requirements for drainage of rainwater and shedding of snow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While roofs are sometimes given curved surfaces, more often roofs are compo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of one or more plane surfaces. Some commonly used types are shown in Fig. 1.4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835200" y="2565360"/>
            <a:ext cx="6696000" cy="237636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838080" y="4941720"/>
            <a:ext cx="669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Calibri"/>
              </a:rPr>
              <a:t>FIGURE 1.4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s composed of plane surfaces: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flat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he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pitched roof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hippe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gambrel roof; (ƒ) mansar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monitored roof;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 sawtoo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roof. (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Reprinted with permission from F. S. Merritt and J. Ambrose, ‘‘Building Engineering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Systems Design,’’ 2d ed., Van Nostrand Reinhold, New York.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001_A_004_U Kyaw Naing.mp3" descr=""/>
          <p:cNvPicPr/>
          <p:nvPr/>
        </p:nvPicPr>
        <p:blipFill>
          <a:blip r:embed="rId2"/>
          <a:stretch/>
        </p:blipFill>
        <p:spPr>
          <a:xfrm>
            <a:off x="8172360" y="530064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0048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8T06:44:48Z</dcterms:created>
  <dc:creator>Administrator</dc:creator>
  <dc:description/>
  <dc:language>en-US</dc:language>
  <cp:lastModifiedBy>ds0929</cp:lastModifiedBy>
  <dcterms:modified xsi:type="dcterms:W3CDTF">2013-06-24T11:47:34Z</dcterms:modified>
  <cp:revision>4</cp:revision>
  <dc:subject/>
  <dc:title>PowerPoint Presentation</dc:title>
</cp:coreProperties>
</file>