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D95-490D-40D8-821E-081A79FC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D66-C811-4CBC-9655-61D2321A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CC1-7A0D-44B1-981F-071F5884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F3CC-D109-412E-9728-4DE07155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43A-D7B2-4269-8E02-5DEAF961F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F61-EF50-495A-88BD-28AD6390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80B3-35C1-410D-8E76-61A17971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F64-BAEA-4FE5-BD37-3EBD58212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99E-D8E3-4AFF-8B14-554911B8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B2E8-7CBE-437C-8AE9-7CA7E02A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8226-5070-4299-8386-C9830D13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A84-CFC6-4598-A943-BA788E11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90DB-B3B6-4C55-8CE4-1F3BF1E29F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11280" y="18900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4.40.3 Types of Carbon Ste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st of the steel used for construction is low- to medium-carbon, relatively mil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ough, and strong, fairly easy to work by cutting, punching, riveting, and wel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ble 4.16 summarizes the most important carbon steels and low-alloy steel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 construction as specified by AST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plain iron-carbon metals with less than 0.8% carbon content consist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errite and pearlite and provide the low-carbon (0.06 to 0.30%), medium-carb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0.30 to 0.50%), and high-carbon (0.50 to 0.80%) steels called hypoeutectoid stee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higher-carbon or hypereutectoid tool steels contain 0.8 to 2.0% carbon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 of pearlite and cementite. The eutectoid steels occurring in the vicinity o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0.8% carbon are essentially all pearli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American Iron and Steel Institute and the Society of Automotive Engine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ave designated standard compositions for various steels including plain carb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eels and alloy stee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4_U Kyaw Naing.mp3" descr=""/>
          <p:cNvPicPr/>
          <p:nvPr/>
        </p:nvPicPr>
        <p:blipFill>
          <a:blip r:embed="rId1"/>
          <a:stretch/>
        </p:blipFill>
        <p:spPr>
          <a:xfrm>
            <a:off x="7164360" y="6093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95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23:15Z</dcterms:created>
  <dc:creator>Administrator</dc:creator>
  <dc:description/>
  <dc:language>en-US</dc:language>
  <cp:lastModifiedBy>ds0929</cp:lastModifiedBy>
  <dcterms:modified xsi:type="dcterms:W3CDTF">2013-06-24T11:55:01Z</dcterms:modified>
  <cp:revision>4</cp:revision>
  <dc:subject/>
  <dc:title>PowerPoint Presentation</dc:title>
</cp:coreProperties>
</file>