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75AA-8408-4D7B-B8BA-85960B2A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E0C5-CA18-48DC-8E3F-9599A5B5C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8E3D-DBF8-462A-A9B6-385333B2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4907-8AD8-4DEE-B089-C7902649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6BB2-41F7-43C6-A5AC-ADF05FAB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ED99-C735-4F4C-9F70-B23F37B8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311E-770E-48E2-9F7C-DCF01454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687A-4C99-417D-9499-F6123323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BA90-B6C3-4567-9218-F598F899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F680-3952-4942-8959-AF38C5BC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1494-D8C6-4AB5-BED0-97E36ACD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35B-048D-4B3D-8D4B-CE379065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E768-B955-4CE3-BE25-EF3AE7C3B6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68360" y="206280"/>
            <a:ext cx="83516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Although fires in buildings can be avoided, they nevertheless occur. Some of the reasons for this are human error, arson, faulty electrical equipment, poor mainte- nance of heating equipment, and natural causes, such as lightning. Consequently, buildings should be designed to minimize the probability of a fire and to protect life and limit property damage if a fire should occur. The minimum steps that should be taken for the purpose are as follows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Limit potential fire loads, with respect to both combustibility and ability  to generate smoke and toxic gase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rovide means for prompt detection of fires, with warnings to occupants who may be affected and notification of the presence of fire to fire fighte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Communication  of  instructions  to  occupants  as  to  procedures  to  adopt  for safety, such as to staying in place, proceeding to a designated refuge area, or evacuating the building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4.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rovide means for early extinguishment of any fire that may occur, primarily by automatic sprinklers but also by trained fire fighte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5.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Make  available  also  for fire fighting an adequate  water  supply,  appropriate chemicals,  adequate-size  piping,  conveniently  located  valves  on  the  piping, hoses, pumps, and other equipment necessar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6.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revent spread of fire from building to building, either through adequate sep- aration or by enclosure of the building with incombustible material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7.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artition the interior of the building with fire barriers, or divisions, to confine a fire to a limited spac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8.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Enclose with protective materials structural components that may be damaged by fire (fireproofing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9.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rovide refuge areas for occupants and safe evacuation routes to outdoo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10.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Provide means for removal of heat and smoke from the building as rapidly as possible without exposing occupants to these hazards, with the air-conditioning system, if one is present, assisting the removal by venting the building and by pressurizing smokeproof towers, elevator shafts, and other exit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000000"/>
                </a:solidFill>
                <a:latin typeface="Calibri"/>
              </a:rPr>
              <a:t>11.  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For large buildings, install standby equipment for operation in emergencies of electrical systems and elevator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20_U Kyaw Naing.mp3" descr=""/>
          <p:cNvPicPr/>
          <p:nvPr/>
        </p:nvPicPr>
        <p:blipFill>
          <a:blip r:embed="rId1"/>
          <a:stretch/>
        </p:blipFill>
        <p:spPr>
          <a:xfrm>
            <a:off x="730872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457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8:10:10Z</dcterms:created>
  <dc:creator>Administrator</dc:creator>
  <dc:description/>
  <dc:language>en-US</dc:language>
  <cp:lastModifiedBy>ds0929</cp:lastModifiedBy>
  <dcterms:modified xsi:type="dcterms:W3CDTF">2013-06-24T11:53:27Z</dcterms:modified>
  <cp:revision>4</cp:revision>
  <dc:subject/>
  <dc:title>PowerPoint Presentation</dc:title>
</cp:coreProperties>
</file>