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304F-71EF-489F-960E-42429545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E71-EA3A-4266-A2EB-D724FE94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43FC-C842-4566-AD5B-C8D14250B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4F8-D96C-4E77-8FEA-CD0F42C8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CC52-B5E2-4263-9349-F0DEA524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456-B095-438F-B0AD-BC2C71D8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7B65-3399-4FA9-AA95-27579E6F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6A6-1114-4ED7-9891-EB341C98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2AB7-921F-4563-A588-4F3F5B35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608-8893-40AE-8FD6-7DEC9F55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C83-B096-4650-9B58-740FF46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901-C766-4A99-BAA1-A5F4CCC5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4214-96B7-4F90-BA5A-51C4DC32C6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476280"/>
            <a:ext cx="8280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Structural System. The portion of a building that extends above the grou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utside it is called the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perstructure. The portion below the outside ground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called the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bstructure. The parts of the substructure that distribut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ads to the ground are known as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ound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undations may take the form of walls. When the ground under the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excavated for a cellar, or basement, the foundation walls have the additional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retaining the earth along the outside of the building (Fig. 1.1). The super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such cases is erected atop the foundation w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624720" cy="3457440"/>
          </a:xfrm>
          <a:prstGeom prst="rect">
            <a:avLst/>
          </a:prstGeom>
          <a:ln w="0">
            <a:noFill/>
          </a:ln>
        </p:spPr>
      </p:pic>
      <p:pic>
        <p:nvPicPr>
          <p:cNvPr id="43" name="001_A_003_U Kyaw Naing.mp3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26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2:22:17Z</dcterms:created>
  <dc:creator>ukyawnaing</dc:creator>
  <dc:description/>
  <dc:language>en-US</dc:language>
  <cp:lastModifiedBy>ds0929</cp:lastModifiedBy>
  <dcterms:modified xsi:type="dcterms:W3CDTF">2013-06-24T11:47:12Z</dcterms:modified>
  <cp:revision>3</cp:revision>
  <dc:subject/>
  <dc:title>Slide 1</dc:title>
</cp:coreProperties>
</file>