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7DC-DCF0-4F4D-A24F-92ACAA26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11A1-3F5A-4AA5-956E-5498F18A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3081-19C5-4752-8992-9C496F2B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7C1-8C8A-4CD4-B90D-5E0FD409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32E4-110C-475F-8946-29EC246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EEE6-3AF7-4B81-B91B-79004671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7976-2912-4178-B2F6-36648758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56FF-5B71-40F0-811D-EA4F8CB9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512F-E82C-4BC7-84B7-13E5479BB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6FA-ACAC-4F15-87B4-CDA24E56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D8D4-C990-4B19-8529-12A714B3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6BB-DA9F-465E-8E84-1A3D585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8D1-E968-4989-9D4A-091539AF7B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539640" y="40464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MORTARS AND CONCRE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16 </a:t>
            </a: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MORT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rtars are composed of a cementitious material, fine aggregate, sand, and wa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y are used for bedding unit masonry, for plasters and stuccoes, and with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ddition of coarse aggregate, for concrete. Here consideration is given primarily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ose mortars used for unit masonry and plast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operties of mortars vary greatly, being dependent on the properties of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ementitious material used, ratio of cementitious material to sand, characteristi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grading of the sand, and ratio of water to soli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1_U Kyaw Naing.mp3" descr=""/>
          <p:cNvPicPr/>
          <p:nvPr/>
        </p:nvPicPr>
        <p:blipFill>
          <a:blip r:embed="rId1"/>
          <a:stretch/>
        </p:blipFill>
        <p:spPr>
          <a:xfrm>
            <a:off x="7380360" y="54450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87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3:46Z</dcterms:created>
  <dc:creator>Administrator</dc:creator>
  <dc:description/>
  <dc:language>en-US</dc:language>
  <cp:lastModifiedBy>ds0929</cp:lastModifiedBy>
  <dcterms:modified xsi:type="dcterms:W3CDTF">2013-06-24T11:53:48Z</dcterms:modified>
  <cp:revision>3</cp:revision>
  <dc:subject/>
  <dc:title>PowerPoint Presentation</dc:title>
</cp:coreProperties>
</file>