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62E-9790-4F96-89C0-0118469CA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6D3-0111-4B21-A8FF-942754A74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401-EB10-4163-A009-D2BAF04A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298E-1AF5-47EF-839D-AB1CDB62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C11-FB91-40E8-99BC-958099C7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58B0-FBD5-4AFE-90A0-1F2157A2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63E5-28B1-4BF1-97DE-FB721653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D59-5D3B-4B68-8C66-737FDB29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4E1-2FB1-4AC1-A48B-398E0457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2BA-8BAF-4617-81A3-9211CB39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4D4C-1DD0-4DE9-BC38-D99AE1C2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7A6-6281-426D-A1E8-D07A6D9C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0158-A600-47E6-9A5A-0C93E01C89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826920" y="227160"/>
            <a:ext cx="4677120" cy="2936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826920" y="3284640"/>
            <a:ext cx="5227920" cy="3024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7308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428360" y="4847400"/>
            <a:ext cx="2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00" spc="-1" strike="noStrike">
                <a:solidFill>
                  <a:srgbClr val="231f20"/>
                </a:solidFill>
                <a:latin typeface="Arial"/>
                <a:ea typeface="Calibri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156360" y="404640"/>
            <a:ext cx="2411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.6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xamples of floor-ceiling and roof-ceiling systems.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Concrete structural sla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arries hollow-steel deck, concrete fill, and flexible tile flooring.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Acoustical-tile cei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corporating a lighting fixture with provisions for air distribution is suspended below a flo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Insulated roof and steel beams are sprayed with mineral fiber for fire protection.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Insu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oof and open-web joists are protected by a fire-rated suspended ceil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001_A_008_U Kyaw Naing.mp3" descr=""/>
          <p:cNvPicPr/>
          <p:nvPr/>
        </p:nvPicPr>
        <p:blipFill>
          <a:blip r:embed="rId3"/>
          <a:stretch/>
        </p:blipFill>
        <p:spPr>
          <a:xfrm>
            <a:off x="8899560" y="61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908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95280" y="33336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000000"/>
                </a:solidFill>
                <a:latin typeface="Calibri"/>
              </a:rPr>
              <a:t>Systems for Enclosing Interior Spaces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interior of a building usually is compart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nto spaces or rooms by horizontal dividers (floor-ceiling or roof-cei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ystems) and vertical dividers (interior walls and partitions). (The term partitions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enerally applied to non-load-bearing walls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Floor-Ceiling Systems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basic element of a floor is a load-carrying dec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 protection against wear, esthetic reasons, foot comfort, or noise control, 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covering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ten is placed over the deck, which then may be referred to as 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ubfloo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igure 1.6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hows a concrete subfloor with a flexible-tile floor covering. A hollowcold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med steel deck is incorporated in the subfloor to house electric wir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57:21Z</dcterms:created>
  <dc:creator>Administrator</dc:creator>
  <dc:description/>
  <dc:language>en-US</dc:language>
  <cp:lastModifiedBy>ds0929</cp:lastModifiedBy>
  <dcterms:modified xsi:type="dcterms:W3CDTF">2013-06-24T11:49:03Z</dcterms:modified>
  <cp:revision>4</cp:revision>
  <dc:subject/>
  <dc:title>PowerPoint Presentation</dc:title>
</cp:coreProperties>
</file>