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3DAC-AF98-42E2-825D-00894D72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4FD3-6A89-4109-8CB5-E904DB0D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D2A-51A8-4F6F-9417-2B14C6D9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C729-20E4-49FD-8985-D6A552AE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2C5-98EE-4C0D-A898-D323C83A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CC7-1A6B-4CDE-AF75-73E17DF7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2FBD-4AD3-401D-8C19-93FB7FBA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71F3-3173-4BB3-BF05-D077AA0E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9A6-BB4A-4F11-8601-5D065B5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48A7-ABD0-4EDE-8E43-10C838B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4BB7-D049-43F3-BA6F-DCD9F01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4811-C6B3-4491-8AD5-0E4A2F59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658A-F30F-4746-A394-E29C8548A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03040" y="304920"/>
            <a:ext cx="8713800" cy="62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4.31 WINDOW GLA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Various types and grades of glass are used for glazing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Clear Window Glas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is is the most extensively used type for windows in al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lasses of buildings. A range of grades, as established by Federal Govern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andard DD-G-451c, classifies quality according to defects. The more common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used grades are A and B. A is used for the better class of buildings where appeara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is important, and B is used for industrial buildings, some low-cost residence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basements, et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ith respect to thickness, clear window glass is classified as ‘‘single-strength’’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bout 3⁄32 in thick; ‘‘double-strength,’’ about 1⁄8 in thick; and ‘‘heavy-sheet,’’ up 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7⁄32 in thick. Maximum sizes are as follows: single-strength, 40 _ 50 in; doublestrength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60 _ 80 in; and heavy sheet, 76 _ 120 in. Because of flexibility, sing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strength and double strength should never be used in areas exceeding 12 ft2,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appearance’s sake areas should not exceed 7 ft2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late and Float Glas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se have, in general, the same performance characteristic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y are of superior quality, more expensive, and have better appearance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with no distortion of vision at any angle. Showcase windows, picture windows, a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xposed windows in offices and commercial buildings are usually glazed with polish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late or float glass. Thicknesses range from 1⁄8 to 7⁄8 in. There are two standar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qualities,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silvering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i="1" lang="en-AU" sz="1400" spc="-1" strike="noStrike">
                <a:solidFill>
                  <a:srgbClr val="000000"/>
                </a:solidFill>
                <a:latin typeface="Calibri"/>
              </a:rPr>
              <a:t>glazing,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latter being employed for quality glaz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Processed Glass and Rolled Figured Sheet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se are general classifications o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obscure glass. There are many patterns and varying characteristics. Some provid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rue obscurity with a uniform diffusion and pleasing appearance, while others m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give a maximum transmission of light or a smoother surface for greater cleanlines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e more popular types include a clear, polished surface on one side with a patter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obscurity on the other sid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400" spc="-1" strike="noStrike">
                <a:solidFill>
                  <a:srgbClr val="000000"/>
                </a:solidFill>
                <a:latin typeface="Calibri"/>
              </a:rPr>
              <a:t>Obscure Wired Glass.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This usually is specified for its fire-retarding properties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lthough it is also used in doors or windows where breakage is a problem. It shou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not be used in pieces over 720 in2 in area (check local building code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2_U Kyaw Naing.mp3" descr=""/>
          <p:cNvPicPr/>
          <p:nvPr/>
        </p:nvPicPr>
        <p:blipFill>
          <a:blip r:embed="rId1"/>
          <a:stretch/>
        </p:blipFill>
        <p:spPr>
          <a:xfrm>
            <a:off x="8459640" y="5229360"/>
            <a:ext cx="24480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3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5:37Z</dcterms:created>
  <dc:creator>Administrator</dc:creator>
  <dc:description/>
  <dc:language>en-US</dc:language>
  <cp:lastModifiedBy>ds0929</cp:lastModifiedBy>
  <dcterms:modified xsi:type="dcterms:W3CDTF">2013-06-24T11:54:13Z</dcterms:modified>
  <cp:revision>3</cp:revision>
  <dc:subject/>
  <dc:title>PowerPoint Presentation</dc:title>
</cp:coreProperties>
</file>