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84F6-D33C-4CDC-92DB-B52BE143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28F5-A811-4726-B2CE-C253F009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4690-AD2C-48D6-98F8-DB2CA420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662-192C-4038-BB94-38AC4A87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990C-A15C-426A-AA56-B12574EF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F1A7-81ED-4C6A-A627-90875544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039C-8654-4DE2-A20D-9A6102F0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B1A7-572B-4A45-891F-BE28053B2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413F-99B4-4495-9A3C-0D33AD7D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F8A6-2C3D-4E89-891C-961D328E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FE2-F6C7-4569-8D6E-C7D03EA67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0FE-1587-477C-8E1C-F04313C8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831AE-E556-4157-BC8D-CD5D4C0B87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95280" y="83664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Joist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closely spaced to carry light load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tringer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upport stair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Header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upport structural members around openings in floors, roofs, and wa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Purlin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placed horizontally to carry level roof deck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Rafter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placed on an incline to carry sloping roof deck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Girt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light horizontal members that span between columns to support wal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Lintel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light horizontal beams that support walls at floor levels in mult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uildings or that carry the part of walls above openings for doors and window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Girder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y be heavily loaded beams or horizontal members that support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eams (Fig. 1.3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Spandrel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arry exterior walls and support edges of floors and roofs in multi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uilding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Trusse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rve the same purposes as girders but consists of slender horizonta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vertical, and inclined components with large open spaces between them.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paces are triangular in shape. Light beams similarly formed are called </a:t>
            </a: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openw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joist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Fig. 1.6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001_A_006_U Kyaw Naing.mp3" descr=""/>
          <p:cNvPicPr/>
          <p:nvPr/>
        </p:nvPicPr>
        <p:blipFill>
          <a:blip r:embed="rId1"/>
          <a:stretch/>
        </p:blipFill>
        <p:spPr>
          <a:xfrm>
            <a:off x="7524720" y="5732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68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763640" y="334800"/>
            <a:ext cx="4537080" cy="49993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"/>
          <p:cNvSpPr/>
          <p:nvPr/>
        </p:nvSpPr>
        <p:spPr>
          <a:xfrm>
            <a:off x="1476360" y="551664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.3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ructural-steel skeleton framing for a multistory build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ourtesy of the American Institute of Steel Construction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42:21Z</dcterms:created>
  <dc:creator>Administrator</dc:creator>
  <dc:description/>
  <dc:language>en-US</dc:language>
  <cp:lastModifiedBy>ds0929</cp:lastModifiedBy>
  <dcterms:modified xsi:type="dcterms:W3CDTF">2013-06-24T11:48:20Z</dcterms:modified>
  <cp:revision>4</cp:revision>
  <dc:subject/>
  <dc:title>PowerPoint Presentation</dc:title>
</cp:coreProperties>
</file>