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727-23B6-45AC-A016-A132649B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80C-8A8D-48D7-952F-5596EF0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0B4-2241-46DC-8253-C43432D2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B0D-C2DB-4C1B-AEC8-DABDEB71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426-D198-41D4-A796-3984188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E51-5EB9-4DBF-86EB-BF780D8E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028-FCAD-4920-860A-D58AE67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EDA-B9EA-4E06-A9F6-6DF8D96E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088-B410-49A4-9DDE-429FC929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E1F-7621-47A3-A38B-4201BE2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F700-F9ED-40DA-95EF-BF39450B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E01-4A00-4056-9789-3414DB6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07B1-B46E-4C08-839F-D136178B8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90440" y="0"/>
            <a:ext cx="7837560" cy="70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5:14Z</dcterms:created>
  <dc:creator>ukyawnaing</dc:creator>
  <dc:description/>
  <dc:language>en-US</dc:language>
  <cp:lastModifiedBy>ukyawnaing</cp:lastModifiedBy>
  <dcterms:modified xsi:type="dcterms:W3CDTF">2013-04-11T04:05:57Z</dcterms:modified>
  <cp:revision>1</cp:revision>
  <dc:subject/>
  <dc:title>Slide 1</dc:title>
</cp:coreProperties>
</file>