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9E6-B3A2-492B-B39D-98E86A83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2D0-D594-4C93-AE6A-723CB446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457-3A91-44CA-8CF4-1CBF5811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30C-D07F-44DB-9B25-FD473A16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83C-6254-4B29-BADD-DCD7F78E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A85-BD6F-4FA2-8A36-A7E87ADB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F3F-89FB-4376-A84E-2A8EB12A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5254-07B8-42DB-A3D7-6CBA72B0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A9D-0B6C-4BE6-920A-571A5033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68C-9776-4E35-8F54-1E4F444B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3271-F6A1-4271-BBB7-CB73D6D1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F35-035B-4337-8B40-2D99D705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1B4B-4E86-42EC-A1C4-A251A4865E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042920" y="0"/>
            <a:ext cx="6913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5:30Z</dcterms:created>
  <dc:creator>ukyawnaing</dc:creator>
  <dc:description/>
  <dc:language>en-US</dc:language>
  <cp:lastModifiedBy>ukyawnaing</cp:lastModifiedBy>
  <dcterms:modified xsi:type="dcterms:W3CDTF">2013-04-11T05:15:47Z</dcterms:modified>
  <cp:revision>1</cp:revision>
  <dc:subject/>
  <dc:title>Slide 1</dc:title>
</cp:coreProperties>
</file>