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E852-470D-4BD9-8BC0-9AA328C2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832B-92AC-40C1-A776-ED6D9490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523C-7D26-42ED-A629-9274948B3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69E9-CD91-4313-9908-7FE858C29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976E-1E64-49C9-8C1E-9D858DAC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1C24-27F5-41F6-999A-4F03CBD9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5797-5776-4341-AA6B-F121797E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A306-E1DC-460C-8D71-B4FA3E12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FBA4-954C-4077-82D8-6F118023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E5EE-3098-42CE-BE8E-2136A57B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B113-7BAD-4511-B501-5E4CFE1A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7CDE-4A67-4200-A36B-E33B257C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1E54-D2FA-465A-9767-E18F59A09A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34800" y="260280"/>
            <a:ext cx="880920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187280" y="0"/>
            <a:ext cx="66247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5:03:18Z</dcterms:created>
  <dc:creator>ukyawnaing</dc:creator>
  <dc:description/>
  <dc:language>en-US</dc:language>
  <cp:lastModifiedBy>ukyawnaing</cp:lastModifiedBy>
  <dcterms:modified xsi:type="dcterms:W3CDTF">2013-04-11T05:04:17Z</dcterms:modified>
  <cp:revision>2</cp:revision>
  <dc:subject/>
  <dc:title>Slide 1</dc:title>
</cp:coreProperties>
</file>