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9922-30D2-4253-A896-86D7FFB1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699D-B3B9-44D3-96F5-00A5BED0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C24-B3DF-41A1-A05B-1DB7AA69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68D-B2D7-4BE1-B10D-EAA5859B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84E-7C30-41A7-948D-2044DCEE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086-59A1-4DEC-B84E-B45B1D4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B96-31A4-4DA6-89E8-5DD75CBE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E3A-C630-4F84-AAAA-7ADF9147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60C-73A6-458D-8508-F102CC5C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1C2C-982E-4135-9D84-E2F21893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B38-2B26-40E3-9F4F-BACD6FE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9F6-D24C-47CC-B942-B5AC51B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4B6-5AC4-423F-B40B-F2037EA0C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5:01:40Z</dcterms:created>
  <dc:creator>ukyawnaing</dc:creator>
  <dc:description/>
  <dc:language>en-US</dc:language>
  <cp:lastModifiedBy>ukyawnaing</cp:lastModifiedBy>
  <dcterms:modified xsi:type="dcterms:W3CDTF">2013-04-11T05:02:12Z</dcterms:modified>
  <cp:revision>1</cp:revision>
  <dc:subject/>
  <dc:title>Slide 1</dc:title>
</cp:coreProperties>
</file>