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5122-2E37-47C8-91BE-B1E3C239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E7C-0B86-4377-887A-F83BB53F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9DE-D2AB-4B37-AF53-ECD6C9D2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09D-D725-42F9-B784-B537F8B4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459-FE6D-46CE-96A5-C97DC39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707-8F71-40E7-A4A5-61105B5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4F5-BBA0-4378-AA0B-ED06CFC1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3F8-9600-4FFF-A48E-7359F77D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F36-4D53-4F98-A1FA-E14B696B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134-FCAF-4165-B7C4-01D98D2E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947-F220-4882-BDC5-466F961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0DD-AE72-4326-8698-ADD544CB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08CF-AC1F-46A5-94CC-C26F8218EB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968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2:47Z</dcterms:created>
  <dc:creator>ukyawnaing</dc:creator>
  <dc:description/>
  <dc:language>en-US</dc:language>
  <cp:lastModifiedBy>ukyawnaing</cp:lastModifiedBy>
  <dcterms:modified xsi:type="dcterms:W3CDTF">2013-04-11T05:03:00Z</dcterms:modified>
  <cp:revision>1</cp:revision>
  <dc:subject/>
  <dc:title>Slide 1</dc:title>
</cp:coreProperties>
</file>