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A92-23F2-414F-992C-58934518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EF5-B125-431E-851D-91D9E874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B77-1D0A-49FD-8872-1E38D240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325-C9E5-48C7-90B3-18F2D199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87C-974C-43B2-9D26-7300F4B9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20E-9CE2-4B84-B557-9A0F0EBE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BD4-0E41-4B4A-8150-33A63EF8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67B-4A7D-4F09-B981-F7D97A3C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1A3-21C6-49EE-9A03-BE040C08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47F-FC87-4DE3-9E3D-6BE31356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0C2-0154-49C2-8769-8E387125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0C3-C844-4E9B-924C-3739B4A4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9766-C1C7-4B5C-AEFB-E4D4BE65B6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80960"/>
            <a:ext cx="914544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4:00:28Z</dcterms:created>
  <dc:creator>ukyawnaing</dc:creator>
  <dc:description/>
  <dc:language>en-US</dc:language>
  <cp:lastModifiedBy>ukyawnaing</cp:lastModifiedBy>
  <dcterms:modified xsi:type="dcterms:W3CDTF">2013-04-11T04:00:40Z</dcterms:modified>
  <cp:revision>1</cp:revision>
  <dc:subject/>
  <dc:title>Slide 1</dc:title>
</cp:coreProperties>
</file>