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F53-D425-4A15-9CCD-862C90A0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C3A-AE98-4E5F-BD93-F8202399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906-B862-45B1-A80E-0E16475A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A65-9BDE-4178-941E-026ADE59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8C2-85F2-4DC8-962B-B4395CA6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246-E659-41C1-9024-0DC40B36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F393-594C-4A55-86BD-CAB70D3B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1CE-2AC9-4AEB-9790-C9336344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BED-5B81-45FE-9159-BF1F4985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C90-C23D-4D99-8EA5-93FEB1D8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3D4-EC82-44FB-B89C-05A7C540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16A-4238-4A62-A8DF-D05B5732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0FBF-BAC0-483D-9B5B-139CC48CC1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06400" y="-31680"/>
            <a:ext cx="57312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4:28Z</dcterms:created>
  <dc:creator>ukyawnaing</dc:creator>
  <dc:description/>
  <dc:language>en-US</dc:language>
  <cp:lastModifiedBy>ukyawnaing</cp:lastModifiedBy>
  <dcterms:modified xsi:type="dcterms:W3CDTF">2013-04-11T04:04:56Z</dcterms:modified>
  <cp:revision>1</cp:revision>
  <dc:subject/>
  <dc:title>Slide 1</dc:title>
</cp:coreProperties>
</file>