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81F-7D64-4D96-941D-7534EAD6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9C1-8881-47F6-8224-680FC801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980-860C-49A7-BC31-0BC14709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D89-AFB7-49D0-B063-BE31C64B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E35-AF40-4A2A-AB3B-F5D3E8D5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EB9-B228-477B-B638-2E232DBA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B62-AA88-4F58-AB1E-220EC4BC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17F-F6AC-427F-A0AE-F292DF5F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43C-9B77-41B0-9784-0570BD39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D6D-DE8B-461E-BAB7-0E8F3F90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31A-C0DB-4A0B-B372-F376A24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0B5-F6CA-4241-ABCC-9F002DC2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7FFD-745E-45FC-8FC7-03BA8F75AD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09680" y="171360"/>
            <a:ext cx="832464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1:58Z</dcterms:created>
  <dc:creator>ukyawnaing</dc:creator>
  <dc:description/>
  <dc:language>en-US</dc:language>
  <cp:lastModifiedBy>ukyawnaing</cp:lastModifiedBy>
  <dcterms:modified xsi:type="dcterms:W3CDTF">2013-04-11T05:12:07Z</dcterms:modified>
  <cp:revision>1</cp:revision>
  <dc:subject/>
  <dc:title>Slide 1</dc:title>
</cp:coreProperties>
</file>