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F162-E82F-4865-881B-E7B5EBC13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7F33-AE26-4A1D-8414-01E808FCC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397E-A1F8-414D-BBBB-C429CB437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9712-F565-4D08-96A7-0B73AE710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4435-C724-4C9E-82A8-F67641350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A9B8-0E93-4D46-BD53-67034AE7C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776F-DD55-4B99-8540-F8FFB82A5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DBBE-0D0B-4A72-BDCF-51D486323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6872-C618-4443-94DD-902DB84F3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6B0B-0B75-47B1-97DF-16DD3DAE6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9750-46E8-4503-8605-95C8800E9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069D-1036-437B-B2DE-F54145F58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8DAB2-E07B-4ABD-9000-8BD7DEC3B7E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905040"/>
            <a:ext cx="8901000" cy="43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3:48:19Z</dcterms:created>
  <dc:creator>ukyawnaing</dc:creator>
  <dc:description/>
  <dc:language>en-US</dc:language>
  <cp:lastModifiedBy>ukyawnaing</cp:lastModifiedBy>
  <dcterms:modified xsi:type="dcterms:W3CDTF">2013-04-11T03:48:32Z</dcterms:modified>
  <cp:revision>1</cp:revision>
  <dc:subject/>
  <dc:title>Slide 1</dc:title>
</cp:coreProperties>
</file>