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A3C-1F72-4667-989D-BD7D4939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986-739E-4963-8B3B-18E62AA9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6E9-1670-4103-97A8-A706C9DB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EBE-27F4-45BD-A0EF-808C177A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408-4D53-43B7-8352-5617BF00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E72-4B6F-4DD6-8134-B8E51813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863B-4145-497A-85DF-EBCD3321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D1E-5F00-44A0-A815-3F766F72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B97-D396-411E-A183-BBC2AF9C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399-6EB7-4539-97D1-B07E92B6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280-AFC6-4D0D-AD6A-30AAECD6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3DE-0F06-474E-92EE-30ED45EA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5DED-B8AB-400A-BE1F-9FE5047993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71640" y="0"/>
            <a:ext cx="5019480" cy="361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340000" y="3429000"/>
            <a:ext cx="493380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27:10Z</dcterms:created>
  <dc:creator>ukyawnaing</dc:creator>
  <dc:description/>
  <dc:language>en-US</dc:language>
  <cp:lastModifiedBy>ukyawnaing</cp:lastModifiedBy>
  <dcterms:modified xsi:type="dcterms:W3CDTF">2013-04-11T04:27:39Z</dcterms:modified>
  <cp:revision>1</cp:revision>
  <dc:subject/>
  <dc:title>Slide 1</dc:title>
</cp:coreProperties>
</file>