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9F0-21D9-43B3-978A-10E6A681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A78-5CFA-4722-B1F9-A71D5C6D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730-77E7-40D8-86F3-096EDCF9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A26-05E4-48AC-A366-66359160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376-99C2-4619-B111-12056100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03D-FE05-4CF7-A2C8-A3D200AA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F1F-3EAE-4C00-A797-C33AF08F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723-D521-4E20-ADC3-01EDE79B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DC7-C800-4256-A0F9-F9EAD96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D5D-C088-4063-9C62-32ED30E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9E0-F051-4D8C-80E9-1FD2DF2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535-3DAF-42C1-A25B-B5039FDD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7FB1-7672-4910-A712-456354C2EE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476360" y="0"/>
            <a:ext cx="518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6:19Z</dcterms:created>
  <dc:creator>ukyawnaing</dc:creator>
  <dc:description/>
  <dc:language>en-US</dc:language>
  <cp:lastModifiedBy>ukyawnaing</cp:lastModifiedBy>
  <dcterms:modified xsi:type="dcterms:W3CDTF">2013-04-11T05:16:42Z</dcterms:modified>
  <cp:revision>1</cp:revision>
  <dc:subject/>
  <dc:title>Slide 1</dc:title>
</cp:coreProperties>
</file>