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61A5-0E94-4EFC-9A1F-C58A3942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337-A024-40C2-BFD2-378EB1CB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4E87-119B-43BA-A199-38568F42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3C9-3131-4D94-B699-B29C0724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678-99E0-4BD4-98FD-D16AFE5C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282-A0EA-426E-8C0A-773ED5D2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81C9-BE89-445C-8FA9-6C4A83A4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61D-A66E-4D74-84AE-A5D58838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C29-476B-43FE-9875-6FF2FC29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E39-52A0-49EA-93F1-7DAD0321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94F-0200-4960-8922-625693DD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AEB1-DA66-421B-9FCA-D5B4CC4D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D821-4914-40E9-B098-2EB631F2D5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90480" y="281160"/>
            <a:ext cx="776304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09:03Z</dcterms:created>
  <dc:creator>ukyawnaing</dc:creator>
  <dc:description/>
  <dc:language>en-US</dc:language>
  <cp:lastModifiedBy>ukyawnaing</cp:lastModifiedBy>
  <dcterms:modified xsi:type="dcterms:W3CDTF">2013-04-11T05:09:31Z</dcterms:modified>
  <cp:revision>1</cp:revision>
  <dc:subject/>
  <dc:title>Slide 1</dc:title>
</cp:coreProperties>
</file>