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104-378D-464C-8A48-8CBCB8B2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40E-1463-4D03-8E48-E2AA23A2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D179-B401-4449-90AC-F24442AD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7F3-0DBC-480B-87AF-6DA8E2F8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6DB-AE29-4EC3-A493-D7CC686E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E37-DD1F-48EE-8269-B02B5558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F43-0E26-485C-B82E-A61459BC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C02-50AC-4A83-B2CE-3B5AECD1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F36-2B03-4371-9315-65ED8032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103-79EC-4595-981F-D607B99B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94E0-7A55-4E1D-9009-BABFFD32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CA01-CE09-4F4E-8B66-1CA693E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C840-A41B-42FE-970F-988CF2F327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81120" y="0"/>
            <a:ext cx="50432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9:50Z</dcterms:created>
  <dc:creator>ukyawnaing</dc:creator>
  <dc:description/>
  <dc:language>en-US</dc:language>
  <cp:lastModifiedBy>ukyawnaing</cp:lastModifiedBy>
  <dcterms:modified xsi:type="dcterms:W3CDTF">2013-04-11T04:00:09Z</dcterms:modified>
  <cp:revision>1</cp:revision>
  <dc:subject/>
  <dc:title>Slide 1</dc:title>
</cp:coreProperties>
</file>