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0DB9-BBAF-4011-9001-CE1FAAA2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9135-8E03-4CFC-B12B-1E4D6B7A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7F2-243E-4EF7-B002-76964D7D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0B3B-5C99-4D53-9739-9BF575215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96B-9440-4E6E-895F-FDEB1A47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AD4-187F-40C8-9F6A-E0828AD3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A21-96AB-4AEA-B161-86177F43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600-59C7-425E-A482-621B91B3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10B-E8F6-4339-A69E-8A1782E4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852-55B4-4446-8F4C-48DF44AD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EFC-C38C-4057-985F-19DF37CC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AD2D-F025-4B17-9CF3-54E8BB6B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2961-ECA2-43BC-BF96-684B8D39A2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04760"/>
            <a:ext cx="909468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1:08Z</dcterms:created>
  <dc:creator>ukyawnaing</dc:creator>
  <dc:description/>
  <dc:language>en-US</dc:language>
  <cp:lastModifiedBy>ukyawnaing</cp:lastModifiedBy>
  <dcterms:modified xsi:type="dcterms:W3CDTF">2013-04-11T04:01:20Z</dcterms:modified>
  <cp:revision>1</cp:revision>
  <dc:subject/>
  <dc:title>Slide 1</dc:title>
</cp:coreProperties>
</file>