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BC9-0919-4393-A5EC-FE8CBB44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56F-3611-40E6-8FFC-73E0AF4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D9C-D23F-4FC7-9D2F-DE8DC70D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404-4896-431A-BADF-DD710EE0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ED8-203A-4687-99CE-447A06C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67D-4E13-4CBA-9D2D-FA0741FE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80E-66F0-45FC-80B5-87D6FD7B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DB62-58B0-4A97-B259-D38B73EA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7A7-CDD3-4429-AAD2-6080ACA4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AA5-D328-47BF-820F-E994C726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5F5-B0B4-4D5D-AAD7-BD90635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FDE-7F13-4845-91B3-5AD2B32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0167-5BD0-42E8-9C9E-0B3F59797F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06400" y="166680"/>
            <a:ext cx="61786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2:52Z</dcterms:created>
  <dc:creator>ukyawnaing</dc:creator>
  <dc:description/>
  <dc:language>en-US</dc:language>
  <cp:lastModifiedBy>ukyawnaing</cp:lastModifiedBy>
  <dcterms:modified xsi:type="dcterms:W3CDTF">2013-04-11T05:13:17Z</dcterms:modified>
  <cp:revision>1</cp:revision>
  <dc:subject/>
  <dc:title>Slide 1</dc:title>
</cp:coreProperties>
</file>