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39A-A7F9-4250-A295-AEE951AE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7A87-26D6-4ABC-8EF2-868DEFD0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1EE-7F00-43FA-B4C6-AA464AB7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8CC-F676-4B84-9970-E1FFB651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D44-3247-471C-8728-DC5DCED0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A8E-F98D-470A-8F2C-3BE415D0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C49-97A0-4572-8F01-93DA4BCF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FE9-7DD4-4C85-B444-4C35894A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82AF-296C-4E08-886C-55F13456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344-A409-4332-8533-25A0D59D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A34-4753-48BE-891C-A13C805C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3EF-E9D8-4BFD-A38D-2EF0E109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25B6-96F6-4920-A929-0B4B35295A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5280" y="723960"/>
            <a:ext cx="83534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4456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96472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1204920"/>
            <a:ext cx="9191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3760" y="1162080"/>
            <a:ext cx="90964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04:29Z</dcterms:created>
  <dc:creator>ukyawnaing</dc:creator>
  <dc:description/>
  <dc:language>en-US</dc:language>
  <cp:lastModifiedBy>ukyawnaing</cp:lastModifiedBy>
  <dcterms:modified xsi:type="dcterms:W3CDTF">2013-04-11T05:06:50Z</dcterms:modified>
  <cp:revision>3</cp:revision>
  <dc:subject/>
  <dc:title>Slide 1</dc:title>
</cp:coreProperties>
</file>