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891-BC21-49AB-B7C4-82FFE682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D24-2904-4873-9A90-24C16E93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966-A91C-4300-85B6-C793BCD5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8DA-42C7-4573-A83A-2C727650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A30-446A-4C49-B4F9-19DF82B8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A7B-0676-4568-A0FF-84F77377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441-44D2-4DDC-9D2E-A927D4C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C50-4D01-443F-8D50-5FBE591D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F4CA-BE5B-479F-8976-3B926A90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D55-CD21-4CD5-BC83-2C4E245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826-4866-462C-92E6-61B55996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91B-B54A-4B05-AFFA-CB5F517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62F1-D5C8-42F2-A83A-39D6404466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43080" y="361800"/>
            <a:ext cx="84582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1:58Z</dcterms:created>
  <dc:creator>ukyawnaing</dc:creator>
  <dc:description/>
  <dc:language>en-US</dc:language>
  <cp:lastModifiedBy>ukyawnaing</cp:lastModifiedBy>
  <dcterms:modified xsi:type="dcterms:W3CDTF">2013-04-11T04:02:17Z</dcterms:modified>
  <cp:revision>1</cp:revision>
  <dc:subject/>
  <dc:title>Slide 1</dc:title>
</cp:coreProperties>
</file>