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CFF-9170-459E-BB6B-9F9FC8C0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9E5B-743C-4D8A-964C-3A6567CD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1872-7AAC-4525-9EE0-E63A6AFB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CD26-CE60-4BFE-9E4E-51D169B0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85AD-A89C-435A-A96D-DEA83FE4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D3E2-BE14-405D-94AA-A2924B38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120-65F2-459A-82D4-C07F72F8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75D0-5129-4020-AEA1-19BE1795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BED5-6E8A-47B5-8CCE-22E22588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5539-BF2D-4E4E-A4DF-A2967BE4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B217-EC7E-4D5C-BF60-B4F87D1B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2782-1FBF-4C25-85C7-CF28082D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C611-14A6-4412-954E-7FF617895A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706400" y="0"/>
            <a:ext cx="481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57:27Z</dcterms:created>
  <dc:creator>ukyawnaing</dc:creator>
  <dc:description/>
  <dc:language>en-US</dc:language>
  <cp:lastModifiedBy>ukyawnaing</cp:lastModifiedBy>
  <dcterms:modified xsi:type="dcterms:W3CDTF">2013-04-11T03:58:01Z</dcterms:modified>
  <cp:revision>1</cp:revision>
  <dc:subject/>
  <dc:title>Slide 1</dc:title>
</cp:coreProperties>
</file>