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414-29F8-4619-80B2-C0913189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7B0-5B17-4B85-873D-6081C48B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8E0-DDBA-411D-B50F-E43848CA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291-F0EE-4029-A2F3-E9456A91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F893-658F-49CF-B16B-22339035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ACC-D61E-4915-8C13-256490E2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290-5650-4957-BDC6-893B3F4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069-194A-48E4-A0BE-63136827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D8D-23B0-4A38-BB49-A301CAA2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429-433F-4A26-B10B-008127DE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153-6D2A-4679-B60F-73CB9D47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205-4C75-4B48-8156-FA1D112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AFB-B497-4147-9E92-A586B3896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96920" y="692280"/>
            <a:ext cx="88646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4:10Z</dcterms:created>
  <dc:creator>ukyawnaing</dc:creator>
  <dc:description/>
  <dc:language>en-US</dc:language>
  <cp:lastModifiedBy>ukyawnaing</cp:lastModifiedBy>
  <dcterms:modified xsi:type="dcterms:W3CDTF">2013-04-11T03:44:39Z</dcterms:modified>
  <cp:revision>1</cp:revision>
  <dc:subject/>
  <dc:title>Slide 1</dc:title>
</cp:coreProperties>
</file>