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2A6-EB64-428E-A32B-12FF88E7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C41-CF08-4895-B010-FD5ABCDD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65A-43EC-4E32-ABB2-142CDD9A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750B-780A-4282-AC86-16ECF4C5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901-808E-40FB-B049-190C1CBA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E62-216D-4827-8B3C-CB02AD2A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A10-2DCB-47F2-8300-C3A2137F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4AC-B732-455E-BB5B-A8929EF3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BCC-EA9E-47A4-A1A0-6842EF32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4A2-0244-4BD0-B96C-7D68033C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384-B999-4F5F-9C8F-8FB6B17B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A23-8FB7-46B6-A923-0AFD2D13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371C-9FEB-439E-A871-BC4C9557E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706400" y="260280"/>
            <a:ext cx="51692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10:12Z</dcterms:created>
  <dc:creator>ukyawnaing</dc:creator>
  <dc:description/>
  <dc:language>en-US</dc:language>
  <cp:lastModifiedBy>ukyawnaing</cp:lastModifiedBy>
  <dcterms:modified xsi:type="dcterms:W3CDTF">2013-04-11T05:10:38Z</dcterms:modified>
  <cp:revision>1</cp:revision>
  <dc:subject/>
  <dc:title>Slide 1</dc:title>
</cp:coreProperties>
</file>