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D21-46F1-477F-A39E-E71E01C0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95C-D8FB-4E7B-87EB-B485B8B1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BFA5-80DA-4987-B3D5-A6630972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E0B-F2A8-4591-80E0-64E728A3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507-4B39-44E5-8BA1-7A291E8C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188-4973-4CB1-A004-97D908D2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DA4-4D51-4C82-83C0-EF809A84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C8F-B76D-4142-ACEC-3BCB6D8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808-DAC4-4EFC-8AAE-A2C85F9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BE9-0D47-4136-A38B-70CB30F3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B80F-1B4F-4CF2-8B39-0AC7D93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8C2-7429-439F-AC0C-DEB8C63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6E3A-8B2E-4EE2-8D44-202EB6ABC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058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51:07Z</dcterms:created>
  <dc:creator>ukyawnaing</dc:creator>
  <dc:description/>
  <dc:language>en-US</dc:language>
  <cp:lastModifiedBy>ukyawnaing</cp:lastModifiedBy>
  <dcterms:modified xsi:type="dcterms:W3CDTF">2013-04-11T03:51:20Z</dcterms:modified>
  <cp:revision>1</cp:revision>
  <dc:subject/>
  <dc:title>Slide 1</dc:title>
</cp:coreProperties>
</file>