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0C1-1A19-44CA-A948-12076A24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A1C-9816-476B-80B2-FB0B94F5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AED-86E4-4784-9E11-9DE240E0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F2C7-E941-4304-801E-FE6F29E5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302-56D8-4000-A674-9E6CE4C2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BE2-932C-4058-87D8-123D54FF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9A97-C468-4658-85B9-951A0B5B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E11-8BC3-409B-849C-AA3389BD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3F2-14D0-4EAA-9896-CFC7CAD0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2BB4-2BFB-43DB-9EC9-1CB759C6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F52-57D0-4871-9D87-C8216798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D407-7678-40B5-9A63-09A6948A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2D87-D88A-4DFA-94E4-0B93615DDC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73120" y="620640"/>
            <a:ext cx="79977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4:56Z</dcterms:created>
  <dc:creator>ukyawnaing</dc:creator>
  <dc:description/>
  <dc:language>en-US</dc:language>
  <cp:lastModifiedBy>ukyawnaing</cp:lastModifiedBy>
  <dcterms:modified xsi:type="dcterms:W3CDTF">2013-04-11T03:45:25Z</dcterms:modified>
  <cp:revision>1</cp:revision>
  <dc:subject/>
  <dc:title>Slide 1</dc:title>
</cp:coreProperties>
</file>