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FD05-663F-420A-8289-C4474FE8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BE8-27BB-4AFD-931E-3640AAD9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73D-91F4-4082-8E1E-AEE51110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41A-1322-49C6-8C58-30B9F3EB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3DA7-3B98-4C0C-A49C-9D572066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62C-676B-4EA6-B5ED-344A9EE5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361-4FE7-4BF3-BABD-5092DAFF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8C5-CB7D-4CE5-8FD0-6051AC55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609-5565-4A44-9253-27A7E592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67B-DDA8-4904-BB73-18EEFF36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D04-8B7B-48D5-9CCD-2CF01D77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7EE-1307-4898-B0D5-64F449CA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7DC5-FC6B-4F69-B221-AF5E7C47D0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6720" y="907920"/>
            <a:ext cx="874728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1:43Z</dcterms:created>
  <dc:creator>ukyawnaing</dc:creator>
  <dc:description/>
  <dc:language>en-US</dc:language>
  <cp:lastModifiedBy>ukyawnaing</cp:lastModifiedBy>
  <dcterms:modified xsi:type="dcterms:W3CDTF">2013-04-11T04:01:55Z</dcterms:modified>
  <cp:revision>1</cp:revision>
  <dc:subject/>
  <dc:title>Slide 1</dc:title>
</cp:coreProperties>
</file>