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3FC-AE5A-4CC1-B25D-AF9BBC9F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610-6E09-4C7D-9C69-67E7D624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54D-AE91-46BF-99F4-F1C94A06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5AD-1665-40B0-982D-BF5D9DF4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718-6D03-4F70-9B6A-AF671A61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944-2DC4-46B2-93EA-656DEFAC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D7C-B5A0-459D-93DA-66A55FD5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818-FF8C-423E-9D2E-0AC2814A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F7A-6CF0-4994-A924-41AB88A0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50D-2846-4659-AF1C-1BB5E73B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760-D6CB-4584-AE32-305C60D0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2AE-AAE6-4BF1-B2B5-FD780F88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4A0B-5B17-4FE0-B234-3A8CFBC85C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979640" y="101520"/>
            <a:ext cx="532908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11:09Z</dcterms:created>
  <dc:creator>ukyawnaing</dc:creator>
  <dc:description/>
  <dc:language>en-US</dc:language>
  <cp:lastModifiedBy>ukyawnaing</cp:lastModifiedBy>
  <dcterms:modified xsi:type="dcterms:W3CDTF">2013-04-11T04:11:22Z</dcterms:modified>
  <cp:revision>1</cp:revision>
  <dc:subject/>
  <dc:title>Slide 1</dc:title>
</cp:coreProperties>
</file>