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C615-BEA7-4677-AD05-E9D39F15D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9728-7BC2-4184-BD83-741DB7513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E204-4516-4D15-833D-E0454224C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A933-C300-4B37-8D5B-8E84B906C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2E88-046D-4893-A6BF-B6089E334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E46A-3F94-446E-BB5C-8B1BFBC45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1506-C492-415D-8F1A-4C0B8ABA8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9851-A52A-4C91-A9D2-EA6B7BCC3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2798-7914-4830-B427-591BC3829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2DE0-7560-47D5-870F-656F4CC23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729B-A848-4D7F-9F98-507070C77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4CAF-64DF-4F00-A191-C59CF6324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D135E-FE28-44B1-B6B6-54EE49990B3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2355840" y="0"/>
            <a:ext cx="358452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1T03:46:33Z</dcterms:created>
  <dc:creator>ukyawnaing</dc:creator>
  <dc:description/>
  <dc:language>en-US</dc:language>
  <cp:lastModifiedBy>ukyawnaing</cp:lastModifiedBy>
  <dcterms:modified xsi:type="dcterms:W3CDTF">2013-04-11T03:47:04Z</dcterms:modified>
  <cp:revision>1</cp:revision>
  <dc:subject/>
  <dc:title>Slide 1</dc:title>
</cp:coreProperties>
</file>