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508-65E7-49CD-A5F6-67F65560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A24-F72B-4D18-9509-45C9AF02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08F-BF02-4666-A26F-7C2B9988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AF2-2626-4C5B-9549-C20A5D0E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49E-5247-416A-A601-270859D7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AAD-DBCA-40A2-8FBE-5FAB71DE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16F-E42C-4D0C-9A7B-1C1A1049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BEE-9AFE-43A9-84E0-C8228D42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DB7-842B-431D-B86F-9FCAC46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539-940A-4912-B13C-BF20ADE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C48F-4B71-4096-A004-E6840FE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F0D-2214-4000-8B7B-113AD28B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F93-D482-4D22-855C-8E74C838CF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6676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8:55Z</dcterms:created>
  <dc:creator>ukyawnaing</dc:creator>
  <dc:description/>
  <dc:language>en-US</dc:language>
  <cp:lastModifiedBy>ukyawnaing</cp:lastModifiedBy>
  <dcterms:modified xsi:type="dcterms:W3CDTF">2013-04-11T05:07:09Z</dcterms:modified>
  <cp:revision>7</cp:revision>
  <dc:subject/>
  <dc:title>Slide 1</dc:title>
</cp:coreProperties>
</file>