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C86-3F39-4881-AC8C-643FE4E9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9EB-FB90-46FD-A272-5FB6CBF6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3C7-7999-4356-AAE3-3CBCAE11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04C-F45B-4743-A4D7-578FC9D8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B608-9792-4F88-9E85-BAEE3E62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6B8-3BD2-4976-ABC2-B67872E5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07B-DC77-45B0-8C60-6DE64F0D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871-2DC9-491F-BD25-812F8AB3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0AB-B69E-4B9E-B09E-CA7B5C2D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066-C469-4B75-9B2F-70F99A1D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A52-E73A-4915-A62A-5A1BBBAB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0F6-B888-440E-9547-354DDCB9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1E99-6B96-4CA5-BA5B-3EFB59912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403280" y="-316080"/>
            <a:ext cx="5162760" cy="4867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627280" y="4653000"/>
            <a:ext cx="3981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5:43Z</dcterms:created>
  <dc:creator>ukyawnaing</dc:creator>
  <dc:description/>
  <dc:language>en-US</dc:language>
  <cp:lastModifiedBy>ukyawnaing</cp:lastModifiedBy>
  <dcterms:modified xsi:type="dcterms:W3CDTF">2013-04-11T03:46:10Z</dcterms:modified>
  <cp:revision>1</cp:revision>
  <dc:subject/>
  <dc:title>Slide 1</dc:title>
</cp:coreProperties>
</file>