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E6B-E5E8-4995-83BE-3904F90B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5E1-7E92-42B3-8877-8FF6BC20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360-894D-4FDA-8B4C-8950B2B7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21C-234B-423F-9E4C-A29E5AD1B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2F6-1F3A-4C24-884C-AA218C58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B9CD-C13F-4B7D-B76B-564755EB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57D-C6B1-47FB-B3F6-A7C06278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F69-F4E3-41A5-A1EA-56F5E4E7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2CA-81FB-4640-9EC6-2AE9BE81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657-12F9-4501-AED9-4C03E525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30A2-1880-4CDE-8CA1-F8271A51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D7F-2D59-4927-941F-0B29604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623F-8B8D-4C6A-8B01-D49DB697AC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58920" y="0"/>
            <a:ext cx="66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8:49Z</dcterms:created>
  <dc:creator>ukyawnaing</dc:creator>
  <dc:description/>
  <dc:language>en-US</dc:language>
  <cp:lastModifiedBy>ukyawnaing</cp:lastModifiedBy>
  <dcterms:modified xsi:type="dcterms:W3CDTF">2013-04-11T03:49:15Z</dcterms:modified>
  <cp:revision>1</cp:revision>
  <dc:subject/>
  <dc:title>Slide 1</dc:title>
</cp:coreProperties>
</file>