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EED-7D56-4050-9AE8-A2EAEC47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F2B-B995-4146-B778-6C9404FC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806-EE88-4222-8863-55805EE5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D41-65E6-4B67-8548-4ECC826FC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07F-A1A9-44F4-8547-A54D5800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196-3B89-4F8E-B5FB-264FB74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C68-E3C1-429E-B744-FABBE25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01C-A589-4AC8-B642-22D9B44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F8F-370C-4BAA-9B99-C235D3E8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9DE-6B46-43A9-900C-08185CB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BCA-6333-4FD6-9D4D-EB02E5E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012-8175-461C-8F71-85B5678A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D1CE-7F67-4729-99D1-6C2D012D8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648720" cy="77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9:51Z</dcterms:created>
  <dc:creator>ukyawnaing</dc:creator>
  <dc:description/>
  <dc:language>en-US</dc:language>
  <cp:lastModifiedBy>ukyawnaing</cp:lastModifiedBy>
  <dcterms:modified xsi:type="dcterms:W3CDTF">2013-04-11T04:09:58Z</dcterms:modified>
  <cp:revision>1</cp:revision>
  <dc:subject/>
  <dc:title>Slide 1</dc:title>
</cp:coreProperties>
</file>