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577-D9ED-45AA-8FAA-2DC5CFE0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0ACD-789A-4CE1-92B9-90A4A1B8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3C5-4A82-4ED4-9EA9-6668795B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7AD-4DE0-4B06-9FE6-27F34ABA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01F5-91D4-410B-9476-9584E81E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8A4-FF47-41E1-BF92-F216ACC0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BDCE-CA04-4247-9AD7-31AB04A8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6F4-F3E8-4DD5-ACA9-D85C25EC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1B5-0F97-4224-B1BF-0BAC5F2E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AA1-85FB-4477-AD30-F5CE5CC0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F1C-5E8C-48C3-A932-C3698A59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410-13D9-41FB-9632-9AA98F4C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7BAE-F712-4EDE-928A-B5A3D34A73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116000" y="0"/>
            <a:ext cx="67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3:42:49Z</dcterms:created>
  <dc:creator>ukyawnaing</dc:creator>
  <dc:description/>
  <dc:language>en-US</dc:language>
  <cp:lastModifiedBy>ukyawnaing</cp:lastModifiedBy>
  <dcterms:modified xsi:type="dcterms:W3CDTF">2013-04-11T03:43:51Z</dcterms:modified>
  <cp:revision>1</cp:revision>
  <dc:subject/>
  <dc:title>Slide 1</dc:title>
</cp:coreProperties>
</file>