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0B5-E27A-48AE-8221-7B7A24B2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539A-E20C-4196-ABE4-79882F45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8ADA-F499-4EA1-B199-0C18C9F5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FC3-B9F9-4881-BC2F-897185EE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388-C330-497D-9723-4DB0B02F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0E3-D006-4BE0-A67F-77F60F77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A80-B191-46D0-A4FF-059BBC9B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966-1E01-4DD4-A1BC-143F2C68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9C5-34AE-4AB9-8065-16575B0C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543-4C11-42E8-B934-2F9FB19D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D69-E02C-4A99-ADB9-245C869E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8D8-4762-457F-B2DB-C33FB96C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0B7B-0B82-4775-B9BC-87678CFC0C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50920" y="0"/>
            <a:ext cx="5076720" cy="3000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248000" y="1700280"/>
            <a:ext cx="4896000" cy="4410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0" y="3213000"/>
            <a:ext cx="44276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3:59Z</dcterms:created>
  <dc:creator>ukyawnaing</dc:creator>
  <dc:description/>
  <dc:language>en-US</dc:language>
  <cp:lastModifiedBy>ukyawnaing</cp:lastModifiedBy>
  <dcterms:modified xsi:type="dcterms:W3CDTF">2013-04-11T04:15:26Z</dcterms:modified>
  <cp:revision>2</cp:revision>
  <dc:subject/>
  <dc:title>Slide 1</dc:title>
</cp:coreProperties>
</file>