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034-9518-4AB5-A65E-140C0645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66F-8687-4B9C-B0BC-7CF60321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AD00-3B8B-4BE7-902B-9422EBB6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CDCB-9EA0-47B3-95CA-2EF59820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4BD-C7D9-4599-A35B-CB49992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44A-423A-450A-B3CA-3280AF7B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40A-4858-4222-B3FA-1C4A5A16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F22-B211-40CF-BB9B-E6058BEC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4B2-058D-445B-9B29-4AB9D1DD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85C-DF94-47F1-9C1A-B221A429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087-A509-4557-AE56-A572DB2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B32D-59B1-4258-9D7B-6FD49BE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55F8-804C-4F4D-A802-366AD604C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835280" y="260280"/>
            <a:ext cx="4619520" cy="924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1125360"/>
            <a:ext cx="4800600" cy="1266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51339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5:42Z</dcterms:created>
  <dc:creator>ukyawnaing</dc:creator>
  <dc:description/>
  <dc:language>en-US</dc:language>
  <cp:lastModifiedBy>ukyawnaing</cp:lastModifiedBy>
  <dcterms:modified xsi:type="dcterms:W3CDTF">2013-04-11T04:17:50Z</dcterms:modified>
  <cp:revision>1</cp:revision>
  <dc:subject/>
  <dc:title>Slide 1</dc:title>
</cp:coreProperties>
</file>