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1580-EC59-4665-9C1F-D994CB057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3547-A044-40F1-808F-9DC7497C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8739-4818-415C-B5C5-615551A49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22BF-2713-4366-9C6C-69756DFDD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E88B-40FC-478B-83E1-6584346B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9275-CADC-47DB-8104-2EC377C8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29B7-7E8D-485F-A195-0A7F6668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39BD-2163-49A3-B664-1411E5EA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43FD-CA90-491A-A1E7-CDBCACDB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9E65-9D04-4AF8-8F3A-DB6CAF0A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F583-6721-4F6E-943F-79BDBA9B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0D2D-CC8E-40C5-9378-821B1296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C9F8-2530-4A57-B3F2-14CB1BCB7F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332000" y="0"/>
            <a:ext cx="66247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5:13:43Z</dcterms:created>
  <dc:creator>ukyawnaing</dc:creator>
  <dc:description/>
  <dc:language>en-US</dc:language>
  <cp:lastModifiedBy>ukyawnaing</cp:lastModifiedBy>
  <dcterms:modified xsi:type="dcterms:W3CDTF">2013-04-11T05:14:09Z</dcterms:modified>
  <cp:revision>1</cp:revision>
  <dc:subject/>
  <dc:title>Slide 1</dc:title>
</cp:coreProperties>
</file>