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C5D7-18EC-492F-A03B-E2E1FF7B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CDA-1D4C-4D8C-A9A1-EECD171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F1D-AEC7-44FD-9BC7-8055E6E7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04C-E028-48E5-A987-BC0834A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A05-5E6C-4BF6-AEAA-059D8D8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D6E-2EB4-4496-91D1-B7ED787E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E7D-1E28-458C-A774-D3BAFB6B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EE9-41FF-4353-A3D6-81AB3F43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64A5-437A-4C52-8F9E-84375618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C89-46BA-4B6A-AFC6-9E824ABA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591-1937-4DF9-8958-39CB10A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08B-8F7B-42D7-9983-CCEA5B40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136-E60F-4642-8897-875DE78D3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162160" y="0"/>
            <a:ext cx="3705120" cy="67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1:45Z</dcterms:created>
  <dc:creator>ukyawnaing</dc:creator>
  <dc:description/>
  <dc:language>en-US</dc:language>
  <cp:lastModifiedBy>ukyawnaing</cp:lastModifiedBy>
  <dcterms:modified xsi:type="dcterms:W3CDTF">2013-04-11T04:12:23Z</dcterms:modified>
  <cp:revision>1</cp:revision>
  <dc:subject/>
  <dc:title>Slide 1</dc:title>
</cp:coreProperties>
</file>