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F95-3F62-4D88-B6A6-229E266D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6BD-84C5-4276-BC52-B3BCC9B7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A2C-0BE5-421E-857D-0554419F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E3C2-029B-4F67-9918-A3776A1E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B40-A80A-4D65-A200-897D8FB2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BA5B-CFE8-4BD4-B71C-6D3D2F9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4D0-0496-4C39-AE1E-BC1CC14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C59-C543-46DC-950F-9712DAF0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2F2-9743-4667-8F6A-1FD72BE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F92-41D0-4D2D-940A-BCDCFA0C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942-6DA1-461A-BBCE-5941C411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CC5-884D-4544-939B-707570B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2762-33CC-4399-9B39-3818E6F652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771640" y="620640"/>
            <a:ext cx="302436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098720"/>
            <a:ext cx="5896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8:20Z</dcterms:created>
  <dc:creator>ukyawnaing</dc:creator>
  <dc:description/>
  <dc:language>en-US</dc:language>
  <cp:lastModifiedBy>ukyawnaing</cp:lastModifiedBy>
  <dcterms:modified xsi:type="dcterms:W3CDTF">2013-04-11T05:01:17Z</dcterms:modified>
  <cp:revision>3</cp:revision>
  <dc:subject/>
  <dc:title>Slide 1</dc:title>
</cp:coreProperties>
</file>