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DD0-E880-42DE-A7E4-9497DD66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F15-FF26-489F-9BF9-C68D2CDC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8DA-F370-4AEA-9DBB-0595E88D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120-5ABC-4D89-9B13-70A25F9F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3090-8D54-44B6-9CBB-9D06ADD3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4ABD-C13C-4323-A957-20020A6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FA2-A36B-4D8A-9AB1-3DC76B71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5774-87A5-4565-86DE-68BD8654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BD4-6E24-4CD6-91EB-B127A7E8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BB7-AA2F-4E62-9F73-9E116E6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32F8-84C9-4DB1-A20A-78B189E2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8F7-1A73-4727-BFC8-C0C1246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3E8E-089B-4810-BEAC-298BF123DE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828720"/>
            <a:ext cx="91281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2:53Z</dcterms:created>
  <dc:creator>ukyawnaing</dc:creator>
  <dc:description/>
  <dc:language>en-US</dc:language>
  <cp:lastModifiedBy>ukyawnaing</cp:lastModifiedBy>
  <dcterms:modified xsi:type="dcterms:W3CDTF">2013-04-11T04:03:03Z</dcterms:modified>
  <cp:revision>1</cp:revision>
  <dc:subject/>
  <dc:title>Slide 1</dc:title>
</cp:coreProperties>
</file>