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5B71-638B-4A21-9EFC-0C5236106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29D2-2573-4127-B933-332CDD31D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1A80-201D-4593-BC70-E72C93CAE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8DC3-4B01-4E88-B059-98075AA85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41B9-9A29-440E-820B-29EA9219B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9BD3-5B10-4239-9E0F-9DD94388C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5056-8577-4B6B-B6F7-4D1F87F9F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7DD5-D90C-4FD8-AB00-6FD8EE5C0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7EC6-91C6-43D2-98A9-DE4577094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E342-9AFA-4E85-ABB6-9B04FBAF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AB85-8EBC-4667-9FAE-72DC8EE7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A5BD-B923-4850-83F7-9E09BD99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D5C80-9F79-4796-822B-E763F8D622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576360"/>
            <a:ext cx="907416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95280" y="0"/>
            <a:ext cx="84978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3:52:14Z</dcterms:created>
  <dc:creator>ukyawnaing</dc:creator>
  <dc:description/>
  <dc:language>en-US</dc:language>
  <cp:lastModifiedBy>ukyawnaing</cp:lastModifiedBy>
  <dcterms:modified xsi:type="dcterms:W3CDTF">2013-04-11T03:53:22Z</dcterms:modified>
  <cp:revision>2</cp:revision>
  <dc:subject/>
  <dc:title>Slide 1</dc:title>
</cp:coreProperties>
</file>