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8E4-B561-4B8A-A4CB-991E0A20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CB4-EED7-4D2C-BF84-420E02EA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356-73B6-43AC-8069-135C5B82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879-9206-4796-9AA3-A82F997E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CD2-1B32-45B3-A48B-FBFA8BBA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B8AD-6184-49A1-8664-D116E7F0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7A1-1F4B-4F2C-8DA5-AD718EF7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9F3-482F-4952-AD97-1A82E023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EFC-CFC1-4A40-8FCF-41E233A5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46D-E2C7-4B5A-B619-352B9860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EB7-080F-4E10-859D-5EE75820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B7E-A86A-4EF7-AF21-61F13E4D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507D-3A53-43FC-9BD7-C8299F11EA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257480"/>
            <a:ext cx="8748720" cy="38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5124240" cy="281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48988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86756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852480"/>
            <a:ext cx="89820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835280" y="160200"/>
            <a:ext cx="495144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784872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033640" y="0"/>
            <a:ext cx="477036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8:29Z</dcterms:created>
  <dc:creator>ukyawnaing</dc:creator>
  <dc:description/>
  <dc:language>en-US</dc:language>
  <cp:lastModifiedBy>ukyawnaing</cp:lastModifiedBy>
  <dcterms:modified xsi:type="dcterms:W3CDTF">2013-04-11T04:25:30Z</dcterms:modified>
  <cp:revision>1</cp:revision>
  <dc:subject/>
  <dc:title>Slide 1</dc:title>
</cp:coreProperties>
</file>