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D595-F0BF-4FBD-825E-998583C19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00BC-163E-4513-BFBA-31304337A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A3B9-1715-4FB5-8AF5-93D6D499F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BE61-104F-44ED-9D55-6210B98FE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D5BA-E53B-44EC-B97F-D38C031F3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CE68-F44D-4B21-96F6-ADA5F3007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97F5-2217-46BB-9F35-2D5383D27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FFC0-7492-461F-B40C-992936018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F86D-8CEF-4EA8-BA0D-2B6C4A528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25D4-999C-48FD-9C7E-E5895536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E1B0-1E00-4559-8BBE-B835118E3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29E9-2852-486D-955D-B1A318CB3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FFA3F-D255-4416-8128-7A862967BB2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299880"/>
            <a:ext cx="9155160" cy="59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4:13:23Z</dcterms:created>
  <dc:creator>ukyawnaing</dc:creator>
  <dc:description/>
  <dc:language>en-US</dc:language>
  <cp:lastModifiedBy>ukyawnaing</cp:lastModifiedBy>
  <dcterms:modified xsi:type="dcterms:W3CDTF">2013-04-11T04:13:36Z</dcterms:modified>
  <cp:revision>1</cp:revision>
  <dc:subject/>
  <dc:title>Slide 1</dc:title>
</cp:coreProperties>
</file>