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4CE-4552-4939-9AA0-ACD91673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AC63-6F40-4C91-A2B4-F2086835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B887-5333-4804-BB69-25379685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F19A-B3B2-4DFA-A7A9-15CA3AA0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D687-F8A7-48EF-8667-D5BDC07C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3AD6-A3FD-433F-B169-DBC22F48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DFDA-B79C-462C-840B-F6CC66EE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1CD3-429F-45A5-8571-E9585E4C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7D11-93AD-42C7-BBDF-FEF02E72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A412-9A9F-433E-8AED-881096C4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06E5-8B14-4474-8841-1A8A656F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761B-B70B-43A5-A85D-87D9CA80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9988-1588-4007-9FC1-C8CEF64C3B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595440" y="461880"/>
            <a:ext cx="7953120" cy="59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681120" y="595440"/>
            <a:ext cx="778176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485640"/>
            <a:ext cx="918540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58:47Z</dcterms:created>
  <dc:creator>ukyawnaing</dc:creator>
  <dc:description/>
  <dc:language>en-US</dc:language>
  <cp:lastModifiedBy>ukyawnaing</cp:lastModifiedBy>
  <dcterms:modified xsi:type="dcterms:W3CDTF">2013-04-11T03:59:22Z</dcterms:modified>
  <cp:revision>1</cp:revision>
  <dc:subject/>
  <dc:title>Slide 1</dc:title>
</cp:coreProperties>
</file>