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5BA-91C2-4384-9DDC-ED854DC5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7F2-A326-462A-BAB1-9460F46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B03-55F8-4D1C-8023-DECF938A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24F-A764-4BEC-A9E5-614DA76D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901-1DC0-412F-A7C5-F6DB8095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013-277C-4303-879A-AA522126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E3E-041F-4B0C-830F-72E8784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B37-7941-4C2F-861A-7CE11393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BDA-EBF7-47E0-9272-AECE33C5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1DC-9F76-48AC-94A1-0C9A65F0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9CD7-91E8-4DA6-B05C-79552F8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E60E-C147-40F2-A5CC-08384488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1D14-8C80-4B05-8A7F-C792DED594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81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3:37Z</dcterms:created>
  <dc:creator>ukyawnaing</dc:creator>
  <dc:description/>
  <dc:language>en-US</dc:language>
  <cp:lastModifiedBy>ukyawnaing</cp:lastModifiedBy>
  <dcterms:modified xsi:type="dcterms:W3CDTF">2013-04-11T03:55:09Z</dcterms:modified>
  <cp:revision>1</cp:revision>
  <dc:subject/>
  <dc:title>Slide 1</dc:title>
</cp:coreProperties>
</file>