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A78-249E-43DC-9BD0-410F7764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B14-BE27-4915-9DA0-8FD08920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F2D-504A-4CA1-9B22-A3C467B5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8F3-9EA0-45F5-A456-281C1520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2EB-B766-43A2-A67C-DCA7F52D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41D-76CE-4A77-832F-8CA2F7FB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BB6-023D-434C-A601-6017E56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0EF-57A3-4D0F-86FF-15C943E1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8CC-8C9C-491E-86E2-9F43AD21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29ED-02B9-403B-8524-E541EF4B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C99-6A2D-4908-A991-3803680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252-2A30-494B-ABDD-9517BCC8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B7C3-3F23-40BE-896D-C6B4EDDD3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01088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0:56Z</dcterms:created>
  <dc:creator>ukyawnaing</dc:creator>
  <dc:description/>
  <dc:language>en-US</dc:language>
  <cp:lastModifiedBy>ukyawnaing</cp:lastModifiedBy>
  <dcterms:modified xsi:type="dcterms:W3CDTF">2013-04-11T05:11:11Z</dcterms:modified>
  <cp:revision>1</cp:revision>
  <dc:subject/>
  <dc:title>Slide 1</dc:title>
</cp:coreProperties>
</file>