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41A0-A90C-4050-B862-6BE21D6F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6C5-9A87-4E55-BE63-55F4CDBF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16D-781D-439A-9CBC-FA775DF21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BF5-BAB6-4398-ADF9-F0428B07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700E-FB61-404F-9881-A6EBE200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240-F81F-4E94-A885-43E2FA72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A59-71A7-4628-A1D2-E3AE8BB2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039-8ABE-4423-9870-E33746F8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1AC-7ABB-465F-AF83-8FEC789F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EAF-41E8-4FCB-B039-1D3A0185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3D9-064C-44E9-9533-534D7FEF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60F-B0C9-4113-9A60-9E4EDF1F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F2E4-21D0-4D35-95DF-4A4D1DBC0D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85720" y="428760"/>
            <a:ext cx="797256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9:40Z</dcterms:created>
  <dc:creator>ukyawnaing</dc:creator>
  <dc:description/>
  <dc:language>en-US</dc:language>
  <cp:lastModifiedBy>ukyawnaing</cp:lastModifiedBy>
  <dcterms:modified xsi:type="dcterms:W3CDTF">2013-04-11T03:50:15Z</dcterms:modified>
  <cp:revision>1</cp:revision>
  <dc:subject/>
  <dc:title>Slide 1</dc:title>
</cp:coreProperties>
</file>