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A64-E61C-4B94-99A0-59278629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178C-D66B-4168-8F81-0C2A6E25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10E-5E4A-4119-8BA1-95AE1A25D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668-E81E-4C04-AE0A-50537810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B71-33D9-44E6-ABD1-3BA4FA3D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CC71-F6B8-4A55-BCC5-2E76B027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969-EF92-4B92-A905-4C4DD3E8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55B-2E60-4A0B-AD3D-C7505F7A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DF2-F480-4CEA-97E5-489BE0FF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B2C-91FE-40A7-AB49-4BDE3FAE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5B1-44EA-4918-84E4-916235BE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F016-3561-46EE-9110-DE086362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2B49-3D0C-4C30-A07B-0A9F00EE04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91281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3:56Z</dcterms:created>
  <dc:creator>ukyawnaing</dc:creator>
  <dc:description/>
  <dc:language>en-US</dc:language>
  <cp:lastModifiedBy>ukyawnaing</cp:lastModifiedBy>
  <dcterms:modified xsi:type="dcterms:W3CDTF">2013-04-11T04:04:07Z</dcterms:modified>
  <cp:revision>1</cp:revision>
  <dc:subject/>
  <dc:title>Slide 1</dc:title>
</cp:coreProperties>
</file>