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C7D-F2ED-436E-92EC-A761E2B8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B41-9875-43E8-ACF0-0029C059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DE4-DA36-4993-B790-F47580BF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0D6-6EBB-4FB9-83DD-38E96303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379-1F24-463E-8B26-5C49DEE5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B72-42C3-446C-8428-62052F02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EAF-D730-4041-902C-AC382A8C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DD9-0B88-4F3A-9D5F-D904741C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559-80AB-49AF-B5E8-E7FF28C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D85-E85C-4B9A-AFFF-A304597B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8E0-86C0-4075-935F-23842F9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85E-E4B4-4A3B-8241-1D1BACA4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BC43-2C2F-4DE0-A62E-42EB48EF32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68360" y="-171360"/>
            <a:ext cx="4886280" cy="394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780000" y="4029120"/>
            <a:ext cx="44384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10:19Z</dcterms:created>
  <dc:creator>ukyawnaing</dc:creator>
  <dc:description/>
  <dc:language>en-US</dc:language>
  <cp:lastModifiedBy>ukyawnaing</cp:lastModifiedBy>
  <dcterms:modified xsi:type="dcterms:W3CDTF">2013-04-11T04:10:52Z</dcterms:modified>
  <cp:revision>1</cp:revision>
  <dc:subject/>
  <dc:title>Slide 1</dc:title>
</cp:coreProperties>
</file>