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5EA-8477-4BC5-B1A4-0818614E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693-8AAB-476E-838A-22629884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07F-52C2-43D9-B1ED-D3DEECCB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83B-2EAB-4274-86AB-56532C0F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D6A-68B7-4EBF-B240-247E0CF8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879-59B9-449C-AE2D-C6BC9683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7E7-B307-4EF1-9F1E-B5DFC5B6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F39-A90A-464B-99BC-CEA1EA6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7CD-89D9-41B1-88D2-89FB5A84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476-9444-44F1-9730-A8949DC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2E8-2022-483D-92A8-03C2DB0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58D-8E27-4DC3-9B1A-07C8A5D2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940-1C50-4A8B-AF71-EE01CE740C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0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6:00Z</dcterms:created>
  <dc:creator>ukyawnaing</dc:creator>
  <dc:description/>
  <dc:language>en-US</dc:language>
  <cp:lastModifiedBy>ukyawnaing</cp:lastModifiedBy>
  <dcterms:modified xsi:type="dcterms:W3CDTF">2013-04-11T04:07:02Z</dcterms:modified>
  <cp:revision>1</cp:revision>
  <dc:subject/>
  <dc:title>Slide 1</dc:title>
</cp:coreProperties>
</file>