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F004-65BE-4C53-A7E9-CD100A5F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2877-4C6D-4C79-A048-026DB553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76D7-BFD5-401E-9D47-A4CBAECB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50E-5CF0-4624-8B4B-12387D04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BF4-783F-4233-BCFE-D40F7295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07B-77A0-4DD6-A129-142A8516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211-E5CF-45E9-8B8D-FC8D3FBC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A0FA-3D38-4AD7-9C3D-B4EB13DF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22D-B481-472A-9AAD-4CCB50E9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86C2-1E37-4251-95B0-7047DA9D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7B4-32EA-44B5-8A60-6F3B7AF0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7F4-8C6E-401C-8FBA-82728E5F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8954-B913-466D-A7F8-854C8983E2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576360" y="1238400"/>
            <a:ext cx="799128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595440" y="114480"/>
            <a:ext cx="79531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12:41Z</dcterms:created>
  <dc:creator>ukyawnaing</dc:creator>
  <dc:description/>
  <dc:language>en-US</dc:language>
  <cp:lastModifiedBy>ukyawnaing</cp:lastModifiedBy>
  <dcterms:modified xsi:type="dcterms:W3CDTF">2013-04-11T04:13:01Z</dcterms:modified>
  <cp:revision>1</cp:revision>
  <dc:subject/>
  <dc:title>Slide 1</dc:title>
</cp:coreProperties>
</file>