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3547-AC3E-4AFC-95A3-A37EA370D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5281-970A-4811-9286-3A134E704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C847-92DD-4D80-8FF7-97DEE4C81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145F-516E-4BD1-BD5A-7AF1B2158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BBA0-B24A-4A5A-A95C-5E4504E70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0324-3C30-4AB0-B08E-574496546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C929-91D3-4251-A29D-0D20980B2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AABE-0E7C-4390-B959-DECEDA7FF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0690-572B-4A9A-8363-9BA163C06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DB61-7EFB-4FB6-A0C4-DF2A8105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187B-660A-4A23-84E5-DB94A6D5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737F-12D7-4647-95CE-44152635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EFFBC-E01E-41E7-B303-2A8A9EB709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905040"/>
            <a:ext cx="908532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4:03:26Z</dcterms:created>
  <dc:creator>ukyawnaing</dc:creator>
  <dc:description/>
  <dc:language>en-US</dc:language>
  <cp:lastModifiedBy>ukyawnaing</cp:lastModifiedBy>
  <dcterms:modified xsi:type="dcterms:W3CDTF">2013-04-11T04:03:41Z</dcterms:modified>
  <cp:revision>1</cp:revision>
  <dc:subject/>
  <dc:title>Slide 1</dc:title>
</cp:coreProperties>
</file>