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837-9B61-443A-A333-DF9895D3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6FD-D538-42A9-8842-B985FE8F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DB4-86D7-4DF9-801C-D85DCC60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2A7B-30EB-49BB-BB1F-14DF089F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644-AC4F-4097-9521-85553932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6DF-4D6C-4545-9BF1-131D977E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76C-57FB-44AE-A721-8EDC8CD6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B76-9339-4FF7-947D-5BB932CC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759-335C-451E-9866-588CECB2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204F-F9C1-4FAF-97F9-FD396801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750-8D75-4F8D-8909-4A4B30E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7F5-1471-45CD-B038-F6E00EFB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3D13-8569-4160-8631-D4520EFD06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619280" y="-4680"/>
            <a:ext cx="590076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561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4867200" cy="3448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3348000" y="3236760"/>
            <a:ext cx="4680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5124600" cy="409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3564000" y="4657680"/>
            <a:ext cx="4314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258920" y="304920"/>
            <a:ext cx="676908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31:56Z</dcterms:created>
  <dc:creator>ukyawnaing</dc:creator>
  <dc:description/>
  <dc:language>en-US</dc:language>
  <cp:lastModifiedBy>ukyawnaing</cp:lastModifiedBy>
  <dcterms:modified xsi:type="dcterms:W3CDTF">2013-04-11T04:36:47Z</dcterms:modified>
  <cp:revision>2</cp:revision>
  <dc:subject/>
  <dc:title>Slide 1</dc:title>
</cp:coreProperties>
</file>