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E1ED-CCC1-4AFC-8689-33A5138EC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16BE-3C37-49CF-8D5F-38A5FA60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EFC3-3785-4D3E-9931-708F03BD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28F2-B166-41EB-98B5-777602C4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5D0C-2583-4C4A-9674-005FE6DB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D412-440C-4AF5-A552-65999304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6601-006D-4619-B337-A6A0AB41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247E-090B-46EF-A080-C345C512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3E11-E08E-41BA-BD43-2A922846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C696-630B-45E7-BF0D-4890087B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D6DF-B6CE-497E-9E4F-3D663FCD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1D54-42B4-48E4-A03B-49902632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E4C9-3A59-433F-80C2-CD156C21A8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4772160" cy="11620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332000" y="1704960"/>
            <a:ext cx="504828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36:22Z</dcterms:created>
  <dc:creator>ukyawnaing</dc:creator>
  <dc:description/>
  <dc:language>en-US</dc:language>
  <cp:lastModifiedBy>ukyawnaing</cp:lastModifiedBy>
  <dcterms:modified xsi:type="dcterms:W3CDTF">2013-04-11T04:38:17Z</dcterms:modified>
  <cp:revision>1</cp:revision>
  <dc:subject/>
  <dc:title>Slide 1</dc:title>
</cp:coreProperties>
</file>