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E6F5-9C19-46E6-BCFE-CE208B06A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E68B-F3F9-451D-9629-B6E41A6B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7BD8-5D5F-4FA8-9958-8BAC125CC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6C13-9698-4013-94AA-228A95D43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94E2-76B8-4B74-8E46-B99E8DE0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9732-26EB-4CFB-887A-95FA9808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A358-33B9-4296-8001-D9070CBA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6CFA-D4E1-424C-8B87-439910DD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0021-65A8-4666-8F73-A19A491A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1C4D-3098-4A04-B84C-0567EB5A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6D37-E440-44EE-AADC-18AD04DC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D2F8-D895-4174-981C-FB903848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3F2A-DF1F-4E42-B0EF-DEE015E156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28640" y="223920"/>
            <a:ext cx="768672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5:12:21Z</dcterms:created>
  <dc:creator>ukyawnaing</dc:creator>
  <dc:description/>
  <dc:language>en-US</dc:language>
  <cp:lastModifiedBy>ukyawnaing</cp:lastModifiedBy>
  <dcterms:modified xsi:type="dcterms:W3CDTF">2013-04-11T05:12:31Z</dcterms:modified>
  <cp:revision>1</cp:revision>
  <dc:subject/>
  <dc:title>Slide 1</dc:title>
</cp:coreProperties>
</file>