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E0967-7677-4A18-BF78-F199931D4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852FF-70ED-4696-AFAB-162A193EF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2AE9A-4949-45DB-BE54-864CC3651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E57B3-3C24-434F-90A2-CFD0EBFFB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24ED8-FD52-4A6B-A901-CD78FF9E5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9090B-F3E9-4DED-9A37-A0579369E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8B1A8-E040-4FDE-82D7-AEE5759C5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D1893-94AD-425D-8B9B-A96D7E827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CC6C1-85C2-4880-874E-857A4AC03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0D1E7-01B0-4074-A790-2322D41BC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20CE2-3878-450B-A160-41F4C2524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571DC-59F1-4D81-8982-702E76512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38044-C134-44B2-8E08-AF178B625C7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123840" y="1071720"/>
            <a:ext cx="8896320" cy="47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1T03:56:10Z</dcterms:created>
  <dc:creator>ukyawnaing</dc:creator>
  <dc:description/>
  <dc:language>en-US</dc:language>
  <cp:lastModifiedBy>ukyawnaing</cp:lastModifiedBy>
  <dcterms:modified xsi:type="dcterms:W3CDTF">2013-04-11T03:56:18Z</dcterms:modified>
  <cp:revision>1</cp:revision>
  <dc:subject/>
  <dc:title>Slide 1</dc:title>
</cp:coreProperties>
</file>