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3F67-3EEB-4032-9BCA-5DE9A39E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78F-2ABE-4092-8434-34C0D0D4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F424-3139-455C-B188-B0BD44B79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7D4C-9786-4838-A442-DE1AB1F5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9BB-15A1-4F0A-BC71-FFCD16C6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5361-E8BD-4EDD-8D87-324E39D9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3BB-EF5E-44E2-AC46-114AE4DA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E1B-C4A3-45F8-969B-6FE0A518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8C2-D604-4A81-9A85-83892B00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461-F102-4520-A18E-A8D8EA8C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7A2-26ED-45EB-875F-9872D278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EDD-7AB9-4318-9D80-69511DFC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CB24-5097-4C05-ABC6-F033747903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263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28:03Z</dcterms:created>
  <dc:creator>ukyawnaing</dc:creator>
  <dc:description/>
  <dc:language>en-US</dc:language>
  <cp:lastModifiedBy>ukyawnaing</cp:lastModifiedBy>
  <dcterms:modified xsi:type="dcterms:W3CDTF">2013-04-11T04:30:39Z</dcterms:modified>
  <cp:revision>1</cp:revision>
  <dc:subject/>
  <dc:title>Slide 1</dc:title>
</cp:coreProperties>
</file>