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C20-F729-409B-91B1-EA980362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501-A6BF-4497-A87E-F00577D3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087-5C08-4178-97E2-B19B899C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931-EECF-4BAB-9C48-628E0B08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2B3-8404-4C84-8EFB-43C5125A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3B3-C77E-46FE-98E8-85C4AC6C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E05-E746-4023-8F96-F6403DC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1E7-ACB8-41A8-BC11-3972FA3A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CD6-0891-438F-9D98-4E2D6223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185-FEA5-4EF9-B088-D26CE83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6268-4592-4B54-9842-1BD7DBBF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6EA-FBB2-419D-A04B-8F49B287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3236-200B-4CD9-9B11-9A8D5DB89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31920" y="692280"/>
            <a:ext cx="84801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6:47Z</dcterms:created>
  <dc:creator>ukyawnaing</dc:creator>
  <dc:description/>
  <dc:language>en-US</dc:language>
  <cp:lastModifiedBy>ukyawnaing</cp:lastModifiedBy>
  <dcterms:modified xsi:type="dcterms:W3CDTF">2013-04-11T03:56:58Z</dcterms:modified>
  <cp:revision>1</cp:revision>
  <dc:subject/>
  <dc:title>Slide 1</dc:title>
</cp:coreProperties>
</file>