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7547-A2C2-42DD-ABBF-33651B3FE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3988-D304-4716-A1F8-6BEF898D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3C2F-8BA8-43E9-BD41-1A0609B77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9920-69BC-403E-8144-32E411425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B2C5-B326-4943-BA13-E8F32B53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95F5-4455-4891-96C4-CD4F37A9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47F8-4151-44D0-8DF5-930F67DB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E4C4-FE39-4B78-8948-BEF87AF7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8040-4B3E-4017-B305-6AEFA8CE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0AC1-DB20-4537-ABF0-8E23D465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91A0-D9F8-4DFE-B93F-4AB7819C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C7A3-F077-4A3D-AC50-B135447C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2863-B8E9-4AA7-BFCA-037D99DD5F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961920"/>
            <a:ext cx="907092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02:28Z</dcterms:created>
  <dc:creator>ukyawnaing</dc:creator>
  <dc:description/>
  <dc:language>en-US</dc:language>
  <cp:lastModifiedBy>ukyawnaing</cp:lastModifiedBy>
  <dcterms:modified xsi:type="dcterms:W3CDTF">2013-04-11T04:02:39Z</dcterms:modified>
  <cp:revision>1</cp:revision>
  <dc:subject/>
  <dc:title>Slide 1</dc:title>
</cp:coreProperties>
</file>