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B7B7-E058-4842-A77B-244D8F89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FC0-15B6-46D4-B59D-5A54CC6C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157-5B53-405C-BB01-6E70D454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F71-E28B-4AAD-A8DD-F4D35C87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F2E-2802-4DC5-ABD4-1A8074C7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393-1ACB-4C9D-AA1A-31378167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FD3-E1E5-4AAB-9E18-55DB6A86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3AE-93CF-4802-9B62-1CE2E506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6C5D-6AA6-4E07-BDD1-DD16F389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C9E2-1E08-46DF-9424-3655DD7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98D-5113-427D-B712-1E9AFEC0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E6E-091B-4AA6-93D5-6CF0F108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D7C-3489-4262-9C05-A05A29A5D8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614520"/>
            <a:ext cx="9220320" cy="56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34440" cy="816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5:28Z</dcterms:created>
  <dc:creator>ukyawnaing</dc:creator>
  <dc:description/>
  <dc:language>en-US</dc:language>
  <cp:lastModifiedBy>ukyawnaing</cp:lastModifiedBy>
  <dcterms:modified xsi:type="dcterms:W3CDTF">2013-04-11T03:55:55Z</dcterms:modified>
  <cp:revision>1</cp:revision>
  <dc:subject/>
  <dc:title>Slide 1</dc:title>
</cp:coreProperties>
</file>