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8FB-5064-4696-AE3C-E573EFFA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C52F-7FC3-4AB9-8644-310DCD90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580-FA92-4FEF-807E-6D491600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42F-4DF6-4FBF-A21B-CAAEDB6E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3FA-60F6-4865-8ECC-C9D7B4D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70A-F775-44EA-AB1F-4381A1CC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1EE-1447-4D7E-9C45-BE03BBD2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B87-81DC-4AF2-95D7-D9590B7D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E22-300E-4DFD-829D-12F8A7C3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74C8-0B6E-4CCB-9772-E886DF5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52A-594A-4C66-8F26-9B20256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455-D126-418D-9533-E00A8A1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10EA-8883-4722-AEB8-ADE6849614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44120" cy="89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1:29Z</dcterms:created>
  <dc:creator>ukyawnaing</dc:creator>
  <dc:description/>
  <dc:language>en-US</dc:language>
  <cp:lastModifiedBy>ukyawnaing</cp:lastModifiedBy>
  <dcterms:modified xsi:type="dcterms:W3CDTF">2013-04-11T05:11:42Z</dcterms:modified>
  <cp:revision>1</cp:revision>
  <dc:subject/>
  <dc:title>Slide 1</dc:title>
</cp:coreProperties>
</file>