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88D-2079-4F3E-BD08-65E61909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D156-2300-41D0-9F39-BA71B97A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6002-6A4F-45EA-BBFC-6BD2D93C9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C528-296F-422C-9D65-308F6910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99D4-1ACA-4595-B4AE-F8B3F5F6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494-3995-42A7-AFE8-98C2880D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35D-FDBA-43E3-8EFD-0527A250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2D0-E70C-4302-9FEB-62952878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74F-56CA-4289-A4C7-9FCDDCBC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BC3-EAA9-484D-AAD5-DB28828D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39B-CF4F-4408-B4DE-6946DCED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94B-7B6A-4A55-927E-5203DD4C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9562-59E2-424D-93AD-ACAE1793E6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03280" y="14400"/>
            <a:ext cx="619308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26:40Z</dcterms:created>
  <dc:creator>ukyawnaing</dc:creator>
  <dc:description/>
  <dc:language>en-US</dc:language>
  <cp:lastModifiedBy>ukyawnaing</cp:lastModifiedBy>
  <dcterms:modified xsi:type="dcterms:W3CDTF">2013-04-11T04:26:50Z</dcterms:modified>
  <cp:revision>1</cp:revision>
  <dc:subject/>
  <dc:title>Slide 1</dc:title>
</cp:coreProperties>
</file>