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B51-8B57-4102-9789-E06A2B28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4C2-BBFF-467E-8BB5-32044639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A4C-7B54-4A2E-8F9D-72E1DEB1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7E1-76E2-44BD-9E9D-D914A22A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BCE9-7119-4136-8E4E-68029454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2FC-F471-42F2-B2AA-0EA6973D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B5B-2842-48E6-A86F-FECFDA9A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859-F295-428A-9678-93F5DA52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DEE-41E1-4A96-BD8E-C714D422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D9A1-3F3D-4683-B3C5-860B8377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EB20-073C-4C4E-BF46-632891D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ABB-1725-447B-9ACA-BD7473BA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7E58-1591-4CCA-BAAF-0DD08DDAB1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755640" y="0"/>
            <a:ext cx="6492960" cy="3587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67752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86120" y="123840"/>
            <a:ext cx="5171760" cy="66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7:29Z</dcterms:created>
  <dc:creator>ukyawnaing</dc:creator>
  <dc:description/>
  <dc:language>en-US</dc:language>
  <cp:lastModifiedBy>ukyawnaing</cp:lastModifiedBy>
  <dcterms:modified xsi:type="dcterms:W3CDTF">2013-04-11T04:08:35Z</dcterms:modified>
  <cp:revision>1</cp:revision>
  <dc:subject/>
  <dc:title>Slide 1</dc:title>
</cp:coreProperties>
</file>