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FDC-1FA3-44A8-9CB6-62FB20A4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40F-A845-4E63-BB27-E2EA59F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579-7F5F-4406-988D-8B795CF0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530-2033-4D2F-A1D1-CA1BB42F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BFD-FA4A-4907-9E59-2DFD56C6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BB3-7A84-4992-8CA7-57213CBC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CAD-4B7F-4747-BF2F-38E705F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7E3-779D-47D1-8B7E-5BA79C24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DB1-DA9A-4F4A-9558-0BD9B47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F19-165F-405B-9374-6E0F46A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FE8-EBCD-40FB-A42A-5710BA4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7DD-C64D-4427-B019-D34A01A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159A-D7EB-4B84-905C-F925B3694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476360" y="0"/>
            <a:ext cx="61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7:29Z</dcterms:created>
  <dc:creator>ukyawnaing</dc:creator>
  <dc:description/>
  <dc:language>en-US</dc:language>
  <cp:lastModifiedBy>ukyawnaing</cp:lastModifiedBy>
  <dcterms:modified xsi:type="dcterms:W3CDTF">2013-04-11T03:48:01Z</dcterms:modified>
  <cp:revision>1</cp:revision>
  <dc:subject/>
  <dc:title>Slide 1</dc:title>
</cp:coreProperties>
</file>