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595-DCEA-457B-B11A-AF67F482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18F-D349-459B-93A1-88789F54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F208-40F5-4F7A-BFF3-9CBE29BA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A8B-CCA1-43A9-977E-DA4B9D51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74B-EB0B-4E19-A7BB-EF51E448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7D3-64E4-406E-8B3B-6A84CA42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DC5-D25D-4104-8258-15D2A3B7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B411-19E0-45F6-BDB6-FAD7C148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DBF-1522-432D-B4DD-B0D90303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754-50CE-4BBD-9C9E-948AF03B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59C3-A369-467B-80FC-63CA2D2E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E44-E4CB-49FB-8C83-B3776A3B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9CAD-E4CA-492A-8DEB-3985E3FC46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706400" y="266760"/>
            <a:ext cx="603432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4:31Z</dcterms:created>
  <dc:creator>ukyawnaing</dc:creator>
  <dc:description/>
  <dc:language>en-US</dc:language>
  <cp:lastModifiedBy>ukyawnaing</cp:lastModifiedBy>
  <dcterms:modified xsi:type="dcterms:W3CDTF">2013-04-11T05:14:54Z</dcterms:modified>
  <cp:revision>1</cp:revision>
  <dc:subject/>
  <dc:title>Slide 1</dc:title>
</cp:coreProperties>
</file>